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17.png" ContentType="image/png"/>
  <Override PartName="/ppt/media/image116.png" ContentType="image/png"/>
  <Override PartName="/ppt/media/image115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81.png" ContentType="image/png"/>
  <Override PartName="/ppt/media/image13.png" ContentType="image/png"/>
  <Override PartName="/ppt/media/image1.png" ContentType="image/png"/>
  <Override PartName="/ppt/media/image5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32.wmf" ContentType="image/x-wmf"/>
  <Override PartName="/ppt/media/image75.png" ContentType="image/png"/>
  <Override PartName="/ppt/media/image42.jpeg" ContentType="image/jpeg"/>
  <Override PartName="/ppt/media/image6.png" ContentType="image/png"/>
  <Override PartName="/ppt/media/image15.png" ContentType="image/png"/>
  <Override PartName="/ppt/media/image83.png" ContentType="image/png"/>
  <Override PartName="/ppt/media/image18.png" ContentType="image/png"/>
  <Override PartName="/ppt/media/image86.png" ContentType="image/png"/>
  <Override PartName="/ppt/media/image108.png" ContentType="image/png"/>
  <Override PartName="/ppt/media/image11.png" ContentType="image/png"/>
  <Override PartName="/ppt/media/image109.png" ContentType="image/png"/>
  <Override PartName="/ppt/media/image80.png" ContentType="image/png"/>
  <Override PartName="/ppt/media/image12.png" ContentType="image/png"/>
  <Override PartName="/ppt/media/image127.png" ContentType="image/png"/>
  <Override PartName="/ppt/media/image7.png" ContentType="image/png"/>
  <Override PartName="/ppt/media/image41.wmf" ContentType="image/x-wmf"/>
  <Override PartName="/ppt/media/image16.png" ContentType="image/png"/>
  <Override PartName="/ppt/media/image84.png" ContentType="image/png"/>
  <Override PartName="/ppt/media/image30.png" ContentType="image/png"/>
  <Override PartName="/ppt/media/image8.png" ContentType="image/png"/>
  <Override PartName="/ppt/media/image17.png" ContentType="image/png"/>
  <Override PartName="/ppt/media/image85.png" ContentType="image/png"/>
  <Override PartName="/ppt/media/image53.png" ContentType="image/png"/>
  <Override PartName="/ppt/media/image36.wmf" ContentType="image/x-wmf"/>
  <Override PartName="/ppt/media/image130.png" ContentType="image/png"/>
  <Override PartName="/ppt/media/image79.png" ContentType="image/png"/>
  <Override PartName="/ppt/media/image56.png" ContentType="image/png"/>
  <Override PartName="/ppt/media/image39.wmf" ContentType="image/x-wmf"/>
  <Override PartName="/ppt/media/image133.png" ContentType="image/png"/>
  <Override PartName="/ppt/media/image54.png" ContentType="image/png"/>
  <Override PartName="/ppt/media/image37.wmf" ContentType="image/x-wmf"/>
  <Override PartName="/ppt/media/image131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55.png" ContentType="image/png"/>
  <Override PartName="/ppt/media/image129.png" ContentType="image/png"/>
  <Override PartName="/ppt/media/image57.png" ContentType="image/png"/>
  <Override PartName="/ppt/media/image47.png" ContentType="image/png"/>
  <Override PartName="/ppt/media/image48.png" ContentType="image/png"/>
  <Override PartName="/ppt/media/image134.png" ContentType="image/png"/>
  <Override PartName="/ppt/media/image38.wmf" ContentType="image/x-wmf"/>
  <Override PartName="/ppt/media/image132.png" ContentType="image/png"/>
  <Override PartName="/ppt/media/image77.png" ContentType="image/png"/>
  <Override PartName="/ppt/media/image34.wmf" ContentType="image/x-wmf"/>
  <Override PartName="/ppt/media/image135.png" ContentType="image/png"/>
  <Override PartName="/ppt/media/image43.png" ContentType="image/png"/>
  <Override PartName="/ppt/media/image52.png" ContentType="image/png"/>
  <Override PartName="/ppt/media/image106.wmf" ContentType="image/x-wmf"/>
  <Override PartName="/ppt/media/image50.png" ContentType="image/png"/>
  <Override PartName="/ppt/media/image49.wmf" ContentType="image/x-wmf"/>
  <Override PartName="/ppt/media/image51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94.png" ContentType="image/png"/>
  <Override PartName="/ppt/media/image26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90.png" ContentType="image/png"/>
  <Override PartName="/ppt/media/image58.wmf" ContentType="image/x-wmf"/>
  <Override PartName="/ppt/media/image21.png" ContentType="image/png"/>
  <Override PartName="/ppt/media/image118.png" ContentType="image/png"/>
  <Override PartName="/ppt/media/image20.wmf" ContentType="image/x-wmf"/>
  <Override PartName="/ppt/media/image63.png" ContentType="image/png"/>
  <Override PartName="/ppt/media/image59.wmf" ContentType="image/x-wmf"/>
  <Override PartName="/ppt/media/image22.wmf" ContentType="image/x-wmf"/>
  <Override PartName="/ppt/media/image119.wmf" ContentType="image/x-wmf"/>
  <Override PartName="/ppt/media/image91.png" ContentType="image/png"/>
  <Override PartName="/ppt/media/image23.png" ContentType="image/png"/>
  <Override PartName="/ppt/media/image27.wmf" ContentType="image/x-wmf"/>
  <Override PartName="/ppt/media/image121.png" ContentType="image/png"/>
  <Override PartName="/ppt/media/image60.png" ContentType="image/png"/>
  <Override PartName="/ppt/media/image61.png" ContentType="image/png"/>
  <Override PartName="/ppt/media/image62.wmf" ContentType="image/x-wmf"/>
  <Override PartName="/ppt/media/image64.png" ContentType="image/png"/>
  <Override PartName="/ppt/media/image65.jpeg" ContentType="image/jpeg"/>
  <Override PartName="/ppt/media/image100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40.jpeg" ContentType="image/jpeg"/>
  <Override PartName="/ppt/media/image74.wmf" ContentType="image/x-wmf"/>
  <Override PartName="/ppt/media/image103.png" ContentType="image/png"/>
  <Override PartName="/ppt/media/image76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4.png" ContentType="image/png"/>
  <Override PartName="/ppt/media/image92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4.png" ContentType="image/png"/>
  <Override PartName="/ppt/media/image105.png" ContentType="image/png"/>
  <Override PartName="/ppt/media/image110.png" ContentType="image/png"/>
  <Override PartName="/ppt/media/image111.png" ContentType="image/png"/>
  <Override PartName="/ppt/media/image112.png" ContentType="image/png"/>
  <Override PartName="/ppt/media/image113.png" ContentType="image/png"/>
  <Override PartName="/ppt/media/image114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CE63-371C-4BE9-B382-2179A7328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EB99-8EEE-4424-9E1E-68EA7E67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B342-F5FA-4E10-8274-2E8CB2EF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E193-CAB6-4DD7-BEF9-6FF0414D4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AA81-3B73-443B-BDC0-23118BA0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2743-1F9A-412E-A84C-2101D150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73CB-C097-4493-A2DC-8D7A9301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BC54-925F-4248-9147-E0BAC1C4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B2D6-434B-4228-A5D9-A3588D13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936C-AABB-4EBC-BC24-740E2428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4FA0-3D29-4F2A-9196-0C3467DD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874F-E704-47D1-9954-7E654433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8E02-916A-4098-80B8-0352F60EF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9.wmf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3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5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4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9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2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4.wmf"/><Relationship Id="rId4" Type="http://schemas.openxmlformats.org/officeDocument/2006/relationships/image" Target="../media/image75.png"/><Relationship Id="rId5" Type="http://schemas.openxmlformats.org/officeDocument/2006/relationships/image" Target="../media/image76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6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image" Target="../media/image1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image" Target="../media/image112.png"/><Relationship Id="rId3" Type="http://schemas.openxmlformats.org/officeDocument/2006/relationships/image" Target="../media/image11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image" Target="../media/image1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image" Target="../media/image11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1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9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2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21.png"/><Relationship Id="rId2" Type="http://schemas.openxmlformats.org/officeDocument/2006/relationships/image" Target="../media/image122.png"/><Relationship Id="rId3" Type="http://schemas.openxmlformats.org/officeDocument/2006/relationships/image" Target="../media/image12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2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25.png"/><Relationship Id="rId2" Type="http://schemas.openxmlformats.org/officeDocument/2006/relationships/image" Target="../media/image12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27.png"/><Relationship Id="rId2" Type="http://schemas.openxmlformats.org/officeDocument/2006/relationships/image" Target="../media/image12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29.png"/><Relationship Id="rId2" Type="http://schemas.openxmlformats.org/officeDocument/2006/relationships/image" Target="../media/image130.png"/><Relationship Id="rId3" Type="http://schemas.openxmlformats.org/officeDocument/2006/relationships/image" Target="../media/image13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32.png"/><Relationship Id="rId2" Type="http://schemas.openxmlformats.org/officeDocument/2006/relationships/image" Target="../media/image133.png"/><Relationship Id="rId3" Type="http://schemas.openxmlformats.org/officeDocument/2006/relationships/image" Target="../media/image134.png"/><Relationship Id="rId4" Type="http://schemas.openxmlformats.org/officeDocument/2006/relationships/image" Target="../media/image135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09120" y="1935000"/>
            <a:ext cx="59230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able-Frequency Response </a:t>
            </a: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Network performance as function of frequ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Transfer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41880" y="2970360"/>
            <a:ext cx="5763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usoidal Frequency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ode plots to display frequency respons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26760" y="3762360"/>
            <a:ext cx="6430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onance phenomenon and its character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92200" y="4554360"/>
            <a:ext cx="4505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ca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and frequency sca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08760" y="5346720"/>
            <a:ext cx="62233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lter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s with frequency selective characteristic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-pass, high-pass, band-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62800" y="0"/>
            <a:ext cx="6878880" cy="106884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VARIABLE-FREQUENCY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1960" y="1436760"/>
            <a:ext cx="219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geaux" descr=""/>
          <p:cNvPicPr/>
          <p:nvPr/>
        </p:nvPicPr>
        <p:blipFill>
          <a:blip r:embed="rId1"/>
          <a:stretch/>
        </p:blipFill>
        <p:spPr>
          <a:xfrm>
            <a:off x="8381880" y="6462720"/>
            <a:ext cx="760680" cy="38088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45720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0" y="990720"/>
            <a:ext cx="4019040" cy="1971720"/>
            <a:chOff x="0" y="990720"/>
            <a:chExt cx="4019040" cy="1971720"/>
          </a:xfrm>
        </p:grpSpPr>
        <p:pic>
          <p:nvPicPr>
            <p:cNvPr id="163" name="F11.007B_W1086" descr=""/>
            <p:cNvPicPr/>
            <p:nvPr/>
          </p:nvPicPr>
          <p:blipFill>
            <a:blip r:embed="rId1"/>
            <a:stretch/>
          </p:blipFill>
          <p:spPr>
            <a:xfrm>
              <a:off x="0" y="990720"/>
              <a:ext cx="391464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22760" y="2573280"/>
              <a:ext cx="3896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y domain equivalent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10240" y="0"/>
            <a:ext cx="3381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Analysis of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F11.007A_W1086" descr=""/>
          <p:cNvPicPr/>
          <p:nvPr/>
        </p:nvPicPr>
        <p:blipFill>
          <a:blip r:embed="rId2"/>
          <a:stretch/>
        </p:blipFill>
        <p:spPr>
          <a:xfrm>
            <a:off x="3657600" y="0"/>
            <a:ext cx="2971800" cy="14508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7391520" y="1447920"/>
                <a:ext cx="1371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0" y="457200"/>
                <a:ext cx="2502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733920" y="1981080"/>
                <a:ext cx="2666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76320" y="2971800"/>
                <a:ext cx="3581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]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657600" y="2971800"/>
                <a:ext cx="30988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d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]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76320" y="3657600"/>
                <a:ext cx="39243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9</m:t>
                                    </m:r>
                                  </m:sup>
                                </m:sSup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π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7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8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9</m:t>
                                    </m:r>
                                  </m:sup>
                                </m:sSup>
                                <m:r>
                                  <m:t xml:space="preserve">×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π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3" name=""/>
          <p:cNvGrpSpPr/>
          <p:nvPr/>
        </p:nvGrpSpPr>
        <p:grpSpPr>
          <a:xfrm>
            <a:off x="4572000" y="3182760"/>
            <a:ext cx="4514760" cy="3522960"/>
            <a:chOff x="4572000" y="3182760"/>
            <a:chExt cx="4514760" cy="3522960"/>
          </a:xfrm>
        </p:grpSpPr>
        <p:pic>
          <p:nvPicPr>
            <p:cNvPr id="174" name="F11.008_W1087" descr=""/>
            <p:cNvPicPr/>
            <p:nvPr/>
          </p:nvPicPr>
          <p:blipFill>
            <a:blip r:embed="rId3"/>
            <a:stretch/>
          </p:blipFill>
          <p:spPr>
            <a:xfrm>
              <a:off x="4572000" y="3571920"/>
              <a:ext cx="4514760" cy="313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5" name=""/>
            <p:cNvGrpSpPr/>
            <p:nvPr/>
          </p:nvGrpSpPr>
          <p:grpSpPr>
            <a:xfrm>
              <a:off x="7462080" y="3182760"/>
              <a:ext cx="1055520" cy="703440"/>
              <a:chOff x="7462080" y="3182760"/>
              <a:chExt cx="1055520" cy="703440"/>
            </a:xfrm>
          </p:grpSpPr>
          <p:sp>
            <p:nvSpPr>
              <p:cNvPr id="176" name=""/>
              <p:cNvSpPr/>
              <p:nvPr/>
            </p:nvSpPr>
            <p:spPr>
              <a:xfrm flipH="1">
                <a:off x="7543440" y="3429000"/>
                <a:ext cx="152280" cy="4572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462080" y="3182760"/>
                <a:ext cx="105552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require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6629760" y="4800600"/>
              <a:ext cx="811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ct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6324480" y="4267080"/>
              <a:ext cx="533520" cy="533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0" y="4675320"/>
                <a:ext cx="464832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π</m:t>
                    </m:r>
                    <m:r>
                      <m:t xml:space="preserve">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]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418680" y="5468760"/>
            <a:ext cx="3556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dependent behavior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used by reactive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95640" y="3662280"/>
            <a:ext cx="1781280" cy="2090880"/>
          </a:xfrm>
          <a:custGeom>
            <a:avLst/>
            <a:gdLst/>
            <a:ahLst/>
            <a:rect l="l" t="t" r="r" b="b"/>
            <a:pathLst>
              <a:path w="1122" h="1317">
                <a:moveTo>
                  <a:pt x="0" y="0"/>
                </a:moveTo>
                <a:cubicBezTo>
                  <a:pt x="97" y="5"/>
                  <a:pt x="185" y="13"/>
                  <a:pt x="281" y="23"/>
                </a:cubicBezTo>
                <a:cubicBezTo>
                  <a:pt x="291" y="26"/>
                  <a:pt x="301" y="32"/>
                  <a:pt x="312" y="31"/>
                </a:cubicBezTo>
                <a:cubicBezTo>
                  <a:pt x="356" y="29"/>
                  <a:pt x="400" y="7"/>
                  <a:pt x="444" y="15"/>
                </a:cubicBezTo>
                <a:cubicBezTo>
                  <a:pt x="463" y="19"/>
                  <a:pt x="397" y="47"/>
                  <a:pt x="397" y="47"/>
                </a:cubicBezTo>
                <a:cubicBezTo>
                  <a:pt x="400" y="107"/>
                  <a:pt x="400" y="166"/>
                  <a:pt x="405" y="226"/>
                </a:cubicBezTo>
                <a:cubicBezTo>
                  <a:pt x="408" y="261"/>
                  <a:pt x="436" y="327"/>
                  <a:pt x="436" y="327"/>
                </a:cubicBezTo>
                <a:cubicBezTo>
                  <a:pt x="454" y="467"/>
                  <a:pt x="422" y="315"/>
                  <a:pt x="491" y="436"/>
                </a:cubicBezTo>
                <a:cubicBezTo>
                  <a:pt x="510" y="469"/>
                  <a:pt x="495" y="518"/>
                  <a:pt x="522" y="545"/>
                </a:cubicBezTo>
                <a:cubicBezTo>
                  <a:pt x="538" y="561"/>
                  <a:pt x="565" y="563"/>
                  <a:pt x="584" y="576"/>
                </a:cubicBezTo>
                <a:cubicBezTo>
                  <a:pt x="597" y="584"/>
                  <a:pt x="605" y="597"/>
                  <a:pt x="616" y="608"/>
                </a:cubicBezTo>
                <a:cubicBezTo>
                  <a:pt x="646" y="699"/>
                  <a:pt x="807" y="835"/>
                  <a:pt x="881" y="904"/>
                </a:cubicBezTo>
                <a:cubicBezTo>
                  <a:pt x="924" y="944"/>
                  <a:pt x="1005" y="1028"/>
                  <a:pt x="1005" y="1028"/>
                </a:cubicBezTo>
                <a:cubicBezTo>
                  <a:pt x="1013" y="1059"/>
                  <a:pt x="1020" y="1091"/>
                  <a:pt x="1029" y="1122"/>
                </a:cubicBezTo>
                <a:cubicBezTo>
                  <a:pt x="1038" y="1154"/>
                  <a:pt x="1060" y="1216"/>
                  <a:pt x="1060" y="1216"/>
                </a:cubicBezTo>
                <a:cubicBezTo>
                  <a:pt x="1067" y="1268"/>
                  <a:pt x="1058" y="1290"/>
                  <a:pt x="1099" y="1317"/>
                </a:cubicBezTo>
                <a:cubicBezTo>
                  <a:pt x="1107" y="1309"/>
                  <a:pt x="1122" y="1293"/>
                  <a:pt x="1122" y="1293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05480" y="3508200"/>
            <a:ext cx="2560680" cy="2281320"/>
          </a:xfrm>
          <a:custGeom>
            <a:avLst/>
            <a:gdLst/>
            <a:ahLst/>
            <a:rect l="l" t="t" r="r" b="b"/>
            <a:pathLst>
              <a:path w="1613" h="1437">
                <a:moveTo>
                  <a:pt x="0" y="58"/>
                </a:moveTo>
                <a:cubicBezTo>
                  <a:pt x="117" y="87"/>
                  <a:pt x="230" y="98"/>
                  <a:pt x="350" y="112"/>
                </a:cubicBezTo>
                <a:cubicBezTo>
                  <a:pt x="438" y="110"/>
                  <a:pt x="527" y="115"/>
                  <a:pt x="615" y="105"/>
                </a:cubicBezTo>
                <a:cubicBezTo>
                  <a:pt x="646" y="101"/>
                  <a:pt x="671" y="75"/>
                  <a:pt x="701" y="66"/>
                </a:cubicBezTo>
                <a:cubicBezTo>
                  <a:pt x="798" y="0"/>
                  <a:pt x="725" y="46"/>
                  <a:pt x="701" y="81"/>
                </a:cubicBezTo>
                <a:cubicBezTo>
                  <a:pt x="696" y="89"/>
                  <a:pt x="693" y="100"/>
                  <a:pt x="685" y="105"/>
                </a:cubicBezTo>
                <a:cubicBezTo>
                  <a:pt x="669" y="115"/>
                  <a:pt x="649" y="114"/>
                  <a:pt x="631" y="120"/>
                </a:cubicBezTo>
                <a:cubicBezTo>
                  <a:pt x="683" y="215"/>
                  <a:pt x="748" y="281"/>
                  <a:pt x="818" y="362"/>
                </a:cubicBezTo>
                <a:cubicBezTo>
                  <a:pt x="890" y="444"/>
                  <a:pt x="935" y="541"/>
                  <a:pt x="1013" y="619"/>
                </a:cubicBezTo>
                <a:cubicBezTo>
                  <a:pt x="1018" y="635"/>
                  <a:pt x="1021" y="651"/>
                  <a:pt x="1028" y="666"/>
                </a:cubicBezTo>
                <a:cubicBezTo>
                  <a:pt x="1034" y="678"/>
                  <a:pt x="1047" y="685"/>
                  <a:pt x="1052" y="697"/>
                </a:cubicBezTo>
                <a:cubicBezTo>
                  <a:pt x="1058" y="712"/>
                  <a:pt x="1054" y="729"/>
                  <a:pt x="1059" y="744"/>
                </a:cubicBezTo>
                <a:cubicBezTo>
                  <a:pt x="1084" y="824"/>
                  <a:pt x="1090" y="803"/>
                  <a:pt x="1106" y="868"/>
                </a:cubicBezTo>
                <a:cubicBezTo>
                  <a:pt x="1122" y="934"/>
                  <a:pt x="1145" y="1024"/>
                  <a:pt x="1192" y="1071"/>
                </a:cubicBezTo>
                <a:cubicBezTo>
                  <a:pt x="1196" y="1084"/>
                  <a:pt x="1241" y="1225"/>
                  <a:pt x="1254" y="1242"/>
                </a:cubicBezTo>
                <a:cubicBezTo>
                  <a:pt x="1285" y="1283"/>
                  <a:pt x="1327" y="1315"/>
                  <a:pt x="1363" y="1351"/>
                </a:cubicBezTo>
                <a:cubicBezTo>
                  <a:pt x="1437" y="1425"/>
                  <a:pt x="1397" y="1409"/>
                  <a:pt x="1472" y="1422"/>
                </a:cubicBezTo>
                <a:cubicBezTo>
                  <a:pt x="1480" y="1427"/>
                  <a:pt x="1487" y="1437"/>
                  <a:pt x="1496" y="1437"/>
                </a:cubicBezTo>
                <a:cubicBezTo>
                  <a:pt x="1505" y="1437"/>
                  <a:pt x="1511" y="1426"/>
                  <a:pt x="1519" y="1422"/>
                </a:cubicBezTo>
                <a:cubicBezTo>
                  <a:pt x="1520" y="1421"/>
                  <a:pt x="1600" y="1388"/>
                  <a:pt x="1613" y="1375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172200" y="1447920"/>
            <a:ext cx="2175480" cy="946800"/>
            <a:chOff x="6172200" y="1447920"/>
            <a:chExt cx="2175480" cy="946800"/>
          </a:xfrm>
        </p:grpSpPr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6172200" y="1447920"/>
                  <a:ext cx="12445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86" name=""/>
            <p:cNvSpPr/>
            <p:nvPr/>
          </p:nvSpPr>
          <p:spPr>
            <a:xfrm>
              <a:off x="6873120" y="2057400"/>
              <a:ext cx="14745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G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733920" y="3773520"/>
            <a:ext cx="1054080" cy="745920"/>
            <a:chOff x="3733920" y="3773520"/>
            <a:chExt cx="1054080" cy="745920"/>
          </a:xfrm>
        </p:grpSpPr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3733920" y="3773520"/>
                  <a:ext cx="7110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50</m:t>
                      </m:r>
                      <m:r>
                        <m:rPr>
                          <m:lit/>
                          <m:nor/>
                        </m:rPr>
                        <m:t xml:space="preserve">H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3962520" y="4254480"/>
                  <a:ext cx="8254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rPr>
                          <m:lit/>
                          <m:nor/>
                        </m:rPr>
                        <m:t xml:space="preserve">kH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90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21320" y="76320"/>
            <a:ext cx="2448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676520" y="1219320"/>
          <a:ext cx="5867280" cy="14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586728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1306800" y="592200"/>
            <a:ext cx="73479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voltages and currents are defined at different terminal pairs w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fine the ratios as </a:t>
            </a:r>
            <a:r>
              <a:rPr b="1" lang="en-US" sz="1600" spc="-1" strike="noStrike">
                <a:solidFill>
                  <a:srgbClr val="0033cc"/>
                </a:solidFill>
                <a:latin typeface="Lucida Sans"/>
              </a:rPr>
              <a:t>Transfer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68000" y="2819520"/>
            <a:ext cx="6942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voltage and current are defined at the same terminals we def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Lucida Sans"/>
              </a:rPr>
              <a:t>Driving Point Impedance/Admit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20960" y="58680"/>
            <a:ext cx="2274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me nomenclatu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77120" y="3429000"/>
            <a:ext cx="3439080" cy="1913040"/>
            <a:chOff x="177120" y="3429000"/>
            <a:chExt cx="3439080" cy="1913040"/>
          </a:xfrm>
        </p:grpSpPr>
        <p:pic>
          <p:nvPicPr>
            <p:cNvPr id="200" name="F11.009_W1088" descr=""/>
            <p:cNvPicPr/>
            <p:nvPr/>
          </p:nvPicPr>
          <p:blipFill>
            <a:blip r:embed="rId3"/>
            <a:stretch/>
          </p:blipFill>
          <p:spPr>
            <a:xfrm>
              <a:off x="244080" y="3827520"/>
              <a:ext cx="337212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177120" y="3429000"/>
              <a:ext cx="11149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96720" y="5427720"/>
                <a:ext cx="3454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ransadmittance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ransfer admittanc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96720" y="6113520"/>
                <a:ext cx="2743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Voltage ga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3830760" y="4876920"/>
            <a:ext cx="5238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compute the transfer functions one must sol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ircuit.  Any valid technique is accep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91800" y="76320"/>
            <a:ext cx="3432600" cy="1912320"/>
            <a:chOff x="91800" y="76320"/>
            <a:chExt cx="3432600" cy="1912320"/>
          </a:xfrm>
        </p:grpSpPr>
        <p:pic>
          <p:nvPicPr>
            <p:cNvPr id="209" name="F11.009_W1088" descr=""/>
            <p:cNvPicPr/>
            <p:nvPr/>
          </p:nvPicPr>
          <p:blipFill>
            <a:blip r:embed="rId1"/>
            <a:stretch/>
          </p:blipFill>
          <p:spPr>
            <a:xfrm>
              <a:off x="152280" y="474480"/>
              <a:ext cx="3372120" cy="15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91800" y="763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04920" y="2075040"/>
                <a:ext cx="3454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ransadmittance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ransfer admittanc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04920" y="2760840"/>
                <a:ext cx="2743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Voltage ga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4260600" y="855720"/>
            <a:ext cx="4350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extbook uses mesh analysis. We w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venin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8920" y="444600"/>
            <a:ext cx="2725560" cy="1552320"/>
          </a:xfrm>
          <a:custGeom>
            <a:avLst/>
            <a:gdLst/>
            <a:ahLst/>
            <a:rect l="l" t="t" r="r" b="b"/>
            <a:pathLst>
              <a:path w="1717" h="978">
                <a:moveTo>
                  <a:pt x="1713" y="19"/>
                </a:moveTo>
                <a:cubicBezTo>
                  <a:pt x="1695" y="260"/>
                  <a:pt x="1707" y="75"/>
                  <a:pt x="1697" y="510"/>
                </a:cubicBezTo>
                <a:cubicBezTo>
                  <a:pt x="1697" y="518"/>
                  <a:pt x="1717" y="754"/>
                  <a:pt x="1674" y="838"/>
                </a:cubicBezTo>
                <a:cubicBezTo>
                  <a:pt x="1620" y="943"/>
                  <a:pt x="1371" y="955"/>
                  <a:pt x="1269" y="962"/>
                </a:cubicBezTo>
                <a:cubicBezTo>
                  <a:pt x="1227" y="965"/>
                  <a:pt x="1186" y="968"/>
                  <a:pt x="1144" y="970"/>
                </a:cubicBezTo>
                <a:cubicBezTo>
                  <a:pt x="1045" y="974"/>
                  <a:pt x="947" y="975"/>
                  <a:pt x="848" y="978"/>
                </a:cubicBezTo>
                <a:cubicBezTo>
                  <a:pt x="630" y="975"/>
                  <a:pt x="411" y="975"/>
                  <a:pt x="193" y="970"/>
                </a:cubicBezTo>
                <a:cubicBezTo>
                  <a:pt x="172" y="970"/>
                  <a:pt x="148" y="974"/>
                  <a:pt x="131" y="962"/>
                </a:cubicBezTo>
                <a:cubicBezTo>
                  <a:pt x="119" y="953"/>
                  <a:pt x="81" y="793"/>
                  <a:pt x="69" y="767"/>
                </a:cubicBezTo>
                <a:cubicBezTo>
                  <a:pt x="66" y="752"/>
                  <a:pt x="66" y="736"/>
                  <a:pt x="61" y="721"/>
                </a:cubicBezTo>
                <a:cubicBezTo>
                  <a:pt x="57" y="710"/>
                  <a:pt x="48" y="701"/>
                  <a:pt x="45" y="689"/>
                </a:cubicBezTo>
                <a:cubicBezTo>
                  <a:pt x="25" y="614"/>
                  <a:pt x="15" y="533"/>
                  <a:pt x="6" y="456"/>
                </a:cubicBezTo>
                <a:cubicBezTo>
                  <a:pt x="6" y="446"/>
                  <a:pt x="0" y="251"/>
                  <a:pt x="30" y="191"/>
                </a:cubicBezTo>
                <a:cubicBezTo>
                  <a:pt x="58" y="136"/>
                  <a:pt x="129" y="136"/>
                  <a:pt x="178" y="128"/>
                </a:cubicBezTo>
                <a:cubicBezTo>
                  <a:pt x="339" y="101"/>
                  <a:pt x="497" y="73"/>
                  <a:pt x="661" y="66"/>
                </a:cubicBezTo>
                <a:cubicBezTo>
                  <a:pt x="757" y="62"/>
                  <a:pt x="853" y="61"/>
                  <a:pt x="949" y="58"/>
                </a:cubicBezTo>
                <a:cubicBezTo>
                  <a:pt x="1173" y="0"/>
                  <a:pt x="1421" y="19"/>
                  <a:pt x="1651" y="19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267080" y="1541520"/>
                <a:ext cx="2070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s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400800" y="1541520"/>
                <a:ext cx="1422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L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267080" y="2151000"/>
                <a:ext cx="25527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895480" y="228600"/>
                <a:ext cx="208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19" name=""/>
          <p:cNvGraphicFramePr/>
          <p:nvPr/>
        </p:nvGraphicFramePr>
        <p:xfrm>
          <a:off x="228600" y="3954600"/>
          <a:ext cx="3276720" cy="182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954600"/>
                    <a:ext cx="3276720" cy="18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276720" y="3581280"/>
                <a:ext cx="2082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5410080" y="3251160"/>
                <a:ext cx="214632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657600" y="4510080"/>
                <a:ext cx="4076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114800" y="5410080"/>
                <a:ext cx="3225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7594560" y="3581280"/>
                <a:ext cx="1320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26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38240" y="76320"/>
            <a:ext cx="20066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LES AND Z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2400" y="58680"/>
            <a:ext cx="2329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More nomenclatu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828800" y="609480"/>
                <a:ext cx="40053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5975640" y="668160"/>
            <a:ext cx="2930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bitrary network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89880" y="1523880"/>
            <a:ext cx="66592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the roots, every (monic) polynomial can be expressed a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duct of first order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895480" y="2286000"/>
                <a:ext cx="3353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2425680" y="3105000"/>
                <a:ext cx="4292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zeros of the network function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oles of the network func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1089720" y="3886200"/>
            <a:ext cx="6988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function is uniquely determined by its poles and z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its value at some other value of s (to compute the g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76320" y="4630680"/>
            <a:ext cx="3047760" cy="1389240"/>
            <a:chOff x="76320" y="4630680"/>
            <a:chExt cx="3047760" cy="1389240"/>
          </a:xfrm>
        </p:grpSpPr>
        <p:sp>
          <p:nvSpPr>
            <p:cNvPr id="238" name=""/>
            <p:cNvSpPr/>
            <p:nvPr/>
          </p:nvSpPr>
          <p:spPr>
            <a:xfrm>
              <a:off x="101160" y="4630680"/>
              <a:ext cx="11149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76320" y="5029200"/>
                  <a:ext cx="3047760" cy="99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zeros: 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oles: 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</m:e>
                        <m:e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3200400" y="4724280"/>
                <a:ext cx="3301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6553080" y="4724280"/>
                <a:ext cx="13208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200400" y="5410080"/>
                <a:ext cx="17524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5181480" y="5410080"/>
                <a:ext cx="1841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8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44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F11.007B_W1086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4829040" cy="24321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92160" y="58680"/>
            <a:ext cx="3861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driving point impedance a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6629400" y="90360"/>
                <a:ext cx="558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790640" y="2590920"/>
                <a:ext cx="1244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52" name=""/>
          <p:cNvGrpSpPr/>
          <p:nvPr/>
        </p:nvGrpSpPr>
        <p:grpSpPr>
          <a:xfrm>
            <a:off x="762120" y="1371600"/>
            <a:ext cx="685800" cy="285840"/>
            <a:chOff x="762120" y="1371600"/>
            <a:chExt cx="685800" cy="285840"/>
          </a:xfrm>
        </p:grpSpPr>
        <p:sp>
          <p:nvSpPr>
            <p:cNvPr id="253" name=""/>
            <p:cNvSpPr/>
            <p:nvPr/>
          </p:nvSpPr>
          <p:spPr>
            <a:xfrm>
              <a:off x="762120" y="137160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838080" y="1371600"/>
                  <a:ext cx="43020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523880" y="3429000"/>
                <a:ext cx="3048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600200" y="4267080"/>
                <a:ext cx="1828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1542600" y="5011560"/>
            <a:ext cx="2759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lace numerical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429000" y="4267080"/>
                <a:ext cx="1409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d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9" name="F11.007A_W1086" descr=""/>
          <p:cNvPicPr/>
          <p:nvPr/>
        </p:nvPicPr>
        <p:blipFill>
          <a:blip r:embed="rId2"/>
          <a:stretch/>
        </p:blipFill>
        <p:spPr>
          <a:xfrm>
            <a:off x="5181480" y="457200"/>
            <a:ext cx="3962520" cy="19350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260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F11.007A_W1086" descr=""/>
          <p:cNvPicPr/>
          <p:nvPr/>
        </p:nvPicPr>
        <p:blipFill>
          <a:blip r:embed="rId1"/>
          <a:stretch/>
        </p:blipFill>
        <p:spPr>
          <a:xfrm>
            <a:off x="4952880" y="1382760"/>
            <a:ext cx="4191120" cy="204624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265" name="F11.007B_W1086" descr=""/>
          <p:cNvPicPr/>
          <p:nvPr/>
        </p:nvPicPr>
        <p:blipFill>
          <a:blip r:embed="rId2"/>
          <a:stretch/>
        </p:blipFill>
        <p:spPr>
          <a:xfrm>
            <a:off x="0" y="996840"/>
            <a:ext cx="4829040" cy="2432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124080" y="5435640"/>
                <a:ext cx="339120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zero: 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les: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π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590920" y="76320"/>
                <a:ext cx="51703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the pole and zero locations and the value of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the voltage gain  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68" name=""/>
          <p:cNvGrpSpPr/>
          <p:nvPr/>
        </p:nvGrpSpPr>
        <p:grpSpPr>
          <a:xfrm>
            <a:off x="306360" y="4249800"/>
            <a:ext cx="7593120" cy="1007640"/>
            <a:chOff x="306360" y="4249800"/>
            <a:chExt cx="7593120" cy="1007640"/>
          </a:xfrm>
        </p:grpSpPr>
        <p:grpSp>
          <p:nvGrpSpPr>
            <p:cNvPr id="269" name=""/>
            <p:cNvGrpSpPr/>
            <p:nvPr/>
          </p:nvGrpSpPr>
          <p:grpSpPr>
            <a:xfrm>
              <a:off x="1219320" y="4586040"/>
              <a:ext cx="6680160" cy="671400"/>
              <a:chOff x="1219320" y="4586040"/>
              <a:chExt cx="6680160" cy="671400"/>
            </a:xfrm>
          </p:grpSpPr>
          <mc:AlternateContent>
            <mc:Choice xmlns:a14="http://schemas.microsoft.com/office/drawing/2010/main" Requires="a14">
              <p:sp>
                <p:nvSpPr>
                  <p:cNvPr id="270" name=""/>
                  <p:cNvSpPr txBox="1"/>
                  <p:nvPr/>
                </p:nvSpPr>
                <p:spPr>
                  <a:xfrm>
                    <a:off x="1219320" y="4586040"/>
                    <a:ext cx="3581640" cy="671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]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C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71" name=""/>
                  <p:cNvSpPr txBox="1"/>
                  <p:nvPr/>
                </p:nvSpPr>
                <p:spPr>
                  <a:xfrm>
                    <a:off x="4800960" y="4586040"/>
                    <a:ext cx="309852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  <m:r>
                                  <m:t xml:space="preserve">π</m:t>
                                </m:r>
                              </m:den>
                            </m:f>
                          </m:e>
                        </m:d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]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4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π</m:t>
                                </m:r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72" name=""/>
            <p:cNvSpPr/>
            <p:nvPr/>
          </p:nvSpPr>
          <p:spPr>
            <a:xfrm>
              <a:off x="306360" y="4249800"/>
              <a:ext cx="4127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this case the gain was shown to b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209680" y="3564000"/>
            <a:ext cx="6658920" cy="627120"/>
            <a:chOff x="2209680" y="3564000"/>
            <a:chExt cx="6658920" cy="627120"/>
          </a:xfrm>
        </p:grpSpPr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2209680" y="3581280"/>
                  <a:ext cx="335304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f>
                        <m:num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75" name=""/>
            <p:cNvSpPr/>
            <p:nvPr/>
          </p:nvSpPr>
          <p:spPr>
            <a:xfrm>
              <a:off x="5761800" y="3564000"/>
              <a:ext cx="31068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Zeros = roots of num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s = roots of denomin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7927920" y="5486400"/>
            <a:ext cx="1236960" cy="1371600"/>
            <a:chOff x="7927920" y="5486400"/>
            <a:chExt cx="1236960" cy="1371600"/>
          </a:xfrm>
        </p:grpSpPr>
        <p:pic>
          <p:nvPicPr>
            <p:cNvPr id="278" name="stop" descr=""/>
            <p:cNvPicPr/>
            <p:nvPr/>
          </p:nvPicPr>
          <p:blipFill>
            <a:blip r:embed="rId3"/>
            <a:stretch/>
          </p:blipFill>
          <p:spPr>
            <a:xfrm>
              <a:off x="8305920" y="6343560"/>
              <a:ext cx="5140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7927920" y="5486400"/>
              <a:ext cx="1236960" cy="82404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Vari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665800" y="0"/>
            <a:ext cx="46551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INUSOIDAL FREQUENCY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543480" y="762120"/>
            <a:ext cx="1904760" cy="761760"/>
            <a:chOff x="3543480" y="762120"/>
            <a:chExt cx="1904760" cy="761760"/>
          </a:xfrm>
        </p:grpSpPr>
        <p:sp>
          <p:nvSpPr>
            <p:cNvPr id="283" name=""/>
            <p:cNvSpPr/>
            <p:nvPr/>
          </p:nvSpPr>
          <p:spPr>
            <a:xfrm>
              <a:off x="3924360" y="762120"/>
              <a:ext cx="1143000" cy="7617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4241880" y="1009440"/>
                  <a:ext cx="520560" cy="28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5" name=""/>
            <p:cNvSpPr/>
            <p:nvPr/>
          </p:nvSpPr>
          <p:spPr>
            <a:xfrm>
              <a:off x="3543480" y="91404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543480" y="137124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67360" y="91404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67360" y="137124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3434760" y="1582560"/>
            <a:ext cx="2444040" cy="580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 represented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  func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994040" y="825480"/>
                <a:ext cx="14983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j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ω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θ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524560" y="762120"/>
                <a:ext cx="33908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j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ω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|</m:t>
                              </m:r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|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θ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+∠</m:t>
                                  </m:r>
                                  <m:r>
                                    <m:t xml:space="preserve">H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jω</m:t>
                                  </m:r>
                                  <m:r>
                                    <m:t xml:space="preserve">)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505320" y="3048120"/>
                <a:ext cx="213336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ation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</m:e>
                      <m:e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φ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460520" y="4592520"/>
                <a:ext cx="652788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lots of 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as function of </m:t>
                        </m:r>
                        <m:r>
                          <m:t xml:space="preserve"> 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e generally called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gnitude and phase characteristic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540160" y="5562720"/>
                <a:ext cx="4000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ODE PLOTS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o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M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)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φ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s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5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609480" y="2286000"/>
                <a:ext cx="7786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 study the behavior of a network as a function of the frequency we analyz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network function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s a function of 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43360" y="152280"/>
            <a:ext cx="2718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ISTORY OF THE DECI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77160" y="668160"/>
            <a:ext cx="5173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iginated as a measure of relative (radio)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3397320" y="1143000"/>
                <a:ext cx="2222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ver 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2158920" y="1981080"/>
                <a:ext cx="49021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ver 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02" name=""/>
          <p:cNvGrpSpPr/>
          <p:nvPr/>
        </p:nvGrpSpPr>
        <p:grpSpPr>
          <a:xfrm>
            <a:off x="685080" y="2895480"/>
            <a:ext cx="3417120" cy="1001880"/>
            <a:chOff x="685080" y="2895480"/>
            <a:chExt cx="3417120" cy="1001880"/>
          </a:xfrm>
        </p:grpSpPr>
        <p:sp>
          <p:nvSpPr>
            <p:cNvPr id="303" name=""/>
            <p:cNvSpPr/>
            <p:nvPr/>
          </p:nvSpPr>
          <p:spPr>
            <a:xfrm>
              <a:off x="685080" y="3182760"/>
              <a:ext cx="1485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y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2362320" y="2895480"/>
                  <a:ext cx="173988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V</m:t>
                          </m:r>
                          <m:sSub>
                            <m:e>
                              <m:r>
                                <m:t xml:space="preserve">|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V</m:t>
                          </m:r>
                          <m:r>
                            <m:t xml:space="preserve">|</m:t>
                          </m:r>
                        </m:e>
                        <m:e>
                          <m:r>
                            <m:t xml:space="preserve">I</m:t>
                          </m:r>
                          <m:sSub>
                            <m:e>
                              <m:r>
                                <m:t xml:space="preserve">|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I</m:t>
                          </m:r>
                          <m:r>
                            <m:t xml:space="preserve">|</m:t>
                          </m:r>
                        </m:e>
                        <m:e>
                          <m:r>
                            <m:t xml:space="preserve">G</m:t>
                          </m:r>
                          <m:sSub>
                            <m:e>
                              <m:r>
                                <m:t xml:space="preserve">|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G</m:t>
                          </m:r>
                          <m:r>
                            <m:t xml:space="preserve">|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5" name=""/>
          <p:cNvSpPr/>
          <p:nvPr/>
        </p:nvSpPr>
        <p:spPr>
          <a:xfrm>
            <a:off x="1035720" y="4325760"/>
            <a:ext cx="74898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log scales the frequency characteristics of network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ve simple asymptotic behavi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asymptotes can be used as reasonable and efficient approxim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523880" y="1219320"/>
                <a:ext cx="56390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±</m:t>
                            </m:r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ς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ς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253440" y="44280"/>
            <a:ext cx="5904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l form of a network function showing basic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305720" y="820800"/>
            <a:ext cx="2584080" cy="474480"/>
            <a:chOff x="1305720" y="820800"/>
            <a:chExt cx="2584080" cy="474480"/>
          </a:xfrm>
        </p:grpSpPr>
        <p:sp>
          <p:nvSpPr>
            <p:cNvPr id="312" name=""/>
            <p:cNvSpPr/>
            <p:nvPr/>
          </p:nvSpPr>
          <p:spPr>
            <a:xfrm>
              <a:off x="1981080" y="1066680"/>
              <a:ext cx="60984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305720" y="820800"/>
              <a:ext cx="2584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y independ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746440" y="515880"/>
            <a:ext cx="4297320" cy="1085760"/>
            <a:chOff x="2746440" y="515880"/>
            <a:chExt cx="4297320" cy="1085760"/>
          </a:xfrm>
        </p:grpSpPr>
        <p:sp>
          <p:nvSpPr>
            <p:cNvPr id="315" name=""/>
            <p:cNvSpPr/>
            <p:nvPr/>
          </p:nvSpPr>
          <p:spPr>
            <a:xfrm>
              <a:off x="2746440" y="792000"/>
              <a:ext cx="1731960" cy="809640"/>
            </a:xfrm>
            <a:custGeom>
              <a:avLst/>
              <a:gdLst/>
              <a:ahLst/>
              <a:rect l="l" t="t" r="r" b="b"/>
              <a:pathLst>
                <a:path w="1091" h="510">
                  <a:moveTo>
                    <a:pt x="514" y="288"/>
                  </a:moveTo>
                  <a:cubicBezTo>
                    <a:pt x="502" y="313"/>
                    <a:pt x="494" y="345"/>
                    <a:pt x="475" y="366"/>
                  </a:cubicBezTo>
                  <a:cubicBezTo>
                    <a:pt x="396" y="452"/>
                    <a:pt x="441" y="411"/>
                    <a:pt x="351" y="452"/>
                  </a:cubicBezTo>
                  <a:cubicBezTo>
                    <a:pt x="342" y="456"/>
                    <a:pt x="335" y="462"/>
                    <a:pt x="327" y="467"/>
                  </a:cubicBezTo>
                  <a:cubicBezTo>
                    <a:pt x="319" y="472"/>
                    <a:pt x="312" y="479"/>
                    <a:pt x="304" y="483"/>
                  </a:cubicBezTo>
                  <a:cubicBezTo>
                    <a:pt x="260" y="503"/>
                    <a:pt x="245" y="500"/>
                    <a:pt x="195" y="506"/>
                  </a:cubicBezTo>
                  <a:cubicBezTo>
                    <a:pt x="133" y="504"/>
                    <a:pt x="69" y="510"/>
                    <a:pt x="8" y="499"/>
                  </a:cubicBezTo>
                  <a:cubicBezTo>
                    <a:pt x="0" y="498"/>
                    <a:pt x="15" y="483"/>
                    <a:pt x="16" y="475"/>
                  </a:cubicBezTo>
                  <a:cubicBezTo>
                    <a:pt x="20" y="455"/>
                    <a:pt x="21" y="434"/>
                    <a:pt x="23" y="413"/>
                  </a:cubicBezTo>
                  <a:cubicBezTo>
                    <a:pt x="24" y="407"/>
                    <a:pt x="21" y="316"/>
                    <a:pt x="47" y="296"/>
                  </a:cubicBezTo>
                  <a:cubicBezTo>
                    <a:pt x="159" y="211"/>
                    <a:pt x="327" y="276"/>
                    <a:pt x="468" y="273"/>
                  </a:cubicBezTo>
                  <a:cubicBezTo>
                    <a:pt x="657" y="259"/>
                    <a:pt x="847" y="245"/>
                    <a:pt x="1036" y="226"/>
                  </a:cubicBezTo>
                  <a:cubicBezTo>
                    <a:pt x="1087" y="209"/>
                    <a:pt x="1084" y="147"/>
                    <a:pt x="1091" y="101"/>
                  </a:cubicBezTo>
                  <a:cubicBezTo>
                    <a:pt x="1088" y="83"/>
                    <a:pt x="1086" y="65"/>
                    <a:pt x="1083" y="47"/>
                  </a:cubicBezTo>
                  <a:cubicBezTo>
                    <a:pt x="1081" y="31"/>
                    <a:pt x="1075" y="0"/>
                    <a:pt x="1075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392720" y="515880"/>
              <a:ext cx="2651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s/zeros at the orig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377440" y="1254240"/>
            <a:ext cx="2075400" cy="1122840"/>
            <a:chOff x="2377440" y="1254240"/>
            <a:chExt cx="2075400" cy="1122840"/>
          </a:xfrm>
        </p:grpSpPr>
        <p:sp>
          <p:nvSpPr>
            <p:cNvPr id="318" name=""/>
            <p:cNvSpPr/>
            <p:nvPr/>
          </p:nvSpPr>
          <p:spPr>
            <a:xfrm>
              <a:off x="2882880" y="1254240"/>
              <a:ext cx="1569960" cy="923760"/>
            </a:xfrm>
            <a:custGeom>
              <a:avLst/>
              <a:gdLst/>
              <a:ahLst/>
              <a:rect l="l" t="t" r="r" b="b"/>
              <a:pathLst>
                <a:path w="989" h="582">
                  <a:moveTo>
                    <a:pt x="654" y="449"/>
                  </a:moveTo>
                  <a:cubicBezTo>
                    <a:pt x="657" y="402"/>
                    <a:pt x="658" y="356"/>
                    <a:pt x="662" y="309"/>
                  </a:cubicBezTo>
                  <a:cubicBezTo>
                    <a:pt x="664" y="288"/>
                    <a:pt x="657" y="263"/>
                    <a:pt x="670" y="246"/>
                  </a:cubicBezTo>
                  <a:cubicBezTo>
                    <a:pt x="683" y="229"/>
                    <a:pt x="736" y="212"/>
                    <a:pt x="763" y="208"/>
                  </a:cubicBezTo>
                  <a:cubicBezTo>
                    <a:pt x="833" y="198"/>
                    <a:pt x="904" y="191"/>
                    <a:pt x="974" y="184"/>
                  </a:cubicBezTo>
                  <a:cubicBezTo>
                    <a:pt x="958" y="138"/>
                    <a:pt x="976" y="96"/>
                    <a:pt x="989" y="52"/>
                  </a:cubicBezTo>
                  <a:cubicBezTo>
                    <a:pt x="926" y="0"/>
                    <a:pt x="851" y="11"/>
                    <a:pt x="771" y="5"/>
                  </a:cubicBezTo>
                  <a:cubicBezTo>
                    <a:pt x="680" y="8"/>
                    <a:pt x="589" y="9"/>
                    <a:pt x="498" y="13"/>
                  </a:cubicBezTo>
                  <a:cubicBezTo>
                    <a:pt x="477" y="14"/>
                    <a:pt x="451" y="6"/>
                    <a:pt x="436" y="20"/>
                  </a:cubicBezTo>
                  <a:cubicBezTo>
                    <a:pt x="420" y="34"/>
                    <a:pt x="427" y="63"/>
                    <a:pt x="420" y="83"/>
                  </a:cubicBezTo>
                  <a:cubicBezTo>
                    <a:pt x="400" y="139"/>
                    <a:pt x="357" y="132"/>
                    <a:pt x="304" y="137"/>
                  </a:cubicBezTo>
                  <a:cubicBezTo>
                    <a:pt x="278" y="145"/>
                    <a:pt x="251" y="151"/>
                    <a:pt x="226" y="161"/>
                  </a:cubicBezTo>
                  <a:cubicBezTo>
                    <a:pt x="170" y="182"/>
                    <a:pt x="142" y="233"/>
                    <a:pt x="78" y="254"/>
                  </a:cubicBezTo>
                  <a:cubicBezTo>
                    <a:pt x="1" y="311"/>
                    <a:pt x="10" y="298"/>
                    <a:pt x="0" y="387"/>
                  </a:cubicBezTo>
                  <a:cubicBezTo>
                    <a:pt x="136" y="413"/>
                    <a:pt x="413" y="418"/>
                    <a:pt x="413" y="418"/>
                  </a:cubicBezTo>
                  <a:cubicBezTo>
                    <a:pt x="452" y="423"/>
                    <a:pt x="491" y="429"/>
                    <a:pt x="530" y="434"/>
                  </a:cubicBezTo>
                  <a:cubicBezTo>
                    <a:pt x="551" y="437"/>
                    <a:pt x="584" y="422"/>
                    <a:pt x="592" y="441"/>
                  </a:cubicBezTo>
                  <a:cubicBezTo>
                    <a:pt x="608" y="480"/>
                    <a:pt x="589" y="525"/>
                    <a:pt x="584" y="566"/>
                  </a:cubicBezTo>
                  <a:cubicBezTo>
                    <a:pt x="583" y="572"/>
                    <a:pt x="579" y="577"/>
                    <a:pt x="576" y="58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377440" y="2039760"/>
              <a:ext cx="1898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rst order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933720" y="1076400"/>
            <a:ext cx="5005800" cy="1620360"/>
            <a:chOff x="3933720" y="1076400"/>
            <a:chExt cx="5005800" cy="1620360"/>
          </a:xfrm>
        </p:grpSpPr>
        <p:sp>
          <p:nvSpPr>
            <p:cNvPr id="321" name=""/>
            <p:cNvSpPr/>
            <p:nvPr/>
          </p:nvSpPr>
          <p:spPr>
            <a:xfrm>
              <a:off x="3933720" y="1076400"/>
              <a:ext cx="3176640" cy="1063440"/>
            </a:xfrm>
            <a:custGeom>
              <a:avLst/>
              <a:gdLst/>
              <a:ahLst/>
              <a:rect l="l" t="t" r="r" b="b"/>
              <a:pathLst>
                <a:path w="2001" h="670">
                  <a:moveTo>
                    <a:pt x="1559" y="608"/>
                  </a:moveTo>
                  <a:cubicBezTo>
                    <a:pt x="1570" y="416"/>
                    <a:pt x="1525" y="455"/>
                    <a:pt x="1730" y="444"/>
                  </a:cubicBezTo>
                  <a:cubicBezTo>
                    <a:pt x="1857" y="428"/>
                    <a:pt x="1725" y="454"/>
                    <a:pt x="1862" y="390"/>
                  </a:cubicBezTo>
                  <a:cubicBezTo>
                    <a:pt x="1897" y="374"/>
                    <a:pt x="1936" y="370"/>
                    <a:pt x="1972" y="358"/>
                  </a:cubicBezTo>
                  <a:cubicBezTo>
                    <a:pt x="2001" y="299"/>
                    <a:pt x="1995" y="324"/>
                    <a:pt x="1979" y="218"/>
                  </a:cubicBezTo>
                  <a:cubicBezTo>
                    <a:pt x="1959" y="81"/>
                    <a:pt x="1748" y="65"/>
                    <a:pt x="1644" y="62"/>
                  </a:cubicBezTo>
                  <a:cubicBezTo>
                    <a:pt x="1496" y="58"/>
                    <a:pt x="1348" y="57"/>
                    <a:pt x="1200" y="55"/>
                  </a:cubicBezTo>
                  <a:cubicBezTo>
                    <a:pt x="972" y="46"/>
                    <a:pt x="671" y="0"/>
                    <a:pt x="468" y="62"/>
                  </a:cubicBezTo>
                  <a:cubicBezTo>
                    <a:pt x="463" y="78"/>
                    <a:pt x="464" y="97"/>
                    <a:pt x="452" y="109"/>
                  </a:cubicBezTo>
                  <a:cubicBezTo>
                    <a:pt x="440" y="121"/>
                    <a:pt x="420" y="118"/>
                    <a:pt x="405" y="125"/>
                  </a:cubicBezTo>
                  <a:cubicBezTo>
                    <a:pt x="379" y="136"/>
                    <a:pt x="351" y="171"/>
                    <a:pt x="335" y="187"/>
                  </a:cubicBezTo>
                  <a:cubicBezTo>
                    <a:pt x="327" y="195"/>
                    <a:pt x="320" y="202"/>
                    <a:pt x="312" y="210"/>
                  </a:cubicBezTo>
                  <a:cubicBezTo>
                    <a:pt x="300" y="222"/>
                    <a:pt x="265" y="226"/>
                    <a:pt x="265" y="226"/>
                  </a:cubicBezTo>
                  <a:cubicBezTo>
                    <a:pt x="200" y="291"/>
                    <a:pt x="101" y="317"/>
                    <a:pt x="23" y="366"/>
                  </a:cubicBezTo>
                  <a:cubicBezTo>
                    <a:pt x="16" y="390"/>
                    <a:pt x="0" y="436"/>
                    <a:pt x="0" y="436"/>
                  </a:cubicBezTo>
                  <a:cubicBezTo>
                    <a:pt x="37" y="582"/>
                    <a:pt x="5" y="527"/>
                    <a:pt x="281" y="600"/>
                  </a:cubicBezTo>
                  <a:cubicBezTo>
                    <a:pt x="477" y="652"/>
                    <a:pt x="787" y="627"/>
                    <a:pt x="974" y="631"/>
                  </a:cubicBezTo>
                  <a:cubicBezTo>
                    <a:pt x="1137" y="628"/>
                    <a:pt x="1321" y="637"/>
                    <a:pt x="1488" y="608"/>
                  </a:cubicBezTo>
                  <a:cubicBezTo>
                    <a:pt x="1578" y="635"/>
                    <a:pt x="1566" y="604"/>
                    <a:pt x="1566" y="670"/>
                  </a:cubicBezTo>
                </a:path>
              </a:pathLst>
            </a:custGeom>
            <a:noFill/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623920" y="2116080"/>
              <a:ext cx="33156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Quadratic terms fo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lex conjugate poles/zer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1981080" y="3124080"/>
                <a:ext cx="65041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±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jω</m:t>
                        </m:r>
                        <m:r>
                          <m:t xml:space="preserve">|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ς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ς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76320" y="2133720"/>
                <a:ext cx="222228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52280" y="3124080"/>
                <a:ext cx="2806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228600" y="4114800"/>
                <a:ext cx="16765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∠</m:t>
                        </m:r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981080" y="4241880"/>
                <a:ext cx="4051440" cy="16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±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ς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ς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6357960" y="4325760"/>
            <a:ext cx="257652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splay each basic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parately and ad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ults to obtain fi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s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833440" y="5867280"/>
            <a:ext cx="3231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t’s examine each basic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16440" y="363600"/>
            <a:ext cx="1681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stant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F11.010A_W1089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076640" cy="21337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290160" y="2819520"/>
            <a:ext cx="2669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les/Zeros at the ori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048120" y="2806560"/>
                <a:ext cx="397512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jω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±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|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±</m:t>
                                  </m:r>
                                  <m:r>
                                    <m:t xml:space="preserve">N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|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±</m:t>
                              </m:r>
                              <m:r>
                                <m:t xml:space="preserve">N</m:t>
                              </m:r>
                              <m:r>
                                <m:t xml:space="preserve">×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o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∠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±</m:t>
                                  </m:r>
                                  <m:r>
                                    <m:t xml:space="preserve">N</m:t>
                                  </m:r>
                                </m:sup>
                              </m:sSup>
                              <m:r>
                                <m:t xml:space="preserve">=</m:t>
                              </m:r>
                              <m:r>
                                <m:t xml:space="preserve">±</m:t>
                              </m:r>
                              <m:r>
                                <m:t xml:space="preserve">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</m:t>
                              </m:r>
                              <m:r>
                                <m:t xml:space="preserve">°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37" name=""/>
          <p:cNvGrpSpPr/>
          <p:nvPr/>
        </p:nvGrpSpPr>
        <p:grpSpPr>
          <a:xfrm>
            <a:off x="6248160" y="2057400"/>
            <a:ext cx="2260800" cy="762120"/>
            <a:chOff x="6248160" y="2057400"/>
            <a:chExt cx="2260800" cy="762120"/>
          </a:xfrm>
        </p:grpSpPr>
        <mc:AlternateContent>
          <mc:Choice xmlns:a14="http://schemas.microsoft.com/office/drawing/2010/main" Requires="a14">
            <p:sp>
              <p:nvSpPr>
                <p:cNvPr id="338" name=""/>
                <p:cNvSpPr txBox="1"/>
                <p:nvPr/>
              </p:nvSpPr>
              <p:spPr>
                <a:xfrm>
                  <a:off x="6477120" y="2057400"/>
                  <a:ext cx="203184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he x-axis is 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ω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his is a straight line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39" name=""/>
            <p:cNvSpPr/>
            <p:nvPr/>
          </p:nvSpPr>
          <p:spPr>
            <a:xfrm flipH="1">
              <a:off x="6248160" y="2666880"/>
              <a:ext cx="533160" cy="1526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0" name="F11.010B_W1089" descr=""/>
          <p:cNvPicPr/>
          <p:nvPr/>
        </p:nvPicPr>
        <p:blipFill>
          <a:blip r:embed="rId2"/>
          <a:stretch/>
        </p:blipFill>
        <p:spPr>
          <a:xfrm>
            <a:off x="228600" y="3809880"/>
            <a:ext cx="4143240" cy="2210040"/>
          </a:xfrm>
          <a:prstGeom prst="rect">
            <a:avLst/>
          </a:prstGeom>
          <a:ln w="0">
            <a:noFill/>
          </a:ln>
        </p:spPr>
      </p:pic>
      <p:pic>
        <p:nvPicPr>
          <p:cNvPr id="341" name="F11.010C_W1089" descr=""/>
          <p:cNvPicPr/>
          <p:nvPr/>
        </p:nvPicPr>
        <p:blipFill>
          <a:blip r:embed="rId3"/>
          <a:stretch/>
        </p:blipFill>
        <p:spPr>
          <a:xfrm>
            <a:off x="4962600" y="3809880"/>
            <a:ext cx="4181400" cy="2019600"/>
          </a:xfrm>
          <a:prstGeom prst="rect">
            <a:avLst/>
          </a:prstGeom>
          <a:ln w="0">
            <a:noFill/>
          </a:ln>
        </p:spPr>
      </p:pic>
      <p:pic>
        <p:nvPicPr>
          <p:cNvPr id="342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4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1146600" y="2057400"/>
            <a:ext cx="6067080" cy="1676520"/>
            <a:chOff x="1146600" y="2057400"/>
            <a:chExt cx="6067080" cy="1676520"/>
          </a:xfrm>
        </p:grpSpPr>
        <p:pic>
          <p:nvPicPr>
            <p:cNvPr id="51" name="F11.001A_W1080" descr=""/>
            <p:cNvPicPr/>
            <p:nvPr/>
          </p:nvPicPr>
          <p:blipFill>
            <a:blip r:embed="rId1"/>
            <a:stretch/>
          </p:blipFill>
          <p:spPr>
            <a:xfrm>
              <a:off x="3505320" y="2057400"/>
              <a:ext cx="1743120" cy="1676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5715000" y="2514600"/>
                  <a:ext cx="1498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t xml:space="preserve">R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3" name=""/>
            <p:cNvSpPr/>
            <p:nvPr/>
          </p:nvSpPr>
          <p:spPr>
            <a:xfrm>
              <a:off x="1146600" y="2496960"/>
              <a:ext cx="1003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035440" y="90360"/>
            <a:ext cx="5138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VARIABLE FREQUENCY-RESPONS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7520" y="609480"/>
            <a:ext cx="83419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AC steady state analysis the frequency is assumed constant (e.g., 60Hz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ere we consider the frequency as a variable and examine how the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es with the frequ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" y="1506600"/>
            <a:ext cx="46720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ation in impedance of basic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F11.001B_W1080" descr=""/>
          <p:cNvPicPr/>
          <p:nvPr/>
        </p:nvPicPr>
        <p:blipFill>
          <a:blip r:embed="rId2"/>
          <a:stretch/>
        </p:blipFill>
        <p:spPr>
          <a:xfrm>
            <a:off x="228600" y="3429000"/>
            <a:ext cx="3381480" cy="2600280"/>
          </a:xfrm>
          <a:prstGeom prst="rect">
            <a:avLst/>
          </a:prstGeom>
          <a:ln w="0">
            <a:noFill/>
          </a:ln>
        </p:spPr>
      </p:pic>
      <p:pic>
        <p:nvPicPr>
          <p:cNvPr id="58" name="F11.001C_W1080" descr=""/>
          <p:cNvPicPr/>
          <p:nvPr/>
        </p:nvPicPr>
        <p:blipFill>
          <a:blip r:embed="rId3"/>
          <a:stretch/>
        </p:blipFill>
        <p:spPr>
          <a:xfrm>
            <a:off x="4419720" y="3429000"/>
            <a:ext cx="3390840" cy="2647800"/>
          </a:xfrm>
          <a:prstGeom prst="rect">
            <a:avLst/>
          </a:prstGeom>
          <a:ln w="0">
            <a:noFill/>
          </a:ln>
        </p:spPr>
      </p:pic>
      <p:pic>
        <p:nvPicPr>
          <p:cNvPr id="59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187200" y="196920"/>
            <a:ext cx="2886120" cy="337320"/>
            <a:chOff x="187200" y="196920"/>
            <a:chExt cx="2886120" cy="337320"/>
          </a:xfrm>
        </p:grpSpPr>
        <p:sp>
          <p:nvSpPr>
            <p:cNvPr id="346" name=""/>
            <p:cNvSpPr/>
            <p:nvPr/>
          </p:nvSpPr>
          <p:spPr>
            <a:xfrm>
              <a:off x="187200" y="196920"/>
              <a:ext cx="2113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mple pole or ze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7" name=""/>
                <p:cNvSpPr txBox="1"/>
                <p:nvPr/>
              </p:nvSpPr>
              <p:spPr>
                <a:xfrm>
                  <a:off x="2362320" y="214200"/>
                  <a:ext cx="7110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ωτ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124080" y="39600"/>
                <a:ext cx="30862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|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ωτ</m:t>
                              </m:r>
                              <m:sSub>
                                <m:e>
                                  <m:r>
                                    <m:t xml:space="preserve">|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o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sub>
                              </m:sSub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ωτ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rad>
                            </m:e>
                          </m:mr>
                          <m:mr>
                            <m:e>
                              <m:r>
                                <m:t xml:space="preserve">∠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ωτ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an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ωτ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1219320" y="914400"/>
                <a:ext cx="4089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low frequency asymptot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066680" y="1309680"/>
                <a:ext cx="616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rPr>
                        <m:lit/>
                        <m:nor/>
                      </m:rPr>
                      <m:t xml:space="preserve">  high frequency asymptote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dB/de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609480" y="1682640"/>
                <a:ext cx="627408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e two asymptotes meet when 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rner/break frequenc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431280" y="2039760"/>
            <a:ext cx="458208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havior in the neighborhood of the cor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816120" y="2436840"/>
          <a:ext cx="5851440" cy="133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2436840"/>
                    <a:ext cx="5851440" cy="133668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355" name=""/>
          <p:cNvGrpSpPr/>
          <p:nvPr/>
        </p:nvGrpSpPr>
        <p:grpSpPr>
          <a:xfrm>
            <a:off x="1066680" y="3886200"/>
            <a:ext cx="7193160" cy="2819520"/>
            <a:chOff x="1066680" y="3886200"/>
            <a:chExt cx="7193160" cy="2819520"/>
          </a:xfrm>
        </p:grpSpPr>
        <p:graphicFrame>
          <p:nvGraphicFramePr>
            <p:cNvPr id="356" name=""/>
            <p:cNvGraphicFramePr/>
            <p:nvPr/>
          </p:nvGraphicFramePr>
          <p:xfrm>
            <a:off x="1066680" y="3886200"/>
            <a:ext cx="7193160" cy="2819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66680" y="3886200"/>
                      <a:ext cx="7193160" cy="281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8" name=""/>
            <p:cNvSpPr/>
            <p:nvPr/>
          </p:nvSpPr>
          <p:spPr>
            <a:xfrm>
              <a:off x="1981080" y="5638680"/>
              <a:ext cx="28958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7620120" y="838080"/>
                <a:ext cx="14731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7556400" y="1295280"/>
                <a:ext cx="15876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65160" y="914400"/>
                <a:ext cx="10015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0" y="1371600"/>
                <a:ext cx="10018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1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3" name=""/>
          <p:cNvGrpSpPr/>
          <p:nvPr/>
        </p:nvGrpSpPr>
        <p:grpSpPr>
          <a:xfrm>
            <a:off x="2169720" y="4707000"/>
            <a:ext cx="2291400" cy="779400"/>
            <a:chOff x="2169720" y="4707000"/>
            <a:chExt cx="2291400" cy="779400"/>
          </a:xfrm>
        </p:grpSpPr>
        <p:sp>
          <p:nvSpPr>
            <p:cNvPr id="364" name=""/>
            <p:cNvSpPr/>
            <p:nvPr/>
          </p:nvSpPr>
          <p:spPr>
            <a:xfrm>
              <a:off x="2286000" y="5105520"/>
              <a:ext cx="1295280" cy="380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69720" y="4707000"/>
              <a:ext cx="22914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ymptote for ph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282640" y="5181480"/>
            <a:ext cx="2329560" cy="737640"/>
            <a:chOff x="5282640" y="5181480"/>
            <a:chExt cx="2329560" cy="737640"/>
          </a:xfrm>
        </p:grpSpPr>
        <p:sp>
          <p:nvSpPr>
            <p:cNvPr id="367" name=""/>
            <p:cNvSpPr/>
            <p:nvPr/>
          </p:nvSpPr>
          <p:spPr>
            <a:xfrm>
              <a:off x="5282640" y="5581800"/>
              <a:ext cx="23295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igh freq. asympto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34120" y="5181480"/>
              <a:ext cx="1447560" cy="3812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3165840" y="5734080"/>
            <a:ext cx="178992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freq. Asy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7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"/>
          <p:cNvGrpSpPr/>
          <p:nvPr/>
        </p:nvGrpSpPr>
        <p:grpSpPr>
          <a:xfrm>
            <a:off x="304920" y="228600"/>
            <a:ext cx="7192800" cy="3200040"/>
            <a:chOff x="304920" y="228600"/>
            <a:chExt cx="7192800" cy="3200040"/>
          </a:xfrm>
        </p:grpSpPr>
        <p:graphicFrame>
          <p:nvGraphicFramePr>
            <p:cNvPr id="374" name=""/>
            <p:cNvGraphicFramePr/>
            <p:nvPr/>
          </p:nvGraphicFramePr>
          <p:xfrm>
            <a:off x="304920" y="228600"/>
            <a:ext cx="7192800" cy="3200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28600"/>
                      <a:ext cx="7192800" cy="32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6" name=""/>
            <p:cNvSpPr/>
            <p:nvPr/>
          </p:nvSpPr>
          <p:spPr>
            <a:xfrm>
              <a:off x="1218960" y="2217600"/>
              <a:ext cx="2895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7" name="F11.011A_W1090" descr=""/>
          <p:cNvPicPr/>
          <p:nvPr/>
        </p:nvPicPr>
        <p:blipFill>
          <a:blip r:embed="rId3"/>
          <a:stretch/>
        </p:blipFill>
        <p:spPr>
          <a:xfrm>
            <a:off x="304920" y="3429000"/>
            <a:ext cx="7238880" cy="3429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7632720" y="1049400"/>
            <a:ext cx="1354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550640" y="4402080"/>
            <a:ext cx="1354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p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84320" y="58680"/>
            <a:ext cx="2440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Quadratic pole or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2666880" y="46080"/>
                <a:ext cx="2502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5156280" y="50760"/>
                <a:ext cx="2158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6" name=""/>
          <p:cNvGrpSpPr/>
          <p:nvPr/>
        </p:nvGrpSpPr>
        <p:grpSpPr>
          <a:xfrm>
            <a:off x="177840" y="380880"/>
            <a:ext cx="8077320" cy="609840"/>
            <a:chOff x="177840" y="380880"/>
            <a:chExt cx="8077320" cy="609840"/>
          </a:xfrm>
        </p:grpSpPr>
        <mc:AlternateContent>
          <mc:Choice xmlns:a14="http://schemas.microsoft.com/office/drawing/2010/main" Requires="a14">
            <p:sp>
              <p:nvSpPr>
                <p:cNvPr id="387" name=""/>
                <p:cNvSpPr txBox="1"/>
                <p:nvPr/>
              </p:nvSpPr>
              <p:spPr>
                <a:xfrm>
                  <a:off x="177840" y="433440"/>
                  <a:ext cx="361944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ωτ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ςωτ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8" name=""/>
                <p:cNvSpPr txBox="1"/>
                <p:nvPr/>
              </p:nvSpPr>
              <p:spPr>
                <a:xfrm>
                  <a:off x="6324480" y="380880"/>
                  <a:ext cx="19306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f>
                        <m:num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ςωτ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ωτ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228600" y="928800"/>
                <a:ext cx="736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990720" y="928800"/>
                <a:ext cx="3517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low frequency asymptot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6324480" y="990720"/>
                <a:ext cx="811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228600" y="1333440"/>
                <a:ext cx="7365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1047600" y="1295280"/>
                <a:ext cx="41022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high fre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asymptot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6324480" y="1371600"/>
                <a:ext cx="1016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28600" y="1676520"/>
                <a:ext cx="609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990720" y="1676520"/>
                <a:ext cx="1854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6324480" y="1690560"/>
                <a:ext cx="914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2925000" y="1658880"/>
            <a:ext cx="2617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rner/break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0760" y="2057400"/>
                <a:ext cx="13208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1422360" y="2057400"/>
                <a:ext cx="23875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2</m:t>
                    </m:r>
                    <m:r>
                      <m:t xml:space="preserve">ς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6324480" y="2057400"/>
                <a:ext cx="1905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8305920" y="2084400"/>
                <a:ext cx="6858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ς</m:t>
                    </m:r>
                    <m:r>
                      <m:t xml:space="preserve">≤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3870360" y="2101680"/>
            <a:ext cx="2347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ce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0" y="2971800"/>
            <a:ext cx="5429160" cy="3734640"/>
            <a:chOff x="0" y="2971800"/>
            <a:chExt cx="5429160" cy="3734640"/>
          </a:xfrm>
        </p:grpSpPr>
        <mc:AlternateContent>
          <mc:Choice xmlns:a14="http://schemas.microsoft.com/office/drawing/2010/main" Requires="a14">
            <p:sp>
              <p:nvSpPr>
                <p:cNvPr id="405" name=""/>
                <p:cNvSpPr txBox="1"/>
                <p:nvPr/>
              </p:nvSpPr>
              <p:spPr>
                <a:xfrm>
                  <a:off x="4502160" y="3282840"/>
                  <a:ext cx="139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pic>
          <p:nvPicPr>
            <p:cNvPr id="406" name="F11.012A_W1091" descr=""/>
            <p:cNvPicPr/>
            <p:nvPr/>
          </p:nvPicPr>
          <p:blipFill>
            <a:blip r:embed="rId1"/>
            <a:stretch/>
          </p:blipFill>
          <p:spPr>
            <a:xfrm>
              <a:off x="0" y="2971800"/>
              <a:ext cx="5429160" cy="36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1182960" y="6369120"/>
              <a:ext cx="3153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gnitude for quadratic po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4229280" y="2981160"/>
            <a:ext cx="4914720" cy="3756960"/>
            <a:chOff x="4229280" y="2981160"/>
            <a:chExt cx="4914720" cy="3756960"/>
          </a:xfrm>
        </p:grpSpPr>
        <p:pic>
          <p:nvPicPr>
            <p:cNvPr id="409" name="F11.012B_W1091" descr=""/>
            <p:cNvPicPr/>
            <p:nvPr/>
          </p:nvPicPr>
          <p:blipFill>
            <a:blip r:embed="rId2"/>
            <a:stretch/>
          </p:blipFill>
          <p:spPr>
            <a:xfrm>
              <a:off x="4229280" y="2981160"/>
              <a:ext cx="4914720" cy="372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5681520" y="6400800"/>
              <a:ext cx="2652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for quadratic po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5257800" y="1335240"/>
                <a:ext cx="977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dB/de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1975680" y="2649600"/>
            <a:ext cx="38397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graphs are inverted for a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1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45920" y="58680"/>
            <a:ext cx="3940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te magnitude and phase pl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2514600" y="380880"/>
                <a:ext cx="2832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9" name=""/>
          <p:cNvSpPr/>
          <p:nvPr/>
        </p:nvSpPr>
        <p:spPr>
          <a:xfrm>
            <a:off x="237960" y="457200"/>
            <a:ext cx="1959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asympto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each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5943600" y="533520"/>
                <a:ext cx="25020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eaks/corners:  1,10,5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21" name=""/>
          <p:cNvGraphicFramePr/>
          <p:nvPr/>
        </p:nvGraphicFramePr>
        <p:xfrm>
          <a:off x="239760" y="1471680"/>
          <a:ext cx="8666280" cy="44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1471680"/>
                    <a:ext cx="8666280" cy="44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>
            <a:off x="3656160" y="382680"/>
            <a:ext cx="380880" cy="3045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914400" y="2209680"/>
            <a:ext cx="7823160" cy="290520"/>
            <a:chOff x="914400" y="2209680"/>
            <a:chExt cx="7823160" cy="290520"/>
          </a:xfrm>
        </p:grpSpPr>
        <p:sp>
          <p:nvSpPr>
            <p:cNvPr id="425" name=""/>
            <p:cNvSpPr/>
            <p:nvPr/>
          </p:nvSpPr>
          <p:spPr>
            <a:xfrm>
              <a:off x="914400" y="2362320"/>
              <a:ext cx="73152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6" name=""/>
                <p:cNvSpPr txBox="1"/>
                <p:nvPr/>
              </p:nvSpPr>
              <p:spPr>
                <a:xfrm>
                  <a:off x="8229600" y="2209680"/>
                  <a:ext cx="507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</m:t>
                      </m:r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27" name=""/>
          <p:cNvSpPr/>
          <p:nvPr/>
        </p:nvSpPr>
        <p:spPr>
          <a:xfrm flipH="1">
            <a:off x="990720" y="4648320"/>
            <a:ext cx="72388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429000" y="685800"/>
            <a:ext cx="76212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14400" y="281952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743200" y="2819520"/>
            <a:ext cx="3124080" cy="7617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2577960" y="3048120"/>
                <a:ext cx="115596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1447920" y="5029200"/>
                <a:ext cx="977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f>
                      <m:fPr>
                        <m:type m:val="lin"/>
                      </m:fPr>
                      <m:num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3" name=""/>
          <p:cNvSpPr/>
          <p:nvPr/>
        </p:nvSpPr>
        <p:spPr>
          <a:xfrm>
            <a:off x="914400" y="4648320"/>
            <a:ext cx="3657600" cy="9144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572000" y="5562720"/>
            <a:ext cx="35812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038480" y="380880"/>
            <a:ext cx="99072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14400" y="2819520"/>
            <a:ext cx="36576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4572000" y="2133360"/>
            <a:ext cx="259092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4267080" y="2438280"/>
                <a:ext cx="990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9" name=""/>
          <p:cNvSpPr/>
          <p:nvPr/>
        </p:nvSpPr>
        <p:spPr>
          <a:xfrm flipV="1">
            <a:off x="2743200" y="3733920"/>
            <a:ext cx="3657600" cy="9144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400800" y="3733920"/>
            <a:ext cx="17524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3505320" y="3962520"/>
                <a:ext cx="811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f>
                      <m:fPr>
                        <m:type m:val="lin"/>
                      </m:fPr>
                      <m:num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4191120" y="685800"/>
            <a:ext cx="121896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91320" y="1905120"/>
            <a:ext cx="0" cy="3809880"/>
          </a:xfrm>
          <a:prstGeom prst="line">
            <a:avLst/>
          </a:prstGeom>
          <a:ln cap="rnd" w="507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914400" y="2819520"/>
            <a:ext cx="48769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91320" y="2819520"/>
            <a:ext cx="19810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114800" y="4648320"/>
            <a:ext cx="3505320" cy="9144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3640" y="1049400"/>
            <a:ext cx="1924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compo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12960" y="2357280"/>
            <a:ext cx="182880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743200" y="2362320"/>
            <a:ext cx="1828800" cy="4572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0" y="2819520"/>
            <a:ext cx="12193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791320" y="2819520"/>
            <a:ext cx="1981080" cy="4572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12960" y="4643280"/>
            <a:ext cx="1828800" cy="4572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743200" y="5105520"/>
            <a:ext cx="144792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5105520"/>
            <a:ext cx="457200" cy="15228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0" y="525780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00800" y="5257800"/>
            <a:ext cx="1219320" cy="30492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620120" y="556272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5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F11.013B_W1092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6553440" cy="48765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6629400" y="167652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00280" y="1654200"/>
            <a:ext cx="1369440" cy="337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ympto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545920" y="58680"/>
            <a:ext cx="3940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te magnitude and phase pl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3276720" y="380880"/>
                <a:ext cx="2527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6172200" y="533520"/>
                <a:ext cx="22860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eak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rner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: 1, 1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71" name=""/>
          <p:cNvGraphicFramePr/>
          <p:nvPr/>
        </p:nvGraphicFramePr>
        <p:xfrm>
          <a:off x="838080" y="1214280"/>
          <a:ext cx="7543800" cy="478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4280"/>
                    <a:ext cx="7543800" cy="47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"/>
          <p:cNvSpPr/>
          <p:nvPr/>
        </p:nvSpPr>
        <p:spPr>
          <a:xfrm>
            <a:off x="180000" y="457200"/>
            <a:ext cx="2838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asymptotes for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19720" y="380880"/>
            <a:ext cx="380880" cy="30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1523880" y="1828800"/>
            <a:ext cx="6564600" cy="228600"/>
            <a:chOff x="1523880" y="1828800"/>
            <a:chExt cx="6564600" cy="228600"/>
          </a:xfrm>
        </p:grpSpPr>
        <p:sp>
          <p:nvSpPr>
            <p:cNvPr id="476" name=""/>
            <p:cNvSpPr/>
            <p:nvPr/>
          </p:nvSpPr>
          <p:spPr>
            <a:xfrm>
              <a:off x="1523880" y="1981080"/>
              <a:ext cx="601992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7" name=""/>
                <p:cNvSpPr txBox="1"/>
                <p:nvPr/>
              </p:nvSpPr>
              <p:spPr>
                <a:xfrm>
                  <a:off x="7543800" y="1828800"/>
                  <a:ext cx="5446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8</m:t>
                      </m:r>
                      <m:r>
                        <m:rPr>
                          <m:lit/>
                          <m:nor/>
                        </m:rPr>
                        <m:t xml:space="preserve">d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78" name=""/>
          <p:cNvSpPr/>
          <p:nvPr/>
        </p:nvSpPr>
        <p:spPr>
          <a:xfrm>
            <a:off x="4800600" y="380880"/>
            <a:ext cx="685800" cy="30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523880" y="2666880"/>
            <a:ext cx="1981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500280" y="1827360"/>
            <a:ext cx="3276720" cy="838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1523880" y="3657600"/>
            <a:ext cx="3962520" cy="4572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685800"/>
            <a:ext cx="60948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523880" y="1676520"/>
            <a:ext cx="3886200" cy="19047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4267080" y="2819520"/>
                <a:ext cx="1155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85" name=""/>
          <p:cNvGrpSpPr/>
          <p:nvPr/>
        </p:nvGrpSpPr>
        <p:grpSpPr>
          <a:xfrm>
            <a:off x="1523880" y="4952880"/>
            <a:ext cx="6640560" cy="228600"/>
            <a:chOff x="1523880" y="4952880"/>
            <a:chExt cx="6640560" cy="228600"/>
          </a:xfrm>
        </p:grpSpPr>
        <p:sp>
          <p:nvSpPr>
            <p:cNvPr id="486" name=""/>
            <p:cNvSpPr/>
            <p:nvPr/>
          </p:nvSpPr>
          <p:spPr>
            <a:xfrm>
              <a:off x="1523880" y="5105520"/>
              <a:ext cx="5943600" cy="0"/>
            </a:xfrm>
            <a:prstGeom prst="line">
              <a:avLst/>
            </a:prstGeom>
            <a:ln w="507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7" name=""/>
                <p:cNvSpPr txBox="1"/>
                <p:nvPr/>
              </p:nvSpPr>
              <p:spPr>
                <a:xfrm>
                  <a:off x="7543800" y="4952880"/>
                  <a:ext cx="6206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8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2209680" y="3657600"/>
                <a:ext cx="811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f>
                      <m:fPr>
                        <m:type m:val="lin"/>
                      </m:fPr>
                      <m:num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9" name=""/>
          <p:cNvSpPr/>
          <p:nvPr/>
        </p:nvSpPr>
        <p:spPr>
          <a:xfrm>
            <a:off x="4800600" y="685800"/>
            <a:ext cx="99072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600200" y="2666880"/>
            <a:ext cx="3886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86400" y="2666880"/>
            <a:ext cx="19810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3505320" y="4114800"/>
            <a:ext cx="4572000" cy="533520"/>
            <a:chOff x="3505320" y="4114800"/>
            <a:chExt cx="4572000" cy="533520"/>
          </a:xfrm>
        </p:grpSpPr>
        <p:sp>
          <p:nvSpPr>
            <p:cNvPr id="493" name=""/>
            <p:cNvSpPr/>
            <p:nvPr/>
          </p:nvSpPr>
          <p:spPr>
            <a:xfrm>
              <a:off x="3505320" y="4114800"/>
              <a:ext cx="3962160" cy="533520"/>
            </a:xfrm>
            <a:prstGeom prst="line">
              <a:avLst/>
            </a:prstGeom>
            <a:ln w="507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4" name=""/>
                <p:cNvSpPr txBox="1"/>
                <p:nvPr/>
              </p:nvSpPr>
              <p:spPr>
                <a:xfrm>
                  <a:off x="7545240" y="4267080"/>
                  <a:ext cx="5320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5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95" name=""/>
          <p:cNvSpPr/>
          <p:nvPr/>
        </p:nvSpPr>
        <p:spPr>
          <a:xfrm>
            <a:off x="5486400" y="3657600"/>
            <a:ext cx="19810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2057400" y="4114800"/>
            <a:ext cx="144792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00200" y="4114800"/>
            <a:ext cx="58672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46600" y="820800"/>
            <a:ext cx="1915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m compo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2666520" y="1447560"/>
            <a:ext cx="838440" cy="53316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500280" y="1982880"/>
            <a:ext cx="1981440" cy="45720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86400" y="2438280"/>
            <a:ext cx="1828800" cy="99072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1600200" y="4876560"/>
            <a:ext cx="1905120" cy="22860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505320" y="4876920"/>
            <a:ext cx="2057400" cy="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562720" y="4876920"/>
            <a:ext cx="1904760" cy="22860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F11.014B_W1093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315200" cy="5503680"/>
          </a:xfrm>
          <a:prstGeom prst="rect">
            <a:avLst/>
          </a:prstGeom>
          <a:ln w="0">
            <a:noFill/>
          </a:ln>
        </p:spPr>
      </p:pic>
      <p:grpSp>
        <p:nvGrpSpPr>
          <p:cNvPr id="509" name=""/>
          <p:cNvGrpSpPr/>
          <p:nvPr/>
        </p:nvGrpSpPr>
        <p:grpSpPr>
          <a:xfrm>
            <a:off x="1828800" y="1143000"/>
            <a:ext cx="3962520" cy="2514600"/>
            <a:chOff x="1828800" y="1143000"/>
            <a:chExt cx="3962520" cy="2514600"/>
          </a:xfrm>
        </p:grpSpPr>
        <p:sp>
          <p:nvSpPr>
            <p:cNvPr id="510" name=""/>
            <p:cNvSpPr/>
            <p:nvPr/>
          </p:nvSpPr>
          <p:spPr>
            <a:xfrm>
              <a:off x="1828800" y="2819520"/>
              <a:ext cx="3962520" cy="0"/>
            </a:xfrm>
            <a:prstGeom prst="line">
              <a:avLst/>
            </a:prstGeom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029200" y="1143000"/>
              <a:ext cx="0" cy="1752480"/>
            </a:xfrm>
            <a:prstGeom prst="line">
              <a:avLst/>
            </a:prstGeom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2" name=""/>
                <p:cNvSpPr txBox="1"/>
                <p:nvPr/>
              </p:nvSpPr>
              <p:spPr>
                <a:xfrm>
                  <a:off x="2565360" y="2971800"/>
                  <a:ext cx="246384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(</m:t>
                                  </m:r>
                                  <m:r>
                                    <m:t xml:space="preserve">jω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d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⇔</m:t>
                      </m:r>
                      <m:r>
                        <m:t xml:space="preserve">ω</m:t>
                      </m:r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13" name=""/>
          <p:cNvSpPr/>
          <p:nvPr/>
        </p:nvSpPr>
        <p:spPr>
          <a:xfrm>
            <a:off x="551880" y="135000"/>
            <a:ext cx="5793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al results . . . And an extra hint on poles at the ori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2362320" y="1752480"/>
                <a:ext cx="8110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5132520" y="1879560"/>
                <a:ext cx="811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6477120" y="2590920"/>
                <a:ext cx="811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17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986920" y="58680"/>
            <a:ext cx="3870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ketch the magnitude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1905120" y="457200"/>
                <a:ext cx="2717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5029200" y="457200"/>
                <a:ext cx="4038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reaks: 2, 10, 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ut the function is NOT in standard for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4" name=""/>
          <p:cNvSpPr/>
          <p:nvPr/>
        </p:nvSpPr>
        <p:spPr>
          <a:xfrm>
            <a:off x="244080" y="1201680"/>
            <a:ext cx="2291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ut in standard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2590920" y="1143000"/>
                <a:ext cx="3111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6" name=""/>
          <p:cNvSpPr/>
          <p:nvPr/>
        </p:nvSpPr>
        <p:spPr>
          <a:xfrm>
            <a:off x="6042600" y="1125360"/>
            <a:ext cx="26067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need to show abou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 dec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477720" y="2058840"/>
          <a:ext cx="866628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2058840"/>
                    <a:ext cx="866628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9" name=""/>
          <p:cNvGrpSpPr/>
          <p:nvPr/>
        </p:nvGrpSpPr>
        <p:grpSpPr>
          <a:xfrm>
            <a:off x="1141560" y="2666880"/>
            <a:ext cx="7848360" cy="290520"/>
            <a:chOff x="1141560" y="2666880"/>
            <a:chExt cx="7848360" cy="290520"/>
          </a:xfrm>
        </p:grpSpPr>
        <p:sp>
          <p:nvSpPr>
            <p:cNvPr id="530" name=""/>
            <p:cNvSpPr/>
            <p:nvPr/>
          </p:nvSpPr>
          <p:spPr>
            <a:xfrm>
              <a:off x="1141560" y="2814480"/>
              <a:ext cx="73152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1" name=""/>
                <p:cNvSpPr txBox="1"/>
                <p:nvPr/>
              </p:nvSpPr>
              <p:spPr>
                <a:xfrm>
                  <a:off x="8458200" y="2666880"/>
                  <a:ext cx="5317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5</m:t>
                      </m:r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32" name=""/>
          <p:cNvSpPr/>
          <p:nvPr/>
        </p:nvSpPr>
        <p:spPr>
          <a:xfrm>
            <a:off x="3886200" y="1066680"/>
            <a:ext cx="380880" cy="3812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1143000" y="5257800"/>
            <a:ext cx="73152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267080" y="1066680"/>
            <a:ext cx="1067040" cy="3812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752480" y="2438280"/>
            <a:ext cx="0" cy="3733920"/>
          </a:xfrm>
          <a:prstGeom prst="line">
            <a:avLst/>
          </a:prstGeom>
          <a:ln cap="rnd" w="507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505320" y="2438280"/>
            <a:ext cx="0" cy="3733920"/>
          </a:xfrm>
          <a:prstGeom prst="line">
            <a:avLst/>
          </a:prstGeom>
          <a:ln cap="rnd" w="507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1066320" y="342900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066680" y="4343400"/>
            <a:ext cx="2438640" cy="60948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505320" y="4343400"/>
            <a:ext cx="49528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429000" y="1447920"/>
            <a:ext cx="106668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1143000" y="3429000"/>
            <a:ext cx="17524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895480" y="3429000"/>
            <a:ext cx="259092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43000" y="5257800"/>
            <a:ext cx="3657600" cy="83808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800600" y="6095880"/>
            <a:ext cx="36576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495680" y="1447920"/>
            <a:ext cx="121932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143000" y="3429000"/>
            <a:ext cx="36576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800600" y="3429000"/>
            <a:ext cx="228600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895480" y="5257800"/>
            <a:ext cx="3733920" cy="83808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1752480" y="2666520"/>
            <a:ext cx="2514600" cy="762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141560" y="2814480"/>
            <a:ext cx="6094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752480" y="2362320"/>
            <a:ext cx="1752840" cy="4572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971800" y="2514600"/>
            <a:ext cx="182880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800600" y="2514600"/>
            <a:ext cx="3733920" cy="9144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141560" y="495288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505320" y="5105520"/>
            <a:ext cx="1904760" cy="9144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971800" y="4952880"/>
            <a:ext cx="1752480" cy="4572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800600" y="5715000"/>
            <a:ext cx="1752480" cy="38088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629400" y="609588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986920" y="58680"/>
            <a:ext cx="3870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ketch the magnitude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2895480" y="380880"/>
                <a:ext cx="22734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6591240" y="304920"/>
                <a:ext cx="24764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t is in standard for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reak at 5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ouble pole at the origi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566" name=""/>
          <p:cNvGraphicFramePr/>
          <p:nvPr/>
        </p:nvGraphicFramePr>
        <p:xfrm>
          <a:off x="1077840" y="1216080"/>
          <a:ext cx="6989760" cy="44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1216080"/>
                    <a:ext cx="6989760" cy="44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8" name=""/>
          <p:cNvSpPr/>
          <p:nvPr/>
        </p:nvSpPr>
        <p:spPr>
          <a:xfrm>
            <a:off x="3673440" y="322200"/>
            <a:ext cx="1163520" cy="854280"/>
          </a:xfrm>
          <a:custGeom>
            <a:avLst/>
            <a:gdLst/>
            <a:ahLst/>
            <a:rect l="l" t="t" r="r" b="b"/>
            <a:pathLst>
              <a:path w="733" h="538">
                <a:moveTo>
                  <a:pt x="0" y="7"/>
                </a:moveTo>
                <a:cubicBezTo>
                  <a:pt x="11" y="93"/>
                  <a:pt x="7" y="188"/>
                  <a:pt x="32" y="272"/>
                </a:cubicBezTo>
                <a:cubicBezTo>
                  <a:pt x="40" y="299"/>
                  <a:pt x="54" y="324"/>
                  <a:pt x="63" y="350"/>
                </a:cubicBezTo>
                <a:cubicBezTo>
                  <a:pt x="72" y="376"/>
                  <a:pt x="103" y="455"/>
                  <a:pt x="117" y="459"/>
                </a:cubicBezTo>
                <a:cubicBezTo>
                  <a:pt x="152" y="468"/>
                  <a:pt x="190" y="464"/>
                  <a:pt x="226" y="467"/>
                </a:cubicBezTo>
                <a:cubicBezTo>
                  <a:pt x="358" y="464"/>
                  <a:pt x="581" y="538"/>
                  <a:pt x="694" y="420"/>
                </a:cubicBezTo>
                <a:cubicBezTo>
                  <a:pt x="720" y="351"/>
                  <a:pt x="733" y="342"/>
                  <a:pt x="710" y="257"/>
                </a:cubicBezTo>
                <a:cubicBezTo>
                  <a:pt x="705" y="238"/>
                  <a:pt x="646" y="229"/>
                  <a:pt x="632" y="226"/>
                </a:cubicBezTo>
                <a:cubicBezTo>
                  <a:pt x="534" y="177"/>
                  <a:pt x="382" y="187"/>
                  <a:pt x="281" y="179"/>
                </a:cubicBezTo>
                <a:cubicBezTo>
                  <a:pt x="279" y="158"/>
                  <a:pt x="286" y="35"/>
                  <a:pt x="242" y="23"/>
                </a:cubicBezTo>
                <a:cubicBezTo>
                  <a:pt x="196" y="10"/>
                  <a:pt x="102" y="0"/>
                  <a:pt x="102" y="0"/>
                </a:cubicBezTo>
                <a:cubicBezTo>
                  <a:pt x="65" y="5"/>
                  <a:pt x="34" y="18"/>
                  <a:pt x="0" y="7"/>
                </a:cubicBezTo>
                <a:close/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1754280" y="2133360"/>
            <a:ext cx="2361960" cy="1904760"/>
            <a:chOff x="1754280" y="2133360"/>
            <a:chExt cx="2361960" cy="1904760"/>
          </a:xfrm>
        </p:grpSpPr>
        <p:sp>
          <p:nvSpPr>
            <p:cNvPr id="570" name=""/>
            <p:cNvSpPr/>
            <p:nvPr/>
          </p:nvSpPr>
          <p:spPr>
            <a:xfrm>
              <a:off x="1754280" y="2585880"/>
              <a:ext cx="2361960" cy="0"/>
            </a:xfrm>
            <a:prstGeom prst="line">
              <a:avLst/>
            </a:prstGeom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3581280" y="2133360"/>
              <a:ext cx="0" cy="1904760"/>
            </a:xfrm>
            <a:prstGeom prst="line">
              <a:avLst/>
            </a:prstGeom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1754280" y="1598760"/>
            <a:ext cx="3962160" cy="2057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1599840" y="4800600"/>
            <a:ext cx="56386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114800" y="380880"/>
            <a:ext cx="114300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048120" y="2590920"/>
            <a:ext cx="2286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4800600" y="1523880"/>
            <a:ext cx="1905120" cy="3276720"/>
            <a:chOff x="4800600" y="1523880"/>
            <a:chExt cx="1905120" cy="3276720"/>
          </a:xfrm>
        </p:grpSpPr>
        <p:sp>
          <p:nvSpPr>
            <p:cNvPr id="577" name=""/>
            <p:cNvSpPr/>
            <p:nvPr/>
          </p:nvSpPr>
          <p:spPr>
            <a:xfrm>
              <a:off x="4800600" y="1600200"/>
              <a:ext cx="0" cy="320040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705720" y="1523880"/>
              <a:ext cx="0" cy="114300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 flipV="1">
            <a:off x="4800600" y="1904760"/>
            <a:ext cx="243828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4800240" y="3657600"/>
            <a:ext cx="2438280" cy="0"/>
          </a:xfrm>
          <a:prstGeom prst="line">
            <a:avLst/>
          </a:prstGeom>
          <a:ln cap="rnd" w="507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048120" y="3429000"/>
            <a:ext cx="3657600" cy="4572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708600" y="3427560"/>
            <a:ext cx="53352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1752120" y="3886200"/>
            <a:ext cx="129564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828800" y="1600200"/>
            <a:ext cx="2971800" cy="16002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800600" y="3200400"/>
            <a:ext cx="2438280" cy="6094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754280" y="4799160"/>
            <a:ext cx="137160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3048120" y="4343400"/>
            <a:ext cx="3581280" cy="4572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705720" y="434340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53840" y="5773680"/>
            <a:ext cx="5197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ce each term is drawn we form the compo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9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91800" y="439560"/>
            <a:ext cx="2291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ut in standard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139680" y="838080"/>
                <a:ext cx="2679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5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986920" y="58680"/>
            <a:ext cx="3870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ketch the magnitude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2895480" y="457200"/>
                <a:ext cx="2476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6477120" y="457200"/>
                <a:ext cx="20574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 in standard for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ero at the origi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reaks: 1, 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599" name=""/>
          <p:cNvGraphicFramePr/>
          <p:nvPr/>
        </p:nvGraphicFramePr>
        <p:xfrm>
          <a:off x="990720" y="1447920"/>
          <a:ext cx="6989760" cy="46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447920"/>
                    <a:ext cx="698976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1" name=""/>
          <p:cNvSpPr/>
          <p:nvPr/>
        </p:nvSpPr>
        <p:spPr>
          <a:xfrm>
            <a:off x="1600200" y="762120"/>
            <a:ext cx="68580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00200" y="3733920"/>
            <a:ext cx="54864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990720" y="1143000"/>
            <a:ext cx="76176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676520" y="2743200"/>
            <a:ext cx="17524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29000" y="2743200"/>
            <a:ext cx="25146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598760" y="4113360"/>
            <a:ext cx="3657600" cy="4572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257800" y="4572000"/>
            <a:ext cx="18288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828800" y="1143000"/>
            <a:ext cx="91440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1600200" y="2133360"/>
            <a:ext cx="4419720" cy="10666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752480" y="2743200"/>
            <a:ext cx="35053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257800" y="2743200"/>
            <a:ext cx="198108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429000" y="4114800"/>
            <a:ext cx="3733920" cy="4572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361960" y="4114800"/>
            <a:ext cx="10666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53840" y="5773680"/>
            <a:ext cx="5197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ce each term is drawn we form the compo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1676520" y="2743200"/>
            <a:ext cx="1752480" cy="4572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2438280" y="3048120"/>
                <a:ext cx="990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7" name=""/>
          <p:cNvSpPr/>
          <p:nvPr/>
        </p:nvSpPr>
        <p:spPr>
          <a:xfrm>
            <a:off x="3429000" y="2743200"/>
            <a:ext cx="19051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334120" y="2743200"/>
            <a:ext cx="1828800" cy="53352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6311880" y="2819520"/>
                <a:ext cx="1155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0" name=""/>
          <p:cNvSpPr/>
          <p:nvPr/>
        </p:nvSpPr>
        <p:spPr>
          <a:xfrm>
            <a:off x="1600200" y="3733920"/>
            <a:ext cx="1828800" cy="2286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427560" y="3957480"/>
            <a:ext cx="1904760" cy="38124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334120" y="4343400"/>
            <a:ext cx="1752480" cy="2286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1204920" y="533520"/>
            <a:ext cx="6472080" cy="1780920"/>
            <a:chOff x="1204920" y="533520"/>
            <a:chExt cx="6472080" cy="1780920"/>
          </a:xfrm>
        </p:grpSpPr>
        <p:pic>
          <p:nvPicPr>
            <p:cNvPr id="63" name="F11.002A_W1081" descr=""/>
            <p:cNvPicPr/>
            <p:nvPr/>
          </p:nvPicPr>
          <p:blipFill>
            <a:blip r:embed="rId1"/>
            <a:stretch/>
          </p:blipFill>
          <p:spPr>
            <a:xfrm>
              <a:off x="3657600" y="533520"/>
              <a:ext cx="1724040" cy="17809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5734080" y="914400"/>
                  <a:ext cx="19429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jωL</m:t>
                      </m:r>
                      <m:r>
                        <m:t xml:space="preserve">=</m:t>
                      </m:r>
                      <m:r>
                        <m:t xml:space="preserve">ωL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" name=""/>
            <p:cNvSpPr/>
            <p:nvPr/>
          </p:nvSpPr>
          <p:spPr>
            <a:xfrm>
              <a:off x="1204920" y="973080"/>
              <a:ext cx="1061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F11.002B_W1081" descr=""/>
          <p:cNvPicPr/>
          <p:nvPr/>
        </p:nvPicPr>
        <p:blipFill>
          <a:blip r:embed="rId2"/>
          <a:stretch/>
        </p:blipFill>
        <p:spPr>
          <a:xfrm>
            <a:off x="304920" y="342900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F11.002C_W1081" descr=""/>
          <p:cNvPicPr/>
          <p:nvPr/>
        </p:nvPicPr>
        <p:blipFill>
          <a:blip r:embed="rId3"/>
          <a:stretch/>
        </p:blipFill>
        <p:spPr>
          <a:xfrm>
            <a:off x="4800600" y="3429000"/>
            <a:ext cx="3448080" cy="2705040"/>
          </a:xfrm>
          <a:prstGeom prst="rect">
            <a:avLst/>
          </a:prstGeom>
          <a:ln w="0">
            <a:noFill/>
          </a:ln>
        </p:spPr>
      </p:pic>
      <p:pic>
        <p:nvPicPr>
          <p:cNvPr id="68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107640" y="54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36480" y="58680"/>
            <a:ext cx="4307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function with complex conjugate p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971800" y="380880"/>
                <a:ext cx="3606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9" name=""/>
          <p:cNvSpPr/>
          <p:nvPr/>
        </p:nvSpPr>
        <p:spPr>
          <a:xfrm>
            <a:off x="396360" y="973080"/>
            <a:ext cx="2291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ut in standard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2806560" y="1066680"/>
                <a:ext cx="4127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631" name=""/>
          <p:cNvGraphicFramePr/>
          <p:nvPr/>
        </p:nvGraphicFramePr>
        <p:xfrm>
          <a:off x="174600" y="1830240"/>
          <a:ext cx="8740800" cy="44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1830240"/>
                    <a:ext cx="8740800" cy="44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"/>
          <p:cNvSpPr/>
          <p:nvPr/>
        </p:nvSpPr>
        <p:spPr>
          <a:xfrm>
            <a:off x="4952880" y="1068480"/>
            <a:ext cx="685800" cy="304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5105520" y="2209680"/>
            <a:ext cx="1828800" cy="3808440"/>
            <a:chOff x="5105520" y="2209680"/>
            <a:chExt cx="1828800" cy="3808440"/>
          </a:xfrm>
        </p:grpSpPr>
        <p:sp>
          <p:nvSpPr>
            <p:cNvPr id="635" name=""/>
            <p:cNvSpPr/>
            <p:nvPr/>
          </p:nvSpPr>
          <p:spPr>
            <a:xfrm>
              <a:off x="5105520" y="2284560"/>
              <a:ext cx="0" cy="373356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934320" y="2209680"/>
              <a:ext cx="0" cy="373392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 flipH="1">
            <a:off x="3123720" y="2666880"/>
            <a:ext cx="3886200" cy="10670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838080" y="4114800"/>
            <a:ext cx="73152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657600" y="1371600"/>
            <a:ext cx="114300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2133720" y="2209680"/>
            <a:ext cx="3657600" cy="3886200"/>
            <a:chOff x="2133720" y="2209680"/>
            <a:chExt cx="3657600" cy="3886200"/>
          </a:xfrm>
        </p:grpSpPr>
        <p:sp>
          <p:nvSpPr>
            <p:cNvPr id="641" name=""/>
            <p:cNvSpPr/>
            <p:nvPr/>
          </p:nvSpPr>
          <p:spPr>
            <a:xfrm>
              <a:off x="3962520" y="2209680"/>
              <a:ext cx="0" cy="373392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791320" y="2209680"/>
              <a:ext cx="0" cy="388620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133720" y="2209680"/>
              <a:ext cx="0" cy="365760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 flipH="1">
            <a:off x="1370160" y="3125880"/>
            <a:ext cx="25905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962520" y="3124080"/>
            <a:ext cx="259056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128680" y="4570560"/>
            <a:ext cx="3657600" cy="38088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837720" y="4572000"/>
            <a:ext cx="129564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791320" y="4952880"/>
            <a:ext cx="236196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876920" y="1371600"/>
            <a:ext cx="2133360" cy="457200"/>
          </a:xfrm>
          <a:prstGeom prst="rect">
            <a:avLst/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 flipV="1">
            <a:off x="2585880" y="3125520"/>
            <a:ext cx="3733920" cy="75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324480" y="3200400"/>
            <a:ext cx="1828800" cy="914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2895120" y="4572000"/>
            <a:ext cx="34290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24480" y="4570560"/>
            <a:ext cx="0" cy="83808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324480" y="5410080"/>
            <a:ext cx="175284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6477120" y="2909880"/>
                <a:ext cx="609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7175520" y="2909880"/>
                <a:ext cx="1981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7" name=""/>
          <p:cNvSpPr/>
          <p:nvPr/>
        </p:nvSpPr>
        <p:spPr>
          <a:xfrm>
            <a:off x="5732640" y="903240"/>
            <a:ext cx="1492200" cy="922320"/>
          </a:xfrm>
          <a:custGeom>
            <a:avLst/>
            <a:gdLst/>
            <a:ahLst/>
            <a:rect l="l" t="t" r="r" b="b"/>
            <a:pathLst>
              <a:path w="940" h="581">
                <a:moveTo>
                  <a:pt x="542" y="226"/>
                </a:moveTo>
                <a:cubicBezTo>
                  <a:pt x="540" y="317"/>
                  <a:pt x="542" y="408"/>
                  <a:pt x="535" y="499"/>
                </a:cubicBezTo>
                <a:cubicBezTo>
                  <a:pt x="533" y="527"/>
                  <a:pt x="387" y="570"/>
                  <a:pt x="348" y="577"/>
                </a:cubicBezTo>
                <a:cubicBezTo>
                  <a:pt x="262" y="574"/>
                  <a:pt x="176" y="573"/>
                  <a:pt x="90" y="569"/>
                </a:cubicBezTo>
                <a:cubicBezTo>
                  <a:pt x="69" y="568"/>
                  <a:pt x="35" y="581"/>
                  <a:pt x="28" y="561"/>
                </a:cubicBezTo>
                <a:cubicBezTo>
                  <a:pt x="0" y="479"/>
                  <a:pt x="48" y="341"/>
                  <a:pt x="137" y="304"/>
                </a:cubicBezTo>
                <a:cubicBezTo>
                  <a:pt x="173" y="289"/>
                  <a:pt x="224" y="285"/>
                  <a:pt x="262" y="280"/>
                </a:cubicBezTo>
                <a:cubicBezTo>
                  <a:pt x="380" y="244"/>
                  <a:pt x="500" y="242"/>
                  <a:pt x="620" y="218"/>
                </a:cubicBezTo>
                <a:cubicBezTo>
                  <a:pt x="704" y="202"/>
                  <a:pt x="785" y="177"/>
                  <a:pt x="870" y="164"/>
                </a:cubicBezTo>
                <a:cubicBezTo>
                  <a:pt x="903" y="153"/>
                  <a:pt x="916" y="125"/>
                  <a:pt x="940" y="101"/>
                </a:cubicBezTo>
                <a:cubicBezTo>
                  <a:pt x="931" y="21"/>
                  <a:pt x="932" y="54"/>
                  <a:pt x="932" y="0"/>
                </a:cubicBezTo>
              </a:path>
            </a:pathLst>
          </a:custGeom>
          <a:noFill/>
          <a:ln w="507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7010280" y="685800"/>
                <a:ext cx="2082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ςτ</m:t>
                              </m:r>
                              <m:r>
                                <m:t xml:space="preserve">=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τ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9" name=""/>
          <p:cNvSpPr/>
          <p:nvPr/>
        </p:nvSpPr>
        <p:spPr>
          <a:xfrm>
            <a:off x="5278320" y="1546200"/>
            <a:ext cx="474840" cy="211320"/>
          </a:xfrm>
          <a:custGeom>
            <a:avLst/>
            <a:gdLst/>
            <a:ahLst/>
            <a:rect l="l" t="t" r="r" b="b"/>
            <a:pathLst>
              <a:path w="299" h="133">
                <a:moveTo>
                  <a:pt x="18" y="0"/>
                </a:moveTo>
                <a:cubicBezTo>
                  <a:pt x="14" y="27"/>
                  <a:pt x="0" y="91"/>
                  <a:pt x="18" y="117"/>
                </a:cubicBezTo>
                <a:cubicBezTo>
                  <a:pt x="28" y="131"/>
                  <a:pt x="65" y="133"/>
                  <a:pt x="65" y="133"/>
                </a:cubicBezTo>
                <a:cubicBezTo>
                  <a:pt x="99" y="130"/>
                  <a:pt x="133" y="131"/>
                  <a:pt x="166" y="125"/>
                </a:cubicBezTo>
                <a:cubicBezTo>
                  <a:pt x="193" y="120"/>
                  <a:pt x="221" y="62"/>
                  <a:pt x="221" y="62"/>
                </a:cubicBezTo>
                <a:cubicBezTo>
                  <a:pt x="235" y="16"/>
                  <a:pt x="220" y="39"/>
                  <a:pt x="299" y="39"/>
                </a:cubicBezTo>
              </a:path>
            </a:pathLst>
          </a:custGeom>
          <a:noFill/>
          <a:ln w="507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152280" y="457200"/>
                <a:ext cx="2502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8305920" y="3200400"/>
                <a:ext cx="4190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2" name=""/>
          <p:cNvSpPr/>
          <p:nvPr/>
        </p:nvSpPr>
        <p:spPr>
          <a:xfrm>
            <a:off x="115200" y="1568520"/>
            <a:ext cx="2964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composite asympto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2814120" y="3500280"/>
            <a:ext cx="1143000" cy="30492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962520" y="3505320"/>
            <a:ext cx="236196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324480" y="3505320"/>
            <a:ext cx="1828800" cy="5331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70360" y="3298680"/>
            <a:ext cx="4284360" cy="540000"/>
          </a:xfrm>
          <a:custGeom>
            <a:avLst/>
            <a:gdLst/>
            <a:ahLst/>
            <a:rect l="l" t="t" r="r" b="b"/>
            <a:pathLst>
              <a:path w="2699" h="340">
                <a:moveTo>
                  <a:pt x="0" y="340"/>
                </a:moveTo>
                <a:cubicBezTo>
                  <a:pt x="86" y="334"/>
                  <a:pt x="135" y="333"/>
                  <a:pt x="211" y="301"/>
                </a:cubicBezTo>
                <a:cubicBezTo>
                  <a:pt x="329" y="183"/>
                  <a:pt x="535" y="199"/>
                  <a:pt x="686" y="168"/>
                </a:cubicBezTo>
                <a:cubicBezTo>
                  <a:pt x="847" y="63"/>
                  <a:pt x="1204" y="138"/>
                  <a:pt x="1278" y="137"/>
                </a:cubicBezTo>
                <a:cubicBezTo>
                  <a:pt x="1368" y="107"/>
                  <a:pt x="1473" y="135"/>
                  <a:pt x="1567" y="145"/>
                </a:cubicBezTo>
                <a:cubicBezTo>
                  <a:pt x="1659" y="164"/>
                  <a:pt x="1736" y="158"/>
                  <a:pt x="1831" y="153"/>
                </a:cubicBezTo>
                <a:cubicBezTo>
                  <a:pt x="1864" y="142"/>
                  <a:pt x="1874" y="124"/>
                  <a:pt x="1902" y="106"/>
                </a:cubicBezTo>
                <a:cubicBezTo>
                  <a:pt x="1909" y="102"/>
                  <a:pt x="1918" y="102"/>
                  <a:pt x="1925" y="98"/>
                </a:cubicBezTo>
                <a:cubicBezTo>
                  <a:pt x="1956" y="81"/>
                  <a:pt x="1987" y="61"/>
                  <a:pt x="2018" y="44"/>
                </a:cubicBezTo>
                <a:cubicBezTo>
                  <a:pt x="2097" y="0"/>
                  <a:pt x="2036" y="23"/>
                  <a:pt x="2089" y="5"/>
                </a:cubicBezTo>
                <a:cubicBezTo>
                  <a:pt x="2198" y="53"/>
                  <a:pt x="2293" y="111"/>
                  <a:pt x="2408" y="145"/>
                </a:cubicBezTo>
                <a:cubicBezTo>
                  <a:pt x="2437" y="187"/>
                  <a:pt x="2509" y="191"/>
                  <a:pt x="2556" y="207"/>
                </a:cubicBezTo>
                <a:cubicBezTo>
                  <a:pt x="2617" y="254"/>
                  <a:pt x="2555" y="212"/>
                  <a:pt x="2657" y="254"/>
                </a:cubicBezTo>
                <a:cubicBezTo>
                  <a:pt x="2699" y="271"/>
                  <a:pt x="2667" y="270"/>
                  <a:pt x="2689" y="270"/>
                </a:cubicBezTo>
              </a:path>
            </a:pathLst>
          </a:custGeom>
          <a:noFill/>
          <a:ln w="50760">
            <a:solidFill>
              <a:srgbClr val="ff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838080" y="4114800"/>
            <a:ext cx="1295640" cy="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133720" y="4114800"/>
            <a:ext cx="3504960" cy="38088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6629400" y="5410080"/>
            <a:ext cx="1447920" cy="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20640" y="5011560"/>
            <a:ext cx="49690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havior close to corner of conjugate pole/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too dependent on damping rat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r evaluation is be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1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239040" y="58680"/>
            <a:ext cx="5061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valuation of frequency response using MAT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2971800" y="380880"/>
                <a:ext cx="3606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6" name=""/>
          <p:cNvSpPr/>
          <p:nvPr/>
        </p:nvSpPr>
        <p:spPr>
          <a:xfrm>
            <a:off x="179280" y="990720"/>
            <a:ext cx="8593200" cy="131076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» num=[25,0]; %define numerator polynom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» den=conv([1,0.5],[1,4,100]) %use CONV for polynomial multi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n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.0000    4.5000  102.0000   50.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» freqs(num,d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7" name="Example11p5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8305560" cy="4518000"/>
          </a:xfrm>
          <a:prstGeom prst="rect">
            <a:avLst/>
          </a:prstGeom>
          <a:ln w="0">
            <a:noFill/>
          </a:ln>
        </p:spPr>
      </p:pic>
      <p:pic>
        <p:nvPicPr>
          <p:cNvPr id="678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697840" y="76320"/>
            <a:ext cx="3870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ketch the magnitude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2971800" y="457200"/>
                <a:ext cx="3314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jω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84" name=""/>
          <p:cNvGrpSpPr/>
          <p:nvPr/>
        </p:nvGrpSpPr>
        <p:grpSpPr>
          <a:xfrm>
            <a:off x="6272280" y="177840"/>
            <a:ext cx="2732040" cy="799920"/>
            <a:chOff x="6272280" y="177840"/>
            <a:chExt cx="2732040" cy="799920"/>
          </a:xfrm>
        </p:grpSpPr>
        <p:sp>
          <p:nvSpPr>
            <p:cNvPr id="685" name=""/>
            <p:cNvSpPr/>
            <p:nvPr/>
          </p:nvSpPr>
          <p:spPr>
            <a:xfrm>
              <a:off x="6272280" y="177840"/>
              <a:ext cx="752400" cy="799920"/>
            </a:xfrm>
            <a:custGeom>
              <a:avLst/>
              <a:gdLst/>
              <a:ahLst/>
              <a:rect l="l" t="t" r="r" b="b"/>
              <a:pathLst>
                <a:path w="474" h="504">
                  <a:moveTo>
                    <a:pt x="0" y="504"/>
                  </a:moveTo>
                  <a:cubicBezTo>
                    <a:pt x="163" y="473"/>
                    <a:pt x="287" y="411"/>
                    <a:pt x="405" y="293"/>
                  </a:cubicBezTo>
                  <a:cubicBezTo>
                    <a:pt x="423" y="239"/>
                    <a:pt x="434" y="183"/>
                    <a:pt x="452" y="130"/>
                  </a:cubicBezTo>
                  <a:cubicBezTo>
                    <a:pt x="474" y="0"/>
                    <a:pt x="437" y="188"/>
                    <a:pt x="436" y="208"/>
                  </a:cubicBezTo>
                  <a:cubicBezTo>
                    <a:pt x="434" y="286"/>
                    <a:pt x="436" y="363"/>
                    <a:pt x="436" y="44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6" name=""/>
                <p:cNvSpPr txBox="1"/>
                <p:nvPr/>
              </p:nvSpPr>
              <p:spPr>
                <a:xfrm>
                  <a:off x="7010280" y="304920"/>
                  <a:ext cx="199404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τ</m:t>
                          </m:r>
                          <m:r>
                            <m:t xml:space="preserve">=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den>
                          </m:f>
                        </m:e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ςτ</m:t>
                          </m:r>
                          <m:r>
                            <m:t xml:space="preserve">=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den>
                          </m:f>
                          <m:r>
                            <m:t xml:space="preserve">⇒</m:t>
                          </m:r>
                          <m:r>
                            <m:t xml:space="preserve">ς</m:t>
                          </m:r>
                          <m:r>
                            <m:t xml:space="preserve">=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152280" y="457200"/>
                <a:ext cx="2502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88" name=""/>
          <p:cNvGraphicFramePr/>
          <p:nvPr/>
        </p:nvGraphicFramePr>
        <p:xfrm>
          <a:off x="1143000" y="1371600"/>
          <a:ext cx="6989760" cy="46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371600"/>
                    <a:ext cx="698976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0" name=""/>
          <p:cNvSpPr/>
          <p:nvPr/>
        </p:nvSpPr>
        <p:spPr>
          <a:xfrm>
            <a:off x="3656160" y="411120"/>
            <a:ext cx="1176120" cy="708120"/>
          </a:xfrm>
          <a:custGeom>
            <a:avLst/>
            <a:gdLst/>
            <a:ahLst/>
            <a:rect l="l" t="t" r="r" b="b"/>
            <a:pathLst>
              <a:path w="741" h="446">
                <a:moveTo>
                  <a:pt x="741" y="187"/>
                </a:moveTo>
                <a:cubicBezTo>
                  <a:pt x="730" y="135"/>
                  <a:pt x="720" y="84"/>
                  <a:pt x="710" y="31"/>
                </a:cubicBezTo>
                <a:cubicBezTo>
                  <a:pt x="709" y="23"/>
                  <a:pt x="709" y="12"/>
                  <a:pt x="702" y="8"/>
                </a:cubicBezTo>
                <a:cubicBezTo>
                  <a:pt x="688" y="0"/>
                  <a:pt x="671" y="3"/>
                  <a:pt x="655" y="0"/>
                </a:cubicBezTo>
                <a:cubicBezTo>
                  <a:pt x="513" y="5"/>
                  <a:pt x="375" y="16"/>
                  <a:pt x="234" y="24"/>
                </a:cubicBezTo>
                <a:cubicBezTo>
                  <a:pt x="129" y="40"/>
                  <a:pt x="257" y="12"/>
                  <a:pt x="125" y="86"/>
                </a:cubicBezTo>
                <a:cubicBezTo>
                  <a:pt x="106" y="96"/>
                  <a:pt x="84" y="96"/>
                  <a:pt x="63" y="101"/>
                </a:cubicBezTo>
                <a:cubicBezTo>
                  <a:pt x="38" y="152"/>
                  <a:pt x="30" y="189"/>
                  <a:pt x="16" y="242"/>
                </a:cubicBezTo>
                <a:cubicBezTo>
                  <a:pt x="22" y="324"/>
                  <a:pt x="0" y="382"/>
                  <a:pt x="79" y="405"/>
                </a:cubicBezTo>
                <a:cubicBezTo>
                  <a:pt x="115" y="430"/>
                  <a:pt x="95" y="419"/>
                  <a:pt x="149" y="437"/>
                </a:cubicBezTo>
                <a:cubicBezTo>
                  <a:pt x="157" y="440"/>
                  <a:pt x="172" y="444"/>
                  <a:pt x="172" y="444"/>
                </a:cubicBezTo>
                <a:cubicBezTo>
                  <a:pt x="193" y="442"/>
                  <a:pt x="215" y="446"/>
                  <a:pt x="234" y="437"/>
                </a:cubicBezTo>
                <a:cubicBezTo>
                  <a:pt x="250" y="430"/>
                  <a:pt x="286" y="366"/>
                  <a:pt x="297" y="351"/>
                </a:cubicBezTo>
                <a:cubicBezTo>
                  <a:pt x="312" y="307"/>
                  <a:pt x="296" y="344"/>
                  <a:pt x="336" y="296"/>
                </a:cubicBezTo>
                <a:cubicBezTo>
                  <a:pt x="421" y="196"/>
                  <a:pt x="527" y="211"/>
                  <a:pt x="655" y="211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440080" y="1754280"/>
            <a:ext cx="0" cy="3809880"/>
          </a:xfrm>
          <a:prstGeom prst="line">
            <a:avLst/>
          </a:prstGeom>
          <a:ln cap="rnd" w="255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191120" y="1752480"/>
            <a:ext cx="0" cy="3657600"/>
          </a:xfrm>
          <a:prstGeom prst="line">
            <a:avLst/>
          </a:prstGeom>
          <a:ln cap="rnd" w="255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76920" y="380880"/>
            <a:ext cx="685800" cy="3812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754280" y="274176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114800" y="762120"/>
            <a:ext cx="213372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981080" y="2743200"/>
            <a:ext cx="37339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715000" y="2743200"/>
            <a:ext cx="1828800" cy="914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1676160" y="2514240"/>
            <a:ext cx="251460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 flipV="1">
            <a:off x="838080" y="2285640"/>
            <a:ext cx="2743200" cy="6858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581280" y="2971800"/>
            <a:ext cx="21337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3581280" y="1905120"/>
            <a:ext cx="3048120" cy="838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6462720" y="990720"/>
                <a:ext cx="609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7161120" y="990720"/>
                <a:ext cx="1981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4" name=""/>
          <p:cNvSpPr/>
          <p:nvPr/>
        </p:nvSpPr>
        <p:spPr>
          <a:xfrm>
            <a:off x="5715000" y="2971800"/>
            <a:ext cx="1828800" cy="9144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228600" y="2362320"/>
                <a:ext cx="1155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7010280" y="3886200"/>
                <a:ext cx="1155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4483080" y="3048120"/>
                <a:ext cx="876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8" name=""/>
          <p:cNvSpPr/>
          <p:nvPr/>
        </p:nvSpPr>
        <p:spPr>
          <a:xfrm flipV="1">
            <a:off x="5715000" y="1905120"/>
            <a:ext cx="0" cy="3581280"/>
          </a:xfrm>
          <a:prstGeom prst="line">
            <a:avLst/>
          </a:prstGeom>
          <a:ln w="507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5627520" y="5424480"/>
                <a:ext cx="23976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8229600" y="1295280"/>
                <a:ext cx="773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11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2971800" y="76320"/>
                <a:ext cx="3314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jω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5" name=""/>
          <p:cNvSpPr/>
          <p:nvPr/>
        </p:nvSpPr>
        <p:spPr>
          <a:xfrm>
            <a:off x="402840" y="838080"/>
            <a:ext cx="3701160" cy="73332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num=0.2*[1,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den=conv([1,0],[1/144,1/36,1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freqs(num,de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Example11p6" descr=""/>
          <p:cNvPicPr/>
          <p:nvPr/>
        </p:nvPicPr>
        <p:blipFill>
          <a:blip r:embed="rId1"/>
          <a:stretch/>
        </p:blipFill>
        <p:spPr>
          <a:xfrm>
            <a:off x="457200" y="1643040"/>
            <a:ext cx="8686800" cy="5291280"/>
          </a:xfrm>
          <a:prstGeom prst="rect">
            <a:avLst/>
          </a:prstGeom>
          <a:ln w="0">
            <a:noFill/>
          </a:ln>
        </p:spPr>
      </p:pic>
      <p:pic>
        <p:nvPicPr>
          <p:cNvPr id="717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36880" y="76320"/>
            <a:ext cx="65617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THE TRANSFER FUNCTION FROM THE BODE 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02680" y="515880"/>
            <a:ext cx="81147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s the inverse problem of determining frequency characteristic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use only the composite asymptotes plot of the magnitude to postu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transfer function. The slopes will provide information on the 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2" name="F11.017_W1100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6248520" cy="4010040"/>
          </a:xfrm>
          <a:prstGeom prst="rect">
            <a:avLst/>
          </a:prstGeom>
          <a:ln w="0">
            <a:noFill/>
          </a:ln>
        </p:spPr>
      </p:pic>
      <p:grpSp>
        <p:nvGrpSpPr>
          <p:cNvPr id="723" name=""/>
          <p:cNvGrpSpPr/>
          <p:nvPr/>
        </p:nvGrpSpPr>
        <p:grpSpPr>
          <a:xfrm>
            <a:off x="506520" y="1887480"/>
            <a:ext cx="879480" cy="600120"/>
            <a:chOff x="506520" y="1887480"/>
            <a:chExt cx="879480" cy="600120"/>
          </a:xfrm>
        </p:grpSpPr>
        <p:sp>
          <p:nvSpPr>
            <p:cNvPr id="724" name=""/>
            <p:cNvSpPr/>
            <p:nvPr/>
          </p:nvSpPr>
          <p:spPr>
            <a:xfrm>
              <a:off x="506520" y="1917720"/>
              <a:ext cx="879480" cy="569880"/>
            </a:xfrm>
            <a:custGeom>
              <a:avLst/>
              <a:gdLst/>
              <a:ahLst/>
              <a:rect l="l" t="t" r="r" b="b"/>
              <a:pathLst>
                <a:path w="554" h="359">
                  <a:moveTo>
                    <a:pt x="484" y="125"/>
                  </a:moveTo>
                  <a:cubicBezTo>
                    <a:pt x="479" y="107"/>
                    <a:pt x="482" y="84"/>
                    <a:pt x="468" y="70"/>
                  </a:cubicBezTo>
                  <a:cubicBezTo>
                    <a:pt x="452" y="54"/>
                    <a:pt x="426" y="56"/>
                    <a:pt x="406" y="47"/>
                  </a:cubicBezTo>
                  <a:cubicBezTo>
                    <a:pt x="336" y="18"/>
                    <a:pt x="271" y="8"/>
                    <a:pt x="195" y="0"/>
                  </a:cubicBezTo>
                  <a:cubicBezTo>
                    <a:pt x="133" y="5"/>
                    <a:pt x="69" y="4"/>
                    <a:pt x="8" y="16"/>
                  </a:cubicBezTo>
                  <a:cubicBezTo>
                    <a:pt x="0" y="18"/>
                    <a:pt x="0" y="31"/>
                    <a:pt x="0" y="39"/>
                  </a:cubicBezTo>
                  <a:cubicBezTo>
                    <a:pt x="3" y="98"/>
                    <a:pt x="1" y="199"/>
                    <a:pt x="71" y="234"/>
                  </a:cubicBezTo>
                  <a:cubicBezTo>
                    <a:pt x="184" y="290"/>
                    <a:pt x="322" y="311"/>
                    <a:pt x="445" y="327"/>
                  </a:cubicBezTo>
                  <a:cubicBezTo>
                    <a:pt x="495" y="345"/>
                    <a:pt x="514" y="359"/>
                    <a:pt x="554" y="319"/>
                  </a:cubicBezTo>
                  <a:cubicBezTo>
                    <a:pt x="551" y="265"/>
                    <a:pt x="553" y="210"/>
                    <a:pt x="546" y="156"/>
                  </a:cubicBezTo>
                  <a:cubicBezTo>
                    <a:pt x="544" y="140"/>
                    <a:pt x="478" y="100"/>
                    <a:pt x="476" y="101"/>
                  </a:cubicBezTo>
                  <a:cubicBezTo>
                    <a:pt x="469" y="105"/>
                    <a:pt x="481" y="117"/>
                    <a:pt x="484" y="125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23800" y="1887480"/>
              <a:ext cx="32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6364800" y="1353960"/>
            <a:ext cx="2413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. different from 0d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re is a constant K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1560600" y="2077920"/>
            <a:ext cx="1420560" cy="727200"/>
            <a:chOff x="1560600" y="2077920"/>
            <a:chExt cx="1420560" cy="727200"/>
          </a:xfrm>
        </p:grpSpPr>
        <p:sp>
          <p:nvSpPr>
            <p:cNvPr id="728" name=""/>
            <p:cNvSpPr/>
            <p:nvPr/>
          </p:nvSpPr>
          <p:spPr>
            <a:xfrm>
              <a:off x="1560600" y="2077920"/>
              <a:ext cx="1420560" cy="727200"/>
            </a:xfrm>
            <a:custGeom>
              <a:avLst/>
              <a:gdLst/>
              <a:ahLst/>
              <a:rect l="l" t="t" r="r" b="b"/>
              <a:pathLst>
                <a:path w="895" h="458">
                  <a:moveTo>
                    <a:pt x="809" y="47"/>
                  </a:moveTo>
                  <a:cubicBezTo>
                    <a:pt x="646" y="19"/>
                    <a:pt x="484" y="9"/>
                    <a:pt x="318" y="0"/>
                  </a:cubicBezTo>
                  <a:cubicBezTo>
                    <a:pt x="261" y="5"/>
                    <a:pt x="204" y="7"/>
                    <a:pt x="147" y="16"/>
                  </a:cubicBezTo>
                  <a:cubicBezTo>
                    <a:pt x="101" y="23"/>
                    <a:pt x="37" y="135"/>
                    <a:pt x="22" y="179"/>
                  </a:cubicBezTo>
                  <a:cubicBezTo>
                    <a:pt x="29" y="295"/>
                    <a:pt x="0" y="325"/>
                    <a:pt x="108" y="343"/>
                  </a:cubicBezTo>
                  <a:cubicBezTo>
                    <a:pt x="177" y="377"/>
                    <a:pt x="236" y="383"/>
                    <a:pt x="311" y="398"/>
                  </a:cubicBezTo>
                  <a:cubicBezTo>
                    <a:pt x="435" y="458"/>
                    <a:pt x="614" y="446"/>
                    <a:pt x="747" y="452"/>
                  </a:cubicBezTo>
                  <a:cubicBezTo>
                    <a:pt x="843" y="443"/>
                    <a:pt x="859" y="455"/>
                    <a:pt x="879" y="367"/>
                  </a:cubicBezTo>
                  <a:cubicBezTo>
                    <a:pt x="874" y="248"/>
                    <a:pt x="895" y="195"/>
                    <a:pt x="817" y="11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496960" y="21016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6430680" y="2624040"/>
            <a:ext cx="2261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. Simple  pole at 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1" name=""/>
              <p:cNvSpPr txBox="1"/>
              <p:nvPr/>
            </p:nvSpPr>
            <p:spPr>
              <a:xfrm>
                <a:off x="7169040" y="2997360"/>
                <a:ext cx="1295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jω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732" name=""/>
          <p:cNvGrpSpPr/>
          <p:nvPr/>
        </p:nvGrpSpPr>
        <p:grpSpPr>
          <a:xfrm>
            <a:off x="2919240" y="2249640"/>
            <a:ext cx="866880" cy="620640"/>
            <a:chOff x="2919240" y="2249640"/>
            <a:chExt cx="866880" cy="620640"/>
          </a:xfrm>
        </p:grpSpPr>
        <p:sp>
          <p:nvSpPr>
            <p:cNvPr id="733" name=""/>
            <p:cNvSpPr/>
            <p:nvPr/>
          </p:nvSpPr>
          <p:spPr>
            <a:xfrm>
              <a:off x="2919240" y="2249640"/>
              <a:ext cx="866880" cy="620640"/>
            </a:xfrm>
            <a:custGeom>
              <a:avLst/>
              <a:gdLst/>
              <a:ahLst/>
              <a:rect l="l" t="t" r="r" b="b"/>
              <a:pathLst>
                <a:path w="546" h="391">
                  <a:moveTo>
                    <a:pt x="538" y="64"/>
                  </a:moveTo>
                  <a:cubicBezTo>
                    <a:pt x="413" y="0"/>
                    <a:pt x="264" y="19"/>
                    <a:pt x="133" y="64"/>
                  </a:cubicBezTo>
                  <a:cubicBezTo>
                    <a:pt x="97" y="98"/>
                    <a:pt x="55" y="128"/>
                    <a:pt x="31" y="173"/>
                  </a:cubicBezTo>
                  <a:cubicBezTo>
                    <a:pt x="20" y="193"/>
                    <a:pt x="0" y="235"/>
                    <a:pt x="0" y="235"/>
                  </a:cubicBezTo>
                  <a:cubicBezTo>
                    <a:pt x="5" y="266"/>
                    <a:pt x="5" y="299"/>
                    <a:pt x="16" y="329"/>
                  </a:cubicBezTo>
                  <a:cubicBezTo>
                    <a:pt x="19" y="337"/>
                    <a:pt x="117" y="374"/>
                    <a:pt x="125" y="375"/>
                  </a:cubicBezTo>
                  <a:cubicBezTo>
                    <a:pt x="187" y="384"/>
                    <a:pt x="312" y="391"/>
                    <a:pt x="312" y="391"/>
                  </a:cubicBezTo>
                  <a:cubicBezTo>
                    <a:pt x="353" y="375"/>
                    <a:pt x="397" y="365"/>
                    <a:pt x="436" y="344"/>
                  </a:cubicBezTo>
                  <a:cubicBezTo>
                    <a:pt x="462" y="330"/>
                    <a:pt x="475" y="266"/>
                    <a:pt x="483" y="251"/>
                  </a:cubicBezTo>
                  <a:cubicBezTo>
                    <a:pt x="500" y="216"/>
                    <a:pt x="546" y="178"/>
                    <a:pt x="546" y="13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345840" y="225432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6517800" y="3386160"/>
            <a:ext cx="2201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. Simple zero at 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7169040" y="3816360"/>
                <a:ext cx="1168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jω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7" name=""/>
          <p:cNvGrpSpPr/>
          <p:nvPr/>
        </p:nvGrpSpPr>
        <p:grpSpPr>
          <a:xfrm>
            <a:off x="3884760" y="2249640"/>
            <a:ext cx="704880" cy="546120"/>
            <a:chOff x="3884760" y="2249640"/>
            <a:chExt cx="704880" cy="546120"/>
          </a:xfrm>
        </p:grpSpPr>
        <p:sp>
          <p:nvSpPr>
            <p:cNvPr id="738" name=""/>
            <p:cNvSpPr/>
            <p:nvPr/>
          </p:nvSpPr>
          <p:spPr>
            <a:xfrm>
              <a:off x="3884760" y="2249640"/>
              <a:ext cx="704880" cy="546120"/>
            </a:xfrm>
            <a:custGeom>
              <a:avLst/>
              <a:gdLst/>
              <a:ahLst/>
              <a:rect l="l" t="t" r="r" b="b"/>
              <a:pathLst>
                <a:path w="444" h="344">
                  <a:moveTo>
                    <a:pt x="444" y="87"/>
                  </a:moveTo>
                  <a:cubicBezTo>
                    <a:pt x="439" y="74"/>
                    <a:pt x="436" y="59"/>
                    <a:pt x="428" y="48"/>
                  </a:cubicBezTo>
                  <a:cubicBezTo>
                    <a:pt x="398" y="8"/>
                    <a:pt x="208" y="4"/>
                    <a:pt x="164" y="1"/>
                  </a:cubicBezTo>
                  <a:cubicBezTo>
                    <a:pt x="138" y="4"/>
                    <a:pt x="111" y="0"/>
                    <a:pt x="86" y="9"/>
                  </a:cubicBezTo>
                  <a:cubicBezTo>
                    <a:pt x="72" y="14"/>
                    <a:pt x="61" y="27"/>
                    <a:pt x="54" y="40"/>
                  </a:cubicBezTo>
                  <a:cubicBezTo>
                    <a:pt x="36" y="74"/>
                    <a:pt x="11" y="155"/>
                    <a:pt x="0" y="196"/>
                  </a:cubicBezTo>
                  <a:cubicBezTo>
                    <a:pt x="5" y="214"/>
                    <a:pt x="4" y="236"/>
                    <a:pt x="15" y="251"/>
                  </a:cubicBezTo>
                  <a:cubicBezTo>
                    <a:pt x="54" y="304"/>
                    <a:pt x="137" y="319"/>
                    <a:pt x="195" y="336"/>
                  </a:cubicBezTo>
                  <a:cubicBezTo>
                    <a:pt x="249" y="334"/>
                    <a:pt x="306" y="344"/>
                    <a:pt x="358" y="329"/>
                  </a:cubicBezTo>
                  <a:cubicBezTo>
                    <a:pt x="383" y="322"/>
                    <a:pt x="413" y="274"/>
                    <a:pt x="413" y="274"/>
                  </a:cubicBezTo>
                  <a:cubicBezTo>
                    <a:pt x="416" y="264"/>
                    <a:pt x="436" y="203"/>
                    <a:pt x="436" y="18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183200" y="2268360"/>
              <a:ext cx="33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6583320" y="4148280"/>
            <a:ext cx="2047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. Simple pole at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7169040" y="4546440"/>
                <a:ext cx="1130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jω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742" name=""/>
          <p:cNvGrpSpPr/>
          <p:nvPr/>
        </p:nvGrpSpPr>
        <p:grpSpPr>
          <a:xfrm>
            <a:off x="4819680" y="2502000"/>
            <a:ext cx="895320" cy="900000"/>
            <a:chOff x="4819680" y="2502000"/>
            <a:chExt cx="895320" cy="900000"/>
          </a:xfrm>
        </p:grpSpPr>
        <p:sp>
          <p:nvSpPr>
            <p:cNvPr id="743" name=""/>
            <p:cNvSpPr/>
            <p:nvPr/>
          </p:nvSpPr>
          <p:spPr>
            <a:xfrm>
              <a:off x="4819680" y="2502000"/>
              <a:ext cx="895320" cy="900000"/>
            </a:xfrm>
            <a:custGeom>
              <a:avLst/>
              <a:gdLst/>
              <a:ahLst/>
              <a:rect l="l" t="t" r="r" b="b"/>
              <a:pathLst>
                <a:path w="564" h="567">
                  <a:moveTo>
                    <a:pt x="564" y="224"/>
                  </a:moveTo>
                  <a:cubicBezTo>
                    <a:pt x="545" y="136"/>
                    <a:pt x="549" y="137"/>
                    <a:pt x="463" y="115"/>
                  </a:cubicBezTo>
                  <a:cubicBezTo>
                    <a:pt x="429" y="94"/>
                    <a:pt x="391" y="89"/>
                    <a:pt x="354" y="76"/>
                  </a:cubicBezTo>
                  <a:cubicBezTo>
                    <a:pt x="324" y="54"/>
                    <a:pt x="302" y="49"/>
                    <a:pt x="268" y="37"/>
                  </a:cubicBezTo>
                  <a:cubicBezTo>
                    <a:pt x="45" y="59"/>
                    <a:pt x="138" y="0"/>
                    <a:pt x="81" y="115"/>
                  </a:cubicBezTo>
                  <a:cubicBezTo>
                    <a:pt x="75" y="127"/>
                    <a:pt x="66" y="136"/>
                    <a:pt x="58" y="146"/>
                  </a:cubicBezTo>
                  <a:cubicBezTo>
                    <a:pt x="47" y="185"/>
                    <a:pt x="30" y="211"/>
                    <a:pt x="19" y="248"/>
                  </a:cubicBezTo>
                  <a:cubicBezTo>
                    <a:pt x="7" y="362"/>
                    <a:pt x="0" y="402"/>
                    <a:pt x="19" y="544"/>
                  </a:cubicBezTo>
                  <a:cubicBezTo>
                    <a:pt x="19" y="545"/>
                    <a:pt x="64" y="559"/>
                    <a:pt x="65" y="559"/>
                  </a:cubicBezTo>
                  <a:cubicBezTo>
                    <a:pt x="91" y="563"/>
                    <a:pt x="117" y="564"/>
                    <a:pt x="143" y="567"/>
                  </a:cubicBezTo>
                  <a:cubicBezTo>
                    <a:pt x="266" y="559"/>
                    <a:pt x="363" y="537"/>
                    <a:pt x="478" y="497"/>
                  </a:cubicBezTo>
                  <a:cubicBezTo>
                    <a:pt x="552" y="423"/>
                    <a:pt x="533" y="462"/>
                    <a:pt x="533" y="31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248440" y="2649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6681240" y="4910040"/>
            <a:ext cx="2126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. Simple pole at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7169040" y="5308560"/>
                <a:ext cx="12700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jω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1219320" y="5499000"/>
                <a:ext cx="4038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6400800" y="1981080"/>
                <a:ext cx="24130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|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B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49" name=""/>
          <p:cNvSpPr/>
          <p:nvPr/>
        </p:nvSpPr>
        <p:spPr>
          <a:xfrm>
            <a:off x="-73800" y="6172200"/>
            <a:ext cx="8250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slope is -40dB we assume double real pole. Unless we are given mor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5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319680" y="21096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902320" y="76320"/>
            <a:ext cx="5328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 transfer function from the composi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gnitude asymptotes 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E11.007_W1101" descr=""/>
          <p:cNvPicPr/>
          <p:nvPr/>
        </p:nvPicPr>
        <p:blipFill>
          <a:blip r:embed="rId1"/>
          <a:stretch/>
        </p:blipFill>
        <p:spPr>
          <a:xfrm>
            <a:off x="76320" y="844560"/>
            <a:ext cx="5638680" cy="2589120"/>
          </a:xfrm>
          <a:prstGeom prst="rect">
            <a:avLst/>
          </a:prstGeom>
          <a:ln w="0">
            <a:noFill/>
          </a:ln>
        </p:spPr>
      </p:pic>
      <p:grpSp>
        <p:nvGrpSpPr>
          <p:cNvPr id="756" name=""/>
          <p:cNvGrpSpPr/>
          <p:nvPr/>
        </p:nvGrpSpPr>
        <p:grpSpPr>
          <a:xfrm>
            <a:off x="344520" y="1023840"/>
            <a:ext cx="1598760" cy="1092240"/>
            <a:chOff x="344520" y="1023840"/>
            <a:chExt cx="1598760" cy="1092240"/>
          </a:xfrm>
        </p:grpSpPr>
        <p:sp>
          <p:nvSpPr>
            <p:cNvPr id="757" name=""/>
            <p:cNvSpPr/>
            <p:nvPr/>
          </p:nvSpPr>
          <p:spPr>
            <a:xfrm>
              <a:off x="344520" y="1023840"/>
              <a:ext cx="1598760" cy="1092240"/>
            </a:xfrm>
            <a:custGeom>
              <a:avLst/>
              <a:gdLst/>
              <a:ahLst/>
              <a:rect l="l" t="t" r="r" b="b"/>
              <a:pathLst>
                <a:path w="1007" h="688">
                  <a:moveTo>
                    <a:pt x="999" y="17"/>
                  </a:moveTo>
                  <a:cubicBezTo>
                    <a:pt x="991" y="17"/>
                    <a:pt x="358" y="0"/>
                    <a:pt x="297" y="17"/>
                  </a:cubicBezTo>
                  <a:cubicBezTo>
                    <a:pt x="244" y="32"/>
                    <a:pt x="213" y="89"/>
                    <a:pt x="173" y="127"/>
                  </a:cubicBezTo>
                  <a:cubicBezTo>
                    <a:pt x="120" y="177"/>
                    <a:pt x="58" y="223"/>
                    <a:pt x="25" y="290"/>
                  </a:cubicBezTo>
                  <a:cubicBezTo>
                    <a:pt x="5" y="410"/>
                    <a:pt x="0" y="417"/>
                    <a:pt x="25" y="610"/>
                  </a:cubicBezTo>
                  <a:cubicBezTo>
                    <a:pt x="31" y="655"/>
                    <a:pt x="189" y="677"/>
                    <a:pt x="219" y="680"/>
                  </a:cubicBezTo>
                  <a:cubicBezTo>
                    <a:pt x="281" y="685"/>
                    <a:pt x="344" y="685"/>
                    <a:pt x="406" y="688"/>
                  </a:cubicBezTo>
                  <a:cubicBezTo>
                    <a:pt x="559" y="685"/>
                    <a:pt x="713" y="687"/>
                    <a:pt x="866" y="680"/>
                  </a:cubicBezTo>
                  <a:cubicBezTo>
                    <a:pt x="883" y="679"/>
                    <a:pt x="901" y="676"/>
                    <a:pt x="913" y="664"/>
                  </a:cubicBezTo>
                  <a:cubicBezTo>
                    <a:pt x="934" y="643"/>
                    <a:pt x="936" y="610"/>
                    <a:pt x="952" y="586"/>
                  </a:cubicBezTo>
                  <a:cubicBezTo>
                    <a:pt x="975" y="514"/>
                    <a:pt x="974" y="439"/>
                    <a:pt x="999" y="368"/>
                  </a:cubicBezTo>
                  <a:cubicBezTo>
                    <a:pt x="1007" y="316"/>
                    <a:pt x="1006" y="337"/>
                    <a:pt x="1006" y="30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066680" y="1752480"/>
              <a:ext cx="33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5967000" y="744480"/>
            <a:ext cx="229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. Pole at the origi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rosses 0dB line at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7010280" y="1295280"/>
                <a:ext cx="354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61" name=""/>
          <p:cNvGrpSpPr/>
          <p:nvPr/>
        </p:nvGrpSpPr>
        <p:grpSpPr>
          <a:xfrm>
            <a:off x="1154160" y="952560"/>
            <a:ext cx="1120680" cy="1768320"/>
            <a:chOff x="1154160" y="952560"/>
            <a:chExt cx="1120680" cy="1768320"/>
          </a:xfrm>
        </p:grpSpPr>
        <p:sp>
          <p:nvSpPr>
            <p:cNvPr id="762" name=""/>
            <p:cNvSpPr/>
            <p:nvPr/>
          </p:nvSpPr>
          <p:spPr>
            <a:xfrm>
              <a:off x="1154160" y="952560"/>
              <a:ext cx="1120680" cy="1768320"/>
            </a:xfrm>
            <a:custGeom>
              <a:avLst/>
              <a:gdLst/>
              <a:ahLst/>
              <a:rect l="l" t="t" r="r" b="b"/>
              <a:pathLst>
                <a:path w="706" h="1114">
                  <a:moveTo>
                    <a:pt x="606" y="1021"/>
                  </a:moveTo>
                  <a:cubicBezTo>
                    <a:pt x="649" y="783"/>
                    <a:pt x="659" y="542"/>
                    <a:pt x="699" y="304"/>
                  </a:cubicBezTo>
                  <a:cubicBezTo>
                    <a:pt x="678" y="229"/>
                    <a:pt x="706" y="114"/>
                    <a:pt x="637" y="78"/>
                  </a:cubicBezTo>
                  <a:cubicBezTo>
                    <a:pt x="486" y="0"/>
                    <a:pt x="335" y="96"/>
                    <a:pt x="193" y="125"/>
                  </a:cubicBezTo>
                  <a:cubicBezTo>
                    <a:pt x="182" y="133"/>
                    <a:pt x="174" y="144"/>
                    <a:pt x="161" y="148"/>
                  </a:cubicBezTo>
                  <a:cubicBezTo>
                    <a:pt x="136" y="155"/>
                    <a:pt x="106" y="143"/>
                    <a:pt x="83" y="156"/>
                  </a:cubicBezTo>
                  <a:cubicBezTo>
                    <a:pt x="54" y="173"/>
                    <a:pt x="30" y="224"/>
                    <a:pt x="13" y="257"/>
                  </a:cubicBezTo>
                  <a:cubicBezTo>
                    <a:pt x="0" y="345"/>
                    <a:pt x="7" y="429"/>
                    <a:pt x="29" y="514"/>
                  </a:cubicBezTo>
                  <a:cubicBezTo>
                    <a:pt x="32" y="545"/>
                    <a:pt x="31" y="577"/>
                    <a:pt x="37" y="608"/>
                  </a:cubicBezTo>
                  <a:cubicBezTo>
                    <a:pt x="39" y="619"/>
                    <a:pt x="49" y="628"/>
                    <a:pt x="52" y="639"/>
                  </a:cubicBezTo>
                  <a:cubicBezTo>
                    <a:pt x="56" y="654"/>
                    <a:pt x="58" y="670"/>
                    <a:pt x="60" y="686"/>
                  </a:cubicBezTo>
                  <a:cubicBezTo>
                    <a:pt x="72" y="777"/>
                    <a:pt x="53" y="741"/>
                    <a:pt x="83" y="787"/>
                  </a:cubicBezTo>
                  <a:cubicBezTo>
                    <a:pt x="95" y="832"/>
                    <a:pt x="140" y="865"/>
                    <a:pt x="169" y="904"/>
                  </a:cubicBezTo>
                  <a:cubicBezTo>
                    <a:pt x="198" y="944"/>
                    <a:pt x="231" y="991"/>
                    <a:pt x="270" y="1021"/>
                  </a:cubicBezTo>
                  <a:cubicBezTo>
                    <a:pt x="315" y="1055"/>
                    <a:pt x="366" y="1081"/>
                    <a:pt x="411" y="1114"/>
                  </a:cubicBezTo>
                  <a:cubicBezTo>
                    <a:pt x="468" y="1109"/>
                    <a:pt x="539" y="1111"/>
                    <a:pt x="582" y="106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658880" y="2268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6104520" y="1963800"/>
            <a:ext cx="13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. Zero at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1903320" y="928800"/>
            <a:ext cx="979560" cy="1581120"/>
            <a:chOff x="1903320" y="928800"/>
            <a:chExt cx="979560" cy="1581120"/>
          </a:xfrm>
        </p:grpSpPr>
        <p:sp>
          <p:nvSpPr>
            <p:cNvPr id="766" name=""/>
            <p:cNvSpPr/>
            <p:nvPr/>
          </p:nvSpPr>
          <p:spPr>
            <a:xfrm>
              <a:off x="1903320" y="928800"/>
              <a:ext cx="979560" cy="1581120"/>
            </a:xfrm>
            <a:custGeom>
              <a:avLst/>
              <a:gdLst/>
              <a:ahLst/>
              <a:rect l="l" t="t" r="r" b="b"/>
              <a:pathLst>
                <a:path w="617" h="996">
                  <a:moveTo>
                    <a:pt x="617" y="38"/>
                  </a:moveTo>
                  <a:cubicBezTo>
                    <a:pt x="394" y="47"/>
                    <a:pt x="266" y="0"/>
                    <a:pt x="110" y="116"/>
                  </a:cubicBezTo>
                  <a:cubicBezTo>
                    <a:pt x="84" y="158"/>
                    <a:pt x="74" y="204"/>
                    <a:pt x="56" y="249"/>
                  </a:cubicBezTo>
                  <a:cubicBezTo>
                    <a:pt x="52" y="260"/>
                    <a:pt x="44" y="269"/>
                    <a:pt x="40" y="280"/>
                  </a:cubicBezTo>
                  <a:cubicBezTo>
                    <a:pt x="34" y="295"/>
                    <a:pt x="24" y="327"/>
                    <a:pt x="24" y="327"/>
                  </a:cubicBezTo>
                  <a:cubicBezTo>
                    <a:pt x="0" y="603"/>
                    <a:pt x="3" y="496"/>
                    <a:pt x="17" y="888"/>
                  </a:cubicBezTo>
                  <a:cubicBezTo>
                    <a:pt x="17" y="888"/>
                    <a:pt x="27" y="939"/>
                    <a:pt x="32" y="942"/>
                  </a:cubicBezTo>
                  <a:cubicBezTo>
                    <a:pt x="52" y="956"/>
                    <a:pt x="103" y="962"/>
                    <a:pt x="126" y="966"/>
                  </a:cubicBezTo>
                  <a:cubicBezTo>
                    <a:pt x="188" y="996"/>
                    <a:pt x="250" y="974"/>
                    <a:pt x="313" y="958"/>
                  </a:cubicBezTo>
                  <a:cubicBezTo>
                    <a:pt x="331" y="942"/>
                    <a:pt x="351" y="929"/>
                    <a:pt x="367" y="911"/>
                  </a:cubicBezTo>
                  <a:cubicBezTo>
                    <a:pt x="401" y="872"/>
                    <a:pt x="461" y="787"/>
                    <a:pt x="461" y="787"/>
                  </a:cubicBezTo>
                  <a:cubicBezTo>
                    <a:pt x="472" y="698"/>
                    <a:pt x="495" y="610"/>
                    <a:pt x="515" y="522"/>
                  </a:cubicBezTo>
                  <a:cubicBezTo>
                    <a:pt x="519" y="451"/>
                    <a:pt x="525" y="248"/>
                    <a:pt x="585" y="17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431440" y="97308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131880" y="2421000"/>
            <a:ext cx="14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. Pole at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789280" y="1287360"/>
            <a:ext cx="874800" cy="1268640"/>
          </a:xfrm>
          <a:custGeom>
            <a:avLst/>
            <a:gdLst/>
            <a:ahLst/>
            <a:rect l="l" t="t" r="r" b="b"/>
            <a:pathLst>
              <a:path w="551" h="799">
                <a:moveTo>
                  <a:pt x="472" y="23"/>
                </a:moveTo>
                <a:cubicBezTo>
                  <a:pt x="389" y="4"/>
                  <a:pt x="349" y="0"/>
                  <a:pt x="261" y="7"/>
                </a:cubicBezTo>
                <a:cubicBezTo>
                  <a:pt x="228" y="24"/>
                  <a:pt x="133" y="65"/>
                  <a:pt x="105" y="101"/>
                </a:cubicBezTo>
                <a:cubicBezTo>
                  <a:pt x="74" y="141"/>
                  <a:pt x="82" y="199"/>
                  <a:pt x="74" y="249"/>
                </a:cubicBezTo>
                <a:cubicBezTo>
                  <a:pt x="55" y="363"/>
                  <a:pt x="41" y="480"/>
                  <a:pt x="12" y="592"/>
                </a:cubicBezTo>
                <a:cubicBezTo>
                  <a:pt x="15" y="646"/>
                  <a:pt x="0" y="704"/>
                  <a:pt x="20" y="755"/>
                </a:cubicBezTo>
                <a:cubicBezTo>
                  <a:pt x="28" y="775"/>
                  <a:pt x="61" y="767"/>
                  <a:pt x="82" y="771"/>
                </a:cubicBezTo>
                <a:cubicBezTo>
                  <a:pt x="108" y="775"/>
                  <a:pt x="134" y="776"/>
                  <a:pt x="160" y="779"/>
                </a:cubicBezTo>
                <a:cubicBezTo>
                  <a:pt x="236" y="799"/>
                  <a:pt x="319" y="774"/>
                  <a:pt x="394" y="755"/>
                </a:cubicBezTo>
                <a:cubicBezTo>
                  <a:pt x="412" y="734"/>
                  <a:pt x="435" y="717"/>
                  <a:pt x="448" y="693"/>
                </a:cubicBezTo>
                <a:cubicBezTo>
                  <a:pt x="470" y="653"/>
                  <a:pt x="499" y="553"/>
                  <a:pt x="511" y="506"/>
                </a:cubicBezTo>
                <a:cubicBezTo>
                  <a:pt x="503" y="181"/>
                  <a:pt x="551" y="282"/>
                  <a:pt x="495" y="171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16160" y="2116080"/>
            <a:ext cx="33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137280" y="2878200"/>
            <a:ext cx="144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. Zero at 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3543480" y="1235160"/>
            <a:ext cx="947520" cy="1350720"/>
            <a:chOff x="3543480" y="1235160"/>
            <a:chExt cx="947520" cy="1350720"/>
          </a:xfrm>
        </p:grpSpPr>
        <p:sp>
          <p:nvSpPr>
            <p:cNvPr id="773" name=""/>
            <p:cNvSpPr/>
            <p:nvPr/>
          </p:nvSpPr>
          <p:spPr>
            <a:xfrm>
              <a:off x="3543480" y="1235160"/>
              <a:ext cx="947520" cy="1350720"/>
            </a:xfrm>
            <a:custGeom>
              <a:avLst/>
              <a:gdLst/>
              <a:ahLst/>
              <a:rect l="l" t="t" r="r" b="b"/>
              <a:pathLst>
                <a:path w="597" h="851">
                  <a:moveTo>
                    <a:pt x="597" y="32"/>
                  </a:moveTo>
                  <a:cubicBezTo>
                    <a:pt x="513" y="1"/>
                    <a:pt x="475" y="0"/>
                    <a:pt x="386" y="17"/>
                  </a:cubicBezTo>
                  <a:cubicBezTo>
                    <a:pt x="355" y="38"/>
                    <a:pt x="328" y="66"/>
                    <a:pt x="293" y="79"/>
                  </a:cubicBezTo>
                  <a:cubicBezTo>
                    <a:pt x="231" y="103"/>
                    <a:pt x="161" y="104"/>
                    <a:pt x="98" y="126"/>
                  </a:cubicBezTo>
                  <a:cubicBezTo>
                    <a:pt x="88" y="157"/>
                    <a:pt x="77" y="189"/>
                    <a:pt x="67" y="220"/>
                  </a:cubicBezTo>
                  <a:cubicBezTo>
                    <a:pt x="64" y="228"/>
                    <a:pt x="59" y="243"/>
                    <a:pt x="59" y="243"/>
                  </a:cubicBezTo>
                  <a:cubicBezTo>
                    <a:pt x="50" y="319"/>
                    <a:pt x="41" y="394"/>
                    <a:pt x="28" y="469"/>
                  </a:cubicBezTo>
                  <a:cubicBezTo>
                    <a:pt x="17" y="614"/>
                    <a:pt x="0" y="826"/>
                    <a:pt x="191" y="851"/>
                  </a:cubicBezTo>
                  <a:cubicBezTo>
                    <a:pt x="320" y="777"/>
                    <a:pt x="399" y="693"/>
                    <a:pt x="495" y="586"/>
                  </a:cubicBezTo>
                  <a:cubicBezTo>
                    <a:pt x="510" y="496"/>
                    <a:pt x="541" y="411"/>
                    <a:pt x="558" y="321"/>
                  </a:cubicBezTo>
                  <a:cubicBezTo>
                    <a:pt x="568" y="269"/>
                    <a:pt x="555" y="286"/>
                    <a:pt x="573" y="26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181760" y="1353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6136200" y="3259080"/>
            <a:ext cx="15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. Pole at 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3124080" y="4191120"/>
                <a:ext cx="44197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jω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7" name=""/>
          <p:cNvSpPr/>
          <p:nvPr/>
        </p:nvSpPr>
        <p:spPr>
          <a:xfrm>
            <a:off x="4076640" y="1461960"/>
            <a:ext cx="2948040" cy="3551400"/>
          </a:xfrm>
          <a:custGeom>
            <a:avLst/>
            <a:gdLst/>
            <a:ahLst/>
            <a:rect l="l" t="t" r="r" b="b"/>
            <a:pathLst>
              <a:path w="1857" h="2237">
                <a:moveTo>
                  <a:pt x="1857" y="0"/>
                </a:moveTo>
                <a:cubicBezTo>
                  <a:pt x="1758" y="5"/>
                  <a:pt x="1659" y="6"/>
                  <a:pt x="1561" y="15"/>
                </a:cubicBezTo>
                <a:cubicBezTo>
                  <a:pt x="1496" y="21"/>
                  <a:pt x="1432" y="41"/>
                  <a:pt x="1366" y="46"/>
                </a:cubicBezTo>
                <a:cubicBezTo>
                  <a:pt x="1306" y="67"/>
                  <a:pt x="1248" y="85"/>
                  <a:pt x="1187" y="101"/>
                </a:cubicBezTo>
                <a:cubicBezTo>
                  <a:pt x="1182" y="117"/>
                  <a:pt x="1180" y="134"/>
                  <a:pt x="1171" y="148"/>
                </a:cubicBezTo>
                <a:cubicBezTo>
                  <a:pt x="1166" y="156"/>
                  <a:pt x="1152" y="155"/>
                  <a:pt x="1148" y="163"/>
                </a:cubicBezTo>
                <a:cubicBezTo>
                  <a:pt x="1097" y="265"/>
                  <a:pt x="1131" y="286"/>
                  <a:pt x="1031" y="342"/>
                </a:cubicBezTo>
                <a:cubicBezTo>
                  <a:pt x="1017" y="350"/>
                  <a:pt x="1000" y="353"/>
                  <a:pt x="984" y="358"/>
                </a:cubicBezTo>
                <a:cubicBezTo>
                  <a:pt x="956" y="387"/>
                  <a:pt x="932" y="421"/>
                  <a:pt x="899" y="444"/>
                </a:cubicBezTo>
                <a:cubicBezTo>
                  <a:pt x="881" y="551"/>
                  <a:pt x="910" y="422"/>
                  <a:pt x="844" y="553"/>
                </a:cubicBezTo>
                <a:cubicBezTo>
                  <a:pt x="837" y="567"/>
                  <a:pt x="842" y="585"/>
                  <a:pt x="836" y="600"/>
                </a:cubicBezTo>
                <a:cubicBezTo>
                  <a:pt x="822" y="636"/>
                  <a:pt x="798" y="638"/>
                  <a:pt x="766" y="654"/>
                </a:cubicBezTo>
                <a:cubicBezTo>
                  <a:pt x="761" y="670"/>
                  <a:pt x="763" y="689"/>
                  <a:pt x="751" y="701"/>
                </a:cubicBezTo>
                <a:cubicBezTo>
                  <a:pt x="739" y="713"/>
                  <a:pt x="718" y="708"/>
                  <a:pt x="704" y="717"/>
                </a:cubicBezTo>
                <a:cubicBezTo>
                  <a:pt x="693" y="724"/>
                  <a:pt x="689" y="738"/>
                  <a:pt x="680" y="748"/>
                </a:cubicBezTo>
                <a:cubicBezTo>
                  <a:pt x="663" y="767"/>
                  <a:pt x="626" y="802"/>
                  <a:pt x="626" y="802"/>
                </a:cubicBezTo>
                <a:cubicBezTo>
                  <a:pt x="606" y="862"/>
                  <a:pt x="586" y="881"/>
                  <a:pt x="540" y="927"/>
                </a:cubicBezTo>
                <a:cubicBezTo>
                  <a:pt x="513" y="1013"/>
                  <a:pt x="447" y="1098"/>
                  <a:pt x="384" y="1161"/>
                </a:cubicBezTo>
                <a:cubicBezTo>
                  <a:pt x="356" y="1276"/>
                  <a:pt x="317" y="1391"/>
                  <a:pt x="283" y="1504"/>
                </a:cubicBezTo>
                <a:cubicBezTo>
                  <a:pt x="274" y="1535"/>
                  <a:pt x="262" y="1566"/>
                  <a:pt x="252" y="1597"/>
                </a:cubicBezTo>
                <a:cubicBezTo>
                  <a:pt x="244" y="1622"/>
                  <a:pt x="205" y="1660"/>
                  <a:pt x="205" y="1660"/>
                </a:cubicBezTo>
                <a:cubicBezTo>
                  <a:pt x="194" y="1723"/>
                  <a:pt x="184" y="1714"/>
                  <a:pt x="151" y="1761"/>
                </a:cubicBezTo>
                <a:cubicBezTo>
                  <a:pt x="144" y="1770"/>
                  <a:pt x="140" y="1781"/>
                  <a:pt x="135" y="1792"/>
                </a:cubicBezTo>
                <a:cubicBezTo>
                  <a:pt x="127" y="1810"/>
                  <a:pt x="123" y="1831"/>
                  <a:pt x="112" y="1847"/>
                </a:cubicBezTo>
                <a:cubicBezTo>
                  <a:pt x="100" y="1865"/>
                  <a:pt x="81" y="1878"/>
                  <a:pt x="65" y="1893"/>
                </a:cubicBezTo>
                <a:cubicBezTo>
                  <a:pt x="42" y="1961"/>
                  <a:pt x="34" y="2031"/>
                  <a:pt x="3" y="2096"/>
                </a:cubicBezTo>
                <a:cubicBezTo>
                  <a:pt x="5" y="2125"/>
                  <a:pt x="0" y="2155"/>
                  <a:pt x="10" y="2182"/>
                </a:cubicBezTo>
                <a:cubicBezTo>
                  <a:pt x="14" y="2193"/>
                  <a:pt x="32" y="2191"/>
                  <a:pt x="42" y="2197"/>
                </a:cubicBezTo>
                <a:cubicBezTo>
                  <a:pt x="113" y="2237"/>
                  <a:pt x="210" y="2228"/>
                  <a:pt x="291" y="22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738680" y="2139840"/>
            <a:ext cx="1422360" cy="2156040"/>
          </a:xfrm>
          <a:custGeom>
            <a:avLst/>
            <a:gdLst/>
            <a:ahLst/>
            <a:rect l="l" t="t" r="r" b="b"/>
            <a:pathLst>
              <a:path w="896" h="1358">
                <a:moveTo>
                  <a:pt x="0" y="1294"/>
                </a:moveTo>
                <a:cubicBezTo>
                  <a:pt x="138" y="1291"/>
                  <a:pt x="296" y="1358"/>
                  <a:pt x="413" y="1286"/>
                </a:cubicBezTo>
                <a:cubicBezTo>
                  <a:pt x="484" y="1243"/>
                  <a:pt x="416" y="1120"/>
                  <a:pt x="420" y="1037"/>
                </a:cubicBezTo>
                <a:cubicBezTo>
                  <a:pt x="423" y="959"/>
                  <a:pt x="432" y="881"/>
                  <a:pt x="436" y="803"/>
                </a:cubicBezTo>
                <a:cubicBezTo>
                  <a:pt x="444" y="638"/>
                  <a:pt x="453" y="494"/>
                  <a:pt x="467" y="335"/>
                </a:cubicBezTo>
                <a:cubicBezTo>
                  <a:pt x="471" y="294"/>
                  <a:pt x="471" y="252"/>
                  <a:pt x="475" y="211"/>
                </a:cubicBezTo>
                <a:cubicBezTo>
                  <a:pt x="477" y="187"/>
                  <a:pt x="470" y="153"/>
                  <a:pt x="490" y="140"/>
                </a:cubicBezTo>
                <a:cubicBezTo>
                  <a:pt x="512" y="126"/>
                  <a:pt x="585" y="120"/>
                  <a:pt x="607" y="117"/>
                </a:cubicBezTo>
                <a:cubicBezTo>
                  <a:pt x="638" y="98"/>
                  <a:pt x="668" y="78"/>
                  <a:pt x="701" y="63"/>
                </a:cubicBezTo>
                <a:cubicBezTo>
                  <a:pt x="727" y="51"/>
                  <a:pt x="769" y="47"/>
                  <a:pt x="794" y="31"/>
                </a:cubicBezTo>
                <a:cubicBezTo>
                  <a:pt x="825" y="12"/>
                  <a:pt x="860" y="0"/>
                  <a:pt x="896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875200" y="3043080"/>
            <a:ext cx="1463760" cy="1398600"/>
          </a:xfrm>
          <a:custGeom>
            <a:avLst/>
            <a:gdLst/>
            <a:ahLst/>
            <a:rect l="l" t="t" r="r" b="b"/>
            <a:pathLst>
              <a:path w="922" h="881">
                <a:moveTo>
                  <a:pt x="219" y="0"/>
                </a:moveTo>
                <a:cubicBezTo>
                  <a:pt x="162" y="8"/>
                  <a:pt x="76" y="0"/>
                  <a:pt x="39" y="55"/>
                </a:cubicBezTo>
                <a:cubicBezTo>
                  <a:pt x="0" y="184"/>
                  <a:pt x="23" y="378"/>
                  <a:pt x="16" y="522"/>
                </a:cubicBezTo>
                <a:cubicBezTo>
                  <a:pt x="19" y="561"/>
                  <a:pt x="15" y="601"/>
                  <a:pt x="24" y="639"/>
                </a:cubicBezTo>
                <a:cubicBezTo>
                  <a:pt x="30" y="666"/>
                  <a:pt x="132" y="694"/>
                  <a:pt x="156" y="694"/>
                </a:cubicBezTo>
                <a:cubicBezTo>
                  <a:pt x="395" y="699"/>
                  <a:pt x="634" y="699"/>
                  <a:pt x="873" y="701"/>
                </a:cubicBezTo>
                <a:cubicBezTo>
                  <a:pt x="922" y="717"/>
                  <a:pt x="903" y="747"/>
                  <a:pt x="889" y="787"/>
                </a:cubicBezTo>
                <a:cubicBezTo>
                  <a:pt x="886" y="818"/>
                  <a:pt x="881" y="881"/>
                  <a:pt x="881" y="881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86520" y="3414600"/>
            <a:ext cx="1987560" cy="1843200"/>
          </a:xfrm>
          <a:custGeom>
            <a:avLst/>
            <a:gdLst/>
            <a:ahLst/>
            <a:rect l="l" t="t" r="r" b="b"/>
            <a:pathLst>
              <a:path w="1252" h="1161">
                <a:moveTo>
                  <a:pt x="943" y="0"/>
                </a:moveTo>
                <a:cubicBezTo>
                  <a:pt x="1152" y="25"/>
                  <a:pt x="991" y="2"/>
                  <a:pt x="1145" y="31"/>
                </a:cubicBezTo>
                <a:cubicBezTo>
                  <a:pt x="1176" y="37"/>
                  <a:pt x="1239" y="47"/>
                  <a:pt x="1239" y="47"/>
                </a:cubicBezTo>
                <a:cubicBezTo>
                  <a:pt x="1252" y="146"/>
                  <a:pt x="1241" y="244"/>
                  <a:pt x="1231" y="343"/>
                </a:cubicBezTo>
                <a:cubicBezTo>
                  <a:pt x="1221" y="553"/>
                  <a:pt x="1199" y="758"/>
                  <a:pt x="1169" y="966"/>
                </a:cubicBezTo>
                <a:cubicBezTo>
                  <a:pt x="1165" y="995"/>
                  <a:pt x="1151" y="1105"/>
                  <a:pt x="1122" y="1122"/>
                </a:cubicBezTo>
                <a:cubicBezTo>
                  <a:pt x="1103" y="1133"/>
                  <a:pt x="1008" y="1155"/>
                  <a:pt x="982" y="1161"/>
                </a:cubicBezTo>
                <a:cubicBezTo>
                  <a:pt x="738" y="1151"/>
                  <a:pt x="493" y="1140"/>
                  <a:pt x="249" y="1130"/>
                </a:cubicBezTo>
                <a:cubicBezTo>
                  <a:pt x="239" y="1125"/>
                  <a:pt x="229" y="1118"/>
                  <a:pt x="218" y="1114"/>
                </a:cubicBezTo>
                <a:cubicBezTo>
                  <a:pt x="198" y="1107"/>
                  <a:pt x="176" y="1107"/>
                  <a:pt x="156" y="1099"/>
                </a:cubicBezTo>
                <a:cubicBezTo>
                  <a:pt x="139" y="1092"/>
                  <a:pt x="125" y="1078"/>
                  <a:pt x="109" y="1068"/>
                </a:cubicBezTo>
                <a:cubicBezTo>
                  <a:pt x="95" y="1059"/>
                  <a:pt x="62" y="1052"/>
                  <a:pt x="62" y="1052"/>
                </a:cubicBezTo>
                <a:cubicBezTo>
                  <a:pt x="56" y="1034"/>
                  <a:pt x="54" y="1015"/>
                  <a:pt x="47" y="997"/>
                </a:cubicBezTo>
                <a:cubicBezTo>
                  <a:pt x="43" y="988"/>
                  <a:pt x="35" y="982"/>
                  <a:pt x="31" y="974"/>
                </a:cubicBezTo>
                <a:cubicBezTo>
                  <a:pt x="27" y="967"/>
                  <a:pt x="25" y="959"/>
                  <a:pt x="23" y="951"/>
                </a:cubicBezTo>
                <a:cubicBezTo>
                  <a:pt x="16" y="928"/>
                  <a:pt x="0" y="881"/>
                  <a:pt x="0" y="881"/>
                </a:cubicBezTo>
                <a:cubicBezTo>
                  <a:pt x="8" y="835"/>
                  <a:pt x="0" y="826"/>
                  <a:pt x="47" y="826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886280" y="2560680"/>
            <a:ext cx="3651120" cy="3448080"/>
          </a:xfrm>
          <a:custGeom>
            <a:avLst/>
            <a:gdLst/>
            <a:ahLst/>
            <a:rect l="l" t="t" r="r" b="b"/>
            <a:pathLst>
              <a:path w="2300" h="2172">
                <a:moveTo>
                  <a:pt x="1660" y="0"/>
                </a:moveTo>
                <a:cubicBezTo>
                  <a:pt x="1777" y="42"/>
                  <a:pt x="1883" y="69"/>
                  <a:pt x="2003" y="94"/>
                </a:cubicBezTo>
                <a:cubicBezTo>
                  <a:pt x="2035" y="109"/>
                  <a:pt x="2056" y="141"/>
                  <a:pt x="2088" y="156"/>
                </a:cubicBezTo>
                <a:cubicBezTo>
                  <a:pt x="2112" y="167"/>
                  <a:pt x="2140" y="167"/>
                  <a:pt x="2166" y="172"/>
                </a:cubicBezTo>
                <a:cubicBezTo>
                  <a:pt x="2238" y="554"/>
                  <a:pt x="2199" y="947"/>
                  <a:pt x="2166" y="1333"/>
                </a:cubicBezTo>
                <a:cubicBezTo>
                  <a:pt x="2157" y="1604"/>
                  <a:pt x="2136" y="1873"/>
                  <a:pt x="2112" y="2143"/>
                </a:cubicBezTo>
                <a:cubicBezTo>
                  <a:pt x="2109" y="2172"/>
                  <a:pt x="2055" y="2148"/>
                  <a:pt x="2026" y="2151"/>
                </a:cubicBezTo>
                <a:cubicBezTo>
                  <a:pt x="1602" y="2127"/>
                  <a:pt x="2300" y="2165"/>
                  <a:pt x="1294" y="2136"/>
                </a:cubicBezTo>
                <a:cubicBezTo>
                  <a:pt x="969" y="2127"/>
                  <a:pt x="646" y="2080"/>
                  <a:pt x="327" y="2026"/>
                </a:cubicBezTo>
                <a:cubicBezTo>
                  <a:pt x="286" y="1995"/>
                  <a:pt x="277" y="1973"/>
                  <a:pt x="265" y="1925"/>
                </a:cubicBezTo>
                <a:cubicBezTo>
                  <a:pt x="270" y="1854"/>
                  <a:pt x="275" y="1785"/>
                  <a:pt x="288" y="1715"/>
                </a:cubicBezTo>
                <a:cubicBezTo>
                  <a:pt x="291" y="1684"/>
                  <a:pt x="312" y="1648"/>
                  <a:pt x="296" y="1621"/>
                </a:cubicBezTo>
                <a:cubicBezTo>
                  <a:pt x="255" y="1549"/>
                  <a:pt x="80" y="1551"/>
                  <a:pt x="0" y="1543"/>
                </a:cubicBezTo>
                <a:cubicBezTo>
                  <a:pt x="160" y="1502"/>
                  <a:pt x="483" y="1528"/>
                  <a:pt x="639" y="1528"/>
                </a:cubicBezTo>
                <a:lnTo>
                  <a:pt x="570" y="1507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7937280" y="6019920"/>
            <a:ext cx="1220040" cy="838080"/>
            <a:chOff x="7937280" y="6019920"/>
            <a:chExt cx="1220040" cy="838080"/>
          </a:xfrm>
        </p:grpSpPr>
        <p:pic>
          <p:nvPicPr>
            <p:cNvPr id="784" name="stop" descr=""/>
            <p:cNvPicPr/>
            <p:nvPr/>
          </p:nvPicPr>
          <p:blipFill>
            <a:blip r:embed="rId2"/>
            <a:stretch/>
          </p:blipFill>
          <p:spPr>
            <a:xfrm>
              <a:off x="8305920" y="6343560"/>
              <a:ext cx="5140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"/>
            <p:cNvSpPr/>
            <p:nvPr/>
          </p:nvSpPr>
          <p:spPr>
            <a:xfrm>
              <a:off x="7937280" y="6019920"/>
              <a:ext cx="122004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Sinusoid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3645720" y="76320"/>
            <a:ext cx="2806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RESONANT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580040" y="533520"/>
            <a:ext cx="6514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are circuits with very special frequency characteristics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resonance is a very important physical phenomen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914400" y="1523880"/>
            <a:ext cx="2336760" cy="4000680"/>
            <a:chOff x="914400" y="1523880"/>
            <a:chExt cx="2336760" cy="4000680"/>
          </a:xfrm>
        </p:grpSpPr>
        <p:pic>
          <p:nvPicPr>
            <p:cNvPr id="790" name="F11.018A_W1102" descr=""/>
            <p:cNvPicPr/>
            <p:nvPr/>
          </p:nvPicPr>
          <p:blipFill>
            <a:blip r:embed="rId1"/>
            <a:stretch/>
          </p:blipFill>
          <p:spPr>
            <a:xfrm>
              <a:off x="914400" y="1523880"/>
              <a:ext cx="2257560" cy="33148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91" name=""/>
                <p:cNvSpPr txBox="1"/>
                <p:nvPr/>
              </p:nvSpPr>
              <p:spPr>
                <a:xfrm>
                  <a:off x="914400" y="4572000"/>
                  <a:ext cx="2336760" cy="95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Series RLC circuit</m:t>
                          </m:r>
                        </m:e>
                        <m:e>
                          <m:r>
                            <m:t xml:space="preserve">Z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jωL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C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2" name=""/>
          <p:cNvGrpSpPr/>
          <p:nvPr/>
        </p:nvGrpSpPr>
        <p:grpSpPr>
          <a:xfrm>
            <a:off x="4648320" y="1828800"/>
            <a:ext cx="3752640" cy="2629080"/>
            <a:chOff x="4648320" y="1828800"/>
            <a:chExt cx="3752640" cy="2629080"/>
          </a:xfrm>
        </p:grpSpPr>
        <p:pic>
          <p:nvPicPr>
            <p:cNvPr id="793" name="F11.018B_W1102" descr=""/>
            <p:cNvPicPr/>
            <p:nvPr/>
          </p:nvPicPr>
          <p:blipFill>
            <a:blip r:embed="rId2"/>
            <a:stretch/>
          </p:blipFill>
          <p:spPr>
            <a:xfrm>
              <a:off x="4648320" y="1828800"/>
              <a:ext cx="3752640" cy="19051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94" name=""/>
                <p:cNvSpPr txBox="1"/>
                <p:nvPr/>
              </p:nvSpPr>
              <p:spPr>
                <a:xfrm>
                  <a:off x="5562720" y="3505320"/>
                  <a:ext cx="2311200" cy="95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Parallel RLC circuit</m:t>
                          </m:r>
                        </m:e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G</m:t>
                          </m:r>
                          <m:r>
                            <m:t xml:space="preserve">+</m:t>
                          </m:r>
                          <m:r>
                            <m:t xml:space="preserve">jωC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L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4191120" y="4572000"/>
                <a:ext cx="42415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reactance of each circuit is zero when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ωL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96" name=""/>
          <p:cNvSpPr/>
          <p:nvPr/>
        </p:nvSpPr>
        <p:spPr>
          <a:xfrm>
            <a:off x="1483920" y="5621400"/>
            <a:ext cx="7134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requency at which the circuit becomes purely resistive is 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onance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9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342720" y="135000"/>
            <a:ext cx="3257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erties of resona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91360" y="592200"/>
            <a:ext cx="5438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resonance the impedance/admittance is mini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1" name="F11.019A_W1103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3705480" cy="3248280"/>
          </a:xfrm>
          <a:prstGeom prst="rect">
            <a:avLst/>
          </a:prstGeom>
          <a:ln w="0">
            <a:noFill/>
          </a:ln>
        </p:spPr>
      </p:pic>
      <p:pic>
        <p:nvPicPr>
          <p:cNvPr id="802" name="F11.019B_W1103" descr=""/>
          <p:cNvPicPr/>
          <p:nvPr/>
        </p:nvPicPr>
        <p:blipFill>
          <a:blip r:embed="rId2"/>
          <a:stretch/>
        </p:blipFill>
        <p:spPr>
          <a:xfrm>
            <a:off x="5029200" y="1523880"/>
            <a:ext cx="3705120" cy="324828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2908440" y="4203720"/>
            <a:ext cx="42955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through the serial circuit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across the parallel circuit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come very large (if resistance is sma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1790640" y="5105520"/>
                <a:ext cx="3238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uality Factor:  </m:t>
                    </m:r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05" name=""/>
          <p:cNvGrpSpPr/>
          <p:nvPr/>
        </p:nvGrpSpPr>
        <p:grpSpPr>
          <a:xfrm>
            <a:off x="1676520" y="1143000"/>
            <a:ext cx="7035840" cy="1219320"/>
            <a:chOff x="1676520" y="1143000"/>
            <a:chExt cx="7035840" cy="1219320"/>
          </a:xfrm>
        </p:grpSpPr>
        <mc:AlternateContent>
          <mc:Choice xmlns:a14="http://schemas.microsoft.com/office/drawing/2010/main" Requires="a14">
            <p:sp>
              <p:nvSpPr>
                <p:cNvPr id="806" name=""/>
                <p:cNvSpPr txBox="1"/>
                <p:nvPr/>
              </p:nvSpPr>
              <p:spPr>
                <a:xfrm>
                  <a:off x="1676520" y="1143000"/>
                  <a:ext cx="2336760" cy="12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jωL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C</m:t>
                              </m:r>
                            </m:den>
                          </m:f>
                        </m:e>
                        <m:e>
                          <m:r>
                            <m:t xml:space="preserve">|</m:t>
                          </m:r>
                          <m:r>
                            <m:t xml:space="preserve">Z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L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C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7" name=""/>
                <p:cNvSpPr txBox="1"/>
                <p:nvPr/>
              </p:nvSpPr>
              <p:spPr>
                <a:xfrm>
                  <a:off x="6400800" y="1155600"/>
                  <a:ext cx="2311560" cy="120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G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L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jωC</m:t>
                          </m:r>
                        </m:e>
                        <m:e>
                          <m:r>
                            <m:t xml:space="preserve">|</m:t>
                          </m:r>
                          <m:r>
                            <m:t xml:space="preserve">Y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G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C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L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08" name=""/>
          <p:cNvSpPr/>
          <p:nvPr/>
        </p:nvSpPr>
        <p:spPr>
          <a:xfrm>
            <a:off x="1393560" y="5743440"/>
            <a:ext cx="7064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the similarities between series and parallel resonant circuit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focus on serial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9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1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266760" y="135000"/>
            <a:ext cx="3257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erties of resona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656800" y="533520"/>
            <a:ext cx="4060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resonance the power factor is u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4" name=""/>
          <p:cNvGraphicFramePr/>
          <p:nvPr/>
        </p:nvGraphicFramePr>
        <p:xfrm>
          <a:off x="2133720" y="3200400"/>
          <a:ext cx="5715000" cy="85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200400"/>
                    <a:ext cx="571500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16" name=""/>
          <p:cNvGrpSpPr/>
          <p:nvPr/>
        </p:nvGrpSpPr>
        <p:grpSpPr>
          <a:xfrm>
            <a:off x="152280" y="4343400"/>
            <a:ext cx="4095720" cy="2514600"/>
            <a:chOff x="152280" y="4343400"/>
            <a:chExt cx="4095720" cy="2514600"/>
          </a:xfrm>
        </p:grpSpPr>
        <p:pic>
          <p:nvPicPr>
            <p:cNvPr id="817" name="F11.020A_W1104" descr=""/>
            <p:cNvPicPr/>
            <p:nvPr/>
          </p:nvPicPr>
          <p:blipFill>
            <a:blip r:embed="rId3"/>
            <a:stretch/>
          </p:blipFill>
          <p:spPr>
            <a:xfrm>
              <a:off x="152280" y="4724280"/>
              <a:ext cx="409572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"/>
            <p:cNvSpPr/>
            <p:nvPr/>
          </p:nvSpPr>
          <p:spPr>
            <a:xfrm>
              <a:off x="457560" y="4343400"/>
              <a:ext cx="34815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diagram for series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4572000" y="4267080"/>
            <a:ext cx="4143240" cy="2514600"/>
            <a:chOff x="4572000" y="4267080"/>
            <a:chExt cx="4143240" cy="2514600"/>
          </a:xfrm>
        </p:grpSpPr>
        <p:pic>
          <p:nvPicPr>
            <p:cNvPr id="820" name="F11.020B_W1104" descr=""/>
            <p:cNvPicPr/>
            <p:nvPr/>
          </p:nvPicPr>
          <p:blipFill>
            <a:blip r:embed="rId4"/>
            <a:stretch/>
          </p:blipFill>
          <p:spPr>
            <a:xfrm>
              <a:off x="4572000" y="4647960"/>
              <a:ext cx="41432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"/>
            <p:cNvSpPr/>
            <p:nvPr/>
          </p:nvSpPr>
          <p:spPr>
            <a:xfrm>
              <a:off x="4853160" y="4267080"/>
              <a:ext cx="365688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diagram for parallel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22" name=""/>
          <p:cNvGraphicFramePr/>
          <p:nvPr/>
        </p:nvGraphicFramePr>
        <p:xfrm>
          <a:off x="228600" y="838080"/>
          <a:ext cx="1509840" cy="306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838080"/>
                    <a:ext cx="1509840" cy="30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990720" y="1219320"/>
                <a:ext cx="3031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828800" y="1828800"/>
                <a:ext cx="11304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762120" y="2666880"/>
                <a:ext cx="4428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jωL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827" name=""/>
          <p:cNvGraphicFramePr/>
          <p:nvPr/>
        </p:nvGraphicFramePr>
        <p:xfrm>
          <a:off x="3809880" y="1066680"/>
          <a:ext cx="3962520" cy="1595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1066680"/>
                    <a:ext cx="396252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29" name=""/>
          <p:cNvGrpSpPr/>
          <p:nvPr/>
        </p:nvGrpSpPr>
        <p:grpSpPr>
          <a:xfrm>
            <a:off x="4637160" y="1447920"/>
            <a:ext cx="392040" cy="900000"/>
            <a:chOff x="4637160" y="1447920"/>
            <a:chExt cx="392040" cy="900000"/>
          </a:xfrm>
        </p:grpSpPr>
        <p:sp>
          <p:nvSpPr>
            <p:cNvPr id="830" name=""/>
            <p:cNvSpPr/>
            <p:nvPr/>
          </p:nvSpPr>
          <p:spPr>
            <a:xfrm>
              <a:off x="5029200" y="1447920"/>
              <a:ext cx="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1" name=""/>
                <p:cNvSpPr txBox="1"/>
                <p:nvPr/>
              </p:nvSpPr>
              <p:spPr>
                <a:xfrm>
                  <a:off x="4637160" y="2057400"/>
                  <a:ext cx="392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G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32" name=""/>
          <p:cNvGrpSpPr/>
          <p:nvPr/>
        </p:nvGrpSpPr>
        <p:grpSpPr>
          <a:xfrm>
            <a:off x="5638680" y="1447920"/>
            <a:ext cx="660600" cy="976320"/>
            <a:chOff x="5638680" y="1447920"/>
            <a:chExt cx="660600" cy="976320"/>
          </a:xfrm>
        </p:grpSpPr>
        <p:sp>
          <p:nvSpPr>
            <p:cNvPr id="833" name=""/>
            <p:cNvSpPr/>
            <p:nvPr/>
          </p:nvSpPr>
          <p:spPr>
            <a:xfrm>
              <a:off x="6019920" y="1447920"/>
              <a:ext cx="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4" name=""/>
                <p:cNvSpPr txBox="1"/>
                <p:nvPr/>
              </p:nvSpPr>
              <p:spPr>
                <a:xfrm>
                  <a:off x="5638680" y="2133720"/>
                  <a:ext cx="660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ω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C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35" name=""/>
          <p:cNvGrpSpPr/>
          <p:nvPr/>
        </p:nvGrpSpPr>
        <p:grpSpPr>
          <a:xfrm>
            <a:off x="6858000" y="685800"/>
            <a:ext cx="647640" cy="1498680"/>
            <a:chOff x="6858000" y="685800"/>
            <a:chExt cx="647640" cy="1498680"/>
          </a:xfrm>
        </p:grpSpPr>
        <p:sp>
          <p:nvSpPr>
            <p:cNvPr id="836" name=""/>
            <p:cNvSpPr/>
            <p:nvPr/>
          </p:nvSpPr>
          <p:spPr>
            <a:xfrm>
              <a:off x="7315200" y="1422360"/>
              <a:ext cx="0" cy="762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7" name=""/>
                <p:cNvSpPr txBox="1"/>
                <p:nvPr/>
              </p:nvSpPr>
              <p:spPr>
                <a:xfrm>
                  <a:off x="6858000" y="685800"/>
                  <a:ext cx="6476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j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ω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838" name="geaux" descr=""/>
          <p:cNvPicPr/>
          <p:nvPr/>
        </p:nvPicPr>
        <p:blipFill>
          <a:blip r:embed="rId9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3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496240" y="58680"/>
            <a:ext cx="6198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resonant frequency, the voltage across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lement at resonance and the value of the quality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3" name="F11.021_W1105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3962160" cy="2428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44" name=""/>
              <p:cNvSpPr txBox="1"/>
              <p:nvPr/>
            </p:nvSpPr>
            <p:spPr>
              <a:xfrm>
                <a:off x="228600" y="3429000"/>
                <a:ext cx="10288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1295280" y="3429000"/>
                <a:ext cx="41655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rPr>
                        <m:lit/>
                        <m:nor/>
                      </m:rPr>
                      <m:t xml:space="preserve">/se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46" name=""/>
          <p:cNvGrpSpPr/>
          <p:nvPr/>
        </p:nvGrpSpPr>
        <p:grpSpPr>
          <a:xfrm>
            <a:off x="1828800" y="1295280"/>
            <a:ext cx="1295280" cy="214560"/>
            <a:chOff x="1828800" y="1295280"/>
            <a:chExt cx="1295280" cy="214560"/>
          </a:xfrm>
        </p:grpSpPr>
        <p:sp>
          <p:nvSpPr>
            <p:cNvPr id="847" name=""/>
            <p:cNvSpPr/>
            <p:nvPr/>
          </p:nvSpPr>
          <p:spPr>
            <a:xfrm>
              <a:off x="1828800" y="1295280"/>
              <a:ext cx="1295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8" name=""/>
                <p:cNvSpPr txBox="1"/>
                <p:nvPr/>
              </p:nvSpPr>
              <p:spPr>
                <a:xfrm>
                  <a:off x="2438280" y="1295280"/>
                  <a:ext cx="16380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228600" y="4419720"/>
                <a:ext cx="1994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228600" y="4114800"/>
                <a:ext cx="224784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 resonance 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228600" y="5029200"/>
                <a:ext cx="2984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2" name=""/>
              <p:cNvSpPr txBox="1"/>
              <p:nvPr/>
            </p:nvSpPr>
            <p:spPr>
              <a:xfrm>
                <a:off x="247680" y="5410080"/>
                <a:ext cx="3390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=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5200560" y="838080"/>
                <a:ext cx="346716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5943600" y="2514600"/>
                <a:ext cx="838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7010280" y="2514600"/>
                <a:ext cx="914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6" name=""/>
          <p:cNvSpPr/>
          <p:nvPr/>
        </p:nvSpPr>
        <p:spPr>
          <a:xfrm>
            <a:off x="6248520" y="380880"/>
            <a:ext cx="2361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715000" y="609480"/>
            <a:ext cx="27432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6172200" y="3657600"/>
                <a:ext cx="240048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59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F11.003B_W1082" descr=""/>
          <p:cNvPicPr/>
          <p:nvPr/>
        </p:nvPicPr>
        <p:blipFill>
          <a:blip r:embed="rId1"/>
          <a:stretch/>
        </p:blipFill>
        <p:spPr>
          <a:xfrm>
            <a:off x="609480" y="3429000"/>
            <a:ext cx="3476880" cy="2790720"/>
          </a:xfrm>
          <a:prstGeom prst="rect">
            <a:avLst/>
          </a:prstGeom>
          <a:ln w="0">
            <a:noFill/>
          </a:ln>
        </p:spPr>
      </p:pic>
      <p:pic>
        <p:nvPicPr>
          <p:cNvPr id="72" name="F11.003C_W1082" descr=""/>
          <p:cNvPicPr/>
          <p:nvPr/>
        </p:nvPicPr>
        <p:blipFill>
          <a:blip r:embed="rId2"/>
          <a:stretch/>
        </p:blipFill>
        <p:spPr>
          <a:xfrm>
            <a:off x="5029200" y="3429000"/>
            <a:ext cx="3610080" cy="279072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1537920" y="380880"/>
            <a:ext cx="6361560" cy="1800360"/>
            <a:chOff x="1537920" y="380880"/>
            <a:chExt cx="6361560" cy="1800360"/>
          </a:xfrm>
        </p:grpSpPr>
        <p:sp>
          <p:nvSpPr>
            <p:cNvPr id="74" name=""/>
            <p:cNvSpPr/>
            <p:nvPr/>
          </p:nvSpPr>
          <p:spPr>
            <a:xfrm>
              <a:off x="1537920" y="838080"/>
              <a:ext cx="1153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" name="F11.003A_W1082" descr=""/>
            <p:cNvPicPr/>
            <p:nvPr/>
          </p:nvPicPr>
          <p:blipFill>
            <a:blip r:embed="rId3"/>
            <a:stretch/>
          </p:blipFill>
          <p:spPr>
            <a:xfrm>
              <a:off x="3505320" y="380880"/>
              <a:ext cx="1800000" cy="18003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5638680" y="762120"/>
                  <a:ext cx="22608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jωC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ωC</m:t>
                          </m:r>
                        </m:den>
                      </m:f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7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502000" y="58680"/>
            <a:ext cx="6497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L = 0.02H with a Q factor of 200, determine the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cessary to form a circuit resonant at 1000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228600" y="4038480"/>
                <a:ext cx="2743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 with 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04920" y="990720"/>
                <a:ext cx="10285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1371600" y="990720"/>
                <a:ext cx="21718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  <m:r>
                              <m:t xml:space="preserve">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3581280" y="1143000"/>
                <a:ext cx="1447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8" name=""/>
          <p:cNvSpPr/>
          <p:nvPr/>
        </p:nvSpPr>
        <p:spPr>
          <a:xfrm>
            <a:off x="428400" y="1735200"/>
            <a:ext cx="4393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at is the rating for the capacitor i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 is tested with a 10V suppl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2743200" y="3519360"/>
                <a:ext cx="1473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304920" y="2438280"/>
                <a:ext cx="240012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2971800" y="4038480"/>
                <a:ext cx="29592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9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1676520" y="4648320"/>
                <a:ext cx="1574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3" name=""/>
          <p:cNvSpPr/>
          <p:nvPr/>
        </p:nvSpPr>
        <p:spPr>
          <a:xfrm>
            <a:off x="421200" y="5392800"/>
            <a:ext cx="3826080" cy="5806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active power on the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ceeds 12k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11016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8" name="E11.008_W1107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505320" cy="2189160"/>
          </a:xfrm>
          <a:prstGeom prst="rect">
            <a:avLst/>
          </a:prstGeom>
          <a:ln w="0">
            <a:noFill/>
          </a:ln>
        </p:spPr>
      </p:pic>
      <p:sp>
        <p:nvSpPr>
          <p:cNvPr id="879" name=""/>
          <p:cNvSpPr/>
          <p:nvPr/>
        </p:nvSpPr>
        <p:spPr>
          <a:xfrm>
            <a:off x="2988720" y="135000"/>
            <a:ext cx="5987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value of C that will place the circuit in reso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1800rad/s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0" name=""/>
              <p:cNvSpPr txBox="1"/>
              <p:nvPr/>
            </p:nvSpPr>
            <p:spPr>
              <a:xfrm>
                <a:off x="4000680" y="838080"/>
                <a:ext cx="10285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1" name=""/>
              <p:cNvSpPr txBox="1"/>
              <p:nvPr/>
            </p:nvSpPr>
            <p:spPr>
              <a:xfrm>
                <a:off x="5079960" y="838080"/>
                <a:ext cx="3606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×</m:t>
                            </m:r>
                            <m:r>
                              <m:t xml:space="preserve">C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2" name=""/>
              <p:cNvSpPr txBox="1"/>
              <p:nvPr/>
            </p:nvSpPr>
            <p:spPr>
              <a:xfrm>
                <a:off x="5486400" y="1523880"/>
                <a:ext cx="11937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3" name=""/>
          <p:cNvSpPr/>
          <p:nvPr/>
        </p:nvSpPr>
        <p:spPr>
          <a:xfrm>
            <a:off x="343080" y="3335400"/>
            <a:ext cx="7431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Q for the network and the magnitude of the voltage acros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380880" y="4038480"/>
                <a:ext cx="838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"/>
              <p:cNvSpPr txBox="1"/>
              <p:nvPr/>
            </p:nvSpPr>
            <p:spPr>
              <a:xfrm>
                <a:off x="1371600" y="4038480"/>
                <a:ext cx="17906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228600" y="4800600"/>
                <a:ext cx="240048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2819520" y="5486400"/>
                <a:ext cx="1130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88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8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150480" y="76320"/>
            <a:ext cx="33613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ce for the serie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2" name="F11.018A_W1102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2257200" cy="3314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2362320" y="533520"/>
                <a:ext cx="233676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e>
                      <m:e>
                        <m:r>
                          <m:t xml:space="preserve">|</m:t>
                        </m:r>
                        <m:r>
                          <m:t xml:space="preserve">Z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0" y="4038480"/>
                <a:ext cx="204480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: 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Q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1219320" y="4952880"/>
                <a:ext cx="2958840" cy="13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ω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2387520" y="1905120"/>
                <a:ext cx="26290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laim: The voltage gain i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ω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"/>
              <p:cNvSpPr txBox="1"/>
              <p:nvPr/>
            </p:nvSpPr>
            <p:spPr>
              <a:xfrm>
                <a:off x="1219320" y="3200400"/>
                <a:ext cx="28573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914400" y="6324480"/>
                <a:ext cx="2425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899" name=""/>
          <p:cNvGrpSpPr/>
          <p:nvPr/>
        </p:nvGrpSpPr>
        <p:grpSpPr>
          <a:xfrm>
            <a:off x="4791240" y="0"/>
            <a:ext cx="4416120" cy="6858000"/>
            <a:chOff x="4791240" y="0"/>
            <a:chExt cx="4416120" cy="6858000"/>
          </a:xfrm>
        </p:grpSpPr>
        <p:pic>
          <p:nvPicPr>
            <p:cNvPr id="900" name="F11.023_W1108" descr=""/>
            <p:cNvPicPr/>
            <p:nvPr/>
          </p:nvPicPr>
          <p:blipFill>
            <a:blip r:embed="rId2"/>
            <a:stretch/>
          </p:blipFill>
          <p:spPr>
            <a:xfrm>
              <a:off x="4791240" y="0"/>
              <a:ext cx="4352760" cy="68580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901" name=""/>
                <p:cNvSpPr txBox="1"/>
                <p:nvPr/>
              </p:nvSpPr>
              <p:spPr>
                <a:xfrm>
                  <a:off x="6273720" y="0"/>
                  <a:ext cx="287028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sSup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(</m:t>
                                  </m:r>
                                  <m:f>
                                    <m:num>
                                      <m:r>
                                        <m:t xml:space="preserve">ω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ω</m:t>
                                      </m:r>
                                    </m:den>
                                  </m:f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d>
                            </m:e>
                            <m:sup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2" name=""/>
                <p:cNvSpPr txBox="1"/>
                <p:nvPr/>
              </p:nvSpPr>
              <p:spPr>
                <a:xfrm>
                  <a:off x="6781680" y="3809880"/>
                  <a:ext cx="24256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Q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ω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ω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7696080" y="1295280"/>
                <a:ext cx="95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5518080" y="6006960"/>
                <a:ext cx="28702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Q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05" name=""/>
          <p:cNvGrpSpPr/>
          <p:nvPr/>
        </p:nvGrpSpPr>
        <p:grpSpPr>
          <a:xfrm>
            <a:off x="6383160" y="2990880"/>
            <a:ext cx="2532240" cy="717480"/>
            <a:chOff x="6383160" y="2990880"/>
            <a:chExt cx="2532240" cy="717480"/>
          </a:xfrm>
        </p:grpSpPr>
        <mc:AlternateContent>
          <mc:Choice xmlns:a14="http://schemas.microsoft.com/office/drawing/2010/main" Requires="a14">
            <p:sp>
              <p:nvSpPr>
                <p:cNvPr id="906" name=""/>
                <p:cNvSpPr txBox="1"/>
                <p:nvPr/>
              </p:nvSpPr>
              <p:spPr>
                <a:xfrm>
                  <a:off x="6553080" y="3429000"/>
                  <a:ext cx="23623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alf power frequencie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07" name=""/>
            <p:cNvSpPr/>
            <p:nvPr/>
          </p:nvSpPr>
          <p:spPr>
            <a:xfrm>
              <a:off x="6383160" y="2990880"/>
              <a:ext cx="1328760" cy="522360"/>
            </a:xfrm>
            <a:custGeom>
              <a:avLst/>
              <a:gdLst/>
              <a:ahLst/>
              <a:rect l="l" t="t" r="r" b="b"/>
              <a:pathLst>
                <a:path w="837" h="329">
                  <a:moveTo>
                    <a:pt x="288" y="150"/>
                  </a:moveTo>
                  <a:cubicBezTo>
                    <a:pt x="273" y="108"/>
                    <a:pt x="203" y="103"/>
                    <a:pt x="164" y="88"/>
                  </a:cubicBezTo>
                  <a:cubicBezTo>
                    <a:pt x="97" y="38"/>
                    <a:pt x="113" y="53"/>
                    <a:pt x="31" y="119"/>
                  </a:cubicBezTo>
                  <a:cubicBezTo>
                    <a:pt x="1" y="209"/>
                    <a:pt x="11" y="165"/>
                    <a:pt x="0" y="251"/>
                  </a:cubicBezTo>
                  <a:cubicBezTo>
                    <a:pt x="40" y="329"/>
                    <a:pt x="65" y="296"/>
                    <a:pt x="171" y="290"/>
                  </a:cubicBezTo>
                  <a:cubicBezTo>
                    <a:pt x="218" y="282"/>
                    <a:pt x="264" y="278"/>
                    <a:pt x="304" y="251"/>
                  </a:cubicBezTo>
                  <a:cubicBezTo>
                    <a:pt x="392" y="260"/>
                    <a:pt x="481" y="262"/>
                    <a:pt x="569" y="275"/>
                  </a:cubicBezTo>
                  <a:cubicBezTo>
                    <a:pt x="837" y="200"/>
                    <a:pt x="785" y="278"/>
                    <a:pt x="818" y="88"/>
                  </a:cubicBezTo>
                  <a:cubicBezTo>
                    <a:pt x="730" y="0"/>
                    <a:pt x="744" y="33"/>
                    <a:pt x="577" y="41"/>
                  </a:cubicBezTo>
                  <a:cubicBezTo>
                    <a:pt x="457" y="71"/>
                    <a:pt x="483" y="76"/>
                    <a:pt x="483" y="21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8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0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152280" y="5562720"/>
                <a:ext cx="7225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256320" y="58680"/>
            <a:ext cx="14274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Q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1828800" y="76320"/>
                <a:ext cx="1701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4" name=""/>
              <p:cNvSpPr txBox="1"/>
              <p:nvPr/>
            </p:nvSpPr>
            <p:spPr>
              <a:xfrm>
                <a:off x="609480" y="685800"/>
                <a:ext cx="35053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series circuit:  High Q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Low 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76320" y="990720"/>
                <a:ext cx="45338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parallel circuit:  High Q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High  R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ow 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16" name=""/>
          <p:cNvGrpSpPr/>
          <p:nvPr/>
        </p:nvGrpSpPr>
        <p:grpSpPr>
          <a:xfrm>
            <a:off x="76320" y="1828800"/>
            <a:ext cx="4647600" cy="2593800"/>
            <a:chOff x="76320" y="1828800"/>
            <a:chExt cx="4647600" cy="2593800"/>
          </a:xfrm>
        </p:grpSpPr>
        <p:pic>
          <p:nvPicPr>
            <p:cNvPr id="917" name="F11.024_W1109" descr=""/>
            <p:cNvPicPr/>
            <p:nvPr/>
          </p:nvPicPr>
          <p:blipFill>
            <a:blip r:embed="rId1"/>
            <a:stretch/>
          </p:blipFill>
          <p:spPr>
            <a:xfrm>
              <a:off x="152280" y="1828800"/>
              <a:ext cx="4571640" cy="25938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918" name=""/>
                <p:cNvSpPr txBox="1"/>
                <p:nvPr/>
              </p:nvSpPr>
              <p:spPr>
                <a:xfrm rot="10800000">
                  <a:off x="76320" y="1980720"/>
                  <a:ext cx="31572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19" name=""/>
              <p:cNvSpPr txBox="1"/>
              <p:nvPr/>
            </p:nvSpPr>
            <p:spPr>
              <a:xfrm>
                <a:off x="685800" y="1523880"/>
                <a:ext cx="19684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igh Q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Small BW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20" name=""/>
          <p:cNvGrpSpPr/>
          <p:nvPr/>
        </p:nvGrpSpPr>
        <p:grpSpPr>
          <a:xfrm>
            <a:off x="5486400" y="114480"/>
            <a:ext cx="3614760" cy="3314520"/>
            <a:chOff x="5486400" y="114480"/>
            <a:chExt cx="3614760" cy="3314520"/>
          </a:xfrm>
        </p:grpSpPr>
        <p:pic>
          <p:nvPicPr>
            <p:cNvPr id="921" name="F11.018A_W1102" descr=""/>
            <p:cNvPicPr/>
            <p:nvPr/>
          </p:nvPicPr>
          <p:blipFill>
            <a:blip r:embed="rId2"/>
            <a:stretch/>
          </p:blipFill>
          <p:spPr>
            <a:xfrm>
              <a:off x="5486400" y="114480"/>
              <a:ext cx="2257560" cy="33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2" name=""/>
            <p:cNvSpPr/>
            <p:nvPr/>
          </p:nvSpPr>
          <p:spPr>
            <a:xfrm>
              <a:off x="7785000" y="806400"/>
              <a:ext cx="1194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issipa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788600" y="1430280"/>
              <a:ext cx="1259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ores as 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e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710480" y="2116080"/>
              <a:ext cx="1390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ores as 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e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4786920" y="1401840"/>
            <a:ext cx="4243680" cy="2558880"/>
            <a:chOff x="4786920" y="1401840"/>
            <a:chExt cx="4243680" cy="2558880"/>
          </a:xfrm>
        </p:grpSpPr>
        <p:sp>
          <p:nvSpPr>
            <p:cNvPr id="926" name=""/>
            <p:cNvSpPr/>
            <p:nvPr/>
          </p:nvSpPr>
          <p:spPr>
            <a:xfrm>
              <a:off x="4786920" y="3136680"/>
              <a:ext cx="424368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 and inductor exchange sto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nergy. When one is at maximum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ther is at zer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7" name=""/>
            <p:cNvGrpSpPr/>
            <p:nvPr/>
          </p:nvGrpSpPr>
          <p:grpSpPr>
            <a:xfrm>
              <a:off x="6477120" y="1401840"/>
              <a:ext cx="838080" cy="1190160"/>
              <a:chOff x="6477120" y="1401840"/>
              <a:chExt cx="838080" cy="1190160"/>
            </a:xfrm>
          </p:grpSpPr>
          <p:sp>
            <p:nvSpPr>
              <p:cNvPr id="928" name=""/>
              <p:cNvSpPr/>
              <p:nvPr/>
            </p:nvSpPr>
            <p:spPr>
              <a:xfrm>
                <a:off x="6677280" y="1976760"/>
                <a:ext cx="637920" cy="615240"/>
              </a:xfrm>
              <a:custGeom>
                <a:avLst/>
                <a:gdLst>
                  <a:gd name="textAreaLeft" fmla="*/ 111600 w 637920"/>
                  <a:gd name="textAreaRight" fmla="*/ 462600 w 637920"/>
                  <a:gd name="textAreaTop" fmla="*/ 82440 h 615240"/>
                  <a:gd name="textAreaBottom" fmla="*/ 532800 h 615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477120" y="1401840"/>
                <a:ext cx="637920" cy="870480"/>
              </a:xfrm>
              <a:custGeom>
                <a:avLst/>
                <a:gdLst>
                  <a:gd name="textAreaLeft" fmla="*/ 111600 w 637920"/>
                  <a:gd name="textAreaRight" fmla="*/ 462600 w 637920"/>
                  <a:gd name="textAreaTop" fmla="*/ 116640 h 870480"/>
                  <a:gd name="textAreaBottom" fmla="*/ 753840 h 870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0" name=""/>
          <p:cNvGrpSpPr/>
          <p:nvPr/>
        </p:nvGrpSpPr>
        <p:grpSpPr>
          <a:xfrm>
            <a:off x="4724280" y="4038480"/>
            <a:ext cx="4286520" cy="609840"/>
            <a:chOff x="4724280" y="4038480"/>
            <a:chExt cx="4286520" cy="609840"/>
          </a:xfrm>
        </p:grpSpPr>
        <mc:AlternateContent>
          <mc:Choice xmlns:a14="http://schemas.microsoft.com/office/drawing/2010/main" Requires="a14">
            <p:sp>
              <p:nvSpPr>
                <p:cNvPr id="931" name=""/>
                <p:cNvSpPr txBox="1"/>
                <p:nvPr/>
              </p:nvSpPr>
              <p:spPr>
                <a:xfrm>
                  <a:off x="4724280" y="4038480"/>
                  <a:ext cx="107964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f>
                        <m:num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32" name=""/>
                <p:cNvSpPr txBox="1"/>
                <p:nvPr/>
              </p:nvSpPr>
              <p:spPr>
                <a:xfrm>
                  <a:off x="5861160" y="4038480"/>
                  <a:ext cx="314964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maximum energy stored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energy dissipated by cycle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33" name=""/>
          <p:cNvSpPr/>
          <p:nvPr/>
        </p:nvSpPr>
        <p:spPr>
          <a:xfrm>
            <a:off x="348480" y="4707000"/>
            <a:ext cx="35989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Q can also be interpreted from 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nergy point of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4724280" y="4724280"/>
                <a:ext cx="2908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4724280" y="5322960"/>
                <a:ext cx="21211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6" name=""/>
              <p:cNvSpPr txBox="1"/>
              <p:nvPr/>
            </p:nvSpPr>
            <p:spPr>
              <a:xfrm>
                <a:off x="4724280" y="5943600"/>
                <a:ext cx="1765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37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3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F11.018A_W1102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2257560" cy="331452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2438280" y="1233360"/>
                <a:ext cx="33048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3" name=""/>
              <p:cNvSpPr txBox="1"/>
              <p:nvPr/>
            </p:nvSpPr>
            <p:spPr>
              <a:xfrm>
                <a:off x="2514600" y="2590920"/>
                <a:ext cx="558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2514600" y="1905120"/>
                <a:ext cx="5079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5" name=""/>
          <p:cNvSpPr/>
          <p:nvPr/>
        </p:nvSpPr>
        <p:spPr>
          <a:xfrm>
            <a:off x="2803320" y="152280"/>
            <a:ext cx="5622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resonant frequency, quality factor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ndwidth when R=2 and when R=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4572000" y="838080"/>
                <a:ext cx="1701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7" name=""/>
              <p:cNvSpPr txBox="1"/>
              <p:nvPr/>
            </p:nvSpPr>
            <p:spPr>
              <a:xfrm>
                <a:off x="3200400" y="838080"/>
                <a:ext cx="10288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6477120" y="838080"/>
                <a:ext cx="95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3200400" y="1523880"/>
                <a:ext cx="36831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rPr>
                        <m:lit/>
                        <m:nor/>
                      </m:rPr>
                      <m:t xml:space="preserve">/sec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50" name=""/>
          <p:cNvGraphicFramePr/>
          <p:nvPr/>
        </p:nvGraphicFramePr>
        <p:xfrm>
          <a:off x="3322800" y="2362320"/>
          <a:ext cx="1249200" cy="704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22800" y="2362320"/>
                    <a:ext cx="12492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2" name=""/>
          <p:cNvGraphicFramePr/>
          <p:nvPr/>
        </p:nvGraphicFramePr>
        <p:xfrm>
          <a:off x="5438880" y="2436840"/>
          <a:ext cx="2421000" cy="7048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38880" y="2436840"/>
                    <a:ext cx="24210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54" name=""/>
          <p:cNvGrpSpPr/>
          <p:nvPr/>
        </p:nvGrpSpPr>
        <p:grpSpPr>
          <a:xfrm>
            <a:off x="3200400" y="3124080"/>
            <a:ext cx="4102200" cy="1023120"/>
            <a:chOff x="3200400" y="3124080"/>
            <a:chExt cx="4102200" cy="1023120"/>
          </a:xfrm>
        </p:grpSpPr>
        <p:sp>
          <p:nvSpPr>
            <p:cNvPr id="955" name=""/>
            <p:cNvSpPr/>
            <p:nvPr/>
          </p:nvSpPr>
          <p:spPr>
            <a:xfrm>
              <a:off x="4082400" y="3809880"/>
              <a:ext cx="2407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valuated with EXCE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6" name=""/>
                <p:cNvSpPr txBox="1"/>
                <p:nvPr/>
              </p:nvSpPr>
              <p:spPr>
                <a:xfrm>
                  <a:off x="3200400" y="3124080"/>
                  <a:ext cx="170172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000</m:t>
                          </m:r>
                          <m:r>
                            <m:t xml:space="preserve">×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02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7" name=""/>
                <p:cNvSpPr txBox="1"/>
                <p:nvPr/>
              </p:nvSpPr>
              <p:spPr>
                <a:xfrm>
                  <a:off x="5791320" y="3276720"/>
                  <a:ext cx="15112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rPr>
                              <m:lit/>
                              <m:nor/>
                            </m:rPr>
                            <m:t xml:space="preserve">10000</m:t>
                          </m:r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958" name="geaux" descr=""/>
          <p:cNvPicPr/>
          <p:nvPr/>
        </p:nvPicPr>
        <p:blipFill>
          <a:blip r:embed="rId6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5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1670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915280" y="58680"/>
            <a:ext cx="4940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eries RLC circuit as the following proper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3124080" y="380880"/>
                <a:ext cx="4280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00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rPr>
                        <m:lit/>
                        <m:nor/>
                      </m:rPr>
                      <m:t xml:space="preserve">/sec,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rPr>
                        <m:lit/>
                        <m:nor/>
                      </m:rPr>
                      <m:t xml:space="preserve">/se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4" name=""/>
          <p:cNvSpPr/>
          <p:nvPr/>
        </p:nvSpPr>
        <p:spPr>
          <a:xfrm>
            <a:off x="2921760" y="744480"/>
            <a:ext cx="3036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values of L,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2362320" y="1295280"/>
            <a:ext cx="4228920" cy="609840"/>
            <a:chOff x="2362320" y="1295280"/>
            <a:chExt cx="4228920" cy="609840"/>
          </a:xfrm>
        </p:grpSpPr>
        <mc:AlternateContent>
          <mc:Choice xmlns:a14="http://schemas.microsoft.com/office/drawing/2010/main" Requires="a14">
            <p:sp>
              <p:nvSpPr>
                <p:cNvPr id="966" name=""/>
                <p:cNvSpPr txBox="1"/>
                <p:nvPr/>
              </p:nvSpPr>
              <p:spPr>
                <a:xfrm>
                  <a:off x="3733920" y="1295280"/>
                  <a:ext cx="170172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7" name=""/>
                <p:cNvSpPr txBox="1"/>
                <p:nvPr/>
              </p:nvSpPr>
              <p:spPr>
                <a:xfrm>
                  <a:off x="2362320" y="1295280"/>
                  <a:ext cx="102852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8" name=""/>
                <p:cNvSpPr txBox="1"/>
                <p:nvPr/>
              </p:nvSpPr>
              <p:spPr>
                <a:xfrm>
                  <a:off x="5638680" y="1295280"/>
                  <a:ext cx="9525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69" name=""/>
          <p:cNvSpPr/>
          <p:nvPr/>
        </p:nvSpPr>
        <p:spPr>
          <a:xfrm>
            <a:off x="520560" y="2192400"/>
            <a:ext cx="6002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Given resonant frequency and bandwidth determine Q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Given R, resonant frequency and Q determine L, 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685800" y="2870280"/>
                <a:ext cx="2031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1" name=""/>
              <p:cNvSpPr txBox="1"/>
              <p:nvPr/>
            </p:nvSpPr>
            <p:spPr>
              <a:xfrm>
                <a:off x="685800" y="3581280"/>
                <a:ext cx="24890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0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609480" y="4267080"/>
                <a:ext cx="49024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L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R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73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7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F11.025_W1110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3543480" cy="147636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2539080" y="76320"/>
            <a:ext cx="6490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R, L, C so that the circuit operates as a band-pas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center frequency of 1000rad/s and bandwidth of 100rad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3962520" y="762120"/>
                <a:ext cx="28573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80" name=""/>
          <p:cNvGrpSpPr/>
          <p:nvPr/>
        </p:nvGrpSpPr>
        <p:grpSpPr>
          <a:xfrm>
            <a:off x="4038480" y="1828800"/>
            <a:ext cx="4228920" cy="609480"/>
            <a:chOff x="4038480" y="1828800"/>
            <a:chExt cx="4228920" cy="609480"/>
          </a:xfrm>
        </p:grpSpPr>
        <mc:AlternateContent>
          <mc:Choice xmlns:a14="http://schemas.microsoft.com/office/drawing/2010/main" Requires="a14">
            <p:sp>
              <p:nvSpPr>
                <p:cNvPr id="981" name=""/>
                <p:cNvSpPr txBox="1"/>
                <p:nvPr/>
              </p:nvSpPr>
              <p:spPr>
                <a:xfrm>
                  <a:off x="5410080" y="1828800"/>
                  <a:ext cx="17017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2" name=""/>
                <p:cNvSpPr txBox="1"/>
                <p:nvPr/>
              </p:nvSpPr>
              <p:spPr>
                <a:xfrm>
                  <a:off x="4038480" y="1828800"/>
                  <a:ext cx="102852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3" name=""/>
                <p:cNvSpPr txBox="1"/>
                <p:nvPr/>
              </p:nvSpPr>
              <p:spPr>
                <a:xfrm>
                  <a:off x="7314840" y="1828800"/>
                  <a:ext cx="952560" cy="59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84" name=""/>
          <p:cNvGrpSpPr/>
          <p:nvPr/>
        </p:nvGrpSpPr>
        <p:grpSpPr>
          <a:xfrm>
            <a:off x="7315200" y="1752480"/>
            <a:ext cx="990720" cy="685800"/>
            <a:chOff x="7315200" y="1752480"/>
            <a:chExt cx="990720" cy="685800"/>
          </a:xfrm>
        </p:grpSpPr>
        <p:sp>
          <p:nvSpPr>
            <p:cNvPr id="985" name=""/>
            <p:cNvSpPr/>
            <p:nvPr/>
          </p:nvSpPr>
          <p:spPr>
            <a:xfrm>
              <a:off x="7315200" y="1752480"/>
              <a:ext cx="457200" cy="68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848720" y="1752480"/>
              <a:ext cx="457200" cy="3812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7" name=""/>
          <p:cNvSpPr/>
          <p:nvPr/>
        </p:nvSpPr>
        <p:spPr>
          <a:xfrm>
            <a:off x="3962520" y="1828800"/>
            <a:ext cx="380880" cy="533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5410080" y="1828800"/>
            <a:ext cx="762120" cy="533520"/>
            <a:chOff x="5410080" y="1828800"/>
            <a:chExt cx="762120" cy="533520"/>
          </a:xfrm>
        </p:grpSpPr>
        <p:sp>
          <p:nvSpPr>
            <p:cNvPr id="989" name=""/>
            <p:cNvSpPr/>
            <p:nvPr/>
          </p:nvSpPr>
          <p:spPr>
            <a:xfrm>
              <a:off x="5410080" y="1828800"/>
              <a:ext cx="304920" cy="5335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791320" y="1828800"/>
              <a:ext cx="380880" cy="304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6269040" y="1752480"/>
            <a:ext cx="1279440" cy="1081800"/>
            <a:chOff x="6269040" y="1752480"/>
            <a:chExt cx="1279440" cy="1081800"/>
          </a:xfrm>
        </p:grpSpPr>
        <p:sp>
          <p:nvSpPr>
            <p:cNvPr id="992" name=""/>
            <p:cNvSpPr/>
            <p:nvPr/>
          </p:nvSpPr>
          <p:spPr>
            <a:xfrm>
              <a:off x="6477120" y="1752480"/>
              <a:ext cx="685800" cy="762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269040" y="2496960"/>
              <a:ext cx="12794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pend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4" name=""/>
          <p:cNvSpPr/>
          <p:nvPr/>
        </p:nvSpPr>
        <p:spPr>
          <a:xfrm>
            <a:off x="368640" y="2876400"/>
            <a:ext cx="803700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ateg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etermine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Use value of resonant frequency and Q to set up two equations in the th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know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Assign a value to one of the unknow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228600" y="4419720"/>
                <a:ext cx="1981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"/>
              <p:cNvSpPr txBox="1"/>
              <p:nvPr/>
            </p:nvSpPr>
            <p:spPr>
              <a:xfrm>
                <a:off x="228600" y="5715000"/>
                <a:ext cx="2197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7" name=""/>
              <p:cNvSpPr txBox="1"/>
              <p:nvPr/>
            </p:nvSpPr>
            <p:spPr>
              <a:xfrm>
                <a:off x="254160" y="5029200"/>
                <a:ext cx="24890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98" name=""/>
          <p:cNvGrpSpPr/>
          <p:nvPr/>
        </p:nvGrpSpPr>
        <p:grpSpPr>
          <a:xfrm>
            <a:off x="4649040" y="4325760"/>
            <a:ext cx="3212280" cy="358920"/>
            <a:chOff x="4649040" y="4325760"/>
            <a:chExt cx="3212280" cy="358920"/>
          </a:xfrm>
        </p:grpSpPr>
        <p:sp>
          <p:nvSpPr>
            <p:cNvPr id="999" name=""/>
            <p:cNvSpPr/>
            <p:nvPr/>
          </p:nvSpPr>
          <p:spPr>
            <a:xfrm>
              <a:off x="4649040" y="4325760"/>
              <a:ext cx="1432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0" name=""/>
                <p:cNvSpPr txBox="1"/>
                <p:nvPr/>
              </p:nvSpPr>
              <p:spPr>
                <a:xfrm>
                  <a:off x="6172200" y="4343400"/>
                  <a:ext cx="16891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sup>
                      </m:sSup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1" name=""/>
          <p:cNvGrpSpPr/>
          <p:nvPr/>
        </p:nvGrpSpPr>
        <p:grpSpPr>
          <a:xfrm>
            <a:off x="2860560" y="4800600"/>
            <a:ext cx="2955960" cy="682560"/>
            <a:chOff x="2860560" y="4800600"/>
            <a:chExt cx="2955960" cy="682560"/>
          </a:xfrm>
        </p:grpSpPr>
        <p:sp>
          <p:nvSpPr>
            <p:cNvPr id="1002" name=""/>
            <p:cNvSpPr/>
            <p:nvPr/>
          </p:nvSpPr>
          <p:spPr>
            <a:xfrm>
              <a:off x="2860560" y="4826160"/>
              <a:ext cx="2289240" cy="657000"/>
            </a:xfrm>
            <a:custGeom>
              <a:avLst/>
              <a:gdLst/>
              <a:ahLst/>
              <a:rect l="l" t="t" r="r" b="b"/>
              <a:pathLst>
                <a:path w="1442" h="414">
                  <a:moveTo>
                    <a:pt x="0" y="356"/>
                  </a:moveTo>
                  <a:cubicBezTo>
                    <a:pt x="274" y="366"/>
                    <a:pt x="544" y="396"/>
                    <a:pt x="818" y="410"/>
                  </a:cubicBezTo>
                  <a:cubicBezTo>
                    <a:pt x="839" y="408"/>
                    <a:pt x="863" y="414"/>
                    <a:pt x="881" y="403"/>
                  </a:cubicBezTo>
                  <a:cubicBezTo>
                    <a:pt x="896" y="394"/>
                    <a:pt x="893" y="369"/>
                    <a:pt x="904" y="356"/>
                  </a:cubicBezTo>
                  <a:cubicBezTo>
                    <a:pt x="937" y="317"/>
                    <a:pt x="977" y="283"/>
                    <a:pt x="1013" y="247"/>
                  </a:cubicBezTo>
                  <a:cubicBezTo>
                    <a:pt x="1044" y="216"/>
                    <a:pt x="1076" y="184"/>
                    <a:pt x="1107" y="153"/>
                  </a:cubicBezTo>
                  <a:cubicBezTo>
                    <a:pt x="1128" y="132"/>
                    <a:pt x="1169" y="91"/>
                    <a:pt x="1169" y="91"/>
                  </a:cubicBezTo>
                  <a:cubicBezTo>
                    <a:pt x="1200" y="0"/>
                    <a:pt x="1169" y="42"/>
                    <a:pt x="1325" y="52"/>
                  </a:cubicBezTo>
                  <a:cubicBezTo>
                    <a:pt x="1364" y="54"/>
                    <a:pt x="1442" y="60"/>
                    <a:pt x="1442" y="6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3" name=""/>
                <p:cNvSpPr txBox="1"/>
                <p:nvPr/>
              </p:nvSpPr>
              <p:spPr>
                <a:xfrm>
                  <a:off x="5105520" y="4800600"/>
                  <a:ext cx="71100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4" name=""/>
          <p:cNvGrpSpPr/>
          <p:nvPr/>
        </p:nvGrpSpPr>
        <p:grpSpPr>
          <a:xfrm>
            <a:off x="2462040" y="5334120"/>
            <a:ext cx="3646800" cy="703080"/>
            <a:chOff x="2462040" y="5334120"/>
            <a:chExt cx="3646800" cy="703080"/>
          </a:xfrm>
        </p:grpSpPr>
        <p:sp>
          <p:nvSpPr>
            <p:cNvPr id="1005" name=""/>
            <p:cNvSpPr/>
            <p:nvPr/>
          </p:nvSpPr>
          <p:spPr>
            <a:xfrm>
              <a:off x="2462040" y="5486400"/>
              <a:ext cx="2719440" cy="550800"/>
            </a:xfrm>
            <a:custGeom>
              <a:avLst/>
              <a:gdLst/>
              <a:ahLst/>
              <a:rect l="l" t="t" r="r" b="b"/>
              <a:pathLst>
                <a:path w="1713" h="347">
                  <a:moveTo>
                    <a:pt x="0" y="347"/>
                  </a:moveTo>
                  <a:cubicBezTo>
                    <a:pt x="467" y="328"/>
                    <a:pt x="259" y="335"/>
                    <a:pt x="623" y="324"/>
                  </a:cubicBezTo>
                  <a:cubicBezTo>
                    <a:pt x="739" y="314"/>
                    <a:pt x="849" y="305"/>
                    <a:pt x="966" y="300"/>
                  </a:cubicBezTo>
                  <a:cubicBezTo>
                    <a:pt x="1082" y="262"/>
                    <a:pt x="1159" y="248"/>
                    <a:pt x="1278" y="238"/>
                  </a:cubicBezTo>
                  <a:cubicBezTo>
                    <a:pt x="1339" y="217"/>
                    <a:pt x="1357" y="213"/>
                    <a:pt x="1426" y="144"/>
                  </a:cubicBezTo>
                  <a:cubicBezTo>
                    <a:pt x="1463" y="107"/>
                    <a:pt x="1521" y="35"/>
                    <a:pt x="1582" y="35"/>
                  </a:cubicBezTo>
                  <a:lnTo>
                    <a:pt x="1713" y="0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6" name=""/>
                <p:cNvSpPr txBox="1"/>
                <p:nvPr/>
              </p:nvSpPr>
              <p:spPr>
                <a:xfrm>
                  <a:off x="5181480" y="5334120"/>
                  <a:ext cx="9273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007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0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"/>
          <p:cNvSpPr/>
          <p:nvPr/>
        </p:nvSpPr>
        <p:spPr>
          <a:xfrm>
            <a:off x="272520" y="76320"/>
            <a:ext cx="69624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ERTIES OF RESONANT CIRCUITS: VOLTAGE ACROSS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1" name="F11.026_W1111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505320" cy="1171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4038480" y="533520"/>
                <a:ext cx="13590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3" name=""/>
          <p:cNvSpPr/>
          <p:nvPr/>
        </p:nvSpPr>
        <p:spPr>
          <a:xfrm>
            <a:off x="4091040" y="1201680"/>
            <a:ext cx="4518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ut this is NOT the maximum value f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across the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228600" y="1905120"/>
                <a:ext cx="406404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C</m:t>
                                </m:r>
                              </m:den>
                            </m:f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jωL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C</m:t>
                                </m:r>
                              </m:den>
                            </m:f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228600" y="4038480"/>
                <a:ext cx="23623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Q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3352680" y="3276720"/>
                <a:ext cx="15494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t xml:space="preserve">g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2844720" y="4089240"/>
                <a:ext cx="363240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p>
                                          <m:e>
                                            <m:r>
                                              <m:t xml:space="preserve">u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r>
                                              <m:t xml:space="preserve">u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Q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18" name=""/>
          <p:cNvGrpSpPr/>
          <p:nvPr/>
        </p:nvGrpSpPr>
        <p:grpSpPr>
          <a:xfrm>
            <a:off x="152280" y="3276720"/>
            <a:ext cx="3073680" cy="609480"/>
            <a:chOff x="152280" y="3276720"/>
            <a:chExt cx="3073680" cy="609480"/>
          </a:xfrm>
        </p:grpSpPr>
        <mc:AlternateContent>
          <mc:Choice xmlns:a14="http://schemas.microsoft.com/office/drawing/2010/main" Requires="a14">
            <p:sp>
              <p:nvSpPr>
                <p:cNvPr id="1019" name=""/>
                <p:cNvSpPr txBox="1"/>
                <p:nvPr/>
              </p:nvSpPr>
              <p:spPr>
                <a:xfrm>
                  <a:off x="1523880" y="3276720"/>
                  <a:ext cx="17020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0" name=""/>
                <p:cNvSpPr txBox="1"/>
                <p:nvPr/>
              </p:nvSpPr>
              <p:spPr>
                <a:xfrm>
                  <a:off x="152280" y="3276720"/>
                  <a:ext cx="102888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6553080" y="4191120"/>
                <a:ext cx="1625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139680" y="5257800"/>
                <a:ext cx="22226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2527200" y="5257800"/>
                <a:ext cx="34164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6019920" y="5410080"/>
                <a:ext cx="147312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25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2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9" name="F11.026_W1111" descr=""/>
          <p:cNvPicPr/>
          <p:nvPr/>
        </p:nvPicPr>
        <p:blipFill>
          <a:blip r:embed="rId1"/>
          <a:stretch/>
        </p:blipFill>
        <p:spPr>
          <a:xfrm>
            <a:off x="76320" y="1066680"/>
            <a:ext cx="3504960" cy="11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1600200" y="838080"/>
                <a:ext cx="660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2590920" y="1523880"/>
                <a:ext cx="5079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2438280" y="90360"/>
                <a:ext cx="4546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when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3" name=""/>
          <p:cNvSpPr/>
          <p:nvPr/>
        </p:nvSpPr>
        <p:spPr>
          <a:xfrm>
            <a:off x="4324680" y="533520"/>
            <a:ext cx="42710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atural  frequency depends only on L, 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t frequency depends on Q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4" name=""/>
              <p:cNvSpPr txBox="1"/>
              <p:nvPr/>
            </p:nvSpPr>
            <p:spPr>
              <a:xfrm>
                <a:off x="152280" y="2514600"/>
                <a:ext cx="4394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35" name=""/>
          <p:cNvGrpSpPr/>
          <p:nvPr/>
        </p:nvGrpSpPr>
        <p:grpSpPr>
          <a:xfrm>
            <a:off x="4724280" y="1295280"/>
            <a:ext cx="3073680" cy="609480"/>
            <a:chOff x="4724280" y="1295280"/>
            <a:chExt cx="3073680" cy="609480"/>
          </a:xfrm>
        </p:grpSpPr>
        <mc:AlternateContent>
          <mc:Choice xmlns:a14="http://schemas.microsoft.com/office/drawing/2010/main" Requires="a14">
            <p:sp>
              <p:nvSpPr>
                <p:cNvPr id="1036" name=""/>
                <p:cNvSpPr txBox="1"/>
                <p:nvPr/>
              </p:nvSpPr>
              <p:spPr>
                <a:xfrm>
                  <a:off x="6095880" y="1295280"/>
                  <a:ext cx="17020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37" name=""/>
                <p:cNvSpPr txBox="1"/>
                <p:nvPr/>
              </p:nvSpPr>
              <p:spPr>
                <a:xfrm>
                  <a:off x="4724280" y="1295280"/>
                  <a:ext cx="102888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38" name=""/>
              <p:cNvSpPr txBox="1"/>
              <p:nvPr/>
            </p:nvSpPr>
            <p:spPr>
              <a:xfrm>
                <a:off x="5257800" y="1981080"/>
                <a:ext cx="22226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9" name=""/>
              <p:cNvSpPr txBox="1"/>
              <p:nvPr/>
            </p:nvSpPr>
            <p:spPr>
              <a:xfrm>
                <a:off x="152280" y="3276720"/>
                <a:ext cx="16131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0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0" name=""/>
              <p:cNvSpPr txBox="1"/>
              <p:nvPr/>
            </p:nvSpPr>
            <p:spPr>
              <a:xfrm>
                <a:off x="1981080" y="3276720"/>
                <a:ext cx="2400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041" name=""/>
          <p:cNvGrpSpPr/>
          <p:nvPr/>
        </p:nvGrpSpPr>
        <p:grpSpPr>
          <a:xfrm>
            <a:off x="1858320" y="4191120"/>
            <a:ext cx="5409720" cy="1524600"/>
            <a:chOff x="1858320" y="4191120"/>
            <a:chExt cx="5409720" cy="1524600"/>
          </a:xfrm>
        </p:grpSpPr>
        <p:graphicFrame>
          <p:nvGraphicFramePr>
            <p:cNvPr id="1042" name=""/>
            <p:cNvGraphicFramePr/>
            <p:nvPr/>
          </p:nvGraphicFramePr>
          <p:xfrm>
            <a:off x="3276720" y="4191120"/>
            <a:ext cx="2590560" cy="110016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104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76720" y="4191120"/>
                      <a:ext cx="2590560" cy="1100160"/>
                    </a:xfrm>
                    <a:prstGeom prst="rect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044" name=""/>
            <p:cNvSpPr/>
            <p:nvPr/>
          </p:nvSpPr>
          <p:spPr>
            <a:xfrm>
              <a:off x="1858320" y="5378400"/>
              <a:ext cx="5409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valuated with EXCEL and rounded to zero decim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1928160" y="5925960"/>
            <a:ext cx="570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 one can display the frequency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6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4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F11.027B_W1112" descr=""/>
          <p:cNvPicPr/>
          <p:nvPr/>
        </p:nvPicPr>
        <p:blipFill>
          <a:blip r:embed="rId1"/>
          <a:stretch/>
        </p:blipFill>
        <p:spPr>
          <a:xfrm>
            <a:off x="885960" y="3200400"/>
            <a:ext cx="6886440" cy="3686040"/>
          </a:xfrm>
          <a:prstGeom prst="rect">
            <a:avLst/>
          </a:prstGeom>
          <a:ln w="0">
            <a:noFill/>
          </a:ln>
        </p:spPr>
      </p:pic>
      <p:pic>
        <p:nvPicPr>
          <p:cNvPr id="1050" name="F11.027A_W1112" descr=""/>
          <p:cNvPicPr/>
          <p:nvPr/>
        </p:nvPicPr>
        <p:blipFill>
          <a:blip r:embed="rId2"/>
          <a:stretch/>
        </p:blipFill>
        <p:spPr>
          <a:xfrm>
            <a:off x="838080" y="0"/>
            <a:ext cx="7029720" cy="3400560"/>
          </a:xfrm>
          <a:prstGeom prst="rect">
            <a:avLst/>
          </a:prstGeom>
          <a:ln w="0">
            <a:noFill/>
          </a:ln>
        </p:spPr>
      </p:pic>
      <p:sp>
        <p:nvSpPr>
          <p:cNvPr id="1051" name=""/>
          <p:cNvSpPr/>
          <p:nvPr/>
        </p:nvSpPr>
        <p:spPr>
          <a:xfrm>
            <a:off x="7034400" y="1523880"/>
            <a:ext cx="17442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=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or sel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796440" y="5011560"/>
            <a:ext cx="17992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igh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ood sel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3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5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85760" y="58680"/>
            <a:ext cx="55864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dependent behavior of series RLC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F11.004B_W1083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3467160" cy="2914560"/>
          </a:xfrm>
          <a:prstGeom prst="rect">
            <a:avLst/>
          </a:prstGeom>
          <a:ln w="0">
            <a:noFill/>
          </a:ln>
        </p:spPr>
      </p:pic>
      <p:pic>
        <p:nvPicPr>
          <p:cNvPr id="82" name="F11.004A_W1083" descr=""/>
          <p:cNvPicPr/>
          <p:nvPr/>
        </p:nvPicPr>
        <p:blipFill>
          <a:blip r:embed="rId2"/>
          <a:stretch/>
        </p:blipFill>
        <p:spPr>
          <a:xfrm>
            <a:off x="0" y="685800"/>
            <a:ext cx="2448000" cy="2085840"/>
          </a:xfrm>
          <a:prstGeom prst="rect">
            <a:avLst/>
          </a:prstGeom>
          <a:ln w="0">
            <a:noFill/>
          </a:ln>
        </p:spPr>
      </p:pic>
      <p:pic>
        <p:nvPicPr>
          <p:cNvPr id="83" name="F11.004C_W1083" descr=""/>
          <p:cNvPicPr/>
          <p:nvPr/>
        </p:nvPicPr>
        <p:blipFill>
          <a:blip r:embed="rId3"/>
          <a:stretch/>
        </p:blipFill>
        <p:spPr>
          <a:xfrm>
            <a:off x="4800600" y="3429000"/>
            <a:ext cx="3524400" cy="2867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286000" y="533520"/>
                <a:ext cx="4241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t xml:space="preserve">jωL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546960" y="514440"/>
                <a:ext cx="2552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09480" y="2590920"/>
                <a:ext cx="2946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715000" y="2438280"/>
                <a:ext cx="23115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048120" y="1465200"/>
                <a:ext cx="32004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Simplification</m:t>
                        </m:r>
                        <m:r>
                          <m:t xml:space="preserve">∈</m:t>
                        </m:r>
                        <m:r>
                          <m:t xml:space="preserve">notation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jω</m:t>
                        </m:r>
                        <m:r>
                          <m:t xml:space="preserve">≈</m:t>
                        </m:r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RC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9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25840" y="58680"/>
            <a:ext cx="3035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acoma Narrows 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8" name="F11.028_W1113" descr=""/>
          <p:cNvPicPr/>
          <p:nvPr/>
        </p:nvPicPr>
        <p:blipFill>
          <a:blip r:embed="rId1"/>
          <a:stretch/>
        </p:blipFill>
        <p:spPr>
          <a:xfrm>
            <a:off x="304920" y="820800"/>
            <a:ext cx="6553080" cy="5470560"/>
          </a:xfrm>
          <a:prstGeom prst="rect">
            <a:avLst/>
          </a:prstGeom>
          <a:ln w="0">
            <a:noFill/>
          </a:ln>
        </p:spPr>
      </p:pic>
      <p:sp>
        <p:nvSpPr>
          <p:cNvPr id="1059" name=""/>
          <p:cNvSpPr/>
          <p:nvPr/>
        </p:nvSpPr>
        <p:spPr>
          <a:xfrm>
            <a:off x="6535800" y="135000"/>
            <a:ext cx="2419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ened: July 1, 19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llapsed: Nov 7, 19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869520" y="973080"/>
            <a:ext cx="228852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kely cause: wi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ying at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ilar to 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atural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7391520" y="2133720"/>
                <a:ext cx="124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62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6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/>
          <p:nvPr/>
        </p:nvSpPr>
        <p:spPr>
          <a:xfrm>
            <a:off x="256680" y="58680"/>
            <a:ext cx="3660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acoma Narrows Bridge Simu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6" name="F11.029_W1114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828960" cy="1352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4114800" y="1219320"/>
                <a:ext cx="9651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152280" y="1905120"/>
                <a:ext cx="44960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failure a 42mph wind caused 4' deflec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the model at resonance  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69" name=""/>
          <p:cNvGrpSpPr/>
          <p:nvPr/>
        </p:nvGrpSpPr>
        <p:grpSpPr>
          <a:xfrm>
            <a:off x="1981080" y="990720"/>
            <a:ext cx="1586160" cy="747720"/>
            <a:chOff x="1981080" y="990720"/>
            <a:chExt cx="1586160" cy="747720"/>
          </a:xfrm>
        </p:grpSpPr>
        <mc:AlternateContent>
          <mc:Choice xmlns:a14="http://schemas.microsoft.com/office/drawing/2010/main" Requires="a14">
            <p:sp>
              <p:nvSpPr>
                <p:cNvPr id="1070" name=""/>
                <p:cNvSpPr txBox="1"/>
                <p:nvPr/>
              </p:nvSpPr>
              <p:spPr>
                <a:xfrm>
                  <a:off x="3276720" y="1523880"/>
                  <a:ext cx="29052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1" name=""/>
                <p:cNvSpPr txBox="1"/>
                <p:nvPr/>
              </p:nvSpPr>
              <p:spPr>
                <a:xfrm>
                  <a:off x="1981080" y="990720"/>
                  <a:ext cx="4939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1066680" y="914400"/>
                <a:ext cx="4939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3352680" y="533520"/>
                <a:ext cx="9144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990720" y="1447920"/>
                <a:ext cx="1066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m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5" name=""/>
          <p:cNvSpPr/>
          <p:nvPr/>
        </p:nvSpPr>
        <p:spPr>
          <a:xfrm>
            <a:off x="4486680" y="76320"/>
            <a:ext cx="2300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a low Q=2.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609480" y="3276720"/>
            <a:ext cx="7162920" cy="3305160"/>
            <a:chOff x="609480" y="3276720"/>
            <a:chExt cx="7162920" cy="3305160"/>
          </a:xfrm>
        </p:grpSpPr>
        <p:pic>
          <p:nvPicPr>
            <p:cNvPr id="1077" name="F11.030_W1115" descr=""/>
            <p:cNvPicPr/>
            <p:nvPr/>
          </p:nvPicPr>
          <p:blipFill>
            <a:blip r:embed="rId2"/>
            <a:stretch/>
          </p:blipFill>
          <p:spPr>
            <a:xfrm>
              <a:off x="609480" y="3276720"/>
              <a:ext cx="7162920" cy="33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8" name=""/>
            <p:cNvSpPr/>
            <p:nvPr/>
          </p:nvSpPr>
          <p:spPr>
            <a:xfrm>
              <a:off x="1407240" y="5302080"/>
              <a:ext cx="6303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44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077200" y="5773680"/>
              <a:ext cx="6303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1.07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0" name=""/>
                <p:cNvSpPr txBox="1"/>
                <p:nvPr/>
              </p:nvSpPr>
              <p:spPr>
                <a:xfrm>
                  <a:off x="2362320" y="3657600"/>
                  <a:ext cx="4698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7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081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8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/>
          <p:nvPr/>
        </p:nvSpPr>
        <p:spPr>
          <a:xfrm>
            <a:off x="175320" y="135000"/>
            <a:ext cx="37576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ALLEL RLC RESONA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888840" y="914400"/>
            <a:ext cx="7035840" cy="1219320"/>
            <a:chOff x="888840" y="914400"/>
            <a:chExt cx="7035840" cy="1219320"/>
          </a:xfrm>
        </p:grpSpPr>
        <mc:AlternateContent>
          <mc:Choice xmlns:a14="http://schemas.microsoft.com/office/drawing/2010/main" Requires="a14">
            <p:sp>
              <p:nvSpPr>
                <p:cNvPr id="1086" name=""/>
                <p:cNvSpPr txBox="1"/>
                <p:nvPr/>
              </p:nvSpPr>
              <p:spPr>
                <a:xfrm>
                  <a:off x="888840" y="914400"/>
                  <a:ext cx="2336760" cy="12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jωL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C</m:t>
                              </m:r>
                            </m:den>
                          </m:f>
                        </m:e>
                        <m:e>
                          <m:r>
                            <m:t xml:space="preserve">|</m:t>
                          </m:r>
                          <m:r>
                            <m:t xml:space="preserve">Z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L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C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87" name=""/>
                <p:cNvSpPr txBox="1"/>
                <p:nvPr/>
              </p:nvSpPr>
              <p:spPr>
                <a:xfrm>
                  <a:off x="5613120" y="927000"/>
                  <a:ext cx="2311560" cy="120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G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L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jωC</m:t>
                          </m:r>
                        </m:e>
                        <m:e>
                          <m:r>
                            <m:t xml:space="preserve">|</m:t>
                          </m:r>
                          <m:r>
                            <m:t xml:space="preserve">Y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G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C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L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88" name=""/>
          <p:cNvSpPr/>
          <p:nvPr/>
        </p:nvSpPr>
        <p:spPr>
          <a:xfrm>
            <a:off x="720720" y="592200"/>
            <a:ext cx="2651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of series R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288760" y="592200"/>
            <a:ext cx="2878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dmittance of parallel R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0" name=""/>
              <p:cNvSpPr txBox="1"/>
              <p:nvPr/>
            </p:nvSpPr>
            <p:spPr>
              <a:xfrm>
                <a:off x="3352680" y="1219320"/>
                <a:ext cx="213372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ice equivalences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↔</m:t>
                        </m:r>
                        <m:r>
                          <m:t xml:space="preserve">G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↔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↔</m:t>
                        </m:r>
                        <m:r>
                          <m:t xml:space="preserve">L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↔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↔</m:t>
                        </m:r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91" name=""/>
          <p:cNvGrpSpPr/>
          <p:nvPr/>
        </p:nvGrpSpPr>
        <p:grpSpPr>
          <a:xfrm>
            <a:off x="76320" y="2286000"/>
            <a:ext cx="3886200" cy="1379520"/>
            <a:chOff x="76320" y="2286000"/>
            <a:chExt cx="3886200" cy="1379520"/>
          </a:xfrm>
        </p:grpSpPr>
        <p:pic>
          <p:nvPicPr>
            <p:cNvPr id="1092" name="F11.031_W1116" descr=""/>
            <p:cNvPicPr/>
            <p:nvPr/>
          </p:nvPicPr>
          <p:blipFill>
            <a:blip r:embed="rId1"/>
            <a:stretch/>
          </p:blipFill>
          <p:spPr>
            <a:xfrm>
              <a:off x="76320" y="2286000"/>
              <a:ext cx="3886200" cy="1379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093" name=""/>
                <p:cNvSpPr txBox="1"/>
                <p:nvPr/>
              </p:nvSpPr>
              <p:spPr>
                <a:xfrm>
                  <a:off x="686160" y="2604960"/>
                  <a:ext cx="888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Y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94" name=""/>
              <p:cNvSpPr txBox="1"/>
              <p:nvPr/>
            </p:nvSpPr>
            <p:spPr>
              <a:xfrm>
                <a:off x="533520" y="4191120"/>
                <a:ext cx="227304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jωC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L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jωL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2819520" y="3657600"/>
                <a:ext cx="1955520" cy="29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</m:den>
                        </m:f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96" name=""/>
          <p:cNvGrpSpPr/>
          <p:nvPr/>
        </p:nvGrpSpPr>
        <p:grpSpPr>
          <a:xfrm>
            <a:off x="4737960" y="2133720"/>
            <a:ext cx="3135960" cy="931320"/>
            <a:chOff x="4737960" y="2133720"/>
            <a:chExt cx="3135960" cy="931320"/>
          </a:xfrm>
        </p:grpSpPr>
        <p:grpSp>
          <p:nvGrpSpPr>
            <p:cNvPr id="1097" name=""/>
            <p:cNvGrpSpPr/>
            <p:nvPr/>
          </p:nvGrpSpPr>
          <p:grpSpPr>
            <a:xfrm>
              <a:off x="4800600" y="2455920"/>
              <a:ext cx="3073320" cy="609120"/>
              <a:chOff x="4800600" y="2455920"/>
              <a:chExt cx="3073320" cy="609120"/>
            </a:xfrm>
          </p:grpSpPr>
          <mc:AlternateContent>
            <mc:Choice xmlns:a14="http://schemas.microsoft.com/office/drawing/2010/main" Requires="a14">
              <p:sp>
                <p:nvSpPr>
                  <p:cNvPr id="1098" name=""/>
                  <p:cNvSpPr txBox="1"/>
                  <p:nvPr/>
                </p:nvSpPr>
                <p:spPr>
                  <a:xfrm>
                    <a:off x="6172200" y="2455920"/>
                    <a:ext cx="1701720" cy="609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99" name=""/>
                  <p:cNvSpPr txBox="1"/>
                  <p:nvPr/>
                </p:nvSpPr>
                <p:spPr>
                  <a:xfrm>
                    <a:off x="4800600" y="2455920"/>
                    <a:ext cx="1028880" cy="570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100" name=""/>
            <p:cNvSpPr/>
            <p:nvPr/>
          </p:nvSpPr>
          <p:spPr>
            <a:xfrm>
              <a:off x="4737960" y="2133720"/>
              <a:ext cx="121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ries R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4806000" y="3182760"/>
            <a:ext cx="3163320" cy="1008360"/>
            <a:chOff x="4806000" y="3182760"/>
            <a:chExt cx="3163320" cy="1008360"/>
          </a:xfrm>
        </p:grpSpPr>
        <p:sp>
          <p:nvSpPr>
            <p:cNvPr id="1102" name=""/>
            <p:cNvSpPr/>
            <p:nvPr/>
          </p:nvSpPr>
          <p:spPr>
            <a:xfrm>
              <a:off x="4806000" y="3182760"/>
              <a:ext cx="1383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rallel R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3" name=""/>
                <p:cNvSpPr txBox="1"/>
                <p:nvPr/>
              </p:nvSpPr>
              <p:spPr>
                <a:xfrm>
                  <a:off x="6229440" y="3581280"/>
                  <a:ext cx="17398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G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LG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04" name=""/>
                <p:cNvSpPr txBox="1"/>
                <p:nvPr/>
              </p:nvSpPr>
              <p:spPr>
                <a:xfrm>
                  <a:off x="4876920" y="3581280"/>
                  <a:ext cx="102852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4343400" y="5486400"/>
                <a:ext cx="82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06" name=""/>
          <p:cNvGrpSpPr/>
          <p:nvPr/>
        </p:nvGrpSpPr>
        <p:grpSpPr>
          <a:xfrm>
            <a:off x="5119200" y="4267080"/>
            <a:ext cx="2234160" cy="596880"/>
            <a:chOff x="5119200" y="4267080"/>
            <a:chExt cx="2234160" cy="596880"/>
          </a:xfrm>
        </p:grpSpPr>
        <p:sp>
          <p:nvSpPr>
            <p:cNvPr id="1107" name=""/>
            <p:cNvSpPr/>
            <p:nvPr/>
          </p:nvSpPr>
          <p:spPr>
            <a:xfrm>
              <a:off x="5119200" y="4402080"/>
              <a:ext cx="121860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ries R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8" name=""/>
                <p:cNvSpPr txBox="1"/>
                <p:nvPr/>
              </p:nvSpPr>
              <p:spPr>
                <a:xfrm>
                  <a:off x="6400800" y="4267080"/>
                  <a:ext cx="9525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09" name=""/>
          <p:cNvGrpSpPr/>
          <p:nvPr/>
        </p:nvGrpSpPr>
        <p:grpSpPr>
          <a:xfrm>
            <a:off x="4974120" y="4876920"/>
            <a:ext cx="2379240" cy="596880"/>
            <a:chOff x="4974120" y="4876920"/>
            <a:chExt cx="2379240" cy="596880"/>
          </a:xfrm>
        </p:grpSpPr>
        <p:sp>
          <p:nvSpPr>
            <p:cNvPr id="1110" name=""/>
            <p:cNvSpPr/>
            <p:nvPr/>
          </p:nvSpPr>
          <p:spPr>
            <a:xfrm>
              <a:off x="4974120" y="4952880"/>
              <a:ext cx="1383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rallel R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1" name=""/>
                <p:cNvSpPr txBox="1"/>
                <p:nvPr/>
              </p:nvSpPr>
              <p:spPr>
                <a:xfrm>
                  <a:off x="6400800" y="4876920"/>
                  <a:ext cx="9525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112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1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F11.031_W1116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3648240" cy="1295640"/>
          </a:xfrm>
          <a:prstGeom prst="rect">
            <a:avLst/>
          </a:prstGeom>
          <a:ln w="0">
            <a:noFill/>
          </a:ln>
        </p:spPr>
      </p:pic>
      <p:sp>
        <p:nvSpPr>
          <p:cNvPr id="1116" name=""/>
          <p:cNvSpPr/>
          <p:nvPr/>
        </p:nvSpPr>
        <p:spPr>
          <a:xfrm>
            <a:off x="10620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7" name=""/>
              <p:cNvSpPr txBox="1"/>
              <p:nvPr/>
            </p:nvSpPr>
            <p:spPr>
              <a:xfrm>
                <a:off x="762120" y="2057400"/>
                <a:ext cx="2539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S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rPr>
                            <m:lit/>
                            <m:nor/>
                          </m:rPr>
                          <m:t xml:space="preserve">m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8" name=""/>
          <p:cNvSpPr/>
          <p:nvPr/>
        </p:nvSpPr>
        <p:spPr>
          <a:xfrm>
            <a:off x="2583000" y="58680"/>
            <a:ext cx="5813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source operates at the resonant frequency 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, compute all the branch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9" name=""/>
          <p:cNvGrpSpPr/>
          <p:nvPr/>
        </p:nvGrpSpPr>
        <p:grpSpPr>
          <a:xfrm>
            <a:off x="12600" y="2743200"/>
            <a:ext cx="4635720" cy="2933640"/>
            <a:chOff x="12600" y="2743200"/>
            <a:chExt cx="4635720" cy="2933640"/>
          </a:xfrm>
        </p:grpSpPr>
        <mc:AlternateContent>
          <mc:Choice xmlns:a14="http://schemas.microsoft.com/office/drawing/2010/main" Requires="a14">
            <p:sp>
              <p:nvSpPr>
                <p:cNvPr id="1120" name=""/>
                <p:cNvSpPr txBox="1"/>
                <p:nvPr/>
              </p:nvSpPr>
              <p:spPr>
                <a:xfrm>
                  <a:off x="12600" y="3276360"/>
                  <a:ext cx="2273400" cy="198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G</m:t>
                              </m:r>
                            </m:num>
                            <m:den>
                              <m:r>
                                <m:t xml:space="preserve">Y</m:t>
                              </m:r>
                            </m:den>
                          </m:f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jω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jωC</m:t>
                              </m:r>
                            </m:num>
                            <m:den>
                              <m:r>
                                <m:t xml:space="preserve">Y</m:t>
                              </m:r>
                            </m:den>
                          </m:f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L</m:t>
                              </m:r>
                            </m:den>
                          </m:f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  <m:r>
                                <m:t xml:space="preserve">jωL</m:t>
                              </m:r>
                            </m:num>
                            <m:den>
                              <m:r>
                                <m:t xml:space="preserve">Y</m:t>
                              </m:r>
                            </m:den>
                          </m:f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1" name=""/>
                <p:cNvSpPr txBox="1"/>
                <p:nvPr/>
              </p:nvSpPr>
              <p:spPr>
                <a:xfrm>
                  <a:off x="2298600" y="2743200"/>
                  <a:ext cx="1955880" cy="293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t resonance</m:t>
                          </m:r>
                        </m:e>
                        <m:e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L</m:t>
                              </m:r>
                            </m:den>
                          </m:f>
                          <m:r>
                            <m:t xml:space="preserve">⇒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G</m:t>
                          </m:r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C</m:t>
                              </m:r>
                            </m:num>
                            <m:den>
                              <m:r>
                                <m:t xml:space="preserve">G</m:t>
                              </m:r>
                            </m:den>
                          </m:f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LG</m:t>
                              </m:r>
                            </m:den>
                          </m:f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2" name=""/>
                <p:cNvSpPr txBox="1"/>
                <p:nvPr/>
              </p:nvSpPr>
              <p:spPr>
                <a:xfrm>
                  <a:off x="3822840" y="4571640"/>
                  <a:ext cx="82548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Q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|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4578480" y="838080"/>
                <a:ext cx="3416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24" name=""/>
          <p:cNvSpPr/>
          <p:nvPr/>
        </p:nvSpPr>
        <p:spPr>
          <a:xfrm>
            <a:off x="0" y="3276720"/>
            <a:ext cx="1676520" cy="6094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209680" y="3048120"/>
            <a:ext cx="1219320" cy="685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4572000" y="1168560"/>
                <a:ext cx="4394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×</m:t>
                            </m:r>
                            <m:r>
                              <m:t xml:space="preserve">(</m:t>
                            </m:r>
                            <m:r>
                              <m:t xml:space="preserve">6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3390840" y="1905120"/>
                <a:ext cx="5753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8" name=""/>
          <p:cNvSpPr/>
          <p:nvPr/>
        </p:nvSpPr>
        <p:spPr>
          <a:xfrm>
            <a:off x="0" y="3886200"/>
            <a:ext cx="1219320" cy="5335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286000" y="4038480"/>
            <a:ext cx="914400" cy="457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5334120" y="2362320"/>
                <a:ext cx="1917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1" name=""/>
              <p:cNvSpPr txBox="1"/>
              <p:nvPr/>
            </p:nvSpPr>
            <p:spPr>
              <a:xfrm>
                <a:off x="5562720" y="2895480"/>
                <a:ext cx="1320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__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32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3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16812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6" name="F11.032_W1117" descr=""/>
          <p:cNvPicPr/>
          <p:nvPr/>
        </p:nvPicPr>
        <p:blipFill>
          <a:blip r:embed="rId1"/>
          <a:stretch/>
        </p:blipFill>
        <p:spPr>
          <a:xfrm>
            <a:off x="76320" y="1219320"/>
            <a:ext cx="4572000" cy="1117440"/>
          </a:xfrm>
          <a:prstGeom prst="rect">
            <a:avLst/>
          </a:prstGeom>
          <a:ln w="0">
            <a:noFill/>
          </a:ln>
        </p:spPr>
      </p:pic>
      <p:grpSp>
        <p:nvGrpSpPr>
          <p:cNvPr id="1137" name=""/>
          <p:cNvGrpSpPr/>
          <p:nvPr/>
        </p:nvGrpSpPr>
        <p:grpSpPr>
          <a:xfrm>
            <a:off x="2622240" y="76320"/>
            <a:ext cx="6075720" cy="1160280"/>
            <a:chOff x="2622240" y="76320"/>
            <a:chExt cx="6075720" cy="1160280"/>
          </a:xfrm>
        </p:grpSpPr>
        <p:sp>
          <p:nvSpPr>
            <p:cNvPr id="1138" name=""/>
            <p:cNvSpPr/>
            <p:nvPr/>
          </p:nvSpPr>
          <p:spPr>
            <a:xfrm>
              <a:off x="2622240" y="76320"/>
              <a:ext cx="6075720" cy="82404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rive expressions for the resonant frequency, half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ies, bandwidth and quality factor for the trans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aracteris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9" name=""/>
                <p:cNvSpPr txBox="1"/>
                <p:nvPr/>
              </p:nvSpPr>
              <p:spPr>
                <a:xfrm>
                  <a:off x="4283280" y="627120"/>
                  <a:ext cx="8762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ut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40" name=""/>
          <p:cNvGrpSpPr/>
          <p:nvPr/>
        </p:nvGrpSpPr>
        <p:grpSpPr>
          <a:xfrm>
            <a:off x="1173240" y="895320"/>
            <a:ext cx="3983040" cy="2063880"/>
            <a:chOff x="1173240" y="895320"/>
            <a:chExt cx="3983040" cy="2063880"/>
          </a:xfrm>
        </p:grpSpPr>
        <p:sp>
          <p:nvSpPr>
            <p:cNvPr id="1141" name=""/>
            <p:cNvSpPr/>
            <p:nvPr/>
          </p:nvSpPr>
          <p:spPr>
            <a:xfrm>
              <a:off x="1173240" y="895320"/>
              <a:ext cx="2562120" cy="1542960"/>
            </a:xfrm>
            <a:custGeom>
              <a:avLst/>
              <a:gdLst/>
              <a:ahLst/>
              <a:rect l="l" t="t" r="r" b="b"/>
              <a:pathLst>
                <a:path w="1614" h="972">
                  <a:moveTo>
                    <a:pt x="1591" y="332"/>
                  </a:moveTo>
                  <a:cubicBezTo>
                    <a:pt x="1539" y="201"/>
                    <a:pt x="1473" y="159"/>
                    <a:pt x="1349" y="130"/>
                  </a:cubicBezTo>
                  <a:cubicBezTo>
                    <a:pt x="1323" y="114"/>
                    <a:pt x="1300" y="92"/>
                    <a:pt x="1271" y="83"/>
                  </a:cubicBezTo>
                  <a:cubicBezTo>
                    <a:pt x="1241" y="73"/>
                    <a:pt x="1209" y="79"/>
                    <a:pt x="1178" y="75"/>
                  </a:cubicBezTo>
                  <a:cubicBezTo>
                    <a:pt x="1039" y="56"/>
                    <a:pt x="914" y="42"/>
                    <a:pt x="773" y="36"/>
                  </a:cubicBezTo>
                  <a:cubicBezTo>
                    <a:pt x="560" y="0"/>
                    <a:pt x="351" y="40"/>
                    <a:pt x="142" y="67"/>
                  </a:cubicBezTo>
                  <a:cubicBezTo>
                    <a:pt x="94" y="161"/>
                    <a:pt x="85" y="247"/>
                    <a:pt x="64" y="348"/>
                  </a:cubicBezTo>
                  <a:cubicBezTo>
                    <a:pt x="35" y="488"/>
                    <a:pt x="12" y="626"/>
                    <a:pt x="1" y="769"/>
                  </a:cubicBezTo>
                  <a:cubicBezTo>
                    <a:pt x="4" y="803"/>
                    <a:pt x="0" y="838"/>
                    <a:pt x="9" y="870"/>
                  </a:cubicBezTo>
                  <a:cubicBezTo>
                    <a:pt x="11" y="878"/>
                    <a:pt x="25" y="875"/>
                    <a:pt x="32" y="878"/>
                  </a:cubicBezTo>
                  <a:cubicBezTo>
                    <a:pt x="43" y="883"/>
                    <a:pt x="53" y="889"/>
                    <a:pt x="64" y="893"/>
                  </a:cubicBezTo>
                  <a:cubicBezTo>
                    <a:pt x="106" y="908"/>
                    <a:pt x="167" y="906"/>
                    <a:pt x="204" y="909"/>
                  </a:cubicBezTo>
                  <a:cubicBezTo>
                    <a:pt x="573" y="972"/>
                    <a:pt x="1016" y="935"/>
                    <a:pt x="1381" y="940"/>
                  </a:cubicBezTo>
                  <a:cubicBezTo>
                    <a:pt x="1417" y="937"/>
                    <a:pt x="1454" y="939"/>
                    <a:pt x="1490" y="932"/>
                  </a:cubicBezTo>
                  <a:cubicBezTo>
                    <a:pt x="1522" y="926"/>
                    <a:pt x="1583" y="901"/>
                    <a:pt x="1583" y="901"/>
                  </a:cubicBezTo>
                  <a:cubicBezTo>
                    <a:pt x="1610" y="862"/>
                    <a:pt x="1609" y="823"/>
                    <a:pt x="1614" y="776"/>
                  </a:cubicBezTo>
                  <a:cubicBezTo>
                    <a:pt x="1607" y="587"/>
                    <a:pt x="1607" y="651"/>
                    <a:pt x="1607" y="58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2" name=""/>
                <p:cNvSpPr txBox="1"/>
                <p:nvPr/>
              </p:nvSpPr>
              <p:spPr>
                <a:xfrm>
                  <a:off x="3200400" y="2362320"/>
                  <a:ext cx="19558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G</m:t>
                      </m:r>
                      <m:r>
                        <m:t xml:space="preserve">+</m:t>
                      </m:r>
                      <m:r>
                        <m:t xml:space="preserve">jωC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jω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304920" y="2514600"/>
                <a:ext cx="2552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4" name=""/>
              <p:cNvSpPr txBox="1"/>
              <p:nvPr/>
            </p:nvSpPr>
            <p:spPr>
              <a:xfrm>
                <a:off x="304920" y="3200400"/>
                <a:ext cx="41529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|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G</m:t>
                            </m:r>
                            <m:r>
                              <m:t xml:space="preserve">+</m:t>
                            </m:r>
                            <m:r>
                              <m:t xml:space="preserve">jωC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L</m:t>
                                </m:r>
                              </m:den>
                            </m:f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C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ω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5" name=""/>
              <p:cNvSpPr txBox="1"/>
              <p:nvPr/>
            </p:nvSpPr>
            <p:spPr>
              <a:xfrm>
                <a:off x="0" y="4572000"/>
                <a:ext cx="32637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sonant frequency: 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6" name=""/>
              <p:cNvSpPr txBox="1"/>
              <p:nvPr/>
            </p:nvSpPr>
            <p:spPr>
              <a:xfrm>
                <a:off x="44280" y="5238720"/>
                <a:ext cx="47246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alf power frequencies</m:t>
                    </m:r>
                    <m:r>
                      <m:t xml:space="preserve">⇒</m:t>
                    </m:r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|</m:t>
                    </m:r>
                    <m:r>
                      <m:t xml:space="preserve">H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sSub>
                          <m:e/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147" name=""/>
          <p:cNvSpPr/>
          <p:nvPr/>
        </p:nvSpPr>
        <p:spPr>
          <a:xfrm>
            <a:off x="5486400" y="380880"/>
            <a:ext cx="19810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620120" y="380880"/>
            <a:ext cx="9903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9" name=""/>
              <p:cNvSpPr txBox="1"/>
              <p:nvPr/>
            </p:nvSpPr>
            <p:spPr>
              <a:xfrm>
                <a:off x="95400" y="5791320"/>
                <a:ext cx="24764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0" name=""/>
              <p:cNvSpPr txBox="1"/>
              <p:nvPr/>
            </p:nvSpPr>
            <p:spPr>
              <a:xfrm>
                <a:off x="3352680" y="4572000"/>
                <a:ext cx="1447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1" name=""/>
              <p:cNvSpPr txBox="1"/>
              <p:nvPr/>
            </p:nvSpPr>
            <p:spPr>
              <a:xfrm>
                <a:off x="2666880" y="5867280"/>
                <a:ext cx="1866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C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2" name=""/>
              <p:cNvSpPr txBox="1"/>
              <p:nvPr/>
            </p:nvSpPr>
            <p:spPr>
              <a:xfrm>
                <a:off x="5479920" y="1295280"/>
                <a:ext cx="25653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∓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G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C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53" name=""/>
          <p:cNvSpPr/>
          <p:nvPr/>
        </p:nvSpPr>
        <p:spPr>
          <a:xfrm>
            <a:off x="3962520" y="609480"/>
            <a:ext cx="11430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4" name=""/>
              <p:cNvSpPr txBox="1"/>
              <p:nvPr/>
            </p:nvSpPr>
            <p:spPr>
              <a:xfrm>
                <a:off x="5638680" y="2133720"/>
                <a:ext cx="2057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5" name=""/>
          <p:cNvSpPr/>
          <p:nvPr/>
        </p:nvSpPr>
        <p:spPr>
          <a:xfrm>
            <a:off x="5562720" y="609480"/>
            <a:ext cx="14475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6" name=""/>
              <p:cNvSpPr txBox="1"/>
              <p:nvPr/>
            </p:nvSpPr>
            <p:spPr>
              <a:xfrm>
                <a:off x="5562720" y="2743200"/>
                <a:ext cx="2425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R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157" name=""/>
          <p:cNvGrpSpPr/>
          <p:nvPr/>
        </p:nvGrpSpPr>
        <p:grpSpPr>
          <a:xfrm>
            <a:off x="5334120" y="3551400"/>
            <a:ext cx="2869920" cy="1858320"/>
            <a:chOff x="5334120" y="3551400"/>
            <a:chExt cx="2869920" cy="1858320"/>
          </a:xfrm>
        </p:grpSpPr>
        <mc:AlternateContent>
          <mc:Choice xmlns:a14="http://schemas.microsoft.com/office/drawing/2010/main" Requires="a14">
            <p:sp>
              <p:nvSpPr>
                <p:cNvPr id="1158" name=""/>
                <p:cNvSpPr txBox="1"/>
                <p:nvPr/>
              </p:nvSpPr>
              <p:spPr>
                <a:xfrm>
                  <a:off x="5334120" y="3949560"/>
                  <a:ext cx="16761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G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LG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59" name=""/>
                <p:cNvSpPr txBox="1"/>
                <p:nvPr/>
              </p:nvSpPr>
              <p:spPr>
                <a:xfrm>
                  <a:off x="5334120" y="4559400"/>
                  <a:ext cx="2869920" cy="85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LO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Q</m:t>
                              </m:r>
                            </m:den>
                          </m:f>
                          <m:r>
                            <m:t xml:space="preserve">+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>
                                            <m:t xml:space="preserve">2</m:t>
                                          </m:r>
                                          <m:r>
                                            <m:t xml:space="preserve">Q</m:t>
                                          </m:r>
                                        </m:den>
                                      </m:f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rad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160" name=""/>
            <p:cNvSpPr/>
            <p:nvPr/>
          </p:nvSpPr>
          <p:spPr>
            <a:xfrm>
              <a:off x="5364720" y="3551400"/>
              <a:ext cx="1992600" cy="337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place and sh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61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6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4" name="F11.033_W1118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7991280" cy="1914480"/>
          </a:xfrm>
          <a:prstGeom prst="rect">
            <a:avLst/>
          </a:prstGeom>
          <a:ln w="0">
            <a:noFill/>
          </a:ln>
        </p:spPr>
      </p:pic>
      <p:sp>
        <p:nvSpPr>
          <p:cNvPr id="1165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673360" y="135000"/>
            <a:ext cx="5129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creasing selectivity by cascading low Q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090960" y="2406600"/>
            <a:ext cx="3045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gle stage tuned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8" name=""/>
              <p:cNvSpPr txBox="1"/>
              <p:nvPr/>
            </p:nvSpPr>
            <p:spPr>
              <a:xfrm>
                <a:off x="76320" y="2781360"/>
                <a:ext cx="6427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6</m:t>
                                    </m:r>
                                  </m:sup>
                                </m:sSup>
                                <m:r>
                                  <m:t xml:space="preserve">H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4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p>
                                </m:sSup>
                                <m:r>
                                  <m:t xml:space="preserve">F</m:t>
                                </m:r>
                              </m:e>
                            </m:d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M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9" name=""/>
              <p:cNvSpPr txBox="1"/>
              <p:nvPr/>
            </p:nvSpPr>
            <p:spPr>
              <a:xfrm>
                <a:off x="533520" y="4038480"/>
                <a:ext cx="27050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9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0" name=""/>
              <p:cNvSpPr txBox="1"/>
              <p:nvPr/>
            </p:nvSpPr>
            <p:spPr>
              <a:xfrm>
                <a:off x="76320" y="3429000"/>
                <a:ext cx="2425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R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171" name="F11.034_W1119" descr=""/>
          <p:cNvPicPr/>
          <p:nvPr/>
        </p:nvPicPr>
        <p:blipFill>
          <a:blip r:embed="rId2"/>
          <a:stretch/>
        </p:blipFill>
        <p:spPr>
          <a:xfrm>
            <a:off x="4505400" y="3429000"/>
            <a:ext cx="4638600" cy="3133800"/>
          </a:xfrm>
          <a:prstGeom prst="rect">
            <a:avLst/>
          </a:prstGeom>
          <a:ln w="0">
            <a:noFill/>
          </a:ln>
        </p:spPr>
      </p:pic>
      <p:pic>
        <p:nvPicPr>
          <p:cNvPr id="1172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7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10692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6" name="F11.031_W1116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648240" cy="1295280"/>
          </a:xfrm>
          <a:prstGeom prst="rect">
            <a:avLst/>
          </a:prstGeom>
          <a:ln w="0">
            <a:noFill/>
          </a:ln>
        </p:spPr>
      </p:pic>
      <p:sp>
        <p:nvSpPr>
          <p:cNvPr id="1177" name=""/>
          <p:cNvSpPr/>
          <p:nvPr/>
        </p:nvSpPr>
        <p:spPr>
          <a:xfrm>
            <a:off x="2800080" y="135000"/>
            <a:ext cx="6221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resonant frequency, Q factor and bandwid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3733920" y="533520"/>
                <a:ext cx="30733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79" name=""/>
          <p:cNvGrpSpPr/>
          <p:nvPr/>
        </p:nvGrpSpPr>
        <p:grpSpPr>
          <a:xfrm>
            <a:off x="97560" y="1981080"/>
            <a:ext cx="4245840" cy="1008360"/>
            <a:chOff x="97560" y="1981080"/>
            <a:chExt cx="4245840" cy="1008360"/>
          </a:xfrm>
        </p:grpSpPr>
        <p:grpSp>
          <p:nvGrpSpPr>
            <p:cNvPr id="1180" name=""/>
            <p:cNvGrpSpPr/>
            <p:nvPr/>
          </p:nvGrpSpPr>
          <p:grpSpPr>
            <a:xfrm>
              <a:off x="97560" y="1981080"/>
              <a:ext cx="3163320" cy="1008360"/>
              <a:chOff x="97560" y="1981080"/>
              <a:chExt cx="3163320" cy="1008360"/>
            </a:xfrm>
          </p:grpSpPr>
          <p:sp>
            <p:nvSpPr>
              <p:cNvPr id="1181" name=""/>
              <p:cNvSpPr/>
              <p:nvPr/>
            </p:nvSpPr>
            <p:spPr>
              <a:xfrm>
                <a:off x="97560" y="1981080"/>
                <a:ext cx="1383120" cy="33732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arallel RL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82" name=""/>
                  <p:cNvSpPr txBox="1"/>
                  <p:nvPr/>
                </p:nvSpPr>
                <p:spPr>
                  <a:xfrm>
                    <a:off x="1521000" y="2379600"/>
                    <a:ext cx="1739880" cy="60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83" name=""/>
                  <p:cNvSpPr txBox="1"/>
                  <p:nvPr/>
                </p:nvSpPr>
                <p:spPr>
                  <a:xfrm>
                    <a:off x="168480" y="2379600"/>
                    <a:ext cx="1028520" cy="57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184" name=""/>
                <p:cNvSpPr txBox="1"/>
                <p:nvPr/>
              </p:nvSpPr>
              <p:spPr>
                <a:xfrm>
                  <a:off x="3391200" y="2362320"/>
                  <a:ext cx="9522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85" name=""/>
              <p:cNvSpPr txBox="1"/>
              <p:nvPr/>
            </p:nvSpPr>
            <p:spPr>
              <a:xfrm>
                <a:off x="152280" y="3124080"/>
                <a:ext cx="38610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77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6" name=""/>
          <p:cNvSpPr/>
          <p:nvPr/>
        </p:nvSpPr>
        <p:spPr>
          <a:xfrm>
            <a:off x="4343400" y="457200"/>
            <a:ext cx="20574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6553080" y="457200"/>
            <a:ext cx="8384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228600" y="3809880"/>
                <a:ext cx="24130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77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000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9" name=""/>
          <p:cNvSpPr/>
          <p:nvPr/>
        </p:nvSpPr>
        <p:spPr>
          <a:xfrm>
            <a:off x="7543800" y="457200"/>
            <a:ext cx="14479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228600" y="4572000"/>
                <a:ext cx="2222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7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191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9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/>
          <p:nvPr/>
        </p:nvSpPr>
        <p:spPr>
          <a:xfrm>
            <a:off x="10692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5" name="F11.031_W1116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648240" cy="1295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96" name=""/>
              <p:cNvSpPr txBox="1"/>
              <p:nvPr/>
            </p:nvSpPr>
            <p:spPr>
              <a:xfrm>
                <a:off x="2647800" y="152280"/>
                <a:ext cx="2070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L,  C, 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"/>
              <p:cNvSpPr txBox="1"/>
              <p:nvPr/>
            </p:nvSpPr>
            <p:spPr>
              <a:xfrm>
                <a:off x="380880" y="2057400"/>
                <a:ext cx="33912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98" name=""/>
          <p:cNvGrpSpPr/>
          <p:nvPr/>
        </p:nvGrpSpPr>
        <p:grpSpPr>
          <a:xfrm>
            <a:off x="97560" y="2438280"/>
            <a:ext cx="4245840" cy="1008360"/>
            <a:chOff x="97560" y="2438280"/>
            <a:chExt cx="4245840" cy="1008360"/>
          </a:xfrm>
        </p:grpSpPr>
        <p:grpSp>
          <p:nvGrpSpPr>
            <p:cNvPr id="1199" name=""/>
            <p:cNvGrpSpPr/>
            <p:nvPr/>
          </p:nvGrpSpPr>
          <p:grpSpPr>
            <a:xfrm>
              <a:off x="97560" y="2438280"/>
              <a:ext cx="3163320" cy="1008360"/>
              <a:chOff x="97560" y="2438280"/>
              <a:chExt cx="3163320" cy="1008360"/>
            </a:xfrm>
          </p:grpSpPr>
          <p:sp>
            <p:nvSpPr>
              <p:cNvPr id="1200" name=""/>
              <p:cNvSpPr/>
              <p:nvPr/>
            </p:nvSpPr>
            <p:spPr>
              <a:xfrm>
                <a:off x="97560" y="2438280"/>
                <a:ext cx="1383120" cy="33732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arallel RL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01" name=""/>
                  <p:cNvSpPr txBox="1"/>
                  <p:nvPr/>
                </p:nvSpPr>
                <p:spPr>
                  <a:xfrm>
                    <a:off x="1521000" y="2836800"/>
                    <a:ext cx="1739880" cy="60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02" name=""/>
                  <p:cNvSpPr txBox="1"/>
                  <p:nvPr/>
                </p:nvSpPr>
                <p:spPr>
                  <a:xfrm>
                    <a:off x="168480" y="2836800"/>
                    <a:ext cx="1028520" cy="57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203" name=""/>
                <p:cNvSpPr txBox="1"/>
                <p:nvPr/>
              </p:nvSpPr>
              <p:spPr>
                <a:xfrm>
                  <a:off x="3391200" y="2819520"/>
                  <a:ext cx="9522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04" name=""/>
          <p:cNvGrpSpPr/>
          <p:nvPr/>
        </p:nvGrpSpPr>
        <p:grpSpPr>
          <a:xfrm>
            <a:off x="3352680" y="0"/>
            <a:ext cx="1524240" cy="3429000"/>
            <a:chOff x="3352680" y="0"/>
            <a:chExt cx="1524240" cy="3429000"/>
          </a:xfrm>
        </p:grpSpPr>
        <p:sp>
          <p:nvSpPr>
            <p:cNvPr id="1205" name=""/>
            <p:cNvSpPr/>
            <p:nvPr/>
          </p:nvSpPr>
          <p:spPr>
            <a:xfrm>
              <a:off x="4343400" y="0"/>
              <a:ext cx="533520" cy="609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352680" y="2666880"/>
              <a:ext cx="1067040" cy="762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07" name=""/>
              <p:cNvSpPr txBox="1"/>
              <p:nvPr/>
            </p:nvSpPr>
            <p:spPr>
              <a:xfrm>
                <a:off x="304920" y="3657600"/>
                <a:ext cx="39751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8" name=""/>
          <p:cNvSpPr/>
          <p:nvPr/>
        </p:nvSpPr>
        <p:spPr>
          <a:xfrm>
            <a:off x="1523880" y="2743200"/>
            <a:ext cx="914400" cy="685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9" name=""/>
              <p:cNvSpPr txBox="1"/>
              <p:nvPr/>
            </p:nvSpPr>
            <p:spPr>
              <a:xfrm>
                <a:off x="380880" y="4038480"/>
                <a:ext cx="36324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R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7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0" name=""/>
          <p:cNvSpPr/>
          <p:nvPr/>
        </p:nvSpPr>
        <p:spPr>
          <a:xfrm>
            <a:off x="2590920" y="2666880"/>
            <a:ext cx="685800" cy="7621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1" name=""/>
              <p:cNvSpPr txBox="1"/>
              <p:nvPr/>
            </p:nvSpPr>
            <p:spPr>
              <a:xfrm>
                <a:off x="380880" y="4800600"/>
                <a:ext cx="3327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Q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7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2" name=""/>
          <p:cNvSpPr/>
          <p:nvPr/>
        </p:nvSpPr>
        <p:spPr>
          <a:xfrm>
            <a:off x="0" y="2819520"/>
            <a:ext cx="129528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9360" y="3438360"/>
            <a:ext cx="4374360" cy="2766240"/>
            <a:chOff x="9360" y="3438360"/>
            <a:chExt cx="4374360" cy="2766240"/>
          </a:xfrm>
        </p:grpSpPr>
        <p:sp>
          <p:nvSpPr>
            <p:cNvPr id="1214" name=""/>
            <p:cNvSpPr/>
            <p:nvPr/>
          </p:nvSpPr>
          <p:spPr>
            <a:xfrm>
              <a:off x="9360" y="3438360"/>
              <a:ext cx="905040" cy="2754360"/>
            </a:xfrm>
            <a:custGeom>
              <a:avLst/>
              <a:gdLst/>
              <a:ahLst/>
              <a:rect l="l" t="t" r="r" b="b"/>
              <a:pathLst>
                <a:path w="570" h="1735">
                  <a:moveTo>
                    <a:pt x="41" y="0"/>
                  </a:moveTo>
                  <a:cubicBezTo>
                    <a:pt x="0" y="546"/>
                    <a:pt x="4" y="405"/>
                    <a:pt x="33" y="1364"/>
                  </a:cubicBezTo>
                  <a:cubicBezTo>
                    <a:pt x="36" y="1452"/>
                    <a:pt x="66" y="1590"/>
                    <a:pt x="119" y="1660"/>
                  </a:cubicBezTo>
                  <a:cubicBezTo>
                    <a:pt x="127" y="1685"/>
                    <a:pt x="125" y="1726"/>
                    <a:pt x="150" y="1731"/>
                  </a:cubicBezTo>
                  <a:cubicBezTo>
                    <a:pt x="170" y="1735"/>
                    <a:pt x="191" y="1725"/>
                    <a:pt x="212" y="1723"/>
                  </a:cubicBezTo>
                  <a:cubicBezTo>
                    <a:pt x="248" y="1720"/>
                    <a:pt x="285" y="1718"/>
                    <a:pt x="321" y="1715"/>
                  </a:cubicBezTo>
                  <a:cubicBezTo>
                    <a:pt x="404" y="1673"/>
                    <a:pt x="489" y="1649"/>
                    <a:pt x="570" y="160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17040" y="5867280"/>
              <a:ext cx="3766680" cy="337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n be used to verify comput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16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1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167400" y="135000"/>
            <a:ext cx="3329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ACTICAL RESONANT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815640" y="76320"/>
            <a:ext cx="4781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istance of the inductor coils cannot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gl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1" name="F11.035_W1120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2514600" cy="2341800"/>
          </a:xfrm>
          <a:prstGeom prst="rect">
            <a:avLst/>
          </a:prstGeom>
          <a:ln w="0">
            <a:noFill/>
          </a:ln>
        </p:spPr>
      </p:pic>
      <p:grpSp>
        <p:nvGrpSpPr>
          <p:cNvPr id="1222" name=""/>
          <p:cNvGrpSpPr/>
          <p:nvPr/>
        </p:nvGrpSpPr>
        <p:grpSpPr>
          <a:xfrm>
            <a:off x="304920" y="2427120"/>
            <a:ext cx="2311200" cy="1217880"/>
            <a:chOff x="304920" y="2427120"/>
            <a:chExt cx="2311200" cy="1217880"/>
          </a:xfrm>
        </p:grpSpPr>
        <p:sp>
          <p:nvSpPr>
            <p:cNvPr id="1223" name=""/>
            <p:cNvSpPr/>
            <p:nvPr/>
          </p:nvSpPr>
          <p:spPr>
            <a:xfrm>
              <a:off x="1379520" y="2427120"/>
              <a:ext cx="420840" cy="641520"/>
            </a:xfrm>
            <a:custGeom>
              <a:avLst/>
              <a:gdLst/>
              <a:ahLst/>
              <a:rect l="l" t="t" r="r" b="b"/>
              <a:pathLst>
                <a:path w="265" h="404">
                  <a:moveTo>
                    <a:pt x="0" y="404"/>
                  </a:moveTo>
                  <a:cubicBezTo>
                    <a:pt x="13" y="293"/>
                    <a:pt x="30" y="108"/>
                    <a:pt x="86" y="45"/>
                  </a:cubicBezTo>
                  <a:cubicBezTo>
                    <a:pt x="126" y="0"/>
                    <a:pt x="205" y="45"/>
                    <a:pt x="265" y="4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4" name=""/>
                <p:cNvSpPr txBox="1"/>
                <p:nvPr/>
              </p:nvSpPr>
              <p:spPr>
                <a:xfrm>
                  <a:off x="304920" y="3048120"/>
                  <a:ext cx="23112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j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jωC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jω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25" name=""/>
              <p:cNvSpPr txBox="1"/>
              <p:nvPr/>
            </p:nvSpPr>
            <p:spPr>
              <a:xfrm>
                <a:off x="2666880" y="3048120"/>
                <a:ext cx="990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6" name=""/>
              <p:cNvSpPr txBox="1"/>
              <p:nvPr/>
            </p:nvSpPr>
            <p:spPr>
              <a:xfrm>
                <a:off x="101520" y="3733920"/>
                <a:ext cx="2565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jωC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7" name=""/>
              <p:cNvSpPr txBox="1"/>
              <p:nvPr/>
            </p:nvSpPr>
            <p:spPr>
              <a:xfrm>
                <a:off x="76320" y="4357800"/>
                <a:ext cx="38732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j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ωL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ωL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8" name=""/>
              <p:cNvSpPr txBox="1"/>
              <p:nvPr/>
            </p:nvSpPr>
            <p:spPr>
              <a:xfrm>
                <a:off x="38160" y="5105520"/>
                <a:ext cx="47624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 real</m:t>
                    </m:r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ωL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R</m:t>
                                    </m:r>
                                  </m:num>
                                  <m:den>
                                    <m:r>
                                      <m:t xml:space="preserve">L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9" name=""/>
              <p:cNvSpPr txBox="1"/>
              <p:nvPr/>
            </p:nvSpPr>
            <p:spPr>
              <a:xfrm>
                <a:off x="38160" y="5867280"/>
                <a:ext cx="23241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2438280" y="5805360"/>
                <a:ext cx="15494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2590920" y="685800"/>
                <a:ext cx="6516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t resonance the voltage and impedance are maxi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3200400" y="1295280"/>
                <a:ext cx="590724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L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L</m:t>
                                    </m:r>
                                  </m:num>
                                  <m:den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L</m:t>
                                    </m:r>
                                  </m:num>
                                  <m:den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3" name=""/>
              <p:cNvSpPr txBox="1"/>
              <p:nvPr/>
            </p:nvSpPr>
            <p:spPr>
              <a:xfrm>
                <a:off x="4572000" y="2133720"/>
                <a:ext cx="1244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Q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234" name=""/>
          <p:cNvSpPr/>
          <p:nvPr/>
        </p:nvSpPr>
        <p:spPr>
          <a:xfrm>
            <a:off x="4641840" y="3182760"/>
            <a:ext cx="406548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ow do you define a quality factor 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circui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5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3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9" name="F11.036_W1121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743280" cy="2009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40" name=""/>
              <p:cNvSpPr txBox="1"/>
              <p:nvPr/>
            </p:nvSpPr>
            <p:spPr>
              <a:xfrm>
                <a:off x="2514600" y="152280"/>
                <a:ext cx="3962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both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41" name=""/>
          <p:cNvGrpSpPr/>
          <p:nvPr/>
        </p:nvGrpSpPr>
        <p:grpSpPr>
          <a:xfrm>
            <a:off x="304920" y="2819520"/>
            <a:ext cx="3949560" cy="671400"/>
            <a:chOff x="304920" y="2819520"/>
            <a:chExt cx="3949560" cy="671400"/>
          </a:xfrm>
        </p:grpSpPr>
        <mc:AlternateContent>
          <mc:Choice xmlns:a14="http://schemas.microsoft.com/office/drawing/2010/main" Requires="a14">
            <p:sp>
              <p:nvSpPr>
                <p:cNvPr id="1242" name=""/>
                <p:cNvSpPr txBox="1"/>
                <p:nvPr/>
              </p:nvSpPr>
              <p:spPr>
                <a:xfrm>
                  <a:off x="304920" y="2881440"/>
                  <a:ext cx="232416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43" name=""/>
                <p:cNvSpPr txBox="1"/>
                <p:nvPr/>
              </p:nvSpPr>
              <p:spPr>
                <a:xfrm>
                  <a:off x="2705040" y="2819520"/>
                  <a:ext cx="15494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152280" y="3957480"/>
                <a:ext cx="41655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304920" y="4795920"/>
                <a:ext cx="35431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0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1246" name=""/>
          <p:cNvGraphicFramePr/>
          <p:nvPr/>
        </p:nvGraphicFramePr>
        <p:xfrm>
          <a:off x="309600" y="5640480"/>
          <a:ext cx="3327480" cy="853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9600" y="5640480"/>
                    <a:ext cx="3327480" cy="85392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248" name=""/>
          <p:cNvGrpSpPr/>
          <p:nvPr/>
        </p:nvGrpSpPr>
        <p:grpSpPr>
          <a:xfrm>
            <a:off x="4648320" y="457200"/>
            <a:ext cx="4390920" cy="5924520"/>
            <a:chOff x="4648320" y="457200"/>
            <a:chExt cx="4390920" cy="5924520"/>
          </a:xfrm>
        </p:grpSpPr>
        <p:pic>
          <p:nvPicPr>
            <p:cNvPr id="1249" name="F11.037A_W1122" descr=""/>
            <p:cNvPicPr/>
            <p:nvPr/>
          </p:nvPicPr>
          <p:blipFill>
            <a:blip r:embed="rId4"/>
            <a:stretch/>
          </p:blipFill>
          <p:spPr>
            <a:xfrm>
              <a:off x="4648320" y="457200"/>
              <a:ext cx="4352760" cy="31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0" name="F11.037B_W1122" descr=""/>
            <p:cNvPicPr/>
            <p:nvPr/>
          </p:nvPicPr>
          <p:blipFill>
            <a:blip r:embed="rId5"/>
            <a:stretch/>
          </p:blipFill>
          <p:spPr>
            <a:xfrm>
              <a:off x="4724280" y="3505320"/>
              <a:ext cx="4314960" cy="2876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1" name="geaux" descr=""/>
          <p:cNvPicPr/>
          <p:nvPr/>
        </p:nvPicPr>
        <p:blipFill>
          <a:blip r:embed="rId6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5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470520" y="914400"/>
            <a:ext cx="7750440" cy="1143000"/>
            <a:chOff x="470520" y="914400"/>
            <a:chExt cx="7750440" cy="1143000"/>
          </a:xfrm>
        </p:grpSpPr>
        <p:sp>
          <p:nvSpPr>
            <p:cNvPr id="93" name=""/>
            <p:cNvSpPr/>
            <p:nvPr/>
          </p:nvSpPr>
          <p:spPr>
            <a:xfrm>
              <a:off x="470520" y="914400"/>
              <a:ext cx="77504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all cases seen, and all cases to be studied, the impedance is of the 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2590920" y="1298520"/>
                  <a:ext cx="3962160" cy="75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m</m:t>
                              </m:r>
                            </m:sup>
                          </m:sSup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m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511280" y="304920"/>
                <a:ext cx="3137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L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213840" y="-17640"/>
            <a:ext cx="4352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ified notation for basic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5840" y="2421000"/>
            <a:ext cx="7983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over, if the circuit elements (L,R,C, dependent sources) are real the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pression for any voltage or current will also be a rational function in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1320" y="3200400"/>
            <a:ext cx="2597760" cy="2236320"/>
            <a:chOff x="31320" y="3200400"/>
            <a:chExt cx="2597760" cy="2236320"/>
          </a:xfrm>
        </p:grpSpPr>
        <p:sp>
          <p:nvSpPr>
            <p:cNvPr id="99" name=""/>
            <p:cNvSpPr/>
            <p:nvPr/>
          </p:nvSpPr>
          <p:spPr>
            <a:xfrm>
              <a:off x="31320" y="320040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F11.005A_W1084" descr=""/>
            <p:cNvPicPr/>
            <p:nvPr/>
          </p:nvPicPr>
          <p:blipFill>
            <a:blip r:embed="rId1"/>
            <a:stretch/>
          </p:blipFill>
          <p:spPr>
            <a:xfrm>
              <a:off x="304920" y="3674880"/>
              <a:ext cx="2324160" cy="176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"/>
          <p:cNvGrpSpPr/>
          <p:nvPr/>
        </p:nvGrpSpPr>
        <p:grpSpPr>
          <a:xfrm>
            <a:off x="878040" y="4114800"/>
            <a:ext cx="1241280" cy="747720"/>
            <a:chOff x="878040" y="4114800"/>
            <a:chExt cx="1241280" cy="747720"/>
          </a:xfrm>
        </p:grpSpPr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1676520" y="4114800"/>
                  <a:ext cx="2793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878040" y="4165560"/>
                  <a:ext cx="3412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1905120" y="4648320"/>
                  <a:ext cx="21420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533680" y="3733920"/>
                <a:ext cx="2324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876920" y="3733920"/>
                <a:ext cx="1930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RC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RC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200400" y="4343400"/>
                <a:ext cx="27176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≈</m:t>
                        </m:r>
                        <m:r>
                          <m:t xml:space="preserve">jω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j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828800" y="5334120"/>
                <a:ext cx="55245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448200" y="6064200"/>
            <a:ext cx="820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TLAB can be effectively used to compute frequency response character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"/>
          <p:cNvSpPr/>
          <p:nvPr/>
        </p:nvSpPr>
        <p:spPr>
          <a:xfrm>
            <a:off x="154080" y="76320"/>
            <a:ext cx="41065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CE IN A MORE GENERAL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5" name=""/>
          <p:cNvGrpSpPr/>
          <p:nvPr/>
        </p:nvGrpSpPr>
        <p:grpSpPr>
          <a:xfrm>
            <a:off x="1143000" y="609480"/>
            <a:ext cx="7035840" cy="1219320"/>
            <a:chOff x="1143000" y="609480"/>
            <a:chExt cx="7035840" cy="1219320"/>
          </a:xfrm>
        </p:grpSpPr>
        <mc:AlternateContent>
          <mc:Choice xmlns:a14="http://schemas.microsoft.com/office/drawing/2010/main" Requires="a14">
            <p:sp>
              <p:nvSpPr>
                <p:cNvPr id="1256" name=""/>
                <p:cNvSpPr txBox="1"/>
                <p:nvPr/>
              </p:nvSpPr>
              <p:spPr>
                <a:xfrm>
                  <a:off x="1143000" y="609480"/>
                  <a:ext cx="2336760" cy="12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jωL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C</m:t>
                              </m:r>
                            </m:den>
                          </m:f>
                        </m:e>
                        <m:e>
                          <m:r>
                            <m:t xml:space="preserve">|</m:t>
                          </m:r>
                          <m:r>
                            <m:t xml:space="preserve">Z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L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C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57" name=""/>
                <p:cNvSpPr txBox="1"/>
                <p:nvPr/>
              </p:nvSpPr>
              <p:spPr>
                <a:xfrm>
                  <a:off x="5867280" y="622080"/>
                  <a:ext cx="2311560" cy="120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G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L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jωC</m:t>
                          </m:r>
                        </m:e>
                        <m:e>
                          <m:r>
                            <m:t xml:space="preserve">|</m:t>
                          </m:r>
                          <m:r>
                            <m:t xml:space="preserve">Y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G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C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L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58" name=""/>
          <p:cNvSpPr/>
          <p:nvPr/>
        </p:nvSpPr>
        <p:spPr>
          <a:xfrm>
            <a:off x="267120" y="1981080"/>
            <a:ext cx="8462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series connection the impedance reaches maximum at resonance. For parall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nection the impedance reaches 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1905120" y="2666880"/>
                <a:ext cx="55753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ω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ωL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0" name=""/>
              <p:cNvSpPr txBox="1"/>
              <p:nvPr/>
            </p:nvSpPr>
            <p:spPr>
              <a:xfrm>
                <a:off x="2286000" y="3352680"/>
                <a:ext cx="47498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Bode plots the quadratic term was written as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ς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1" name=""/>
              <p:cNvSpPr txBox="1"/>
              <p:nvPr/>
            </p:nvSpPr>
            <p:spPr>
              <a:xfrm>
                <a:off x="3886200" y="4114800"/>
                <a:ext cx="1371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2" name=""/>
              <p:cNvSpPr txBox="1"/>
              <p:nvPr/>
            </p:nvSpPr>
            <p:spPr>
              <a:xfrm>
                <a:off x="1752480" y="4800600"/>
                <a:ext cx="264168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ries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ςτ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  <m:r>
                          <m:t xml:space="preserve">⇒</m:t>
                        </m:r>
                        <m:r>
                          <m:t xml:space="preserve">2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3" name=""/>
              <p:cNvSpPr txBox="1"/>
              <p:nvPr/>
            </p:nvSpPr>
            <p:spPr>
              <a:xfrm>
                <a:off x="4724280" y="4800600"/>
                <a:ext cx="26924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arallel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ςτ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⇒</m:t>
                        </m:r>
                        <m:r>
                          <m:t xml:space="preserve">2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4267080" y="5791320"/>
                <a:ext cx="698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5" name=""/>
          <p:cNvSpPr/>
          <p:nvPr/>
        </p:nvSpPr>
        <p:spPr>
          <a:xfrm>
            <a:off x="661680" y="5850000"/>
            <a:ext cx="2646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high Q circuit is high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der dam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6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6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9" name=""/>
          <p:cNvGrpSpPr/>
          <p:nvPr/>
        </p:nvGrpSpPr>
        <p:grpSpPr>
          <a:xfrm>
            <a:off x="7933320" y="5562720"/>
            <a:ext cx="1271880" cy="838080"/>
            <a:chOff x="7933320" y="5562720"/>
            <a:chExt cx="1271880" cy="838080"/>
          </a:xfrm>
        </p:grpSpPr>
        <p:pic>
          <p:nvPicPr>
            <p:cNvPr id="1270" name="stop" descr=""/>
            <p:cNvPicPr/>
            <p:nvPr/>
          </p:nvPicPr>
          <p:blipFill>
            <a:blip r:embed="rId2"/>
            <a:stretch/>
          </p:blipFill>
          <p:spPr>
            <a:xfrm>
              <a:off x="8305920" y="5886360"/>
              <a:ext cx="5140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1" name=""/>
            <p:cNvSpPr/>
            <p:nvPr/>
          </p:nvSpPr>
          <p:spPr>
            <a:xfrm>
              <a:off x="7933320" y="5562720"/>
              <a:ext cx="127188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Reson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"/>
          <p:cNvSpPr/>
          <p:nvPr/>
        </p:nvSpPr>
        <p:spPr>
          <a:xfrm>
            <a:off x="3942720" y="76320"/>
            <a:ext cx="129168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CA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40800" y="609480"/>
            <a:ext cx="7462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caling techniques are used to change an idealized network into a m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alistic  one or to adjust the values of th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4" name=""/>
              <p:cNvSpPr txBox="1"/>
              <p:nvPr/>
            </p:nvSpPr>
            <p:spPr>
              <a:xfrm>
                <a:off x="533520" y="1295280"/>
                <a:ext cx="325116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gnitude or impedance scaling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L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457200" y="3124080"/>
                <a:ext cx="31240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C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'</m:t>
                    </m:r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L</m:t>
                            </m:r>
                            <m:r>
                              <m:t xml:space="preserve">'</m:t>
                            </m:r>
                            <m:r>
                              <m:t xml:space="preserve">C</m:t>
                            </m:r>
                            <m:r>
                              <m:t xml:space="preserve">'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6" name=""/>
              <p:cNvSpPr txBox="1"/>
              <p:nvPr/>
            </p:nvSpPr>
            <p:spPr>
              <a:xfrm>
                <a:off x="457200" y="3733920"/>
                <a:ext cx="15112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'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7" name=""/>
          <p:cNvSpPr/>
          <p:nvPr/>
        </p:nvSpPr>
        <p:spPr>
          <a:xfrm>
            <a:off x="126360" y="4478400"/>
            <a:ext cx="4312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gnitude scaling does not chang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characteristics nor the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network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8" name=""/>
              <p:cNvSpPr txBox="1"/>
              <p:nvPr/>
            </p:nvSpPr>
            <p:spPr>
              <a:xfrm>
                <a:off x="4572000" y="1295280"/>
                <a:ext cx="4533840" cy="15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requency or time scalin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ω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ω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mpedance of each component is unchanged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'</m:t>
                        </m:r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ωL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</m:t>
                            </m:r>
                            <m:r>
                              <m:t xml:space="preserve">'</m:t>
                            </m:r>
                            <m:r>
                              <m:t xml:space="preserve">C</m:t>
                            </m:r>
                            <m:r>
                              <m:t xml:space="preserve">'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9" name=""/>
              <p:cNvSpPr txBox="1"/>
              <p:nvPr/>
            </p:nvSpPr>
            <p:spPr>
              <a:xfrm>
                <a:off x="6159600" y="2971800"/>
                <a:ext cx="9270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6095880" y="4724280"/>
                <a:ext cx="1054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5562720" y="5715000"/>
                <a:ext cx="2082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r>
                          <m:t xml:space="preserve">Q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82" name=""/>
          <p:cNvGrpSpPr/>
          <p:nvPr/>
        </p:nvGrpSpPr>
        <p:grpSpPr>
          <a:xfrm>
            <a:off x="6019920" y="5105520"/>
            <a:ext cx="2782800" cy="596880"/>
            <a:chOff x="6019920" y="5105520"/>
            <a:chExt cx="2782800" cy="596880"/>
          </a:xfrm>
        </p:grpSpPr>
        <mc:AlternateContent>
          <mc:Choice xmlns:a14="http://schemas.microsoft.com/office/drawing/2010/main" Requires="a14">
            <p:sp>
              <p:nvSpPr>
                <p:cNvPr id="1283" name=""/>
                <p:cNvSpPr txBox="1"/>
                <p:nvPr/>
              </p:nvSpPr>
              <p:spPr>
                <a:xfrm>
                  <a:off x="6019920" y="5105520"/>
                  <a:ext cx="12826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'</m:t>
                      </m:r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  <m:r>
                            <m:t xml:space="preserve">L</m:t>
                          </m:r>
                          <m:r>
                            <m:t xml:space="preserve">'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'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84" name=""/>
            <p:cNvSpPr/>
            <p:nvPr/>
          </p:nvSpPr>
          <p:spPr>
            <a:xfrm>
              <a:off x="7488000" y="5105520"/>
              <a:ext cx="13147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stant 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twor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85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8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8" name="F11.035_W1120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2819160" cy="2625480"/>
          </a:xfrm>
          <a:prstGeom prst="rect">
            <a:avLst/>
          </a:prstGeom>
          <a:ln w="0">
            <a:noFill/>
          </a:ln>
        </p:spPr>
      </p:pic>
      <p:sp>
        <p:nvSpPr>
          <p:cNvPr id="1289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0" name=""/>
              <p:cNvSpPr txBox="1"/>
              <p:nvPr/>
            </p:nvSpPr>
            <p:spPr>
              <a:xfrm>
                <a:off x="3352680" y="2666880"/>
                <a:ext cx="50796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1" name=""/>
              <p:cNvSpPr txBox="1"/>
              <p:nvPr/>
            </p:nvSpPr>
            <p:spPr>
              <a:xfrm>
                <a:off x="3276720" y="1752480"/>
                <a:ext cx="50796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2" name=""/>
              <p:cNvSpPr txBox="1"/>
              <p:nvPr/>
            </p:nvSpPr>
            <p:spPr>
              <a:xfrm>
                <a:off x="2438280" y="2503440"/>
                <a:ext cx="392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3" name=""/>
          <p:cNvSpPr/>
          <p:nvPr/>
        </p:nvSpPr>
        <p:spPr>
          <a:xfrm>
            <a:off x="2651400" y="135000"/>
            <a:ext cx="6293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value of the elements and the characterisit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network if the circuit is magnitude scaled by 100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scaled by 1,0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4" name=""/>
              <p:cNvSpPr txBox="1"/>
              <p:nvPr/>
            </p:nvSpPr>
            <p:spPr>
              <a:xfrm>
                <a:off x="4095720" y="1143000"/>
                <a:ext cx="32385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5" name=""/>
          <p:cNvSpPr/>
          <p:nvPr/>
        </p:nvSpPr>
        <p:spPr>
          <a:xfrm>
            <a:off x="5867280" y="685800"/>
            <a:ext cx="25909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304920" y="5334120"/>
                <a:ext cx="102852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7" name=""/>
              <p:cNvSpPr txBox="1"/>
              <p:nvPr/>
            </p:nvSpPr>
            <p:spPr>
              <a:xfrm>
                <a:off x="228600" y="3581280"/>
                <a:ext cx="342900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gnitude or impedance scaling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L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8" name=""/>
          <p:cNvSpPr/>
          <p:nvPr/>
        </p:nvSpPr>
        <p:spPr>
          <a:xfrm>
            <a:off x="2590920" y="914400"/>
            <a:ext cx="19810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9" name=""/>
              <p:cNvSpPr txBox="1"/>
              <p:nvPr/>
            </p:nvSpPr>
            <p:spPr>
              <a:xfrm>
                <a:off x="4876920" y="2209680"/>
                <a:ext cx="9270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0" name=""/>
              <p:cNvSpPr txBox="1"/>
              <p:nvPr/>
            </p:nvSpPr>
            <p:spPr>
              <a:xfrm>
                <a:off x="6553080" y="2362320"/>
                <a:ext cx="12574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mH</m:t>
                        </m:r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  <m:r>
                          <m:t xml:space="preserve">μ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4876920" y="3886200"/>
                <a:ext cx="1054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2" name=""/>
              <p:cNvSpPr txBox="1"/>
              <p:nvPr/>
            </p:nvSpPr>
            <p:spPr>
              <a:xfrm>
                <a:off x="4800600" y="4495680"/>
                <a:ext cx="20829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r>
                          <m:t xml:space="preserve">Q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6172200" y="3886200"/>
                <a:ext cx="2070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1600200" y="5943600"/>
                <a:ext cx="2146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are unchanged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05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0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"/>
          <p:cNvSpPr/>
          <p:nvPr/>
        </p:nvSpPr>
        <p:spPr>
          <a:xfrm>
            <a:off x="18324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9" name=""/>
              <p:cNvSpPr txBox="1"/>
              <p:nvPr/>
            </p:nvSpPr>
            <p:spPr>
              <a:xfrm>
                <a:off x="2857680" y="25560"/>
                <a:ext cx="57290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n RLC network with 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, 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H, 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F is magnitud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caled by 100 and frequency scaled by 10,0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etermin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resulting circuit element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304920" y="1143000"/>
                <a:ext cx="342900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gnitude or impedance scaling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L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1905120" y="1676520"/>
                <a:ext cx="10540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4572000" y="1143000"/>
                <a:ext cx="1828800" cy="19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requency scaling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5715000" y="1752480"/>
                <a:ext cx="10796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5" name=""/>
          <p:cNvGrpSpPr/>
          <p:nvPr/>
        </p:nvGrpSpPr>
        <p:grpSpPr>
          <a:xfrm>
            <a:off x="8238960" y="5927760"/>
            <a:ext cx="903600" cy="925560"/>
            <a:chOff x="8238960" y="5927760"/>
            <a:chExt cx="903600" cy="925560"/>
          </a:xfrm>
        </p:grpSpPr>
        <p:pic>
          <p:nvPicPr>
            <p:cNvPr id="1316" name="stop" descr=""/>
            <p:cNvPicPr/>
            <p:nvPr/>
          </p:nvPicPr>
          <p:blipFill>
            <a:blip r:embed="rId1"/>
            <a:stretch/>
          </p:blipFill>
          <p:spPr>
            <a:xfrm>
              <a:off x="862812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7" name=""/>
            <p:cNvSpPr/>
            <p:nvPr/>
          </p:nvSpPr>
          <p:spPr>
            <a:xfrm>
              <a:off x="8238960" y="5927760"/>
              <a:ext cx="90324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ca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"/>
          <p:cNvSpPr/>
          <p:nvPr/>
        </p:nvSpPr>
        <p:spPr>
          <a:xfrm>
            <a:off x="3321360" y="85680"/>
            <a:ext cx="25110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FILTER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601640" y="592200"/>
            <a:ext cx="5929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s designed to have frequency selective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33720" y="1066680"/>
            <a:ext cx="2012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MON 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2" name=""/>
          <p:cNvGrpSpPr/>
          <p:nvPr/>
        </p:nvGrpSpPr>
        <p:grpSpPr>
          <a:xfrm>
            <a:off x="152280" y="1447920"/>
            <a:ext cx="3495960" cy="2543040"/>
            <a:chOff x="152280" y="1447920"/>
            <a:chExt cx="3495960" cy="2543040"/>
          </a:xfrm>
        </p:grpSpPr>
        <p:pic>
          <p:nvPicPr>
            <p:cNvPr id="1323" name="F11.038A_W1123" descr=""/>
            <p:cNvPicPr/>
            <p:nvPr/>
          </p:nvPicPr>
          <p:blipFill>
            <a:blip r:embed="rId1"/>
            <a:stretch/>
          </p:blipFill>
          <p:spPr>
            <a:xfrm>
              <a:off x="152280" y="1447920"/>
              <a:ext cx="3495960" cy="25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>
              <a:off x="852480" y="3639960"/>
              <a:ext cx="1666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ow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5" name=""/>
          <p:cNvGrpSpPr/>
          <p:nvPr/>
        </p:nvGrpSpPr>
        <p:grpSpPr>
          <a:xfrm>
            <a:off x="4724280" y="1143000"/>
            <a:ext cx="3495960" cy="2682000"/>
            <a:chOff x="4724280" y="1143000"/>
            <a:chExt cx="3495960" cy="2682000"/>
          </a:xfrm>
        </p:grpSpPr>
        <p:pic>
          <p:nvPicPr>
            <p:cNvPr id="1326" name="F11.039A_W1124" descr=""/>
            <p:cNvPicPr/>
            <p:nvPr/>
          </p:nvPicPr>
          <p:blipFill>
            <a:blip r:embed="rId2"/>
            <a:stretch/>
          </p:blipFill>
          <p:spPr>
            <a:xfrm>
              <a:off x="4724280" y="1143000"/>
              <a:ext cx="3495960" cy="25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>
              <a:off x="5626800" y="3487680"/>
              <a:ext cx="1732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igh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8" name=""/>
          <p:cNvGrpSpPr/>
          <p:nvPr/>
        </p:nvGrpSpPr>
        <p:grpSpPr>
          <a:xfrm>
            <a:off x="380880" y="4267080"/>
            <a:ext cx="3048120" cy="2368800"/>
            <a:chOff x="380880" y="4267080"/>
            <a:chExt cx="3048120" cy="2368800"/>
          </a:xfrm>
        </p:grpSpPr>
        <p:pic>
          <p:nvPicPr>
            <p:cNvPr id="1329" name="F11.040A_W1125" descr=""/>
            <p:cNvPicPr/>
            <p:nvPr/>
          </p:nvPicPr>
          <p:blipFill>
            <a:blip r:embed="rId3"/>
            <a:stretch/>
          </p:blipFill>
          <p:spPr>
            <a:xfrm>
              <a:off x="380880" y="4267080"/>
              <a:ext cx="3048120" cy="23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>
              <a:off x="1327680" y="6292800"/>
              <a:ext cx="1771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5181480" y="4132440"/>
            <a:ext cx="2590920" cy="2054880"/>
            <a:chOff x="5181480" y="4132440"/>
            <a:chExt cx="2590920" cy="2054880"/>
          </a:xfrm>
        </p:grpSpPr>
        <p:pic>
          <p:nvPicPr>
            <p:cNvPr id="1332" name="F11.040B_W1125" descr=""/>
            <p:cNvPicPr/>
            <p:nvPr/>
          </p:nvPicPr>
          <p:blipFill>
            <a:blip r:embed="rId4"/>
            <a:stretch/>
          </p:blipFill>
          <p:spPr>
            <a:xfrm>
              <a:off x="5181480" y="4132440"/>
              <a:ext cx="2590920" cy="20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3" name=""/>
            <p:cNvSpPr/>
            <p:nvPr/>
          </p:nvSpPr>
          <p:spPr>
            <a:xfrm>
              <a:off x="5855040" y="5850000"/>
              <a:ext cx="1907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reject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4" name=""/>
          <p:cNvSpPr/>
          <p:nvPr/>
        </p:nvSpPr>
        <p:spPr>
          <a:xfrm>
            <a:off x="3240720" y="4495680"/>
            <a:ext cx="18752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focus first 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SSIVE 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5" name="geaux" descr=""/>
          <p:cNvPicPr/>
          <p:nvPr/>
        </p:nvPicPr>
        <p:blipFill>
          <a:blip r:embed="rId5"/>
          <a:stretch/>
        </p:blipFill>
        <p:spPr>
          <a:xfrm>
            <a:off x="8305920" y="6429240"/>
            <a:ext cx="836640" cy="419400"/>
          </a:xfrm>
          <a:prstGeom prst="rect">
            <a:avLst/>
          </a:prstGeom>
          <a:ln w="0">
            <a:noFill/>
          </a:ln>
        </p:spPr>
      </p:pic>
      <p:sp>
        <p:nvSpPr>
          <p:cNvPr id="1336" name="">
            <a:hlinkClick r:id="" action="ppaction://hlinkshowjump?jump=nextslide"/>
          </p:cNvPr>
          <p:cNvSpPr/>
          <p:nvPr/>
        </p:nvSpPr>
        <p:spPr>
          <a:xfrm>
            <a:off x="45720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"/>
          <p:cNvSpPr/>
          <p:nvPr/>
        </p:nvSpPr>
        <p:spPr>
          <a:xfrm>
            <a:off x="209520" y="152280"/>
            <a:ext cx="23526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low-pas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8" name="F11.038B_W1123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2695320" cy="1828800"/>
          </a:xfrm>
          <a:prstGeom prst="rect">
            <a:avLst/>
          </a:prstGeom>
          <a:ln w="0">
            <a:noFill/>
          </a:ln>
        </p:spPr>
      </p:pic>
      <p:pic>
        <p:nvPicPr>
          <p:cNvPr id="1339" name="F11.038C_W1123" descr=""/>
          <p:cNvPicPr/>
          <p:nvPr/>
        </p:nvPicPr>
        <p:blipFill>
          <a:blip r:embed="rId2"/>
          <a:stretch/>
        </p:blipFill>
        <p:spPr>
          <a:xfrm>
            <a:off x="4181400" y="1066680"/>
            <a:ext cx="4962600" cy="3811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444600" y="2438280"/>
                <a:ext cx="2971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533520" y="3657600"/>
                <a:ext cx="2108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533520" y="4495680"/>
                <a:ext cx="23493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ωτ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457200" y="5562720"/>
                <a:ext cx="2527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4" name=""/>
              <p:cNvSpPr txBox="1"/>
              <p:nvPr/>
            </p:nvSpPr>
            <p:spPr>
              <a:xfrm>
                <a:off x="457200" y="6222960"/>
                <a:ext cx="2870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half power frequenc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5" name=""/>
              <p:cNvSpPr txBox="1"/>
              <p:nvPr/>
            </p:nvSpPr>
            <p:spPr>
              <a:xfrm>
                <a:off x="5969160" y="5562720"/>
                <a:ext cx="811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346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4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9" name="F11.039B_W1124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2666880" cy="1771560"/>
          </a:xfrm>
          <a:prstGeom prst="rect">
            <a:avLst/>
          </a:prstGeom>
          <a:ln w="0">
            <a:noFill/>
          </a:ln>
        </p:spPr>
      </p:pic>
      <p:sp>
        <p:nvSpPr>
          <p:cNvPr id="1350" name=""/>
          <p:cNvSpPr/>
          <p:nvPr/>
        </p:nvSpPr>
        <p:spPr>
          <a:xfrm>
            <a:off x="194040" y="135000"/>
            <a:ext cx="24469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high-pas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1" name=""/>
              <p:cNvSpPr txBox="1"/>
              <p:nvPr/>
            </p:nvSpPr>
            <p:spPr>
              <a:xfrm>
                <a:off x="380880" y="2209680"/>
                <a:ext cx="294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2" name=""/>
              <p:cNvSpPr txBox="1"/>
              <p:nvPr/>
            </p:nvSpPr>
            <p:spPr>
              <a:xfrm>
                <a:off x="457200" y="3200400"/>
                <a:ext cx="2070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53" name="F11.039C_W1124" descr=""/>
          <p:cNvPicPr/>
          <p:nvPr/>
        </p:nvPicPr>
        <p:blipFill>
          <a:blip r:embed="rId2"/>
          <a:stretch/>
        </p:blipFill>
        <p:spPr>
          <a:xfrm>
            <a:off x="3886200" y="380880"/>
            <a:ext cx="4924440" cy="3938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54" name=""/>
              <p:cNvSpPr txBox="1"/>
              <p:nvPr/>
            </p:nvSpPr>
            <p:spPr>
              <a:xfrm>
                <a:off x="380880" y="3886200"/>
                <a:ext cx="250200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ωτ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5" name=""/>
              <p:cNvSpPr txBox="1"/>
              <p:nvPr/>
            </p:nvSpPr>
            <p:spPr>
              <a:xfrm>
                <a:off x="457200" y="5334120"/>
                <a:ext cx="2527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6" name=""/>
              <p:cNvSpPr txBox="1"/>
              <p:nvPr/>
            </p:nvSpPr>
            <p:spPr>
              <a:xfrm>
                <a:off x="457200" y="5994360"/>
                <a:ext cx="2870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half power frequenc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7" name=""/>
              <p:cNvSpPr txBox="1"/>
              <p:nvPr/>
            </p:nvSpPr>
            <p:spPr>
              <a:xfrm>
                <a:off x="6477120" y="4648320"/>
                <a:ext cx="787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8" name=""/>
          <p:cNvSpPr/>
          <p:nvPr/>
        </p:nvSpPr>
        <p:spPr>
          <a:xfrm flipH="1">
            <a:off x="4952520" y="685800"/>
            <a:ext cx="2590920" cy="1828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5181480" y="1143000"/>
            <a:ext cx="2590920" cy="685800"/>
            <a:chOff x="5181480" y="1143000"/>
            <a:chExt cx="2590920" cy="685800"/>
          </a:xfrm>
        </p:grpSpPr>
        <p:sp>
          <p:nvSpPr>
            <p:cNvPr id="1360" name=""/>
            <p:cNvSpPr/>
            <p:nvPr/>
          </p:nvSpPr>
          <p:spPr>
            <a:xfrm>
              <a:off x="5181480" y="1143000"/>
              <a:ext cx="1676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858000" y="1143000"/>
              <a:ext cx="91440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62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6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/>
          <p:nvPr/>
        </p:nvSpPr>
        <p:spPr>
          <a:xfrm>
            <a:off x="140040" y="76320"/>
            <a:ext cx="2555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band-pass 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6" name=""/>
          <p:cNvGrpSpPr/>
          <p:nvPr/>
        </p:nvGrpSpPr>
        <p:grpSpPr>
          <a:xfrm>
            <a:off x="685800" y="990720"/>
            <a:ext cx="2838600" cy="1691280"/>
            <a:chOff x="685800" y="990720"/>
            <a:chExt cx="2838600" cy="1691280"/>
          </a:xfrm>
        </p:grpSpPr>
        <p:pic>
          <p:nvPicPr>
            <p:cNvPr id="1367" name="F11.040C_W1125" descr=""/>
            <p:cNvPicPr/>
            <p:nvPr/>
          </p:nvPicPr>
          <p:blipFill>
            <a:blip r:embed="rId1"/>
            <a:stretch/>
          </p:blipFill>
          <p:spPr>
            <a:xfrm>
              <a:off x="685800" y="990720"/>
              <a:ext cx="283860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8" name=""/>
            <p:cNvSpPr/>
            <p:nvPr/>
          </p:nvSpPr>
          <p:spPr>
            <a:xfrm>
              <a:off x="1293840" y="2344680"/>
              <a:ext cx="1215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p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685800" y="2743200"/>
                <a:ext cx="25401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L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ωC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0" name=""/>
              <p:cNvSpPr txBox="1"/>
              <p:nvPr/>
            </p:nvSpPr>
            <p:spPr>
              <a:xfrm>
                <a:off x="406440" y="3632040"/>
                <a:ext cx="300996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C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1" name=""/>
              <p:cNvSpPr txBox="1"/>
              <p:nvPr/>
            </p:nvSpPr>
            <p:spPr>
              <a:xfrm>
                <a:off x="228600" y="4343400"/>
                <a:ext cx="1701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2" name=""/>
              <p:cNvSpPr txBox="1"/>
              <p:nvPr/>
            </p:nvSpPr>
            <p:spPr>
              <a:xfrm>
                <a:off x="1981080" y="4495680"/>
                <a:ext cx="245124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73" name="F11.040E_W1125" descr=""/>
          <p:cNvPicPr/>
          <p:nvPr/>
        </p:nvPicPr>
        <p:blipFill>
          <a:blip r:embed="rId2"/>
          <a:stretch/>
        </p:blipFill>
        <p:spPr>
          <a:xfrm>
            <a:off x="4114800" y="152280"/>
            <a:ext cx="5029200" cy="2281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4" name=""/>
              <p:cNvSpPr txBox="1"/>
              <p:nvPr/>
            </p:nvSpPr>
            <p:spPr>
              <a:xfrm>
                <a:off x="4800600" y="2438280"/>
                <a:ext cx="31114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R</m:t>
                                        </m:r>
                                      </m:num>
                                      <m:den>
                                        <m:r>
                                          <m:t xml:space="preserve">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  <m:sPr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/>
                                </m:r>
                              </m:e>
                            </m:sPre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1752480" y="5105520"/>
                <a:ext cx="10288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4876920" y="3124080"/>
                <a:ext cx="29210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R</m:t>
                                        </m:r>
                                      </m:num>
                                      <m:den>
                                        <m:r>
                                          <m:t xml:space="preserve">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  <m:sPr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/>
                                </m:r>
                              </m:e>
                            </m:sPre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5486400" y="3962520"/>
                <a:ext cx="20574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8" name=""/>
              <p:cNvSpPr txBox="1"/>
              <p:nvPr/>
            </p:nvSpPr>
            <p:spPr>
              <a:xfrm>
                <a:off x="990720" y="5867280"/>
                <a:ext cx="23749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79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8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"/>
          <p:cNvSpPr/>
          <p:nvPr/>
        </p:nvSpPr>
        <p:spPr>
          <a:xfrm>
            <a:off x="255960" y="210960"/>
            <a:ext cx="2637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band-reject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3" name="F11.040B_W1125" descr=""/>
          <p:cNvPicPr/>
          <p:nvPr/>
        </p:nvPicPr>
        <p:blipFill>
          <a:blip r:embed="rId1"/>
          <a:stretch/>
        </p:blipFill>
        <p:spPr>
          <a:xfrm>
            <a:off x="304920" y="677880"/>
            <a:ext cx="2743200" cy="2141640"/>
          </a:xfrm>
          <a:prstGeom prst="rect">
            <a:avLst/>
          </a:prstGeom>
          <a:ln w="0">
            <a:noFill/>
          </a:ln>
        </p:spPr>
      </p:pic>
      <p:pic>
        <p:nvPicPr>
          <p:cNvPr id="1384" name="F11.040D_W1125" descr=""/>
          <p:cNvPicPr/>
          <p:nvPr/>
        </p:nvPicPr>
        <p:blipFill>
          <a:blip r:embed="rId2"/>
          <a:stretch/>
        </p:blipFill>
        <p:spPr>
          <a:xfrm>
            <a:off x="457200" y="2519280"/>
            <a:ext cx="3200400" cy="2586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85" name=""/>
              <p:cNvSpPr txBox="1"/>
              <p:nvPr/>
            </p:nvSpPr>
            <p:spPr>
              <a:xfrm>
                <a:off x="5181480" y="1447920"/>
                <a:ext cx="30355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  <m:r>
                      <m:t xml:space="preserve">j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6" name=""/>
              <p:cNvSpPr txBox="1"/>
              <p:nvPr/>
            </p:nvSpPr>
            <p:spPr>
              <a:xfrm>
                <a:off x="3962520" y="2209680"/>
                <a:ext cx="5092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 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 the capacitor acts as open circuit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7" name=""/>
              <p:cNvSpPr txBox="1"/>
              <p:nvPr/>
            </p:nvSpPr>
            <p:spPr>
              <a:xfrm>
                <a:off x="3962520" y="2743200"/>
                <a:ext cx="5029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 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rPr>
                        <m:lit/>
                        <m:nor/>
                      </m:rPr>
                      <m:t xml:space="preserve"> the inductor acts as open circuit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8" name=""/>
              <p:cNvSpPr txBox="1"/>
              <p:nvPr/>
            </p:nvSpPr>
            <p:spPr>
              <a:xfrm>
                <a:off x="4572000" y="3263760"/>
                <a:ext cx="34034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re determined as in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nd-pass filte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389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9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/>
          <p:nvPr/>
        </p:nvSpPr>
        <p:spPr>
          <a:xfrm>
            <a:off x="16812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3" name="F11.041_W1125a" descr=""/>
          <p:cNvPicPr/>
          <p:nvPr/>
        </p:nvPicPr>
        <p:blipFill>
          <a:blip r:embed="rId1"/>
          <a:stretch/>
        </p:blipFill>
        <p:spPr>
          <a:xfrm>
            <a:off x="76320" y="1219320"/>
            <a:ext cx="2428920" cy="2895480"/>
          </a:xfrm>
          <a:prstGeom prst="rect">
            <a:avLst/>
          </a:prstGeom>
          <a:ln w="0">
            <a:noFill/>
          </a:ln>
        </p:spPr>
      </p:pic>
      <p:sp>
        <p:nvSpPr>
          <p:cNvPr id="1394" name=""/>
          <p:cNvSpPr/>
          <p:nvPr/>
        </p:nvSpPr>
        <p:spPr>
          <a:xfrm>
            <a:off x="2771280" y="58680"/>
            <a:ext cx="56854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pending on where the output is taken, thi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n produce low-pass, high-pass or band-pass or ban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ject 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5" name=""/>
          <p:cNvGrpSpPr/>
          <p:nvPr/>
        </p:nvGrpSpPr>
        <p:grpSpPr>
          <a:xfrm>
            <a:off x="2052720" y="3198960"/>
            <a:ext cx="1762920" cy="839520"/>
            <a:chOff x="2052720" y="3198960"/>
            <a:chExt cx="1762920" cy="839520"/>
          </a:xfrm>
        </p:grpSpPr>
        <p:sp>
          <p:nvSpPr>
            <p:cNvPr id="1396" name=""/>
            <p:cNvSpPr/>
            <p:nvPr/>
          </p:nvSpPr>
          <p:spPr>
            <a:xfrm>
              <a:off x="2052720" y="319896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057400" y="4038480"/>
              <a:ext cx="609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600280" y="3408480"/>
              <a:ext cx="12153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p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9" name=""/>
          <p:cNvGrpSpPr/>
          <p:nvPr/>
        </p:nvGrpSpPr>
        <p:grpSpPr>
          <a:xfrm>
            <a:off x="1981080" y="1295280"/>
            <a:ext cx="2523960" cy="1005840"/>
            <a:chOff x="1981080" y="1295280"/>
            <a:chExt cx="2523960" cy="1005840"/>
          </a:xfrm>
        </p:grpSpPr>
        <p:sp>
          <p:nvSpPr>
            <p:cNvPr id="1400" name=""/>
            <p:cNvSpPr/>
            <p:nvPr/>
          </p:nvSpPr>
          <p:spPr>
            <a:xfrm>
              <a:off x="1981080" y="129528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597760" y="1963800"/>
              <a:ext cx="19072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reject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228600" y="4343400"/>
                <a:ext cx="20955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L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L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ωC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2743200" y="4419720"/>
                <a:ext cx="2730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4" name=""/>
          <p:cNvSpPr/>
          <p:nvPr/>
        </p:nvSpPr>
        <p:spPr>
          <a:xfrm>
            <a:off x="5810400" y="4554360"/>
            <a:ext cx="117576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igh-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5" name=""/>
              <p:cNvSpPr txBox="1"/>
              <p:nvPr/>
            </p:nvSpPr>
            <p:spPr>
              <a:xfrm>
                <a:off x="228600" y="5334120"/>
                <a:ext cx="21081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L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ωC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6" name=""/>
              <p:cNvSpPr txBox="1"/>
              <p:nvPr/>
            </p:nvSpPr>
            <p:spPr>
              <a:xfrm>
                <a:off x="2660760" y="5638680"/>
                <a:ext cx="2743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7" name=""/>
          <p:cNvSpPr/>
          <p:nvPr/>
        </p:nvSpPr>
        <p:spPr>
          <a:xfrm>
            <a:off x="5732280" y="5773680"/>
            <a:ext cx="111024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-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4572000" y="990720"/>
            <a:ext cx="4572000" cy="3276360"/>
            <a:chOff x="4572000" y="990720"/>
            <a:chExt cx="4572000" cy="3276360"/>
          </a:xfrm>
        </p:grpSpPr>
        <p:pic>
          <p:nvPicPr>
            <p:cNvPr id="1409" name="F11.042_W1126" descr=""/>
            <p:cNvPicPr/>
            <p:nvPr/>
          </p:nvPicPr>
          <p:blipFill>
            <a:blip r:embed="rId2"/>
            <a:stretch/>
          </p:blipFill>
          <p:spPr>
            <a:xfrm>
              <a:off x="4572000" y="990720"/>
              <a:ext cx="4552920" cy="30384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410" name=""/>
                <p:cNvSpPr txBox="1"/>
                <p:nvPr/>
              </p:nvSpPr>
              <p:spPr>
                <a:xfrm>
                  <a:off x="4648320" y="3976560"/>
                  <a:ext cx="4495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ode plot for </m:t>
                      </m:r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Ω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59</m:t>
                      </m:r>
                      <m:r>
                        <m:t xml:space="preserve">μH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59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411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1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63880" y="58680"/>
            <a:ext cx="71805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 TO COMPUTE MAGNITUDE AND PHASE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70040" y="457200"/>
                <a:ext cx="40053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5" name=""/>
          <p:cNvGrpSpPr/>
          <p:nvPr/>
        </p:nvGrpSpPr>
        <p:grpSpPr>
          <a:xfrm>
            <a:off x="304920" y="1523880"/>
            <a:ext cx="8452440" cy="990720"/>
            <a:chOff x="304920" y="1523880"/>
            <a:chExt cx="8452440" cy="990720"/>
          </a:xfrm>
        </p:grpSpPr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304920" y="1523880"/>
                  <a:ext cx="2743200" cy="99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&gt;&gt;</m:t>
                          </m:r>
                          <m:r>
                            <m:rPr>
                              <m:lit/>
                              <m:nor/>
                            </m:rPr>
                            <m:t xml:space="preserve">num</m:t>
                          </m:r>
                          <m:r>
                            <m:t xml:space="preserve">=</m:t>
                          </m:r>
                          <m:r>
                            <m:t xml:space="preserve">[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]</m:t>
                          </m:r>
                          <m:r>
                            <m:t xml:space="preserve">;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&gt;&gt;</m:t>
                          </m:r>
                          <m:r>
                            <m:rPr>
                              <m:lit/>
                              <m:nor/>
                            </m:rPr>
                            <m:t xml:space="preserve">den</m:t>
                          </m:r>
                          <m:r>
                            <m:t xml:space="preserve">=</m:t>
                          </m:r>
                          <m:r>
                            <m:t xml:space="preserve">[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]</m:t>
                          </m:r>
                          <m:r>
                            <m:t xml:space="preserve">;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&gt;&gt;</m:t>
                          </m:r>
                          <m:r>
                            <m:rPr>
                              <m:lit/>
                              <m:nor/>
                            </m:rPr>
                            <m:t xml:space="preserve">freqs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num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den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17" name=""/>
            <p:cNvSpPr/>
            <p:nvPr/>
          </p:nvSpPr>
          <p:spPr>
            <a:xfrm>
              <a:off x="3439080" y="1523880"/>
              <a:ext cx="5318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TLAB commands required to display magnitu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phase as function of frequ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3520440" y="2209680"/>
            <a:ext cx="50713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E: Instead of comma (,) one can use space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parate numbers in the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6320" y="3030480"/>
            <a:ext cx="4914720" cy="1058760"/>
            <a:chOff x="76320" y="3030480"/>
            <a:chExt cx="4914720" cy="1058760"/>
          </a:xfrm>
        </p:grpSpPr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76320" y="3429000"/>
                  <a:ext cx="491472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jω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  <m:r>
                            <m:t xml:space="preserve">×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3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1</m:t>
                          </m:r>
                          <m:r>
                            <m:t xml:space="preserve">×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3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jω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  <m:r>
                            <m:t xml:space="preserve">×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3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1" name=""/>
            <p:cNvSpPr/>
            <p:nvPr/>
          </p:nvSpPr>
          <p:spPr>
            <a:xfrm>
              <a:off x="85320" y="3030480"/>
              <a:ext cx="11149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173320" y="4665600"/>
            <a:ext cx="388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Lucida Sans"/>
              </a:rPr>
              <a:t>» num=[15*2.53*1e-3,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Lucida Sans"/>
              </a:rPr>
              <a:t>» den=[0.1*2.53*1e-3,15*2.53*1e-3,1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Lucida Sans"/>
              </a:rPr>
              <a:t>» freqs(num,d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209680" y="2971800"/>
            <a:ext cx="1657440" cy="466560"/>
            <a:chOff x="2209680" y="2971800"/>
            <a:chExt cx="1657440" cy="466560"/>
          </a:xfrm>
        </p:grpSpPr>
        <p:sp>
          <p:nvSpPr>
            <p:cNvPr id="124" name=""/>
            <p:cNvSpPr/>
            <p:nvPr/>
          </p:nvSpPr>
          <p:spPr>
            <a:xfrm>
              <a:off x="2209680" y="3203640"/>
              <a:ext cx="1447920" cy="234720"/>
            </a:xfrm>
            <a:custGeom>
              <a:avLst/>
              <a:gdLst/>
              <a:ahLst/>
              <a:rect l="l" t="t" r="r" b="b"/>
              <a:pathLst>
                <a:path w="912" h="148">
                  <a:moveTo>
                    <a:pt x="0" y="148"/>
                  </a:moveTo>
                  <a:cubicBezTo>
                    <a:pt x="231" y="146"/>
                    <a:pt x="463" y="148"/>
                    <a:pt x="694" y="141"/>
                  </a:cubicBezTo>
                  <a:cubicBezTo>
                    <a:pt x="703" y="141"/>
                    <a:pt x="709" y="129"/>
                    <a:pt x="717" y="125"/>
                  </a:cubicBezTo>
                  <a:cubicBezTo>
                    <a:pt x="771" y="97"/>
                    <a:pt x="912" y="83"/>
                    <a:pt x="912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3665520" y="297180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6" name=""/>
          <p:cNvGrpSpPr/>
          <p:nvPr/>
        </p:nvGrpSpPr>
        <p:grpSpPr>
          <a:xfrm>
            <a:off x="685800" y="4005360"/>
            <a:ext cx="1900080" cy="628560"/>
            <a:chOff x="685800" y="4005360"/>
            <a:chExt cx="1900080" cy="628560"/>
          </a:xfrm>
        </p:grpSpPr>
        <p:sp>
          <p:nvSpPr>
            <p:cNvPr id="127" name=""/>
            <p:cNvSpPr/>
            <p:nvPr/>
          </p:nvSpPr>
          <p:spPr>
            <a:xfrm>
              <a:off x="792000" y="4005360"/>
              <a:ext cx="1793880" cy="374400"/>
            </a:xfrm>
            <a:custGeom>
              <a:avLst/>
              <a:gdLst/>
              <a:ahLst/>
              <a:rect l="l" t="t" r="r" b="b"/>
              <a:pathLst>
                <a:path w="1130" h="236">
                  <a:moveTo>
                    <a:pt x="1130" y="41"/>
                  </a:moveTo>
                  <a:cubicBezTo>
                    <a:pt x="1061" y="36"/>
                    <a:pt x="995" y="30"/>
                    <a:pt x="927" y="18"/>
                  </a:cubicBezTo>
                  <a:cubicBezTo>
                    <a:pt x="723" y="24"/>
                    <a:pt x="474" y="0"/>
                    <a:pt x="265" y="64"/>
                  </a:cubicBezTo>
                  <a:cubicBezTo>
                    <a:pt x="230" y="117"/>
                    <a:pt x="273" y="61"/>
                    <a:pt x="187" y="119"/>
                  </a:cubicBezTo>
                  <a:cubicBezTo>
                    <a:pt x="141" y="150"/>
                    <a:pt x="109" y="210"/>
                    <a:pt x="54" y="220"/>
                  </a:cubicBezTo>
                  <a:cubicBezTo>
                    <a:pt x="4" y="229"/>
                    <a:pt x="19" y="217"/>
                    <a:pt x="0" y="23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685800" y="434340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9" name=""/>
          <p:cNvGrpSpPr/>
          <p:nvPr/>
        </p:nvGrpSpPr>
        <p:grpSpPr>
          <a:xfrm>
            <a:off x="2906640" y="4095720"/>
            <a:ext cx="2278080" cy="385920"/>
            <a:chOff x="2906640" y="4095720"/>
            <a:chExt cx="2278080" cy="385920"/>
          </a:xfrm>
        </p:grpSpPr>
        <p:sp>
          <p:nvSpPr>
            <p:cNvPr id="130" name=""/>
            <p:cNvSpPr/>
            <p:nvPr/>
          </p:nvSpPr>
          <p:spPr>
            <a:xfrm>
              <a:off x="2906640" y="4095720"/>
              <a:ext cx="2278080" cy="111240"/>
            </a:xfrm>
            <a:custGeom>
              <a:avLst/>
              <a:gdLst/>
              <a:ahLst/>
              <a:rect l="l" t="t" r="r" b="b"/>
              <a:pathLst>
                <a:path w="1435" h="70">
                  <a:moveTo>
                    <a:pt x="0" y="7"/>
                  </a:moveTo>
                  <a:cubicBezTo>
                    <a:pt x="337" y="64"/>
                    <a:pt x="1435" y="64"/>
                    <a:pt x="959" y="15"/>
                  </a:cubicBezTo>
                  <a:cubicBezTo>
                    <a:pt x="848" y="21"/>
                    <a:pt x="756" y="31"/>
                    <a:pt x="647" y="23"/>
                  </a:cubicBezTo>
                  <a:cubicBezTo>
                    <a:pt x="541" y="32"/>
                    <a:pt x="554" y="0"/>
                    <a:pt x="554" y="7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3657600" y="4191120"/>
                  <a:ext cx="190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2" name=""/>
          <p:cNvGrpSpPr/>
          <p:nvPr/>
        </p:nvGrpSpPr>
        <p:grpSpPr>
          <a:xfrm>
            <a:off x="4849920" y="3954600"/>
            <a:ext cx="546120" cy="298440"/>
            <a:chOff x="4849920" y="3954600"/>
            <a:chExt cx="546120" cy="298440"/>
          </a:xfrm>
        </p:grpSpPr>
        <p:sp>
          <p:nvSpPr>
            <p:cNvPr id="133" name=""/>
            <p:cNvSpPr/>
            <p:nvPr/>
          </p:nvSpPr>
          <p:spPr>
            <a:xfrm>
              <a:off x="4849920" y="3954600"/>
              <a:ext cx="519120" cy="260280"/>
            </a:xfrm>
            <a:custGeom>
              <a:avLst/>
              <a:gdLst/>
              <a:ahLst/>
              <a:rect l="l" t="t" r="r" b="b"/>
              <a:pathLst>
                <a:path w="327" h="164">
                  <a:moveTo>
                    <a:pt x="0" y="89"/>
                  </a:moveTo>
                  <a:cubicBezTo>
                    <a:pt x="11" y="164"/>
                    <a:pt x="10" y="162"/>
                    <a:pt x="85" y="151"/>
                  </a:cubicBezTo>
                  <a:cubicBezTo>
                    <a:pt x="97" y="115"/>
                    <a:pt x="123" y="34"/>
                    <a:pt x="140" y="26"/>
                  </a:cubicBezTo>
                  <a:cubicBezTo>
                    <a:pt x="197" y="0"/>
                    <a:pt x="327" y="18"/>
                    <a:pt x="327" y="1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5181480" y="3962520"/>
                  <a:ext cx="214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5" name=""/>
          <p:cNvGrpSpPr/>
          <p:nvPr/>
        </p:nvGrpSpPr>
        <p:grpSpPr>
          <a:xfrm>
            <a:off x="4491000" y="4402080"/>
            <a:ext cx="4405320" cy="580680"/>
            <a:chOff x="4491000" y="4402080"/>
            <a:chExt cx="4405320" cy="580680"/>
          </a:xfrm>
        </p:grpSpPr>
        <p:sp>
          <p:nvSpPr>
            <p:cNvPr id="136" name=""/>
            <p:cNvSpPr/>
            <p:nvPr/>
          </p:nvSpPr>
          <p:spPr>
            <a:xfrm>
              <a:off x="4491000" y="4602240"/>
              <a:ext cx="1608120" cy="98280"/>
            </a:xfrm>
            <a:custGeom>
              <a:avLst/>
              <a:gdLst/>
              <a:ahLst/>
              <a:rect l="l" t="t" r="r" b="b"/>
              <a:pathLst>
                <a:path w="1013" h="62">
                  <a:moveTo>
                    <a:pt x="0" y="62"/>
                  </a:moveTo>
                  <a:cubicBezTo>
                    <a:pt x="18" y="57"/>
                    <a:pt x="38" y="56"/>
                    <a:pt x="54" y="47"/>
                  </a:cubicBezTo>
                  <a:cubicBezTo>
                    <a:pt x="65" y="40"/>
                    <a:pt x="65" y="17"/>
                    <a:pt x="78" y="16"/>
                  </a:cubicBezTo>
                  <a:cubicBezTo>
                    <a:pt x="153" y="9"/>
                    <a:pt x="229" y="21"/>
                    <a:pt x="304" y="23"/>
                  </a:cubicBezTo>
                  <a:cubicBezTo>
                    <a:pt x="538" y="19"/>
                    <a:pt x="778" y="0"/>
                    <a:pt x="1013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34040" y="4402080"/>
              <a:ext cx="2762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issing coefficients mu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e entered as zer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300400" y="5575320"/>
            <a:ext cx="6856560" cy="963720"/>
            <a:chOff x="2300400" y="5575320"/>
            <a:chExt cx="6856560" cy="963720"/>
          </a:xfrm>
        </p:grpSpPr>
        <p:sp>
          <p:nvSpPr>
            <p:cNvPr id="139" name=""/>
            <p:cNvSpPr/>
            <p:nvPr/>
          </p:nvSpPr>
          <p:spPr>
            <a:xfrm>
              <a:off x="2300400" y="5715000"/>
              <a:ext cx="3876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Lucida Sans"/>
                </a:rPr>
                <a:t>» num=[15*2.53*1e-3 0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Lucida Sans"/>
                </a:rPr>
                <a:t>» den=[0.1*2.53*1e-3 15*2.53*1e-3 1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Lucida Sans"/>
                </a:rPr>
                <a:t>» freqs(num,de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93880" y="5575320"/>
              <a:ext cx="286308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is sequence will al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ork. Must be careful n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o insert blanks elsewhe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"/>
          <p:cNvSpPr/>
          <p:nvPr/>
        </p:nvSpPr>
        <p:spPr>
          <a:xfrm>
            <a:off x="16812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670840" y="135000"/>
            <a:ext cx="5385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imple notch filter to eliminate 60Hz inter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6" name="F11.043_W1127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3657600" cy="1611360"/>
          </a:xfrm>
          <a:prstGeom prst="rect">
            <a:avLst/>
          </a:prstGeom>
          <a:ln w="0">
            <a:noFill/>
          </a:ln>
        </p:spPr>
      </p:pic>
      <p:sp>
        <p:nvSpPr>
          <p:cNvPr id="1417" name=""/>
          <p:cNvSpPr/>
          <p:nvPr/>
        </p:nvSpPr>
        <p:spPr>
          <a:xfrm>
            <a:off x="685800" y="457200"/>
            <a:ext cx="1447920" cy="13716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8" name=""/>
              <p:cNvSpPr txBox="1"/>
              <p:nvPr/>
            </p:nvSpPr>
            <p:spPr>
              <a:xfrm>
                <a:off x="228600" y="2590920"/>
                <a:ext cx="30099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ωL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9" name=""/>
              <p:cNvSpPr txBox="1"/>
              <p:nvPr/>
            </p:nvSpPr>
            <p:spPr>
              <a:xfrm>
                <a:off x="304920" y="3900600"/>
                <a:ext cx="1625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0" name=""/>
              <p:cNvSpPr txBox="1"/>
              <p:nvPr/>
            </p:nvSpPr>
            <p:spPr>
              <a:xfrm>
                <a:off x="152280" y="4800600"/>
                <a:ext cx="1854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1" name=""/>
              <p:cNvSpPr txBox="1"/>
              <p:nvPr/>
            </p:nvSpPr>
            <p:spPr>
              <a:xfrm>
                <a:off x="2133720" y="4800600"/>
                <a:ext cx="1904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22" name=""/>
          <p:cNvGrpSpPr/>
          <p:nvPr/>
        </p:nvGrpSpPr>
        <p:grpSpPr>
          <a:xfrm>
            <a:off x="4010040" y="1295280"/>
            <a:ext cx="5133960" cy="3829320"/>
            <a:chOff x="4010040" y="1295280"/>
            <a:chExt cx="5133960" cy="3829320"/>
          </a:xfrm>
        </p:grpSpPr>
        <p:grpSp>
          <p:nvGrpSpPr>
            <p:cNvPr id="1423" name=""/>
            <p:cNvGrpSpPr/>
            <p:nvPr/>
          </p:nvGrpSpPr>
          <p:grpSpPr>
            <a:xfrm>
              <a:off x="4010040" y="1295280"/>
              <a:ext cx="5133960" cy="3829320"/>
              <a:chOff x="4010040" y="1295280"/>
              <a:chExt cx="5133960" cy="3829320"/>
            </a:xfrm>
          </p:grpSpPr>
          <p:pic>
            <p:nvPicPr>
              <p:cNvPr id="1424" name="F11.044_W1128" descr=""/>
              <p:cNvPicPr/>
              <p:nvPr/>
            </p:nvPicPr>
            <p:blipFill>
              <a:blip r:embed="rId2"/>
              <a:stretch/>
            </p:blipFill>
            <p:spPr>
              <a:xfrm>
                <a:off x="4010040" y="1676520"/>
                <a:ext cx="5133960" cy="344808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1425" name=""/>
                  <p:cNvSpPr txBox="1"/>
                  <p:nvPr/>
                </p:nvSpPr>
                <p:spPr>
                  <a:xfrm>
                    <a:off x="4572000" y="1295280"/>
                    <a:ext cx="38228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  <m:r>
                              <m:t xml:space="preserve">t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426" name=""/>
                <p:cNvSpPr txBox="1"/>
                <p:nvPr/>
              </p:nvSpPr>
              <p:spPr>
                <a:xfrm>
                  <a:off x="5410080" y="1676520"/>
                  <a:ext cx="24386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7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mH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427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2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2627280" y="152280"/>
                <a:ext cx="6364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tch the magnitude characteristic of the Bode plot for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32" name=""/>
          <p:cNvGraphicFramePr/>
          <p:nvPr/>
        </p:nvGraphicFramePr>
        <p:xfrm>
          <a:off x="304920" y="685800"/>
          <a:ext cx="453708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453708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34" name=""/>
              <p:cNvSpPr txBox="1"/>
              <p:nvPr/>
            </p:nvSpPr>
            <p:spPr>
              <a:xfrm>
                <a:off x="5181480" y="609480"/>
                <a:ext cx="29466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368280" y="2590920"/>
                <a:ext cx="42037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6" name=""/>
          <p:cNvSpPr/>
          <p:nvPr/>
        </p:nvSpPr>
        <p:spPr>
          <a:xfrm>
            <a:off x="7139160" y="1177920"/>
            <a:ext cx="1261800" cy="803160"/>
          </a:xfrm>
          <a:custGeom>
            <a:avLst/>
            <a:gdLst/>
            <a:ahLst/>
            <a:rect l="l" t="t" r="r" b="b"/>
            <a:pathLst>
              <a:path w="795" h="506">
                <a:moveTo>
                  <a:pt x="733" y="382"/>
                </a:moveTo>
                <a:cubicBezTo>
                  <a:pt x="747" y="324"/>
                  <a:pt x="756" y="270"/>
                  <a:pt x="764" y="211"/>
                </a:cubicBezTo>
                <a:cubicBezTo>
                  <a:pt x="743" y="177"/>
                  <a:pt x="726" y="141"/>
                  <a:pt x="702" y="109"/>
                </a:cubicBezTo>
                <a:cubicBezTo>
                  <a:pt x="678" y="77"/>
                  <a:pt x="601" y="73"/>
                  <a:pt x="569" y="63"/>
                </a:cubicBezTo>
                <a:cubicBezTo>
                  <a:pt x="505" y="43"/>
                  <a:pt x="438" y="21"/>
                  <a:pt x="374" y="0"/>
                </a:cubicBezTo>
                <a:cubicBezTo>
                  <a:pt x="273" y="3"/>
                  <a:pt x="171" y="1"/>
                  <a:pt x="70" y="8"/>
                </a:cubicBezTo>
                <a:cubicBezTo>
                  <a:pt x="44" y="10"/>
                  <a:pt x="23" y="60"/>
                  <a:pt x="16" y="78"/>
                </a:cubicBezTo>
                <a:cubicBezTo>
                  <a:pt x="10" y="93"/>
                  <a:pt x="0" y="125"/>
                  <a:pt x="0" y="125"/>
                </a:cubicBezTo>
                <a:cubicBezTo>
                  <a:pt x="3" y="180"/>
                  <a:pt x="1" y="235"/>
                  <a:pt x="8" y="289"/>
                </a:cubicBezTo>
                <a:cubicBezTo>
                  <a:pt x="11" y="314"/>
                  <a:pt x="56" y="373"/>
                  <a:pt x="78" y="382"/>
                </a:cubicBezTo>
                <a:cubicBezTo>
                  <a:pt x="169" y="421"/>
                  <a:pt x="322" y="424"/>
                  <a:pt x="421" y="437"/>
                </a:cubicBezTo>
                <a:cubicBezTo>
                  <a:pt x="787" y="421"/>
                  <a:pt x="695" y="506"/>
                  <a:pt x="795" y="406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7" name=""/>
              <p:cNvSpPr txBox="1"/>
              <p:nvPr/>
            </p:nvSpPr>
            <p:spPr>
              <a:xfrm>
                <a:off x="5029200" y="1981080"/>
                <a:ext cx="40640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reak/corner frequency:  5rad/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w frequency asymptote of 0dB/de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igh frequency asymptote of -20dB/de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438" name=""/>
          <p:cNvGraphicFramePr/>
          <p:nvPr/>
        </p:nvGraphicFramePr>
        <p:xfrm>
          <a:off x="1981080" y="3505320"/>
          <a:ext cx="5184720" cy="255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505320"/>
                    <a:ext cx="5184720" cy="25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40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4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2627280" y="152280"/>
                <a:ext cx="6364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tch the magnitude characteristic of the Bode plot for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45" name=""/>
          <p:cNvGraphicFramePr/>
          <p:nvPr/>
        </p:nvGraphicFramePr>
        <p:xfrm>
          <a:off x="76320" y="533520"/>
          <a:ext cx="4460760" cy="16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533520"/>
                    <a:ext cx="446076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47" name=""/>
              <p:cNvSpPr txBox="1"/>
              <p:nvPr/>
            </p:nvSpPr>
            <p:spPr>
              <a:xfrm>
                <a:off x="5181480" y="1409760"/>
                <a:ext cx="29466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8" name=""/>
              <p:cNvSpPr txBox="1"/>
              <p:nvPr/>
            </p:nvSpPr>
            <p:spPr>
              <a:xfrm>
                <a:off x="228600" y="2209680"/>
                <a:ext cx="42163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9" name=""/>
          <p:cNvSpPr/>
          <p:nvPr/>
        </p:nvSpPr>
        <p:spPr>
          <a:xfrm>
            <a:off x="6858000" y="1219320"/>
            <a:ext cx="1146240" cy="495360"/>
          </a:xfrm>
          <a:custGeom>
            <a:avLst/>
            <a:gdLst/>
            <a:ahLst/>
            <a:rect l="l" t="t" r="r" b="b"/>
            <a:pathLst>
              <a:path w="722" h="312">
                <a:moveTo>
                  <a:pt x="702" y="211"/>
                </a:moveTo>
                <a:cubicBezTo>
                  <a:pt x="711" y="130"/>
                  <a:pt x="722" y="113"/>
                  <a:pt x="663" y="24"/>
                </a:cubicBezTo>
                <a:cubicBezTo>
                  <a:pt x="659" y="18"/>
                  <a:pt x="598" y="3"/>
                  <a:pt x="585" y="0"/>
                </a:cubicBezTo>
                <a:cubicBezTo>
                  <a:pt x="403" y="5"/>
                  <a:pt x="234" y="16"/>
                  <a:pt x="55" y="39"/>
                </a:cubicBezTo>
                <a:cubicBezTo>
                  <a:pt x="0" y="94"/>
                  <a:pt x="14" y="65"/>
                  <a:pt x="0" y="117"/>
                </a:cubicBezTo>
                <a:cubicBezTo>
                  <a:pt x="3" y="125"/>
                  <a:pt x="2" y="135"/>
                  <a:pt x="8" y="141"/>
                </a:cubicBezTo>
                <a:cubicBezTo>
                  <a:pt x="16" y="149"/>
                  <a:pt x="29" y="150"/>
                  <a:pt x="39" y="156"/>
                </a:cubicBezTo>
                <a:cubicBezTo>
                  <a:pt x="98" y="190"/>
                  <a:pt x="161" y="206"/>
                  <a:pt x="226" y="226"/>
                </a:cubicBezTo>
                <a:cubicBezTo>
                  <a:pt x="274" y="263"/>
                  <a:pt x="323" y="265"/>
                  <a:pt x="382" y="273"/>
                </a:cubicBezTo>
                <a:cubicBezTo>
                  <a:pt x="437" y="312"/>
                  <a:pt x="532" y="296"/>
                  <a:pt x="592" y="296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0" name=""/>
              <p:cNvSpPr txBox="1"/>
              <p:nvPr/>
            </p:nvSpPr>
            <p:spPr>
              <a:xfrm>
                <a:off x="4724280" y="685800"/>
                <a:ext cx="4077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dB/de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Crosses 0dB at </m:t>
                    </m:r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1" name=""/>
              <p:cNvSpPr txBox="1"/>
              <p:nvPr/>
            </p:nvSpPr>
            <p:spPr>
              <a:xfrm>
                <a:off x="4876920" y="2362320"/>
                <a:ext cx="40640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reak/corner frequency:  2rad/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w frequency asymptote of 0dB/de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igh frequency asymptote of -20dB/de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52" name=""/>
          <p:cNvSpPr/>
          <p:nvPr/>
        </p:nvSpPr>
        <p:spPr>
          <a:xfrm>
            <a:off x="7372440" y="1728720"/>
            <a:ext cx="941400" cy="573120"/>
          </a:xfrm>
          <a:custGeom>
            <a:avLst/>
            <a:gdLst/>
            <a:ahLst/>
            <a:rect l="l" t="t" r="r" b="b"/>
            <a:pathLst>
              <a:path w="593" h="361">
                <a:moveTo>
                  <a:pt x="593" y="41"/>
                </a:moveTo>
                <a:cubicBezTo>
                  <a:pt x="419" y="6"/>
                  <a:pt x="255" y="0"/>
                  <a:pt x="78" y="10"/>
                </a:cubicBezTo>
                <a:cubicBezTo>
                  <a:pt x="52" y="36"/>
                  <a:pt x="50" y="54"/>
                  <a:pt x="39" y="88"/>
                </a:cubicBezTo>
                <a:cubicBezTo>
                  <a:pt x="45" y="220"/>
                  <a:pt x="0" y="279"/>
                  <a:pt x="109" y="298"/>
                </a:cubicBezTo>
                <a:cubicBezTo>
                  <a:pt x="231" y="361"/>
                  <a:pt x="279" y="315"/>
                  <a:pt x="445" y="283"/>
                </a:cubicBezTo>
                <a:cubicBezTo>
                  <a:pt x="462" y="270"/>
                  <a:pt x="512" y="237"/>
                  <a:pt x="530" y="212"/>
                </a:cubicBezTo>
                <a:cubicBezTo>
                  <a:pt x="548" y="187"/>
                  <a:pt x="548" y="148"/>
                  <a:pt x="569" y="127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3" name=""/>
          <p:cNvGraphicFramePr/>
          <p:nvPr/>
        </p:nvGraphicFramePr>
        <p:xfrm>
          <a:off x="380880" y="3321000"/>
          <a:ext cx="5562720" cy="323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321000"/>
                    <a:ext cx="5562720" cy="32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5" name=""/>
          <p:cNvSpPr/>
          <p:nvPr/>
        </p:nvSpPr>
        <p:spPr>
          <a:xfrm flipV="1">
            <a:off x="1676520" y="4038480"/>
            <a:ext cx="2286000" cy="1828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6" name=""/>
          <p:cNvGrpSpPr/>
          <p:nvPr/>
        </p:nvGrpSpPr>
        <p:grpSpPr>
          <a:xfrm>
            <a:off x="1447920" y="5181480"/>
            <a:ext cx="2438280" cy="762120"/>
            <a:chOff x="1447920" y="5181480"/>
            <a:chExt cx="2438280" cy="762120"/>
          </a:xfrm>
        </p:grpSpPr>
        <p:sp>
          <p:nvSpPr>
            <p:cNvPr id="1457" name=""/>
            <p:cNvSpPr/>
            <p:nvPr/>
          </p:nvSpPr>
          <p:spPr>
            <a:xfrm>
              <a:off x="1447920" y="5181480"/>
              <a:ext cx="11430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590920" y="5181480"/>
              <a:ext cx="1295280" cy="7621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9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2" name=""/>
          <p:cNvGrpSpPr/>
          <p:nvPr/>
        </p:nvGrpSpPr>
        <p:grpSpPr>
          <a:xfrm>
            <a:off x="4495680" y="3429000"/>
            <a:ext cx="4740120" cy="2833560"/>
            <a:chOff x="4495680" y="3429000"/>
            <a:chExt cx="4740120" cy="2833560"/>
          </a:xfrm>
        </p:grpSpPr>
        <p:grpSp>
          <p:nvGrpSpPr>
            <p:cNvPr id="1463" name=""/>
            <p:cNvGrpSpPr/>
            <p:nvPr/>
          </p:nvGrpSpPr>
          <p:grpSpPr>
            <a:xfrm>
              <a:off x="4495680" y="3429000"/>
              <a:ext cx="4740120" cy="2833560"/>
              <a:chOff x="4495680" y="3429000"/>
              <a:chExt cx="4740120" cy="2833560"/>
            </a:xfrm>
          </p:grpSpPr>
          <p:graphicFrame>
            <p:nvGraphicFramePr>
              <p:cNvPr id="1464" name=""/>
              <p:cNvGraphicFramePr/>
              <p:nvPr/>
            </p:nvGraphicFramePr>
            <p:xfrm>
              <a:off x="4495680" y="3429000"/>
              <a:ext cx="4740120" cy="28335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46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495680" y="3429000"/>
                        <a:ext cx="4740120" cy="2833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466" name=""/>
              <p:cNvSpPr/>
              <p:nvPr/>
            </p:nvSpPr>
            <p:spPr>
              <a:xfrm flipH="1" flipV="1">
                <a:off x="6858000" y="4572000"/>
                <a:ext cx="380880" cy="380880"/>
              </a:xfrm>
              <a:prstGeom prst="line">
                <a:avLst/>
              </a:prstGeom>
              <a:ln w="5400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7" name=""/>
            <p:cNvSpPr/>
            <p:nvPr/>
          </p:nvSpPr>
          <p:spPr>
            <a:xfrm flipH="1">
              <a:off x="6324480" y="4495680"/>
              <a:ext cx="457200" cy="457200"/>
            </a:xfrm>
            <a:prstGeom prst="line">
              <a:avLst/>
            </a:prstGeom>
            <a:ln w="507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8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9" name=""/>
              <p:cNvSpPr txBox="1"/>
              <p:nvPr/>
            </p:nvSpPr>
            <p:spPr>
              <a:xfrm>
                <a:off x="2703600" y="152280"/>
                <a:ext cx="636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tch the magnitude characteristic of the Bode plot for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70" name=""/>
          <p:cNvGraphicFramePr/>
          <p:nvPr/>
        </p:nvGraphicFramePr>
        <p:xfrm>
          <a:off x="0" y="533520"/>
          <a:ext cx="4397400" cy="19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33520"/>
                    <a:ext cx="4397400" cy="19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2" name=""/>
          <p:cNvSpPr/>
          <p:nvPr/>
        </p:nvSpPr>
        <p:spPr>
          <a:xfrm>
            <a:off x="2741760" y="515880"/>
            <a:ext cx="12153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nd-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3" name=""/>
              <p:cNvSpPr txBox="1"/>
              <p:nvPr/>
            </p:nvSpPr>
            <p:spPr>
              <a:xfrm>
                <a:off x="4508640" y="1295280"/>
                <a:ext cx="463536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jω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4" name=""/>
              <p:cNvSpPr txBox="1"/>
              <p:nvPr/>
            </p:nvSpPr>
            <p:spPr>
              <a:xfrm>
                <a:off x="228600" y="2400480"/>
                <a:ext cx="394956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τ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⇒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ςτ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⇒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5" name=""/>
          <p:cNvSpPr/>
          <p:nvPr/>
        </p:nvSpPr>
        <p:spPr>
          <a:xfrm>
            <a:off x="7391520" y="1143000"/>
            <a:ext cx="1145880" cy="495360"/>
          </a:xfrm>
          <a:custGeom>
            <a:avLst/>
            <a:gdLst/>
            <a:ahLst/>
            <a:rect l="l" t="t" r="r" b="b"/>
            <a:pathLst>
              <a:path w="722" h="312">
                <a:moveTo>
                  <a:pt x="702" y="211"/>
                </a:moveTo>
                <a:cubicBezTo>
                  <a:pt x="711" y="130"/>
                  <a:pt x="722" y="113"/>
                  <a:pt x="663" y="24"/>
                </a:cubicBezTo>
                <a:cubicBezTo>
                  <a:pt x="659" y="18"/>
                  <a:pt x="598" y="3"/>
                  <a:pt x="585" y="0"/>
                </a:cubicBezTo>
                <a:cubicBezTo>
                  <a:pt x="403" y="5"/>
                  <a:pt x="234" y="16"/>
                  <a:pt x="55" y="39"/>
                </a:cubicBezTo>
                <a:cubicBezTo>
                  <a:pt x="0" y="94"/>
                  <a:pt x="14" y="65"/>
                  <a:pt x="0" y="117"/>
                </a:cubicBezTo>
                <a:cubicBezTo>
                  <a:pt x="3" y="125"/>
                  <a:pt x="2" y="135"/>
                  <a:pt x="8" y="141"/>
                </a:cubicBezTo>
                <a:cubicBezTo>
                  <a:pt x="16" y="149"/>
                  <a:pt x="29" y="150"/>
                  <a:pt x="39" y="156"/>
                </a:cubicBezTo>
                <a:cubicBezTo>
                  <a:pt x="98" y="190"/>
                  <a:pt x="161" y="206"/>
                  <a:pt x="226" y="226"/>
                </a:cubicBezTo>
                <a:cubicBezTo>
                  <a:pt x="274" y="263"/>
                  <a:pt x="323" y="265"/>
                  <a:pt x="382" y="273"/>
                </a:cubicBezTo>
                <a:cubicBezTo>
                  <a:pt x="437" y="312"/>
                  <a:pt x="532" y="296"/>
                  <a:pt x="592" y="296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6" name=""/>
              <p:cNvSpPr txBox="1"/>
              <p:nvPr/>
            </p:nvSpPr>
            <p:spPr>
              <a:xfrm>
                <a:off x="4495680" y="533520"/>
                <a:ext cx="4622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dB/de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Crosses 0dB at </m:t>
                    </m:r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7" name=""/>
          <p:cNvSpPr/>
          <p:nvPr/>
        </p:nvSpPr>
        <p:spPr>
          <a:xfrm>
            <a:off x="7010280" y="1606680"/>
            <a:ext cx="2097360" cy="447480"/>
          </a:xfrm>
          <a:custGeom>
            <a:avLst/>
            <a:gdLst/>
            <a:ahLst/>
            <a:rect l="l" t="t" r="r" b="b"/>
            <a:pathLst>
              <a:path w="1321" h="282">
                <a:moveTo>
                  <a:pt x="117" y="9"/>
                </a:moveTo>
                <a:cubicBezTo>
                  <a:pt x="109" y="6"/>
                  <a:pt x="101" y="0"/>
                  <a:pt x="93" y="1"/>
                </a:cubicBezTo>
                <a:cubicBezTo>
                  <a:pt x="77" y="3"/>
                  <a:pt x="47" y="17"/>
                  <a:pt x="47" y="17"/>
                </a:cubicBezTo>
                <a:cubicBezTo>
                  <a:pt x="32" y="45"/>
                  <a:pt x="25" y="72"/>
                  <a:pt x="16" y="102"/>
                </a:cubicBezTo>
                <a:cubicBezTo>
                  <a:pt x="11" y="138"/>
                  <a:pt x="0" y="177"/>
                  <a:pt x="16" y="212"/>
                </a:cubicBezTo>
                <a:cubicBezTo>
                  <a:pt x="47" y="282"/>
                  <a:pt x="178" y="276"/>
                  <a:pt x="234" y="282"/>
                </a:cubicBezTo>
                <a:cubicBezTo>
                  <a:pt x="502" y="278"/>
                  <a:pt x="763" y="275"/>
                  <a:pt x="1029" y="258"/>
                </a:cubicBezTo>
                <a:cubicBezTo>
                  <a:pt x="1095" y="225"/>
                  <a:pt x="1110" y="223"/>
                  <a:pt x="1184" y="212"/>
                </a:cubicBezTo>
                <a:cubicBezTo>
                  <a:pt x="1215" y="207"/>
                  <a:pt x="1278" y="196"/>
                  <a:pt x="1278" y="196"/>
                </a:cubicBezTo>
                <a:cubicBezTo>
                  <a:pt x="1311" y="179"/>
                  <a:pt x="1321" y="180"/>
                  <a:pt x="1301" y="18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8" name=""/>
              <p:cNvSpPr txBox="1"/>
              <p:nvPr/>
            </p:nvSpPr>
            <p:spPr>
              <a:xfrm>
                <a:off x="4876920" y="2362320"/>
                <a:ext cx="40640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reak/corner frequency:  1000 rad/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w frequency asymptote of 0dB/de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igh frequency asymptote of -40dB/de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9" name=""/>
              <p:cNvSpPr txBox="1"/>
              <p:nvPr/>
            </p:nvSpPr>
            <p:spPr>
              <a:xfrm>
                <a:off x="228600" y="3505320"/>
                <a:ext cx="3111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R</m:t>
                                        </m:r>
                                      </m:num>
                                      <m:den>
                                        <m:r>
                                          <m:t xml:space="preserve">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  <m:sPr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/>
                                </m:r>
                              </m:e>
                            </m:sPre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0" name=""/>
              <p:cNvSpPr txBox="1"/>
              <p:nvPr/>
            </p:nvSpPr>
            <p:spPr>
              <a:xfrm>
                <a:off x="304920" y="4191120"/>
                <a:ext cx="2921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R</m:t>
                                        </m:r>
                                      </m:num>
                                      <m:den>
                                        <m:r>
                                          <m:t xml:space="preserve">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  <m:sPr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/>
                                </m:r>
                              </m:e>
                            </m:sPre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1" name=""/>
              <p:cNvSpPr txBox="1"/>
              <p:nvPr/>
            </p:nvSpPr>
            <p:spPr>
              <a:xfrm>
                <a:off x="533520" y="1371600"/>
                <a:ext cx="16891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2" name=""/>
              <p:cNvSpPr txBox="1"/>
              <p:nvPr/>
            </p:nvSpPr>
            <p:spPr>
              <a:xfrm>
                <a:off x="3352680" y="3733920"/>
                <a:ext cx="1130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18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"/>
              <p:cNvSpPr txBox="1"/>
              <p:nvPr/>
            </p:nvSpPr>
            <p:spPr>
              <a:xfrm>
                <a:off x="3276720" y="4419720"/>
                <a:ext cx="1218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18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4" name=""/>
          <p:cNvSpPr/>
          <p:nvPr/>
        </p:nvSpPr>
        <p:spPr>
          <a:xfrm flipV="1">
            <a:off x="5562720" y="3429000"/>
            <a:ext cx="2361960" cy="22860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5" name=""/>
          <p:cNvGrpSpPr/>
          <p:nvPr/>
        </p:nvGrpSpPr>
        <p:grpSpPr>
          <a:xfrm>
            <a:off x="5334120" y="4495680"/>
            <a:ext cx="2438280" cy="1981440"/>
            <a:chOff x="5334120" y="4495680"/>
            <a:chExt cx="2438280" cy="1981440"/>
          </a:xfrm>
        </p:grpSpPr>
        <p:grpSp>
          <p:nvGrpSpPr>
            <p:cNvPr id="1486" name=""/>
            <p:cNvGrpSpPr/>
            <p:nvPr/>
          </p:nvGrpSpPr>
          <p:grpSpPr>
            <a:xfrm>
              <a:off x="5334120" y="4495680"/>
              <a:ext cx="2438280" cy="1981440"/>
              <a:chOff x="5334120" y="4495680"/>
              <a:chExt cx="2438280" cy="1981440"/>
            </a:xfrm>
          </p:grpSpPr>
          <p:sp>
            <p:nvSpPr>
              <p:cNvPr id="1487" name=""/>
              <p:cNvSpPr/>
              <p:nvPr/>
            </p:nvSpPr>
            <p:spPr>
              <a:xfrm>
                <a:off x="5334120" y="4495680"/>
                <a:ext cx="14479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6782040" y="4495680"/>
                <a:ext cx="990360" cy="198144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89" name=""/>
                <p:cNvSpPr txBox="1"/>
                <p:nvPr/>
              </p:nvSpPr>
              <p:spPr>
                <a:xfrm>
                  <a:off x="6553440" y="6172200"/>
                  <a:ext cx="1155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0</m:t>
                      </m:r>
                      <m:f>
                        <m:fPr>
                          <m:type m:val="lin"/>
                        </m:fPr>
                        <m:num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e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490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9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"/>
          <p:cNvSpPr/>
          <p:nvPr/>
        </p:nvSpPr>
        <p:spPr>
          <a:xfrm>
            <a:off x="147600" y="76320"/>
            <a:ext cx="19242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ACTIVE FIL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578240" y="668160"/>
            <a:ext cx="4077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ssive filters have several limi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092320" y="1201680"/>
            <a:ext cx="4489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Cannot generate gains greater than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2121480" y="1697040"/>
            <a:ext cx="5650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ading effect makes them difficult to inter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2129040" y="2192400"/>
            <a:ext cx="5401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Use of inductance makes them difficult to 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902880" y="2590920"/>
            <a:ext cx="7361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operational amplifiers one can design all basic filters, and mor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only resistors and capac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689040" y="3276720"/>
            <a:ext cx="79592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linear models developed for operational amplifiers circuits are valid, in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 general framework, if one replaces the resistors by imped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0" name=""/>
          <p:cNvGraphicFramePr/>
          <p:nvPr/>
        </p:nvGraphicFramePr>
        <p:xfrm>
          <a:off x="76320" y="4114800"/>
          <a:ext cx="4032000" cy="20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114800"/>
                    <a:ext cx="4032000" cy="20811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502" name=""/>
          <p:cNvGrpSpPr/>
          <p:nvPr/>
        </p:nvGrpSpPr>
        <p:grpSpPr>
          <a:xfrm>
            <a:off x="4160880" y="3809880"/>
            <a:ext cx="4221000" cy="2792520"/>
            <a:chOff x="4160880" y="3809880"/>
            <a:chExt cx="4221000" cy="2792520"/>
          </a:xfrm>
        </p:grpSpPr>
        <p:graphicFrame>
          <p:nvGraphicFramePr>
            <p:cNvPr id="1503" name=""/>
            <p:cNvGraphicFramePr/>
            <p:nvPr/>
          </p:nvGraphicFramePr>
          <p:xfrm>
            <a:off x="4160880" y="3809880"/>
            <a:ext cx="4221000" cy="2792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60880" y="3809880"/>
                      <a:ext cx="4221000" cy="279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5" name=""/>
            <p:cNvSpPr/>
            <p:nvPr/>
          </p:nvSpPr>
          <p:spPr>
            <a:xfrm>
              <a:off x="5730480" y="6019920"/>
              <a:ext cx="1569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Op-A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6" name=""/>
          <p:cNvGrpSpPr/>
          <p:nvPr/>
        </p:nvGrpSpPr>
        <p:grpSpPr>
          <a:xfrm>
            <a:off x="5486400" y="4038480"/>
            <a:ext cx="2650320" cy="1770120"/>
            <a:chOff x="5486400" y="4038480"/>
            <a:chExt cx="2650320" cy="1770120"/>
          </a:xfrm>
        </p:grpSpPr>
        <p:sp>
          <p:nvSpPr>
            <p:cNvPr id="1507" name=""/>
            <p:cNvSpPr/>
            <p:nvPr/>
          </p:nvSpPr>
          <p:spPr>
            <a:xfrm>
              <a:off x="6063120" y="4038480"/>
              <a:ext cx="20736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se currents 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ze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486400" y="4489560"/>
              <a:ext cx="707760" cy="1319040"/>
            </a:xfrm>
            <a:custGeom>
              <a:avLst/>
              <a:gdLst/>
              <a:ahLst/>
              <a:rect l="l" t="t" r="r" b="b"/>
              <a:pathLst>
                <a:path w="446" h="831">
                  <a:moveTo>
                    <a:pt x="351" y="24"/>
                  </a:moveTo>
                  <a:cubicBezTo>
                    <a:pt x="276" y="18"/>
                    <a:pt x="203" y="0"/>
                    <a:pt x="140" y="48"/>
                  </a:cubicBezTo>
                  <a:cubicBezTo>
                    <a:pt x="135" y="58"/>
                    <a:pt x="131" y="69"/>
                    <a:pt x="125" y="79"/>
                  </a:cubicBezTo>
                  <a:cubicBezTo>
                    <a:pt x="115" y="95"/>
                    <a:pt x="93" y="126"/>
                    <a:pt x="93" y="126"/>
                  </a:cubicBezTo>
                  <a:cubicBezTo>
                    <a:pt x="55" y="242"/>
                    <a:pt x="14" y="339"/>
                    <a:pt x="0" y="461"/>
                  </a:cubicBezTo>
                  <a:cubicBezTo>
                    <a:pt x="10" y="599"/>
                    <a:pt x="22" y="748"/>
                    <a:pt x="164" y="819"/>
                  </a:cubicBezTo>
                  <a:cubicBezTo>
                    <a:pt x="187" y="831"/>
                    <a:pt x="215" y="824"/>
                    <a:pt x="241" y="827"/>
                  </a:cubicBezTo>
                  <a:cubicBezTo>
                    <a:pt x="267" y="822"/>
                    <a:pt x="294" y="821"/>
                    <a:pt x="319" y="811"/>
                  </a:cubicBezTo>
                  <a:cubicBezTo>
                    <a:pt x="340" y="802"/>
                    <a:pt x="362" y="702"/>
                    <a:pt x="374" y="679"/>
                  </a:cubicBezTo>
                  <a:cubicBezTo>
                    <a:pt x="381" y="640"/>
                    <a:pt x="384" y="600"/>
                    <a:pt x="397" y="562"/>
                  </a:cubicBezTo>
                  <a:cubicBezTo>
                    <a:pt x="416" y="431"/>
                    <a:pt x="446" y="151"/>
                    <a:pt x="351" y="24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9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1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2" name=""/>
          <p:cNvGraphicFramePr/>
          <p:nvPr/>
        </p:nvGraphicFramePr>
        <p:xfrm>
          <a:off x="457200" y="609480"/>
          <a:ext cx="376236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376236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4" name=""/>
          <p:cNvSpPr/>
          <p:nvPr/>
        </p:nvSpPr>
        <p:spPr>
          <a:xfrm>
            <a:off x="551160" y="210960"/>
            <a:ext cx="2707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Inver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5" name=""/>
              <p:cNvSpPr txBox="1"/>
              <p:nvPr/>
            </p:nvSpPr>
            <p:spPr>
              <a:xfrm>
                <a:off x="1371600" y="2362320"/>
                <a:ext cx="609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749160" y="3733920"/>
                <a:ext cx="2235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finite gain 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7" name=""/>
              <p:cNvSpPr txBox="1"/>
              <p:nvPr/>
            </p:nvSpPr>
            <p:spPr>
              <a:xfrm>
                <a:off x="1600200" y="1676520"/>
                <a:ext cx="609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8" name=""/>
              <p:cNvSpPr txBox="1"/>
              <p:nvPr/>
            </p:nvSpPr>
            <p:spPr>
              <a:xfrm>
                <a:off x="152280" y="4114800"/>
                <a:ext cx="3759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finite input impedance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1447920" y="4495680"/>
                <a:ext cx="11300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0" name=""/>
              <p:cNvSpPr txBox="1"/>
              <p:nvPr/>
            </p:nvSpPr>
            <p:spPr>
              <a:xfrm>
                <a:off x="1371600" y="5257800"/>
                <a:ext cx="1130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521" name=""/>
          <p:cNvGrpSpPr/>
          <p:nvPr/>
        </p:nvGrpSpPr>
        <p:grpSpPr>
          <a:xfrm>
            <a:off x="4876920" y="2070000"/>
            <a:ext cx="3962160" cy="2745720"/>
            <a:chOff x="4876920" y="2070000"/>
            <a:chExt cx="3962160" cy="2745720"/>
          </a:xfrm>
        </p:grpSpPr>
        <p:graphicFrame>
          <p:nvGraphicFramePr>
            <p:cNvPr id="1522" name=""/>
            <p:cNvGraphicFramePr/>
            <p:nvPr/>
          </p:nvGraphicFramePr>
          <p:xfrm>
            <a:off x="4876920" y="2070000"/>
            <a:ext cx="3962160" cy="250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2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76920" y="2070000"/>
                      <a:ext cx="3962160" cy="250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24" name=""/>
            <p:cNvSpPr/>
            <p:nvPr/>
          </p:nvSpPr>
          <p:spPr>
            <a:xfrm>
              <a:off x="5541840" y="4478400"/>
              <a:ext cx="2660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 circuit 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1676520" y="990720"/>
            <a:ext cx="1066680" cy="457200"/>
            <a:chOff x="1676520" y="990720"/>
            <a:chExt cx="1066680" cy="457200"/>
          </a:xfrm>
        </p:grpSpPr>
        <p:sp>
          <p:nvSpPr>
            <p:cNvPr id="1526" name=""/>
            <p:cNvSpPr/>
            <p:nvPr/>
          </p:nvSpPr>
          <p:spPr>
            <a:xfrm>
              <a:off x="1676520" y="1371600"/>
              <a:ext cx="228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905120" y="990720"/>
              <a:ext cx="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133720" y="1447920"/>
              <a:ext cx="3045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9" name=""/>
                <p:cNvSpPr txBox="1"/>
                <p:nvPr/>
              </p:nvSpPr>
              <p:spPr>
                <a:xfrm>
                  <a:off x="2146320" y="1066680"/>
                  <a:ext cx="596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30" name=""/>
              <p:cNvSpPr txBox="1"/>
              <p:nvPr/>
            </p:nvSpPr>
            <p:spPr>
              <a:xfrm>
                <a:off x="1523880" y="6019920"/>
                <a:ext cx="876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31" name=""/>
          <p:cNvGrpSpPr/>
          <p:nvPr/>
        </p:nvGrpSpPr>
        <p:grpSpPr>
          <a:xfrm>
            <a:off x="152280" y="838080"/>
            <a:ext cx="1447920" cy="609840"/>
            <a:chOff x="152280" y="838080"/>
            <a:chExt cx="1447920" cy="609840"/>
          </a:xfrm>
        </p:grpSpPr>
        <p:sp>
          <p:nvSpPr>
            <p:cNvPr id="1532" name=""/>
            <p:cNvSpPr/>
            <p:nvPr/>
          </p:nvSpPr>
          <p:spPr>
            <a:xfrm>
              <a:off x="838080" y="114300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3" name=""/>
                <p:cNvSpPr txBox="1"/>
                <p:nvPr/>
              </p:nvSpPr>
              <p:spPr>
                <a:xfrm>
                  <a:off x="152280" y="838080"/>
                  <a:ext cx="7113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534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3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7" name=""/>
          <p:cNvGraphicFramePr/>
          <p:nvPr/>
        </p:nvGraphicFramePr>
        <p:xfrm>
          <a:off x="380880" y="762120"/>
          <a:ext cx="3633840" cy="22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762120"/>
                    <a:ext cx="3633840" cy="22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9" name=""/>
          <p:cNvSpPr/>
          <p:nvPr/>
        </p:nvSpPr>
        <p:spPr>
          <a:xfrm>
            <a:off x="397800" y="210960"/>
            <a:ext cx="316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Non-inver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1676520" y="609480"/>
                <a:ext cx="21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1" name=""/>
              <p:cNvSpPr txBox="1"/>
              <p:nvPr/>
            </p:nvSpPr>
            <p:spPr>
              <a:xfrm>
                <a:off x="1447920" y="1843200"/>
                <a:ext cx="21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542" name=""/>
          <p:cNvGrpSpPr/>
          <p:nvPr/>
        </p:nvGrpSpPr>
        <p:grpSpPr>
          <a:xfrm>
            <a:off x="1295280" y="1219320"/>
            <a:ext cx="596880" cy="304560"/>
            <a:chOff x="1295280" y="1219320"/>
            <a:chExt cx="596880" cy="304560"/>
          </a:xfrm>
        </p:grpSpPr>
        <mc:AlternateContent>
          <mc:Choice xmlns:a14="http://schemas.microsoft.com/office/drawing/2010/main" Requires="a14">
            <p:sp>
              <p:nvSpPr>
                <p:cNvPr id="1543" name=""/>
                <p:cNvSpPr txBox="1"/>
                <p:nvPr/>
              </p:nvSpPr>
              <p:spPr>
                <a:xfrm>
                  <a:off x="1295280" y="1219320"/>
                  <a:ext cx="596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44" name=""/>
            <p:cNvSpPr/>
            <p:nvPr/>
          </p:nvSpPr>
          <p:spPr>
            <a:xfrm>
              <a:off x="1295280" y="152388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2057400" y="1905120"/>
            <a:ext cx="990720" cy="533160"/>
            <a:chOff x="2057400" y="1905120"/>
            <a:chExt cx="990720" cy="533160"/>
          </a:xfrm>
        </p:grpSpPr>
        <p:sp>
          <p:nvSpPr>
            <p:cNvPr id="1546" name=""/>
            <p:cNvSpPr/>
            <p:nvPr/>
          </p:nvSpPr>
          <p:spPr>
            <a:xfrm flipH="1">
              <a:off x="2590920" y="190512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057400" y="2133720"/>
              <a:ext cx="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48" name=""/>
              <p:cNvSpPr txBox="1"/>
              <p:nvPr/>
            </p:nvSpPr>
            <p:spPr>
              <a:xfrm>
                <a:off x="1447920" y="3048120"/>
                <a:ext cx="1168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9" name=""/>
              <p:cNvSpPr txBox="1"/>
              <p:nvPr/>
            </p:nvSpPr>
            <p:spPr>
              <a:xfrm>
                <a:off x="1371600" y="3809880"/>
                <a:ext cx="1409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0" name=""/>
              <p:cNvSpPr txBox="1"/>
              <p:nvPr/>
            </p:nvSpPr>
            <p:spPr>
              <a:xfrm>
                <a:off x="1523880" y="4648320"/>
                <a:ext cx="1001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51" name=""/>
          <p:cNvGrpSpPr/>
          <p:nvPr/>
        </p:nvGrpSpPr>
        <p:grpSpPr>
          <a:xfrm>
            <a:off x="152280" y="609480"/>
            <a:ext cx="1295640" cy="290520"/>
            <a:chOff x="152280" y="609480"/>
            <a:chExt cx="1295640" cy="290520"/>
          </a:xfrm>
        </p:grpSpPr>
        <p:sp>
          <p:nvSpPr>
            <p:cNvPr id="1552" name=""/>
            <p:cNvSpPr/>
            <p:nvPr/>
          </p:nvSpPr>
          <p:spPr>
            <a:xfrm>
              <a:off x="762120" y="7621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53" name=""/>
                <p:cNvSpPr txBox="1"/>
                <p:nvPr/>
              </p:nvSpPr>
              <p:spPr>
                <a:xfrm>
                  <a:off x="152280" y="609480"/>
                  <a:ext cx="559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54" name=""/>
          <p:cNvGrpSpPr/>
          <p:nvPr/>
        </p:nvGrpSpPr>
        <p:grpSpPr>
          <a:xfrm>
            <a:off x="4572000" y="1676520"/>
            <a:ext cx="4114800" cy="2986560"/>
            <a:chOff x="4572000" y="1676520"/>
            <a:chExt cx="4114800" cy="2986560"/>
          </a:xfrm>
        </p:grpSpPr>
        <p:graphicFrame>
          <p:nvGraphicFramePr>
            <p:cNvPr id="1555" name=""/>
            <p:cNvGraphicFramePr/>
            <p:nvPr/>
          </p:nvGraphicFramePr>
          <p:xfrm>
            <a:off x="4572000" y="1676520"/>
            <a:ext cx="41148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1676520"/>
                      <a:ext cx="41148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57" name=""/>
            <p:cNvSpPr/>
            <p:nvPr/>
          </p:nvSpPr>
          <p:spPr>
            <a:xfrm>
              <a:off x="5204520" y="4325760"/>
              <a:ext cx="3178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Non-inverting Amplifi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8" name=""/>
          <p:cNvSpPr/>
          <p:nvPr/>
        </p:nvSpPr>
        <p:spPr>
          <a:xfrm>
            <a:off x="4006800" y="5011560"/>
            <a:ext cx="450720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ue to the internal op-amp circuitry, it 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mitations, e.g., for high frequency and/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voltage situations. The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Oper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Transductance Amplifier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OTA) per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ll in those sit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9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"/>
          <p:cNvSpPr/>
          <p:nvPr/>
        </p:nvSpPr>
        <p:spPr>
          <a:xfrm>
            <a:off x="206280" y="135000"/>
            <a:ext cx="3943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erational Transductance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3" name="F11.047A_W1134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1904760" cy="1323720"/>
          </a:xfrm>
          <a:prstGeom prst="rect">
            <a:avLst/>
          </a:prstGeom>
          <a:ln w="0">
            <a:noFill/>
          </a:ln>
        </p:spPr>
      </p:pic>
      <p:pic>
        <p:nvPicPr>
          <p:cNvPr id="1564" name="F11.047B_W1134" descr=""/>
          <p:cNvPicPr/>
          <p:nvPr/>
        </p:nvPicPr>
        <p:blipFill>
          <a:blip r:embed="rId2"/>
          <a:stretch/>
        </p:blipFill>
        <p:spPr>
          <a:xfrm>
            <a:off x="4572000" y="838080"/>
            <a:ext cx="3162240" cy="1476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65" name=""/>
              <p:cNvSpPr txBox="1"/>
              <p:nvPr/>
            </p:nvSpPr>
            <p:spPr>
              <a:xfrm>
                <a:off x="3378240" y="2362320"/>
                <a:ext cx="2413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deal OTA: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66" name=""/>
          <p:cNvGrpSpPr/>
          <p:nvPr/>
        </p:nvGrpSpPr>
        <p:grpSpPr>
          <a:xfrm>
            <a:off x="380880" y="3048120"/>
            <a:ext cx="8596440" cy="1312920"/>
            <a:chOff x="380880" y="3048120"/>
            <a:chExt cx="8596440" cy="1312920"/>
          </a:xfrm>
        </p:grpSpPr>
        <p:sp>
          <p:nvSpPr>
            <p:cNvPr id="1567" name=""/>
            <p:cNvSpPr/>
            <p:nvPr/>
          </p:nvSpPr>
          <p:spPr>
            <a:xfrm>
              <a:off x="907560" y="3048120"/>
              <a:ext cx="3437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arison of Op-Amp and O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68" name=""/>
            <p:cNvGraphicFramePr/>
            <p:nvPr/>
          </p:nvGraphicFramePr>
          <p:xfrm>
            <a:off x="380880" y="3489480"/>
            <a:ext cx="8596440" cy="8715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56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3489480"/>
                      <a:ext cx="8596440" cy="871560"/>
                    </a:xfrm>
                    <a:prstGeom prst="rect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pic>
        <p:nvPicPr>
          <p:cNvPr id="1570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7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3" name=""/>
          <p:cNvGrpSpPr/>
          <p:nvPr/>
        </p:nvGrpSpPr>
        <p:grpSpPr>
          <a:xfrm>
            <a:off x="457200" y="304920"/>
            <a:ext cx="7686720" cy="1919880"/>
            <a:chOff x="457200" y="304920"/>
            <a:chExt cx="7686720" cy="1919880"/>
          </a:xfrm>
        </p:grpSpPr>
        <p:pic>
          <p:nvPicPr>
            <p:cNvPr id="1574" name="F11.048A_W1135" descr=""/>
            <p:cNvPicPr/>
            <p:nvPr/>
          </p:nvPicPr>
          <p:blipFill>
            <a:blip r:embed="rId1"/>
            <a:stretch/>
          </p:blipFill>
          <p:spPr>
            <a:xfrm>
              <a:off x="457200" y="304920"/>
              <a:ext cx="3610080" cy="185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5" name="F11.048B_W1135" descr=""/>
            <p:cNvPicPr/>
            <p:nvPr/>
          </p:nvPicPr>
          <p:blipFill>
            <a:blip r:embed="rId2"/>
            <a:stretch/>
          </p:blipFill>
          <p:spPr>
            <a:xfrm>
              <a:off x="4648320" y="304920"/>
              <a:ext cx="349560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6" name=""/>
            <p:cNvSpPr/>
            <p:nvPr/>
          </p:nvSpPr>
          <p:spPr>
            <a:xfrm>
              <a:off x="1337400" y="1828800"/>
              <a:ext cx="2305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Op-Amp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517000" y="1887480"/>
              <a:ext cx="1901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OTA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78" name=""/>
              <p:cNvSpPr txBox="1"/>
              <p:nvPr/>
            </p:nvSpPr>
            <p:spPr>
              <a:xfrm>
                <a:off x="762120" y="2362320"/>
                <a:ext cx="3174840" cy="20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9" name=""/>
              <p:cNvSpPr txBox="1"/>
              <p:nvPr/>
            </p:nvSpPr>
            <p:spPr>
              <a:xfrm>
                <a:off x="4952880" y="2286000"/>
                <a:ext cx="3353040" cy="20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0" name=""/>
              <p:cNvSpPr txBox="1"/>
              <p:nvPr/>
            </p:nvSpPr>
            <p:spPr>
              <a:xfrm>
                <a:off x="1143000" y="4724280"/>
                <a:ext cx="14986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deal Op-Amp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∞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1" name=""/>
              <p:cNvSpPr txBox="1"/>
              <p:nvPr/>
            </p:nvSpPr>
            <p:spPr>
              <a:xfrm>
                <a:off x="6019920" y="4419720"/>
                <a:ext cx="1028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deal OTA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582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8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"/>
          <p:cNvSpPr/>
          <p:nvPr/>
        </p:nvSpPr>
        <p:spPr>
          <a:xfrm>
            <a:off x="357840" y="135000"/>
            <a:ext cx="20019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OTA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6" name="F11.049_W1136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2666880" cy="1747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87" name=""/>
              <p:cNvSpPr txBox="1"/>
              <p:nvPr/>
            </p:nvSpPr>
            <p:spPr>
              <a:xfrm>
                <a:off x="1028880" y="2895480"/>
                <a:ext cx="21970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8" name=""/>
              <p:cNvSpPr txBox="1"/>
              <p:nvPr/>
            </p:nvSpPr>
            <p:spPr>
              <a:xfrm>
                <a:off x="685800" y="4038480"/>
                <a:ext cx="256536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grator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589" name="F11.050_W1137" descr=""/>
          <p:cNvPicPr/>
          <p:nvPr/>
        </p:nvPicPr>
        <p:blipFill>
          <a:blip r:embed="rId2"/>
          <a:stretch/>
        </p:blipFill>
        <p:spPr>
          <a:xfrm>
            <a:off x="5562720" y="838080"/>
            <a:ext cx="2133360" cy="1694160"/>
          </a:xfrm>
          <a:prstGeom prst="rect">
            <a:avLst/>
          </a:prstGeom>
          <a:ln w="0">
            <a:noFill/>
          </a:ln>
        </p:spPr>
      </p:pic>
      <p:grpSp>
        <p:nvGrpSpPr>
          <p:cNvPr id="1590" name=""/>
          <p:cNvGrpSpPr/>
          <p:nvPr/>
        </p:nvGrpSpPr>
        <p:grpSpPr>
          <a:xfrm>
            <a:off x="390960" y="5164200"/>
            <a:ext cx="2686320" cy="919080"/>
            <a:chOff x="390960" y="5164200"/>
            <a:chExt cx="2686320" cy="919080"/>
          </a:xfrm>
        </p:grpSpPr>
        <p:sp>
          <p:nvSpPr>
            <p:cNvPr id="1591" name=""/>
            <p:cNvSpPr/>
            <p:nvPr/>
          </p:nvSpPr>
          <p:spPr>
            <a:xfrm>
              <a:off x="390960" y="5164200"/>
              <a:ext cx="2686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frequency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2" name=""/>
                <p:cNvSpPr txBox="1"/>
                <p:nvPr/>
              </p:nvSpPr>
              <p:spPr>
                <a:xfrm>
                  <a:off x="1219320" y="5486400"/>
                  <a:ext cx="11430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r>
                            <m:t xml:space="preserve">jωC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93" name=""/>
              <p:cNvSpPr txBox="1"/>
              <p:nvPr/>
            </p:nvSpPr>
            <p:spPr>
              <a:xfrm>
                <a:off x="5257800" y="2781360"/>
                <a:ext cx="2793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otice polarity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4" name=""/>
              <p:cNvSpPr txBox="1"/>
              <p:nvPr/>
            </p:nvSpPr>
            <p:spPr>
              <a:xfrm>
                <a:off x="5556240" y="3581280"/>
                <a:ext cx="18921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mulated Resist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595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9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F11.005B_W1084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019640" cy="5753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21960" y="135000"/>
            <a:ext cx="435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APHIC OUTPUT PRODUCED BY MAT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520" y="896760"/>
            <a:ext cx="929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g-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840" y="3487680"/>
            <a:ext cx="1055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mi-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F11.005A_W1084" descr=""/>
          <p:cNvPicPr/>
          <p:nvPr/>
        </p:nvPicPr>
        <p:blipFill>
          <a:blip r:embed="rId2"/>
          <a:stretch/>
        </p:blipFill>
        <p:spPr>
          <a:xfrm>
            <a:off x="6781680" y="2590920"/>
            <a:ext cx="2324160" cy="176184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149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8" name="F11.051A_W1138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4038480" cy="2755800"/>
          </a:xfrm>
          <a:prstGeom prst="rect">
            <a:avLst/>
          </a:prstGeom>
          <a:ln w="0">
            <a:noFill/>
          </a:ln>
        </p:spPr>
      </p:pic>
      <p:sp>
        <p:nvSpPr>
          <p:cNvPr id="1599" name=""/>
          <p:cNvSpPr/>
          <p:nvPr/>
        </p:nvSpPr>
        <p:spPr>
          <a:xfrm>
            <a:off x="1496880" y="2851200"/>
            <a:ext cx="1838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OTA Ad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0" name=""/>
              <p:cNvSpPr txBox="1"/>
              <p:nvPr/>
            </p:nvSpPr>
            <p:spPr>
              <a:xfrm>
                <a:off x="1295280" y="990720"/>
                <a:ext cx="520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1" name=""/>
              <p:cNvSpPr txBox="1"/>
              <p:nvPr/>
            </p:nvSpPr>
            <p:spPr>
              <a:xfrm>
                <a:off x="1295280" y="2133720"/>
                <a:ext cx="582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2590920" y="812880"/>
                <a:ext cx="1257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603" name=""/>
          <p:cNvGrpSpPr/>
          <p:nvPr/>
        </p:nvGrpSpPr>
        <p:grpSpPr>
          <a:xfrm>
            <a:off x="1906560" y="1309680"/>
            <a:ext cx="2881440" cy="2282760"/>
            <a:chOff x="1906560" y="1309680"/>
            <a:chExt cx="2881440" cy="2282760"/>
          </a:xfrm>
        </p:grpSpPr>
        <p:sp>
          <p:nvSpPr>
            <p:cNvPr id="1604" name=""/>
            <p:cNvSpPr/>
            <p:nvPr/>
          </p:nvSpPr>
          <p:spPr>
            <a:xfrm>
              <a:off x="1906560" y="1309680"/>
              <a:ext cx="1792440" cy="2043000"/>
            </a:xfrm>
            <a:custGeom>
              <a:avLst/>
              <a:gdLst/>
              <a:ahLst/>
              <a:rect l="l" t="t" r="r" b="b"/>
              <a:pathLst>
                <a:path w="1129" h="1287">
                  <a:moveTo>
                    <a:pt x="1129" y="297"/>
                  </a:moveTo>
                  <a:cubicBezTo>
                    <a:pt x="1108" y="250"/>
                    <a:pt x="1084" y="205"/>
                    <a:pt x="1067" y="157"/>
                  </a:cubicBezTo>
                  <a:cubicBezTo>
                    <a:pt x="1058" y="132"/>
                    <a:pt x="1056" y="105"/>
                    <a:pt x="1051" y="79"/>
                  </a:cubicBezTo>
                  <a:cubicBezTo>
                    <a:pt x="1048" y="63"/>
                    <a:pt x="1056" y="41"/>
                    <a:pt x="1043" y="32"/>
                  </a:cubicBezTo>
                  <a:cubicBezTo>
                    <a:pt x="993" y="0"/>
                    <a:pt x="774" y="2"/>
                    <a:pt x="755" y="1"/>
                  </a:cubicBezTo>
                  <a:cubicBezTo>
                    <a:pt x="517" y="5"/>
                    <a:pt x="371" y="5"/>
                    <a:pt x="163" y="32"/>
                  </a:cubicBezTo>
                  <a:cubicBezTo>
                    <a:pt x="130" y="65"/>
                    <a:pt x="62" y="126"/>
                    <a:pt x="38" y="173"/>
                  </a:cubicBezTo>
                  <a:cubicBezTo>
                    <a:pt x="26" y="196"/>
                    <a:pt x="29" y="225"/>
                    <a:pt x="22" y="250"/>
                  </a:cubicBezTo>
                  <a:cubicBezTo>
                    <a:pt x="2" y="431"/>
                    <a:pt x="0" y="418"/>
                    <a:pt x="30" y="726"/>
                  </a:cubicBezTo>
                  <a:cubicBezTo>
                    <a:pt x="36" y="787"/>
                    <a:pt x="77" y="812"/>
                    <a:pt x="124" y="827"/>
                  </a:cubicBezTo>
                  <a:cubicBezTo>
                    <a:pt x="226" y="905"/>
                    <a:pt x="198" y="881"/>
                    <a:pt x="365" y="889"/>
                  </a:cubicBezTo>
                  <a:cubicBezTo>
                    <a:pt x="438" y="887"/>
                    <a:pt x="512" y="896"/>
                    <a:pt x="583" y="882"/>
                  </a:cubicBezTo>
                  <a:cubicBezTo>
                    <a:pt x="609" y="877"/>
                    <a:pt x="623" y="847"/>
                    <a:pt x="646" y="835"/>
                  </a:cubicBezTo>
                  <a:cubicBezTo>
                    <a:pt x="660" y="828"/>
                    <a:pt x="677" y="830"/>
                    <a:pt x="693" y="827"/>
                  </a:cubicBezTo>
                  <a:cubicBezTo>
                    <a:pt x="741" y="796"/>
                    <a:pt x="778" y="789"/>
                    <a:pt x="825" y="749"/>
                  </a:cubicBezTo>
                  <a:cubicBezTo>
                    <a:pt x="863" y="716"/>
                    <a:pt x="886" y="678"/>
                    <a:pt x="926" y="648"/>
                  </a:cubicBezTo>
                  <a:cubicBezTo>
                    <a:pt x="942" y="552"/>
                    <a:pt x="918" y="639"/>
                    <a:pt x="958" y="578"/>
                  </a:cubicBezTo>
                  <a:cubicBezTo>
                    <a:pt x="1003" y="510"/>
                    <a:pt x="913" y="604"/>
                    <a:pt x="989" y="531"/>
                  </a:cubicBezTo>
                  <a:cubicBezTo>
                    <a:pt x="1006" y="482"/>
                    <a:pt x="1043" y="445"/>
                    <a:pt x="1067" y="399"/>
                  </a:cubicBezTo>
                  <a:cubicBezTo>
                    <a:pt x="1082" y="695"/>
                    <a:pt x="1059" y="991"/>
                    <a:pt x="1059" y="128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5" name=""/>
                <p:cNvSpPr txBox="1"/>
                <p:nvPr/>
              </p:nvSpPr>
              <p:spPr>
                <a:xfrm>
                  <a:off x="2895480" y="3352680"/>
                  <a:ext cx="18925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mulated Resisto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06" name=""/>
              <p:cNvSpPr txBox="1"/>
              <p:nvPr/>
            </p:nvSpPr>
            <p:spPr>
              <a:xfrm>
                <a:off x="380880" y="3276720"/>
                <a:ext cx="2260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07" name=""/>
          <p:cNvGrpSpPr/>
          <p:nvPr/>
        </p:nvGrpSpPr>
        <p:grpSpPr>
          <a:xfrm>
            <a:off x="1066680" y="4114800"/>
            <a:ext cx="3012840" cy="2547000"/>
            <a:chOff x="1066680" y="4114800"/>
            <a:chExt cx="3012840" cy="2547000"/>
          </a:xfrm>
        </p:grpSpPr>
        <p:pic>
          <p:nvPicPr>
            <p:cNvPr id="1608" name="F11.051B_W1138" descr=""/>
            <p:cNvPicPr/>
            <p:nvPr/>
          </p:nvPicPr>
          <p:blipFill>
            <a:blip r:embed="rId2"/>
            <a:stretch/>
          </p:blipFill>
          <p:spPr>
            <a:xfrm>
              <a:off x="1066680" y="4114800"/>
              <a:ext cx="2752560" cy="25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9" name=""/>
            <p:cNvSpPr/>
            <p:nvPr/>
          </p:nvSpPr>
          <p:spPr>
            <a:xfrm>
              <a:off x="1244160" y="6324480"/>
              <a:ext cx="2835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repres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0" name=""/>
          <p:cNvGrpSpPr/>
          <p:nvPr/>
        </p:nvGrpSpPr>
        <p:grpSpPr>
          <a:xfrm>
            <a:off x="5791320" y="609480"/>
            <a:ext cx="2273040" cy="1981080"/>
            <a:chOff x="5791320" y="609480"/>
            <a:chExt cx="2273040" cy="1981080"/>
          </a:xfrm>
        </p:grpSpPr>
        <p:pic>
          <p:nvPicPr>
            <p:cNvPr id="1611" name="F11.052_W1139" descr=""/>
            <p:cNvPicPr/>
            <p:nvPr/>
          </p:nvPicPr>
          <p:blipFill>
            <a:blip r:embed="rId3"/>
            <a:stretch/>
          </p:blipFill>
          <p:spPr>
            <a:xfrm>
              <a:off x="6324480" y="990360"/>
              <a:ext cx="1454400" cy="1600200"/>
            </a:xfrm>
            <a:prstGeom prst="rect">
              <a:avLst/>
            </a:prstGeom>
            <a:ln w="9360">
              <a:solidFill>
                <a:srgbClr val="3333cc"/>
              </a:solidFill>
              <a:miter/>
            </a:ln>
          </p:spPr>
        </p:pic>
        <mc:AlternateContent>
          <mc:Choice xmlns:a14="http://schemas.microsoft.com/office/drawing/2010/main" Requires="a14">
            <p:sp>
              <p:nvSpPr>
                <p:cNvPr id="1612" name=""/>
                <p:cNvSpPr txBox="1"/>
                <p:nvPr/>
              </p:nvSpPr>
              <p:spPr>
                <a:xfrm>
                  <a:off x="5791320" y="609480"/>
                  <a:ext cx="2273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rogrammability of 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13" name=""/>
              <p:cNvSpPr txBox="1"/>
              <p:nvPr/>
            </p:nvSpPr>
            <p:spPr>
              <a:xfrm>
                <a:off x="5791320" y="3809880"/>
                <a:ext cx="2412720" cy="161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ypical value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range: 3 - 7 decades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4" name=""/>
              <p:cNvSpPr txBox="1"/>
              <p:nvPr/>
            </p:nvSpPr>
            <p:spPr>
              <a:xfrm>
                <a:off x="6172200" y="2895480"/>
                <a:ext cx="1701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615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1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9" name="F11.050_W1137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2286000" cy="1814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20" name=""/>
              <p:cNvSpPr txBox="1"/>
              <p:nvPr/>
            </p:nvSpPr>
            <p:spPr>
              <a:xfrm>
                <a:off x="2666880" y="990720"/>
                <a:ext cx="210816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1" name=""/>
              <p:cNvSpPr txBox="1"/>
              <p:nvPr/>
            </p:nvSpPr>
            <p:spPr>
              <a:xfrm>
                <a:off x="2743200" y="152280"/>
                <a:ext cx="24004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duce a 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 resisto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2" name=""/>
              <p:cNvSpPr txBox="1"/>
              <p:nvPr/>
            </p:nvSpPr>
            <p:spPr>
              <a:xfrm>
                <a:off x="222120" y="3581280"/>
                <a:ext cx="4038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S</m:t>
                    </m:r>
                    <m:r>
                      <m:t xml:space="preserve">&gt;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3" name=""/>
              <p:cNvSpPr txBox="1"/>
              <p:nvPr/>
            </p:nvSpPr>
            <p:spPr>
              <a:xfrm>
                <a:off x="1308240" y="2438280"/>
                <a:ext cx="18921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mulated Resist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4" name=""/>
              <p:cNvSpPr txBox="1"/>
              <p:nvPr/>
            </p:nvSpPr>
            <p:spPr>
              <a:xfrm>
                <a:off x="990720" y="4343400"/>
                <a:ext cx="2539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5" name=""/>
              <p:cNvSpPr txBox="1"/>
              <p:nvPr/>
            </p:nvSpPr>
            <p:spPr>
              <a:xfrm>
                <a:off x="1143000" y="5257800"/>
                <a:ext cx="22352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26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2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544480" y="135000"/>
            <a:ext cx="2916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loating simulated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1" name="F11.053_W1140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3429000" cy="2143080"/>
          </a:xfrm>
          <a:prstGeom prst="rect">
            <a:avLst/>
          </a:prstGeom>
          <a:ln w="0">
            <a:noFill/>
          </a:ln>
        </p:spPr>
      </p:pic>
      <p:sp>
        <p:nvSpPr>
          <p:cNvPr id="1632" name=""/>
          <p:cNvSpPr/>
          <p:nvPr/>
        </p:nvSpPr>
        <p:spPr>
          <a:xfrm>
            <a:off x="1143000" y="533520"/>
            <a:ext cx="1143000" cy="2209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3" name=""/>
              <p:cNvSpPr txBox="1"/>
              <p:nvPr/>
            </p:nvSpPr>
            <p:spPr>
              <a:xfrm>
                <a:off x="1143000" y="2819520"/>
                <a:ext cx="1104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34" name=""/>
          <p:cNvSpPr/>
          <p:nvPr/>
        </p:nvSpPr>
        <p:spPr>
          <a:xfrm>
            <a:off x="2590920" y="533520"/>
            <a:ext cx="1143000" cy="2209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5" name=""/>
              <p:cNvSpPr txBox="1"/>
              <p:nvPr/>
            </p:nvSpPr>
            <p:spPr>
              <a:xfrm>
                <a:off x="2641680" y="2833560"/>
                <a:ext cx="1015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636" name=""/>
          <p:cNvGrpSpPr/>
          <p:nvPr/>
        </p:nvGrpSpPr>
        <p:grpSpPr>
          <a:xfrm>
            <a:off x="6427440" y="76320"/>
            <a:ext cx="2567160" cy="2591280"/>
            <a:chOff x="6427440" y="76320"/>
            <a:chExt cx="2567160" cy="2591280"/>
          </a:xfrm>
        </p:grpSpPr>
        <p:grpSp>
          <p:nvGrpSpPr>
            <p:cNvPr id="1637" name=""/>
            <p:cNvGrpSpPr/>
            <p:nvPr/>
          </p:nvGrpSpPr>
          <p:grpSpPr>
            <a:xfrm>
              <a:off x="6705720" y="76320"/>
              <a:ext cx="2286000" cy="2119320"/>
              <a:chOff x="6705720" y="76320"/>
              <a:chExt cx="2286000" cy="2119320"/>
            </a:xfrm>
          </p:grpSpPr>
          <p:pic>
            <p:nvPicPr>
              <p:cNvPr id="1638" name="F11.050_W1137" descr=""/>
              <p:cNvPicPr/>
              <p:nvPr/>
            </p:nvPicPr>
            <p:blipFill>
              <a:blip r:embed="rId2"/>
              <a:stretch/>
            </p:blipFill>
            <p:spPr>
              <a:xfrm>
                <a:off x="6705720" y="76320"/>
                <a:ext cx="2286000" cy="1814400"/>
              </a:xfrm>
              <a:prstGeom prst="rect">
                <a:avLst/>
              </a:prstGeom>
              <a:ln w="38160">
                <a:solidFill>
                  <a:srgbClr val="ccffcc"/>
                </a:solidFill>
                <a:miter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1639" name=""/>
                  <p:cNvSpPr txBox="1"/>
                  <p:nvPr/>
                </p:nvSpPr>
                <p:spPr>
                  <a:xfrm>
                    <a:off x="7315200" y="1905120"/>
                    <a:ext cx="10666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640" name=""/>
            <p:cNvSpPr/>
            <p:nvPr/>
          </p:nvSpPr>
          <p:spPr>
            <a:xfrm>
              <a:off x="6427440" y="2330280"/>
              <a:ext cx="256716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ne grounded termi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2438280" y="838080"/>
            <a:ext cx="609840" cy="762120"/>
            <a:chOff x="2438280" y="838080"/>
            <a:chExt cx="609840" cy="762120"/>
          </a:xfrm>
        </p:grpSpPr>
        <p:sp>
          <p:nvSpPr>
            <p:cNvPr id="1642" name=""/>
            <p:cNvSpPr/>
            <p:nvPr/>
          </p:nvSpPr>
          <p:spPr>
            <a:xfrm>
              <a:off x="2438280" y="11430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666880" y="838080"/>
              <a:ext cx="3812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44" name=""/>
              <p:cNvSpPr txBox="1"/>
              <p:nvPr/>
            </p:nvSpPr>
            <p:spPr>
              <a:xfrm>
                <a:off x="1219320" y="3138480"/>
                <a:ext cx="749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45" name=""/>
          <p:cNvSpPr/>
          <p:nvPr/>
        </p:nvSpPr>
        <p:spPr>
          <a:xfrm>
            <a:off x="3352680" y="2590920"/>
            <a:ext cx="6098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6" name=""/>
              <p:cNvSpPr txBox="1"/>
              <p:nvPr/>
            </p:nvSpPr>
            <p:spPr>
              <a:xfrm>
                <a:off x="2819520" y="3138480"/>
                <a:ext cx="620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7" name=""/>
              <p:cNvSpPr txBox="1"/>
              <p:nvPr/>
            </p:nvSpPr>
            <p:spPr>
              <a:xfrm>
                <a:off x="1371600" y="3581280"/>
                <a:ext cx="209556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proper op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648" name=""/>
          <p:cNvGrpSpPr/>
          <p:nvPr/>
        </p:nvGrpSpPr>
        <p:grpSpPr>
          <a:xfrm>
            <a:off x="5715000" y="3124080"/>
            <a:ext cx="2450880" cy="1574640"/>
            <a:chOff x="5715000" y="3124080"/>
            <a:chExt cx="2450880" cy="1574640"/>
          </a:xfrm>
        </p:grpSpPr>
        <mc:AlternateContent>
          <mc:Choice xmlns:a14="http://schemas.microsoft.com/office/drawing/2010/main" Requires="a14">
            <p:sp>
              <p:nvSpPr>
                <p:cNvPr id="1649" name=""/>
                <p:cNvSpPr txBox="1"/>
                <p:nvPr/>
              </p:nvSpPr>
              <p:spPr>
                <a:xfrm>
                  <a:off x="6019560" y="3428640"/>
                  <a:ext cx="2108160" cy="127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≤</m:t>
                          </m:r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mS</m:t>
                          </m:r>
                        </m:e>
                        <m:e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≥</m:t>
                          </m:r>
                          <m:f>
                            <m:num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S</m:t>
                              </m:r>
                            </m:num>
                            <m:den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4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sup>
                          </m:sSup>
                          <m:r>
                            <m:t xml:space="preserve">S</m:t>
                          </m:r>
                        </m:e>
                        <m:e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BC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50" name=""/>
                <p:cNvSpPr txBox="1"/>
                <p:nvPr/>
              </p:nvSpPr>
              <p:spPr>
                <a:xfrm>
                  <a:off x="5715000" y="3124080"/>
                  <a:ext cx="24508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roduce a 10M</m:t>
                      </m:r>
                      <m:r>
                        <m:t xml:space="preserve">Ω</m:t>
                      </m:r>
                      <m:r>
                        <m:rPr>
                          <m:lit/>
                          <m:nor/>
                        </m:rPr>
                        <m:t xml:space="preserve"> resisto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51" name=""/>
              <p:cNvSpPr txBox="1"/>
              <p:nvPr/>
            </p:nvSpPr>
            <p:spPr>
              <a:xfrm>
                <a:off x="5702400" y="4724280"/>
                <a:ext cx="2044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2" name=""/>
              <p:cNvSpPr txBox="1"/>
              <p:nvPr/>
            </p:nvSpPr>
            <p:spPr>
              <a:xfrm>
                <a:off x="7848720" y="4876920"/>
                <a:ext cx="1066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3" name=""/>
          <p:cNvSpPr/>
          <p:nvPr/>
        </p:nvSpPr>
        <p:spPr>
          <a:xfrm>
            <a:off x="5388840" y="5392800"/>
            <a:ext cx="3454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istor cannot be produ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this OTA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4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5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8" name="F11.051A_W1138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629160" cy="2476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59" name=""/>
              <p:cNvSpPr txBox="1"/>
              <p:nvPr/>
            </p:nvSpPr>
            <p:spPr>
              <a:xfrm>
                <a:off x="2514600" y="76320"/>
                <a:ext cx="318780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lect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o produc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0" name=""/>
              <p:cNvSpPr txBox="1"/>
              <p:nvPr/>
            </p:nvSpPr>
            <p:spPr>
              <a:xfrm>
                <a:off x="6019920" y="152280"/>
                <a:ext cx="210816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1" name=""/>
              <p:cNvSpPr txBox="1"/>
              <p:nvPr/>
            </p:nvSpPr>
            <p:spPr>
              <a:xfrm>
                <a:off x="762120" y="2819520"/>
                <a:ext cx="2260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62" name=""/>
          <p:cNvGrpSpPr/>
          <p:nvPr/>
        </p:nvGrpSpPr>
        <p:grpSpPr>
          <a:xfrm>
            <a:off x="231120" y="3564000"/>
            <a:ext cx="2270880" cy="931680"/>
            <a:chOff x="231120" y="3564000"/>
            <a:chExt cx="2270880" cy="931680"/>
          </a:xfrm>
        </p:grpSpPr>
        <p:sp>
          <p:nvSpPr>
            <p:cNvPr id="1663" name=""/>
            <p:cNvSpPr/>
            <p:nvPr/>
          </p:nvSpPr>
          <p:spPr>
            <a:xfrm>
              <a:off x="231120" y="3564000"/>
              <a:ext cx="828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4" name=""/>
                <p:cNvSpPr txBox="1"/>
                <p:nvPr/>
              </p:nvSpPr>
              <p:spPr>
                <a:xfrm>
                  <a:off x="762120" y="3886200"/>
                  <a:ext cx="17398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65" name=""/>
          <p:cNvSpPr/>
          <p:nvPr/>
        </p:nvSpPr>
        <p:spPr>
          <a:xfrm>
            <a:off x="347760" y="4554360"/>
            <a:ext cx="36828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 equations in three unknow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ect one transducta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6" name=""/>
              <p:cNvSpPr txBox="1"/>
              <p:nvPr/>
            </p:nvSpPr>
            <p:spPr>
              <a:xfrm>
                <a:off x="304920" y="5181480"/>
                <a:ext cx="3479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7" name=""/>
              <p:cNvSpPr txBox="1"/>
              <p:nvPr/>
            </p:nvSpPr>
            <p:spPr>
              <a:xfrm>
                <a:off x="3809880" y="5334120"/>
                <a:ext cx="6098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8" name=""/>
              <p:cNvSpPr txBox="1"/>
              <p:nvPr/>
            </p:nvSpPr>
            <p:spPr>
              <a:xfrm>
                <a:off x="304920" y="5791320"/>
                <a:ext cx="2844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9" name=""/>
              <p:cNvSpPr txBox="1"/>
              <p:nvPr/>
            </p:nvSpPr>
            <p:spPr>
              <a:xfrm>
                <a:off x="304920" y="6172200"/>
                <a:ext cx="2590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0" name=""/>
          <p:cNvSpPr/>
          <p:nvPr/>
        </p:nvSpPr>
        <p:spPr>
          <a:xfrm>
            <a:off x="4960440" y="2039760"/>
            <a:ext cx="834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291280" y="2421000"/>
            <a:ext cx="2431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verse polarity of v2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2" name="F11.054_W1141" descr=""/>
          <p:cNvPicPr/>
          <p:nvPr/>
        </p:nvPicPr>
        <p:blipFill>
          <a:blip r:embed="rId2"/>
          <a:stretch/>
        </p:blipFill>
        <p:spPr>
          <a:xfrm>
            <a:off x="4952880" y="3200400"/>
            <a:ext cx="3581640" cy="1962000"/>
          </a:xfrm>
          <a:prstGeom prst="rect">
            <a:avLst/>
          </a:prstGeom>
          <a:ln w="0">
            <a:noFill/>
          </a:ln>
        </p:spPr>
      </p:pic>
      <p:pic>
        <p:nvPicPr>
          <p:cNvPr id="1673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7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"/>
          <p:cNvSpPr/>
          <p:nvPr/>
        </p:nvSpPr>
        <p:spPr>
          <a:xfrm>
            <a:off x="212760" y="135000"/>
            <a:ext cx="1782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TA-C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96160" y="533520"/>
            <a:ext cx="7992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s created using capacitors, simulated resistors, adders and integr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8" name="F11.055_W1142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4162320" cy="1671840"/>
          </a:xfrm>
          <a:prstGeom prst="rect">
            <a:avLst/>
          </a:prstGeom>
          <a:ln w="0">
            <a:noFill/>
          </a:ln>
        </p:spPr>
      </p:pic>
      <p:grpSp>
        <p:nvGrpSpPr>
          <p:cNvPr id="1679" name=""/>
          <p:cNvGrpSpPr/>
          <p:nvPr/>
        </p:nvGrpSpPr>
        <p:grpSpPr>
          <a:xfrm>
            <a:off x="304920" y="1066680"/>
            <a:ext cx="2133360" cy="2133720"/>
            <a:chOff x="304920" y="1066680"/>
            <a:chExt cx="2133360" cy="2133720"/>
          </a:xfrm>
        </p:grpSpPr>
        <p:sp>
          <p:nvSpPr>
            <p:cNvPr id="1680" name=""/>
            <p:cNvSpPr/>
            <p:nvPr/>
          </p:nvSpPr>
          <p:spPr>
            <a:xfrm>
              <a:off x="304920" y="1066680"/>
              <a:ext cx="2133360" cy="21337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19680" y="2819520"/>
              <a:ext cx="12308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eg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2" name=""/>
          <p:cNvGrpSpPr/>
          <p:nvPr/>
        </p:nvGrpSpPr>
        <p:grpSpPr>
          <a:xfrm>
            <a:off x="2590920" y="1049400"/>
            <a:ext cx="1600200" cy="2151000"/>
            <a:chOff x="2590920" y="1049400"/>
            <a:chExt cx="1600200" cy="2151000"/>
          </a:xfrm>
        </p:grpSpPr>
        <p:sp>
          <p:nvSpPr>
            <p:cNvPr id="1683" name=""/>
            <p:cNvSpPr/>
            <p:nvPr/>
          </p:nvSpPr>
          <p:spPr>
            <a:xfrm>
              <a:off x="2590920" y="1066680"/>
              <a:ext cx="1600200" cy="21337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620800" y="1049400"/>
              <a:ext cx="9608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5" name=""/>
          <p:cNvSpPr/>
          <p:nvPr/>
        </p:nvSpPr>
        <p:spPr>
          <a:xfrm>
            <a:off x="357480" y="3335400"/>
            <a:ext cx="3963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domain analysis assu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deal O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6" name=""/>
              <p:cNvSpPr txBox="1"/>
              <p:nvPr/>
            </p:nvSpPr>
            <p:spPr>
              <a:xfrm>
                <a:off x="533520" y="4648320"/>
                <a:ext cx="1104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7" name=""/>
          <p:cNvSpPr/>
          <p:nvPr/>
        </p:nvSpPr>
        <p:spPr>
          <a:xfrm>
            <a:off x="1676520" y="1905120"/>
            <a:ext cx="30456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V="1">
            <a:off x="3657600" y="1905120"/>
            <a:ext cx="0" cy="30456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9" name=""/>
              <p:cNvSpPr txBox="1"/>
              <p:nvPr/>
            </p:nvSpPr>
            <p:spPr>
              <a:xfrm>
                <a:off x="2057400" y="4662360"/>
                <a:ext cx="124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90" name=""/>
          <p:cNvSpPr/>
          <p:nvPr/>
        </p:nvSpPr>
        <p:spPr>
          <a:xfrm>
            <a:off x="2286000" y="2133720"/>
            <a:ext cx="0" cy="53316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1" name=""/>
              <p:cNvSpPr txBox="1"/>
              <p:nvPr/>
            </p:nvSpPr>
            <p:spPr>
              <a:xfrm>
                <a:off x="2057400" y="4114800"/>
                <a:ext cx="1257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2" name=""/>
              <p:cNvSpPr txBox="1"/>
              <p:nvPr/>
            </p:nvSpPr>
            <p:spPr>
              <a:xfrm>
                <a:off x="533520" y="3962520"/>
                <a:ext cx="1206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3" name=""/>
              <p:cNvSpPr txBox="1"/>
              <p:nvPr/>
            </p:nvSpPr>
            <p:spPr>
              <a:xfrm>
                <a:off x="685800" y="5029200"/>
                <a:ext cx="2438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4" name=""/>
              <p:cNvSpPr txBox="1"/>
              <p:nvPr/>
            </p:nvSpPr>
            <p:spPr>
              <a:xfrm>
                <a:off x="914400" y="5715000"/>
                <a:ext cx="19177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C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695" name=""/>
          <p:cNvGrpSpPr/>
          <p:nvPr/>
        </p:nvGrpSpPr>
        <p:grpSpPr>
          <a:xfrm>
            <a:off x="5029200" y="1735200"/>
            <a:ext cx="3381480" cy="2343240"/>
            <a:chOff x="5029200" y="1735200"/>
            <a:chExt cx="3381480" cy="2343240"/>
          </a:xfrm>
        </p:grpSpPr>
        <p:pic>
          <p:nvPicPr>
            <p:cNvPr id="1696" name="F11.056_W1143" descr=""/>
            <p:cNvPicPr/>
            <p:nvPr/>
          </p:nvPicPr>
          <p:blipFill>
            <a:blip r:embed="rId2"/>
            <a:stretch/>
          </p:blipFill>
          <p:spPr>
            <a:xfrm>
              <a:off x="5029200" y="2133720"/>
              <a:ext cx="338148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7" name=""/>
            <p:cNvSpPr/>
            <p:nvPr/>
          </p:nvSpPr>
          <p:spPr>
            <a:xfrm>
              <a:off x="5263200" y="1735200"/>
              <a:ext cx="2305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gnitude Bode pl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8" name=""/>
                <p:cNvSpPr txBox="1"/>
                <p:nvPr/>
              </p:nvSpPr>
              <p:spPr>
                <a:xfrm>
                  <a:off x="6934320" y="2133720"/>
                  <a:ext cx="7999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99" name=""/>
              <p:cNvSpPr txBox="1"/>
              <p:nvPr/>
            </p:nvSpPr>
            <p:spPr>
              <a:xfrm>
                <a:off x="4952880" y="4267080"/>
                <a:ext cx="990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0" name=""/>
              <p:cNvSpPr txBox="1"/>
              <p:nvPr/>
            </p:nvSpPr>
            <p:spPr>
              <a:xfrm>
                <a:off x="7010280" y="4152960"/>
                <a:ext cx="12067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701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0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5" name="F11.055_W1142" descr=""/>
          <p:cNvPicPr/>
          <p:nvPr/>
        </p:nvPicPr>
        <p:blipFill>
          <a:blip r:embed="rId1"/>
          <a:stretch/>
        </p:blipFill>
        <p:spPr>
          <a:xfrm>
            <a:off x="0" y="685800"/>
            <a:ext cx="4162320" cy="1671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06" name=""/>
              <p:cNvSpPr txBox="1"/>
              <p:nvPr/>
            </p:nvSpPr>
            <p:spPr>
              <a:xfrm>
                <a:off x="2438280" y="152280"/>
                <a:ext cx="3035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sired: 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7" name=""/>
              <p:cNvSpPr txBox="1"/>
              <p:nvPr/>
            </p:nvSpPr>
            <p:spPr>
              <a:xfrm>
                <a:off x="6026040" y="76320"/>
                <a:ext cx="176544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08" name=""/>
          <p:cNvSpPr/>
          <p:nvPr/>
        </p:nvSpPr>
        <p:spPr>
          <a:xfrm>
            <a:off x="4668840" y="50760"/>
            <a:ext cx="601560" cy="311040"/>
          </a:xfrm>
          <a:custGeom>
            <a:avLst/>
            <a:gdLst/>
            <a:ahLst/>
            <a:rect l="l" t="t" r="r" b="b"/>
            <a:pathLst>
              <a:path w="379" h="196">
                <a:moveTo>
                  <a:pt x="379" y="38"/>
                </a:moveTo>
                <a:cubicBezTo>
                  <a:pt x="256" y="8"/>
                  <a:pt x="171" y="0"/>
                  <a:pt x="44" y="15"/>
                </a:cubicBezTo>
                <a:cubicBezTo>
                  <a:pt x="22" y="46"/>
                  <a:pt x="13" y="79"/>
                  <a:pt x="5" y="116"/>
                </a:cubicBezTo>
                <a:cubicBezTo>
                  <a:pt x="7" y="129"/>
                  <a:pt x="0" y="149"/>
                  <a:pt x="12" y="155"/>
                </a:cubicBezTo>
                <a:cubicBezTo>
                  <a:pt x="50" y="175"/>
                  <a:pt x="140" y="186"/>
                  <a:pt x="192" y="194"/>
                </a:cubicBezTo>
                <a:cubicBezTo>
                  <a:pt x="220" y="191"/>
                  <a:pt x="250" y="196"/>
                  <a:pt x="277" y="186"/>
                </a:cubicBezTo>
                <a:cubicBezTo>
                  <a:pt x="298" y="178"/>
                  <a:pt x="301" y="124"/>
                  <a:pt x="301" y="124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9" name=""/>
              <p:cNvSpPr txBox="1"/>
              <p:nvPr/>
            </p:nvSpPr>
            <p:spPr>
              <a:xfrm>
                <a:off x="609480" y="2590920"/>
                <a:ext cx="711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0" name=""/>
          <p:cNvSpPr/>
          <p:nvPr/>
        </p:nvSpPr>
        <p:spPr>
          <a:xfrm>
            <a:off x="4518000" y="655560"/>
            <a:ext cx="1122480" cy="569880"/>
          </a:xfrm>
          <a:custGeom>
            <a:avLst/>
            <a:gdLst/>
            <a:ahLst/>
            <a:rect l="l" t="t" r="r" b="b"/>
            <a:pathLst>
              <a:path w="707" h="359">
                <a:moveTo>
                  <a:pt x="707" y="31"/>
                </a:moveTo>
                <a:cubicBezTo>
                  <a:pt x="659" y="8"/>
                  <a:pt x="612" y="6"/>
                  <a:pt x="559" y="0"/>
                </a:cubicBezTo>
                <a:cubicBezTo>
                  <a:pt x="448" y="10"/>
                  <a:pt x="353" y="14"/>
                  <a:pt x="248" y="39"/>
                </a:cubicBezTo>
                <a:cubicBezTo>
                  <a:pt x="199" y="51"/>
                  <a:pt x="100" y="62"/>
                  <a:pt x="100" y="62"/>
                </a:cubicBezTo>
                <a:cubicBezTo>
                  <a:pt x="63" y="99"/>
                  <a:pt x="36" y="125"/>
                  <a:pt x="14" y="171"/>
                </a:cubicBezTo>
                <a:cubicBezTo>
                  <a:pt x="0" y="268"/>
                  <a:pt x="5" y="249"/>
                  <a:pt x="84" y="288"/>
                </a:cubicBezTo>
                <a:cubicBezTo>
                  <a:pt x="92" y="296"/>
                  <a:pt x="97" y="307"/>
                  <a:pt x="107" y="312"/>
                </a:cubicBezTo>
                <a:cubicBezTo>
                  <a:pt x="121" y="319"/>
                  <a:pt x="138" y="317"/>
                  <a:pt x="154" y="320"/>
                </a:cubicBezTo>
                <a:cubicBezTo>
                  <a:pt x="211" y="332"/>
                  <a:pt x="268" y="344"/>
                  <a:pt x="326" y="351"/>
                </a:cubicBezTo>
                <a:cubicBezTo>
                  <a:pt x="383" y="347"/>
                  <a:pt x="445" y="359"/>
                  <a:pt x="497" y="335"/>
                </a:cubicBezTo>
                <a:cubicBezTo>
                  <a:pt x="692" y="243"/>
                  <a:pt x="475" y="317"/>
                  <a:pt x="614" y="273"/>
                </a:cubicBezTo>
                <a:cubicBezTo>
                  <a:pt x="640" y="212"/>
                  <a:pt x="661" y="169"/>
                  <a:pt x="661" y="101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1" name=""/>
              <p:cNvSpPr txBox="1"/>
              <p:nvPr/>
            </p:nvSpPr>
            <p:spPr>
              <a:xfrm>
                <a:off x="1447920" y="2590920"/>
                <a:ext cx="2793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k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2" name=""/>
              <p:cNvSpPr txBox="1"/>
              <p:nvPr/>
            </p:nvSpPr>
            <p:spPr>
              <a:xfrm>
                <a:off x="5029200" y="1866960"/>
                <a:ext cx="990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3" name=""/>
              <p:cNvSpPr txBox="1"/>
              <p:nvPr/>
            </p:nvSpPr>
            <p:spPr>
              <a:xfrm>
                <a:off x="6781680" y="1828800"/>
                <a:ext cx="12067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14" name=""/>
          <p:cNvSpPr/>
          <p:nvPr/>
        </p:nvSpPr>
        <p:spPr>
          <a:xfrm>
            <a:off x="423720" y="3106800"/>
            <a:ext cx="3682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 equations in three unknow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ect the capacito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5" name=""/>
              <p:cNvSpPr txBox="1"/>
              <p:nvPr/>
            </p:nvSpPr>
            <p:spPr>
              <a:xfrm>
                <a:off x="380880" y="3809880"/>
                <a:ext cx="9907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6" name=""/>
              <p:cNvSpPr txBox="1"/>
              <p:nvPr/>
            </p:nvSpPr>
            <p:spPr>
              <a:xfrm>
                <a:off x="2133720" y="3809880"/>
                <a:ext cx="3720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7" name=""/>
          <p:cNvSpPr/>
          <p:nvPr/>
        </p:nvSpPr>
        <p:spPr>
          <a:xfrm>
            <a:off x="6477120" y="2514600"/>
            <a:ext cx="1904760" cy="6094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8" name=""/>
          <p:cNvGrpSpPr/>
          <p:nvPr/>
        </p:nvGrpSpPr>
        <p:grpSpPr>
          <a:xfrm>
            <a:off x="5715000" y="457200"/>
            <a:ext cx="3136680" cy="533520"/>
            <a:chOff x="5715000" y="457200"/>
            <a:chExt cx="3136680" cy="533520"/>
          </a:xfrm>
        </p:grpSpPr>
        <p:sp>
          <p:nvSpPr>
            <p:cNvPr id="1719" name=""/>
            <p:cNvSpPr/>
            <p:nvPr/>
          </p:nvSpPr>
          <p:spPr>
            <a:xfrm>
              <a:off x="5715000" y="457200"/>
              <a:ext cx="2514600" cy="533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8375400" y="592200"/>
              <a:ext cx="476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1" name=""/>
          <p:cNvSpPr/>
          <p:nvPr/>
        </p:nvSpPr>
        <p:spPr>
          <a:xfrm>
            <a:off x="533520" y="2438280"/>
            <a:ext cx="914400" cy="5335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2" name=""/>
              <p:cNvSpPr txBox="1"/>
              <p:nvPr/>
            </p:nvSpPr>
            <p:spPr>
              <a:xfrm>
                <a:off x="533520" y="4495680"/>
                <a:ext cx="303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μS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3" name=""/>
              <p:cNvSpPr txBox="1"/>
              <p:nvPr/>
            </p:nvSpPr>
            <p:spPr>
              <a:xfrm>
                <a:off x="6095880" y="3657600"/>
                <a:ext cx="2248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5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4" name=""/>
              <p:cNvSpPr txBox="1"/>
              <p:nvPr/>
            </p:nvSpPr>
            <p:spPr>
              <a:xfrm>
                <a:off x="3657600" y="1447920"/>
                <a:ext cx="35305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transductances and biase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5" name=""/>
          <p:cNvSpPr/>
          <p:nvPr/>
        </p:nvSpPr>
        <p:spPr>
          <a:xfrm>
            <a:off x="4876920" y="1752480"/>
            <a:ext cx="1295280" cy="83844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5791320" y="990720"/>
            <a:ext cx="2133360" cy="457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7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2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"/>
          <p:cNvSpPr/>
          <p:nvPr/>
        </p:nvSpPr>
        <p:spPr>
          <a:xfrm>
            <a:off x="174960" y="76320"/>
            <a:ext cx="3861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W-THOMAS OTA-C BIQUAD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1" name="F11.057_W1144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5896080" cy="2210040"/>
          </a:xfrm>
          <a:prstGeom prst="rect">
            <a:avLst/>
          </a:prstGeom>
          <a:ln w="0">
            <a:noFill/>
          </a:ln>
        </p:spPr>
      </p:pic>
      <p:grpSp>
        <p:nvGrpSpPr>
          <p:cNvPr id="1732" name=""/>
          <p:cNvGrpSpPr/>
          <p:nvPr/>
        </p:nvGrpSpPr>
        <p:grpSpPr>
          <a:xfrm>
            <a:off x="6413400" y="76320"/>
            <a:ext cx="2502000" cy="1307520"/>
            <a:chOff x="6413400" y="76320"/>
            <a:chExt cx="2502000" cy="1307520"/>
          </a:xfrm>
        </p:grpSpPr>
        <p:sp>
          <p:nvSpPr>
            <p:cNvPr id="1733" name=""/>
            <p:cNvSpPr/>
            <p:nvPr/>
          </p:nvSpPr>
          <p:spPr>
            <a:xfrm>
              <a:off x="6457320" y="76320"/>
              <a:ext cx="22730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iquad ~ biquadra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4" name=""/>
                <p:cNvSpPr txBox="1"/>
                <p:nvPr/>
              </p:nvSpPr>
              <p:spPr>
                <a:xfrm>
                  <a:off x="6413400" y="457200"/>
                  <a:ext cx="2502000" cy="92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A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Q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35" name=""/>
              <p:cNvSpPr txBox="1"/>
              <p:nvPr/>
            </p:nvSpPr>
            <p:spPr>
              <a:xfrm>
                <a:off x="152280" y="2514600"/>
                <a:ext cx="1689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sub>
                        </m:sSub>
                      </m:num>
                      <m:den>
                        <m:r>
                          <m:t xml:space="preserve">j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6" name=""/>
              <p:cNvSpPr txBox="1"/>
              <p:nvPr/>
            </p:nvSpPr>
            <p:spPr>
              <a:xfrm>
                <a:off x="2286000" y="2819520"/>
                <a:ext cx="1854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7" name=""/>
              <p:cNvSpPr txBox="1"/>
              <p:nvPr/>
            </p:nvSpPr>
            <p:spPr>
              <a:xfrm>
                <a:off x="4572000" y="2819520"/>
                <a:ext cx="1854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8" name=""/>
              <p:cNvSpPr txBox="1"/>
              <p:nvPr/>
            </p:nvSpPr>
            <p:spPr>
              <a:xfrm>
                <a:off x="5715000" y="1752480"/>
                <a:ext cx="2070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39" name=""/>
          <p:cNvGrpSpPr/>
          <p:nvPr/>
        </p:nvGrpSpPr>
        <p:grpSpPr>
          <a:xfrm>
            <a:off x="3885840" y="1143000"/>
            <a:ext cx="685800" cy="304920"/>
            <a:chOff x="3885840" y="1143000"/>
            <a:chExt cx="685800" cy="304920"/>
          </a:xfrm>
        </p:grpSpPr>
        <p:sp>
          <p:nvSpPr>
            <p:cNvPr id="1740" name=""/>
            <p:cNvSpPr/>
            <p:nvPr/>
          </p:nvSpPr>
          <p:spPr>
            <a:xfrm flipH="1">
              <a:off x="3885840" y="14479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41" name=""/>
                <p:cNvSpPr txBox="1"/>
                <p:nvPr/>
              </p:nvSpPr>
              <p:spPr>
                <a:xfrm>
                  <a:off x="4114800" y="1143000"/>
                  <a:ext cx="252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1955880" y="3200400"/>
                <a:ext cx="523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ur equations and four unknowns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0" y="3429000"/>
                <a:ext cx="37720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5334120" y="3505320"/>
                <a:ext cx="378432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5" name=""/>
              <p:cNvSpPr txBox="1"/>
              <p:nvPr/>
            </p:nvSpPr>
            <p:spPr>
              <a:xfrm>
                <a:off x="279360" y="4876920"/>
                <a:ext cx="4292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746" name=""/>
          <p:cNvSpPr/>
          <p:nvPr/>
        </p:nvSpPr>
        <p:spPr>
          <a:xfrm>
            <a:off x="6858000" y="838080"/>
            <a:ext cx="2133720" cy="5335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7" name=""/>
          <p:cNvGraphicFramePr/>
          <p:nvPr/>
        </p:nvGraphicFramePr>
        <p:xfrm>
          <a:off x="2819520" y="5691240"/>
          <a:ext cx="3133440" cy="785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5691240"/>
                    <a:ext cx="3133440" cy="78588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49" name=""/>
          <p:cNvSpPr/>
          <p:nvPr/>
        </p:nvSpPr>
        <p:spPr>
          <a:xfrm>
            <a:off x="533520" y="4114800"/>
            <a:ext cx="3276360" cy="685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0" name=""/>
              <p:cNvSpPr txBox="1"/>
              <p:nvPr/>
            </p:nvSpPr>
            <p:spPr>
              <a:xfrm>
                <a:off x="6210360" y="4876920"/>
                <a:ext cx="262872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C</m:t>
                                  </m:r>
                                </m:e>
                              </m:rad>
                            </m:e>
                          </m:mr>
                          <m:mr>
                            <m:e>
                              <m:eqArr>
                                <m:e>
                                  <m:r>
                                    <m:t xml:space="preserve">Q</m:t>
                                  </m:r>
                                  <m:r>
                                    <m:t xml:space="preserve">=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W</m:t>
                                  </m:r>
                                  <m:r>
                                    <m:t xml:space="preserve">=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C</m:t>
                                      </m:r>
                                    </m:den>
                                  </m:f>
                                </m:e>
                              </m:eqAr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751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5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5" name="F11.057_W1144" descr=""/>
          <p:cNvPicPr/>
          <p:nvPr/>
        </p:nvPicPr>
        <p:blipFill>
          <a:blip r:embed="rId1"/>
          <a:stretch/>
        </p:blipFill>
        <p:spPr>
          <a:xfrm>
            <a:off x="76320" y="1157400"/>
            <a:ext cx="5895720" cy="2209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56" name=""/>
              <p:cNvSpPr txBox="1"/>
              <p:nvPr/>
            </p:nvSpPr>
            <p:spPr>
              <a:xfrm>
                <a:off x="7035840" y="1143000"/>
                <a:ext cx="210816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7" name=""/>
              <p:cNvSpPr txBox="1"/>
              <p:nvPr/>
            </p:nvSpPr>
            <p:spPr>
              <a:xfrm>
                <a:off x="2481120" y="65160"/>
                <a:ext cx="5932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a band-pass filter with center frequency of 500kHz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ndwidth of 75kHz, and center frequency gain -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8" name=""/>
              <p:cNvSpPr txBox="1"/>
              <p:nvPr/>
            </p:nvSpPr>
            <p:spPr>
              <a:xfrm>
                <a:off x="5359320" y="2567160"/>
                <a:ext cx="37846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9" name=""/>
              <p:cNvSpPr txBox="1"/>
              <p:nvPr/>
            </p:nvSpPr>
            <p:spPr>
              <a:xfrm>
                <a:off x="279360" y="3443400"/>
                <a:ext cx="4292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0" name=""/>
              <p:cNvSpPr txBox="1"/>
              <p:nvPr/>
            </p:nvSpPr>
            <p:spPr>
              <a:xfrm>
                <a:off x="1676520" y="711360"/>
                <a:ext cx="58561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se the Tow-Thomas configuration and 50-pF capacitor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61" name=""/>
          <p:cNvGrpSpPr/>
          <p:nvPr/>
        </p:nvGrpSpPr>
        <p:grpSpPr>
          <a:xfrm>
            <a:off x="1676520" y="3124080"/>
            <a:ext cx="990360" cy="990720"/>
            <a:chOff x="1676520" y="3124080"/>
            <a:chExt cx="990360" cy="990720"/>
          </a:xfrm>
        </p:grpSpPr>
        <p:sp>
          <p:nvSpPr>
            <p:cNvPr id="1762" name=""/>
            <p:cNvSpPr/>
            <p:nvPr/>
          </p:nvSpPr>
          <p:spPr>
            <a:xfrm>
              <a:off x="1676520" y="3124080"/>
              <a:ext cx="990360" cy="9907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680840" y="3124080"/>
              <a:ext cx="51300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4" name=""/>
          <p:cNvSpPr/>
          <p:nvPr/>
        </p:nvSpPr>
        <p:spPr>
          <a:xfrm>
            <a:off x="7238880" y="304920"/>
            <a:ext cx="457200" cy="457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5" name=""/>
          <p:cNvGrpSpPr/>
          <p:nvPr/>
        </p:nvGrpSpPr>
        <p:grpSpPr>
          <a:xfrm>
            <a:off x="7620120" y="2133720"/>
            <a:ext cx="1523880" cy="1066680"/>
            <a:chOff x="7620120" y="2133720"/>
            <a:chExt cx="1523880" cy="1066680"/>
          </a:xfrm>
        </p:grpSpPr>
        <p:sp>
          <p:nvSpPr>
            <p:cNvPr id="1766" name=""/>
            <p:cNvSpPr/>
            <p:nvPr/>
          </p:nvSpPr>
          <p:spPr>
            <a:xfrm>
              <a:off x="7620120" y="2438280"/>
              <a:ext cx="1523880" cy="762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67" name=""/>
                <p:cNvSpPr txBox="1"/>
                <p:nvPr/>
              </p:nvSpPr>
              <p:spPr>
                <a:xfrm>
                  <a:off x="8496360" y="2133720"/>
                  <a:ext cx="647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68" name=""/>
          <p:cNvSpPr/>
          <p:nvPr/>
        </p:nvSpPr>
        <p:spPr>
          <a:xfrm>
            <a:off x="3809880" y="304920"/>
            <a:ext cx="762120" cy="3808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9" name=""/>
              <p:cNvSpPr txBox="1"/>
              <p:nvPr/>
            </p:nvSpPr>
            <p:spPr>
              <a:xfrm>
                <a:off x="228600" y="4952880"/>
                <a:ext cx="1536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0" name=""/>
          <p:cNvSpPr/>
          <p:nvPr/>
        </p:nvSpPr>
        <p:spPr>
          <a:xfrm>
            <a:off x="6421320" y="2449440"/>
            <a:ext cx="1995480" cy="1623960"/>
          </a:xfrm>
          <a:custGeom>
            <a:avLst/>
            <a:gdLst/>
            <a:ahLst/>
            <a:rect l="l" t="t" r="r" b="b"/>
            <a:pathLst>
              <a:path w="1257" h="1023">
                <a:moveTo>
                  <a:pt x="514" y="94"/>
                </a:moveTo>
                <a:cubicBezTo>
                  <a:pt x="399" y="35"/>
                  <a:pt x="250" y="22"/>
                  <a:pt x="124" y="0"/>
                </a:cubicBezTo>
                <a:cubicBezTo>
                  <a:pt x="101" y="16"/>
                  <a:pt x="75" y="28"/>
                  <a:pt x="54" y="47"/>
                </a:cubicBezTo>
                <a:cubicBezTo>
                  <a:pt x="28" y="70"/>
                  <a:pt x="24" y="138"/>
                  <a:pt x="15" y="171"/>
                </a:cubicBezTo>
                <a:cubicBezTo>
                  <a:pt x="5" y="252"/>
                  <a:pt x="0" y="260"/>
                  <a:pt x="15" y="359"/>
                </a:cubicBezTo>
                <a:cubicBezTo>
                  <a:pt x="17" y="370"/>
                  <a:pt x="26" y="379"/>
                  <a:pt x="31" y="390"/>
                </a:cubicBezTo>
                <a:cubicBezTo>
                  <a:pt x="34" y="397"/>
                  <a:pt x="31" y="409"/>
                  <a:pt x="38" y="413"/>
                </a:cubicBezTo>
                <a:cubicBezTo>
                  <a:pt x="54" y="423"/>
                  <a:pt x="75" y="424"/>
                  <a:pt x="93" y="429"/>
                </a:cubicBezTo>
                <a:cubicBezTo>
                  <a:pt x="115" y="444"/>
                  <a:pt x="142" y="452"/>
                  <a:pt x="163" y="468"/>
                </a:cubicBezTo>
                <a:cubicBezTo>
                  <a:pt x="183" y="484"/>
                  <a:pt x="194" y="512"/>
                  <a:pt x="218" y="522"/>
                </a:cubicBezTo>
                <a:cubicBezTo>
                  <a:pt x="264" y="541"/>
                  <a:pt x="317" y="531"/>
                  <a:pt x="366" y="538"/>
                </a:cubicBezTo>
                <a:cubicBezTo>
                  <a:pt x="467" y="533"/>
                  <a:pt x="584" y="513"/>
                  <a:pt x="685" y="530"/>
                </a:cubicBezTo>
                <a:cubicBezTo>
                  <a:pt x="687" y="592"/>
                  <a:pt x="674" y="760"/>
                  <a:pt x="716" y="834"/>
                </a:cubicBezTo>
                <a:cubicBezTo>
                  <a:pt x="718" y="837"/>
                  <a:pt x="740" y="884"/>
                  <a:pt x="747" y="888"/>
                </a:cubicBezTo>
                <a:cubicBezTo>
                  <a:pt x="799" y="921"/>
                  <a:pt x="784" y="887"/>
                  <a:pt x="825" y="920"/>
                </a:cubicBezTo>
                <a:cubicBezTo>
                  <a:pt x="938" y="1009"/>
                  <a:pt x="857" y="985"/>
                  <a:pt x="981" y="998"/>
                </a:cubicBezTo>
                <a:cubicBezTo>
                  <a:pt x="1084" y="1023"/>
                  <a:pt x="1111" y="1019"/>
                  <a:pt x="1231" y="1005"/>
                </a:cubicBezTo>
                <a:cubicBezTo>
                  <a:pt x="1244" y="861"/>
                  <a:pt x="1246" y="856"/>
                  <a:pt x="1246" y="647"/>
                </a:cubicBezTo>
                <a:cubicBezTo>
                  <a:pt x="1246" y="616"/>
                  <a:pt x="1257" y="578"/>
                  <a:pt x="1238" y="553"/>
                </a:cubicBezTo>
                <a:cubicBezTo>
                  <a:pt x="1200" y="501"/>
                  <a:pt x="875" y="507"/>
                  <a:pt x="872" y="507"/>
                </a:cubicBezTo>
                <a:cubicBezTo>
                  <a:pt x="839" y="504"/>
                  <a:pt x="732" y="497"/>
                  <a:pt x="693" y="491"/>
                </a:cubicBezTo>
                <a:cubicBezTo>
                  <a:pt x="644" y="484"/>
                  <a:pt x="593" y="461"/>
                  <a:pt x="545" y="452"/>
                </a:cubicBezTo>
                <a:cubicBezTo>
                  <a:pt x="451" y="435"/>
                  <a:pt x="489" y="464"/>
                  <a:pt x="451" y="429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228600" y="3429000"/>
            <a:ext cx="1447920" cy="685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543800" y="0"/>
            <a:ext cx="914400" cy="3808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3" name=""/>
              <p:cNvSpPr txBox="1"/>
              <p:nvPr/>
            </p:nvSpPr>
            <p:spPr>
              <a:xfrm>
                <a:off x="5562720" y="4191120"/>
                <a:ext cx="3073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(</m:t>
                    </m:r>
                    <m:r>
                      <m:t xml:space="preserve">jω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74" name=""/>
          <p:cNvGrpSpPr/>
          <p:nvPr/>
        </p:nvGrpSpPr>
        <p:grpSpPr>
          <a:xfrm>
            <a:off x="5715000" y="685800"/>
            <a:ext cx="2855880" cy="380880"/>
            <a:chOff x="5715000" y="685800"/>
            <a:chExt cx="2855880" cy="380880"/>
          </a:xfrm>
        </p:grpSpPr>
        <p:sp>
          <p:nvSpPr>
            <p:cNvPr id="1775" name=""/>
            <p:cNvSpPr/>
            <p:nvPr/>
          </p:nvSpPr>
          <p:spPr>
            <a:xfrm>
              <a:off x="5715000" y="685800"/>
              <a:ext cx="1905120" cy="3808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6" name=""/>
                <p:cNvSpPr txBox="1"/>
                <p:nvPr/>
              </p:nvSpPr>
              <p:spPr>
                <a:xfrm>
                  <a:off x="7848720" y="762120"/>
                  <a:ext cx="722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77" name=""/>
              <p:cNvSpPr txBox="1"/>
              <p:nvPr/>
            </p:nvSpPr>
            <p:spPr>
              <a:xfrm>
                <a:off x="228600" y="4343400"/>
                <a:ext cx="3962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μ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8" name=""/>
              <p:cNvSpPr txBox="1"/>
              <p:nvPr/>
            </p:nvSpPr>
            <p:spPr>
              <a:xfrm>
                <a:off x="1828800" y="5105520"/>
                <a:ext cx="2006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μ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79" name=""/>
          <p:cNvGrpSpPr/>
          <p:nvPr/>
        </p:nvGrpSpPr>
        <p:grpSpPr>
          <a:xfrm>
            <a:off x="228600" y="5587920"/>
            <a:ext cx="5486400" cy="660240"/>
            <a:chOff x="228600" y="5587920"/>
            <a:chExt cx="5486400" cy="660240"/>
          </a:xfrm>
        </p:grpSpPr>
        <mc:AlternateContent>
          <mc:Choice xmlns:a14="http://schemas.microsoft.com/office/drawing/2010/main" Requires="a14">
            <p:sp>
              <p:nvSpPr>
                <p:cNvPr id="1780" name=""/>
                <p:cNvSpPr txBox="1"/>
                <p:nvPr/>
              </p:nvSpPr>
              <p:spPr>
                <a:xfrm>
                  <a:off x="228600" y="5587920"/>
                  <a:ext cx="384840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  <m:r>
                                <m:t xml:space="preserve">×</m:t>
                              </m:r>
                              <m:r>
                                <m:t xml:space="preserve">5</m:t>
                              </m:r>
                              <m:r>
                                <m:t xml:space="preserve">×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5</m:t>
                                  </m:r>
                                </m:sup>
                              </m:sSup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×</m:t>
                          </m:r>
                          <m:r>
                            <m:rPr>
                              <m:lit/>
                              <m:nor/>
                            </m:rPr>
                            <m:t xml:space="preserve">11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sup>
                          </m:sSup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5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81" name=""/>
                <p:cNvSpPr txBox="1"/>
                <p:nvPr/>
              </p:nvSpPr>
              <p:spPr>
                <a:xfrm>
                  <a:off x="4038840" y="5816520"/>
                  <a:ext cx="1676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μS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82" name=""/>
              <p:cNvSpPr txBox="1"/>
              <p:nvPr/>
            </p:nvSpPr>
            <p:spPr>
              <a:xfrm>
                <a:off x="5943600" y="5105520"/>
                <a:ext cx="157464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μ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9</m:t>
                        </m:r>
                        <m:r>
                          <m:t xml:space="preserve">μ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783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8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6" name="F11.058_W1145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172200" cy="3951000"/>
          </a:xfrm>
          <a:prstGeom prst="rect">
            <a:avLst/>
          </a:prstGeom>
          <a:ln w="0">
            <a:noFill/>
          </a:ln>
        </p:spPr>
      </p:pic>
      <p:sp>
        <p:nvSpPr>
          <p:cNvPr id="1787" name=""/>
          <p:cNvSpPr/>
          <p:nvPr/>
        </p:nvSpPr>
        <p:spPr>
          <a:xfrm>
            <a:off x="2809440" y="668160"/>
            <a:ext cx="3547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ode plots for resul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8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8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2" name="F11.059A_W1146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4010040" cy="2314800"/>
          </a:xfrm>
          <a:prstGeom prst="rect">
            <a:avLst/>
          </a:prstGeom>
          <a:ln w="0">
            <a:noFill/>
          </a:ln>
        </p:spPr>
      </p:pic>
      <p:sp>
        <p:nvSpPr>
          <p:cNvPr id="1793" name=""/>
          <p:cNvSpPr/>
          <p:nvPr/>
        </p:nvSpPr>
        <p:spPr>
          <a:xfrm>
            <a:off x="3300840" y="58680"/>
            <a:ext cx="4623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a low-pass filter to reduce 60Hz rip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4" name=""/>
          <p:cNvGrpSpPr/>
          <p:nvPr/>
        </p:nvGrpSpPr>
        <p:grpSpPr>
          <a:xfrm>
            <a:off x="609480" y="3276720"/>
            <a:ext cx="3432600" cy="3001320"/>
            <a:chOff x="609480" y="3276720"/>
            <a:chExt cx="3432600" cy="3001320"/>
          </a:xfrm>
        </p:grpSpPr>
        <p:pic>
          <p:nvPicPr>
            <p:cNvPr id="1795" name="F11.059B_W1146" descr=""/>
            <p:cNvPicPr/>
            <p:nvPr/>
          </p:nvPicPr>
          <p:blipFill>
            <a:blip r:embed="rId2"/>
            <a:stretch/>
          </p:blipFill>
          <p:spPr>
            <a:xfrm>
              <a:off x="609480" y="3276720"/>
              <a:ext cx="2352960" cy="26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6" name=""/>
            <p:cNvSpPr/>
            <p:nvPr/>
          </p:nvSpPr>
          <p:spPr>
            <a:xfrm>
              <a:off x="755280" y="5697360"/>
              <a:ext cx="32868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venin equivalent for AC/D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7" name=""/>
          <p:cNvGrpSpPr/>
          <p:nvPr/>
        </p:nvGrpSpPr>
        <p:grpSpPr>
          <a:xfrm>
            <a:off x="5105520" y="762120"/>
            <a:ext cx="3605400" cy="2257200"/>
            <a:chOff x="5105520" y="762120"/>
            <a:chExt cx="3605400" cy="2257200"/>
          </a:xfrm>
        </p:grpSpPr>
        <p:pic>
          <p:nvPicPr>
            <p:cNvPr id="1798" name="F11.059C_W1146" descr=""/>
            <p:cNvPicPr/>
            <p:nvPr/>
          </p:nvPicPr>
          <p:blipFill>
            <a:blip r:embed="rId3"/>
            <a:stretch/>
          </p:blipFill>
          <p:spPr>
            <a:xfrm>
              <a:off x="5105520" y="762120"/>
              <a:ext cx="2619360" cy="22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9" name=""/>
            <p:cNvSpPr/>
            <p:nvPr/>
          </p:nvSpPr>
          <p:spPr>
            <a:xfrm>
              <a:off x="5155920" y="2390760"/>
              <a:ext cx="3555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a capacitor to create a low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0" name=""/>
          <p:cNvSpPr/>
          <p:nvPr/>
        </p:nvSpPr>
        <p:spPr>
          <a:xfrm>
            <a:off x="4412520" y="4419720"/>
            <a:ext cx="46414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 criterion: place the corner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least a decade l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1" name=""/>
              <p:cNvSpPr txBox="1"/>
              <p:nvPr/>
            </p:nvSpPr>
            <p:spPr>
              <a:xfrm>
                <a:off x="5105520" y="3048120"/>
                <a:ext cx="2120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C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2" name=""/>
              <p:cNvSpPr txBox="1"/>
              <p:nvPr/>
            </p:nvSpPr>
            <p:spPr>
              <a:xfrm>
                <a:off x="5105520" y="3657600"/>
                <a:ext cx="2146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ω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H</m:t>
                                        </m:r>
                                      </m:sub>
                                    </m:sSub>
                                    <m:r>
                                      <m:t xml:space="preserve">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3" name=""/>
              <p:cNvSpPr txBox="1"/>
              <p:nvPr/>
            </p:nvSpPr>
            <p:spPr>
              <a:xfrm>
                <a:off x="7467480" y="3276720"/>
                <a:ext cx="1130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4" name=""/>
              <p:cNvSpPr txBox="1"/>
              <p:nvPr/>
            </p:nvSpPr>
            <p:spPr>
              <a:xfrm>
                <a:off x="5791320" y="4967280"/>
                <a:ext cx="1562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5" name=""/>
              <p:cNvSpPr txBox="1"/>
              <p:nvPr/>
            </p:nvSpPr>
            <p:spPr>
              <a:xfrm>
                <a:off x="5334120" y="5410080"/>
                <a:ext cx="29336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06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0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80480" y="76320"/>
            <a:ext cx="2881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possible stereo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F11.006_W1085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4267440" cy="3003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555720" y="685800"/>
            <a:ext cx="3475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red frequency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flat between 50Hz and 15KH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F11.007A_W1086" descr=""/>
          <p:cNvPicPr/>
          <p:nvPr/>
        </p:nvPicPr>
        <p:blipFill>
          <a:blip r:embed="rId2"/>
          <a:stretch/>
        </p:blipFill>
        <p:spPr>
          <a:xfrm>
            <a:off x="304920" y="4114800"/>
            <a:ext cx="4572000" cy="22305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042520" y="4249800"/>
            <a:ext cx="2309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stulated amplifi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35280" y="2895480"/>
            <a:ext cx="2186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g frequency sc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9" name="F11.059D_W1146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5943600" cy="4267440"/>
          </a:xfrm>
          <a:prstGeom prst="rect">
            <a:avLst/>
          </a:prstGeom>
          <a:ln w="0">
            <a:noFill/>
          </a:ln>
        </p:spPr>
      </p:pic>
      <p:sp>
        <p:nvSpPr>
          <p:cNvPr id="1810" name=""/>
          <p:cNvSpPr/>
          <p:nvPr/>
        </p:nvSpPr>
        <p:spPr>
          <a:xfrm>
            <a:off x="5254560" y="1370160"/>
            <a:ext cx="0" cy="182880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4965120" y="990720"/>
            <a:ext cx="171396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ltered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2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1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2559960" y="58680"/>
            <a:ext cx="4101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gle stage tuned transistor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7" name="F11.060A_W1147" descr=""/>
          <p:cNvPicPr/>
          <p:nvPr/>
        </p:nvPicPr>
        <p:blipFill>
          <a:blip r:embed="rId1"/>
          <a:stretch/>
        </p:blipFill>
        <p:spPr>
          <a:xfrm>
            <a:off x="19080" y="609480"/>
            <a:ext cx="5467320" cy="1895760"/>
          </a:xfrm>
          <a:prstGeom prst="rect">
            <a:avLst/>
          </a:prstGeom>
          <a:ln w="0">
            <a:noFill/>
          </a:ln>
        </p:spPr>
      </p:pic>
      <p:sp>
        <p:nvSpPr>
          <p:cNvPr id="1818" name=""/>
          <p:cNvSpPr/>
          <p:nvPr/>
        </p:nvSpPr>
        <p:spPr>
          <a:xfrm>
            <a:off x="5522400" y="439560"/>
            <a:ext cx="3615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ect the capacitor for 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ain at 91.1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9" name=""/>
          <p:cNvGrpSpPr/>
          <p:nvPr/>
        </p:nvGrpSpPr>
        <p:grpSpPr>
          <a:xfrm>
            <a:off x="0" y="455760"/>
            <a:ext cx="1064520" cy="2030040"/>
            <a:chOff x="0" y="455760"/>
            <a:chExt cx="1064520" cy="2030040"/>
          </a:xfrm>
        </p:grpSpPr>
        <p:sp>
          <p:nvSpPr>
            <p:cNvPr id="1820" name=""/>
            <p:cNvSpPr/>
            <p:nvPr/>
          </p:nvSpPr>
          <p:spPr>
            <a:xfrm>
              <a:off x="15120" y="1905120"/>
              <a:ext cx="104940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ten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0" y="455760"/>
              <a:ext cx="685800" cy="1444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2" name=""/>
          <p:cNvSpPr/>
          <p:nvPr/>
        </p:nvSpPr>
        <p:spPr>
          <a:xfrm>
            <a:off x="1107360" y="2000160"/>
            <a:ext cx="121248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2706480" y="2000160"/>
            <a:ext cx="261612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allel resonant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4" name=""/>
              <p:cNvSpPr txBox="1"/>
              <p:nvPr/>
            </p:nvSpPr>
            <p:spPr>
              <a:xfrm>
                <a:off x="228600" y="2590920"/>
                <a:ext cx="2908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jωL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jω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5" name=""/>
              <p:cNvSpPr txBox="1"/>
              <p:nvPr/>
            </p:nvSpPr>
            <p:spPr>
              <a:xfrm>
                <a:off x="228600" y="3276720"/>
                <a:ext cx="3441600" cy="17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L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jωC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</m:den>
                        </m:f>
                      </m:e>
                      <m:e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</m:den>
                        </m:f>
                        <m:f>
                          <m:num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RC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26" name=""/>
          <p:cNvSpPr/>
          <p:nvPr/>
        </p:nvSpPr>
        <p:spPr>
          <a:xfrm>
            <a:off x="228600" y="4191120"/>
            <a:ext cx="3581280" cy="9144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7" name=""/>
              <p:cNvSpPr txBox="1"/>
              <p:nvPr/>
            </p:nvSpPr>
            <p:spPr>
              <a:xfrm>
                <a:off x="50760" y="5087880"/>
                <a:ext cx="414036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and-pass with center frequency 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8" name=""/>
              <p:cNvSpPr txBox="1"/>
              <p:nvPr/>
            </p:nvSpPr>
            <p:spPr>
              <a:xfrm>
                <a:off x="95400" y="5410080"/>
                <a:ext cx="2539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C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9" name=""/>
              <p:cNvSpPr txBox="1"/>
              <p:nvPr/>
            </p:nvSpPr>
            <p:spPr>
              <a:xfrm>
                <a:off x="2666880" y="5526000"/>
                <a:ext cx="11559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0" name=""/>
              <p:cNvSpPr txBox="1"/>
              <p:nvPr/>
            </p:nvSpPr>
            <p:spPr>
              <a:xfrm>
                <a:off x="228600" y="6019920"/>
                <a:ext cx="2921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31" name=""/>
          <p:cNvGrpSpPr/>
          <p:nvPr/>
        </p:nvGrpSpPr>
        <p:grpSpPr>
          <a:xfrm>
            <a:off x="4191120" y="2514600"/>
            <a:ext cx="4952880" cy="3610080"/>
            <a:chOff x="4191120" y="2514600"/>
            <a:chExt cx="4952880" cy="3610080"/>
          </a:xfrm>
        </p:grpSpPr>
        <p:pic>
          <p:nvPicPr>
            <p:cNvPr id="1832" name="F11.060B_W1147" descr=""/>
            <p:cNvPicPr/>
            <p:nvPr/>
          </p:nvPicPr>
          <p:blipFill>
            <a:blip r:embed="rId2"/>
            <a:stretch/>
          </p:blipFill>
          <p:spPr>
            <a:xfrm>
              <a:off x="4191120" y="2567160"/>
              <a:ext cx="4952880" cy="3557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833" name=""/>
                <p:cNvSpPr txBox="1"/>
                <p:nvPr/>
              </p:nvSpPr>
              <p:spPr>
                <a:xfrm>
                  <a:off x="5257800" y="2514600"/>
                  <a:ext cx="298440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agnitude Bode plot for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834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3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"/>
          <p:cNvSpPr/>
          <p:nvPr/>
        </p:nvSpPr>
        <p:spPr>
          <a:xfrm>
            <a:off x="110880" y="7632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2618280" y="76320"/>
            <a:ext cx="2018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ti-aliasing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579960" y="515880"/>
            <a:ext cx="786024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yquist Criter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digitizing an analog signal, such as music, any frequency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eater than half the sampling rate will be distor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308880" y="1371600"/>
            <a:ext cx="8340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fact they may appear as spurious components.  The phenomenon is known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ias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575280" y="1963800"/>
            <a:ext cx="8321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: Filter the signal before digitizing, and remove all components hig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an half the sampling rate. Such a filter is an anti-aliasing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784800" y="2649600"/>
            <a:ext cx="7605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CD recording the industry standard is to sample at 44.1kH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anti-aliasing filter will be a low-pass with cutoff frequency of 22.05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3" name=""/>
          <p:cNvGrpSpPr/>
          <p:nvPr/>
        </p:nvGrpSpPr>
        <p:grpSpPr>
          <a:xfrm>
            <a:off x="76320" y="3429000"/>
            <a:ext cx="2831400" cy="1876320"/>
            <a:chOff x="76320" y="3429000"/>
            <a:chExt cx="2831400" cy="1876320"/>
          </a:xfrm>
        </p:grpSpPr>
        <p:sp>
          <p:nvSpPr>
            <p:cNvPr id="1844" name=""/>
            <p:cNvSpPr/>
            <p:nvPr/>
          </p:nvSpPr>
          <p:spPr>
            <a:xfrm>
              <a:off x="120960" y="3429000"/>
              <a:ext cx="27867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ngle-pole low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5" name="F11.061_W1148" descr=""/>
            <p:cNvPicPr/>
            <p:nvPr/>
          </p:nvPicPr>
          <p:blipFill>
            <a:blip r:embed="rId1"/>
            <a:stretch/>
          </p:blipFill>
          <p:spPr>
            <a:xfrm>
              <a:off x="76320" y="3809880"/>
              <a:ext cx="2514600" cy="149544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846" name=""/>
              <p:cNvSpPr txBox="1"/>
              <p:nvPr/>
            </p:nvSpPr>
            <p:spPr>
              <a:xfrm>
                <a:off x="2895480" y="4267080"/>
                <a:ext cx="1473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7" name=""/>
              <p:cNvSpPr txBox="1"/>
              <p:nvPr/>
            </p:nvSpPr>
            <p:spPr>
              <a:xfrm>
                <a:off x="380880" y="5334120"/>
                <a:ext cx="2210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8" name=""/>
              <p:cNvSpPr txBox="1"/>
              <p:nvPr/>
            </p:nvSpPr>
            <p:spPr>
              <a:xfrm>
                <a:off x="304920" y="6095880"/>
                <a:ext cx="2336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nF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49" name=""/>
          <p:cNvGrpSpPr/>
          <p:nvPr/>
        </p:nvGrpSpPr>
        <p:grpSpPr>
          <a:xfrm>
            <a:off x="4572000" y="3429000"/>
            <a:ext cx="4476600" cy="3171960"/>
            <a:chOff x="4572000" y="3429000"/>
            <a:chExt cx="4476600" cy="3171960"/>
          </a:xfrm>
        </p:grpSpPr>
        <p:pic>
          <p:nvPicPr>
            <p:cNvPr id="1850" name="F11.062_W1149" descr=""/>
            <p:cNvPicPr/>
            <p:nvPr/>
          </p:nvPicPr>
          <p:blipFill>
            <a:blip r:embed="rId2"/>
            <a:stretch/>
          </p:blipFill>
          <p:spPr>
            <a:xfrm>
              <a:off x="4572000" y="3429000"/>
              <a:ext cx="4476600" cy="31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1" name=""/>
            <p:cNvSpPr/>
            <p:nvPr/>
          </p:nvSpPr>
          <p:spPr>
            <a:xfrm>
              <a:off x="5541840" y="3639960"/>
              <a:ext cx="33292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ulting magnitude Bode pl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2" name=""/>
          <p:cNvGrpSpPr/>
          <p:nvPr/>
        </p:nvGrpSpPr>
        <p:grpSpPr>
          <a:xfrm>
            <a:off x="5586840" y="3911760"/>
            <a:ext cx="2063160" cy="2147760"/>
            <a:chOff x="5586840" y="3911760"/>
            <a:chExt cx="2063160" cy="2147760"/>
          </a:xfrm>
        </p:grpSpPr>
        <p:sp>
          <p:nvSpPr>
            <p:cNvPr id="1853" name=""/>
            <p:cNvSpPr/>
            <p:nvPr/>
          </p:nvSpPr>
          <p:spPr>
            <a:xfrm>
              <a:off x="6380280" y="3911760"/>
              <a:ext cx="1269720" cy="2147760"/>
            </a:xfrm>
            <a:custGeom>
              <a:avLst/>
              <a:gdLst/>
              <a:ahLst/>
              <a:rect l="l" t="t" r="r" b="b"/>
              <a:pathLst>
                <a:path w="803" h="1353">
                  <a:moveTo>
                    <a:pt x="701" y="1353"/>
                  </a:moveTo>
                  <a:cubicBezTo>
                    <a:pt x="724" y="1148"/>
                    <a:pt x="760" y="943"/>
                    <a:pt x="779" y="737"/>
                  </a:cubicBezTo>
                  <a:cubicBezTo>
                    <a:pt x="789" y="628"/>
                    <a:pt x="792" y="519"/>
                    <a:pt x="803" y="410"/>
                  </a:cubicBezTo>
                  <a:cubicBezTo>
                    <a:pt x="772" y="306"/>
                    <a:pt x="759" y="195"/>
                    <a:pt x="709" y="98"/>
                  </a:cubicBezTo>
                  <a:cubicBezTo>
                    <a:pt x="697" y="74"/>
                    <a:pt x="657" y="82"/>
                    <a:pt x="631" y="75"/>
                  </a:cubicBezTo>
                  <a:cubicBezTo>
                    <a:pt x="544" y="53"/>
                    <a:pt x="454" y="43"/>
                    <a:pt x="366" y="28"/>
                  </a:cubicBezTo>
                  <a:cubicBezTo>
                    <a:pt x="280" y="31"/>
                    <a:pt x="187" y="0"/>
                    <a:pt x="109" y="36"/>
                  </a:cubicBezTo>
                  <a:cubicBezTo>
                    <a:pt x="70" y="54"/>
                    <a:pt x="88" y="119"/>
                    <a:pt x="78" y="160"/>
                  </a:cubicBezTo>
                  <a:cubicBezTo>
                    <a:pt x="62" y="225"/>
                    <a:pt x="50" y="289"/>
                    <a:pt x="39" y="355"/>
                  </a:cubicBezTo>
                  <a:cubicBezTo>
                    <a:pt x="36" y="443"/>
                    <a:pt x="0" y="831"/>
                    <a:pt x="70" y="877"/>
                  </a:cubicBezTo>
                  <a:cubicBezTo>
                    <a:pt x="116" y="946"/>
                    <a:pt x="185" y="1003"/>
                    <a:pt x="265" y="1025"/>
                  </a:cubicBezTo>
                  <a:cubicBezTo>
                    <a:pt x="318" y="1102"/>
                    <a:pt x="373" y="1200"/>
                    <a:pt x="460" y="124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586840" y="4753080"/>
              <a:ext cx="1646640" cy="5806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ttenu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audio 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55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5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8" name="F11.065_W1152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495680" cy="3143160"/>
          </a:xfrm>
          <a:prstGeom prst="rect">
            <a:avLst/>
          </a:prstGeom>
          <a:ln w="0">
            <a:noFill/>
          </a:ln>
        </p:spPr>
      </p:pic>
      <p:sp>
        <p:nvSpPr>
          <p:cNvPr id="1859" name=""/>
          <p:cNvSpPr/>
          <p:nvPr/>
        </p:nvSpPr>
        <p:spPr>
          <a:xfrm>
            <a:off x="115200" y="76320"/>
            <a:ext cx="3041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roved anti-aliasing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383280" y="58680"/>
            <a:ext cx="270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-stage buffered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1" name="F11.063_W1150" descr=""/>
          <p:cNvPicPr/>
          <p:nvPr/>
        </p:nvPicPr>
        <p:blipFill>
          <a:blip r:embed="rId2"/>
          <a:stretch/>
        </p:blipFill>
        <p:spPr>
          <a:xfrm>
            <a:off x="152280" y="533520"/>
            <a:ext cx="4562640" cy="1542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1906560" y="990720"/>
                <a:ext cx="3031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3" name=""/>
              <p:cNvSpPr txBox="1"/>
              <p:nvPr/>
            </p:nvSpPr>
            <p:spPr>
              <a:xfrm>
                <a:off x="2057400" y="2209680"/>
                <a:ext cx="1486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4" name=""/>
              <p:cNvSpPr txBox="1"/>
              <p:nvPr/>
            </p:nvSpPr>
            <p:spPr>
              <a:xfrm>
                <a:off x="304920" y="2209680"/>
                <a:ext cx="1473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5" name=""/>
          <p:cNvSpPr/>
          <p:nvPr/>
        </p:nvSpPr>
        <p:spPr>
          <a:xfrm>
            <a:off x="4572000" y="457200"/>
            <a:ext cx="914400" cy="0"/>
          </a:xfrm>
          <a:prstGeom prst="line">
            <a:avLst/>
          </a:prstGeom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6" name="F11.064_W1151" descr=""/>
          <p:cNvPicPr/>
          <p:nvPr/>
        </p:nvPicPr>
        <p:blipFill>
          <a:blip r:embed="rId3"/>
          <a:stretch/>
        </p:blipFill>
        <p:spPr>
          <a:xfrm>
            <a:off x="76320" y="3124080"/>
            <a:ext cx="4495680" cy="3229200"/>
          </a:xfrm>
          <a:prstGeom prst="rect">
            <a:avLst/>
          </a:prstGeom>
          <a:ln w="0">
            <a:noFill/>
          </a:ln>
        </p:spPr>
      </p:pic>
      <p:grpSp>
        <p:nvGrpSpPr>
          <p:cNvPr id="1867" name=""/>
          <p:cNvGrpSpPr/>
          <p:nvPr/>
        </p:nvGrpSpPr>
        <p:grpSpPr>
          <a:xfrm>
            <a:off x="3428640" y="4325760"/>
            <a:ext cx="1299960" cy="627120"/>
            <a:chOff x="3428640" y="4325760"/>
            <a:chExt cx="1299960" cy="627120"/>
          </a:xfrm>
        </p:grpSpPr>
        <p:sp>
          <p:nvSpPr>
            <p:cNvPr id="1868" name=""/>
            <p:cNvSpPr/>
            <p:nvPr/>
          </p:nvSpPr>
          <p:spPr>
            <a:xfrm>
              <a:off x="3508560" y="4325760"/>
              <a:ext cx="12200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ne-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H="1">
              <a:off x="3428640" y="4724280"/>
              <a:ext cx="68580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0" name=""/>
          <p:cNvGrpSpPr/>
          <p:nvPr/>
        </p:nvGrpSpPr>
        <p:grpSpPr>
          <a:xfrm>
            <a:off x="2530080" y="3411360"/>
            <a:ext cx="1221480" cy="627120"/>
            <a:chOff x="2530080" y="3411360"/>
            <a:chExt cx="1221480" cy="627120"/>
          </a:xfrm>
        </p:grpSpPr>
        <p:sp>
          <p:nvSpPr>
            <p:cNvPr id="1871" name=""/>
            <p:cNvSpPr/>
            <p:nvPr/>
          </p:nvSpPr>
          <p:spPr>
            <a:xfrm>
              <a:off x="2530080" y="3411360"/>
              <a:ext cx="12214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wo-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H="1">
              <a:off x="2819520" y="3809880"/>
              <a:ext cx="30456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3" name=""/>
          <p:cNvGrpSpPr/>
          <p:nvPr/>
        </p:nvGrpSpPr>
        <p:grpSpPr>
          <a:xfrm>
            <a:off x="7338600" y="2133720"/>
            <a:ext cx="1265760" cy="685800"/>
            <a:chOff x="7338600" y="2133720"/>
            <a:chExt cx="1265760" cy="685800"/>
          </a:xfrm>
        </p:grpSpPr>
        <p:sp>
          <p:nvSpPr>
            <p:cNvPr id="1874" name=""/>
            <p:cNvSpPr/>
            <p:nvPr/>
          </p:nvSpPr>
          <p:spPr>
            <a:xfrm>
              <a:off x="7338600" y="2133720"/>
              <a:ext cx="12657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ur-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H="1">
              <a:off x="7467480" y="2590920"/>
              <a:ext cx="45720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76" name=""/>
              <p:cNvSpPr txBox="1"/>
              <p:nvPr/>
            </p:nvSpPr>
            <p:spPr>
              <a:xfrm>
                <a:off x="6248520" y="838080"/>
                <a:ext cx="17524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-stage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877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7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0" name=""/>
          <p:cNvGrpSpPr/>
          <p:nvPr/>
        </p:nvGrpSpPr>
        <p:grpSpPr>
          <a:xfrm>
            <a:off x="4724280" y="2743200"/>
            <a:ext cx="4419720" cy="3772080"/>
            <a:chOff x="4724280" y="2743200"/>
            <a:chExt cx="4419720" cy="3772080"/>
          </a:xfrm>
        </p:grpSpPr>
        <p:pic>
          <p:nvPicPr>
            <p:cNvPr id="1881" name="F11.066E_W1153" descr=""/>
            <p:cNvPicPr/>
            <p:nvPr/>
          </p:nvPicPr>
          <p:blipFill>
            <a:blip r:embed="rId1"/>
            <a:stretch/>
          </p:blipFill>
          <p:spPr>
            <a:xfrm>
              <a:off x="4724280" y="2743200"/>
              <a:ext cx="4419720" cy="37720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882" name=""/>
                <p:cNvSpPr txBox="1"/>
                <p:nvPr/>
              </p:nvSpPr>
              <p:spPr>
                <a:xfrm>
                  <a:off x="7315200" y="4343400"/>
                  <a:ext cx="132084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μ</m:t>
                          </m:r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</m:e>
                        <m:e>
                          <m:r>
                            <m:t xml:space="preserve">L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704</m:t>
                          </m:r>
                          <m:r>
                            <m:rPr>
                              <m:lit/>
                              <m:nor/>
                            </m:rPr>
                            <m:t xml:space="preserve">mH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883" name=""/>
            <p:cNvSpPr/>
            <p:nvPr/>
          </p:nvSpPr>
          <p:spPr>
            <a:xfrm>
              <a:off x="5644080" y="2954160"/>
              <a:ext cx="2305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gnitude Bode pl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84" name="F11.066D_W1153" descr=""/>
          <p:cNvPicPr/>
          <p:nvPr/>
        </p:nvPicPr>
        <p:blipFill>
          <a:blip r:embed="rId2"/>
          <a:stretch/>
        </p:blipFill>
        <p:spPr>
          <a:xfrm>
            <a:off x="219240" y="2133720"/>
            <a:ext cx="4352760" cy="2000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85" name=""/>
              <p:cNvSpPr txBox="1"/>
              <p:nvPr/>
            </p:nvSpPr>
            <p:spPr>
              <a:xfrm>
                <a:off x="609480" y="3886200"/>
                <a:ext cx="30736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p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pe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6" name=""/>
              <p:cNvSpPr txBox="1"/>
              <p:nvPr/>
            </p:nvSpPr>
            <p:spPr>
              <a:xfrm>
                <a:off x="0" y="4572000"/>
                <a:ext cx="455940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p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pe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L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mp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ape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7" name=""/>
              <p:cNvSpPr txBox="1"/>
              <p:nvPr/>
            </p:nvSpPr>
            <p:spPr>
              <a:xfrm>
                <a:off x="0" y="6095880"/>
                <a:ext cx="24004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ch frequenc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8" name=""/>
          <p:cNvSpPr/>
          <p:nvPr/>
        </p:nvSpPr>
        <p:spPr>
          <a:xfrm>
            <a:off x="2599920" y="6140520"/>
            <a:ext cx="53852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design, pick one, e.g., C and determine the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171000" y="5868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2709360" y="76320"/>
            <a:ext cx="3699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ch filter to eliminate 60Hz h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1" name="F11.066C_W1153" descr=""/>
          <p:cNvPicPr/>
          <p:nvPr/>
        </p:nvPicPr>
        <p:blipFill>
          <a:blip r:embed="rId3"/>
          <a:stretch/>
        </p:blipFill>
        <p:spPr>
          <a:xfrm>
            <a:off x="152280" y="533520"/>
            <a:ext cx="4610160" cy="1800000"/>
          </a:xfrm>
          <a:prstGeom prst="rect">
            <a:avLst/>
          </a:prstGeom>
          <a:ln w="0">
            <a:noFill/>
          </a:ln>
        </p:spPr>
      </p:pic>
      <p:grpSp>
        <p:nvGrpSpPr>
          <p:cNvPr id="1892" name=""/>
          <p:cNvGrpSpPr/>
          <p:nvPr/>
        </p:nvGrpSpPr>
        <p:grpSpPr>
          <a:xfrm>
            <a:off x="5181480" y="457200"/>
            <a:ext cx="3492000" cy="2324160"/>
            <a:chOff x="5181480" y="457200"/>
            <a:chExt cx="3492000" cy="2324160"/>
          </a:xfrm>
        </p:grpSpPr>
        <p:pic>
          <p:nvPicPr>
            <p:cNvPr id="1893" name="F11.066B_W1153" descr=""/>
            <p:cNvPicPr/>
            <p:nvPr/>
          </p:nvPicPr>
          <p:blipFill>
            <a:blip r:embed="rId4"/>
            <a:stretch/>
          </p:blipFill>
          <p:spPr>
            <a:xfrm>
              <a:off x="5181480" y="457200"/>
              <a:ext cx="3409920" cy="23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4" name=""/>
            <p:cNvSpPr/>
            <p:nvPr/>
          </p:nvSpPr>
          <p:spPr>
            <a:xfrm>
              <a:off x="5875920" y="592200"/>
              <a:ext cx="2797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tch filter characteris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6" name=""/>
          <p:cNvGrpSpPr/>
          <p:nvPr/>
        </p:nvGrpSpPr>
        <p:grpSpPr>
          <a:xfrm>
            <a:off x="8278920" y="6004080"/>
            <a:ext cx="817920" cy="849240"/>
            <a:chOff x="8278920" y="6004080"/>
            <a:chExt cx="817920" cy="849240"/>
          </a:xfrm>
        </p:grpSpPr>
        <p:pic>
          <p:nvPicPr>
            <p:cNvPr id="1897" name="stop" descr=""/>
            <p:cNvPicPr/>
            <p:nvPr/>
          </p:nvPicPr>
          <p:blipFill>
            <a:blip r:embed="rId5"/>
            <a:stretch/>
          </p:blipFill>
          <p:spPr>
            <a:xfrm>
              <a:off x="845820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8" name=""/>
            <p:cNvSpPr/>
            <p:nvPr/>
          </p:nvSpPr>
          <p:spPr>
            <a:xfrm>
              <a:off x="8278920" y="6004080"/>
              <a:ext cx="81792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l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5T10:46:16Z</dcterms:created>
  <dc:creator>Jorge Aravena</dc:creator>
  <dc:description/>
  <dc:language>en-US</dc:language>
  <cp:lastModifiedBy>student</cp:lastModifiedBy>
  <cp:lastPrinted>2001-11-01T14:28:50Z</cp:lastPrinted>
  <dcterms:modified xsi:type="dcterms:W3CDTF">2001-11-01T14:31:28Z</dcterms:modified>
  <cp:revision>6</cp:revision>
  <dc:subject/>
  <dc:title>No Slide Title</dc:title>
</cp:coreProperties>
</file>