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16.jpeg" ContentType="image/jpeg"/>
  <Override PartName="/ppt/media/image21.png" ContentType="image/png"/>
  <Override PartName="/ppt/media/image5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513-D3F9-4D88-8BA3-63C161BF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73D-D355-411C-9803-4A6A2E9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2B4-8D53-43E9-A881-4359244C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F92-CC18-474A-AEAE-631C5EC7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F04-8DDD-485E-B0F5-87544C41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DA1-670A-4EDD-B8FE-D9C5A009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A30-70AA-4B3E-9B1F-4413A6C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D15-340B-4A87-937E-32FD275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24D-28D3-41C8-80E2-D3DA5E53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0E4-8313-48B2-A672-35568FD9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452-12E2-427D-9354-F99A8F61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831-7F07-47C9-A26A-5595724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07B-175A-4D2E-9A3A-76B2737F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14.004A_W1315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E14.002_W1314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F14.004A_W131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14.004C_W131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4.003_W1312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F14.004A_W131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F14.004B_W1315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F14.004C_W1315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E14.002_W131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E14.003_W1316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14.002_W131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E14.003_W1316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F14.005A_W1317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F14.005B_W1317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F14.005C_W1318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F14.005D_W131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F14.005A_W1317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F14.005E_W1318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F14.001A_W1310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F14.001B_W1310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F14.001C_W1310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F14.003_W131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F14.006_W131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F14.007A_W1320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F14.007B_W1320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F14.007C_W1320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E14.001_W131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E14.006_W132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F14.008A_W1324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F14.008B_W1324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F14.008C_W1324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14.002_W1322" descr=""/>
          <p:cNvPicPr/>
          <p:nvPr/>
        </p:nvPicPr>
        <p:blipFill>
          <a:blip r:embed="rId1"/>
          <a:stretch/>
        </p:blipFill>
        <p:spPr>
          <a:xfrm>
            <a:off x="14292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T14.002_W1323" descr=""/>
          <p:cNvPicPr/>
          <p:nvPr/>
        </p:nvPicPr>
        <p:blipFill>
          <a:blip r:embed="rId2"/>
          <a:stretch/>
        </p:blipFill>
        <p:spPr>
          <a:xfrm>
            <a:off x="5410080" y="0"/>
            <a:ext cx="3552840" cy="6629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92760" y="30492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E14.007_W132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8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499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20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26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F14.008C_W132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45" name="F14.009A_W1327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48" name="F14.009B_W1327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E14.008_W13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57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9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1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73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74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F14.011_W1329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F14.008C_W1324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9" name="E14.009_W1330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23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3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46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F14.012_W13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8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689" name="F14.013A_W1332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F14.013B_W1332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97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698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01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14.014A_W1333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14" name="F14.014C_W1333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17" name="F14.014B_W1333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21" name="F14.014D_W1333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3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9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8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39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5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4.002A_W13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F14.002B_W1311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F14.002C_W1311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F14.002D_W1311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FourierTransformPairs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34400" cy="6400800"/>
          </a:xfrm>
          <a:prstGeom prst="rect">
            <a:avLst/>
          </a:prstGeom>
          <a:ln w="0">
            <a:noFill/>
          </a:ln>
        </p:spPr>
      </p:pic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FourierTransformProperties" descr=""/>
          <p:cNvPicPr/>
          <p:nvPr/>
        </p:nvPicPr>
        <p:blipFill>
          <a:blip r:embed="rId1"/>
          <a:stretch/>
        </p:blipFill>
        <p:spPr>
          <a:xfrm>
            <a:off x="1219320" y="155520"/>
            <a:ext cx="6248160" cy="610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4648320"/>
            <a:ext cx="61722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64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6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76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82" name="F14.015_W1334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784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E14.012_W1335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0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791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93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07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08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11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15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F14.016A_W133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29" name="F14.016B_W1336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F14.016C_W1336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F14.016D_W1336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Example14p13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4.017A_W133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45" name="F14.017B_W1337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48" name="F14.017C_W1337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51" name="F14.017D_W1337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54" name="F14.017E_W1337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F14.018_W1338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66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867" name="F14.019_W1339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870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881" name="F14.020_W1340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2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897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9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00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01" name="F14.019_W133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3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19" name="F14.021_W1341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929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932" name="F14.022_W1342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935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0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941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956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959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F14.023A_W134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F14.023B_W1343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988" name="F14.023C_W1344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93440" y="5774760"/>
            <a:ext cx="1140840" cy="1078560"/>
            <a:chOff x="7993440" y="5774760"/>
            <a:chExt cx="1140840" cy="1078560"/>
          </a:xfrm>
        </p:grpSpPr>
        <p:pic>
          <p:nvPicPr>
            <p:cNvPr id="991" name="stop" descr=""/>
            <p:cNvPicPr/>
            <p:nvPr/>
          </p:nvPicPr>
          <p:blipFill>
            <a:blip r:embed="rId3"/>
            <a:stretch/>
          </p:blipFill>
          <p:spPr>
            <a:xfrm>
              <a:off x="85312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99344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14.003_W131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14.001_W131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E14.002_W131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student</cp:lastModifiedBy>
  <dcterms:modified xsi:type="dcterms:W3CDTF">2001-11-01T14:38:33Z</dcterms:modified>
  <cp:revision>34</cp:revision>
  <dc:subject/>
  <dc:title>No Slide Title</dc:title>
</cp:coreProperties>
</file>