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3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6.png" ContentType="image/png"/>
  <Override PartName="/ppt/media/image54.wmf" ContentType="image/x-wmf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wmf" ContentType="image/x-wmf"/>
  <Override PartName="/ppt/media/image2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60.png" ContentType="image/png"/>
  <Override PartName="/ppt/media/image24.wmf" ContentType="image/x-wmf"/>
  <Override PartName="/ppt/media/image67.png" ContentType="image/png"/>
  <Override PartName="/ppt/media/image3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1.jpeg" ContentType="image/jpeg"/>
  <Override PartName="/ppt/media/image40.png" ContentType="image/png"/>
  <Override PartName="/ppt/media/image4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F56-F88C-4D10-8B97-CB3DE67E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12A-723D-48D2-83ED-CD13ABA2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B95-D524-4B8E-9FEE-325D2335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4CC-820E-46A8-8C6E-19D72234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57E-67AB-4801-86D1-6E2F8478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86E1-FFF6-436E-9969-7467BF7B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B547-3B28-463D-A73A-A66B1D09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D1A-4310-470F-9BEC-4367F022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FAF-B2E6-4BA3-A50A-C8DFD485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8F5-2959-4410-8BF3-F0AF9B1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252-C267-44A6-A595-AE1B02C0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740-4D16-4B02-B7C2-5044A152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2A6B-E8F1-4F8E-AD4E-1D5496268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1.jpeg"/><Relationship Id="rId3" Type="http://schemas.openxmlformats.org/officeDocument/2006/relationships/image" Target="../media/image4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6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4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image" Target="../media/image6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3520" y="4680"/>
            <a:ext cx="670644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STEADY-STATE POW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6444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61040" y="1143000"/>
            <a:ext cx="5770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pecial case of steady state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30800" y="1917720"/>
            <a:ext cx="4934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absorbed or supplied during on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3880" y="2692440"/>
            <a:ext cx="4917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the circuit is in sinusoidal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22880" y="3467160"/>
            <a:ext cx="3716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case of sinusoida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4241880"/>
            <a:ext cx="654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measure of the angle between current and voltage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1640" y="5016600"/>
            <a:ext cx="3683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e of power using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59600" y="5105520"/>
            <a:ext cx="6728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to improve power transfer to a load by “aligning” pha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160" y="5791320"/>
            <a:ext cx="6450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Phase Three-Wir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distribution method for households and smal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66040" y="60480"/>
            <a:ext cx="5094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AXIMUM AVERAGE POWER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F09.006_W0969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2971800" cy="1973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882880"/>
                <a:ext cx="2806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7200" y="533520"/>
                <a:ext cx="179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768760" y="25146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52280" y="4038480"/>
                <a:ext cx="1816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01680" y="4038480"/>
                <a:ext cx="23878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4724280"/>
                <a:ext cx="20066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04920" y="5486400"/>
                <a:ext cx="1422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752480" y="5410080"/>
                <a:ext cx="270540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0" y="6095880"/>
                <a:ext cx="1739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181320" y="4724280"/>
                <a:ext cx="12826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257800" y="685800"/>
                <a:ext cx="2870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257800" y="2673360"/>
                <a:ext cx="3289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410080" y="3346560"/>
                <a:ext cx="24638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5943600" y="457848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759280" y="4940280"/>
                <a:ext cx="1752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86" name=""/>
          <p:cNvGrpSpPr/>
          <p:nvPr/>
        </p:nvGrpSpPr>
        <p:grpSpPr>
          <a:xfrm>
            <a:off x="5943600" y="609120"/>
            <a:ext cx="2514600" cy="762120"/>
            <a:chOff x="5943600" y="609120"/>
            <a:chExt cx="2514600" cy="762120"/>
          </a:xfrm>
        </p:grpSpPr>
        <p:sp>
          <p:nvSpPr>
            <p:cNvPr id="287" name=""/>
            <p:cNvSpPr/>
            <p:nvPr/>
          </p:nvSpPr>
          <p:spPr>
            <a:xfrm flipV="1">
              <a:off x="7086600" y="1066320"/>
              <a:ext cx="137160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943600" y="609120"/>
              <a:ext cx="60948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876920" y="1600200"/>
                <a:ext cx="39369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495288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previousslide"/>
          </p:cNvPr>
          <p:cNvSpPr/>
          <p:nvPr/>
        </p:nvSpPr>
        <p:spPr>
          <a:xfrm>
            <a:off x="441972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3840" y="533520"/>
          <a:ext cx="36100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533520"/>
                    <a:ext cx="36100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18240" y="2039760"/>
            <a:ext cx="8013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move the load and determine the Thevenin equivalent of remaining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52280" y="4343400"/>
          <a:ext cx="32767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343400"/>
                    <a:ext cx="32767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0" name=""/>
          <p:cNvGrpSpPr/>
          <p:nvPr/>
        </p:nvGrpSpPr>
        <p:grpSpPr>
          <a:xfrm>
            <a:off x="1752480" y="4770360"/>
            <a:ext cx="685800" cy="290520"/>
            <a:chOff x="1752480" y="4770360"/>
            <a:chExt cx="685800" cy="290520"/>
          </a:xfrm>
        </p:grpSpPr>
        <p:sp>
          <p:nvSpPr>
            <p:cNvPr id="301" name=""/>
            <p:cNvSpPr/>
            <p:nvPr/>
          </p:nvSpPr>
          <p:spPr>
            <a:xfrm>
              <a:off x="1752480" y="47703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477036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873600" y="4648320"/>
                <a:ext cx="509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380880" y="2514600"/>
          <a:ext cx="3322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2514600"/>
                    <a:ext cx="3322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733920" y="2666880"/>
                <a:ext cx="5232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den>
                        </m:f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∠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°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4572000" y="403848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8" name=""/>
          <p:cNvGrpSpPr/>
          <p:nvPr/>
        </p:nvGrpSpPr>
        <p:grpSpPr>
          <a:xfrm>
            <a:off x="4572000" y="990720"/>
            <a:ext cx="3429000" cy="698400"/>
            <a:chOff x="457200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624852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457200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800600" y="54100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20680" y="5867280"/>
            <a:ext cx="3999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are asked for the val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. We need the Thevenin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86080" y="6516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8" name=""/>
          <p:cNvGraphicFramePr/>
          <p:nvPr/>
        </p:nvGraphicFramePr>
        <p:xfrm>
          <a:off x="152280" y="684360"/>
          <a:ext cx="289584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4360"/>
                    <a:ext cx="289584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0" name=""/>
          <p:cNvGrpSpPr/>
          <p:nvPr/>
        </p:nvGrpSpPr>
        <p:grpSpPr>
          <a:xfrm>
            <a:off x="3276720" y="990720"/>
            <a:ext cx="3429000" cy="698400"/>
            <a:chOff x="3276720" y="99072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953240" y="99072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3276720" y="114300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323" name=""/>
          <p:cNvGraphicFramePr/>
          <p:nvPr/>
        </p:nvGraphicFramePr>
        <p:xfrm>
          <a:off x="304920" y="3581280"/>
          <a:ext cx="286524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28652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" name=""/>
          <p:cNvGrpSpPr/>
          <p:nvPr/>
        </p:nvGrpSpPr>
        <p:grpSpPr>
          <a:xfrm>
            <a:off x="3252240" y="1811160"/>
            <a:ext cx="3399480" cy="932040"/>
            <a:chOff x="3252240" y="1811160"/>
            <a:chExt cx="3399480" cy="932040"/>
          </a:xfrm>
        </p:grpSpPr>
        <p:sp>
          <p:nvSpPr>
            <p:cNvPr id="326" name=""/>
            <p:cNvSpPr/>
            <p:nvPr/>
          </p:nvSpPr>
          <p:spPr>
            <a:xfrm>
              <a:off x="3252240" y="1811160"/>
              <a:ext cx="3399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with dependent source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4359240" y="2133720"/>
                  <a:ext cx="10666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495680" y="3886200"/>
                <a:ext cx="2222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9" name=""/>
          <p:cNvGrpSpPr/>
          <p:nvPr/>
        </p:nvGrpSpPr>
        <p:grpSpPr>
          <a:xfrm>
            <a:off x="1001160" y="4317840"/>
            <a:ext cx="606960" cy="1546560"/>
            <a:chOff x="1001160" y="4317840"/>
            <a:chExt cx="606960" cy="1546560"/>
          </a:xfrm>
        </p:grpSpPr>
        <p:sp>
          <p:nvSpPr>
            <p:cNvPr id="330" name=""/>
            <p:cNvSpPr/>
            <p:nvPr/>
          </p:nvSpPr>
          <p:spPr>
            <a:xfrm>
              <a:off x="1001880" y="4317840"/>
              <a:ext cx="606240" cy="1546560"/>
            </a:xfrm>
            <a:custGeom>
              <a:avLst/>
              <a:gdLst/>
              <a:ahLst/>
              <a:rect l="l" t="t" r="r" b="b"/>
              <a:pathLst>
                <a:path w="382" h="974">
                  <a:moveTo>
                    <a:pt x="374" y="538"/>
                  </a:moveTo>
                  <a:cubicBezTo>
                    <a:pt x="382" y="969"/>
                    <a:pt x="382" y="823"/>
                    <a:pt x="382" y="974"/>
                  </a:cubicBezTo>
                  <a:cubicBezTo>
                    <a:pt x="146" y="941"/>
                    <a:pt x="273" y="951"/>
                    <a:pt x="0" y="951"/>
                  </a:cubicBezTo>
                  <a:cubicBezTo>
                    <a:pt x="5" y="907"/>
                    <a:pt x="13" y="863"/>
                    <a:pt x="16" y="818"/>
                  </a:cubicBezTo>
                  <a:cubicBezTo>
                    <a:pt x="23" y="719"/>
                    <a:pt x="31" y="522"/>
                    <a:pt x="31" y="522"/>
                  </a:cubicBezTo>
                  <a:cubicBezTo>
                    <a:pt x="29" y="423"/>
                    <a:pt x="29" y="325"/>
                    <a:pt x="24" y="226"/>
                  </a:cubicBezTo>
                  <a:cubicBezTo>
                    <a:pt x="21" y="174"/>
                    <a:pt x="13" y="122"/>
                    <a:pt x="8" y="70"/>
                  </a:cubicBezTo>
                  <a:cubicBezTo>
                    <a:pt x="6" y="47"/>
                    <a:pt x="0" y="0"/>
                    <a:pt x="0" y="0"/>
                  </a:cubicBezTo>
                  <a:cubicBezTo>
                    <a:pt x="88" y="0"/>
                    <a:pt x="177" y="0"/>
                    <a:pt x="26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01160" y="546876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495680" y="4648320"/>
                <a:ext cx="3124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4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33" name=""/>
          <p:cNvGrpSpPr/>
          <p:nvPr/>
        </p:nvGrpSpPr>
        <p:grpSpPr>
          <a:xfrm>
            <a:off x="1981080" y="4325760"/>
            <a:ext cx="890640" cy="1587600"/>
            <a:chOff x="1981080" y="4325760"/>
            <a:chExt cx="890640" cy="1587600"/>
          </a:xfrm>
        </p:grpSpPr>
        <p:sp>
          <p:nvSpPr>
            <p:cNvPr id="334" name=""/>
            <p:cNvSpPr/>
            <p:nvPr/>
          </p:nvSpPr>
          <p:spPr>
            <a:xfrm>
              <a:off x="1981080" y="4330800"/>
              <a:ext cx="890640" cy="1582560"/>
            </a:xfrm>
            <a:custGeom>
              <a:avLst/>
              <a:gdLst/>
              <a:ahLst/>
              <a:rect l="l" t="t" r="r" b="b"/>
              <a:pathLst>
                <a:path w="561" h="997">
                  <a:moveTo>
                    <a:pt x="561" y="0"/>
                  </a:moveTo>
                  <a:cubicBezTo>
                    <a:pt x="410" y="5"/>
                    <a:pt x="268" y="15"/>
                    <a:pt x="117" y="15"/>
                  </a:cubicBezTo>
                  <a:cubicBezTo>
                    <a:pt x="105" y="256"/>
                    <a:pt x="102" y="519"/>
                    <a:pt x="55" y="756"/>
                  </a:cubicBezTo>
                  <a:cubicBezTo>
                    <a:pt x="42" y="823"/>
                    <a:pt x="16" y="878"/>
                    <a:pt x="0" y="943"/>
                  </a:cubicBezTo>
                  <a:cubicBezTo>
                    <a:pt x="186" y="997"/>
                    <a:pt x="16" y="950"/>
                    <a:pt x="530" y="95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75920" y="4325760"/>
              <a:ext cx="560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886200" y="5715000"/>
                <a:ext cx="5029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967200" y="6154560"/>
            <a:ext cx="345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: the short circuit current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5200" y="76320"/>
            <a:ext cx="3614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 (continued)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4920" y="990720"/>
          <a:ext cx="2590560" cy="24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2590560" cy="24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89520" y="592200"/>
            <a:ext cx="170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l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228600" y="3581280"/>
          <a:ext cx="2897280" cy="28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581280"/>
                    <a:ext cx="289728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3886200" y="573120"/>
                <a:ext cx="321300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EQUATIONS FOR SHOR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 CURRENT</m:t>
                        </m:r>
                      </m:e>
                      <m:e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+j4I+2 \( I -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\)  - 4</m:t>
                            </m:r>
                            <m:r>
                              <m:t xml:space="preserve">∠</m:t>
                            </m:r>
                            <m:r>
                              <m:t xml:space="preserve">°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}  {} # 
4∠0</m:t>
                            </m:r>
                            <m:r>
                              <m:t xml:space="preserve">°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 - j2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=0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962520" y="2021040"/>
                <a:ext cx="2628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TROLLING VARIABLE</m:t>
                        </m:r>
                      </m:e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2 \( I rSub { size 8{ ital </m:t>
                            </m:r>
                            <m:r>
                              <m:t xml:space="preserve">S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- I \) }  {} 
} } {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9" name=""/>
          <p:cNvGrpSpPr/>
          <p:nvPr/>
        </p:nvGrpSpPr>
        <p:grpSpPr>
          <a:xfrm>
            <a:off x="3968280" y="2765520"/>
            <a:ext cx="2742480" cy="1121760"/>
            <a:chOff x="3968280" y="2765520"/>
            <a:chExt cx="2742480" cy="1121760"/>
          </a:xfrm>
        </p:grpSpPr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4114800" y="3240000"/>
                  <a:ext cx="2184480" cy="64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"/>
            <p:cNvSpPr/>
            <p:nvPr/>
          </p:nvSpPr>
          <p:spPr>
            <a:xfrm>
              <a:off x="3968280" y="2765520"/>
              <a:ext cx="274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bstitute and rear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6324480" y="35593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886200" y="407844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886200" y="4459320"/>
                <a:ext cx="314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828960" y="4840200"/>
                <a:ext cx="5143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3714840" y="5221440"/>
                <a:ext cx="2501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324480" y="5221440"/>
                <a:ext cx="15876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8" name=""/>
          <p:cNvGrpSpPr/>
          <p:nvPr/>
        </p:nvGrpSpPr>
        <p:grpSpPr>
          <a:xfrm>
            <a:off x="5638680" y="0"/>
            <a:ext cx="3429000" cy="698400"/>
            <a:chOff x="5638680" y="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7315200" y="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0" name=""/>
                <p:cNvSpPr txBox="1"/>
                <p:nvPr/>
              </p:nvSpPr>
              <p:spPr>
                <a:xfrm>
                  <a:off x="5638680" y="1522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886200" y="571500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E09.005_W097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257184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68" name=""/>
          <p:cNvGraphicFramePr/>
          <p:nvPr/>
        </p:nvGraphicFramePr>
        <p:xfrm>
          <a:off x="457200" y="2971800"/>
          <a:ext cx="235728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71800"/>
                    <a:ext cx="2357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362320" y="3886200"/>
                <a:ext cx="4046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1" name=""/>
          <p:cNvGrpSpPr/>
          <p:nvPr/>
        </p:nvGrpSpPr>
        <p:grpSpPr>
          <a:xfrm>
            <a:off x="1219320" y="3505320"/>
            <a:ext cx="544320" cy="1806480"/>
            <a:chOff x="1219320" y="3505320"/>
            <a:chExt cx="544320" cy="1806480"/>
          </a:xfrm>
        </p:grpSpPr>
        <p:sp>
          <p:nvSpPr>
            <p:cNvPr id="372" name=""/>
            <p:cNvSpPr/>
            <p:nvPr/>
          </p:nvSpPr>
          <p:spPr>
            <a:xfrm>
              <a:off x="1219320" y="3505320"/>
              <a:ext cx="544320" cy="1806480"/>
            </a:xfrm>
            <a:custGeom>
              <a:avLst/>
              <a:gdLst/>
              <a:ahLst/>
              <a:rect l="l" t="t" r="r" b="b"/>
              <a:pathLst>
                <a:path w="343" h="1138">
                  <a:moveTo>
                    <a:pt x="312" y="0"/>
                  </a:moveTo>
                  <a:cubicBezTo>
                    <a:pt x="323" y="104"/>
                    <a:pt x="329" y="208"/>
                    <a:pt x="335" y="312"/>
                  </a:cubicBezTo>
                  <a:cubicBezTo>
                    <a:pt x="338" y="587"/>
                    <a:pt x="343" y="1138"/>
                    <a:pt x="343" y="1138"/>
                  </a:cubicBezTo>
                  <a:cubicBezTo>
                    <a:pt x="261" y="1135"/>
                    <a:pt x="99" y="1123"/>
                    <a:pt x="0" y="1123"/>
                  </a:cubicBezTo>
                  <a:cubicBezTo>
                    <a:pt x="0" y="902"/>
                    <a:pt x="0" y="681"/>
                    <a:pt x="0" y="46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219320" y="5029200"/>
                  <a:ext cx="1630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52280" y="5638680"/>
                <a:ext cx="36450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2971800" y="3581280"/>
                <a:ext cx="19684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71800" y="4724280"/>
                <a:ext cx="234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7" name=""/>
          <p:cNvGraphicFramePr/>
          <p:nvPr/>
        </p:nvGraphicFramePr>
        <p:xfrm>
          <a:off x="3581280" y="838080"/>
          <a:ext cx="2743200" cy="257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838080"/>
                    <a:ext cx="2743200" cy="25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86400" y="1828800"/>
                <a:ext cx="3492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5727600" y="2590920"/>
                <a:ext cx="2971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172200" y="3657600"/>
                <a:ext cx="1409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6006960" y="4484520"/>
                <a:ext cx="22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124080" y="5105520"/>
                <a:ext cx="2133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7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E09.006_W0974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200400" cy="1476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895480" y="76320"/>
                <a:ext cx="59198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maximum average power transf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the maximum average power supplied to the loa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5638680" y="685800"/>
            <a:ext cx="3429000" cy="698400"/>
            <a:chOff x="5638680" y="685800"/>
            <a:chExt cx="3429000" cy="698400"/>
          </a:xfrm>
        </p:grpSpPr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315200" y="685800"/>
                  <a:ext cx="17524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C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5638680" y="838080"/>
                  <a:ext cx="1244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∴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opt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96" name=""/>
          <p:cNvGrpSpPr/>
          <p:nvPr/>
        </p:nvGrpSpPr>
        <p:grpSpPr>
          <a:xfrm>
            <a:off x="228600" y="3271680"/>
            <a:ext cx="3529080" cy="1681200"/>
            <a:chOff x="228600" y="3271680"/>
            <a:chExt cx="3529080" cy="1681200"/>
          </a:xfrm>
        </p:grpSpPr>
        <p:graphicFrame>
          <p:nvGraphicFramePr>
            <p:cNvPr id="397" name=""/>
            <p:cNvGraphicFramePr/>
            <p:nvPr/>
          </p:nvGraphicFramePr>
          <p:xfrm>
            <a:off x="228600" y="3271680"/>
            <a:ext cx="3276720" cy="1681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3271680"/>
                      <a:ext cx="3276720" cy="16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9" name=""/>
                <p:cNvSpPr txBox="1"/>
                <p:nvPr/>
              </p:nvSpPr>
              <p:spPr>
                <a:xfrm>
                  <a:off x="3352680" y="3893760"/>
                  <a:ext cx="4050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C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0" name=""/>
          <p:cNvGrpSpPr/>
          <p:nvPr/>
        </p:nvGrpSpPr>
        <p:grpSpPr>
          <a:xfrm>
            <a:off x="2362320" y="3327480"/>
            <a:ext cx="330120" cy="482400"/>
            <a:chOff x="2362320" y="3327480"/>
            <a:chExt cx="330120" cy="482400"/>
          </a:xfrm>
        </p:grpSpPr>
        <p:sp>
          <p:nvSpPr>
            <p:cNvPr id="401" name=""/>
            <p:cNvSpPr/>
            <p:nvPr/>
          </p:nvSpPr>
          <p:spPr>
            <a:xfrm>
              <a:off x="2438280" y="3657600"/>
              <a:ext cx="228600" cy="152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2362320" y="3327480"/>
                  <a:ext cx="3301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380880" y="5029200"/>
                <a:ext cx="2400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819520" y="5181480"/>
                <a:ext cx="761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"/>
          <p:cNvGrpSpPr/>
          <p:nvPr/>
        </p:nvGrpSpPr>
        <p:grpSpPr>
          <a:xfrm>
            <a:off x="2568600" y="3564000"/>
            <a:ext cx="1811880" cy="1236600"/>
            <a:chOff x="2568600" y="3564000"/>
            <a:chExt cx="1811880" cy="1236600"/>
          </a:xfrm>
        </p:grpSpPr>
        <p:sp>
          <p:nvSpPr>
            <p:cNvPr id="406" name=""/>
            <p:cNvSpPr/>
            <p:nvPr/>
          </p:nvSpPr>
          <p:spPr>
            <a:xfrm>
              <a:off x="2568600" y="3822840"/>
              <a:ext cx="1476360" cy="977760"/>
            </a:xfrm>
            <a:custGeom>
              <a:avLst/>
              <a:gdLst/>
              <a:ahLst/>
              <a:rect l="l" t="t" r="r" b="b"/>
              <a:pathLst>
                <a:path w="930" h="616">
                  <a:moveTo>
                    <a:pt x="930" y="0"/>
                  </a:moveTo>
                  <a:cubicBezTo>
                    <a:pt x="827" y="7"/>
                    <a:pt x="736" y="36"/>
                    <a:pt x="634" y="39"/>
                  </a:cubicBezTo>
                  <a:cubicBezTo>
                    <a:pt x="502" y="43"/>
                    <a:pt x="369" y="44"/>
                    <a:pt x="237" y="47"/>
                  </a:cubicBezTo>
                  <a:cubicBezTo>
                    <a:pt x="201" y="56"/>
                    <a:pt x="131" y="81"/>
                    <a:pt x="96" y="86"/>
                  </a:cubicBezTo>
                  <a:cubicBezTo>
                    <a:pt x="78" y="89"/>
                    <a:pt x="42" y="94"/>
                    <a:pt x="42" y="94"/>
                  </a:cubicBezTo>
                  <a:cubicBezTo>
                    <a:pt x="33" y="259"/>
                    <a:pt x="0" y="439"/>
                    <a:pt x="42" y="600"/>
                  </a:cubicBezTo>
                  <a:cubicBezTo>
                    <a:pt x="159" y="583"/>
                    <a:pt x="109" y="591"/>
                    <a:pt x="190" y="577"/>
                  </a:cubicBezTo>
                  <a:cubicBezTo>
                    <a:pt x="387" y="582"/>
                    <a:pt x="483" y="591"/>
                    <a:pt x="650" y="608"/>
                  </a:cubicBezTo>
                  <a:cubicBezTo>
                    <a:pt x="660" y="611"/>
                    <a:pt x="681" y="616"/>
                    <a:pt x="681" y="6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20320" y="3564000"/>
              <a:ext cx="5601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KV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16000" y="5715000"/>
                <a:ext cx="345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80880" y="6095880"/>
                <a:ext cx="2248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"/>
          <p:cNvGrpSpPr/>
          <p:nvPr/>
        </p:nvGrpSpPr>
        <p:grpSpPr>
          <a:xfrm>
            <a:off x="4876920" y="1676520"/>
            <a:ext cx="3504600" cy="1420560"/>
            <a:chOff x="4876920" y="1676520"/>
            <a:chExt cx="3504600" cy="1420560"/>
          </a:xfrm>
        </p:grpSpPr>
        <p:graphicFrame>
          <p:nvGraphicFramePr>
            <p:cNvPr id="411" name=""/>
            <p:cNvGraphicFramePr/>
            <p:nvPr/>
          </p:nvGraphicFramePr>
          <p:xfrm>
            <a:off x="4876920" y="1676520"/>
            <a:ext cx="2971440" cy="1420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676520"/>
                      <a:ext cx="2971440" cy="14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3" name=""/>
            <p:cNvSpPr/>
            <p:nvPr/>
          </p:nvSpPr>
          <p:spPr>
            <a:xfrm flipH="1">
              <a:off x="7543440" y="228600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7924680" y="1981080"/>
                  <a:ext cx="42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029200" y="3124080"/>
                <a:ext cx="302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867280" y="3809880"/>
                <a:ext cx="1562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638680" y="4267080"/>
                <a:ext cx="1562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5181480" y="480060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9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32480" y="85680"/>
            <a:ext cx="3539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FFECTIVE OR RMS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04920" y="6094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905120" y="685800"/>
                <a:ext cx="2171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26" name=""/>
          <p:cNvGrpSpPr/>
          <p:nvPr/>
        </p:nvGrpSpPr>
        <p:grpSpPr>
          <a:xfrm>
            <a:off x="0" y="3352680"/>
            <a:ext cx="3429000" cy="1994040"/>
            <a:chOff x="0" y="3352680"/>
            <a:chExt cx="3429000" cy="1994040"/>
          </a:xfrm>
        </p:grpSpPr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0" y="3352680"/>
                  <a:ext cx="34290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periodic with period </m:t>
                          </m:r>
                          <m:r>
                            <m:t xml:space="preserve">T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  <m:nary>
                                <m:naryPr>
                                  <m:chr m:val="∫"/>
                                </m:naryPr>
                                <m: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sub>
                                <m:sup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T</m:t>
                                  </m:r>
                                </m:sup>
                                <m:e>
                                  <m:sSup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e>
                              </m:nary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8" name=""/>
                <p:cNvSpPr txBox="1"/>
                <p:nvPr/>
              </p:nvSpPr>
              <p:spPr>
                <a:xfrm>
                  <a:off x="0" y="4648320"/>
                  <a:ext cx="318780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current is DC 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then 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263760" y="4495680"/>
                <a:ext cx="13082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0" y="5486400"/>
                <a:ext cx="16635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905120" y="5410080"/>
                <a:ext cx="1828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64800" y="2438280"/>
            <a:ext cx="466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ffective value is the equivalent 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lue that supplies the same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44800" y="6248520"/>
            <a:ext cx="36615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ition is valid for ANY period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with period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105520" y="2057400"/>
                <a:ext cx="220968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 sinusoidal signal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effective value is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5" name=""/>
          <p:cNvGrpSpPr/>
          <p:nvPr/>
        </p:nvGrpSpPr>
        <p:grpSpPr>
          <a:xfrm>
            <a:off x="4787280" y="592200"/>
            <a:ext cx="4112640" cy="790560"/>
            <a:chOff x="4787280" y="592200"/>
            <a:chExt cx="4112640" cy="790560"/>
          </a:xfrm>
        </p:grpSpPr>
        <p:sp>
          <p:nvSpPr>
            <p:cNvPr id="436" name=""/>
            <p:cNvSpPr/>
            <p:nvPr/>
          </p:nvSpPr>
          <p:spPr>
            <a:xfrm>
              <a:off x="4787280" y="592200"/>
              <a:ext cx="41126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the current is sinusoidal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is known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7" name=""/>
                <p:cNvSpPr txBox="1"/>
                <p:nvPr/>
              </p:nvSpPr>
              <p:spPr>
                <a:xfrm>
                  <a:off x="7238880" y="838080"/>
                  <a:ext cx="118116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7315200" y="1447920"/>
                <a:ext cx="1244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24280" y="3962520"/>
                <a:ext cx="433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inusoidal case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38680" y="4648320"/>
                <a:ext cx="2311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952880" y="5257800"/>
                <a:ext cx="3492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ective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rm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ot mean squar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F09.009_W0975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3667320" cy="16286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568600" y="58680"/>
            <a:ext cx="5095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695160" y="1028880"/>
            <a:ext cx="2360880" cy="1881720"/>
            <a:chOff x="695160" y="1028880"/>
            <a:chExt cx="2360880" cy="1881720"/>
          </a:xfrm>
        </p:grpSpPr>
        <p:sp>
          <p:nvSpPr>
            <p:cNvPr id="449" name=""/>
            <p:cNvSpPr/>
            <p:nvPr/>
          </p:nvSpPr>
          <p:spPr>
            <a:xfrm>
              <a:off x="695160" y="1028880"/>
              <a:ext cx="2360880" cy="1680840"/>
            </a:xfrm>
            <a:custGeom>
              <a:avLst/>
              <a:gdLst/>
              <a:ahLst/>
              <a:rect l="l" t="t" r="r" b="b"/>
              <a:pathLst>
                <a:path w="1487" h="1059">
                  <a:moveTo>
                    <a:pt x="1487" y="1020"/>
                  </a:moveTo>
                  <a:cubicBezTo>
                    <a:pt x="1476" y="866"/>
                    <a:pt x="1483" y="933"/>
                    <a:pt x="1463" y="770"/>
                  </a:cubicBezTo>
                  <a:cubicBezTo>
                    <a:pt x="1463" y="766"/>
                    <a:pt x="1450" y="664"/>
                    <a:pt x="1448" y="661"/>
                  </a:cubicBezTo>
                  <a:cubicBezTo>
                    <a:pt x="1437" y="640"/>
                    <a:pt x="1417" y="625"/>
                    <a:pt x="1401" y="607"/>
                  </a:cubicBezTo>
                  <a:cubicBezTo>
                    <a:pt x="1384" y="506"/>
                    <a:pt x="1311" y="476"/>
                    <a:pt x="1261" y="388"/>
                  </a:cubicBezTo>
                  <a:cubicBezTo>
                    <a:pt x="1244" y="357"/>
                    <a:pt x="1252" y="314"/>
                    <a:pt x="1230" y="287"/>
                  </a:cubicBezTo>
                  <a:cubicBezTo>
                    <a:pt x="1204" y="256"/>
                    <a:pt x="1166" y="236"/>
                    <a:pt x="1136" y="209"/>
                  </a:cubicBezTo>
                  <a:cubicBezTo>
                    <a:pt x="1085" y="164"/>
                    <a:pt x="1031" y="86"/>
                    <a:pt x="965" y="69"/>
                  </a:cubicBezTo>
                  <a:cubicBezTo>
                    <a:pt x="820" y="32"/>
                    <a:pt x="677" y="18"/>
                    <a:pt x="528" y="7"/>
                  </a:cubicBezTo>
                  <a:cubicBezTo>
                    <a:pt x="471" y="9"/>
                    <a:pt x="412" y="0"/>
                    <a:pt x="357" y="14"/>
                  </a:cubicBezTo>
                  <a:cubicBezTo>
                    <a:pt x="335" y="19"/>
                    <a:pt x="327" y="46"/>
                    <a:pt x="310" y="61"/>
                  </a:cubicBezTo>
                  <a:cubicBezTo>
                    <a:pt x="196" y="162"/>
                    <a:pt x="265" y="81"/>
                    <a:pt x="185" y="186"/>
                  </a:cubicBezTo>
                  <a:cubicBezTo>
                    <a:pt x="164" y="328"/>
                    <a:pt x="198" y="125"/>
                    <a:pt x="154" y="287"/>
                  </a:cubicBezTo>
                  <a:cubicBezTo>
                    <a:pt x="132" y="366"/>
                    <a:pt x="137" y="456"/>
                    <a:pt x="123" y="537"/>
                  </a:cubicBezTo>
                  <a:cubicBezTo>
                    <a:pt x="132" y="1059"/>
                    <a:pt x="0" y="998"/>
                    <a:pt x="349" y="1035"/>
                  </a:cubicBezTo>
                  <a:cubicBezTo>
                    <a:pt x="391" y="1039"/>
                    <a:pt x="432" y="1046"/>
                    <a:pt x="474" y="1051"/>
                  </a:cubicBezTo>
                  <a:cubicBezTo>
                    <a:pt x="695" y="1035"/>
                    <a:pt x="917" y="1035"/>
                    <a:pt x="1136" y="1004"/>
                  </a:cubicBezTo>
                  <a:cubicBezTo>
                    <a:pt x="1177" y="998"/>
                    <a:pt x="1208" y="961"/>
                    <a:pt x="1245" y="942"/>
                  </a:cubicBezTo>
                  <a:cubicBezTo>
                    <a:pt x="1305" y="912"/>
                    <a:pt x="1358" y="911"/>
                    <a:pt x="1424" y="9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008720" y="2573280"/>
              <a:ext cx="1303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peri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762120" y="2971800"/>
                <a:ext cx="2527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4</m:t>
                                    </m:r>
                                    <m:r>
                                      <m:t xml:space="preserve">t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4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905120" y="838080"/>
                <a:ext cx="52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743200" y="4038480"/>
                <a:ext cx="32893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t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54" name=""/>
          <p:cNvGrpSpPr/>
          <p:nvPr/>
        </p:nvGrpSpPr>
        <p:grpSpPr>
          <a:xfrm>
            <a:off x="4084560" y="2573280"/>
            <a:ext cx="4621320" cy="1459080"/>
            <a:chOff x="4084560" y="2573280"/>
            <a:chExt cx="4621320" cy="1459080"/>
          </a:xfrm>
        </p:grpSpPr>
        <p:sp>
          <p:nvSpPr>
            <p:cNvPr id="455" name=""/>
            <p:cNvSpPr/>
            <p:nvPr/>
          </p:nvSpPr>
          <p:spPr>
            <a:xfrm>
              <a:off x="4084560" y="2787480"/>
              <a:ext cx="1836720" cy="1244880"/>
            </a:xfrm>
            <a:custGeom>
              <a:avLst/>
              <a:gdLst/>
              <a:ahLst/>
              <a:rect l="l" t="t" r="r" b="b"/>
              <a:pathLst>
                <a:path w="1157" h="784">
                  <a:moveTo>
                    <a:pt x="0" y="784"/>
                  </a:moveTo>
                  <a:cubicBezTo>
                    <a:pt x="143" y="685"/>
                    <a:pt x="294" y="595"/>
                    <a:pt x="436" y="495"/>
                  </a:cubicBezTo>
                  <a:cubicBezTo>
                    <a:pt x="523" y="434"/>
                    <a:pt x="578" y="350"/>
                    <a:pt x="685" y="324"/>
                  </a:cubicBezTo>
                  <a:cubicBezTo>
                    <a:pt x="738" y="284"/>
                    <a:pt x="956" y="117"/>
                    <a:pt x="997" y="106"/>
                  </a:cubicBezTo>
                  <a:cubicBezTo>
                    <a:pt x="1075" y="86"/>
                    <a:pt x="1039" y="97"/>
                    <a:pt x="1106" y="74"/>
                  </a:cubicBezTo>
                  <a:cubicBezTo>
                    <a:pt x="1157" y="0"/>
                    <a:pt x="1101" y="150"/>
                    <a:pt x="1098" y="160"/>
                  </a:cubicBezTo>
                  <a:cubicBezTo>
                    <a:pt x="1084" y="255"/>
                    <a:pt x="1025" y="352"/>
                    <a:pt x="974" y="433"/>
                  </a:cubicBezTo>
                  <a:cubicBezTo>
                    <a:pt x="954" y="512"/>
                    <a:pt x="934" y="589"/>
                    <a:pt x="911" y="667"/>
                  </a:cubicBezTo>
                  <a:cubicBezTo>
                    <a:pt x="904" y="693"/>
                    <a:pt x="872" y="737"/>
                    <a:pt x="872" y="737"/>
                  </a:cubicBezTo>
                  <a:cubicBezTo>
                    <a:pt x="863" y="767"/>
                    <a:pt x="871" y="754"/>
                    <a:pt x="849" y="77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60720" y="2573280"/>
              <a:ext cx="294516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two integrals have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am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819520" y="4800600"/>
                <a:ext cx="2539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95480" y="5562720"/>
                <a:ext cx="2311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5086440" y="68580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6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3" name=""/>
          <p:cNvGraphicFramePr/>
          <p:nvPr/>
        </p:nvGraphicFramePr>
        <p:xfrm>
          <a:off x="5105520" y="838080"/>
          <a:ext cx="14302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14302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9920" y="58680"/>
            <a:ext cx="640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of the voltage waveform and use 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F09.010_W0976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3048120" cy="167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6705720" y="1295280"/>
                <a:ext cx="7221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2514600" y="91440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219320" y="2590920"/>
                <a:ext cx="176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6934320" y="2362320"/>
                <a:ext cx="20192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600200" y="30481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657600" y="3581280"/>
                <a:ext cx="19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7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E09.007_W0977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3057480" cy="10573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8360" y="76320"/>
            <a:ext cx="470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rms value of the voltage 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623960" y="1422360"/>
            <a:ext cx="776520" cy="749520"/>
            <a:chOff x="1623960" y="1422360"/>
            <a:chExt cx="776520" cy="7495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1828800" y="1905120"/>
                  <a:ext cx="57168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2" name=""/>
            <p:cNvSpPr/>
            <p:nvPr/>
          </p:nvSpPr>
          <p:spPr>
            <a:xfrm>
              <a:off x="1623960" y="1422360"/>
              <a:ext cx="157320" cy="631800"/>
            </a:xfrm>
            <a:custGeom>
              <a:avLst/>
              <a:gdLst/>
              <a:ahLst/>
              <a:rect l="l" t="t" r="r" b="b"/>
              <a:pathLst>
                <a:path w="99" h="398">
                  <a:moveTo>
                    <a:pt x="99" y="398"/>
                  </a:moveTo>
                  <a:cubicBezTo>
                    <a:pt x="83" y="393"/>
                    <a:pt x="68" y="387"/>
                    <a:pt x="52" y="382"/>
                  </a:cubicBezTo>
                  <a:cubicBezTo>
                    <a:pt x="44" y="379"/>
                    <a:pt x="29" y="374"/>
                    <a:pt x="29" y="374"/>
                  </a:cubicBezTo>
                  <a:cubicBezTo>
                    <a:pt x="0" y="260"/>
                    <a:pt x="17" y="139"/>
                    <a:pt x="37" y="24"/>
                  </a:cubicBezTo>
                  <a:cubicBezTo>
                    <a:pt x="34" y="16"/>
                    <a:pt x="29" y="0"/>
                    <a:pt x="29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76520" y="762120"/>
                <a:ext cx="53172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257800" y="838080"/>
                <a:ext cx="2019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523880" y="2514600"/>
                <a:ext cx="1752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352680" y="2496960"/>
                <a:ext cx="2730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3480" y="85680"/>
            <a:ext cx="33505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STANTANEOUS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F09.001_W0961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2209680" cy="173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200" y="2590920"/>
                <a:ext cx="20955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steady State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6880" y="590400"/>
                <a:ext cx="152424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Suppli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Impedance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8000" y="3733920"/>
                <a:ext cx="3568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7200" y="4038480"/>
                <a:ext cx="391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08000" y="45720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4892400" y="76320"/>
            <a:ext cx="3362760" cy="1363680"/>
            <a:chOff x="4892400" y="76320"/>
            <a:chExt cx="3362760" cy="1363680"/>
          </a:xfrm>
        </p:grpSpPr>
        <p:sp>
          <p:nvSpPr>
            <p:cNvPr id="61" name=""/>
            <p:cNvSpPr/>
            <p:nvPr/>
          </p:nvSpPr>
          <p:spPr>
            <a:xfrm>
              <a:off x="48924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5181480" y="474840"/>
                  <a:ext cx="3073680" cy="96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ssume:  </m:t>
                          </m:r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r>
                            <m:t xml:space="preserve">(</m:t>
                          </m:r>
                          <m:r>
                            <m:t xml:space="preserve">ω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  <m:r>
                            <m:t xml:space="preserve">°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 </m:t>
                          </m:r>
                          <m:r>
                            <m:t xml:space="preserve">Z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:  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410080" y="1447920"/>
                <a:ext cx="2603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486400" y="2057400"/>
                <a:ext cx="22986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076800" y="2324160"/>
                <a:ext cx="151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4329000" y="2590920"/>
            <a:ext cx="4370400" cy="2162160"/>
            <a:chOff x="4329000" y="2590920"/>
            <a:chExt cx="4370400" cy="2162160"/>
          </a:xfrm>
        </p:grpSpPr>
        <p:sp>
          <p:nvSpPr>
            <p:cNvPr id="67" name=""/>
            <p:cNvSpPr/>
            <p:nvPr/>
          </p:nvSpPr>
          <p:spPr>
            <a:xfrm>
              <a:off x="4329000" y="2590920"/>
              <a:ext cx="1793880" cy="2162160"/>
            </a:xfrm>
            <a:custGeom>
              <a:avLst/>
              <a:gdLst/>
              <a:ahLst/>
              <a:rect l="l" t="t" r="r" b="b"/>
              <a:pathLst>
                <a:path w="1130" h="1362">
                  <a:moveTo>
                    <a:pt x="1130" y="47"/>
                  </a:moveTo>
                  <a:cubicBezTo>
                    <a:pt x="824" y="18"/>
                    <a:pt x="518" y="9"/>
                    <a:pt x="211" y="0"/>
                  </a:cubicBezTo>
                  <a:cubicBezTo>
                    <a:pt x="188" y="5"/>
                    <a:pt x="160" y="1"/>
                    <a:pt x="141" y="16"/>
                  </a:cubicBezTo>
                  <a:cubicBezTo>
                    <a:pt x="129" y="26"/>
                    <a:pt x="135" y="47"/>
                    <a:pt x="133" y="63"/>
                  </a:cubicBezTo>
                  <a:cubicBezTo>
                    <a:pt x="130" y="84"/>
                    <a:pt x="128" y="104"/>
                    <a:pt x="125" y="125"/>
                  </a:cubicBezTo>
                  <a:cubicBezTo>
                    <a:pt x="110" y="354"/>
                    <a:pt x="97" y="582"/>
                    <a:pt x="78" y="811"/>
                  </a:cubicBezTo>
                  <a:cubicBezTo>
                    <a:pt x="76" y="988"/>
                    <a:pt x="94" y="1166"/>
                    <a:pt x="71" y="1341"/>
                  </a:cubicBezTo>
                  <a:cubicBezTo>
                    <a:pt x="68" y="1362"/>
                    <a:pt x="29" y="1349"/>
                    <a:pt x="8" y="1349"/>
                  </a:cubicBezTo>
                  <a:cubicBezTo>
                    <a:pt x="0" y="1349"/>
                    <a:pt x="24" y="1341"/>
                    <a:pt x="32" y="1341"/>
                  </a:cubicBezTo>
                  <a:cubicBezTo>
                    <a:pt x="128" y="1336"/>
                    <a:pt x="224" y="1336"/>
                    <a:pt x="320" y="1333"/>
                  </a:cubicBezTo>
                  <a:cubicBezTo>
                    <a:pt x="301" y="1249"/>
                    <a:pt x="296" y="1111"/>
                    <a:pt x="320" y="1029"/>
                  </a:cubicBezTo>
                  <a:cubicBezTo>
                    <a:pt x="329" y="1000"/>
                    <a:pt x="351" y="977"/>
                    <a:pt x="367" y="951"/>
                  </a:cubicBezTo>
                  <a:cubicBezTo>
                    <a:pt x="371" y="915"/>
                    <a:pt x="373" y="809"/>
                    <a:pt x="390" y="780"/>
                  </a:cubicBezTo>
                  <a:cubicBezTo>
                    <a:pt x="401" y="761"/>
                    <a:pt x="421" y="749"/>
                    <a:pt x="437" y="733"/>
                  </a:cubicBezTo>
                  <a:cubicBezTo>
                    <a:pt x="446" y="660"/>
                    <a:pt x="457" y="588"/>
                    <a:pt x="468" y="515"/>
                  </a:cubicBezTo>
                  <a:cubicBezTo>
                    <a:pt x="470" y="502"/>
                    <a:pt x="477" y="435"/>
                    <a:pt x="491" y="421"/>
                  </a:cubicBezTo>
                  <a:cubicBezTo>
                    <a:pt x="495" y="417"/>
                    <a:pt x="544" y="406"/>
                    <a:pt x="546" y="406"/>
                  </a:cubicBezTo>
                  <a:cubicBezTo>
                    <a:pt x="616" y="404"/>
                    <a:pt x="686" y="406"/>
                    <a:pt x="756" y="4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549760" y="3098880"/>
                  <a:ext cx="3149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°+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" name="F09.002_W0962" descr=""/>
          <p:cNvPicPr/>
          <p:nvPr/>
        </p:nvPicPr>
        <p:blipFill>
          <a:blip r:embed="rId2"/>
          <a:stretch/>
        </p:blipFill>
        <p:spPr>
          <a:xfrm>
            <a:off x="5029200" y="3657600"/>
            <a:ext cx="4029120" cy="28479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829080" y="5240160"/>
            <a:ext cx="3113640" cy="580680"/>
            <a:chOff x="829080" y="5240160"/>
            <a:chExt cx="3113640" cy="580680"/>
          </a:xfrm>
        </p:grpSpPr>
        <p:sp>
          <p:nvSpPr>
            <p:cNvPr id="71" name=""/>
            <p:cNvSpPr/>
            <p:nvPr/>
          </p:nvSpPr>
          <p:spPr>
            <a:xfrm>
              <a:off x="829080" y="5240160"/>
              <a:ext cx="1073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9240" y="5240160"/>
              <a:ext cx="12034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ice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5181480" y="762120"/>
          <a:ext cx="14302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14302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E09.008_W0978" descr=""/>
          <p:cNvPicPr/>
          <p:nvPr/>
        </p:nvPicPr>
        <p:blipFill>
          <a:blip r:embed="rId3"/>
          <a:stretch/>
        </p:blipFill>
        <p:spPr>
          <a:xfrm>
            <a:off x="380880" y="762120"/>
            <a:ext cx="3924360" cy="132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876920" y="1676520"/>
                <a:ext cx="7221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2820240" y="135000"/>
            <a:ext cx="61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rms value for the current waveforms and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m to determine average power supplied to the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33520" y="990720"/>
            <a:ext cx="1904760" cy="1371600"/>
            <a:chOff x="533520" y="990720"/>
            <a:chExt cx="1904760" cy="1371600"/>
          </a:xfrm>
        </p:grpSpPr>
        <p:sp>
          <p:nvSpPr>
            <p:cNvPr id="497" name=""/>
            <p:cNvSpPr/>
            <p:nvPr/>
          </p:nvSpPr>
          <p:spPr>
            <a:xfrm>
              <a:off x="533520" y="990720"/>
              <a:ext cx="1904760" cy="11430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1295280" y="21337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9" name=""/>
          <p:cNvGrpSpPr/>
          <p:nvPr/>
        </p:nvGrpSpPr>
        <p:grpSpPr>
          <a:xfrm>
            <a:off x="6934320" y="762120"/>
            <a:ext cx="2019240" cy="1179360"/>
            <a:chOff x="6934320" y="762120"/>
            <a:chExt cx="2019240" cy="1179360"/>
          </a:xfrm>
        </p:grpSpPr>
        <mc:AlternateContent>
          <mc:Choice xmlns:a14="http://schemas.microsoft.com/office/drawing/2010/main" Requires="a14">
            <p:sp>
              <p:nvSpPr>
                <p:cNvPr id="500" name=""/>
                <p:cNvSpPr txBox="1"/>
                <p:nvPr/>
              </p:nvSpPr>
              <p:spPr>
                <a:xfrm>
                  <a:off x="6934320" y="762120"/>
                  <a:ext cx="2019240" cy="77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sub>
                            <m: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T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1" name=""/>
                <p:cNvSpPr txBox="1"/>
                <p:nvPr/>
              </p:nvSpPr>
              <p:spPr>
                <a:xfrm>
                  <a:off x="7467480" y="1600200"/>
                  <a:ext cx="11052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v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57200" y="2438280"/>
                <a:ext cx="29844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4</m:t>
                                </m:r>
                              </m:sub>
                              <m:sup>
                                <m:r>
                                  <m:t xml:space="preserve">6</m:t>
                                </m:r>
                              </m:sup>
                              <m:e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nary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3" name=""/>
          <p:cNvGrpSpPr/>
          <p:nvPr/>
        </p:nvGrpSpPr>
        <p:grpSpPr>
          <a:xfrm>
            <a:off x="3492360" y="2527200"/>
            <a:ext cx="3124440" cy="559080"/>
            <a:chOff x="3492360" y="2527200"/>
            <a:chExt cx="3124440" cy="559080"/>
          </a:xfrm>
        </p:grpSpPr>
        <mc:AlternateContent>
          <mc:Choice xmlns:a14="http://schemas.microsoft.com/office/drawing/2010/main" Requires="a14">
            <p:sp>
              <p:nvSpPr>
                <p:cNvPr id="504" name=""/>
                <p:cNvSpPr txBox="1"/>
                <p:nvPr/>
              </p:nvSpPr>
              <p:spPr>
                <a:xfrm>
                  <a:off x="3492360" y="2527200"/>
                  <a:ext cx="1231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05" name=""/>
                <p:cNvSpPr txBox="1"/>
                <p:nvPr/>
              </p:nvSpPr>
              <p:spPr>
                <a:xfrm>
                  <a:off x="4952880" y="2679840"/>
                  <a:ext cx="1663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06" name="E09.009_W0979" descr=""/>
          <p:cNvPicPr/>
          <p:nvPr/>
        </p:nvPicPr>
        <p:blipFill>
          <a:blip r:embed="rId4"/>
          <a:stretch/>
        </p:blipFill>
        <p:spPr>
          <a:xfrm>
            <a:off x="219240" y="3581280"/>
            <a:ext cx="4352760" cy="175284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457200" y="3733920"/>
            <a:ext cx="2514600" cy="1600200"/>
            <a:chOff x="457200" y="3733920"/>
            <a:chExt cx="2514600" cy="1600200"/>
          </a:xfrm>
        </p:grpSpPr>
        <p:sp>
          <p:nvSpPr>
            <p:cNvPr id="508" name=""/>
            <p:cNvSpPr/>
            <p:nvPr/>
          </p:nvSpPr>
          <p:spPr>
            <a:xfrm>
              <a:off x="457200" y="3962520"/>
              <a:ext cx="2514600" cy="1371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1523880" y="373392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666720" y="5562720"/>
                <a:ext cx="2565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6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657600" y="5791320"/>
                <a:ext cx="1041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74560" y="85680"/>
            <a:ext cx="27122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POWER 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62120" y="749160"/>
            <a:ext cx="2717640" cy="1175040"/>
            <a:chOff x="762120" y="749160"/>
            <a:chExt cx="2717640" cy="1175040"/>
          </a:xfrm>
        </p:grpSpPr>
        <p:sp>
          <p:nvSpPr>
            <p:cNvPr id="517" name=""/>
            <p:cNvSpPr/>
            <p:nvPr/>
          </p:nvSpPr>
          <p:spPr>
            <a:xfrm>
              <a:off x="2362320" y="990720"/>
              <a:ext cx="304560" cy="5331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39800" y="749160"/>
              <a:ext cx="887400" cy="239760"/>
            </a:xfrm>
            <a:custGeom>
              <a:avLst/>
              <a:gdLst/>
              <a:ahLst/>
              <a:rect l="l" t="t" r="r" b="b"/>
              <a:pathLst>
                <a:path w="559" h="151">
                  <a:moveTo>
                    <a:pt x="545" y="151"/>
                  </a:moveTo>
                  <a:cubicBezTo>
                    <a:pt x="540" y="110"/>
                    <a:pt x="559" y="57"/>
                    <a:pt x="530" y="27"/>
                  </a:cubicBezTo>
                  <a:cubicBezTo>
                    <a:pt x="505" y="0"/>
                    <a:pt x="457" y="19"/>
                    <a:pt x="420" y="19"/>
                  </a:cubicBezTo>
                  <a:cubicBezTo>
                    <a:pt x="295" y="19"/>
                    <a:pt x="171" y="24"/>
                    <a:pt x="46" y="27"/>
                  </a:cubicBezTo>
                  <a:cubicBezTo>
                    <a:pt x="16" y="38"/>
                    <a:pt x="31" y="35"/>
                    <a:pt x="0" y="3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539720" y="1522440"/>
              <a:ext cx="1020960" cy="401760"/>
            </a:xfrm>
            <a:custGeom>
              <a:avLst/>
              <a:gdLst/>
              <a:ahLst/>
              <a:rect l="l" t="t" r="r" b="b"/>
              <a:pathLst>
                <a:path w="643" h="253">
                  <a:moveTo>
                    <a:pt x="608" y="0"/>
                  </a:moveTo>
                  <a:cubicBezTo>
                    <a:pt x="605" y="70"/>
                    <a:pt x="643" y="155"/>
                    <a:pt x="600" y="210"/>
                  </a:cubicBezTo>
                  <a:cubicBezTo>
                    <a:pt x="566" y="253"/>
                    <a:pt x="491" y="217"/>
                    <a:pt x="437" y="218"/>
                  </a:cubicBezTo>
                  <a:cubicBezTo>
                    <a:pt x="291" y="220"/>
                    <a:pt x="146" y="218"/>
                    <a:pt x="0" y="2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2362320" y="1143000"/>
                  <a:ext cx="3031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21" name=""/>
            <p:cNvSpPr/>
            <p:nvPr/>
          </p:nvSpPr>
          <p:spPr>
            <a:xfrm>
              <a:off x="1066680" y="91440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762120" y="990720"/>
                  <a:ext cx="6858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∠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3" name=""/>
                <p:cNvSpPr txBox="1"/>
                <p:nvPr/>
              </p:nvSpPr>
              <p:spPr>
                <a:xfrm>
                  <a:off x="2743200" y="914400"/>
                  <a:ext cx="7365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∠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v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24" name=""/>
          <p:cNvGrpSpPr/>
          <p:nvPr/>
        </p:nvGrpSpPr>
        <p:grpSpPr>
          <a:xfrm>
            <a:off x="5486400" y="1066680"/>
            <a:ext cx="2819520" cy="1143000"/>
            <a:chOff x="5486400" y="1066680"/>
            <a:chExt cx="2819520" cy="1143000"/>
          </a:xfrm>
        </p:grpSpPr>
        <p:sp>
          <p:nvSpPr>
            <p:cNvPr id="525" name=""/>
            <p:cNvSpPr/>
            <p:nvPr/>
          </p:nvSpPr>
          <p:spPr>
            <a:xfrm>
              <a:off x="5486400" y="2209680"/>
              <a:ext cx="2819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5486400" y="1599840"/>
              <a:ext cx="1752480" cy="609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486400" y="1295280"/>
              <a:ext cx="53352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477120" y="1828800"/>
              <a:ext cx="457200" cy="380520"/>
              <a:chOff x="6477120" y="1828800"/>
              <a:chExt cx="457200" cy="380520"/>
            </a:xfrm>
          </p:grpSpPr>
          <mc:AlternateContent>
            <mc:Choice xmlns:a14="http://schemas.microsoft.com/office/drawing/2010/main" Requires="a14">
              <p:sp>
                <p:nvSpPr>
                  <p:cNvPr id="529" name=""/>
                  <p:cNvSpPr txBox="1"/>
                  <p:nvPr/>
                </p:nvSpPr>
                <p:spPr>
                  <a:xfrm>
                    <a:off x="6705720" y="1828800"/>
                    <a:ext cx="22860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30" name=""/>
              <p:cNvSpPr/>
              <p:nvPr/>
            </p:nvSpPr>
            <p:spPr>
              <a:xfrm>
                <a:off x="6477120" y="1854000"/>
                <a:ext cx="177840" cy="355320"/>
              </a:xfrm>
              <a:custGeom>
                <a:avLst/>
                <a:gdLst/>
                <a:ahLst/>
                <a:rect l="l" t="t" r="r" b="b"/>
                <a:pathLst>
                  <a:path w="112" h="224">
                    <a:moveTo>
                      <a:pt x="0" y="32"/>
                    </a:moveTo>
                    <a:cubicBezTo>
                      <a:pt x="40" y="16"/>
                      <a:pt x="80" y="0"/>
                      <a:pt x="96" y="32"/>
                    </a:cubicBezTo>
                    <a:cubicBezTo>
                      <a:pt x="112" y="64"/>
                      <a:pt x="96" y="192"/>
                      <a:pt x="96" y="224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715000" y="1676520"/>
              <a:ext cx="488880" cy="532800"/>
              <a:chOff x="5715000" y="1676520"/>
              <a:chExt cx="488880" cy="532800"/>
            </a:xfrm>
          </p:grpSpPr>
          <p:sp>
            <p:nvSpPr>
              <p:cNvPr id="532" name=""/>
              <p:cNvSpPr/>
              <p:nvPr/>
            </p:nvSpPr>
            <p:spPr>
              <a:xfrm>
                <a:off x="5715000" y="1828440"/>
                <a:ext cx="304920" cy="380880"/>
              </a:xfrm>
              <a:custGeom>
                <a:avLst/>
                <a:gdLst/>
                <a:ahLst/>
                <a:rect l="l" t="t" r="r" b="b"/>
                <a:pathLst>
                  <a:path w="192" h="240">
                    <a:moveTo>
                      <a:pt x="0" y="0"/>
                    </a:moveTo>
                    <a:cubicBezTo>
                      <a:pt x="56" y="4"/>
                      <a:pt x="112" y="8"/>
                      <a:pt x="144" y="48"/>
                    </a:cubicBezTo>
                    <a:cubicBezTo>
                      <a:pt x="176" y="88"/>
                      <a:pt x="184" y="208"/>
                      <a:pt x="192" y="24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3" name=""/>
                  <p:cNvSpPr txBox="1"/>
                  <p:nvPr/>
                </p:nvSpPr>
                <p:spPr>
                  <a:xfrm>
                    <a:off x="5943600" y="1676520"/>
                    <a:ext cx="26028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4" name=""/>
                <p:cNvSpPr txBox="1"/>
                <p:nvPr/>
              </p:nvSpPr>
              <p:spPr>
                <a:xfrm>
                  <a:off x="5867280" y="106668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5" name=""/>
                <p:cNvSpPr txBox="1"/>
                <p:nvPr/>
              </p:nvSpPr>
              <p:spPr>
                <a:xfrm>
                  <a:off x="6934320" y="137160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914400" y="1981080"/>
                <a:ext cx="2425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I</m:t>
                        </m:r>
                        <m:r>
                          <m:t xml:space="preserve">⇒</m:t>
                        </m:r>
                        <m:r>
                          <m:t xml:space="preserve">∠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37" name=""/>
          <p:cNvGrpSpPr/>
          <p:nvPr/>
        </p:nvGrpSpPr>
        <p:grpSpPr>
          <a:xfrm>
            <a:off x="5943600" y="1219320"/>
            <a:ext cx="533520" cy="685800"/>
            <a:chOff x="5943600" y="1219320"/>
            <a:chExt cx="533520" cy="685800"/>
          </a:xfrm>
        </p:grpSpPr>
        <p:sp>
          <p:nvSpPr>
            <p:cNvPr id="538" name=""/>
            <p:cNvSpPr/>
            <p:nvPr/>
          </p:nvSpPr>
          <p:spPr>
            <a:xfrm>
              <a:off x="5943600" y="1447920"/>
              <a:ext cx="444600" cy="457200"/>
            </a:xfrm>
            <a:custGeom>
              <a:avLst/>
              <a:gdLst/>
              <a:ahLst/>
              <a:rect l="l" t="t" r="r" b="b"/>
              <a:pathLst>
                <a:path w="280" h="288">
                  <a:moveTo>
                    <a:pt x="0" y="0"/>
                  </a:moveTo>
                  <a:cubicBezTo>
                    <a:pt x="100" y="0"/>
                    <a:pt x="200" y="0"/>
                    <a:pt x="240" y="48"/>
                  </a:cubicBezTo>
                  <a:cubicBezTo>
                    <a:pt x="280" y="96"/>
                    <a:pt x="240" y="248"/>
                    <a:pt x="240" y="288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"/>
                <p:cNvSpPr txBox="1"/>
                <p:nvPr/>
              </p:nvSpPr>
              <p:spPr>
                <a:xfrm>
                  <a:off x="6248520" y="1219320"/>
                  <a:ext cx="22860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914400" y="2743200"/>
                <a:ext cx="4343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5638680" y="2819520"/>
                <a:ext cx="17654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pare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3429000"/>
                <a:ext cx="3340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paren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95280" y="4267080"/>
                <a:ext cx="4737240" cy="201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ure capacitiv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°&lt;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eading or capaci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  <m:r>
                                <m:t xml:space="preserve"> 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sistive</m:t>
                              </m:r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  <m:r>
                                      <m:t xml:space="preserve">&lt;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°&lt;</m:t>
                                    </m:r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z</m:t>
                                        </m:r>
                                      </m:sub>
                                    </m:sSub>
                                    <m:r>
                                      <m:t xml:space="preserve">&lt;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  <m:r>
                                      <m:t xml:space="preserve">°</m:t>
                                    </m:r>
                                  </m:e>
                                </m:mr>
                              </m:m>
                            </m:e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agging or inductive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ure inductive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4" name=""/>
          <p:cNvGrpSpPr/>
          <p:nvPr/>
        </p:nvGrpSpPr>
        <p:grpSpPr>
          <a:xfrm>
            <a:off x="6858000" y="3809880"/>
            <a:ext cx="1801800" cy="2743200"/>
            <a:chOff x="6858000" y="3809880"/>
            <a:chExt cx="1801800" cy="2743200"/>
          </a:xfrm>
        </p:grpSpPr>
        <p:sp>
          <p:nvSpPr>
            <p:cNvPr id="545" name=""/>
            <p:cNvSpPr/>
            <p:nvPr/>
          </p:nvSpPr>
          <p:spPr>
            <a:xfrm flipV="1">
              <a:off x="6858000" y="3809880"/>
              <a:ext cx="0" cy="274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58000" y="518148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8458200" y="5257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6858000" y="3809880"/>
            <a:ext cx="1751760" cy="1371240"/>
            <a:chOff x="6858000" y="3809880"/>
            <a:chExt cx="1751760" cy="1371240"/>
          </a:xfrm>
        </p:grpSpPr>
        <p:grpSp>
          <p:nvGrpSpPr>
            <p:cNvPr id="549" name=""/>
            <p:cNvGrpSpPr/>
            <p:nvPr/>
          </p:nvGrpSpPr>
          <p:grpSpPr>
            <a:xfrm>
              <a:off x="6858000" y="4114800"/>
              <a:ext cx="1751760" cy="1066320"/>
              <a:chOff x="6858000" y="4114800"/>
              <a:chExt cx="1751760" cy="106632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6858000" y="4190760"/>
                <a:ext cx="306720" cy="990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1" name=""/>
                  <p:cNvSpPr txBox="1"/>
                  <p:nvPr/>
                </p:nvSpPr>
                <p:spPr>
                  <a:xfrm>
                    <a:off x="7241400" y="4114800"/>
                    <a:ext cx="136836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ead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paci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2" name=""/>
                <p:cNvSpPr txBox="1"/>
                <p:nvPr/>
              </p:nvSpPr>
              <p:spPr>
                <a:xfrm>
                  <a:off x="7108200" y="3809880"/>
                  <a:ext cx="14882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53" name=""/>
          <p:cNvGrpSpPr/>
          <p:nvPr/>
        </p:nvGrpSpPr>
        <p:grpSpPr>
          <a:xfrm>
            <a:off x="6858000" y="5181480"/>
            <a:ext cx="1460520" cy="1154160"/>
            <a:chOff x="6858000" y="5181480"/>
            <a:chExt cx="1460520" cy="1154160"/>
          </a:xfrm>
        </p:grpSpPr>
        <p:grpSp>
          <p:nvGrpSpPr>
            <p:cNvPr id="554" name=""/>
            <p:cNvGrpSpPr/>
            <p:nvPr/>
          </p:nvGrpSpPr>
          <p:grpSpPr>
            <a:xfrm>
              <a:off x="6858000" y="5181480"/>
              <a:ext cx="1460520" cy="1154160"/>
              <a:chOff x="6858000" y="5181480"/>
              <a:chExt cx="1460520" cy="1154160"/>
            </a:xfrm>
          </p:grpSpPr>
          <p:sp>
            <p:nvSpPr>
              <p:cNvPr id="555" name=""/>
              <p:cNvSpPr/>
              <p:nvPr/>
            </p:nvSpPr>
            <p:spPr>
              <a:xfrm>
                <a:off x="6858000" y="5181480"/>
                <a:ext cx="228600" cy="762120"/>
              </a:xfrm>
              <a:prstGeom prst="line">
                <a:avLst/>
              </a:prstGeom>
              <a:ln w="25560">
                <a:solidFill>
                  <a:srgbClr val="3399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6" name=""/>
                  <p:cNvSpPr txBox="1"/>
                  <p:nvPr/>
                </p:nvSpPr>
                <p:spPr>
                  <a:xfrm>
                    <a:off x="7086600" y="5715000"/>
                    <a:ext cx="12319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urrent lags</m:t>
                            </m:r>
                          </m:e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ductive</m:t>
                            </m:r>
                            <m:r>
                              <m:t xml:space="preserve">)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7" name=""/>
                <p:cNvSpPr txBox="1"/>
                <p:nvPr/>
              </p:nvSpPr>
              <p:spPr>
                <a:xfrm>
                  <a:off x="7162920" y="5410080"/>
                  <a:ext cx="110484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&lt;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343400" y="358128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59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F09.011_W0980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038480" cy="164916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2558880" y="44280"/>
            <a:ext cx="653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power supplied by the power compan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how it changes if the power factor is changed to 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320" y="533520"/>
            <a:ext cx="1371600" cy="2057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5120" y="2209680"/>
            <a:ext cx="17992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0" y="2590920"/>
                <a:ext cx="321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9" name=""/>
          <p:cNvGrpSpPr/>
          <p:nvPr/>
        </p:nvGrpSpPr>
        <p:grpSpPr>
          <a:xfrm>
            <a:off x="4876920" y="2325600"/>
            <a:ext cx="2921040" cy="1103040"/>
            <a:chOff x="4876920" y="2325600"/>
            <a:chExt cx="2921040" cy="1103040"/>
          </a:xfrm>
        </p:grpSpPr>
        <p:sp>
          <p:nvSpPr>
            <p:cNvPr id="570" name=""/>
            <p:cNvSpPr/>
            <p:nvPr/>
          </p:nvSpPr>
          <p:spPr>
            <a:xfrm>
              <a:off x="4876920" y="2477880"/>
              <a:ext cx="1752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76920" y="2477880"/>
              <a:ext cx="761760" cy="762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6705720" y="2325600"/>
                  <a:ext cx="1092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5715000" y="3163680"/>
                  <a:ext cx="19558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267080" y="1371600"/>
                <a:ext cx="276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4330440" y="172080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lags the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105520" y="3429000"/>
                <a:ext cx="3009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5181480" y="4191120"/>
                <a:ext cx="3517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9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0" y="3200400"/>
                <a:ext cx="38228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>
            <a:off x="254520" y="432576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13760" y="4896000"/>
            <a:ext cx="1002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pf=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29200" y="5257800"/>
            <a:ext cx="3708360" cy="671400"/>
            <a:chOff x="5029200" y="5257800"/>
            <a:chExt cx="3708360" cy="671400"/>
          </a:xfrm>
        </p:grpSpPr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5181480" y="5257800"/>
                  <a:ext cx="2032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5029200" y="5638680"/>
                  <a:ext cx="3708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7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80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9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4" name=""/>
          <p:cNvGrpSpPr/>
          <p:nvPr/>
        </p:nvGrpSpPr>
        <p:grpSpPr>
          <a:xfrm>
            <a:off x="228600" y="4800600"/>
            <a:ext cx="3487320" cy="1386720"/>
            <a:chOff x="228600" y="4800600"/>
            <a:chExt cx="3487320" cy="138672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228600" y="4800600"/>
                  <a:ext cx="293364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88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80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e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osses</m:t>
                              </m:r>
                            </m:sub>
                          </m:sSub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ms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86" name=""/>
            <p:cNvSpPr/>
            <p:nvPr/>
          </p:nvSpPr>
          <p:spPr>
            <a:xfrm>
              <a:off x="437040" y="5850000"/>
              <a:ext cx="3278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sses can be reduced by 2kW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71440" y="6248520"/>
            <a:ext cx="3826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amine also the generat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6320" y="457200"/>
                <a:ext cx="388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280440" y="1201680"/>
            <a:ext cx="7582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wer savings if the power factor can be increased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791320" y="60948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52280" y="1600200"/>
                <a:ext cx="3098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152280" y="2895480"/>
                <a:ext cx="403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07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65240" y="3886200"/>
                <a:ext cx="37972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</m:sSup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8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9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80880" y="5029200"/>
                <a:ext cx="311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ve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9" name="LossesVsPowerFactor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572000" cy="4876920"/>
          </a:xfrm>
          <a:prstGeom prst="rect">
            <a:avLst/>
          </a:prstGeom>
          <a:ln w="0">
            <a:noFill/>
          </a:ln>
        </p:spPr>
      </p:pic>
      <p:pic>
        <p:nvPicPr>
          <p:cNvPr id="60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394800" y="85680"/>
            <a:ext cx="23842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MPLE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F09.012_W0981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2895840" cy="17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76320"/>
                <a:ext cx="2870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inition of Complex Pow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609480" y="2590920"/>
                <a:ext cx="2502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ms</m:t>
                                    </m:r>
                                  </m:sub>
                                </m:sSub>
                                <m:r>
                                  <m:t xml:space="preserve">∠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222120" y="3441600"/>
                <a:ext cx="441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8" name=""/>
          <p:cNvSpPr/>
          <p:nvPr/>
        </p:nvSpPr>
        <p:spPr>
          <a:xfrm>
            <a:off x="3309840" y="686520"/>
            <a:ext cx="2573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units of appa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active power 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-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30720" y="3428640"/>
            <a:ext cx="4013280" cy="686160"/>
            <a:chOff x="5130720" y="3428640"/>
            <a:chExt cx="4013280" cy="68616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5130720" y="3773520"/>
                  <a:ext cx="40132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S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Z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r>
                        <m:t xml:space="preserve">)</m:t>
                      </m:r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  <m:sup/>
                      </m:sSubSup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p>
                        <m:e>
                          <m:r>
                            <m:t xml:space="preserve">|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664320" y="3428640"/>
              <a:ext cx="2238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other useful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5943600" y="4178160"/>
                <a:ext cx="28195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jX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r>
                                <m:t xml:space="preserve">R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ms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|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228600" y="4800600"/>
          <a:ext cx="3124080" cy="172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10040" y="3429000"/>
            <a:ext cx="2104560" cy="1112040"/>
            <a:chOff x="410040" y="3429000"/>
            <a:chExt cx="2104560" cy="111204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609480" y="3989520"/>
                  <a:ext cx="2145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410040" y="4203720"/>
              <a:ext cx="15037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3429000"/>
              <a:ext cx="19810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752560" y="3429000"/>
            <a:ext cx="1819440" cy="1247040"/>
            <a:chOff x="2752560" y="3429000"/>
            <a:chExt cx="1819440" cy="1247040"/>
          </a:xfrm>
        </p:grpSpPr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819520" y="4051440"/>
                  <a:ext cx="214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1" name=""/>
            <p:cNvSpPr/>
            <p:nvPr/>
          </p:nvSpPr>
          <p:spPr>
            <a:xfrm>
              <a:off x="2752560" y="4338720"/>
              <a:ext cx="1739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ctive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19520" y="3429000"/>
              <a:ext cx="17524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3" name=""/>
          <p:cNvGraphicFramePr/>
          <p:nvPr/>
        </p:nvGraphicFramePr>
        <p:xfrm>
          <a:off x="5867280" y="4876920"/>
          <a:ext cx="2846520" cy="1904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4876920"/>
                    <a:ext cx="2846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5" name=""/>
          <p:cNvGrpSpPr/>
          <p:nvPr/>
        </p:nvGrpSpPr>
        <p:grpSpPr>
          <a:xfrm>
            <a:off x="6324480" y="914400"/>
            <a:ext cx="2739960" cy="2300400"/>
            <a:chOff x="6324480" y="914400"/>
            <a:chExt cx="2739960" cy="2300400"/>
          </a:xfrm>
        </p:grpSpPr>
        <p:graphicFrame>
          <p:nvGraphicFramePr>
            <p:cNvPr id="626" name=""/>
            <p:cNvGraphicFramePr/>
            <p:nvPr/>
          </p:nvGraphicFramePr>
          <p:xfrm>
            <a:off x="6324480" y="914400"/>
            <a:ext cx="2427480" cy="2300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2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28" name=""/>
            <p:cNvSpPr/>
            <p:nvPr/>
          </p:nvSpPr>
          <p:spPr>
            <a:xfrm>
              <a:off x="784044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85484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0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52280" y="457200"/>
                <a:ext cx="71643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291960" y="1203120"/>
            <a:ext cx="6613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oltage and power factor at the input t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0" y="3124080"/>
                <a:ext cx="10288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079640" y="3124080"/>
                <a:ext cx="2501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8" name=""/>
          <p:cNvGrpSpPr/>
          <p:nvPr/>
        </p:nvGrpSpPr>
        <p:grpSpPr>
          <a:xfrm>
            <a:off x="6095880" y="1752480"/>
            <a:ext cx="2739960" cy="2300400"/>
            <a:chOff x="6095880" y="1752480"/>
            <a:chExt cx="2739960" cy="2300400"/>
          </a:xfrm>
        </p:grpSpPr>
        <p:graphicFrame>
          <p:nvGraphicFramePr>
            <p:cNvPr id="639" name=""/>
            <p:cNvGraphicFramePr/>
            <p:nvPr/>
          </p:nvGraphicFramePr>
          <p:xfrm>
            <a:off x="6095880" y="1752480"/>
            <a:ext cx="2427480" cy="23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175248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1" name=""/>
            <p:cNvSpPr/>
            <p:nvPr/>
          </p:nvSpPr>
          <p:spPr>
            <a:xfrm>
              <a:off x="7611840" y="176472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626240" y="364104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3821040" y="2285640"/>
            <a:ext cx="112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280" y="4038480"/>
                <a:ext cx="2692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895480" y="4038480"/>
                <a:ext cx="308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6" name="F09.014_W0983" descr=""/>
          <p:cNvPicPr/>
          <p:nvPr/>
        </p:nvPicPr>
        <p:blipFill>
          <a:blip r:embed="rId3"/>
          <a:stretch/>
        </p:blipFill>
        <p:spPr>
          <a:xfrm>
            <a:off x="152280" y="1600200"/>
            <a:ext cx="3733920" cy="152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0" y="4419720"/>
                <a:ext cx="977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0" y="4764240"/>
                <a:ext cx="5410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7</m:t>
                                </m:r>
                                <m:r>
                                  <m:t xml:space="preserve">°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°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0" y="6172200"/>
                <a:ext cx="402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0" y="5486400"/>
                <a:ext cx="4241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20</m:t>
                                </m:r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5486400" y="44197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2" name=""/>
          <p:cNvGrpSpPr/>
          <p:nvPr/>
        </p:nvGrpSpPr>
        <p:grpSpPr>
          <a:xfrm>
            <a:off x="5562720" y="4800240"/>
            <a:ext cx="2565360" cy="990720"/>
            <a:chOff x="5562720" y="4800240"/>
            <a:chExt cx="2565360" cy="990720"/>
          </a:xfrm>
        </p:grpSpPr>
        <p:grpSp>
          <p:nvGrpSpPr>
            <p:cNvPr id="653" name=""/>
            <p:cNvGrpSpPr/>
            <p:nvPr/>
          </p:nvGrpSpPr>
          <p:grpSpPr>
            <a:xfrm>
              <a:off x="5638680" y="4800240"/>
              <a:ext cx="2210040" cy="990720"/>
              <a:chOff x="5638680" y="4800240"/>
              <a:chExt cx="2210040" cy="99072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58" name=""/>
                  <p:cNvSpPr txBox="1"/>
                  <p:nvPr/>
                </p:nvSpPr>
                <p:spPr>
                  <a:xfrm>
                    <a:off x="7238880" y="5029200"/>
                    <a:ext cx="53208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59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60" name=""/>
                <p:cNvSpPr txBox="1"/>
                <p:nvPr/>
              </p:nvSpPr>
              <p:spPr>
                <a:xfrm>
                  <a:off x="7848720" y="4800600"/>
                  <a:ext cx="27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1" name=""/>
                <p:cNvSpPr txBox="1"/>
                <p:nvPr/>
              </p:nvSpPr>
              <p:spPr>
                <a:xfrm>
                  <a:off x="5562720" y="54864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62" name=""/>
          <p:cNvGrpSpPr/>
          <p:nvPr/>
        </p:nvGrpSpPr>
        <p:grpSpPr>
          <a:xfrm>
            <a:off x="6172200" y="5867280"/>
            <a:ext cx="2768760" cy="641880"/>
            <a:chOff x="6172200" y="5867280"/>
            <a:chExt cx="2768760" cy="641880"/>
          </a:xfrm>
        </p:grpSpPr>
        <mc:AlternateContent>
          <mc:Choice xmlns:a14="http://schemas.microsoft.com/office/drawing/2010/main" Requires="a14">
            <p:sp>
              <p:nvSpPr>
                <p:cNvPr id="663" name=""/>
                <p:cNvSpPr txBox="1"/>
                <p:nvPr/>
              </p:nvSpPr>
              <p:spPr>
                <a:xfrm>
                  <a:off x="6172200" y="5867280"/>
                  <a:ext cx="2768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4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4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5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52280" y="3429000"/>
                <a:ext cx="1943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0620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F09.015_W09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343400" cy="167796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06680" y="28440"/>
            <a:ext cx="550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average power flow between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which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27080" y="2666880"/>
                <a:ext cx="3098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73160" y="2286000"/>
                <a:ext cx="198432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571840" y="228600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09680" y="533520"/>
                <a:ext cx="405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27080" y="3352680"/>
                <a:ext cx="4216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127080" y="3962520"/>
                <a:ext cx="20826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280" y="5181480"/>
                <a:ext cx="5399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27080" y="4800600"/>
                <a:ext cx="3187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127080" y="5638680"/>
                <a:ext cx="309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2" name=""/>
          <p:cNvSpPr/>
          <p:nvPr/>
        </p:nvSpPr>
        <p:spPr>
          <a:xfrm>
            <a:off x="258480" y="6079680"/>
            <a:ext cx="389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upplies 7.2kW average power t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76320" y="4219560"/>
            <a:ext cx="8722800" cy="580680"/>
            <a:chOff x="76320" y="4219560"/>
            <a:chExt cx="8722800" cy="580680"/>
          </a:xfrm>
        </p:grpSpPr>
        <mc:AlternateContent>
          <mc:Choice xmlns:a14="http://schemas.microsoft.com/office/drawing/2010/main" Requires="a14">
            <p:sp>
              <p:nvSpPr>
                <p:cNvPr id="684" name=""/>
                <p:cNvSpPr txBox="1"/>
                <p:nvPr/>
              </p:nvSpPr>
              <p:spPr>
                <a:xfrm>
                  <a:off x="76320" y="4307040"/>
                  <a:ext cx="58687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I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/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6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5</m:t>
                      </m:r>
                      <m:r>
                        <m:rPr>
                          <m:lit/>
                          <m:nor/>
                        </m:rPr>
                        <m:t xml:space="preserve">°=</m:t>
                      </m:r>
                      <m:r>
                        <m:t xml:space="preserve">7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454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5</m:t>
                      </m:r>
                      <m:r>
                        <m:t xml:space="preserve">°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V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5" name=""/>
            <p:cNvSpPr/>
            <p:nvPr/>
          </p:nvSpPr>
          <p:spPr>
            <a:xfrm>
              <a:off x="6141960" y="4219560"/>
              <a:ext cx="265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received by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0" y="566640"/>
            <a:ext cx="4952880" cy="2023920"/>
            <a:chOff x="0" y="566640"/>
            <a:chExt cx="4952880" cy="2023920"/>
          </a:xfrm>
        </p:grpSpPr>
        <p:graphicFrame>
          <p:nvGraphicFramePr>
            <p:cNvPr id="691" name=""/>
            <p:cNvGraphicFramePr/>
            <p:nvPr/>
          </p:nvGraphicFramePr>
          <p:xfrm>
            <a:off x="0" y="566640"/>
            <a:ext cx="4952880" cy="202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566640"/>
                      <a:ext cx="4952880" cy="202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93" name=""/>
                <p:cNvSpPr txBox="1"/>
                <p:nvPr/>
              </p:nvSpPr>
              <p:spPr>
                <a:xfrm>
                  <a:off x="3200400" y="1404720"/>
                  <a:ext cx="16891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rPr>
                              <m:lit/>
                              <m:nor/>
                            </m:rPr>
                            <m:t xml:space="preserve">kW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lagging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4" name=""/>
                <p:cNvSpPr txBox="1"/>
                <p:nvPr/>
              </p:nvSpPr>
              <p:spPr>
                <a:xfrm>
                  <a:off x="1143000" y="566640"/>
                  <a:ext cx="4809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5" name=""/>
                <p:cNvSpPr txBox="1"/>
                <p:nvPr/>
              </p:nvSpPr>
              <p:spPr>
                <a:xfrm>
                  <a:off x="2387520" y="642600"/>
                  <a:ext cx="736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6" name=""/>
          <p:cNvSpPr/>
          <p:nvPr/>
        </p:nvSpPr>
        <p:spPr>
          <a:xfrm>
            <a:off x="2735640" y="28440"/>
            <a:ext cx="4872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real and reactive power loss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real and reactive pow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019920" y="914400"/>
            <a:ext cx="2739960" cy="2300400"/>
            <a:chOff x="6019920" y="914400"/>
            <a:chExt cx="2739960" cy="2300400"/>
          </a:xfrm>
        </p:grpSpPr>
        <p:graphicFrame>
          <p:nvGraphicFramePr>
            <p:cNvPr id="698" name=""/>
            <p:cNvGraphicFramePr/>
            <p:nvPr/>
          </p:nvGraphicFramePr>
          <p:xfrm>
            <a:off x="6019920" y="914400"/>
            <a:ext cx="2427480" cy="23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19920" y="914400"/>
                      <a:ext cx="2427480" cy="23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0" name=""/>
            <p:cNvSpPr/>
            <p:nvPr/>
          </p:nvSpPr>
          <p:spPr>
            <a:xfrm>
              <a:off x="7535880" y="926640"/>
              <a:ext cx="1127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50280" y="2802960"/>
              <a:ext cx="120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6320" y="2590920"/>
                <a:ext cx="1028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155600" y="2590920"/>
                <a:ext cx="2502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76320" y="2895480"/>
                <a:ext cx="2616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5" name=""/>
          <p:cNvGraphicFramePr/>
          <p:nvPr/>
        </p:nvGraphicFramePr>
        <p:xfrm>
          <a:off x="6019920" y="3352680"/>
          <a:ext cx="3124080" cy="172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3352680"/>
                    <a:ext cx="312408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6320" y="3519360"/>
                <a:ext cx="3454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e>
                      <m:sup/>
                    </m:sSup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0" y="411480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25640" y="2971800"/>
                <a:ext cx="3060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581280" y="3886200"/>
                <a:ext cx="2692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139680" y="4495680"/>
                <a:ext cx="3060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3276720" y="4876920"/>
                <a:ext cx="1904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30960" y="5256000"/>
            <a:ext cx="1927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 of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04920" y="5653080"/>
                <a:ext cx="6021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2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431640" y="4876920"/>
                <a:ext cx="2845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16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9" name=""/>
          <p:cNvGraphicFramePr/>
          <p:nvPr/>
        </p:nvGraphicFramePr>
        <p:xfrm>
          <a:off x="0" y="566640"/>
          <a:ext cx="495288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640"/>
                    <a:ext cx="495288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3200400" y="1405080"/>
                <a:ext cx="16891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073160" y="566640"/>
                <a:ext cx="620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387520" y="642960"/>
                <a:ext cx="736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"/>
          <p:cNvSpPr/>
          <p:nvPr/>
        </p:nvSpPr>
        <p:spPr>
          <a:xfrm>
            <a:off x="106920" y="31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50400" y="75960"/>
            <a:ext cx="61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Determine  line voltage and power factor at the supply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143000" y="2590920"/>
                <a:ext cx="317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1905120" y="28954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(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728" name=""/>
          <p:cNvGrpSpPr/>
          <p:nvPr/>
        </p:nvGrpSpPr>
        <p:grpSpPr>
          <a:xfrm>
            <a:off x="76320" y="2590920"/>
            <a:ext cx="1028520" cy="645840"/>
            <a:chOff x="76320" y="2590920"/>
            <a:chExt cx="1028520" cy="645840"/>
          </a:xfrm>
        </p:grpSpPr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76320" y="2895480"/>
                  <a:ext cx="977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/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1765440" y="3581280"/>
                <a:ext cx="2044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)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2" name=""/>
              <p:cNvSpPr txBox="1"/>
              <p:nvPr/>
            </p:nvSpPr>
            <p:spPr>
              <a:xfrm>
                <a:off x="3809880" y="365760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3" name=""/>
          <p:cNvGrpSpPr/>
          <p:nvPr/>
        </p:nvGrpSpPr>
        <p:grpSpPr>
          <a:xfrm>
            <a:off x="3886200" y="1295280"/>
            <a:ext cx="4724280" cy="1727280"/>
            <a:chOff x="3886200" y="1295280"/>
            <a:chExt cx="4724280" cy="1727280"/>
          </a:xfrm>
        </p:grpSpPr>
        <p:graphicFrame>
          <p:nvGraphicFramePr>
            <p:cNvPr id="734" name=""/>
            <p:cNvGraphicFramePr/>
            <p:nvPr/>
          </p:nvGraphicFramePr>
          <p:xfrm>
            <a:off x="5486400" y="1295280"/>
            <a:ext cx="3124080" cy="1727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86400" y="1295280"/>
                      <a:ext cx="3124080" cy="172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6" name=""/>
            <p:cNvSpPr/>
            <p:nvPr/>
          </p:nvSpPr>
          <p:spPr>
            <a:xfrm>
              <a:off x="3886200" y="1981080"/>
              <a:ext cx="1828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2057400" y="3962520"/>
            <a:ext cx="5092560" cy="290520"/>
            <a:chOff x="2057400" y="3962520"/>
            <a:chExt cx="5092560" cy="290520"/>
          </a:xfrm>
        </p:grpSpPr>
        <mc:AlternateContent>
          <mc:Choice xmlns:a14="http://schemas.microsoft.com/office/drawing/2010/main" Requires="a14">
            <p:sp>
              <p:nvSpPr>
                <p:cNvPr id="738" name=""/>
                <p:cNvSpPr txBox="1"/>
                <p:nvPr/>
              </p:nvSpPr>
              <p:spPr>
                <a:xfrm>
                  <a:off x="2057400" y="3962520"/>
                  <a:ext cx="2692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6</m:t>
                      </m:r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4800600" y="3962520"/>
                  <a:ext cx="2349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16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52280" y="434340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828800" y="4343400"/>
                <a:ext cx="3746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146160" y="4724280"/>
            <a:ext cx="4591080" cy="290520"/>
            <a:chOff x="146160" y="4724280"/>
            <a:chExt cx="4591080" cy="290520"/>
          </a:xfrm>
        </p:grpSpPr>
        <mc:AlternateContent>
          <mc:Choice xmlns:a14="http://schemas.microsoft.com/office/drawing/2010/main" Requires="a14">
            <p:sp>
              <p:nvSpPr>
                <p:cNvPr id="743" name=""/>
                <p:cNvSpPr txBox="1"/>
                <p:nvPr/>
              </p:nvSpPr>
              <p:spPr>
                <a:xfrm>
                  <a:off x="146160" y="4724280"/>
                  <a:ext cx="2552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4" name=""/>
                <p:cNvSpPr txBox="1"/>
                <p:nvPr/>
              </p:nvSpPr>
              <p:spPr>
                <a:xfrm>
                  <a:off x="2666880" y="4724280"/>
                  <a:ext cx="2070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8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1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1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5" name=""/>
          <p:cNvGrpSpPr/>
          <p:nvPr/>
        </p:nvGrpSpPr>
        <p:grpSpPr>
          <a:xfrm>
            <a:off x="6235560" y="5867280"/>
            <a:ext cx="2666880" cy="641880"/>
            <a:chOff x="6235560" y="5867280"/>
            <a:chExt cx="2666880" cy="641880"/>
          </a:xfrm>
        </p:grpSpPr>
        <mc:AlternateContent>
          <mc:Choice xmlns:a14="http://schemas.microsoft.com/office/drawing/2010/main" Requires="a14">
            <p:sp>
              <p:nvSpPr>
                <p:cNvPr id="746" name=""/>
                <p:cNvSpPr txBox="1"/>
                <p:nvPr/>
              </p:nvSpPr>
              <p:spPr>
                <a:xfrm>
                  <a:off x="6235560" y="5867280"/>
                  <a:ext cx="2641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ource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9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7" name=""/>
            <p:cNvSpPr/>
            <p:nvPr/>
          </p:nvSpPr>
          <p:spPr>
            <a:xfrm>
              <a:off x="7958160" y="6171840"/>
              <a:ext cx="94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g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16520" y="4800240"/>
            <a:ext cx="7711560" cy="990720"/>
            <a:chOff x="416520" y="4800240"/>
            <a:chExt cx="7711560" cy="990720"/>
          </a:xfrm>
        </p:grpSpPr>
        <p:grpSp>
          <p:nvGrpSpPr>
            <p:cNvPr id="749" name=""/>
            <p:cNvGrpSpPr/>
            <p:nvPr/>
          </p:nvGrpSpPr>
          <p:grpSpPr>
            <a:xfrm>
              <a:off x="5562720" y="4800240"/>
              <a:ext cx="2565360" cy="990720"/>
              <a:chOff x="5562720" y="4800240"/>
              <a:chExt cx="2565360" cy="99072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5638680" y="4800240"/>
                <a:ext cx="2210040" cy="990720"/>
                <a:chOff x="5638680" y="4800240"/>
                <a:chExt cx="2210040" cy="99072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5638680" y="5333760"/>
                  <a:ext cx="1524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V="1">
                  <a:off x="5638680" y="4800240"/>
                  <a:ext cx="2210040" cy="53316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715000" y="5333760"/>
                  <a:ext cx="304920" cy="457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754" name=""/>
                  <p:cNvSpPr txBox="1"/>
                  <p:nvPr/>
                </p:nvSpPr>
                <p:spPr>
                  <a:xfrm>
                    <a:off x="7243920" y="5029200"/>
                    <a:ext cx="5205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5" name=""/>
                  <p:cNvSpPr txBox="1"/>
                  <p:nvPr/>
                </p:nvSpPr>
                <p:spPr>
                  <a:xfrm>
                    <a:off x="6019920" y="5410080"/>
                    <a:ext cx="79992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6" name=""/>
                  <p:cNvSpPr txBox="1"/>
                  <p:nvPr/>
                </p:nvSpPr>
                <p:spPr>
                  <a:xfrm>
                    <a:off x="7848720" y="4800600"/>
                    <a:ext cx="279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7" name=""/>
                  <p:cNvSpPr txBox="1"/>
                  <p:nvPr/>
                </p:nvSpPr>
                <p:spPr>
                  <a:xfrm>
                    <a:off x="5562720" y="5486400"/>
                    <a:ext cx="25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58" name=""/>
                  <p:cNvSpPr txBox="1"/>
                  <p:nvPr/>
                </p:nvSpPr>
                <p:spPr>
                  <a:xfrm>
                    <a:off x="7162920" y="5257800"/>
                    <a:ext cx="2649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9" name=""/>
            <p:cNvSpPr/>
            <p:nvPr/>
          </p:nvSpPr>
          <p:spPr>
            <a:xfrm>
              <a:off x="416520" y="5119560"/>
              <a:ext cx="4806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hasor diagram helps in visu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relationship between voltage and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F09.017_W0986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2971800" cy="2232000"/>
          </a:xfrm>
          <a:prstGeom prst="rect">
            <a:avLst/>
          </a:prstGeom>
          <a:ln w="0">
            <a:noFill/>
          </a:ln>
        </p:spPr>
      </p:pic>
      <p:pic>
        <p:nvPicPr>
          <p:cNvPr id="764" name="LossesVsPowerFactor" descr=""/>
          <p:cNvPicPr/>
          <p:nvPr/>
        </p:nvPicPr>
        <p:blipFill>
          <a:blip r:embed="rId2"/>
          <a:stretch/>
        </p:blipFill>
        <p:spPr>
          <a:xfrm>
            <a:off x="0" y="38088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1216080" y="915120"/>
            <a:ext cx="300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ower factors incre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sses and are penaliz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661760" y="1752480"/>
            <a:ext cx="2520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industrial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in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-7560" y="3962160"/>
            <a:ext cx="4588200" cy="2895480"/>
            <a:chOff x="-7560" y="3962160"/>
            <a:chExt cx="4588200" cy="2895480"/>
          </a:xfrm>
        </p:grpSpPr>
        <p:pic>
          <p:nvPicPr>
            <p:cNvPr id="768" name="F09.016_W0985" descr=""/>
            <p:cNvPicPr/>
            <p:nvPr/>
          </p:nvPicPr>
          <p:blipFill>
            <a:blip r:embed="rId3"/>
            <a:stretch/>
          </p:blipFill>
          <p:spPr>
            <a:xfrm>
              <a:off x="136440" y="4333680"/>
              <a:ext cx="40575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-7560" y="3962160"/>
              <a:ext cx="4588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approach to power factor cor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4419720" y="533520"/>
                <a:ext cx="293364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out capacitor: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ld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1612800"/>
                <a:ext cx="28699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ith capacit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781680" y="1447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7416720" y="0"/>
                <a:ext cx="172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743880" y="2705040"/>
                <a:ext cx="240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04120" y="3505320"/>
                <a:ext cx="173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2622960" y="59040"/>
            <a:ext cx="38869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2840" y="85680"/>
            <a:ext cx="2320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040" y="515880"/>
            <a:ext cx="44114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inusoidal (and other periodic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ute averages over on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219320"/>
                <a:ext cx="711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84320" y="1905120"/>
                <a:ext cx="4343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" y="25146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278640" y="3200400"/>
            <a:ext cx="3695040" cy="866880"/>
            <a:chOff x="278640" y="3200400"/>
            <a:chExt cx="3695040" cy="866880"/>
          </a:xfrm>
        </p:grpSpPr>
        <p:sp>
          <p:nvSpPr>
            <p:cNvPr id="82" name=""/>
            <p:cNvSpPr/>
            <p:nvPr/>
          </p:nvSpPr>
          <p:spPr>
            <a:xfrm>
              <a:off x="278640" y="3200400"/>
              <a:ext cx="3695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082520" y="35229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9880" y="4416480"/>
            <a:ext cx="4248360" cy="612720"/>
            <a:chOff x="119880" y="4416480"/>
            <a:chExt cx="4248360" cy="612720"/>
          </a:xfrm>
        </p:grpSpPr>
        <p:sp>
          <p:nvSpPr>
            <p:cNvPr id="85" name=""/>
            <p:cNvSpPr/>
            <p:nvPr/>
          </p:nvSpPr>
          <p:spPr>
            <a:xfrm>
              <a:off x="119880" y="4416480"/>
              <a:ext cx="424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quadr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990720" y="4738680"/>
                  <a:ext cx="2120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3143880" y="3639960"/>
            <a:ext cx="1396800" cy="1997280"/>
            <a:chOff x="3143880" y="3639960"/>
            <a:chExt cx="1396800" cy="1997280"/>
          </a:xfrm>
        </p:grpSpPr>
        <p:sp>
          <p:nvSpPr>
            <p:cNvPr id="88" name=""/>
            <p:cNvSpPr/>
            <p:nvPr/>
          </p:nvSpPr>
          <p:spPr>
            <a:xfrm>
              <a:off x="3278880" y="3639960"/>
              <a:ext cx="10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43880" y="4813200"/>
              <a:ext cx="139680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urel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ive 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435760" y="2514600"/>
            <a:ext cx="203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t does not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o le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40120" y="135000"/>
            <a:ext cx="4250160" cy="2170080"/>
            <a:chOff x="4740120" y="135000"/>
            <a:chExt cx="4250160" cy="2170080"/>
          </a:xfrm>
        </p:grpSpPr>
        <p:sp>
          <p:nvSpPr>
            <p:cNvPr id="92" name=""/>
            <p:cNvSpPr/>
            <p:nvPr/>
          </p:nvSpPr>
          <p:spPr>
            <a:xfrm>
              <a:off x="4740120" y="1350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F09.003_W0963" descr=""/>
            <p:cNvPicPr/>
            <p:nvPr/>
          </p:nvPicPr>
          <p:blipFill>
            <a:blip r:embed="rId1"/>
            <a:stretch/>
          </p:blipFill>
          <p:spPr>
            <a:xfrm>
              <a:off x="4800600" y="609480"/>
              <a:ext cx="210492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107120" y="228600"/>
              <a:ext cx="188316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nd the ave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imped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029200" y="2438280"/>
                <a:ext cx="3657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105520" y="3124080"/>
                <a:ext cx="3365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7" name=""/>
          <p:cNvGrpSpPr/>
          <p:nvPr/>
        </p:nvGrpSpPr>
        <p:grpSpPr>
          <a:xfrm>
            <a:off x="160200" y="3068640"/>
            <a:ext cx="7472520" cy="853920"/>
            <a:chOff x="160200" y="3068640"/>
            <a:chExt cx="7472520" cy="853920"/>
          </a:xfrm>
        </p:grpSpPr>
        <p:sp>
          <p:nvSpPr>
            <p:cNvPr id="98" name=""/>
            <p:cNvSpPr/>
            <p:nvPr/>
          </p:nvSpPr>
          <p:spPr>
            <a:xfrm>
              <a:off x="160200" y="3068640"/>
              <a:ext cx="5035680" cy="803160"/>
            </a:xfrm>
            <a:custGeom>
              <a:avLst/>
              <a:gdLst/>
              <a:ahLst/>
              <a:rect l="l" t="t" r="r" b="b"/>
              <a:pathLst>
                <a:path w="3172" h="506">
                  <a:moveTo>
                    <a:pt x="0" y="31"/>
                  </a:moveTo>
                  <a:cubicBezTo>
                    <a:pt x="427" y="58"/>
                    <a:pt x="852" y="27"/>
                    <a:pt x="1278" y="0"/>
                  </a:cubicBezTo>
                  <a:cubicBezTo>
                    <a:pt x="1543" y="9"/>
                    <a:pt x="1808" y="22"/>
                    <a:pt x="2073" y="31"/>
                  </a:cubicBezTo>
                  <a:cubicBezTo>
                    <a:pt x="2146" y="47"/>
                    <a:pt x="2217" y="71"/>
                    <a:pt x="2291" y="78"/>
                  </a:cubicBezTo>
                  <a:cubicBezTo>
                    <a:pt x="2405" y="89"/>
                    <a:pt x="2523" y="56"/>
                    <a:pt x="2634" y="85"/>
                  </a:cubicBezTo>
                  <a:cubicBezTo>
                    <a:pt x="2746" y="115"/>
                    <a:pt x="2828" y="257"/>
                    <a:pt x="2884" y="350"/>
                  </a:cubicBezTo>
                  <a:cubicBezTo>
                    <a:pt x="2895" y="387"/>
                    <a:pt x="2900" y="472"/>
                    <a:pt x="2915" y="498"/>
                  </a:cubicBezTo>
                  <a:cubicBezTo>
                    <a:pt x="2919" y="505"/>
                    <a:pt x="2930" y="503"/>
                    <a:pt x="2938" y="506"/>
                  </a:cubicBezTo>
                  <a:cubicBezTo>
                    <a:pt x="3156" y="498"/>
                    <a:pt x="3078" y="498"/>
                    <a:pt x="3172" y="49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5181480" y="3657600"/>
                  <a:ext cx="2451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0880" y="1143000"/>
                <a:ext cx="1460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172200" y="83808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876920" y="5029200"/>
                <a:ext cx="3251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15000" y="5638680"/>
                <a:ext cx="1790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733280" y="4097160"/>
            <a:ext cx="4339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inductor does not absorb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use voltages and currents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ive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000" y="3587760"/>
            <a:ext cx="4724640" cy="2155680"/>
          </a:xfrm>
          <a:custGeom>
            <a:avLst/>
            <a:gdLst/>
            <a:ahLst/>
            <a:rect l="l" t="t" r="r" b="b"/>
            <a:pathLst>
              <a:path w="2976" h="1358">
                <a:moveTo>
                  <a:pt x="0" y="0"/>
                </a:moveTo>
                <a:cubicBezTo>
                  <a:pt x="41" y="99"/>
                  <a:pt x="47" y="222"/>
                  <a:pt x="124" y="296"/>
                </a:cubicBezTo>
                <a:cubicBezTo>
                  <a:pt x="173" y="343"/>
                  <a:pt x="259" y="306"/>
                  <a:pt x="327" y="312"/>
                </a:cubicBezTo>
                <a:cubicBezTo>
                  <a:pt x="696" y="343"/>
                  <a:pt x="366" y="325"/>
                  <a:pt x="1021" y="335"/>
                </a:cubicBezTo>
                <a:cubicBezTo>
                  <a:pt x="1374" y="347"/>
                  <a:pt x="1728" y="352"/>
                  <a:pt x="2080" y="382"/>
                </a:cubicBezTo>
                <a:cubicBezTo>
                  <a:pt x="2111" y="390"/>
                  <a:pt x="2145" y="385"/>
                  <a:pt x="2174" y="397"/>
                </a:cubicBezTo>
                <a:cubicBezTo>
                  <a:pt x="2370" y="475"/>
                  <a:pt x="2192" y="439"/>
                  <a:pt x="2314" y="460"/>
                </a:cubicBezTo>
                <a:cubicBezTo>
                  <a:pt x="2334" y="528"/>
                  <a:pt x="2337" y="600"/>
                  <a:pt x="2369" y="662"/>
                </a:cubicBezTo>
                <a:cubicBezTo>
                  <a:pt x="2380" y="733"/>
                  <a:pt x="2382" y="768"/>
                  <a:pt x="2415" y="834"/>
                </a:cubicBezTo>
                <a:cubicBezTo>
                  <a:pt x="2420" y="844"/>
                  <a:pt x="2426" y="855"/>
                  <a:pt x="2431" y="865"/>
                </a:cubicBezTo>
                <a:cubicBezTo>
                  <a:pt x="2436" y="875"/>
                  <a:pt x="2447" y="896"/>
                  <a:pt x="2447" y="896"/>
                </a:cubicBezTo>
                <a:cubicBezTo>
                  <a:pt x="2456" y="933"/>
                  <a:pt x="2470" y="968"/>
                  <a:pt x="2478" y="1005"/>
                </a:cubicBezTo>
                <a:cubicBezTo>
                  <a:pt x="2490" y="1060"/>
                  <a:pt x="2483" y="1110"/>
                  <a:pt x="2509" y="1161"/>
                </a:cubicBezTo>
                <a:cubicBezTo>
                  <a:pt x="2512" y="1177"/>
                  <a:pt x="2514" y="1192"/>
                  <a:pt x="2517" y="1208"/>
                </a:cubicBezTo>
                <a:cubicBezTo>
                  <a:pt x="2549" y="1350"/>
                  <a:pt x="2521" y="1353"/>
                  <a:pt x="2680" y="1356"/>
                </a:cubicBezTo>
                <a:cubicBezTo>
                  <a:pt x="2779" y="1358"/>
                  <a:pt x="2877" y="1356"/>
                  <a:pt x="2976" y="135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F09.018_W0986a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809880" cy="9288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185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2438280" y="1892160"/>
                <a:ext cx="215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sSub>
                          <m:e>
                            <m:r>
                              <m:t xml:space="preserve">°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576720" y="1857240"/>
            <a:ext cx="1610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oto-mol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666880" y="-19080"/>
                <a:ext cx="62373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ermine the capacitor required to increase the power fa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85" name=""/>
          <p:cNvGrpSpPr/>
          <p:nvPr/>
        </p:nvGrpSpPr>
        <p:grpSpPr>
          <a:xfrm>
            <a:off x="76320" y="2590920"/>
            <a:ext cx="3581280" cy="290520"/>
            <a:chOff x="76320" y="259092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76320" y="259092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7" name=""/>
                <p:cNvSpPr txBox="1"/>
                <p:nvPr/>
              </p:nvSpPr>
              <p:spPr>
                <a:xfrm>
                  <a:off x="1155600" y="259092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82440" y="2895480"/>
                <a:ext cx="2603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2736720" y="2971800"/>
                <a:ext cx="3238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95400" y="3581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495680" y="3657600"/>
                <a:ext cx="3657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9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3960" y="4419720"/>
                <a:ext cx="4711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280" y="4876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19520" y="4952880"/>
                <a:ext cx="57290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156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5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76320" y="609480"/>
                <a:ext cx="388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2737440" y="0"/>
            <a:ext cx="5342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apacitor necessary to increase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 to 0.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22120" y="1371600"/>
            <a:ext cx="3581280" cy="290520"/>
            <a:chOff x="222120" y="1371600"/>
            <a:chExt cx="3581280" cy="290520"/>
          </a:xfrm>
        </p:grpSpPr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222120" y="1371600"/>
                  <a:ext cx="1028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Re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301400" y="1371600"/>
                  <a:ext cx="25020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|</m:t>
                      </m:r>
                      <m:r>
                        <m:t xml:space="preserve">S</m:t>
                      </m:r>
                      <m:r>
                        <m:t xml:space="preserve">|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pf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3360" y="1676520"/>
                <a:ext cx="2934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048120" y="1752480"/>
                <a:ext cx="34542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95400" y="2438280"/>
                <a:ext cx="43560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4552920" y="2514600"/>
                <a:ext cx="3543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3</m:t>
                    </m:r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666720" y="3276720"/>
                <a:ext cx="4826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52280" y="3733920"/>
                <a:ext cx="2324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ω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876400" y="3809880"/>
                <a:ext cx="56134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pacitor</m:t>
                            </m:r>
                          </m:sub>
                        </m:sSub>
                      </m:num>
                      <m:den>
                        <m:r>
                          <m:t xml:space="preserve">ω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733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1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4343400" y="3429000"/>
            <a:ext cx="4800600" cy="3024360"/>
            <a:chOff x="4343400" y="3429000"/>
            <a:chExt cx="4800600" cy="3024360"/>
          </a:xfrm>
        </p:grpSpPr>
        <p:graphicFrame>
          <p:nvGraphicFramePr>
            <p:cNvPr id="815" name=""/>
            <p:cNvGraphicFramePr/>
            <p:nvPr/>
          </p:nvGraphicFramePr>
          <p:xfrm>
            <a:off x="6864480" y="3429000"/>
            <a:ext cx="2279520" cy="3024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64480" y="3429000"/>
                      <a:ext cx="227952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7" name=""/>
            <p:cNvGraphicFramePr/>
            <p:nvPr/>
          </p:nvGraphicFramePr>
          <p:xfrm>
            <a:off x="4343400" y="3429000"/>
            <a:ext cx="2268360" cy="3024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3429000"/>
                      <a:ext cx="2268360" cy="30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19" name=""/>
          <p:cNvGraphicFramePr/>
          <p:nvPr/>
        </p:nvGraphicFramePr>
        <p:xfrm>
          <a:off x="2590920" y="762120"/>
          <a:ext cx="173340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762120"/>
                    <a:ext cx="17334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9640" y="686520"/>
            <a:ext cx="2481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circuit norm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for reside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8080" y="1678320"/>
            <a:ext cx="2680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lin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supply 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iances (AC, dryer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-to-neutral for 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mall appli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3" name=""/>
          <p:cNvGrpSpPr/>
          <p:nvPr/>
        </p:nvGrpSpPr>
        <p:grpSpPr>
          <a:xfrm>
            <a:off x="16200" y="3429000"/>
            <a:ext cx="3564720" cy="2895480"/>
            <a:chOff x="16200" y="3429000"/>
            <a:chExt cx="3564720" cy="2895480"/>
          </a:xfrm>
        </p:grpSpPr>
        <p:graphicFrame>
          <p:nvGraphicFramePr>
            <p:cNvPr id="824" name=""/>
            <p:cNvGraphicFramePr/>
            <p:nvPr/>
          </p:nvGraphicFramePr>
          <p:xfrm>
            <a:off x="1647720" y="3429000"/>
            <a:ext cx="1933200" cy="2895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647720" y="3429000"/>
                      <a:ext cx="193320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6" name=""/>
            <p:cNvSpPr/>
            <p:nvPr/>
          </p:nvSpPr>
          <p:spPr>
            <a:xfrm>
              <a:off x="16200" y="3681360"/>
              <a:ext cx="1460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circu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267520" y="341280"/>
            <a:ext cx="3876480" cy="3087720"/>
            <a:chOff x="5267520" y="341280"/>
            <a:chExt cx="3876480" cy="3087720"/>
          </a:xfrm>
        </p:grpSpPr>
        <p:graphicFrame>
          <p:nvGraphicFramePr>
            <p:cNvPr id="828" name=""/>
            <p:cNvGraphicFramePr/>
            <p:nvPr/>
          </p:nvGraphicFramePr>
          <p:xfrm>
            <a:off x="6691320" y="341280"/>
            <a:ext cx="2452680" cy="308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2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91320" y="341280"/>
                      <a:ext cx="2452680" cy="308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0" name=""/>
            <p:cNvSpPr/>
            <p:nvPr/>
          </p:nvSpPr>
          <p:spPr>
            <a:xfrm>
              <a:off x="5267520" y="762840"/>
              <a:ext cx="109980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4236120" y="2771640"/>
            <a:ext cx="250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case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92360" y="6521040"/>
            <a:ext cx="24818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current 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2057400" y="3886200"/>
            <a:ext cx="990720" cy="1989000"/>
            <a:chOff x="2057400" y="3886200"/>
            <a:chExt cx="990720" cy="1989000"/>
          </a:xfrm>
        </p:grpSpPr>
        <p:sp>
          <p:nvSpPr>
            <p:cNvPr id="834" name=""/>
            <p:cNvSpPr/>
            <p:nvPr/>
          </p:nvSpPr>
          <p:spPr>
            <a:xfrm>
              <a:off x="2189160" y="5008320"/>
              <a:ext cx="828720" cy="866880"/>
            </a:xfrm>
            <a:custGeom>
              <a:avLst/>
              <a:gdLst/>
              <a:ahLst/>
              <a:rect l="l" t="t" r="r" b="b"/>
              <a:pathLst>
                <a:path w="522" h="546">
                  <a:moveTo>
                    <a:pt x="0" y="546"/>
                  </a:moveTo>
                  <a:cubicBezTo>
                    <a:pt x="3" y="530"/>
                    <a:pt x="7" y="515"/>
                    <a:pt x="8" y="499"/>
                  </a:cubicBezTo>
                  <a:cubicBezTo>
                    <a:pt x="13" y="374"/>
                    <a:pt x="2" y="249"/>
                    <a:pt x="16" y="125"/>
                  </a:cubicBezTo>
                  <a:cubicBezTo>
                    <a:pt x="21" y="81"/>
                    <a:pt x="47" y="42"/>
                    <a:pt x="63" y="0"/>
                  </a:cubicBezTo>
                  <a:cubicBezTo>
                    <a:pt x="217" y="5"/>
                    <a:pt x="369" y="15"/>
                    <a:pt x="522" y="23"/>
                  </a:cubicBezTo>
                  <a:cubicBezTo>
                    <a:pt x="516" y="119"/>
                    <a:pt x="507" y="209"/>
                    <a:pt x="491" y="304"/>
                  </a:cubicBezTo>
                  <a:cubicBezTo>
                    <a:pt x="482" y="354"/>
                    <a:pt x="503" y="448"/>
                    <a:pt x="452" y="452"/>
                  </a:cubicBezTo>
                  <a:cubicBezTo>
                    <a:pt x="354" y="459"/>
                    <a:pt x="255" y="457"/>
                    <a:pt x="156" y="460"/>
                  </a:cubicBezTo>
                  <a:cubicBezTo>
                    <a:pt x="91" y="468"/>
                    <a:pt x="115" y="468"/>
                    <a:pt x="86" y="4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57400" y="3886200"/>
              <a:ext cx="990720" cy="1022400"/>
            </a:xfrm>
            <a:custGeom>
              <a:avLst/>
              <a:gdLst/>
              <a:ahLst/>
              <a:rect l="l" t="t" r="r" b="b"/>
              <a:pathLst>
                <a:path w="624" h="644">
                  <a:moveTo>
                    <a:pt x="78" y="502"/>
                  </a:moveTo>
                  <a:cubicBezTo>
                    <a:pt x="88" y="345"/>
                    <a:pt x="65" y="178"/>
                    <a:pt x="109" y="26"/>
                  </a:cubicBezTo>
                  <a:cubicBezTo>
                    <a:pt x="270" y="29"/>
                    <a:pt x="435" y="0"/>
                    <a:pt x="593" y="34"/>
                  </a:cubicBezTo>
                  <a:cubicBezTo>
                    <a:pt x="624" y="41"/>
                    <a:pt x="580" y="96"/>
                    <a:pt x="577" y="128"/>
                  </a:cubicBezTo>
                  <a:cubicBezTo>
                    <a:pt x="565" y="250"/>
                    <a:pt x="571" y="180"/>
                    <a:pt x="561" y="338"/>
                  </a:cubicBezTo>
                  <a:cubicBezTo>
                    <a:pt x="559" y="429"/>
                    <a:pt x="591" y="528"/>
                    <a:pt x="554" y="611"/>
                  </a:cubicBezTo>
                  <a:cubicBezTo>
                    <a:pt x="539" y="644"/>
                    <a:pt x="481" y="604"/>
                    <a:pt x="445" y="603"/>
                  </a:cubicBezTo>
                  <a:cubicBezTo>
                    <a:pt x="179" y="595"/>
                    <a:pt x="160" y="595"/>
                    <a:pt x="0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534240" y="4572720"/>
            <a:ext cx="10159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ut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84920" y="1752480"/>
            <a:ext cx="1591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exercis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m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132640" y="163800"/>
            <a:ext cx="48290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GLE-PHASE THREE-WIR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227160" y="533520"/>
          <a:ext cx="37353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533520"/>
                    <a:ext cx="37353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"/>
          <p:cNvSpPr/>
          <p:nvPr/>
        </p:nvSpPr>
        <p:spPr>
          <a:xfrm>
            <a:off x="2604600" y="28440"/>
            <a:ext cx="5958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energy use over a 24-hour period and the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rate is $0.08/kW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743200" y="761400"/>
            <a:ext cx="2023560" cy="451440"/>
            <a:chOff x="2743200" y="761400"/>
            <a:chExt cx="2023560" cy="451440"/>
          </a:xfrm>
        </p:grpSpPr>
        <mc:AlternateContent>
          <mc:Choice xmlns:a14="http://schemas.microsoft.com/office/drawing/2010/main" Requires="a14">
            <p:sp>
              <p:nvSpPr>
                <p:cNvPr id="847" name=""/>
                <p:cNvSpPr txBox="1"/>
                <p:nvPr/>
              </p:nvSpPr>
              <p:spPr>
                <a:xfrm>
                  <a:off x="2743200" y="914400"/>
                  <a:ext cx="69876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8" name=""/>
            <p:cNvSpPr/>
            <p:nvPr/>
          </p:nvSpPr>
          <p:spPr>
            <a:xfrm>
              <a:off x="3648600" y="761400"/>
              <a:ext cx="11181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ghts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2400480" y="2681280"/>
            <a:ext cx="1257120" cy="763920"/>
            <a:chOff x="2400480" y="2681280"/>
            <a:chExt cx="1257120" cy="763920"/>
          </a:xfrm>
        </p:grpSpPr>
        <mc:AlternateContent>
          <mc:Choice xmlns:a14="http://schemas.microsoft.com/office/drawing/2010/main" Requires="a14">
            <p:sp>
              <p:nvSpPr>
                <p:cNvPr id="850" name=""/>
                <p:cNvSpPr txBox="1"/>
                <p:nvPr/>
              </p:nvSpPr>
              <p:spPr>
                <a:xfrm>
                  <a:off x="2743200" y="2681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1" name=""/>
            <p:cNvSpPr/>
            <p:nvPr/>
          </p:nvSpPr>
          <p:spPr>
            <a:xfrm>
              <a:off x="2400480" y="3107880"/>
              <a:ext cx="1148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reo 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3809880" y="1143000"/>
                <a:ext cx="85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486400" y="3505320"/>
                <a:ext cx="140976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4" name=""/>
          <p:cNvGrpSpPr/>
          <p:nvPr/>
        </p:nvGrpSpPr>
        <p:grpSpPr>
          <a:xfrm>
            <a:off x="-6840" y="457200"/>
            <a:ext cx="1275120" cy="1509840"/>
            <a:chOff x="-6840" y="457200"/>
            <a:chExt cx="1275120" cy="1509840"/>
          </a:xfrm>
        </p:grpSpPr>
        <p:sp>
          <p:nvSpPr>
            <p:cNvPr id="855" name=""/>
            <p:cNvSpPr/>
            <p:nvPr/>
          </p:nvSpPr>
          <p:spPr>
            <a:xfrm>
              <a:off x="-6840" y="457200"/>
              <a:ext cx="127512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iv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6" name=""/>
                <p:cNvSpPr txBox="1"/>
                <p:nvPr/>
              </p:nvSpPr>
              <p:spPr>
                <a:xfrm>
                  <a:off x="76320" y="1676520"/>
                  <a:ext cx="1181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380880" y="3632040"/>
                <a:ext cx="322596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rage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76320" y="4089240"/>
                <a:ext cx="4660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gh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6320" y="4470480"/>
                <a:ext cx="3860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6320" y="4851360"/>
                <a:ext cx="394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tere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H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76320" y="5232240"/>
                <a:ext cx="1841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il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rPr>
                        <m:lit/>
                        <m:nor/>
                      </m:rPr>
                      <m:t xml:space="preserve">kW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3352680" y="5232240"/>
                <a:ext cx="1663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t</m:t>
                    </m:r>
                    <m:r>
                      <m:t xml:space="preserve">=</m:t>
                    </m:r>
                    <m:r>
                      <m:t xml:space="preserve">$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a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5410080" y="5105520"/>
                <a:ext cx="3149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7002360" y="3595680"/>
            <a:ext cx="1344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lin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F09.021B_W0989" descr=""/>
          <p:cNvPicPr/>
          <p:nvPr/>
        </p:nvPicPr>
        <p:blipFill>
          <a:blip r:embed="rId3"/>
          <a:stretch/>
        </p:blipFill>
        <p:spPr>
          <a:xfrm>
            <a:off x="4800600" y="719280"/>
            <a:ext cx="4191120" cy="20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6" name=""/>
          <p:cNvGraphicFramePr/>
          <p:nvPr/>
        </p:nvGraphicFramePr>
        <p:xfrm>
          <a:off x="4800600" y="685800"/>
          <a:ext cx="4334040" cy="270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00600" y="685800"/>
                    <a:ext cx="433404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8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391680" y="163800"/>
            <a:ext cx="34344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FETY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F09.022_W0990" descr=""/>
          <p:cNvPicPr/>
          <p:nvPr/>
        </p:nvPicPr>
        <p:blipFill>
          <a:blip r:embed="rId1"/>
          <a:stretch/>
        </p:blipFill>
        <p:spPr>
          <a:xfrm>
            <a:off x="5257800" y="76320"/>
            <a:ext cx="3809880" cy="6734160"/>
          </a:xfrm>
          <a:prstGeom prst="rect">
            <a:avLst/>
          </a:prstGeom>
          <a:ln w="0">
            <a:noFill/>
          </a:ln>
        </p:spPr>
      </p:pic>
      <p:sp>
        <p:nvSpPr>
          <p:cNvPr id="873" name=""/>
          <p:cNvSpPr/>
          <p:nvPr/>
        </p:nvSpPr>
        <p:spPr>
          <a:xfrm>
            <a:off x="1007640" y="884160"/>
            <a:ext cx="465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verage effect of 60Hz current from han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nd and passing the he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21880" y="1919160"/>
            <a:ext cx="476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quired voltage depends on contact, 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other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76320" y="3505320"/>
            <a:ext cx="4876560" cy="2485440"/>
            <a:chOff x="76320" y="3505320"/>
            <a:chExt cx="4876560" cy="2485440"/>
          </a:xfrm>
        </p:grpSpPr>
        <p:pic>
          <p:nvPicPr>
            <p:cNvPr id="876" name="F09.023_W0991" descr=""/>
            <p:cNvPicPr/>
            <p:nvPr/>
          </p:nvPicPr>
          <p:blipFill>
            <a:blip r:embed="rId2"/>
            <a:stretch/>
          </p:blipFill>
          <p:spPr>
            <a:xfrm>
              <a:off x="76320" y="3505320"/>
              <a:ext cx="487656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234720" y="5410080"/>
              <a:ext cx="447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ypical residential circuit with ground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ut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773640" y="6048360"/>
            <a:ext cx="3786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conductor is not need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rmal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F09.024_W0992" descr=""/>
          <p:cNvPicPr/>
          <p:nvPr/>
        </p:nvPicPr>
        <p:blipFill>
          <a:blip r:embed="rId1"/>
          <a:stretch/>
        </p:blipFill>
        <p:spPr>
          <a:xfrm>
            <a:off x="838080" y="752400"/>
            <a:ext cx="5114880" cy="267660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2568240" y="75960"/>
            <a:ext cx="3672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ed safety due to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29560" y="669600"/>
            <a:ext cx="4658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switched on the tool case is energ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69760" y="1097640"/>
            <a:ext cx="364032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out the ground connect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r can be exposed to the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y 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221000" y="2446200"/>
            <a:ext cx="1486080" cy="970200"/>
          </a:xfrm>
          <a:custGeom>
            <a:avLst/>
            <a:gdLst/>
            <a:ahLst/>
            <a:rect l="l" t="t" r="r" b="b"/>
            <a:pathLst>
              <a:path w="936" h="611">
                <a:moveTo>
                  <a:pt x="879" y="283"/>
                </a:moveTo>
                <a:cubicBezTo>
                  <a:pt x="744" y="193"/>
                  <a:pt x="713" y="165"/>
                  <a:pt x="575" y="96"/>
                </a:cubicBezTo>
                <a:cubicBezTo>
                  <a:pt x="540" y="78"/>
                  <a:pt x="504" y="59"/>
                  <a:pt x="466" y="49"/>
                </a:cubicBezTo>
                <a:cubicBezTo>
                  <a:pt x="423" y="38"/>
                  <a:pt x="333" y="33"/>
                  <a:pt x="333" y="33"/>
                </a:cubicBezTo>
                <a:cubicBezTo>
                  <a:pt x="159" y="39"/>
                  <a:pt x="145" y="0"/>
                  <a:pt x="61" y="88"/>
                </a:cubicBezTo>
                <a:cubicBezTo>
                  <a:pt x="31" y="235"/>
                  <a:pt x="0" y="482"/>
                  <a:pt x="162" y="563"/>
                </a:cubicBezTo>
                <a:cubicBezTo>
                  <a:pt x="222" y="593"/>
                  <a:pt x="342" y="598"/>
                  <a:pt x="411" y="610"/>
                </a:cubicBezTo>
                <a:cubicBezTo>
                  <a:pt x="610" y="606"/>
                  <a:pt x="703" y="611"/>
                  <a:pt x="863" y="587"/>
                </a:cubicBezTo>
                <a:cubicBezTo>
                  <a:pt x="877" y="545"/>
                  <a:pt x="895" y="504"/>
                  <a:pt x="910" y="462"/>
                </a:cubicBezTo>
                <a:cubicBezTo>
                  <a:pt x="898" y="247"/>
                  <a:pt x="936" y="363"/>
                  <a:pt x="824" y="25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123160" y="3184200"/>
            <a:ext cx="3015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ing due to wet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134000" y="3672000"/>
            <a:ext cx="74016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case is grounded then the supply is shorted and the fuse acts to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5040" y="756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050560" y="4555800"/>
            <a:ext cx="488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numbers in a related case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F09.026_W0994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7696080" cy="28987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873000" y="2574360"/>
            <a:ext cx="254916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prong rem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54160" y="3429000"/>
            <a:ext cx="2434680" cy="1661760"/>
            <a:chOff x="254160" y="3429000"/>
            <a:chExt cx="2434680" cy="1661760"/>
          </a:xfrm>
        </p:grpSpPr>
        <p:graphicFrame>
          <p:nvGraphicFramePr>
            <p:cNvPr id="898" name=""/>
            <p:cNvGraphicFramePr/>
            <p:nvPr/>
          </p:nvGraphicFramePr>
          <p:xfrm>
            <a:off x="380880" y="3429000"/>
            <a:ext cx="2057400" cy="10476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3429000"/>
                      <a:ext cx="205740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25416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4952880" y="317520"/>
            <a:ext cx="2436840" cy="1587600"/>
            <a:chOff x="4952880" y="317520"/>
            <a:chExt cx="2436840" cy="1587600"/>
          </a:xfrm>
        </p:grpSpPr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858000" y="167652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3" name=""/>
                <p:cNvSpPr txBox="1"/>
                <p:nvPr/>
              </p:nvSpPr>
              <p:spPr>
                <a:xfrm>
                  <a:off x="4952880" y="167652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904" name=""/>
            <p:cNvGrpSpPr/>
            <p:nvPr/>
          </p:nvGrpSpPr>
          <p:grpSpPr>
            <a:xfrm>
              <a:off x="5057640" y="317520"/>
              <a:ext cx="2028600" cy="1046160"/>
              <a:chOff x="5057640" y="317520"/>
              <a:chExt cx="2028600" cy="1046160"/>
            </a:xfrm>
          </p:grpSpPr>
          <p:sp>
            <p:nvSpPr>
              <p:cNvPr id="905" name=""/>
              <p:cNvSpPr/>
              <p:nvPr/>
            </p:nvSpPr>
            <p:spPr>
              <a:xfrm>
                <a:off x="5684400" y="317520"/>
                <a:ext cx="654480" cy="58068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sk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57640" y="633600"/>
                <a:ext cx="569880" cy="668160"/>
              </a:xfrm>
              <a:custGeom>
                <a:avLst/>
                <a:gdLst/>
                <a:ahLst/>
                <a:rect l="l" t="t" r="r" b="b"/>
                <a:pathLst>
                  <a:path w="359" h="421">
                    <a:moveTo>
                      <a:pt x="359" y="0"/>
                    </a:moveTo>
                    <a:cubicBezTo>
                      <a:pt x="336" y="2"/>
                      <a:pt x="161" y="3"/>
                      <a:pt x="125" y="39"/>
                    </a:cubicBezTo>
                    <a:cubicBezTo>
                      <a:pt x="109" y="55"/>
                      <a:pt x="108" y="80"/>
                      <a:pt x="101" y="101"/>
                    </a:cubicBezTo>
                    <a:cubicBezTo>
                      <a:pt x="76" y="173"/>
                      <a:pt x="69" y="241"/>
                      <a:pt x="47" y="312"/>
                    </a:cubicBezTo>
                    <a:cubicBezTo>
                      <a:pt x="41" y="330"/>
                      <a:pt x="38" y="349"/>
                      <a:pt x="31" y="366"/>
                    </a:cubicBezTo>
                    <a:cubicBezTo>
                      <a:pt x="23" y="385"/>
                      <a:pt x="0" y="400"/>
                      <a:pt x="0" y="421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467400" y="606600"/>
                <a:ext cx="618840" cy="757080"/>
              </a:xfrm>
              <a:custGeom>
                <a:avLst/>
                <a:gdLst/>
                <a:ahLst/>
                <a:rect l="l" t="t" r="r" b="b"/>
                <a:pathLst>
                  <a:path w="390" h="477">
                    <a:moveTo>
                      <a:pt x="0" y="25"/>
                    </a:moveTo>
                    <a:cubicBezTo>
                      <a:pt x="7" y="25"/>
                      <a:pt x="332" y="0"/>
                      <a:pt x="374" y="87"/>
                    </a:cubicBezTo>
                    <a:cubicBezTo>
                      <a:pt x="388" y="219"/>
                      <a:pt x="390" y="344"/>
                      <a:pt x="390" y="47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5892840" y="1676520"/>
            <a:ext cx="785880" cy="901440"/>
            <a:chOff x="5892840" y="1676520"/>
            <a:chExt cx="785880" cy="901440"/>
          </a:xfrm>
        </p:grpSpPr>
        <mc:AlternateContent>
          <mc:Choice xmlns:a14="http://schemas.microsoft.com/office/drawing/2010/main" Requires="a14">
            <p:sp>
              <p:nvSpPr>
                <p:cNvPr id="909" name=""/>
                <p:cNvSpPr txBox="1"/>
                <p:nvPr/>
              </p:nvSpPr>
              <p:spPr>
                <a:xfrm>
                  <a:off x="5943600" y="1676520"/>
                  <a:ext cx="558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0" name=""/>
            <p:cNvSpPr/>
            <p:nvPr/>
          </p:nvSpPr>
          <p:spPr>
            <a:xfrm>
              <a:off x="5892840" y="1997280"/>
              <a:ext cx="78588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m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4114800" y="3429000"/>
                <a:ext cx="4698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76920" y="401328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"/>
          <p:cNvSpPr/>
          <p:nvPr/>
        </p:nvSpPr>
        <p:spPr>
          <a:xfrm>
            <a:off x="4245120" y="4647960"/>
            <a:ext cx="350460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cause ventricular fibr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F09.025_W0993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639040" cy="19238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692080" y="75960"/>
            <a:ext cx="3251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Fault Interrupter (GF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12800" y="2895120"/>
            <a:ext cx="8035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normal operating mode the two currents induce canceling magnetic flu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521440" y="3320640"/>
            <a:ext cx="424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voltage is induced in the sensing c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2514600" y="3809880"/>
                <a:ext cx="490212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ecome different 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 due to a faul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re is a voltage induced in the sensing coi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2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1676520" y="533520"/>
          <a:ext cx="57150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520"/>
                    <a:ext cx="57150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18396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257560" y="28184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04840" y="3200400"/>
            <a:ext cx="936720" cy="58068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a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338640" y="3231720"/>
            <a:ext cx="242712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inyl lining (insul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85800" y="3797280"/>
            <a:ext cx="7924680" cy="2603520"/>
            <a:chOff x="685800" y="3797280"/>
            <a:chExt cx="7924680" cy="2603520"/>
          </a:xfrm>
        </p:grpSpPr>
        <p:graphicFrame>
          <p:nvGraphicFramePr>
            <p:cNvPr id="933" name=""/>
            <p:cNvGraphicFramePr/>
            <p:nvPr/>
          </p:nvGraphicFramePr>
          <p:xfrm>
            <a:off x="685800" y="3797280"/>
            <a:ext cx="7924680" cy="260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3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" y="3797280"/>
                      <a:ext cx="7924680" cy="260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5" name=""/>
            <p:cNvSpPr/>
            <p:nvPr/>
          </p:nvSpPr>
          <p:spPr>
            <a:xfrm>
              <a:off x="4397040" y="4941000"/>
              <a:ext cx="29329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med when boy 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ater touches boy hold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ed r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2638080" y="75960"/>
            <a:ext cx="255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 faul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9720" y="623880"/>
            <a:ext cx="3231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le boy is alone in the 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no ground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20400" y="212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609480" y="838080"/>
          <a:ext cx="71186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1186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"/>
          <p:cNvGraphicFramePr/>
          <p:nvPr/>
        </p:nvGraphicFramePr>
        <p:xfrm>
          <a:off x="609480" y="3809880"/>
          <a:ext cx="3468960" cy="27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809880"/>
                    <a:ext cx="34689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"/>
          <p:cNvGraphicFramePr/>
          <p:nvPr/>
        </p:nvGraphicFramePr>
        <p:xfrm>
          <a:off x="3862440" y="1295280"/>
          <a:ext cx="25236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62440" y="1295280"/>
                    <a:ext cx="252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2701440" y="151920"/>
            <a:ext cx="235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cidental grou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278160" y="533520"/>
            <a:ext cx="2684520" cy="644400"/>
          </a:xfrm>
          <a:custGeom>
            <a:avLst/>
            <a:gdLst/>
            <a:ahLst/>
            <a:rect l="l" t="t" r="r" b="b"/>
            <a:pathLst>
              <a:path w="1691" h="406">
                <a:moveTo>
                  <a:pt x="0" y="406"/>
                </a:moveTo>
                <a:cubicBezTo>
                  <a:pt x="220" y="280"/>
                  <a:pt x="488" y="182"/>
                  <a:pt x="670" y="0"/>
                </a:cubicBezTo>
                <a:cubicBezTo>
                  <a:pt x="1276" y="12"/>
                  <a:pt x="935" y="8"/>
                  <a:pt x="1691" y="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50880" y="395280"/>
            <a:ext cx="292248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return path in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1608120" y="1995480"/>
            <a:ext cx="6791760" cy="580680"/>
            <a:chOff x="1608120" y="1995480"/>
            <a:chExt cx="6791760" cy="580680"/>
          </a:xfrm>
        </p:grpSpPr>
        <p:sp>
          <p:nvSpPr>
            <p:cNvPr id="952" name=""/>
            <p:cNvSpPr/>
            <p:nvPr/>
          </p:nvSpPr>
          <p:spPr>
            <a:xfrm>
              <a:off x="1608120" y="2003400"/>
              <a:ext cx="2919600" cy="520560"/>
            </a:xfrm>
            <a:custGeom>
              <a:avLst/>
              <a:gdLst/>
              <a:ahLst/>
              <a:rect l="l" t="t" r="r" b="b"/>
              <a:pathLst>
                <a:path w="1839" h="328">
                  <a:moveTo>
                    <a:pt x="39" y="0"/>
                  </a:moveTo>
                  <a:cubicBezTo>
                    <a:pt x="21" y="140"/>
                    <a:pt x="0" y="151"/>
                    <a:pt x="86" y="297"/>
                  </a:cubicBezTo>
                  <a:cubicBezTo>
                    <a:pt x="91" y="306"/>
                    <a:pt x="193" y="324"/>
                    <a:pt x="210" y="328"/>
                  </a:cubicBezTo>
                  <a:cubicBezTo>
                    <a:pt x="360" y="322"/>
                    <a:pt x="403" y="314"/>
                    <a:pt x="538" y="297"/>
                  </a:cubicBezTo>
                  <a:cubicBezTo>
                    <a:pt x="601" y="289"/>
                    <a:pt x="1419" y="289"/>
                    <a:pt x="1839" y="28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63520" y="1995480"/>
              <a:ext cx="273636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ath created by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roun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4340160" y="3886920"/>
            <a:ext cx="4600440" cy="824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suggested values of resistanc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ary path causes a dangerous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flow through th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676520" y="762120"/>
            <a:ext cx="1143000" cy="838080"/>
            <a:chOff x="1676520" y="762120"/>
            <a:chExt cx="1143000" cy="838080"/>
          </a:xfrm>
        </p:grpSpPr>
        <p:sp>
          <p:nvSpPr>
            <p:cNvPr id="959" name=""/>
            <p:cNvSpPr/>
            <p:nvPr/>
          </p:nvSpPr>
          <p:spPr>
            <a:xfrm flipH="1">
              <a:off x="1828440" y="1523880"/>
              <a:ext cx="76212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0" name=""/>
                <p:cNvSpPr txBox="1"/>
                <p:nvPr/>
              </p:nvSpPr>
              <p:spPr>
                <a:xfrm>
                  <a:off x="1981080" y="762120"/>
                  <a:ext cx="6987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50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61" name=""/>
            <p:cNvSpPr/>
            <p:nvPr/>
          </p:nvSpPr>
          <p:spPr>
            <a:xfrm flipV="1">
              <a:off x="1676520" y="1066680"/>
              <a:ext cx="1143000" cy="76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F09.004_W0964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314880" cy="2200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5720" y="12600"/>
            <a:ext cx="6072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average power absorbed by each resisto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otal average power absorbed and the  average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28600" y="3809880"/>
                <a:ext cx="2324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2280" y="4419720"/>
                <a:ext cx="1917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" name=""/>
          <p:cNvGrpSpPr/>
          <p:nvPr/>
        </p:nvGrpSpPr>
        <p:grpSpPr>
          <a:xfrm>
            <a:off x="50040" y="2971800"/>
            <a:ext cx="3695040" cy="866880"/>
            <a:chOff x="50040" y="2971800"/>
            <a:chExt cx="3695040" cy="866880"/>
          </a:xfrm>
        </p:grpSpPr>
        <p:sp>
          <p:nvSpPr>
            <p:cNvPr id="115" name=""/>
            <p:cNvSpPr/>
            <p:nvPr/>
          </p:nvSpPr>
          <p:spPr>
            <a:xfrm>
              <a:off x="50040" y="2971800"/>
              <a:ext cx="3695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f voltage and current are in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853920" y="3294360"/>
                  <a:ext cx="210816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⇒</m:t>
                      </m:r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32767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86200" y="3276720"/>
                <a:ext cx="711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5041800"/>
                <a:ext cx="441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0" name=""/>
          <p:cNvGrpSpPr/>
          <p:nvPr/>
        </p:nvGrpSpPr>
        <p:grpSpPr>
          <a:xfrm>
            <a:off x="304920" y="3871800"/>
            <a:ext cx="4271400" cy="2387880"/>
            <a:chOff x="304920" y="3871800"/>
            <a:chExt cx="4271400" cy="2387880"/>
          </a:xfrm>
        </p:grpSpPr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304920" y="5715000"/>
                  <a:ext cx="212040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t xml:space="preserve">Ω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2" name=""/>
            <p:cNvSpPr/>
            <p:nvPr/>
          </p:nvSpPr>
          <p:spPr>
            <a:xfrm>
              <a:off x="2463480" y="3871800"/>
              <a:ext cx="2112840" cy="2076480"/>
            </a:xfrm>
            <a:custGeom>
              <a:avLst/>
              <a:gdLst/>
              <a:ahLst/>
              <a:rect l="l" t="t" r="r" b="b"/>
              <a:pathLst>
                <a:path w="1331" h="1308">
                  <a:moveTo>
                    <a:pt x="335" y="0"/>
                  </a:moveTo>
                  <a:cubicBezTo>
                    <a:pt x="338" y="47"/>
                    <a:pt x="316" y="102"/>
                    <a:pt x="343" y="141"/>
                  </a:cubicBezTo>
                  <a:cubicBezTo>
                    <a:pt x="378" y="191"/>
                    <a:pt x="447" y="203"/>
                    <a:pt x="499" y="234"/>
                  </a:cubicBezTo>
                  <a:cubicBezTo>
                    <a:pt x="545" y="261"/>
                    <a:pt x="603" y="255"/>
                    <a:pt x="655" y="265"/>
                  </a:cubicBezTo>
                  <a:cubicBezTo>
                    <a:pt x="814" y="297"/>
                    <a:pt x="978" y="313"/>
                    <a:pt x="1138" y="335"/>
                  </a:cubicBezTo>
                  <a:cubicBezTo>
                    <a:pt x="1165" y="429"/>
                    <a:pt x="1235" y="515"/>
                    <a:pt x="1294" y="593"/>
                  </a:cubicBezTo>
                  <a:cubicBezTo>
                    <a:pt x="1310" y="715"/>
                    <a:pt x="1313" y="824"/>
                    <a:pt x="1317" y="951"/>
                  </a:cubicBezTo>
                  <a:cubicBezTo>
                    <a:pt x="1313" y="1008"/>
                    <a:pt x="1331" y="1078"/>
                    <a:pt x="1294" y="1122"/>
                  </a:cubicBezTo>
                  <a:cubicBezTo>
                    <a:pt x="1158" y="1286"/>
                    <a:pt x="851" y="1281"/>
                    <a:pt x="670" y="1286"/>
                  </a:cubicBezTo>
                  <a:cubicBezTo>
                    <a:pt x="540" y="1289"/>
                    <a:pt x="411" y="1291"/>
                    <a:pt x="281" y="1294"/>
                  </a:cubicBezTo>
                  <a:cubicBezTo>
                    <a:pt x="147" y="1308"/>
                    <a:pt x="176" y="1302"/>
                    <a:pt x="0" y="1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438280" y="5943600"/>
                <a:ext cx="851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723920" y="914400"/>
            <a:ext cx="4152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s and capacitors do not abso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in the a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715000" y="152388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5840" y="2057400"/>
                <a:ext cx="200664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sorbed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477120" y="2057400"/>
                <a:ext cx="16002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029920" y="2496960"/>
            <a:ext cx="1360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24280" y="28954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21160" y="3200400"/>
                <a:ext cx="189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800600" y="358128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4114800"/>
                <a:ext cx="367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F09.030A_W0998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800760" cy="365760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950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506680" y="120240"/>
            <a:ext cx="2349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grounding acc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42640" y="471600"/>
            <a:ext cx="8390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fter the boom touches the live line the operator jumps down and starts wal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ards th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45440" y="2041200"/>
            <a:ext cx="82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03160" y="2452680"/>
            <a:ext cx="25110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ound is not a perf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4419720" y="3657600"/>
            <a:ext cx="1371600" cy="45720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294440" y="3593520"/>
            <a:ext cx="61200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F09.030B_W0998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3181320" cy="2114280"/>
          </a:xfrm>
          <a:prstGeom prst="rect">
            <a:avLst/>
          </a:prstGeom>
          <a:ln w="0">
            <a:noFill/>
          </a:ln>
        </p:spPr>
      </p:pic>
      <p:grpSp>
        <p:nvGrpSpPr>
          <p:cNvPr id="971" name=""/>
          <p:cNvGrpSpPr/>
          <p:nvPr/>
        </p:nvGrpSpPr>
        <p:grpSpPr>
          <a:xfrm>
            <a:off x="5099760" y="3945960"/>
            <a:ext cx="3598200" cy="978120"/>
            <a:chOff x="5099760" y="3945960"/>
            <a:chExt cx="3598200" cy="978120"/>
          </a:xfrm>
        </p:grpSpPr>
        <p:sp>
          <p:nvSpPr>
            <p:cNvPr id="972" name=""/>
            <p:cNvSpPr/>
            <p:nvPr/>
          </p:nvSpPr>
          <p:spPr>
            <a:xfrm>
              <a:off x="5099760" y="3945960"/>
              <a:ext cx="9428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720V/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11720" y="4343400"/>
              <a:ext cx="348624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step applies 720 Volts to th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p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4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06200" y="10764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41320" y="151920"/>
            <a:ext cx="633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7200V power line falls on the car and makes contact wit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5800" y="2209680"/>
            <a:ext cx="693432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104600" y="1860120"/>
            <a:ext cx="1148400" cy="337320"/>
          </a:xfrm>
          <a:prstGeom prst="rect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t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8680" y="2604960"/>
            <a:ext cx="363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opens door and steps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734080" y="2619360"/>
            <a:ext cx="2817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iver stays inside the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2280" y="593640"/>
            <a:ext cx="2846160" cy="433440"/>
          </a:xfrm>
          <a:custGeom>
            <a:avLst/>
            <a:gdLst/>
            <a:ahLst/>
            <a:rect l="l" t="t" r="r" b="b"/>
            <a:pathLst>
              <a:path w="1793" h="273">
                <a:moveTo>
                  <a:pt x="0" y="0"/>
                </a:moveTo>
                <a:cubicBezTo>
                  <a:pt x="256" y="22"/>
                  <a:pt x="507" y="39"/>
                  <a:pt x="764" y="47"/>
                </a:cubicBezTo>
                <a:cubicBezTo>
                  <a:pt x="790" y="50"/>
                  <a:pt x="816" y="52"/>
                  <a:pt x="842" y="55"/>
                </a:cubicBezTo>
                <a:cubicBezTo>
                  <a:pt x="858" y="57"/>
                  <a:pt x="889" y="46"/>
                  <a:pt x="889" y="62"/>
                </a:cubicBezTo>
                <a:cubicBezTo>
                  <a:pt x="889" y="120"/>
                  <a:pt x="831" y="128"/>
                  <a:pt x="795" y="140"/>
                </a:cubicBezTo>
                <a:cubicBezTo>
                  <a:pt x="734" y="182"/>
                  <a:pt x="757" y="159"/>
                  <a:pt x="912" y="179"/>
                </a:cubicBezTo>
                <a:cubicBezTo>
                  <a:pt x="1052" y="197"/>
                  <a:pt x="1096" y="196"/>
                  <a:pt x="1239" y="203"/>
                </a:cubicBezTo>
                <a:cubicBezTo>
                  <a:pt x="1326" y="219"/>
                  <a:pt x="1416" y="221"/>
                  <a:pt x="1504" y="226"/>
                </a:cubicBezTo>
                <a:cubicBezTo>
                  <a:pt x="1557" y="244"/>
                  <a:pt x="1613" y="243"/>
                  <a:pt x="1668" y="249"/>
                </a:cubicBezTo>
                <a:cubicBezTo>
                  <a:pt x="1689" y="251"/>
                  <a:pt x="1710" y="253"/>
                  <a:pt x="1730" y="257"/>
                </a:cubicBezTo>
                <a:cubicBezTo>
                  <a:pt x="1751" y="261"/>
                  <a:pt x="1793" y="273"/>
                  <a:pt x="1793" y="27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2840" y="669600"/>
            <a:ext cx="7750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72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628560" y="1050480"/>
            <a:ext cx="7839360" cy="1054080"/>
            <a:chOff x="628560" y="1050480"/>
            <a:chExt cx="7839360" cy="1054080"/>
          </a:xfrm>
        </p:grpSpPr>
        <p:sp>
          <p:nvSpPr>
            <p:cNvPr id="986" name=""/>
            <p:cNvSpPr/>
            <p:nvPr/>
          </p:nvSpPr>
          <p:spPr>
            <a:xfrm>
              <a:off x="5535000" y="1050480"/>
              <a:ext cx="2932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r body is good co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28560" y="1523880"/>
              <a:ext cx="1198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ires a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sul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162600" y="3429000"/>
            <a:ext cx="2434680" cy="1661760"/>
            <a:chOff x="3162600" y="3429000"/>
            <a:chExt cx="2434680" cy="1661760"/>
          </a:xfrm>
        </p:grpSpPr>
        <p:graphicFrame>
          <p:nvGraphicFramePr>
            <p:cNvPr id="989" name=""/>
            <p:cNvGraphicFramePr/>
            <p:nvPr/>
          </p:nvGraphicFramePr>
          <p:xfrm>
            <a:off x="3288960" y="3429000"/>
            <a:ext cx="2057040" cy="1047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88960" y="3429000"/>
                      <a:ext cx="20570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1" name=""/>
            <p:cNvSpPr/>
            <p:nvPr/>
          </p:nvSpPr>
          <p:spPr>
            <a:xfrm>
              <a:off x="3162600" y="4510080"/>
              <a:ext cx="2434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ggested resistan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human bod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92" name="" descr=""/>
          <p:cNvPicPr/>
          <p:nvPr/>
        </p:nvPicPr>
        <p:blipFill>
          <a:blip r:embed="rId3"/>
          <a:stretch/>
        </p:blipFill>
        <p:spPr>
          <a:xfrm>
            <a:off x="1981080" y="942840"/>
            <a:ext cx="4905360" cy="126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33200" y="3809880"/>
                <a:ext cx="2984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00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y sk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mb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run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705720" y="3657600"/>
                <a:ext cx="838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d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648320"/>
                <a:ext cx="2844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rPr>
                        <m:lit/>
                        <m:nor/>
                      </m:rPr>
                      <m:t xml:space="preserve">  Very dangerous!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F09.032_W1000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4724640" cy="197460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2544480" y="75960"/>
            <a:ext cx="336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maximum cord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54960" y="3124080"/>
            <a:ext cx="3112200" cy="596880"/>
            <a:chOff x="354960" y="3124080"/>
            <a:chExt cx="3112200" cy="596880"/>
          </a:xfrm>
        </p:grpSpPr>
        <p:sp>
          <p:nvSpPr>
            <p:cNvPr id="1003" name=""/>
            <p:cNvSpPr/>
            <p:nvPr/>
          </p:nvSpPr>
          <p:spPr>
            <a:xfrm>
              <a:off x="354960" y="3184200"/>
              <a:ext cx="243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1: 16-gauge wi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4" name=""/>
                <p:cNvSpPr txBox="1"/>
                <p:nvPr/>
              </p:nvSpPr>
              <p:spPr>
                <a:xfrm>
                  <a:off x="2895480" y="3124080"/>
                  <a:ext cx="571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5" name=""/>
          <p:cNvGrpSpPr/>
          <p:nvPr/>
        </p:nvGrpSpPr>
        <p:grpSpPr>
          <a:xfrm>
            <a:off x="4794120" y="3124080"/>
            <a:ext cx="3175200" cy="596880"/>
            <a:chOff x="4794120" y="3124080"/>
            <a:chExt cx="3175200" cy="596880"/>
          </a:xfrm>
        </p:grpSpPr>
        <p:sp>
          <p:nvSpPr>
            <p:cNvPr id="1006" name=""/>
            <p:cNvSpPr/>
            <p:nvPr/>
          </p:nvSpPr>
          <p:spPr>
            <a:xfrm>
              <a:off x="4794120" y="3184200"/>
              <a:ext cx="2384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2: 14-gauge wi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7" name=""/>
                <p:cNvSpPr txBox="1"/>
                <p:nvPr/>
              </p:nvSpPr>
              <p:spPr>
                <a:xfrm>
                  <a:off x="7232760" y="3124080"/>
                  <a:ext cx="736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m</m:t>
                          </m:r>
                          <m:r>
                            <m:t xml:space="preserve">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3568680" y="50796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1143000" y="3886200"/>
                <a:ext cx="1803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5734080" y="3962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d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1" name=""/>
          <p:cNvSpPr/>
          <p:nvPr/>
        </p:nvSpPr>
        <p:spPr>
          <a:xfrm>
            <a:off x="5112000" y="1386000"/>
            <a:ext cx="3061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inimum voltage for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0400" y="4860720"/>
            <a:ext cx="7860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orking with RMS values the problem is formally the same as a DC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107640" y="8856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494440" y="75960"/>
            <a:ext cx="3252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ght dimming when AC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8" name="F09.033A_W1001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314600" cy="270504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154440" y="3031920"/>
            <a:ext cx="411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ypical single-phase 3-wire insta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447560" y="1905120"/>
            <a:ext cx="1397160" cy="406440"/>
            <a:chOff x="1447560" y="1905120"/>
            <a:chExt cx="1397160" cy="406440"/>
          </a:xfrm>
        </p:grpSpPr>
        <p:sp>
          <p:nvSpPr>
            <p:cNvPr id="1021" name=""/>
            <p:cNvSpPr/>
            <p:nvPr/>
          </p:nvSpPr>
          <p:spPr>
            <a:xfrm flipH="1">
              <a:off x="1447560" y="190512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2" name=""/>
                <p:cNvSpPr txBox="1"/>
                <p:nvPr/>
              </p:nvSpPr>
              <p:spPr>
                <a:xfrm>
                  <a:off x="1447920" y="1981080"/>
                  <a:ext cx="139680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ight</m:t>
                          </m:r>
                        </m:sub>
                      </m:sSub>
                      <m:r>
                        <m:t xml:space="preserve">≈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m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23" name=""/>
          <p:cNvGrpSpPr/>
          <p:nvPr/>
        </p:nvGrpSpPr>
        <p:grpSpPr>
          <a:xfrm>
            <a:off x="5098680" y="380880"/>
            <a:ext cx="3658320" cy="3047760"/>
            <a:chOff x="5098680" y="380880"/>
            <a:chExt cx="3658320" cy="3047760"/>
          </a:xfrm>
        </p:grpSpPr>
        <p:pic>
          <p:nvPicPr>
            <p:cNvPr id="1024" name="F09.033B_W1001" descr=""/>
            <p:cNvPicPr/>
            <p:nvPr/>
          </p:nvPicPr>
          <p:blipFill>
            <a:blip r:embed="rId2"/>
            <a:stretch/>
          </p:blipFill>
          <p:spPr>
            <a:xfrm>
              <a:off x="5105520" y="380880"/>
              <a:ext cx="358128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098680" y="2847960"/>
              <a:ext cx="3658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at start of AC unit. Curren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mand is very hig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"/>
            <p:cNvGrpSpPr/>
            <p:nvPr/>
          </p:nvGrpSpPr>
          <p:grpSpPr>
            <a:xfrm>
              <a:off x="6400800" y="914400"/>
              <a:ext cx="620640" cy="304920"/>
              <a:chOff x="6400800" y="914400"/>
              <a:chExt cx="620640" cy="304920"/>
            </a:xfrm>
          </p:grpSpPr>
          <p:sp>
            <p:nvSpPr>
              <p:cNvPr id="1027" name=""/>
              <p:cNvSpPr/>
              <p:nvPr/>
            </p:nvSpPr>
            <p:spPr>
              <a:xfrm>
                <a:off x="6476760" y="914400"/>
                <a:ext cx="45684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8" name=""/>
                  <p:cNvSpPr txBox="1"/>
                  <p:nvPr/>
                </p:nvSpPr>
                <p:spPr>
                  <a:xfrm>
                    <a:off x="6400800" y="990720"/>
                    <a:ext cx="6206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A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6705720" y="1981080"/>
                <a:ext cx="1358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0" name=""/>
          <p:cNvGrpSpPr/>
          <p:nvPr/>
        </p:nvGrpSpPr>
        <p:grpSpPr>
          <a:xfrm>
            <a:off x="152280" y="3429000"/>
            <a:ext cx="2657520" cy="2912040"/>
            <a:chOff x="152280" y="3429000"/>
            <a:chExt cx="2657520" cy="2912040"/>
          </a:xfrm>
        </p:grpSpPr>
        <p:pic>
          <p:nvPicPr>
            <p:cNvPr id="1031" name="F09.033D_W1001" descr=""/>
            <p:cNvPicPr/>
            <p:nvPr/>
          </p:nvPicPr>
          <p:blipFill>
            <a:blip r:embed="rId3"/>
            <a:stretch/>
          </p:blipFill>
          <p:spPr>
            <a:xfrm>
              <a:off x="152280" y="3429000"/>
              <a:ext cx="265752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1472400" y="6003720"/>
              <a:ext cx="7858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1803240" y="4876920"/>
                <a:ext cx="261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34" name=""/>
          <p:cNvGrpSpPr/>
          <p:nvPr/>
        </p:nvGrpSpPr>
        <p:grpSpPr>
          <a:xfrm>
            <a:off x="5105520" y="3581280"/>
            <a:ext cx="3533760" cy="2835720"/>
            <a:chOff x="5105520" y="3581280"/>
            <a:chExt cx="3533760" cy="2835720"/>
          </a:xfrm>
        </p:grpSpPr>
        <p:pic>
          <p:nvPicPr>
            <p:cNvPr id="1035" name="F09.033C_W1001" descr=""/>
            <p:cNvPicPr/>
            <p:nvPr/>
          </p:nvPicPr>
          <p:blipFill>
            <a:blip r:embed="rId4"/>
            <a:stretch/>
          </p:blipFill>
          <p:spPr>
            <a:xfrm>
              <a:off x="5105520" y="3581280"/>
              <a:ext cx="353376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5818320" y="6079680"/>
              <a:ext cx="253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 in normal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6635880" y="5105520"/>
                <a:ext cx="134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1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38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110880" y="1224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748600" y="-360"/>
            <a:ext cx="5286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ingle phase 3-wire circuit insta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F09.034A_W1002" descr=""/>
          <p:cNvPicPr/>
          <p:nvPr/>
        </p:nvPicPr>
        <p:blipFill>
          <a:blip r:embed="rId1"/>
          <a:stretch/>
        </p:blipFill>
        <p:spPr>
          <a:xfrm>
            <a:off x="0" y="743040"/>
            <a:ext cx="4676760" cy="268596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28800" y="3047760"/>
            <a:ext cx="109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F09.034B_W1002" descr=""/>
          <p:cNvPicPr/>
          <p:nvPr/>
        </p:nvPicPr>
        <p:blipFill>
          <a:blip r:embed="rId2"/>
          <a:stretch/>
        </p:blipFill>
        <p:spPr>
          <a:xfrm>
            <a:off x="76320" y="3914640"/>
            <a:ext cx="4152960" cy="271476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/>
          <p:nvPr/>
        </p:nvSpPr>
        <p:spPr>
          <a:xfrm>
            <a:off x="1851480" y="6324120"/>
            <a:ext cx="1047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tion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1752480" y="2133720"/>
                <a:ext cx="16891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380880" y="2057400"/>
                <a:ext cx="1308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3174840" y="68580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0" name=""/>
          <p:cNvSpPr/>
          <p:nvPr/>
        </p:nvSpPr>
        <p:spPr>
          <a:xfrm>
            <a:off x="3933720" y="954000"/>
            <a:ext cx="1076400" cy="1398600"/>
          </a:xfrm>
          <a:custGeom>
            <a:avLst/>
            <a:gdLst/>
            <a:ahLst/>
            <a:rect l="l" t="t" r="r" b="b"/>
            <a:pathLst>
              <a:path w="678" h="881">
                <a:moveTo>
                  <a:pt x="0" y="872"/>
                </a:moveTo>
                <a:cubicBezTo>
                  <a:pt x="273" y="865"/>
                  <a:pt x="320" y="881"/>
                  <a:pt x="538" y="810"/>
                </a:cubicBezTo>
                <a:cubicBezTo>
                  <a:pt x="559" y="784"/>
                  <a:pt x="575" y="754"/>
                  <a:pt x="600" y="732"/>
                </a:cubicBezTo>
                <a:cubicBezTo>
                  <a:pt x="613" y="721"/>
                  <a:pt x="637" y="729"/>
                  <a:pt x="647" y="716"/>
                </a:cubicBezTo>
                <a:cubicBezTo>
                  <a:pt x="669" y="689"/>
                  <a:pt x="669" y="612"/>
                  <a:pt x="678" y="576"/>
                </a:cubicBezTo>
                <a:cubicBezTo>
                  <a:pt x="675" y="449"/>
                  <a:pt x="677" y="321"/>
                  <a:pt x="670" y="194"/>
                </a:cubicBezTo>
                <a:cubicBezTo>
                  <a:pt x="661" y="36"/>
                  <a:pt x="435" y="25"/>
                  <a:pt x="327" y="15"/>
                </a:cubicBezTo>
                <a:cubicBezTo>
                  <a:pt x="472" y="0"/>
                  <a:pt x="379" y="7"/>
                  <a:pt x="608" y="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63360" y="380880"/>
                <a:ext cx="407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216320" y="363600"/>
                <a:ext cx="1879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533520" y="304812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5207040" y="965160"/>
                <a:ext cx="3416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5257800" y="1676520"/>
                <a:ext cx="30225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67</m:t>
                                </m:r>
                                <m:r>
                                  <m:t xml:space="preserve">∠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9</m:t>
                                </m:r>
                                <m:r>
                                  <m:t xml:space="preserve">°</m:t>
                                </m:r>
                                <m:r>
                                  <m:t xml:space="preserve"> 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609480" y="3519360"/>
                <a:ext cx="2971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3657600" y="3564000"/>
                <a:ext cx="1905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1295280" y="5715000"/>
                <a:ext cx="671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743200" y="4952880"/>
                <a:ext cx="762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1066680" y="4800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4876920" y="3886200"/>
                <a:ext cx="3276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</m:t>
                                </m:r>
                                <m:r>
                                  <m:t xml:space="preserve">∠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°</m:t>
                                </m:r>
                              </m:e>
                            </m:d>
                          </m:e>
                          <m:sup/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4572000" y="2438280"/>
                <a:ext cx="44067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4724280" y="4648320"/>
                <a:ext cx="3721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267080" y="5410080"/>
                <a:ext cx="275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v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6</m:t>
                        </m:r>
                        <m:r>
                          <m:t xml:space="preserve">(</m:t>
                        </m:r>
                        <m:r>
                          <m:t xml:space="preserve">@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7034400" y="5643000"/>
            <a:ext cx="2100960" cy="1214640"/>
            <a:chOff x="7034400" y="5643000"/>
            <a:chExt cx="2100960" cy="1214640"/>
          </a:xfrm>
        </p:grpSpPr>
        <p:pic>
          <p:nvPicPr>
            <p:cNvPr id="1067" name="stop" descr=""/>
            <p:cNvPicPr/>
            <p:nvPr/>
          </p:nvPicPr>
          <p:blipFill>
            <a:blip r:embed="rId3"/>
            <a:stretch/>
          </p:blipFill>
          <p:spPr>
            <a:xfrm>
              <a:off x="8047080" y="6343560"/>
              <a:ext cx="514440" cy="51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7034400" y="5643000"/>
              <a:ext cx="2100960" cy="6426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Steady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wer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2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E09.001_W0965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3886200" cy="2100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72160" y="135000"/>
            <a:ext cx="4839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average power absorbed by each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47920" y="762120"/>
            <a:ext cx="685800" cy="290520"/>
            <a:chOff x="1447920" y="762120"/>
            <a:chExt cx="685800" cy="290520"/>
          </a:xfrm>
        </p:grpSpPr>
        <p:sp>
          <p:nvSpPr>
            <p:cNvPr id="140" name=""/>
            <p:cNvSpPr/>
            <p:nvPr/>
          </p:nvSpPr>
          <p:spPr>
            <a:xfrm>
              <a:off x="1447920" y="762120"/>
              <a:ext cx="6858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4240" y="838440"/>
                  <a:ext cx="1634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523880" y="1066680"/>
                <a:ext cx="1117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3" name=""/>
          <p:cNvGrpSpPr/>
          <p:nvPr/>
        </p:nvGrpSpPr>
        <p:grpSpPr>
          <a:xfrm>
            <a:off x="1447920" y="1828800"/>
            <a:ext cx="668160" cy="1509840"/>
            <a:chOff x="1447920" y="1828800"/>
            <a:chExt cx="668160" cy="1509840"/>
          </a:xfrm>
        </p:grpSpPr>
        <p:sp>
          <p:nvSpPr>
            <p:cNvPr id="144" name=""/>
            <p:cNvSpPr/>
            <p:nvPr/>
          </p:nvSpPr>
          <p:spPr>
            <a:xfrm>
              <a:off x="1542960" y="1828800"/>
              <a:ext cx="573120" cy="1263600"/>
            </a:xfrm>
            <a:custGeom>
              <a:avLst/>
              <a:gdLst/>
              <a:ahLst/>
              <a:rect l="l" t="t" r="r" b="b"/>
              <a:pathLst>
                <a:path w="361" h="796">
                  <a:moveTo>
                    <a:pt x="10" y="796"/>
                  </a:moveTo>
                  <a:cubicBezTo>
                    <a:pt x="31" y="646"/>
                    <a:pt x="36" y="495"/>
                    <a:pt x="49" y="344"/>
                  </a:cubicBezTo>
                  <a:cubicBezTo>
                    <a:pt x="60" y="0"/>
                    <a:pt x="0" y="79"/>
                    <a:pt x="361" y="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447920" y="30481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752480" y="3048120"/>
                <a:ext cx="13464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3505320"/>
                <a:ext cx="4305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28600" y="41292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28600" y="4495680"/>
                <a:ext cx="3301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8600" y="5105520"/>
                <a:ext cx="3429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1" name=""/>
          <p:cNvGrpSpPr/>
          <p:nvPr/>
        </p:nvGrpSpPr>
        <p:grpSpPr>
          <a:xfrm>
            <a:off x="2590920" y="1905120"/>
            <a:ext cx="315360" cy="609480"/>
            <a:chOff x="2590920" y="1905120"/>
            <a:chExt cx="315360" cy="609480"/>
          </a:xfrm>
        </p:grpSpPr>
        <p:sp>
          <p:nvSpPr>
            <p:cNvPr id="152" name=""/>
            <p:cNvSpPr/>
            <p:nvPr/>
          </p:nvSpPr>
          <p:spPr>
            <a:xfrm>
              <a:off x="2590920" y="19051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2666880" y="2057400"/>
                  <a:ext cx="239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800600" y="762120"/>
                <a:ext cx="3772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791320" y="1447920"/>
                <a:ext cx="1523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62720" y="1828800"/>
                <a:ext cx="21081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704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E09.002_W0965a" descr=""/>
          <p:cNvPicPr/>
          <p:nvPr/>
        </p:nvPicPr>
        <p:blipFill>
          <a:blip r:embed="rId1"/>
          <a:stretch/>
        </p:blipFill>
        <p:spPr>
          <a:xfrm>
            <a:off x="0" y="685800"/>
            <a:ext cx="2819520" cy="156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02320" y="58680"/>
            <a:ext cx="5785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VERAGE power absorbed by each PASS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  and the total power supplied by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04920" y="990720"/>
            <a:ext cx="201600" cy="457200"/>
            <a:chOff x="304920" y="990720"/>
            <a:chExt cx="201600" cy="457200"/>
          </a:xfrm>
        </p:grpSpPr>
        <p:sp>
          <p:nvSpPr>
            <p:cNvPr id="164" name=""/>
            <p:cNvSpPr/>
            <p:nvPr/>
          </p:nvSpPr>
          <p:spPr>
            <a:xfrm>
              <a:off x="304920" y="99072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304920" y="9907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6" name=""/>
          <p:cNvGrpSpPr/>
          <p:nvPr/>
        </p:nvGrpSpPr>
        <p:grpSpPr>
          <a:xfrm>
            <a:off x="1447920" y="1143000"/>
            <a:ext cx="838080" cy="290520"/>
            <a:chOff x="1447920" y="1143000"/>
            <a:chExt cx="838080" cy="290520"/>
          </a:xfrm>
        </p:grpSpPr>
        <p:sp>
          <p:nvSpPr>
            <p:cNvPr id="167" name=""/>
            <p:cNvSpPr/>
            <p:nvPr/>
          </p:nvSpPr>
          <p:spPr>
            <a:xfrm>
              <a:off x="1447920" y="1143000"/>
              <a:ext cx="8380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512720" y="1143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52280" y="2362320"/>
                <a:ext cx="2057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52280" y="3048120"/>
                <a:ext cx="4114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°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28600" y="3733920"/>
                <a:ext cx="294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304920" y="4648320"/>
                <a:ext cx="2552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4160" y="5105520"/>
                <a:ext cx="34797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257800" y="685800"/>
                <a:ext cx="2133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15000" y="1295280"/>
                <a:ext cx="1206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935240" y="205740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supplied by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871880" y="2496960"/>
            <a:ext cx="2938680" cy="337320"/>
            <a:chOff x="4871880" y="2496960"/>
            <a:chExt cx="2938680" cy="337320"/>
          </a:xfrm>
        </p:grpSpPr>
        <p:sp>
          <p:nvSpPr>
            <p:cNvPr id="178" name=""/>
            <p:cNvSpPr/>
            <p:nvPr/>
          </p:nvSpPr>
          <p:spPr>
            <a:xfrm>
              <a:off x="4871880" y="2496960"/>
              <a:ext cx="1192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2514600"/>
                  <a:ext cx="1714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upplied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sorbe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181480" y="2971800"/>
                <a:ext cx="28321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pli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1" name=""/>
          <p:cNvGrpSpPr/>
          <p:nvPr/>
        </p:nvGrpSpPr>
        <p:grpSpPr>
          <a:xfrm>
            <a:off x="4801320" y="3487680"/>
            <a:ext cx="3491640" cy="550800"/>
            <a:chOff x="4801320" y="3487680"/>
            <a:chExt cx="3491640" cy="550800"/>
          </a:xfrm>
        </p:grpSpPr>
        <p:sp>
          <p:nvSpPr>
            <p:cNvPr id="182" name=""/>
            <p:cNvSpPr/>
            <p:nvPr/>
          </p:nvSpPr>
          <p:spPr>
            <a:xfrm>
              <a:off x="4801320" y="3487680"/>
              <a:ext cx="1245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thod 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019920" y="3494160"/>
                  <a:ext cx="2273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85800" y="1155600"/>
                <a:ext cx="2523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4114800"/>
                <a:ext cx="2260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978440" y="4495680"/>
                <a:ext cx="3403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7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F09.005_W0966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733560" cy="1638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757600" y="135000"/>
            <a:ext cx="5895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 or supplied by 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" y="2666880"/>
                <a:ext cx="2349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57200" y="3429000"/>
                <a:ext cx="3124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33520" y="4114800"/>
                <a:ext cx="7873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168120" y="4554360"/>
            <a:ext cx="4175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power absorbed/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ources we need the currents I1,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572000" y="762120"/>
                <a:ext cx="4432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451400" y="2781360"/>
                <a:ext cx="4788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807080" y="3581280"/>
                <a:ext cx="38862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8680" y="4173480"/>
                <a:ext cx="11430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5460840"/>
                <a:ext cx="2273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4572000" y="1752480"/>
            <a:ext cx="3809880" cy="853200"/>
            <a:chOff x="4572000" y="1752480"/>
            <a:chExt cx="3809880" cy="85320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4572000" y="1752480"/>
                  <a:ext cx="38098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×</m:t>
                      </m:r>
                      <m:r>
                        <m:t xml:space="preserve">6</m:t>
                      </m:r>
                      <m:r>
                        <m:t xml:space="preserve">×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3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°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4986720" y="2268360"/>
              <a:ext cx="25992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ive sign conven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124080" y="54864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E09.003_W0967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86200" cy="1736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84120" y="1344600"/>
            <a:ext cx="657360" cy="771480"/>
            <a:chOff x="1284120" y="1344600"/>
            <a:chExt cx="657360" cy="771480"/>
          </a:xfrm>
        </p:grpSpPr>
        <p:sp>
          <p:nvSpPr>
            <p:cNvPr id="213" name=""/>
            <p:cNvSpPr/>
            <p:nvPr/>
          </p:nvSpPr>
          <p:spPr>
            <a:xfrm>
              <a:off x="1284120" y="1344600"/>
              <a:ext cx="657360" cy="771480"/>
            </a:xfrm>
            <a:custGeom>
              <a:avLst/>
              <a:gdLst/>
              <a:ahLst/>
              <a:rect l="l" t="t" r="r" b="b"/>
              <a:pathLst>
                <a:path w="414" h="486">
                  <a:moveTo>
                    <a:pt x="9" y="400"/>
                  </a:moveTo>
                  <a:cubicBezTo>
                    <a:pt x="0" y="70"/>
                    <a:pt x="1" y="203"/>
                    <a:pt x="1" y="2"/>
                  </a:cubicBezTo>
                  <a:cubicBezTo>
                    <a:pt x="139" y="2"/>
                    <a:pt x="276" y="2"/>
                    <a:pt x="414" y="2"/>
                  </a:cubicBezTo>
                  <a:cubicBezTo>
                    <a:pt x="351" y="43"/>
                    <a:pt x="401" y="0"/>
                    <a:pt x="407" y="151"/>
                  </a:cubicBezTo>
                  <a:cubicBezTo>
                    <a:pt x="409" y="206"/>
                    <a:pt x="385" y="261"/>
                    <a:pt x="383" y="314"/>
                  </a:cubicBezTo>
                  <a:cubicBezTo>
                    <a:pt x="381" y="369"/>
                    <a:pt x="383" y="423"/>
                    <a:pt x="383" y="478"/>
                  </a:cubicBezTo>
                  <a:cubicBezTo>
                    <a:pt x="113" y="486"/>
                    <a:pt x="212" y="486"/>
                    <a:pt x="87" y="48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676520" y="17524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"/>
          <p:cNvGrpSpPr/>
          <p:nvPr/>
        </p:nvGrpSpPr>
        <p:grpSpPr>
          <a:xfrm>
            <a:off x="2238480" y="1311120"/>
            <a:ext cx="868320" cy="779760"/>
            <a:chOff x="2238480" y="1311120"/>
            <a:chExt cx="868320" cy="779760"/>
          </a:xfrm>
        </p:grpSpPr>
        <p:sp>
          <p:nvSpPr>
            <p:cNvPr id="216" name=""/>
            <p:cNvSpPr/>
            <p:nvPr/>
          </p:nvSpPr>
          <p:spPr>
            <a:xfrm>
              <a:off x="2238480" y="1311120"/>
              <a:ext cx="868320" cy="779760"/>
            </a:xfrm>
            <a:custGeom>
              <a:avLst/>
              <a:gdLst/>
              <a:ahLst/>
              <a:rect l="l" t="t" r="r" b="b"/>
              <a:pathLst>
                <a:path w="547" h="491">
                  <a:moveTo>
                    <a:pt x="530" y="429"/>
                  </a:moveTo>
                  <a:cubicBezTo>
                    <a:pt x="547" y="218"/>
                    <a:pt x="538" y="361"/>
                    <a:pt x="538" y="0"/>
                  </a:cubicBezTo>
                  <a:cubicBezTo>
                    <a:pt x="369" y="5"/>
                    <a:pt x="201" y="16"/>
                    <a:pt x="32" y="16"/>
                  </a:cubicBezTo>
                  <a:cubicBezTo>
                    <a:pt x="12" y="170"/>
                    <a:pt x="0" y="304"/>
                    <a:pt x="0" y="460"/>
                  </a:cubicBezTo>
                  <a:cubicBezTo>
                    <a:pt x="139" y="467"/>
                    <a:pt x="282" y="491"/>
                    <a:pt x="421" y="49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2666880" y="13716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57200" y="2514600"/>
                <a:ext cx="2933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 Equation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06440" y="3581280"/>
                <a:ext cx="3556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9960" y="4267080"/>
                <a:ext cx="34545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7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-6480" y="4876920"/>
                <a:ext cx="462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04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6320" y="5562720"/>
                <a:ext cx="3136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438280" y="6248520"/>
                <a:ext cx="12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j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095720" y="685800"/>
                <a:ext cx="4965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1994040" y="685800"/>
            <a:ext cx="368280" cy="533520"/>
            <a:chOff x="1994040" y="685800"/>
            <a:chExt cx="368280" cy="533520"/>
          </a:xfrm>
        </p:grpSpPr>
        <p:sp>
          <p:nvSpPr>
            <p:cNvPr id="226" name=""/>
            <p:cNvSpPr/>
            <p:nvPr/>
          </p:nvSpPr>
          <p:spPr>
            <a:xfrm>
              <a:off x="2057400" y="990720"/>
              <a:ext cx="228600" cy="22860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1994040" y="685800"/>
                  <a:ext cx="368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  <m:r>
                            <m:t xml:space="preserve">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330800" y="1295280"/>
                <a:ext cx="457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4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4566600" y="1963800"/>
            <a:ext cx="42620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heck: Power supplied =power absor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648320" y="2954160"/>
            <a:ext cx="3098520" cy="1998720"/>
            <a:chOff x="4648320" y="2954160"/>
            <a:chExt cx="3098520" cy="1998720"/>
          </a:xfrm>
        </p:grpSpPr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4648320" y="3352680"/>
                  <a:ext cx="3098520" cy="16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Node Equations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°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Ω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j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"/>
            <p:cNvSpPr/>
            <p:nvPr/>
          </p:nvSpPr>
          <p:spPr>
            <a:xfrm>
              <a:off x="4649760" y="2954160"/>
              <a:ext cx="2419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 Proced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03848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324480" y="556272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3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26720" y="58680"/>
            <a:ext cx="560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verage power absorbed/supplied by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E09.004_W0968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3276360" cy="263988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2209680" y="685800"/>
            <a:ext cx="304920" cy="380880"/>
            <a:chOff x="2209680" y="685800"/>
            <a:chExt cx="304920" cy="380880"/>
          </a:xfrm>
        </p:grpSpPr>
        <p:sp>
          <p:nvSpPr>
            <p:cNvPr id="242" name=""/>
            <p:cNvSpPr/>
            <p:nvPr/>
          </p:nvSpPr>
          <p:spPr>
            <a:xfrm>
              <a:off x="2209680" y="914400"/>
              <a:ext cx="304920" cy="15228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2286000" y="685800"/>
                  <a:ext cx="201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33520" y="3429000"/>
                <a:ext cx="29588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de Equation</m:t>
                        </m:r>
                      </m:e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533520" y="3925800"/>
            <a:ext cx="3467160" cy="798480"/>
            <a:chOff x="533520" y="3925800"/>
            <a:chExt cx="3467160" cy="79848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581280" y="3925800"/>
                  <a:ext cx="4194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533520" y="4459320"/>
                  <a:ext cx="29336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j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82760" y="4876920"/>
                <a:ext cx="30985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9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∠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1600200" y="1219320"/>
            <a:ext cx="201600" cy="761760"/>
            <a:chOff x="1600200" y="1219320"/>
            <a:chExt cx="201600" cy="761760"/>
          </a:xfrm>
        </p:grpSpPr>
        <p:sp>
          <p:nvSpPr>
            <p:cNvPr id="250" name=""/>
            <p:cNvSpPr/>
            <p:nvPr/>
          </p:nvSpPr>
          <p:spPr>
            <a:xfrm flipV="1">
              <a:off x="1600200" y="1219320"/>
              <a:ext cx="0" cy="7617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1600200" y="16002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038480" y="762120"/>
                <a:ext cx="4775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038480" y="1447920"/>
                <a:ext cx="2121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"/>
          <p:cNvGrpSpPr/>
          <p:nvPr/>
        </p:nvGrpSpPr>
        <p:grpSpPr>
          <a:xfrm>
            <a:off x="2590920" y="1599840"/>
            <a:ext cx="239760" cy="671760"/>
            <a:chOff x="2590920" y="1599840"/>
            <a:chExt cx="239760" cy="671760"/>
          </a:xfrm>
        </p:grpSpPr>
        <p:sp>
          <p:nvSpPr>
            <p:cNvPr id="255" name=""/>
            <p:cNvSpPr/>
            <p:nvPr/>
          </p:nvSpPr>
          <p:spPr>
            <a:xfrm flipV="1">
              <a:off x="2590920" y="159984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2590920" y="198108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867120" y="1905120"/>
                <a:ext cx="3797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581280" y="2590920"/>
                <a:ext cx="5575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5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419720" y="3276720"/>
                <a:ext cx="2844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419720" y="3809880"/>
                <a:ext cx="267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Ω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65560" y="4419720"/>
                <a:ext cx="4749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5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152960" y="4952880"/>
                <a:ext cx="49910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+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778360" y="5486400"/>
                <a:ext cx="33656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heck: 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sorb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5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ppli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5562720"/>
                <a:ext cx="2273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verage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7378560" y="3429000"/>
                <a:ext cx="1765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resistors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20:55:10Z</dcterms:created>
  <dc:creator>Jorge Aravena</dc:creator>
  <dc:description/>
  <dc:language>en-US</dc:language>
  <cp:lastModifiedBy>student</cp:lastModifiedBy>
  <dcterms:modified xsi:type="dcterms:W3CDTF">2001-09-20T15:10:08Z</dcterms:modified>
  <cp:revision>17</cp:revision>
  <dc:subject/>
  <dc:title>No Slide Title</dc:title>
</cp:coreProperties>
</file>