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30.png" ContentType="image/png"/>
  <Override PartName="/ppt/media/image27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1.wmf" ContentType="image/x-wmf"/>
  <Override PartName="/ppt/media/image50.png" ContentType="image/png"/>
  <Override PartName="/ppt/media/image29.png" ContentType="image/png"/>
  <Override PartName="/ppt/media/image14.wmf" ContentType="image/x-wmf"/>
  <Override PartName="/ppt/media/image53.png" ContentType="image/png"/>
  <Override PartName="/ppt/media/image6.png" ContentType="image/png"/>
  <Override PartName="/ppt/media/image25.png" ContentType="image/png"/>
  <Override PartName="/ppt/media/image45.wmf" ContentType="image/x-wmf"/>
  <Override PartName="/ppt/media/image10.wmf" ContentType="image/x-wmf"/>
  <Override PartName="/ppt/media/image46.wmf" ContentType="image/x-wmf"/>
  <Override PartName="/ppt/media/image48.png" ContentType="image/png"/>
  <Override PartName="/ppt/media/image49.png" ContentType="image/png"/>
  <Override PartName="/ppt/media/image51.png" ContentType="image/png"/>
  <Override PartName="/ppt/media/image41.png" ContentType="image/png"/>
  <Override PartName="/ppt/media/image39.wmf" ContentType="image/x-wmf"/>
  <Override PartName="/ppt/media/image56.png" ContentType="image/png"/>
  <Override PartName="/ppt/media/image52.png" ContentType="image/png"/>
  <Override PartName="/ppt/media/image35.wmf" ContentType="image/x-wmf"/>
  <Override PartName="/ppt/media/image42.png" ContentType="image/png"/>
  <Override PartName="/ppt/media/image54.png" ContentType="image/png"/>
  <Override PartName="/ppt/media/image37.wmf" ContentType="image/x-wmf"/>
  <Override PartName="/ppt/media/image43.png" ContentType="image/png"/>
  <Override PartName="/ppt/media/image55.png" ContentType="image/png"/>
  <Override PartName="/ppt/media/image36.wmf" ContentType="image/x-wmf"/>
  <Override PartName="/ppt/media/image33.png" ContentType="image/png"/>
  <Override PartName="/ppt/media/image32.png" ContentType="image/png"/>
  <Override PartName="/ppt/media/image7.png" ContentType="image/png"/>
  <Override PartName="/ppt/media/image31.png" ContentType="image/png"/>
  <Override PartName="/ppt/media/image44.png" ContentType="image/png"/>
  <Override PartName="/ppt/media/image13.jpeg" ContentType="image/jpeg"/>
  <Override PartName="/ppt/media/image9.png" ContentType="image/png"/>
  <Override PartName="/ppt/media/image12.jpeg" ContentType="image/jpeg"/>
  <Override PartName="/ppt/media/image34.png" ContentType="image/png"/>
  <Override PartName="/ppt/media/image1.jpeg" ContentType="image/jpeg"/>
  <Override PartName="/ppt/media/image47.png" ContentType="image/png"/>
  <Override PartName="/ppt/media/image4.jpeg" ContentType="image/jpeg"/>
  <Override PartName="/ppt/media/image8.wmf" ContentType="image/x-wmf"/>
  <Override PartName="/ppt/media/image38.wmf" ContentType="image/x-wmf"/>
  <Override PartName="/ppt/media/image4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51D-3D33-438B-8625-8D3E6AE9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A71-5FCE-4EC8-808E-47AFD3A5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5E93-0BFC-4FCE-B704-E3969EF3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9AE3-4237-4A2F-ACB0-083DA27C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B60-82F6-4BB3-A05E-745A20D9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DF84-7C43-4343-BEB8-E9FAC3E0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23E9-D1B6-40C5-A8AC-78448E3F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6003-3CA1-43DB-9F4F-047642D3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E46E-F496-4B98-9D69-F42EA11E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50E-62ED-4BFF-B963-AC9B4745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EFE-4135-4212-9BFD-CF4CB245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FB3-D3B1-4076-9540-FC30CD7E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32F0-F3B2-44F3-A6B2-E5F6CF08B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6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F-familie" descr=""/>
          <p:cNvPicPr/>
          <p:nvPr/>
        </p:nvPicPr>
        <p:blipFill>
          <a:blip r:embed="rId1"/>
          <a:stretch/>
        </p:blipFill>
        <p:spPr>
          <a:xfrm>
            <a:off x="5867280" y="358128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42" name="SatelliteDish" descr=""/>
          <p:cNvPicPr/>
          <p:nvPr/>
        </p:nvPicPr>
        <p:blipFill>
          <a:blip r:embed="rId2"/>
          <a:stretch/>
        </p:blipFill>
        <p:spPr>
          <a:xfrm>
            <a:off x="6934320" y="76320"/>
            <a:ext cx="1904760" cy="1523880"/>
          </a:xfrm>
          <a:prstGeom prst="rect">
            <a:avLst/>
          </a:prstGeom>
          <a:ln w="0">
            <a:noFill/>
          </a:ln>
        </p:spPr>
      </p:pic>
      <p:pic>
        <p:nvPicPr>
          <p:cNvPr id="43" name="VLSIoldisp" descr=""/>
          <p:cNvPicPr/>
          <p:nvPr/>
        </p:nvPicPr>
        <p:blipFill>
          <a:blip r:embed="rId3"/>
          <a:stretch/>
        </p:blipFill>
        <p:spPr>
          <a:xfrm>
            <a:off x="990720" y="48769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44" name="sadick2kl" descr=""/>
          <p:cNvPicPr/>
          <p:nvPr/>
        </p:nvPicPr>
        <p:blipFill>
          <a:blip r:embed="rId4"/>
          <a:stretch/>
        </p:blipFill>
        <p:spPr>
          <a:xfrm>
            <a:off x="3276720" y="1752480"/>
            <a:ext cx="3932280" cy="2028960"/>
          </a:xfrm>
          <a:prstGeom prst="rect">
            <a:avLst/>
          </a:prstGeom>
          <a:ln w="0">
            <a:noFill/>
          </a:ln>
        </p:spPr>
      </p:pic>
      <p:pic>
        <p:nvPicPr>
          <p:cNvPr id="45" name="qb007metaldetector" descr=""/>
          <p:cNvPicPr/>
          <p:nvPr/>
        </p:nvPicPr>
        <p:blipFill>
          <a:blip r:embed="rId5"/>
          <a:stretch/>
        </p:blipFill>
        <p:spPr>
          <a:xfrm>
            <a:off x="0" y="762120"/>
            <a:ext cx="3548160" cy="3268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34960" y="114480"/>
            <a:ext cx="266472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CIRCUITS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7720" y="1000080"/>
            <a:ext cx="6802560" cy="7038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DEVELOP TOOLS FOR THE ANALYSIS AND DESIGN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BASIC LINEAR ELECTRIC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eaux" descr=""/>
          <p:cNvPicPr/>
          <p:nvPr/>
        </p:nvPicPr>
        <p:blipFill>
          <a:blip r:embed="rId6"/>
          <a:stretch/>
        </p:blipFill>
        <p:spPr>
          <a:xfrm>
            <a:off x="8190000" y="637704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396252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28600" y="668160"/>
          <a:ext cx="8610480" cy="47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68160"/>
                    <a:ext cx="8610480" cy="47959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50440" y="314280"/>
            <a:ext cx="479844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 DERIVED BASIC ELECTRICAL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998640" y="465120"/>
            <a:ext cx="7154640" cy="1349280"/>
            <a:chOff x="998640" y="465120"/>
            <a:chExt cx="7154640" cy="1349280"/>
          </a:xfrm>
        </p:grpSpPr>
        <p:sp>
          <p:nvSpPr>
            <p:cNvPr id="122" name=""/>
            <p:cNvSpPr/>
            <p:nvPr/>
          </p:nvSpPr>
          <p:spPr>
            <a:xfrm>
              <a:off x="998640" y="465120"/>
              <a:ext cx="715464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ONE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AMPERE OF CURRENT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ARRIES ONE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 COULOMB OF CHARGE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VERY SECOND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2590560" y="1143000"/>
                  <a:ext cx="396252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1  COULOMB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IS THE CHARGE OF ONE ELECTR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4127400" y="841320"/>
                  <a:ext cx="888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C</m:t>
                      </m:r>
                      <m:r>
                        <m:t xml:space="preserve">×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" name=""/>
          <p:cNvGrpSpPr/>
          <p:nvPr/>
        </p:nvGrpSpPr>
        <p:grpSpPr>
          <a:xfrm>
            <a:off x="569160" y="1981080"/>
            <a:ext cx="7878600" cy="1397160"/>
            <a:chOff x="569160" y="1981080"/>
            <a:chExt cx="7878600" cy="1397160"/>
          </a:xfrm>
        </p:grpSpPr>
        <p:sp>
          <p:nvSpPr>
            <p:cNvPr id="126" name=""/>
            <p:cNvSpPr/>
            <p:nvPr/>
          </p:nvSpPr>
          <p:spPr>
            <a:xfrm>
              <a:off x="569160" y="1981080"/>
              <a:ext cx="787860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VOLT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IS A MEASURE OF ENERGY PER CHARGE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WO POINTS HAVE A VOLTAGE DIFFERENCE OF ONE VOLT IF ONE COULOMB OF CHAR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GAINS ONE JOULE OF CHARGE WHEN IT IS MOVED  FROM ONE POINT TO THE OTH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4267080" y="2819520"/>
                  <a:ext cx="6210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" name=""/>
          <p:cNvGrpSpPr/>
          <p:nvPr/>
        </p:nvGrpSpPr>
        <p:grpSpPr>
          <a:xfrm>
            <a:off x="444960" y="3537000"/>
            <a:ext cx="8228880" cy="1341360"/>
            <a:chOff x="444960" y="3537000"/>
            <a:chExt cx="8228880" cy="1341360"/>
          </a:xfrm>
        </p:grpSpPr>
        <p:sp>
          <p:nvSpPr>
            <p:cNvPr id="129" name=""/>
            <p:cNvSpPr/>
            <p:nvPr/>
          </p:nvSpPr>
          <p:spPr>
            <a:xfrm>
              <a:off x="444960" y="3537000"/>
              <a:ext cx="822888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OHM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IS A MEASURE OF THE RESISTANCE TO THE FLOW OF CHARG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RE IS ONE OHM OF RESISTENCE IF IT IS REQUIRED ONE VOLT OF ELECTROMOTIVE FO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O DRIVE THROUGH ONE AMPERE OF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4267080" y="4343400"/>
                  <a:ext cx="62244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1" name=""/>
          <p:cNvGrpSpPr/>
          <p:nvPr/>
        </p:nvGrpSpPr>
        <p:grpSpPr>
          <a:xfrm>
            <a:off x="606600" y="5037120"/>
            <a:ext cx="7770240" cy="830160"/>
            <a:chOff x="606600" y="5037120"/>
            <a:chExt cx="7770240" cy="830160"/>
          </a:xfrm>
        </p:grpSpPr>
        <p:sp>
          <p:nvSpPr>
            <p:cNvPr id="132" name=""/>
            <p:cNvSpPr/>
            <p:nvPr/>
          </p:nvSpPr>
          <p:spPr>
            <a:xfrm>
              <a:off x="606600" y="5037120"/>
              <a:ext cx="77702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T IS REQUIRED ONE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WATT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OF POWER TO DRIVE ONE AMPER OF CURRENT AGAINST 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LECTROMOTIVE DIFFERENCE OF ONE VO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4103640" y="5638680"/>
                  <a:ext cx="10018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×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3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1920" y="750960"/>
          <a:ext cx="451008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750960"/>
                    <a:ext cx="4510080" cy="43545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572000" y="750960"/>
          <a:ext cx="4462560" cy="43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750960"/>
                    <a:ext cx="4462560" cy="43844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3082680" y="339840"/>
            <a:ext cx="3900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URRENT AND VOLTAGE R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06200" y="685800"/>
          <a:ext cx="892512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685800"/>
                    <a:ext cx="8925120" cy="18669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4000" y="127080"/>
            <a:ext cx="8052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ictly speaking current is a basic quantity and charge is derived. Howev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ysically the electric current is created by a movement of charged partic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80880" y="2666880"/>
            <a:ext cx="8458200" cy="4114800"/>
            <a:chOff x="380880" y="2666880"/>
            <a:chExt cx="8458200" cy="4114800"/>
          </a:xfrm>
        </p:grpSpPr>
        <p:graphicFrame>
          <p:nvGraphicFramePr>
            <p:cNvPr id="149" name=""/>
            <p:cNvGraphicFramePr/>
            <p:nvPr/>
          </p:nvGraphicFramePr>
          <p:xfrm>
            <a:off x="380880" y="2666880"/>
            <a:ext cx="8458200" cy="833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666880"/>
                      <a:ext cx="8458200" cy="833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1219320" y="3581280"/>
            <a:ext cx="107784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9320" y="3581280"/>
                      <a:ext cx="1077840" cy="320040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53" name=""/>
          <p:cNvSpPr/>
          <p:nvPr/>
        </p:nvSpPr>
        <p:spPr>
          <a:xfrm>
            <a:off x="2320560" y="3581280"/>
            <a:ext cx="45014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at is the meaning of a negative value for </a:t>
            </a:r>
            <a:r>
              <a:rPr b="1" i="1" lang="en-US" sz="1400" spc="-1" strike="noStrike">
                <a:solidFill>
                  <a:srgbClr val="000000"/>
                </a:solidFill>
                <a:latin typeface="Lucida Sans"/>
              </a:rPr>
              <a:t>q(t)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10920" y="4038480"/>
            <a:ext cx="5110920" cy="1159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"/>
              </a:rPr>
              <a:t>PROBLEM SOLVING TIP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F THE CHARGE IS GIVEN DETERMINE THE CURRENT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IFFERENT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F THE CURRENT IS KNOWN DETERMINE THE CHARGE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96040" y="5410080"/>
            <a:ext cx="507132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PHYSICAL ANALOGY THAT HELPS VISUALIZE ELEC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S IS THAT OF WATER FLOW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HARGES ARE VISUALIZED AS WATER PARTI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eaux" descr=""/>
          <p:cNvPicPr/>
          <p:nvPr/>
        </p:nvPicPr>
        <p:blipFill>
          <a:blip r:embed="rId7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76320" y="533520"/>
          <a:ext cx="107784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1077840" cy="32004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3320" y="160200"/>
            <a:ext cx="10036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676520" y="533520"/>
                <a:ext cx="2641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C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219320" y="1219320"/>
                <a:ext cx="5443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752480" y="1182600"/>
                <a:ext cx="2438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191120" y="1219320"/>
                <a:ext cx="341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371600" y="1828800"/>
                <a:ext cx="2793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7" name=""/>
          <p:cNvGrpSpPr/>
          <p:nvPr/>
        </p:nvGrpSpPr>
        <p:grpSpPr>
          <a:xfrm>
            <a:off x="5090760" y="152280"/>
            <a:ext cx="3154680" cy="1899720"/>
            <a:chOff x="5090760" y="152280"/>
            <a:chExt cx="3154680" cy="1899720"/>
          </a:xfrm>
        </p:grpSpPr>
        <p:grpSp>
          <p:nvGrpSpPr>
            <p:cNvPr id="168" name=""/>
            <p:cNvGrpSpPr/>
            <p:nvPr/>
          </p:nvGrpSpPr>
          <p:grpSpPr>
            <a:xfrm>
              <a:off x="5109840" y="152280"/>
              <a:ext cx="3135600" cy="1247760"/>
              <a:chOff x="5109840" y="152280"/>
              <a:chExt cx="3135600" cy="1247760"/>
            </a:xfrm>
          </p:grpSpPr>
          <p:sp>
            <p:nvSpPr>
              <p:cNvPr id="169" name=""/>
              <p:cNvSpPr/>
              <p:nvPr/>
            </p:nvSpPr>
            <p:spPr>
              <a:xfrm>
                <a:off x="5109840" y="152280"/>
                <a:ext cx="100368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EXAMP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0" name=""/>
                  <p:cNvSpPr txBox="1"/>
                  <p:nvPr/>
                </p:nvSpPr>
                <p:spPr>
                  <a:xfrm>
                    <a:off x="5545080" y="533520"/>
                    <a:ext cx="2700360" cy="866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&lt;</m:t>
                                        </m:r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  <m:mr>
                                <m:e>
                                  <m:m>
                                    <m:mr>
                                      <m:e>
                                        <m:sSup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</m:t>
                                        </m:r>
                                      </m:e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≥</m:t>
                                        </m:r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71" name=""/>
            <p:cNvSpPr/>
            <p:nvPr/>
          </p:nvSpPr>
          <p:spPr>
            <a:xfrm>
              <a:off x="5090760" y="1531800"/>
              <a:ext cx="30139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IND THE CHARGE THAT PASS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URING IN THE INTERVAL 0&lt;t&lt;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800600" y="2209680"/>
                <a:ext cx="13082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095880" y="2209680"/>
                <a:ext cx="264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4380480" y="3639960"/>
            <a:ext cx="450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CHARGE AS A FUNCTION OF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334120" y="4038480"/>
                <a:ext cx="25016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6095880" y="730080"/>
            <a:ext cx="2818080" cy="4488120"/>
            <a:chOff x="6095880" y="730080"/>
            <a:chExt cx="2818080" cy="4488120"/>
          </a:xfrm>
        </p:grpSpPr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6095880" y="4952880"/>
                  <a:ext cx="14734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r>
                        <m:t xml:space="preserve">q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"/>
            <p:cNvSpPr/>
            <p:nvPr/>
          </p:nvSpPr>
          <p:spPr>
            <a:xfrm>
              <a:off x="7504200" y="730080"/>
              <a:ext cx="1409760" cy="4429440"/>
            </a:xfrm>
            <a:custGeom>
              <a:avLst/>
              <a:gdLst/>
              <a:ahLst/>
              <a:rect l="l" t="t" r="r" b="b"/>
              <a:pathLst>
                <a:path w="888" h="2790">
                  <a:moveTo>
                    <a:pt x="351" y="0"/>
                  </a:moveTo>
                  <a:cubicBezTo>
                    <a:pt x="417" y="6"/>
                    <a:pt x="487" y="20"/>
                    <a:pt x="553" y="23"/>
                  </a:cubicBezTo>
                  <a:cubicBezTo>
                    <a:pt x="660" y="27"/>
                    <a:pt x="873" y="31"/>
                    <a:pt x="873" y="31"/>
                  </a:cubicBezTo>
                  <a:cubicBezTo>
                    <a:pt x="877" y="200"/>
                    <a:pt x="888" y="685"/>
                    <a:pt x="888" y="834"/>
                  </a:cubicBezTo>
                  <a:cubicBezTo>
                    <a:pt x="888" y="1447"/>
                    <a:pt x="886" y="2060"/>
                    <a:pt x="881" y="2673"/>
                  </a:cubicBezTo>
                  <a:cubicBezTo>
                    <a:pt x="881" y="2712"/>
                    <a:pt x="873" y="2790"/>
                    <a:pt x="873" y="2790"/>
                  </a:cubicBezTo>
                  <a:cubicBezTo>
                    <a:pt x="11" y="2782"/>
                    <a:pt x="302" y="2782"/>
                    <a:pt x="0" y="278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334120" y="5334120"/>
                <a:ext cx="3301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507200" y="5994360"/>
            <a:ext cx="29300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nd the units for the charge?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715000" y="2971800"/>
            <a:ext cx="2092680" cy="544680"/>
            <a:chOff x="5715000" y="2971800"/>
            <a:chExt cx="2092680" cy="544680"/>
          </a:xfrm>
        </p:grpSpPr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5715000" y="2971800"/>
                  <a:ext cx="12826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7069320" y="3056040"/>
              <a:ext cx="7383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Unit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692440" y="142920"/>
          <a:ext cx="4456080" cy="32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142920"/>
                    <a:ext cx="4456080" cy="3209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02600" y="762120"/>
            <a:ext cx="2555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re we are giv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arge flow as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301920" y="447840"/>
            <a:ext cx="5689800" cy="2274840"/>
            <a:chOff x="3301920" y="447840"/>
            <a:chExt cx="5689800" cy="2274840"/>
          </a:xfrm>
        </p:grpSpPr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4521240" y="447840"/>
                  <a:ext cx="44704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</m:den>
                      </m:f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sup>
                      </m:sSup>
                      <m:r>
                        <m:t xml:space="preserve">(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2" name=""/>
            <p:cNvSpPr/>
            <p:nvPr/>
          </p:nvSpPr>
          <p:spPr>
            <a:xfrm>
              <a:off x="3301920" y="1057320"/>
              <a:ext cx="1174680" cy="1665360"/>
            </a:xfrm>
            <a:custGeom>
              <a:avLst/>
              <a:gdLst/>
              <a:ahLst/>
              <a:rect l="l" t="t" r="r" b="b"/>
              <a:pathLst>
                <a:path w="740" h="1049">
                  <a:moveTo>
                    <a:pt x="47" y="358"/>
                  </a:moveTo>
                  <a:cubicBezTo>
                    <a:pt x="32" y="403"/>
                    <a:pt x="25" y="452"/>
                    <a:pt x="15" y="498"/>
                  </a:cubicBezTo>
                  <a:cubicBezTo>
                    <a:pt x="17" y="577"/>
                    <a:pt x="0" y="806"/>
                    <a:pt x="47" y="919"/>
                  </a:cubicBezTo>
                  <a:cubicBezTo>
                    <a:pt x="55" y="938"/>
                    <a:pt x="87" y="983"/>
                    <a:pt x="109" y="989"/>
                  </a:cubicBezTo>
                  <a:cubicBezTo>
                    <a:pt x="129" y="994"/>
                    <a:pt x="150" y="994"/>
                    <a:pt x="171" y="997"/>
                  </a:cubicBezTo>
                  <a:cubicBezTo>
                    <a:pt x="272" y="1049"/>
                    <a:pt x="239" y="1038"/>
                    <a:pt x="460" y="1005"/>
                  </a:cubicBezTo>
                  <a:cubicBezTo>
                    <a:pt x="482" y="1002"/>
                    <a:pt x="496" y="979"/>
                    <a:pt x="514" y="966"/>
                  </a:cubicBezTo>
                  <a:cubicBezTo>
                    <a:pt x="529" y="955"/>
                    <a:pt x="561" y="935"/>
                    <a:pt x="561" y="935"/>
                  </a:cubicBezTo>
                  <a:cubicBezTo>
                    <a:pt x="607" y="797"/>
                    <a:pt x="604" y="629"/>
                    <a:pt x="483" y="545"/>
                  </a:cubicBezTo>
                  <a:cubicBezTo>
                    <a:pt x="429" y="467"/>
                    <a:pt x="330" y="470"/>
                    <a:pt x="241" y="444"/>
                  </a:cubicBezTo>
                  <a:cubicBezTo>
                    <a:pt x="192" y="410"/>
                    <a:pt x="114" y="407"/>
                    <a:pt x="54" y="397"/>
                  </a:cubicBezTo>
                  <a:cubicBezTo>
                    <a:pt x="70" y="392"/>
                    <a:pt x="85" y="387"/>
                    <a:pt x="101" y="382"/>
                  </a:cubicBezTo>
                  <a:cubicBezTo>
                    <a:pt x="109" y="379"/>
                    <a:pt x="125" y="374"/>
                    <a:pt x="125" y="374"/>
                  </a:cubicBezTo>
                  <a:cubicBezTo>
                    <a:pt x="177" y="339"/>
                    <a:pt x="174" y="325"/>
                    <a:pt x="218" y="288"/>
                  </a:cubicBezTo>
                  <a:cubicBezTo>
                    <a:pt x="249" y="262"/>
                    <a:pt x="281" y="235"/>
                    <a:pt x="312" y="210"/>
                  </a:cubicBezTo>
                  <a:cubicBezTo>
                    <a:pt x="351" y="179"/>
                    <a:pt x="404" y="189"/>
                    <a:pt x="444" y="163"/>
                  </a:cubicBezTo>
                  <a:cubicBezTo>
                    <a:pt x="500" y="126"/>
                    <a:pt x="473" y="137"/>
                    <a:pt x="522" y="124"/>
                  </a:cubicBezTo>
                  <a:cubicBezTo>
                    <a:pt x="555" y="99"/>
                    <a:pt x="594" y="65"/>
                    <a:pt x="631" y="46"/>
                  </a:cubicBezTo>
                  <a:cubicBezTo>
                    <a:pt x="646" y="39"/>
                    <a:pt x="678" y="31"/>
                    <a:pt x="678" y="31"/>
                  </a:cubicBezTo>
                  <a:cubicBezTo>
                    <a:pt x="699" y="17"/>
                    <a:pt x="718" y="10"/>
                    <a:pt x="740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705040" y="3429000"/>
          <a:ext cx="4457880" cy="316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5040" y="3429000"/>
                    <a:ext cx="4457880" cy="3160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111240" y="379800"/>
            <a:ext cx="25556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TERMINE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680" y="3733920"/>
            <a:ext cx="27547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current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take deriv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PAY ATTENTION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47840" y="162000"/>
            <a:ext cx="38948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NVENTION FOR CUR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5160" y="617400"/>
            <a:ext cx="416736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T IS ABSOLUTELY NECESSARY TO IND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DIRECTION OF MOVEMENT OF CHARG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PARTIC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920" y="1455840"/>
            <a:ext cx="4342680" cy="137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UNIVERSALLY ACCEPTED CONVENTION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LECTRICAL ENGINEERING IS THAT CURRENT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LOW OF POSITIVE CHAR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ND WE INDICATE THE DIRECTION OF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POSITIVE CHAR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-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"/>
              </a:rPr>
              <a:t>THE REFERENCE DIRECTION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52280" y="3048120"/>
            <a:ext cx="4314240" cy="1493640"/>
            <a:chOff x="152280" y="3048120"/>
            <a:chExt cx="4314240" cy="1493640"/>
          </a:xfrm>
        </p:grpSpPr>
        <p:graphicFrame>
          <p:nvGraphicFramePr>
            <p:cNvPr id="204" name=""/>
            <p:cNvGraphicFramePr/>
            <p:nvPr/>
          </p:nvGraphicFramePr>
          <p:xfrm>
            <a:off x="152280" y="3048120"/>
            <a:ext cx="1981440" cy="1493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3048120"/>
                      <a:ext cx="1981440" cy="14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6" name=""/>
            <p:cNvSpPr/>
            <p:nvPr/>
          </p:nvSpPr>
          <p:spPr>
            <a:xfrm>
              <a:off x="2063880" y="3048120"/>
              <a:ext cx="240264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 POSITIVE VALUE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CURRENT INDIC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LOW IN THE DI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OF THE ARROW (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FERENCE DIRECTI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52280" y="4745160"/>
            <a:ext cx="4263480" cy="1428480"/>
            <a:chOff x="152280" y="4745160"/>
            <a:chExt cx="4263480" cy="1428480"/>
          </a:xfrm>
        </p:grpSpPr>
        <p:graphicFrame>
          <p:nvGraphicFramePr>
            <p:cNvPr id="208" name=""/>
            <p:cNvGraphicFramePr/>
            <p:nvPr/>
          </p:nvGraphicFramePr>
          <p:xfrm>
            <a:off x="152280" y="4745160"/>
            <a:ext cx="1905120" cy="1428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4745160"/>
                      <a:ext cx="1905120" cy="142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0" name=""/>
            <p:cNvSpPr/>
            <p:nvPr/>
          </p:nvSpPr>
          <p:spPr>
            <a:xfrm>
              <a:off x="2013120" y="4762440"/>
              <a:ext cx="240264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 NEGATIVE VALUE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CURRENT INDIC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LOW IN THE OPPOS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IRECTION THAN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FERENCE DI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4876920" y="2666880"/>
          <a:ext cx="3414600" cy="23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2666880"/>
                    <a:ext cx="3414600" cy="2309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4922280" y="287280"/>
            <a:ext cx="3836880" cy="1139760"/>
            <a:chOff x="4922280" y="287280"/>
            <a:chExt cx="3836880" cy="1139760"/>
          </a:xfrm>
        </p:grpSpPr>
        <p:sp>
          <p:nvSpPr>
            <p:cNvPr id="214" name=""/>
            <p:cNvSpPr/>
            <p:nvPr/>
          </p:nvSpPr>
          <p:spPr>
            <a:xfrm>
              <a:off x="5280120" y="287280"/>
              <a:ext cx="330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DOUBLE INDEX NO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22280" y="693720"/>
              <a:ext cx="383688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F THE INITIAL AND TERMINAL NODE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LABELED ONE CAN INDICATE THEM 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UBINDICES FOR THE CURRENT 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876920" y="1600200"/>
            <a:ext cx="1675800" cy="457200"/>
            <a:chOff x="4876920" y="1600200"/>
            <a:chExt cx="1675800" cy="457200"/>
          </a:xfrm>
        </p:grpSpPr>
        <p:grpSp>
          <p:nvGrpSpPr>
            <p:cNvPr id="217" name=""/>
            <p:cNvGrpSpPr/>
            <p:nvPr/>
          </p:nvGrpSpPr>
          <p:grpSpPr>
            <a:xfrm>
              <a:off x="4876920" y="1600200"/>
              <a:ext cx="1675800" cy="457200"/>
              <a:chOff x="4876920" y="1600200"/>
              <a:chExt cx="167580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4876920" y="1600200"/>
                <a:ext cx="151920" cy="152280"/>
              </a:xfrm>
              <a:prstGeom prst="ellipse">
                <a:avLst/>
              </a:prstGeom>
              <a:solidFill>
                <a:srgbClr val="ffffcc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00440" y="1600200"/>
                <a:ext cx="152280" cy="152280"/>
              </a:xfrm>
              <a:prstGeom prst="ellipse">
                <a:avLst/>
              </a:prstGeom>
              <a:solidFill>
                <a:srgbClr val="ffffcc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952880" y="1676520"/>
                <a:ext cx="14472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1" name=""/>
                  <p:cNvSpPr txBox="1"/>
                  <p:nvPr/>
                </p:nvSpPr>
                <p:spPr>
                  <a:xfrm>
                    <a:off x="4876920" y="1805040"/>
                    <a:ext cx="163080" cy="176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22" name=""/>
                  <p:cNvSpPr txBox="1"/>
                  <p:nvPr/>
                </p:nvSpPr>
                <p:spPr>
                  <a:xfrm>
                    <a:off x="6402240" y="1828800"/>
                    <a:ext cx="15048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5486400" y="1752480"/>
                  <a:ext cx="316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781680" y="1600200"/>
                <a:ext cx="10670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270400" y="34290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334120" y="496728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7010280" y="3429000"/>
                <a:ext cx="95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7162920" y="495288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4724280" y="2362320"/>
            <a:ext cx="1888920" cy="3575880"/>
            <a:chOff x="4724280" y="2362320"/>
            <a:chExt cx="1888920" cy="3575880"/>
          </a:xfrm>
        </p:grpSpPr>
        <p:sp>
          <p:nvSpPr>
            <p:cNvPr id="230" name=""/>
            <p:cNvSpPr/>
            <p:nvPr/>
          </p:nvSpPr>
          <p:spPr>
            <a:xfrm>
              <a:off x="4724280" y="2362320"/>
              <a:ext cx="1828800" cy="3047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55960" y="5418000"/>
              <a:ext cx="1857240" cy="520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SITIVE CHAR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LOW LEFT-RIG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721560" y="2344680"/>
            <a:ext cx="1888920" cy="3576240"/>
            <a:chOff x="6721560" y="2344680"/>
            <a:chExt cx="1888920" cy="3576240"/>
          </a:xfrm>
        </p:grpSpPr>
        <p:sp>
          <p:nvSpPr>
            <p:cNvPr id="233" name=""/>
            <p:cNvSpPr/>
            <p:nvPr/>
          </p:nvSpPr>
          <p:spPr>
            <a:xfrm>
              <a:off x="6721560" y="2344680"/>
              <a:ext cx="1828800" cy="3048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53240" y="5400720"/>
              <a:ext cx="1857240" cy="520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SITIVE CHAR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LOW RIGHT-LE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172200" y="6019920"/>
                <a:ext cx="1143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36" name="geaux" descr=""/>
          <p:cNvPicPr/>
          <p:nvPr/>
        </p:nvPicPr>
        <p:blipFill>
          <a:blip r:embed="rId7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815840" y="4419720"/>
            <a:ext cx="4973760" cy="6426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is example illustrates the various 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which the current notation can be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362320" y="990720"/>
          <a:ext cx="3809880" cy="31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990720"/>
                    <a:ext cx="3809880" cy="31748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542680" y="152280"/>
            <a:ext cx="40759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NVENTIONS FOR VOLT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609480"/>
            <a:ext cx="504072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DEFINITION FO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VOLT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POINTS HAVE A VOLTAGE DIFFERENTIAL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VOLT IF ONE COULOMB OF CHARGE GA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OR LOSES) ONE JOULE OF ENERGY WHEN I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VES FROM ONE POINT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438280" y="1879560"/>
            <a:ext cx="4746240" cy="2149560"/>
            <a:chOff x="2438280" y="1879560"/>
            <a:chExt cx="4746240" cy="2149560"/>
          </a:xfrm>
        </p:grpSpPr>
        <p:graphicFrame>
          <p:nvGraphicFramePr>
            <p:cNvPr id="248" name=""/>
            <p:cNvGraphicFramePr/>
            <p:nvPr/>
          </p:nvGraphicFramePr>
          <p:xfrm>
            <a:off x="2438280" y="1916280"/>
            <a:ext cx="1825920" cy="211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1916280"/>
                      <a:ext cx="1825920" cy="211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"/>
            <p:cNvSpPr/>
            <p:nvPr/>
          </p:nvSpPr>
          <p:spPr>
            <a:xfrm>
              <a:off x="4286520" y="1879560"/>
              <a:ext cx="2898000" cy="1797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THE CHARGE G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ERGY MOVING F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 TO b THEN b HAS HIG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THAN 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IT LOSES ENERGY T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 HAS LOWER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AN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585160" y="4122720"/>
            <a:ext cx="3890160" cy="906480"/>
            <a:chOff x="2585160" y="4122720"/>
            <a:chExt cx="3890160" cy="906480"/>
          </a:xfrm>
        </p:grpSpPr>
        <p:sp>
          <p:nvSpPr>
            <p:cNvPr id="252" name=""/>
            <p:cNvSpPr/>
            <p:nvPr/>
          </p:nvSpPr>
          <p:spPr>
            <a:xfrm>
              <a:off x="2585160" y="4122720"/>
              <a:ext cx="38901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IMENSIONALLY VOLT IS A DERIVED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3216600" y="4470480"/>
                  <a:ext cx="2705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OLT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JOULE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OULOM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4" name=""/>
          <p:cNvSpPr/>
          <p:nvPr/>
        </p:nvSpPr>
        <p:spPr>
          <a:xfrm>
            <a:off x="249840" y="5079960"/>
            <a:ext cx="85168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IS ALWAYS MEASURED IN A RELATIVE FORM AS THE VOLTAGE DIF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TWEEN TWO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6120" y="5794200"/>
            <a:ext cx="8280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IS ESSENTIAL THAT OUR NOTATION ALLOWS US TO DETERMINE WHICH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S THE HIGHER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371600" y="3048120"/>
          <a:ext cx="6126120" cy="29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48120"/>
                    <a:ext cx="6126120" cy="29858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1" name=""/>
          <p:cNvGrpSpPr/>
          <p:nvPr/>
        </p:nvGrpSpPr>
        <p:grpSpPr>
          <a:xfrm>
            <a:off x="152280" y="61920"/>
            <a:ext cx="5353920" cy="2986200"/>
            <a:chOff x="152280" y="61920"/>
            <a:chExt cx="5353920" cy="2986200"/>
          </a:xfrm>
        </p:grpSpPr>
        <p:graphicFrame>
          <p:nvGraphicFramePr>
            <p:cNvPr id="262" name=""/>
            <p:cNvGraphicFramePr/>
            <p:nvPr/>
          </p:nvGraphicFramePr>
          <p:xfrm>
            <a:off x="152280" y="61920"/>
            <a:ext cx="2833920" cy="298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61920"/>
                      <a:ext cx="2833920" cy="29862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64" name=""/>
            <p:cNvSpPr/>
            <p:nvPr/>
          </p:nvSpPr>
          <p:spPr>
            <a:xfrm>
              <a:off x="2978640" y="228600"/>
              <a:ext cx="25275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+ AND - SIG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FINE THE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A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762120" y="1371600"/>
                  <a:ext cx="26820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6" name=""/>
          <p:cNvSpPr/>
          <p:nvPr/>
        </p:nvSpPr>
        <p:spPr>
          <a:xfrm>
            <a:off x="3081240" y="1295280"/>
            <a:ext cx="46994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NUMBER V IS POSITIVE POINT A HAS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MORE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HAN POINT 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NUMBER V IS NEGATIVE POINT A 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|V|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LESS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HAN POI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662120" y="3176640"/>
            <a:ext cx="2163960" cy="3354480"/>
            <a:chOff x="1662120" y="3176640"/>
            <a:chExt cx="2163960" cy="3354480"/>
          </a:xfrm>
        </p:grpSpPr>
        <p:sp>
          <p:nvSpPr>
            <p:cNvPr id="268" name=""/>
            <p:cNvSpPr/>
            <p:nvPr/>
          </p:nvSpPr>
          <p:spPr>
            <a:xfrm>
              <a:off x="1662120" y="6010920"/>
              <a:ext cx="2161800" cy="52020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INT A HAS 2V M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AN POIN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92360" y="3176640"/>
              <a:ext cx="2133720" cy="2824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033880" y="3200400"/>
            <a:ext cx="2280960" cy="3280320"/>
            <a:chOff x="5033880" y="3200400"/>
            <a:chExt cx="2280960" cy="3280320"/>
          </a:xfrm>
        </p:grpSpPr>
        <p:sp>
          <p:nvSpPr>
            <p:cNvPr id="271" name=""/>
            <p:cNvSpPr/>
            <p:nvPr/>
          </p:nvSpPr>
          <p:spPr>
            <a:xfrm>
              <a:off x="5150520" y="5960520"/>
              <a:ext cx="203076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INT A HAS 5V L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AN POIN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33880" y="3200400"/>
              <a:ext cx="2280960" cy="2760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3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72720" y="2666520"/>
            <a:ext cx="7471440" cy="119124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A FEW WORDS ABOUT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USING MATHEMATICAL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0" y="1154160"/>
          <a:ext cx="223524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54160"/>
                    <a:ext cx="2235240" cy="22748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75600" y="0"/>
            <a:ext cx="4630680" cy="1062000"/>
            <a:chOff x="75600" y="0"/>
            <a:chExt cx="4630680" cy="1062000"/>
          </a:xfrm>
        </p:grpSpPr>
        <p:sp>
          <p:nvSpPr>
            <p:cNvPr id="279" name=""/>
            <p:cNvSpPr/>
            <p:nvPr/>
          </p:nvSpPr>
          <p:spPr>
            <a:xfrm>
              <a:off x="195840" y="0"/>
              <a:ext cx="451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-INDEX NOTATION FOR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600" y="328680"/>
              <a:ext cx="452880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STEAD OF SHOWING THE REFERENCE PO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E AGREE THAT THE FIRST SUBINDEX DENO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POINT WITH POSITIVE REFERENCE PO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362320" y="1981080"/>
                <a:ext cx="13129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" y="6248520"/>
                <a:ext cx="1041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819520" y="6172200"/>
                <a:ext cx="888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562040" y="6361200"/>
                <a:ext cx="1257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85" name=""/>
          <p:cNvGrpSpPr/>
          <p:nvPr/>
        </p:nvGrpSpPr>
        <p:grpSpPr>
          <a:xfrm>
            <a:off x="2133720" y="1227240"/>
            <a:ext cx="6519960" cy="2049480"/>
            <a:chOff x="2133720" y="1227240"/>
            <a:chExt cx="6519960" cy="2049480"/>
          </a:xfrm>
        </p:grpSpPr>
        <p:sp>
          <p:nvSpPr>
            <p:cNvPr id="286" name=""/>
            <p:cNvSpPr/>
            <p:nvPr/>
          </p:nvSpPr>
          <p:spPr>
            <a:xfrm>
              <a:off x="3995280" y="1227240"/>
              <a:ext cx="4658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AT ENERGY IS REQUIRED TO MOVE 120[C] FR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INT B TO POINT A IN THE CIRCUIT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133720" y="1447920"/>
              <a:ext cx="0" cy="1828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440600" y="1752480"/>
            <a:ext cx="4475520" cy="1130040"/>
            <a:chOff x="4440600" y="1752480"/>
            <a:chExt cx="4475520" cy="1130040"/>
          </a:xfrm>
        </p:grpSpPr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876920" y="1752480"/>
                  <a:ext cx="24638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W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  <m:r>
                        <m:t xml:space="preserve">⇒</m:t>
                      </m:r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VQ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0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>
              <a:off x="4440600" y="2362320"/>
              <a:ext cx="44755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CHARGES MOVE TO A POINT WITH HIG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VOLTAGE -THEY GAINED (OR ABSORBED) 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0" y="2895480"/>
            <a:ext cx="3103560" cy="3962520"/>
            <a:chOff x="4572000" y="2895480"/>
            <a:chExt cx="3103560" cy="3962520"/>
          </a:xfrm>
        </p:grpSpPr>
        <p:graphicFrame>
          <p:nvGraphicFramePr>
            <p:cNvPr id="292" name=""/>
            <p:cNvGraphicFramePr/>
            <p:nvPr/>
          </p:nvGraphicFramePr>
          <p:xfrm>
            <a:off x="4572000" y="2895480"/>
            <a:ext cx="3103560" cy="396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2895480"/>
                      <a:ext cx="3103560" cy="39625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 flipV="1">
              <a:off x="6626160" y="5410080"/>
              <a:ext cx="0" cy="9907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772400" y="57913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856120" y="5513400"/>
                <a:ext cx="316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7" name=""/>
          <p:cNvGrpSpPr/>
          <p:nvPr/>
        </p:nvGrpSpPr>
        <p:grpSpPr>
          <a:xfrm>
            <a:off x="6978600" y="4273560"/>
            <a:ext cx="2219760" cy="1275840"/>
            <a:chOff x="6978600" y="4273560"/>
            <a:chExt cx="2219760" cy="1275840"/>
          </a:xfrm>
        </p:grpSpPr>
        <p:sp>
          <p:nvSpPr>
            <p:cNvPr id="298" name=""/>
            <p:cNvSpPr/>
            <p:nvPr/>
          </p:nvSpPr>
          <p:spPr>
            <a:xfrm>
              <a:off x="6978600" y="5029200"/>
              <a:ext cx="22197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ICH POINT HAS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IGHER VOLTAGE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76200" y="4273560"/>
              <a:ext cx="138312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VOL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IFFEREN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S 5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3659040"/>
          <a:ext cx="4554360" cy="2360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659040"/>
                    <a:ext cx="4554360" cy="2360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40840" y="163440"/>
            <a:ext cx="4006080" cy="1159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CAMCODER BATTERY PLATE CLAIMS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UNIT STORES 2700mAHr AT 7.2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AT IS THE TOTAL CHARGE AND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TORE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680" y="1379520"/>
            <a:ext cx="402876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"/>
              </a:rPr>
              <a:t>CHA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NOTATION 2700mAHr INDICATES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UNIT CAN DELIVER 2700mA FOR 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ULL H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09480" y="2427120"/>
                <a:ext cx="3391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r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C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144360" y="3589200"/>
            <a:ext cx="401040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"/>
              </a:rPr>
              <a:t>TOTAL ENERGY STO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CHARGES ARE MOVED THROUGH A 7.2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VOLTAGE DIFFER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57200" y="4495680"/>
                <a:ext cx="35560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[</m:t>
                        </m:r>
                        <m:r>
                          <m:t xml:space="preserve">C</m:t>
                        </m:r>
                        <m:r>
                          <m:t xml:space="preserve">]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J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[</m:t>
                        </m:r>
                        <m:r>
                          <m:t xml:space="preserve">J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J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4856040" y="109440"/>
            <a:ext cx="3367080" cy="2868840"/>
            <a:chOff x="4856040" y="109440"/>
            <a:chExt cx="3367080" cy="2868840"/>
          </a:xfrm>
        </p:grpSpPr>
        <p:graphicFrame>
          <p:nvGraphicFramePr>
            <p:cNvPr id="311" name=""/>
            <p:cNvGraphicFramePr/>
            <p:nvPr/>
          </p:nvGraphicFramePr>
          <p:xfrm>
            <a:off x="4856040" y="457200"/>
            <a:ext cx="3068640" cy="252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4856040" y="457200"/>
                      <a:ext cx="3068640" cy="252108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13" name=""/>
            <p:cNvSpPr/>
            <p:nvPr/>
          </p:nvSpPr>
          <p:spPr>
            <a:xfrm>
              <a:off x="5683320" y="109440"/>
              <a:ext cx="2539800" cy="3682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ENERGY AND 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324480" y="457200"/>
            <a:ext cx="2831760" cy="1522440"/>
            <a:chOff x="6324480" y="457200"/>
            <a:chExt cx="2831760" cy="1522440"/>
          </a:xfrm>
        </p:grpSpPr>
        <p:grpSp>
          <p:nvGrpSpPr>
            <p:cNvPr id="315" name=""/>
            <p:cNvGrpSpPr/>
            <p:nvPr/>
          </p:nvGrpSpPr>
          <p:grpSpPr>
            <a:xfrm>
              <a:off x="7165800" y="914400"/>
              <a:ext cx="1990440" cy="1065240"/>
              <a:chOff x="7165800" y="914400"/>
              <a:chExt cx="1990440" cy="1065240"/>
            </a:xfrm>
          </p:grpSpPr>
          <p:sp>
            <p:nvSpPr>
              <p:cNvPr id="316" name=""/>
              <p:cNvSpPr/>
              <p:nvPr/>
            </p:nvSpPr>
            <p:spPr>
              <a:xfrm>
                <a:off x="7165800" y="1141560"/>
                <a:ext cx="0" cy="838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769880" y="914400"/>
                <a:ext cx="1386360" cy="733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2[C/s] PA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THROUGH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THE ELE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6324480" y="457200"/>
              <a:ext cx="990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978080" y="3056040"/>
            <a:ext cx="3585240" cy="1350360"/>
            <a:chOff x="4978080" y="3056040"/>
            <a:chExt cx="3585240" cy="1350360"/>
          </a:xfrm>
        </p:grpSpPr>
        <p:sp>
          <p:nvSpPr>
            <p:cNvPr id="320" name=""/>
            <p:cNvSpPr/>
            <p:nvPr/>
          </p:nvSpPr>
          <p:spPr>
            <a:xfrm>
              <a:off x="4978080" y="3056040"/>
              <a:ext cx="358524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ACH COULOMB OF CHARGE LOSES 3[J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OR SUPPLIES 3[J] OF ENERGY TO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85640" y="3886200"/>
              <a:ext cx="34862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ELEMENT RECEIVES ENERGY AT 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ATE OF 6[J/s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911480" y="4503600"/>
            <a:ext cx="36403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ELECTRIC POWER RECEIVED BY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LEMENT IS 6[W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66560" y="5781600"/>
            <a:ext cx="37299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HOW DO WE RECOGNIZE IF AN 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UPPLIES OR RECEIVES POW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948560" y="5029200"/>
            <a:ext cx="3179520" cy="722160"/>
            <a:chOff x="4948560" y="5029200"/>
            <a:chExt cx="3179520" cy="722160"/>
          </a:xfrm>
        </p:grpSpPr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5105520" y="5486400"/>
                  <a:ext cx="671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V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6" name=""/>
            <p:cNvSpPr/>
            <p:nvPr/>
          </p:nvSpPr>
          <p:spPr>
            <a:xfrm>
              <a:off x="4948560" y="5113440"/>
              <a:ext cx="12582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 GENE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6324480" y="5029200"/>
                  <a:ext cx="18036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p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2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42240" y="34920"/>
            <a:ext cx="3352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ASSIVE SIGN CON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4400" y="447840"/>
            <a:ext cx="41065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POWER RECEIVED IS POSITIVE WHILE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UPPLIED IS CONSIDERED NEG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8120" y="3352680"/>
            <a:ext cx="4426560" cy="1280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CONSEQUENCE OF THIS CONVENTION IS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REFERENCE DIRECTIONS FOR CURRENT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VOLTAGE ARE NOT INDEPENDENT -- IF W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SSUME PASSIVE EL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28600" y="1219320"/>
            <a:ext cx="4245120" cy="2050920"/>
            <a:chOff x="228600" y="1219320"/>
            <a:chExt cx="4245120" cy="2050920"/>
          </a:xfrm>
        </p:grpSpPr>
        <p:graphicFrame>
          <p:nvGraphicFramePr>
            <p:cNvPr id="335" name=""/>
            <p:cNvGraphicFramePr/>
            <p:nvPr/>
          </p:nvGraphicFramePr>
          <p:xfrm>
            <a:off x="228600" y="1219320"/>
            <a:ext cx="1676520" cy="157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219320"/>
                      <a:ext cx="1676520" cy="15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1905120" y="1295280"/>
                  <a:ext cx="990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38" name=""/>
            <p:cNvSpPr/>
            <p:nvPr/>
          </p:nvSpPr>
          <p:spPr>
            <a:xfrm>
              <a:off x="1940040" y="1684440"/>
              <a:ext cx="2533680" cy="1585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F VOLTAGE AND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RE BOTH POSITIVE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HARGES MOVE FROM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IGH TO LOW VOLTAG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ND THE COMPON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CEIVES ENERGY --IT 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 PASSIVE 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01320" y="4876920"/>
            <a:ext cx="3093120" cy="1508040"/>
            <a:chOff x="301320" y="4876920"/>
            <a:chExt cx="3093120" cy="1508040"/>
          </a:xfrm>
        </p:grpSpPr>
        <p:graphicFrame>
          <p:nvGraphicFramePr>
            <p:cNvPr id="340" name=""/>
            <p:cNvGraphicFramePr/>
            <p:nvPr/>
          </p:nvGraphicFramePr>
          <p:xfrm>
            <a:off x="1066680" y="5181480"/>
            <a:ext cx="1676520" cy="120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5181480"/>
                      <a:ext cx="1676520" cy="12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2" name=""/>
            <p:cNvSpPr/>
            <p:nvPr/>
          </p:nvSpPr>
          <p:spPr>
            <a:xfrm>
              <a:off x="301320" y="4876920"/>
              <a:ext cx="309312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GIVEN THE REFERENCE PO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762440" y="990720"/>
            <a:ext cx="4095720" cy="1586880"/>
            <a:chOff x="4762440" y="990720"/>
            <a:chExt cx="4095720" cy="1586880"/>
          </a:xfrm>
        </p:grpSpPr>
        <p:graphicFrame>
          <p:nvGraphicFramePr>
            <p:cNvPr id="344" name=""/>
            <p:cNvGraphicFramePr/>
            <p:nvPr/>
          </p:nvGraphicFramePr>
          <p:xfrm>
            <a:off x="5867280" y="990720"/>
            <a:ext cx="1676520" cy="1085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67280" y="990720"/>
                      <a:ext cx="1676520" cy="10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4762440" y="2057400"/>
              <a:ext cx="40957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F THE REFERENCE DIRECTION FOR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S GIV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00480" y="312840"/>
            <a:ext cx="3556440" cy="677880"/>
            <a:chOff x="5100480" y="312840"/>
            <a:chExt cx="3556440" cy="677880"/>
          </a:xfrm>
        </p:grpSpPr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6400800" y="750960"/>
                  <a:ext cx="67140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"/>
            <p:cNvSpPr/>
            <p:nvPr/>
          </p:nvSpPr>
          <p:spPr>
            <a:xfrm>
              <a:off x="5100480" y="312840"/>
              <a:ext cx="355644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IS IS THE REFERENCE FOR PO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76920" y="6019920"/>
            <a:ext cx="3495600" cy="695880"/>
            <a:chOff x="376920" y="6019920"/>
            <a:chExt cx="3495600" cy="695880"/>
          </a:xfrm>
        </p:grpSpPr>
        <p:sp>
          <p:nvSpPr>
            <p:cNvPr id="351" name=""/>
            <p:cNvSpPr/>
            <p:nvPr/>
          </p:nvSpPr>
          <p:spPr>
            <a:xfrm>
              <a:off x="1600200" y="60199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6920" y="6408720"/>
              <a:ext cx="34956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FERENCE DIRECTION FOR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19920" y="3124080"/>
            <a:ext cx="3695040" cy="2425320"/>
            <a:chOff x="5119920" y="3124080"/>
            <a:chExt cx="3695040" cy="2425320"/>
          </a:xfrm>
        </p:grpSpPr>
        <p:grpSp>
          <p:nvGrpSpPr>
            <p:cNvPr id="354" name=""/>
            <p:cNvGrpSpPr/>
            <p:nvPr/>
          </p:nvGrpSpPr>
          <p:grpSpPr>
            <a:xfrm>
              <a:off x="5338440" y="3124080"/>
              <a:ext cx="2365560" cy="1933560"/>
              <a:chOff x="5338440" y="3124080"/>
              <a:chExt cx="2365560" cy="1933560"/>
            </a:xfrm>
          </p:grpSpPr>
          <p:graphicFrame>
            <p:nvGraphicFramePr>
              <p:cNvPr id="355" name=""/>
              <p:cNvGraphicFramePr/>
              <p:nvPr/>
            </p:nvGraphicFramePr>
            <p:xfrm>
              <a:off x="6013440" y="3384720"/>
              <a:ext cx="1690560" cy="16729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5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013440" y="3384720"/>
                        <a:ext cx="1690560" cy="1672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57" name=""/>
              <p:cNvSpPr/>
              <p:nvPr/>
            </p:nvSpPr>
            <p:spPr>
              <a:xfrm>
                <a:off x="5338440" y="3124080"/>
                <a:ext cx="100368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EXAMP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5119920" y="5029200"/>
              <a:ext cx="36950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ELEMENT RECEIVES 20W OF POW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AT IS THE CURRENT?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138640" y="4267080"/>
            <a:ext cx="3830760" cy="1823760"/>
            <a:chOff x="5138640" y="4267080"/>
            <a:chExt cx="3830760" cy="1823760"/>
          </a:xfrm>
        </p:grpSpPr>
        <p:grpSp>
          <p:nvGrpSpPr>
            <p:cNvPr id="360" name=""/>
            <p:cNvGrpSpPr/>
            <p:nvPr/>
          </p:nvGrpSpPr>
          <p:grpSpPr>
            <a:xfrm>
              <a:off x="6340320" y="4267080"/>
              <a:ext cx="838080" cy="366840"/>
              <a:chOff x="6340320" y="4267080"/>
              <a:chExt cx="838080" cy="366840"/>
            </a:xfrm>
          </p:grpSpPr>
          <p:sp>
            <p:nvSpPr>
              <p:cNvPr id="361" name=""/>
              <p:cNvSpPr/>
              <p:nvPr/>
            </p:nvSpPr>
            <p:spPr>
              <a:xfrm>
                <a:off x="6340320" y="4267080"/>
                <a:ext cx="838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2" name=""/>
                  <p:cNvSpPr txBox="1"/>
                  <p:nvPr/>
                </p:nvSpPr>
                <p:spPr>
                  <a:xfrm>
                    <a:off x="6557760" y="4343400"/>
                    <a:ext cx="315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63" name=""/>
            <p:cNvSpPr/>
            <p:nvPr/>
          </p:nvSpPr>
          <p:spPr>
            <a:xfrm>
              <a:off x="5138640" y="5570640"/>
              <a:ext cx="38307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ELECT REFERENCE DIRECTION BASED 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029200" y="6110280"/>
                <a:ext cx="2603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638680" y="6477120"/>
                <a:ext cx="1105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6" name=""/>
          <p:cNvGrpSpPr/>
          <p:nvPr/>
        </p:nvGrpSpPr>
        <p:grpSpPr>
          <a:xfrm>
            <a:off x="5562360" y="3581280"/>
            <a:ext cx="2895480" cy="304920"/>
            <a:chOff x="5562360" y="3581280"/>
            <a:chExt cx="2895480" cy="304920"/>
          </a:xfrm>
        </p:grpSpPr>
        <p:sp>
          <p:nvSpPr>
            <p:cNvPr id="367" name=""/>
            <p:cNvSpPr/>
            <p:nvPr/>
          </p:nvSpPr>
          <p:spPr>
            <a:xfrm flipH="1">
              <a:off x="5562360" y="3886200"/>
              <a:ext cx="2895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8077320" y="3581280"/>
                  <a:ext cx="330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69" name="geaux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74520" y="4343400"/>
          <a:ext cx="5480280" cy="21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74520" y="4343400"/>
                    <a:ext cx="548028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4" name=""/>
          <p:cNvGrpSpPr/>
          <p:nvPr/>
        </p:nvGrpSpPr>
        <p:grpSpPr>
          <a:xfrm>
            <a:off x="4572000" y="1600200"/>
            <a:ext cx="990360" cy="2438280"/>
            <a:chOff x="4572000" y="1600200"/>
            <a:chExt cx="990360" cy="2438280"/>
          </a:xfrm>
        </p:grpSpPr>
        <p:sp>
          <p:nvSpPr>
            <p:cNvPr id="375" name=""/>
            <p:cNvSpPr/>
            <p:nvPr/>
          </p:nvSpPr>
          <p:spPr>
            <a:xfrm>
              <a:off x="4572000" y="1600200"/>
              <a:ext cx="990360" cy="243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83200" y="2678400"/>
              <a:ext cx="380520" cy="3070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Lucida Sans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828800" y="1600200"/>
            <a:ext cx="990720" cy="2438280"/>
            <a:chOff x="1828800" y="1600200"/>
            <a:chExt cx="990720" cy="2438280"/>
          </a:xfrm>
        </p:grpSpPr>
        <p:sp>
          <p:nvSpPr>
            <p:cNvPr id="378" name=""/>
            <p:cNvSpPr/>
            <p:nvPr/>
          </p:nvSpPr>
          <p:spPr>
            <a:xfrm>
              <a:off x="1828800" y="1600200"/>
              <a:ext cx="990720" cy="243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40360" y="2678400"/>
              <a:ext cx="380520" cy="3070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Lucida Sans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981080" y="685800"/>
            <a:ext cx="6550920" cy="2532240"/>
            <a:chOff x="1981080" y="685800"/>
            <a:chExt cx="6550920" cy="2532240"/>
          </a:xfrm>
        </p:grpSpPr>
        <p:sp>
          <p:nvSpPr>
            <p:cNvPr id="381" name=""/>
            <p:cNvSpPr/>
            <p:nvPr/>
          </p:nvSpPr>
          <p:spPr>
            <a:xfrm flipV="1">
              <a:off x="1981080" y="1998360"/>
              <a:ext cx="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10080" y="1998720"/>
              <a:ext cx="0" cy="12193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21840" y="685800"/>
              <a:ext cx="5510160" cy="580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must examine the voltage across the com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 current through 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575320" y="4648320"/>
                <a:ext cx="1511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ON 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7162920" y="4648320"/>
                <a:ext cx="167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ON 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86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819520" y="2209680"/>
            <a:ext cx="1752480" cy="0"/>
          </a:xfrm>
          <a:prstGeom prst="line">
            <a:avLst/>
          </a:prstGeom>
          <a:ln w="255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2819520" y="3429000"/>
            <a:ext cx="1752480" cy="0"/>
          </a:xfrm>
          <a:prstGeom prst="line">
            <a:avLst/>
          </a:prstGeom>
          <a:ln w="255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37160" y="1828800"/>
            <a:ext cx="3042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87960" y="1828800"/>
            <a:ext cx="3423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37880" y="3048120"/>
            <a:ext cx="3009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20720" y="3048120"/>
            <a:ext cx="33912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B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6019920" y="2286000"/>
                <a:ext cx="1434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2038320" y="339840"/>
            <a:ext cx="5430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UNDERSTANDING PASSIVE SIGN CON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81000" y="4799160"/>
            <a:ext cx="3043080" cy="458640"/>
            <a:chOff x="81000" y="4799160"/>
            <a:chExt cx="3043080" cy="458640"/>
          </a:xfrm>
        </p:grpSpPr>
        <p:sp>
          <p:nvSpPr>
            <p:cNvPr id="398" name=""/>
            <p:cNvSpPr/>
            <p:nvPr/>
          </p:nvSpPr>
          <p:spPr>
            <a:xfrm>
              <a:off x="81000" y="4800600"/>
              <a:ext cx="121932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95280" y="4799160"/>
              <a:ext cx="1828800" cy="457200"/>
            </a:xfrm>
            <a:prstGeom prst="rect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124080" y="4800600"/>
            <a:ext cx="1143000" cy="45720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43400" y="4800600"/>
            <a:ext cx="1219320" cy="45720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7226280" y="5562720"/>
                <a:ext cx="16891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  S2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3" name=""/>
          <p:cNvGrpSpPr/>
          <p:nvPr/>
        </p:nvGrpSpPr>
        <p:grpSpPr>
          <a:xfrm>
            <a:off x="76320" y="5638680"/>
            <a:ext cx="5486400" cy="533520"/>
            <a:chOff x="76320" y="5638680"/>
            <a:chExt cx="5486400" cy="533520"/>
          </a:xfrm>
        </p:grpSpPr>
        <p:grpSp>
          <p:nvGrpSpPr>
            <p:cNvPr id="404" name=""/>
            <p:cNvGrpSpPr/>
            <p:nvPr/>
          </p:nvGrpSpPr>
          <p:grpSpPr>
            <a:xfrm>
              <a:off x="76320" y="5638680"/>
              <a:ext cx="3043080" cy="458640"/>
              <a:chOff x="76320" y="5638680"/>
              <a:chExt cx="3043080" cy="458640"/>
            </a:xfrm>
          </p:grpSpPr>
          <p:sp>
            <p:nvSpPr>
              <p:cNvPr id="405" name=""/>
              <p:cNvSpPr/>
              <p:nvPr/>
            </p:nvSpPr>
            <p:spPr>
              <a:xfrm>
                <a:off x="76320" y="5640120"/>
                <a:ext cx="1219320" cy="4572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90600" y="5638680"/>
                <a:ext cx="1828800" cy="457200"/>
              </a:xfrm>
              <a:prstGeom prst="rect">
                <a:avLst/>
              </a:prstGeom>
              <a:noFill/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4343400" y="5715000"/>
              <a:ext cx="1219320" cy="457200"/>
            </a:xfrm>
            <a:prstGeom prst="rect">
              <a:avLst/>
            </a:prstGeom>
            <a:noFill/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3571920" y="2209680"/>
                <a:ext cx="28872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3200400" y="1828800"/>
            <a:ext cx="914400" cy="0"/>
          </a:xfrm>
          <a:prstGeom prst="line">
            <a:avLst/>
          </a:prstGeom>
          <a:ln w="255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3657600" y="1523880"/>
                <a:ext cx="16344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838080" y="380880"/>
          <a:ext cx="739800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739800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3" name=""/>
          <p:cNvGrpSpPr/>
          <p:nvPr/>
        </p:nvGrpSpPr>
        <p:grpSpPr>
          <a:xfrm>
            <a:off x="1062720" y="2666880"/>
            <a:ext cx="3033720" cy="1899720"/>
            <a:chOff x="1062720" y="2666880"/>
            <a:chExt cx="3033720" cy="1899720"/>
          </a:xfrm>
        </p:grpSpPr>
        <p:sp>
          <p:nvSpPr>
            <p:cNvPr id="414" name=""/>
            <p:cNvSpPr/>
            <p:nvPr/>
          </p:nvSpPr>
          <p:spPr>
            <a:xfrm flipH="1">
              <a:off x="1676160" y="2666880"/>
              <a:ext cx="990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62720" y="4046400"/>
              <a:ext cx="30337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HARGES RECEIVE ENERG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IS BATTERY SUPPLIES 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504760" y="2590920"/>
            <a:ext cx="3414600" cy="1975680"/>
            <a:chOff x="5504760" y="2590920"/>
            <a:chExt cx="3414600" cy="1975680"/>
          </a:xfrm>
        </p:grpSpPr>
        <p:sp>
          <p:nvSpPr>
            <p:cNvPr id="417" name=""/>
            <p:cNvSpPr/>
            <p:nvPr/>
          </p:nvSpPr>
          <p:spPr>
            <a:xfrm>
              <a:off x="5943600" y="2590920"/>
              <a:ext cx="1066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504760" y="4046400"/>
              <a:ext cx="34146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HARGES LOSE ENERG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IS BATTERY RECEIVES THE 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327040" y="5181480"/>
            <a:ext cx="5497920" cy="5202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AT WOULD HAPPEN IF THE CONNECTIONS ARE REVER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N ONE OF THE BATTERI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380880" y="569880"/>
          <a:ext cx="8450280" cy="28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69880"/>
                    <a:ext cx="8450280" cy="28591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1118520" y="76320"/>
            <a:ext cx="6927480" cy="5202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TERMINE WHETHER THE ELEMENTS ARE SUPPLYING OR RECEIVING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ND HOW MU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733920" y="982800"/>
            <a:ext cx="228600" cy="2286000"/>
            <a:chOff x="3733920" y="982800"/>
            <a:chExt cx="228600" cy="2286000"/>
          </a:xfrm>
        </p:grpSpPr>
        <p:sp>
          <p:nvSpPr>
            <p:cNvPr id="427" name=""/>
            <p:cNvSpPr/>
            <p:nvPr/>
          </p:nvSpPr>
          <p:spPr>
            <a:xfrm>
              <a:off x="3733920" y="1211400"/>
              <a:ext cx="2286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33920" y="2811600"/>
              <a:ext cx="2286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3798720" y="982800"/>
                  <a:ext cx="16380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3809880" y="3040200"/>
                  <a:ext cx="150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1" name=""/>
          <p:cNvGrpSpPr/>
          <p:nvPr/>
        </p:nvGrpSpPr>
        <p:grpSpPr>
          <a:xfrm>
            <a:off x="7924680" y="1058760"/>
            <a:ext cx="239760" cy="2209680"/>
            <a:chOff x="7924680" y="1058760"/>
            <a:chExt cx="239760" cy="2209680"/>
          </a:xfrm>
        </p:grpSpPr>
        <p:sp>
          <p:nvSpPr>
            <p:cNvPr id="432" name=""/>
            <p:cNvSpPr/>
            <p:nvPr/>
          </p:nvSpPr>
          <p:spPr>
            <a:xfrm>
              <a:off x="7924680" y="1287360"/>
              <a:ext cx="2286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4680" y="2811240"/>
              <a:ext cx="2286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4" name=""/>
                <p:cNvSpPr txBox="1"/>
                <p:nvPr/>
              </p:nvSpPr>
              <p:spPr>
                <a:xfrm>
                  <a:off x="8001000" y="1058760"/>
                  <a:ext cx="1634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8001000" y="3039840"/>
                  <a:ext cx="150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6" name=""/>
          <p:cNvSpPr/>
          <p:nvPr/>
        </p:nvSpPr>
        <p:spPr>
          <a:xfrm>
            <a:off x="2666880" y="3495600"/>
            <a:ext cx="384984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EN IN DOUBT LABEL THE TERMI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F THE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819520" y="1371600"/>
                <a:ext cx="838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2438280" y="2286000"/>
                <a:ext cx="97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9" name=""/>
          <p:cNvGrpSpPr/>
          <p:nvPr/>
        </p:nvGrpSpPr>
        <p:grpSpPr>
          <a:xfrm>
            <a:off x="990720" y="2971800"/>
            <a:ext cx="2654280" cy="307080"/>
            <a:chOff x="990720" y="2971800"/>
            <a:chExt cx="2654280" cy="307080"/>
          </a:xfrm>
        </p:grpSpPr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990720" y="2997360"/>
                  <a:ext cx="9014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1" name=""/>
            <p:cNvSpPr/>
            <p:nvPr/>
          </p:nvSpPr>
          <p:spPr>
            <a:xfrm>
              <a:off x="1952640" y="2971800"/>
              <a:ext cx="16923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UPPLIES POW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8292960" y="1295280"/>
                <a:ext cx="85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3" name=""/>
          <p:cNvGrpSpPr/>
          <p:nvPr/>
        </p:nvGrpSpPr>
        <p:grpSpPr>
          <a:xfrm>
            <a:off x="7086600" y="1668600"/>
            <a:ext cx="457200" cy="990360"/>
            <a:chOff x="7086600" y="1668600"/>
            <a:chExt cx="457200" cy="990360"/>
          </a:xfrm>
        </p:grpSpPr>
        <p:sp>
          <p:nvSpPr>
            <p:cNvPr id="444" name=""/>
            <p:cNvSpPr/>
            <p:nvPr/>
          </p:nvSpPr>
          <p:spPr>
            <a:xfrm>
              <a:off x="7543800" y="166860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5" name=""/>
                <p:cNvSpPr txBox="1"/>
                <p:nvPr/>
              </p:nvSpPr>
              <p:spPr>
                <a:xfrm>
                  <a:off x="7086600" y="1744560"/>
                  <a:ext cx="330120" cy="21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553080" y="2209680"/>
                <a:ext cx="83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7" name=""/>
          <p:cNvGrpSpPr/>
          <p:nvPr/>
        </p:nvGrpSpPr>
        <p:grpSpPr>
          <a:xfrm>
            <a:off x="5257800" y="3098880"/>
            <a:ext cx="2504160" cy="307080"/>
            <a:chOff x="5257800" y="3098880"/>
            <a:chExt cx="2504160" cy="307080"/>
          </a:xfrm>
        </p:grpSpPr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5257800" y="3166920"/>
                  <a:ext cx="772920" cy="22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9" name=""/>
            <p:cNvSpPr/>
            <p:nvPr/>
          </p:nvSpPr>
          <p:spPr>
            <a:xfrm>
              <a:off x="6075360" y="3098880"/>
              <a:ext cx="16866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CEIVES POW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0" name=""/>
          <p:cNvGraphicFramePr/>
          <p:nvPr/>
        </p:nvGraphicFramePr>
        <p:xfrm>
          <a:off x="1000080" y="4267080"/>
          <a:ext cx="715320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267080"/>
                    <a:ext cx="7153200" cy="20574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52" name=""/>
          <p:cNvGrpSpPr/>
          <p:nvPr/>
        </p:nvGrpSpPr>
        <p:grpSpPr>
          <a:xfrm>
            <a:off x="2895480" y="4343400"/>
            <a:ext cx="303480" cy="1752480"/>
            <a:chOff x="2895480" y="4343400"/>
            <a:chExt cx="303480" cy="1752480"/>
          </a:xfrm>
        </p:grpSpPr>
        <p:sp>
          <p:nvSpPr>
            <p:cNvPr id="453" name=""/>
            <p:cNvSpPr/>
            <p:nvPr/>
          </p:nvSpPr>
          <p:spPr>
            <a:xfrm>
              <a:off x="2895480" y="457200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95480" y="594360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5" name=""/>
                <p:cNvSpPr txBox="1"/>
                <p:nvPr/>
              </p:nvSpPr>
              <p:spPr>
                <a:xfrm>
                  <a:off x="3048120" y="43434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6" name=""/>
                <p:cNvSpPr txBox="1"/>
                <p:nvPr/>
              </p:nvSpPr>
              <p:spPr>
                <a:xfrm>
                  <a:off x="3048120" y="5715000"/>
                  <a:ext cx="1508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7" name=""/>
          <p:cNvGrpSpPr/>
          <p:nvPr/>
        </p:nvGrpSpPr>
        <p:grpSpPr>
          <a:xfrm>
            <a:off x="6630840" y="4343400"/>
            <a:ext cx="303480" cy="1752480"/>
            <a:chOff x="6630840" y="4343400"/>
            <a:chExt cx="303480" cy="1752480"/>
          </a:xfrm>
        </p:grpSpPr>
        <p:sp>
          <p:nvSpPr>
            <p:cNvPr id="458" name=""/>
            <p:cNvSpPr/>
            <p:nvPr/>
          </p:nvSpPr>
          <p:spPr>
            <a:xfrm>
              <a:off x="6630840" y="457200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30840" y="594360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6783480" y="43434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1" name=""/>
                <p:cNvSpPr txBox="1"/>
                <p:nvPr/>
              </p:nvSpPr>
              <p:spPr>
                <a:xfrm>
                  <a:off x="6783480" y="5715000"/>
                  <a:ext cx="1508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676520" y="6248520"/>
                <a:ext cx="1942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5638680" y="6248520"/>
                <a:ext cx="1727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4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7" name=""/>
          <p:cNvGraphicFramePr/>
          <p:nvPr/>
        </p:nvGraphicFramePr>
        <p:xfrm>
          <a:off x="1143000" y="304920"/>
          <a:ext cx="69246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6924600" cy="20574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2813400" y="2293920"/>
            <a:ext cx="40456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ELECT VOLTAGE REFERENCE POLA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BASED ON CURRENT REFERENCE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4191120" y="914400"/>
                <a:ext cx="1760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85800" y="2438280"/>
                <a:ext cx="200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2666880" y="160020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8001000" y="990720"/>
                <a:ext cx="1760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010280" y="2438280"/>
                <a:ext cx="17272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6934320" y="380880"/>
                <a:ext cx="9270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6" name=""/>
          <p:cNvGraphicFramePr/>
          <p:nvPr/>
        </p:nvGraphicFramePr>
        <p:xfrm>
          <a:off x="990720" y="3581280"/>
          <a:ext cx="695304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581280"/>
                    <a:ext cx="6953040" cy="21337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8" name=""/>
          <p:cNvSpPr/>
          <p:nvPr/>
        </p:nvSpPr>
        <p:spPr>
          <a:xfrm>
            <a:off x="2275920" y="5638680"/>
            <a:ext cx="46443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ELECT HERE THE CURRENT REFERENCE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BASED ON VOLTAGE REFERENCE POLA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3962520" y="4267080"/>
            <a:ext cx="569880" cy="990720"/>
            <a:chOff x="3962520" y="4267080"/>
            <a:chExt cx="569880" cy="990720"/>
          </a:xfrm>
        </p:grpSpPr>
        <p:sp>
          <p:nvSpPr>
            <p:cNvPr id="480" name=""/>
            <p:cNvSpPr/>
            <p:nvPr/>
          </p:nvSpPr>
          <p:spPr>
            <a:xfrm flipV="1">
              <a:off x="3962520" y="4267080"/>
              <a:ext cx="0" cy="9907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4038480" y="4952880"/>
                  <a:ext cx="4939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04920" y="5638680"/>
                <a:ext cx="1803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286000" y="4876920"/>
                <a:ext cx="111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934320" y="5867280"/>
                <a:ext cx="19936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867280" y="4876920"/>
                <a:ext cx="927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567720" y="3124080"/>
            <a:ext cx="79880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ICH TERMINAL HAS HIGHER VOLTAGE AND WHICH IS THE CURRENT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380880" y="2529000"/>
          <a:ext cx="3962520" cy="17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29000"/>
                    <a:ext cx="3962520" cy="17841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4610520" y="2503440"/>
            <a:ext cx="126108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1 = 12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2 = 36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3 = -48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828800" y="2209680"/>
                <a:ext cx="134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4178160" y="373392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88920" y="4357800"/>
                <a:ext cx="295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>
            <a:off x="874080" y="5257800"/>
            <a:ext cx="540180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MPORTANT: NOTICE THE POWER BALANCE IN THE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77280" y="990000"/>
            <a:ext cx="6397200" cy="33732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POWER ABDORBED OR SUPPLIED BY EACH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052640" y="0"/>
            <a:ext cx="25826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IRCUIT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6320" y="609480"/>
            <a:ext cx="3429000" cy="2025720"/>
            <a:chOff x="76320" y="609480"/>
            <a:chExt cx="3429000" cy="2025720"/>
          </a:xfrm>
        </p:grpSpPr>
        <p:graphicFrame>
          <p:nvGraphicFramePr>
            <p:cNvPr id="503" name=""/>
            <p:cNvGraphicFramePr/>
            <p:nvPr/>
          </p:nvGraphicFramePr>
          <p:xfrm>
            <a:off x="76320" y="990720"/>
            <a:ext cx="3429000" cy="16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990720"/>
                      <a:ext cx="3429000" cy="16444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05" name=""/>
            <p:cNvSpPr/>
            <p:nvPr/>
          </p:nvSpPr>
          <p:spPr>
            <a:xfrm>
              <a:off x="880200" y="609480"/>
              <a:ext cx="18586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ASSIVE EL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76320" y="3352680"/>
            <a:ext cx="3809880" cy="3181320"/>
            <a:chOff x="76320" y="3352680"/>
            <a:chExt cx="3809880" cy="3181320"/>
          </a:xfrm>
        </p:grpSpPr>
        <p:graphicFrame>
          <p:nvGraphicFramePr>
            <p:cNvPr id="507" name=""/>
            <p:cNvGraphicFramePr/>
            <p:nvPr/>
          </p:nvGraphicFramePr>
          <p:xfrm>
            <a:off x="76320" y="3656160"/>
            <a:ext cx="3809880" cy="2877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3656160"/>
                      <a:ext cx="3809880" cy="28778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09" name=""/>
            <p:cNvSpPr/>
            <p:nvPr/>
          </p:nvSpPr>
          <p:spPr>
            <a:xfrm>
              <a:off x="764280" y="3352680"/>
              <a:ext cx="23158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DEPEND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267080" y="0"/>
            <a:ext cx="4332240" cy="3591000"/>
            <a:chOff x="4267080" y="0"/>
            <a:chExt cx="4332240" cy="3591000"/>
          </a:xfrm>
        </p:grpSpPr>
        <p:graphicFrame>
          <p:nvGraphicFramePr>
            <p:cNvPr id="511" name=""/>
            <p:cNvGraphicFramePr/>
            <p:nvPr/>
          </p:nvGraphicFramePr>
          <p:xfrm>
            <a:off x="4267080" y="0"/>
            <a:ext cx="3021120" cy="359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67080" y="0"/>
                      <a:ext cx="3021120" cy="3591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13" name=""/>
            <p:cNvSpPr/>
            <p:nvPr/>
          </p:nvSpPr>
          <p:spPr>
            <a:xfrm>
              <a:off x="7347240" y="990720"/>
              <a:ext cx="1252080" cy="733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VOLTAG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EPEN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4451400" y="3429000"/>
            <a:ext cx="4199040" cy="3429000"/>
            <a:chOff x="4451400" y="3429000"/>
            <a:chExt cx="4199040" cy="3429000"/>
          </a:xfrm>
        </p:grpSpPr>
        <p:graphicFrame>
          <p:nvGraphicFramePr>
            <p:cNvPr id="515" name=""/>
            <p:cNvGraphicFramePr/>
            <p:nvPr/>
          </p:nvGraphicFramePr>
          <p:xfrm>
            <a:off x="5715000" y="3429000"/>
            <a:ext cx="2935440" cy="3429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15000" y="3429000"/>
                      <a:ext cx="2935440" cy="3429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17" name=""/>
            <p:cNvSpPr/>
            <p:nvPr/>
          </p:nvSpPr>
          <p:spPr>
            <a:xfrm>
              <a:off x="4451400" y="4807080"/>
              <a:ext cx="1252080" cy="733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EPEN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7010280" y="2743200"/>
                <a:ext cx="2133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ITS FOR 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>
            <a:hlinkClick r:id="" action="ppaction://hlinkshowjump?jump=nextslide"/>
          </p:cNvPr>
          <p:cNvSpPr/>
          <p:nvPr/>
        </p:nvSpPr>
        <p:spPr>
          <a:xfrm>
            <a:off x="451152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>
            <a:hlinkClick r:id="" action="ppaction://hlinkshowjump?jump=previousslide"/>
          </p:cNvPr>
          <p:cNvSpPr/>
          <p:nvPr/>
        </p:nvSpPr>
        <p:spPr>
          <a:xfrm>
            <a:off x="413064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geaux" descr=""/>
          <p:cNvPicPr/>
          <p:nvPr/>
        </p:nvPicPr>
        <p:blipFill>
          <a:blip r:embed="rId9"/>
          <a:stretch/>
        </p:blipFill>
        <p:spPr>
          <a:xfrm>
            <a:off x="8412120" y="6491160"/>
            <a:ext cx="7318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380880" y="380880"/>
          <a:ext cx="829656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296560" cy="2171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1312560" y="160200"/>
            <a:ext cx="359280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XERCISES WITH DEPENDENT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685800" y="2362320"/>
                <a:ext cx="107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2286000" y="243828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4572000" y="2362320"/>
                <a:ext cx="99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6629400" y="2438280"/>
                <a:ext cx="107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29" name=""/>
          <p:cNvGraphicFramePr/>
          <p:nvPr/>
        </p:nvGraphicFramePr>
        <p:xfrm>
          <a:off x="181080" y="3540240"/>
          <a:ext cx="8734320" cy="21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1080" y="3540240"/>
                    <a:ext cx="8734320" cy="21175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1" name=""/>
          <p:cNvSpPr/>
          <p:nvPr/>
        </p:nvSpPr>
        <p:spPr>
          <a:xfrm>
            <a:off x="1569600" y="3208320"/>
            <a:ext cx="582876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TERMINE THE POWER SUPPLIED BY THE DEPENDENT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2552760" y="4876920"/>
                <a:ext cx="5713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1676520" y="5410080"/>
                <a:ext cx="2781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779400" y="5918040"/>
            <a:ext cx="34527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AKE VOLTAGE POLARITY 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270040" y="5943600"/>
            <a:ext cx="35852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AKE CURRENT REFERENCE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5334120" y="5486400"/>
                <a:ext cx="31874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7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3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52280" y="762120"/>
          <a:ext cx="883944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839440" cy="4790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251800" y="304920"/>
            <a:ext cx="466416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BASIC STRATEGY USED IN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geaux" descr=""/>
          <p:cNvPicPr/>
          <p:nvPr/>
        </p:nvPicPr>
        <p:blipFill>
          <a:blip r:embed="rId3"/>
          <a:stretch/>
        </p:blipFill>
        <p:spPr>
          <a:xfrm>
            <a:off x="841212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46641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413064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stop" descr=""/>
          <p:cNvPicPr/>
          <p:nvPr/>
        </p:nvPicPr>
        <p:blipFill>
          <a:blip r:embed="rId1"/>
          <a:stretch/>
        </p:blipFill>
        <p:spPr>
          <a:xfrm>
            <a:off x="8628120" y="6338880"/>
            <a:ext cx="514440" cy="514440"/>
          </a:xfrm>
          <a:prstGeom prst="rect">
            <a:avLst/>
          </a:prstGeom>
          <a:ln w="0">
            <a:noFill/>
          </a:ln>
        </p:spPr>
      </p:pic>
      <p:grpSp>
        <p:nvGrpSpPr>
          <p:cNvPr id="541" name=""/>
          <p:cNvGrpSpPr/>
          <p:nvPr/>
        </p:nvGrpSpPr>
        <p:grpSpPr>
          <a:xfrm>
            <a:off x="0" y="84240"/>
            <a:ext cx="4570560" cy="2811240"/>
            <a:chOff x="0" y="84240"/>
            <a:chExt cx="4570560" cy="2811240"/>
          </a:xfrm>
        </p:grpSpPr>
        <p:graphicFrame>
          <p:nvGraphicFramePr>
            <p:cNvPr id="542" name=""/>
            <p:cNvGraphicFramePr/>
            <p:nvPr/>
          </p:nvGraphicFramePr>
          <p:xfrm>
            <a:off x="0" y="735120"/>
            <a:ext cx="4570560" cy="2160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35120"/>
                      <a:ext cx="4570560" cy="216036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44" name=""/>
            <p:cNvSpPr/>
            <p:nvPr/>
          </p:nvSpPr>
          <p:spPr>
            <a:xfrm>
              <a:off x="402480" y="84240"/>
              <a:ext cx="3830760" cy="5202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WER ABSORBED OR SUPPLIED BY EA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355680" y="3581280"/>
                <a:ext cx="2247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355680" y="3965400"/>
                <a:ext cx="2298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355680" y="434988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55680" y="4734000"/>
                <a:ext cx="372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55680" y="5119560"/>
                <a:ext cx="2857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413280" y="5570640"/>
            <a:ext cx="28051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NOTICE THE POWER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010480" y="7920"/>
            <a:ext cx="3665160" cy="3497400"/>
            <a:chOff x="5010480" y="7920"/>
            <a:chExt cx="3665160" cy="3497400"/>
          </a:xfrm>
        </p:grpSpPr>
        <p:graphicFrame>
          <p:nvGraphicFramePr>
            <p:cNvPr id="552" name=""/>
            <p:cNvGraphicFramePr/>
            <p:nvPr/>
          </p:nvGraphicFramePr>
          <p:xfrm>
            <a:off x="5029200" y="379440"/>
            <a:ext cx="3646440" cy="3125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5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29200" y="379440"/>
                      <a:ext cx="3646440" cy="312588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54" name=""/>
            <p:cNvSpPr/>
            <p:nvPr/>
          </p:nvSpPr>
          <p:spPr>
            <a:xfrm>
              <a:off x="5010480" y="7920"/>
              <a:ext cx="3510720" cy="3070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USE POWER BALANCE TO COMPUTE 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5" name=""/>
          <p:cNvGraphicFramePr/>
          <p:nvPr/>
        </p:nvGraphicFramePr>
        <p:xfrm>
          <a:off x="4648320" y="3511440"/>
          <a:ext cx="3787560" cy="2203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3511440"/>
                    <a:ext cx="3787560" cy="22035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7048440" y="99072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5105520" y="1676520"/>
                <a:ext cx="71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7620120" y="1600200"/>
                <a:ext cx="799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4495680" y="2590920"/>
                <a:ext cx="800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858000" y="3048120"/>
                <a:ext cx="711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8077320" y="2971800"/>
                <a:ext cx="939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3" name=""/>
          <p:cNvGrpSpPr/>
          <p:nvPr/>
        </p:nvGrpSpPr>
        <p:grpSpPr>
          <a:xfrm>
            <a:off x="3773520" y="5715000"/>
            <a:ext cx="5141880" cy="758880"/>
            <a:chOff x="3773520" y="5715000"/>
            <a:chExt cx="5141880" cy="758880"/>
          </a:xfrm>
        </p:grpSpPr>
        <p:sp>
          <p:nvSpPr>
            <p:cNvPr id="564" name=""/>
            <p:cNvSpPr/>
            <p:nvPr/>
          </p:nvSpPr>
          <p:spPr>
            <a:xfrm>
              <a:off x="3773520" y="5715000"/>
              <a:ext cx="169704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WER BAL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5" name=""/>
            <p:cNvGraphicFramePr/>
            <p:nvPr/>
          </p:nvGraphicFramePr>
          <p:xfrm>
            <a:off x="4495680" y="6012000"/>
            <a:ext cx="4419720" cy="461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6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495680" y="6012000"/>
                      <a:ext cx="4419720" cy="46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4495680" y="6477120"/>
                <a:ext cx="88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30960" y="465120"/>
            <a:ext cx="25308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MATHEMATICAL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5720" y="838080"/>
            <a:ext cx="39938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VELOP A SET OF MATHEMA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QUATIONS THAT REPRESENT THE CIRCU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- A MATEMATICAL MODEL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1880" y="1728720"/>
            <a:ext cx="415080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EARN HOW TO SOLVE THE MODE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TERMINE HOW THE CIRCUIT WILL BEHA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N A GIVEN  SI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160" y="2620800"/>
            <a:ext cx="43124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IS COURSE TEACHES THE BASIC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O DEVELOP MATHEMATICAL MODELS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LECTRIC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63360" y="76320"/>
            <a:ext cx="445392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MATHEMATICS CLASSES - LINEAR ALGE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IFFERENTIAL EQUATIONS- PROVIDE THE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O SOLVE THE MATHEMATICAL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0200" y="3581280"/>
            <a:ext cx="4231440" cy="2689200"/>
            <a:chOff x="70200" y="3581280"/>
            <a:chExt cx="4231440" cy="2689200"/>
          </a:xfrm>
        </p:grpSpPr>
        <p:sp>
          <p:nvSpPr>
            <p:cNvPr id="66" name=""/>
            <p:cNvSpPr/>
            <p:nvPr/>
          </p:nvSpPr>
          <p:spPr>
            <a:xfrm>
              <a:off x="70200" y="3581280"/>
              <a:ext cx="423144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MODELS THAT WILL BE DEVELOPED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ICE MATHEMATICAL PROPERTI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 PARTICULAR THEY WILL BE LINEAR WHI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MEANS THAT THEY SATISFY THE PRINCIPLE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" name=""/>
            <p:cNvGraphicFramePr/>
            <p:nvPr/>
          </p:nvGraphicFramePr>
          <p:xfrm rot="10800000">
            <a:off x="304920" y="4792320"/>
            <a:ext cx="3747960" cy="1478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 rot="10800000">
                      <a:off x="304920" y="4792320"/>
                      <a:ext cx="3747960" cy="147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" name=""/>
          <p:cNvGrpSpPr/>
          <p:nvPr/>
        </p:nvGrpSpPr>
        <p:grpSpPr>
          <a:xfrm>
            <a:off x="4623480" y="998640"/>
            <a:ext cx="4283280" cy="1755720"/>
            <a:chOff x="4623480" y="998640"/>
            <a:chExt cx="4283280" cy="1755720"/>
          </a:xfrm>
        </p:grpSpPr>
        <p:sp>
          <p:nvSpPr>
            <p:cNvPr id="70" name=""/>
            <p:cNvSpPr/>
            <p:nvPr/>
          </p:nvSpPr>
          <p:spPr>
            <a:xfrm>
              <a:off x="4623480" y="998640"/>
              <a:ext cx="42832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OR THE FIRST PART WE WILL BE EXPEC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O SOLVE SYSTEMS OF ALGEBRAIC EQU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5410080" y="1752480"/>
                  <a:ext cx="205740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8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" name=""/>
          <p:cNvGrpSpPr/>
          <p:nvPr/>
        </p:nvGrpSpPr>
        <p:grpSpPr>
          <a:xfrm>
            <a:off x="4855680" y="2979720"/>
            <a:ext cx="3960360" cy="1833480"/>
            <a:chOff x="4855680" y="2979720"/>
            <a:chExt cx="3960360" cy="1833480"/>
          </a:xfrm>
        </p:grpSpPr>
        <p:sp>
          <p:nvSpPr>
            <p:cNvPr id="73" name=""/>
            <p:cNvSpPr/>
            <p:nvPr/>
          </p:nvSpPr>
          <p:spPr>
            <a:xfrm>
              <a:off x="4855680" y="2979720"/>
              <a:ext cx="39603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LATER THE MODELS WILL BE DIFFERENT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QUATIONS OF THE 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5410080" y="3581280"/>
                  <a:ext cx="2590920" cy="12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3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y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f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4343400" y="2971800"/>
            <a:ext cx="4781520" cy="3672720"/>
            <a:chOff x="4343400" y="2971800"/>
            <a:chExt cx="4781520" cy="3672720"/>
          </a:xfrm>
        </p:grpSpPr>
        <p:pic>
          <p:nvPicPr>
            <p:cNvPr id="79" name="LowDistortionAmplifier" descr=""/>
            <p:cNvPicPr/>
            <p:nvPr/>
          </p:nvPicPr>
          <p:blipFill>
            <a:blip r:embed="rId1"/>
            <a:stretch/>
          </p:blipFill>
          <p:spPr>
            <a:xfrm>
              <a:off x="4343400" y="2971800"/>
              <a:ext cx="4781520" cy="341496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  <p:sp>
          <p:nvSpPr>
            <p:cNvPr id="80" name=""/>
            <p:cNvSpPr/>
            <p:nvPr/>
          </p:nvSpPr>
          <p:spPr>
            <a:xfrm>
              <a:off x="4449960" y="6307200"/>
              <a:ext cx="391140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W DISTORTION POWER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1" name=""/>
          <p:cNvGraphicFramePr/>
          <p:nvPr/>
        </p:nvGraphicFramePr>
        <p:xfrm>
          <a:off x="380880" y="609480"/>
          <a:ext cx="435312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609480"/>
                    <a:ext cx="4353120" cy="2971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04520" y="236520"/>
            <a:ext cx="7747560" cy="337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ELECTRIC CIRCUIT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IS AN INTERCONNECTION OF ELECTRICAL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8600" y="3581280"/>
            <a:ext cx="4291560" cy="3106800"/>
            <a:chOff x="228600" y="3581280"/>
            <a:chExt cx="4291560" cy="3106800"/>
          </a:xfrm>
        </p:grpSpPr>
        <p:graphicFrame>
          <p:nvGraphicFramePr>
            <p:cNvPr id="88" name=""/>
            <p:cNvGraphicFramePr/>
            <p:nvPr/>
          </p:nvGraphicFramePr>
          <p:xfrm>
            <a:off x="228600" y="3581280"/>
            <a:ext cx="2496960" cy="3106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3581280"/>
                      <a:ext cx="2496960" cy="31068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0" name=""/>
            <p:cNvSpPr/>
            <p:nvPr/>
          </p:nvSpPr>
          <p:spPr>
            <a:xfrm>
              <a:off x="2705760" y="4021200"/>
              <a:ext cx="1814400" cy="580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YPICAL LIN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62320" y="240120"/>
            <a:ext cx="419076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BASIC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3400" y="1172160"/>
            <a:ext cx="2419560" cy="3988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4760" y="2054520"/>
            <a:ext cx="652788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ystem of Units: The SI standard system; prefi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5160" y="2742120"/>
            <a:ext cx="80352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Basic Quantities: Charge, current, voltage, power and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7400" y="3427920"/>
            <a:ext cx="484236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ircuit Elements: Active and Pas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NIST_SIUnitsPage1" descr=""/>
          <p:cNvPicPr/>
          <p:nvPr/>
        </p:nvPicPr>
        <p:blipFill>
          <a:blip r:embed="rId1"/>
          <a:stretch/>
        </p:blipFill>
        <p:spPr>
          <a:xfrm>
            <a:off x="609480" y="114480"/>
            <a:ext cx="7620120" cy="674352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4266000" y="122400"/>
            <a:ext cx="472536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ttp://physics.nist.gov/cuu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NISTDefineBasicUnitsPage1" descr=""/>
          <p:cNvPicPr/>
          <p:nvPr/>
        </p:nvPicPr>
        <p:blipFill>
          <a:blip r:embed="rId1"/>
          <a:stretch/>
        </p:blipFill>
        <p:spPr>
          <a:xfrm>
            <a:off x="1947960" y="0"/>
            <a:ext cx="5246640" cy="66564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pic>
        <p:nvPicPr>
          <p:cNvPr id="10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523880" y="1397160"/>
          <a:ext cx="609768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768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33520" y="228600"/>
          <a:ext cx="8001000" cy="612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"/>
                    <a:ext cx="8001000" cy="6129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12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9:41:42Z</dcterms:created>
  <dc:creator>student</dc:creator>
  <dc:description/>
  <dc:language>en-US</dc:language>
  <cp:lastModifiedBy>student</cp:lastModifiedBy>
  <cp:lastPrinted>2001-01-02T17:05:06Z</cp:lastPrinted>
  <dcterms:modified xsi:type="dcterms:W3CDTF">2001-03-07T17:08:25Z</dcterms:modified>
  <cp:revision>31</cp:revision>
  <dc:subject/>
  <dc:title>No Slide Title</dc:title>
</cp:coreProperties>
</file>