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12.png" ContentType="image/png"/>
  <Override PartName="/ppt/media/image49.png" ContentType="image/png"/>
  <Override PartName="/ppt/media/image22.png" ContentType="image/png"/>
  <Override PartName="/ppt/media/image59.png" ContentType="image/png"/>
  <Override PartName="/ppt/media/image52.wmf" ContentType="image/x-wmf"/>
  <Override PartName="/ppt/media/image24.jpeg" ContentType="image/jpeg"/>
  <Override PartName="/ppt/media/image95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1.png" ContentType="image/png"/>
  <Override PartName="/ppt/media/image58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7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90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14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531-D253-4ADB-BCF8-06420383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A42-7D6F-4C9A-B8F9-FB240633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E50-5EBF-40EF-BFC0-7E7D35D2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A0F-4F02-4E34-8DB3-36B0426C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D09-9CBE-4B4C-9385-0E9FF5CF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F10-7779-4611-808C-8522A5E1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E02-8785-4C7A-97F9-DA7433E1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D14-DB1F-4E77-8082-6C392860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E78-6208-4C47-B9B2-5F5621C2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AFB-79F0-4920-BF47-7488E027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3A2-A47A-4602-8039-524BC2E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DAD-4DD8-44E1-BA3C-07E48A54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6E68-557A-42D5-8E13-57085F026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5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2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20" y="7920"/>
            <a:ext cx="90018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PPLICATION OF THE LAPLACE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O CIRCUI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11430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2520" y="1658880"/>
            <a:ext cx="60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ing the usefulness of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2462040"/>
            <a:ext cx="5779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circuits in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6200" y="3267000"/>
            <a:ext cx="6028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standard analysis techniques, KVL, KCL, no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, Thevenin’s theorem are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9800" y="4316400"/>
            <a:ext cx="6386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cept is revisited and given a formal 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9040" y="5121360"/>
            <a:ext cx="5433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s/Bod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ablishing the connection betwee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11200" y="5925960"/>
            <a:ext cx="3179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analysis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3.004A_W121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933800" cy="270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56360" y="58680"/>
            <a:ext cx="432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F13.004C_W1211" descr=""/>
          <p:cNvPicPr/>
          <p:nvPr/>
        </p:nvPicPr>
        <p:blipFill>
          <a:blip r:embed="rId2"/>
          <a:stretch/>
        </p:blipFill>
        <p:spPr>
          <a:xfrm>
            <a:off x="0" y="3030480"/>
            <a:ext cx="6095880" cy="353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2743200"/>
                <a:ext cx="2933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59120" y="3962520"/>
                <a:ext cx="541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638680" y="5118120"/>
                <a:ext cx="3124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87720" y="6095880"/>
                <a:ext cx="5156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1600200" y="457200"/>
            <a:ext cx="1295280" cy="3352680"/>
            <a:chOff x="1600200" y="457200"/>
            <a:chExt cx="1295280" cy="3352680"/>
          </a:xfrm>
        </p:grpSpPr>
        <p:sp>
          <p:nvSpPr>
            <p:cNvPr id="241" name=""/>
            <p:cNvSpPr/>
            <p:nvPr/>
          </p:nvSpPr>
          <p:spPr>
            <a:xfrm>
              <a:off x="1752480" y="457200"/>
              <a:ext cx="68580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2971800"/>
              <a:ext cx="129528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33720" y="1143000"/>
            <a:ext cx="1523880" cy="3657600"/>
            <a:chOff x="2133720" y="1143000"/>
            <a:chExt cx="1523880" cy="3657600"/>
          </a:xfrm>
        </p:grpSpPr>
        <p:sp>
          <p:nvSpPr>
            <p:cNvPr id="244" name=""/>
            <p:cNvSpPr/>
            <p:nvPr/>
          </p:nvSpPr>
          <p:spPr>
            <a:xfrm>
              <a:off x="2133720" y="1143000"/>
              <a:ext cx="6094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4600" y="3733920"/>
              <a:ext cx="1143000" cy="1066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2880" y="1982880"/>
            <a:ext cx="1751040" cy="4113000"/>
            <a:chOff x="1982880" y="1982880"/>
            <a:chExt cx="1751040" cy="4113000"/>
          </a:xfrm>
        </p:grpSpPr>
        <p:sp>
          <p:nvSpPr>
            <p:cNvPr id="247" name=""/>
            <p:cNvSpPr/>
            <p:nvPr/>
          </p:nvSpPr>
          <p:spPr>
            <a:xfrm>
              <a:off x="1982880" y="19828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4876920"/>
              <a:ext cx="990720" cy="12189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41760" y="611280"/>
            <a:ext cx="1830240" cy="3122640"/>
            <a:chOff x="2741760" y="611280"/>
            <a:chExt cx="1830240" cy="3122640"/>
          </a:xfrm>
        </p:grpSpPr>
        <p:sp>
          <p:nvSpPr>
            <p:cNvPr id="250" name=""/>
            <p:cNvSpPr/>
            <p:nvPr/>
          </p:nvSpPr>
          <p:spPr>
            <a:xfrm>
              <a:off x="2741760" y="611280"/>
              <a:ext cx="609480" cy="68580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124080"/>
              <a:ext cx="1371600" cy="60984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81280" y="355680"/>
            <a:ext cx="5562720" cy="2297160"/>
            <a:chOff x="3581280" y="355680"/>
            <a:chExt cx="5562720" cy="2297160"/>
          </a:xfrm>
        </p:grpSpPr>
        <p:grpSp>
          <p:nvGrpSpPr>
            <p:cNvPr id="253" name=""/>
            <p:cNvGrpSpPr/>
            <p:nvPr/>
          </p:nvGrpSpPr>
          <p:grpSpPr>
            <a:xfrm>
              <a:off x="4638240" y="355680"/>
              <a:ext cx="4505760" cy="2297160"/>
              <a:chOff x="4638240" y="355680"/>
              <a:chExt cx="4505760" cy="2297160"/>
            </a:xfrm>
          </p:grpSpPr>
          <p:pic>
            <p:nvPicPr>
              <p:cNvPr id="254" name="Cs-series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3080" y="355680"/>
                <a:ext cx="2590920" cy="116820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55" name="Ls-series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1523880"/>
                <a:ext cx="2324160" cy="112896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4638240" y="685800"/>
                <a:ext cx="1835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umber of lo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81280" y="380880"/>
              <a:ext cx="1524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1680" y="58680"/>
            <a:ext cx="439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node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F13.004B_W1211" descr=""/>
          <p:cNvPicPr/>
          <p:nvPr/>
        </p:nvPicPr>
        <p:blipFill>
          <a:blip r:embed="rId1"/>
          <a:stretch/>
        </p:blipFill>
        <p:spPr>
          <a:xfrm>
            <a:off x="0" y="533520"/>
            <a:ext cx="5705640" cy="2504880"/>
          </a:xfrm>
          <a:prstGeom prst="rect">
            <a:avLst/>
          </a:prstGeom>
          <a:ln w="0">
            <a:noFill/>
          </a:ln>
        </p:spPr>
      </p:pic>
      <p:pic>
        <p:nvPicPr>
          <p:cNvPr id="264" name="F13.004D_W1212" descr=""/>
          <p:cNvPicPr/>
          <p:nvPr/>
        </p:nvPicPr>
        <p:blipFill>
          <a:blip r:embed="rId2"/>
          <a:stretch/>
        </p:blipFill>
        <p:spPr>
          <a:xfrm>
            <a:off x="0" y="2832120"/>
            <a:ext cx="5105520" cy="423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527200"/>
                <a:ext cx="2908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3429000"/>
                <a:ext cx="434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5043600"/>
                <a:ext cx="439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72000" y="4114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1371600" y="1447920"/>
            <a:ext cx="914400" cy="5181480"/>
            <a:chOff x="1371600" y="1447920"/>
            <a:chExt cx="914400" cy="5181480"/>
          </a:xfrm>
        </p:grpSpPr>
        <p:sp>
          <p:nvSpPr>
            <p:cNvPr id="270" name=""/>
            <p:cNvSpPr/>
            <p:nvPr/>
          </p:nvSpPr>
          <p:spPr>
            <a:xfrm>
              <a:off x="1828800" y="1447920"/>
              <a:ext cx="457200" cy="121896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5334120"/>
              <a:ext cx="838080" cy="129528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1214280"/>
            <a:ext cx="1295640" cy="4653000"/>
            <a:chOff x="1752480" y="1214280"/>
            <a:chExt cx="1295640" cy="4653000"/>
          </a:xfrm>
        </p:grpSpPr>
        <p:sp>
          <p:nvSpPr>
            <p:cNvPr id="273" name=""/>
            <p:cNvSpPr/>
            <p:nvPr/>
          </p:nvSpPr>
          <p:spPr>
            <a:xfrm>
              <a:off x="2055960" y="1214280"/>
              <a:ext cx="99036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4267080"/>
              <a:ext cx="129564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76520" y="455760"/>
            <a:ext cx="1446120" cy="3735360"/>
            <a:chOff x="1676520" y="455760"/>
            <a:chExt cx="1446120" cy="3735360"/>
          </a:xfrm>
        </p:grpSpPr>
        <p:sp>
          <p:nvSpPr>
            <p:cNvPr id="276" name=""/>
            <p:cNvSpPr/>
            <p:nvPr/>
          </p:nvSpPr>
          <p:spPr>
            <a:xfrm>
              <a:off x="2055960" y="455760"/>
              <a:ext cx="106668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520" y="2819520"/>
              <a:ext cx="1295280" cy="1371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00400" y="1214280"/>
            <a:ext cx="1601640" cy="5643720"/>
            <a:chOff x="3200400" y="1214280"/>
            <a:chExt cx="1601640" cy="5643720"/>
          </a:xfrm>
        </p:grpSpPr>
        <p:sp>
          <p:nvSpPr>
            <p:cNvPr id="279" name=""/>
            <p:cNvSpPr/>
            <p:nvPr/>
          </p:nvSpPr>
          <p:spPr>
            <a:xfrm>
              <a:off x="3583080" y="1214280"/>
              <a:ext cx="121896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0400" y="5638680"/>
              <a:ext cx="1219320" cy="1219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380880"/>
            <a:ext cx="5562720" cy="2714400"/>
            <a:chOff x="3581280" y="380880"/>
            <a:chExt cx="5562720" cy="2714400"/>
          </a:xfrm>
        </p:grpSpPr>
        <p:grpSp>
          <p:nvGrpSpPr>
            <p:cNvPr id="282" name=""/>
            <p:cNvGrpSpPr/>
            <p:nvPr/>
          </p:nvGrpSpPr>
          <p:grpSpPr>
            <a:xfrm>
              <a:off x="5410080" y="380880"/>
              <a:ext cx="3733920" cy="2714400"/>
              <a:chOff x="5410080" y="380880"/>
              <a:chExt cx="3733920" cy="2714400"/>
            </a:xfrm>
          </p:grpSpPr>
          <p:sp>
            <p:nvSpPr>
              <p:cNvPr id="283" name=""/>
              <p:cNvSpPr/>
              <p:nvPr/>
            </p:nvSpPr>
            <p:spPr>
              <a:xfrm>
                <a:off x="6452640" y="2514600"/>
                <a:ext cx="2672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 numb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f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4" name="Cs-parallel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380880"/>
                <a:ext cx="3733920" cy="114948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85" name="Ls-parallel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0520" y="1523880"/>
                <a:ext cx="3003480" cy="106524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</p:grpSp>
        <p:sp>
          <p:nvSpPr>
            <p:cNvPr id="286" name=""/>
            <p:cNvSpPr/>
            <p:nvPr/>
          </p:nvSpPr>
          <p:spPr>
            <a:xfrm>
              <a:off x="3581280" y="380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20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38280" y="0"/>
                <a:ext cx="5945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using  node analysis, loop analysis, superpositio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, Thevenin's and Norton's 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08320" y="609480"/>
            <a:ext cx="3911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3182760"/>
            <a:ext cx="4419720" cy="3095640"/>
            <a:chOff x="152280" y="3182760"/>
            <a:chExt cx="4419720" cy="3095640"/>
          </a:xfrm>
        </p:grpSpPr>
        <p:sp>
          <p:nvSpPr>
            <p:cNvPr id="295" name=""/>
            <p:cNvSpPr/>
            <p:nvPr/>
          </p:nvSpPr>
          <p:spPr>
            <a:xfrm>
              <a:off x="244080" y="3182760"/>
              <a:ext cx="160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d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152280" y="3733920"/>
            <a:ext cx="4419720" cy="254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3733920"/>
                      <a:ext cx="4419720" cy="25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00600" y="1143000"/>
                <a:ext cx="32004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914040" y="4495680"/>
            <a:ext cx="1524240" cy="685800"/>
            <a:chOff x="914040" y="4495680"/>
            <a:chExt cx="1524240" cy="685800"/>
          </a:xfrm>
        </p:grpSpPr>
        <p:sp>
          <p:nvSpPr>
            <p:cNvPr id="300" name=""/>
            <p:cNvSpPr/>
            <p:nvPr/>
          </p:nvSpPr>
          <p:spPr>
            <a:xfrm flipH="1">
              <a:off x="914040" y="4495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46483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4495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980720" y="4570560"/>
            <a:ext cx="833760" cy="609480"/>
            <a:chOff x="1980720" y="4570560"/>
            <a:chExt cx="833760" cy="609480"/>
          </a:xfrm>
        </p:grpSpPr>
        <p:sp>
          <p:nvSpPr>
            <p:cNvPr id="304" name=""/>
            <p:cNvSpPr/>
            <p:nvPr/>
          </p:nvSpPr>
          <p:spPr>
            <a:xfrm>
              <a:off x="2814480" y="457056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832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2590920"/>
                <a:ext cx="2273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8077320" y="1905120"/>
                <a:ext cx="2905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086600" y="3062160"/>
                <a:ext cx="30312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00600" y="3886200"/>
                <a:ext cx="2921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7772400" y="4038480"/>
            <a:ext cx="838080" cy="711360"/>
            <a:chOff x="7772400" y="4038480"/>
            <a:chExt cx="838080" cy="71136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7772400" y="4419720"/>
                  <a:ext cx="838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772400" y="4038480"/>
                  <a:ext cx="404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803920" y="50292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502040" y="2573280"/>
            <a:ext cx="147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ld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943680" y="914400"/>
            <a:ext cx="1360440" cy="838080"/>
            <a:chOff x="6943680" y="914400"/>
            <a:chExt cx="1360440" cy="838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7772400" y="914400"/>
                  <a:ext cx="531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943680" y="1301760"/>
              <a:ext cx="825480" cy="430200"/>
            </a:xfrm>
            <a:custGeom>
              <a:avLst/>
              <a:gdLst/>
              <a:ahLst/>
              <a:rect l="l" t="t" r="r" b="b"/>
              <a:pathLst>
                <a:path w="520" h="271">
                  <a:moveTo>
                    <a:pt x="520" y="14"/>
                  </a:moveTo>
                  <a:cubicBezTo>
                    <a:pt x="356" y="17"/>
                    <a:pt x="191" y="0"/>
                    <a:pt x="29" y="22"/>
                  </a:cubicBezTo>
                  <a:cubicBezTo>
                    <a:pt x="8" y="25"/>
                    <a:pt x="13" y="84"/>
                    <a:pt x="13" y="84"/>
                  </a:cubicBezTo>
                  <a:cubicBezTo>
                    <a:pt x="10" y="139"/>
                    <a:pt x="0" y="193"/>
                    <a:pt x="5" y="248"/>
                  </a:cubicBezTo>
                  <a:cubicBezTo>
                    <a:pt x="7" y="265"/>
                    <a:pt x="52" y="271"/>
                    <a:pt x="52" y="27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7120" y="135000"/>
            <a:ext cx="156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F13.005A_W1213" descr=""/>
          <p:cNvPicPr/>
          <p:nvPr/>
        </p:nvPicPr>
        <p:blipFill>
          <a:blip r:embed="rId3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762120" y="3809880"/>
          <a:ext cx="6858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9880"/>
                    <a:ext cx="685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943280" y="3772080"/>
          <a:ext cx="6476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3280" y="3772080"/>
                    <a:ext cx="6476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52280"/>
                <a:ext cx="850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876920" y="1143000"/>
                <a:ext cx="3530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562720" y="213372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105520" y="3048120"/>
                <a:ext cx="22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3760" y="76320"/>
            <a:ext cx="23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F13.005A_W1213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0" name="F13.005C_W1213" descr=""/>
          <p:cNvPicPr/>
          <p:nvPr/>
        </p:nvPicPr>
        <p:blipFill>
          <a:blip r:embed="rId4"/>
          <a:stretch/>
        </p:blipFill>
        <p:spPr>
          <a:xfrm>
            <a:off x="4648320" y="341280"/>
            <a:ext cx="3686040" cy="1914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982400" y="0"/>
            <a:ext cx="261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ing curre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85400" y="722160"/>
            <a:ext cx="1729080" cy="1615320"/>
            <a:chOff x="5585400" y="722160"/>
            <a:chExt cx="1729080" cy="1615320"/>
          </a:xfrm>
        </p:grpSpPr>
        <p:grpSp>
          <p:nvGrpSpPr>
            <p:cNvPr id="343" name=""/>
            <p:cNvGrpSpPr/>
            <p:nvPr/>
          </p:nvGrpSpPr>
          <p:grpSpPr>
            <a:xfrm>
              <a:off x="5585400" y="722160"/>
              <a:ext cx="1729080" cy="1615320"/>
              <a:chOff x="5585400" y="722160"/>
              <a:chExt cx="1729080" cy="1615320"/>
            </a:xfrm>
          </p:grpSpPr>
          <p:sp>
            <p:nvSpPr>
              <p:cNvPr id="344" name=""/>
              <p:cNvSpPr/>
              <p:nvPr/>
            </p:nvSpPr>
            <p:spPr>
              <a:xfrm>
                <a:off x="6781680" y="722160"/>
                <a:ext cx="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400" y="2000160"/>
                <a:ext cx="1729080" cy="3373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urrent divi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705720" y="13716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2362320"/>
                <a:ext cx="2171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4876920" y="3244680"/>
            <a:ext cx="3267000" cy="2308320"/>
            <a:chOff x="4876920" y="3244680"/>
            <a:chExt cx="3267000" cy="2308320"/>
          </a:xfrm>
        </p:grpSpPr>
        <p:sp>
          <p:nvSpPr>
            <p:cNvPr id="349" name=""/>
            <p:cNvSpPr/>
            <p:nvPr/>
          </p:nvSpPr>
          <p:spPr>
            <a:xfrm>
              <a:off x="5063400" y="3244680"/>
              <a:ext cx="262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ying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F13.005D_W1213" descr=""/>
            <p:cNvPicPr/>
            <p:nvPr/>
          </p:nvPicPr>
          <p:blipFill>
            <a:blip r:embed="rId5"/>
            <a:stretch/>
          </p:blipFill>
          <p:spPr>
            <a:xfrm>
              <a:off x="4876920" y="3657600"/>
              <a:ext cx="3267000" cy="18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727240" y="5316480"/>
            <a:ext cx="1720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62720" y="5715000"/>
                <a:ext cx="1968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\( s \) = {  {2}  over  {2+ {  {1}  over  {s} } +s} }  times  {  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 over  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50720" y="5829480"/>
                <a:ext cx="288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size 12{ \( s \) = {  {8 \( s+3 \) }  over  { \( s+1 \)  rSup {2} } } }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54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3880" y="135000"/>
            <a:ext cx="2506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533520"/>
          <a:ext cx="441972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41972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447920" y="685800"/>
            <a:ext cx="914400" cy="2743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F13.005E_W1213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4619880" cy="1904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3962520"/>
            <a:ext cx="1828800" cy="19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520" y="5943600"/>
            <a:ext cx="2992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is redu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040280"/>
            <a:ext cx="205740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30200" y="58680"/>
            <a:ext cx="3957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e the sources and use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38680" y="762120"/>
                <a:ext cx="26672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975280" y="20574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276720" y="4495680"/>
            <a:ext cx="0" cy="8384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6800" y="76320"/>
            <a:ext cx="285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094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0" y="439560"/>
            <a:ext cx="4683240" cy="2837160"/>
            <a:chOff x="0" y="439560"/>
            <a:chExt cx="4683240" cy="2837160"/>
          </a:xfrm>
        </p:grpSpPr>
        <p:sp>
          <p:nvSpPr>
            <p:cNvPr id="376" name=""/>
            <p:cNvSpPr/>
            <p:nvPr/>
          </p:nvSpPr>
          <p:spPr>
            <a:xfrm>
              <a:off x="0" y="457200"/>
              <a:ext cx="281952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F13.005F_W1213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9552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6120" y="5105520"/>
                <a:ext cx="248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425160" y="5925960"/>
            <a:ext cx="282780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F13.005G_W1213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277164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68840" y="187956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F13.005H_W1213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24320" cy="19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05520" y="4724280"/>
                <a:ext cx="2298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994160" y="3411360"/>
            <a:ext cx="95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38680" y="57150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5840" y="7632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52280" y="68580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F13.005I_W1214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2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3520" y="5181480"/>
                <a:ext cx="2565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76320" y="439560"/>
            <a:ext cx="4606920" cy="2837160"/>
            <a:chOff x="76320" y="439560"/>
            <a:chExt cx="4606920" cy="2837160"/>
          </a:xfrm>
        </p:grpSpPr>
        <p:sp>
          <p:nvSpPr>
            <p:cNvPr id="396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533520"/>
              <a:ext cx="2209680" cy="2743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334120" y="0"/>
            <a:ext cx="2771640" cy="2143080"/>
            <a:chOff x="5334120" y="0"/>
            <a:chExt cx="2771640" cy="2143080"/>
          </a:xfrm>
        </p:grpSpPr>
        <p:pic>
          <p:nvPicPr>
            <p:cNvPr id="399" name="F13.005G_W1213" descr=""/>
            <p:cNvPicPr/>
            <p:nvPr/>
          </p:nvPicPr>
          <p:blipFill>
            <a:blip r:embed="rId4"/>
            <a:stretch/>
          </p:blipFill>
          <p:spPr>
            <a:xfrm>
              <a:off x="5334120" y="228600"/>
              <a:ext cx="27716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553080" y="0"/>
              <a:ext cx="10670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095880" y="190512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F13.005J_W1214" descr=""/>
          <p:cNvPicPr/>
          <p:nvPr/>
        </p:nvPicPr>
        <p:blipFill>
          <a:blip r:embed="rId5"/>
          <a:stretch/>
        </p:blipFill>
        <p:spPr>
          <a:xfrm>
            <a:off x="4952880" y="2514600"/>
            <a:ext cx="3124440" cy="1952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58000" y="297180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181480" y="4267080"/>
                <a:ext cx="252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943600" y="5181480"/>
                <a:ext cx="14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8008920" y="2649600"/>
            <a:ext cx="970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F13.006A_W1215" descr=""/>
          <p:cNvPicPr/>
          <p:nvPr/>
        </p:nvPicPr>
        <p:blipFill>
          <a:blip r:embed="rId1"/>
          <a:stretch/>
        </p:blipFill>
        <p:spPr>
          <a:xfrm>
            <a:off x="0" y="533520"/>
            <a:ext cx="4114800" cy="188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362320" y="14400"/>
                <a:ext cx="664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sume all initial conditions to be ze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259160" y="838080"/>
            <a:ext cx="4822920" cy="179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Three loops, three non-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voltage source between non-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 -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current source. One loop current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If v_2 is known, v_o can be obtained with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21240" y="363600"/>
            <a:ext cx="350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ing the analysis techni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80" y="2286000"/>
            <a:ext cx="3909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he circuit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F13.006B_W1215" descr=""/>
          <p:cNvPicPr/>
          <p:nvPr/>
        </p:nvPicPr>
        <p:blipFill>
          <a:blip r:embed="rId2"/>
          <a:stretch/>
        </p:blipFill>
        <p:spPr>
          <a:xfrm>
            <a:off x="216000" y="2666880"/>
            <a:ext cx="437184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0760" y="4495680"/>
                <a:ext cx="4114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8" name=""/>
          <p:cNvGrpSpPr/>
          <p:nvPr/>
        </p:nvGrpSpPr>
        <p:grpSpPr>
          <a:xfrm>
            <a:off x="977760" y="3429000"/>
            <a:ext cx="1981080" cy="685800"/>
            <a:chOff x="977760" y="3429000"/>
            <a:chExt cx="1981080" cy="685800"/>
          </a:xfrm>
        </p:grpSpPr>
        <p:sp>
          <p:nvSpPr>
            <p:cNvPr id="419" name=""/>
            <p:cNvSpPr/>
            <p:nvPr/>
          </p:nvSpPr>
          <p:spPr>
            <a:xfrm>
              <a:off x="977760" y="3429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349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07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32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0760" y="5075280"/>
                <a:ext cx="4826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@ supernode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0760" y="5656320"/>
                <a:ext cx="337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760" y="6222960"/>
                <a:ext cx="3314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1680" y="297180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ing the algebra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769080" y="3352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800600" y="3733920"/>
                <a:ext cx="421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3600" y="44956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94360" y="5257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760" y="7632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F13.006B_W1215" descr=""/>
          <p:cNvPicPr/>
          <p:nvPr/>
        </p:nvPicPr>
        <p:blipFill>
          <a:blip r:embed="rId1"/>
          <a:stretch/>
        </p:blipFill>
        <p:spPr>
          <a:xfrm>
            <a:off x="47520" y="533520"/>
            <a:ext cx="4372200" cy="217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00200" y="76320"/>
                <a:ext cx="415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Thevenin's theore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260280" y="507960"/>
            <a:ext cx="2444760" cy="2003400"/>
          </a:xfrm>
          <a:custGeom>
            <a:avLst/>
            <a:gdLst/>
            <a:ahLst/>
            <a:rect l="l" t="t" r="r" b="b"/>
            <a:pathLst>
              <a:path w="1540" h="1262">
                <a:moveTo>
                  <a:pt x="1278" y="0"/>
                </a:moveTo>
                <a:cubicBezTo>
                  <a:pt x="1280" y="125"/>
                  <a:pt x="1281" y="249"/>
                  <a:pt x="1285" y="374"/>
                </a:cubicBezTo>
                <a:cubicBezTo>
                  <a:pt x="1288" y="470"/>
                  <a:pt x="1340" y="509"/>
                  <a:pt x="1426" y="537"/>
                </a:cubicBezTo>
                <a:cubicBezTo>
                  <a:pt x="1444" y="558"/>
                  <a:pt x="1468" y="575"/>
                  <a:pt x="1480" y="600"/>
                </a:cubicBezTo>
                <a:cubicBezTo>
                  <a:pt x="1494" y="629"/>
                  <a:pt x="1504" y="693"/>
                  <a:pt x="1504" y="693"/>
                </a:cubicBezTo>
                <a:cubicBezTo>
                  <a:pt x="1498" y="834"/>
                  <a:pt x="1540" y="887"/>
                  <a:pt x="1426" y="927"/>
                </a:cubicBezTo>
                <a:cubicBezTo>
                  <a:pt x="1382" y="971"/>
                  <a:pt x="1393" y="976"/>
                  <a:pt x="1332" y="997"/>
                </a:cubicBezTo>
                <a:cubicBezTo>
                  <a:pt x="1300" y="1097"/>
                  <a:pt x="1195" y="1137"/>
                  <a:pt x="1098" y="1161"/>
                </a:cubicBezTo>
                <a:cubicBezTo>
                  <a:pt x="982" y="1189"/>
                  <a:pt x="869" y="1244"/>
                  <a:pt x="748" y="1254"/>
                </a:cubicBezTo>
                <a:cubicBezTo>
                  <a:pt x="678" y="1260"/>
                  <a:pt x="607" y="1259"/>
                  <a:pt x="537" y="1262"/>
                </a:cubicBezTo>
                <a:cubicBezTo>
                  <a:pt x="462" y="1257"/>
                  <a:pt x="386" y="1251"/>
                  <a:pt x="311" y="1246"/>
                </a:cubicBezTo>
                <a:cubicBezTo>
                  <a:pt x="204" y="1238"/>
                  <a:pt x="130" y="1163"/>
                  <a:pt x="31" y="1137"/>
                </a:cubicBezTo>
                <a:cubicBezTo>
                  <a:pt x="23" y="1059"/>
                  <a:pt x="17" y="981"/>
                  <a:pt x="0" y="904"/>
                </a:cubicBezTo>
                <a:cubicBezTo>
                  <a:pt x="4" y="784"/>
                  <a:pt x="4" y="661"/>
                  <a:pt x="39" y="545"/>
                </a:cubicBezTo>
                <a:cubicBezTo>
                  <a:pt x="43" y="530"/>
                  <a:pt x="63" y="442"/>
                  <a:pt x="93" y="420"/>
                </a:cubicBezTo>
                <a:cubicBezTo>
                  <a:pt x="185" y="351"/>
                  <a:pt x="299" y="339"/>
                  <a:pt x="405" y="303"/>
                </a:cubicBezTo>
                <a:cubicBezTo>
                  <a:pt x="428" y="231"/>
                  <a:pt x="471" y="166"/>
                  <a:pt x="491" y="93"/>
                </a:cubicBezTo>
                <a:cubicBezTo>
                  <a:pt x="497" y="71"/>
                  <a:pt x="504" y="26"/>
                  <a:pt x="537" y="23"/>
                </a:cubicBezTo>
                <a:cubicBezTo>
                  <a:pt x="607" y="16"/>
                  <a:pt x="678" y="16"/>
                  <a:pt x="748" y="15"/>
                </a:cubicBezTo>
                <a:cubicBezTo>
                  <a:pt x="899" y="13"/>
                  <a:pt x="1049" y="15"/>
                  <a:pt x="1200" y="1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380880"/>
            <a:ext cx="446472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keep dependent source and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same sub-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Make sub-circuit to be reduced as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Try to leave a simple voltage divider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tion to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F13.006C_W121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685960" cy="20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52280" y="30481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"/>
          <p:cNvGrpSpPr/>
          <p:nvPr/>
        </p:nvGrpSpPr>
        <p:grpSpPr>
          <a:xfrm>
            <a:off x="456840" y="3581280"/>
            <a:ext cx="1676880" cy="685800"/>
            <a:chOff x="456840" y="3581280"/>
            <a:chExt cx="1676880" cy="685800"/>
          </a:xfrm>
        </p:grpSpPr>
        <p:sp>
          <p:nvSpPr>
            <p:cNvPr id="442" name=""/>
            <p:cNvSpPr/>
            <p:nvPr/>
          </p:nvSpPr>
          <p:spPr>
            <a:xfrm flipH="1">
              <a:off x="456840" y="3581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6576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3720" y="3733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2600" y="4648320"/>
                <a:ext cx="31114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133720" y="5181480"/>
                <a:ext cx="1130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6019920"/>
                <a:ext cx="3276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8" name="F13.006D_W1215" descr=""/>
          <p:cNvPicPr/>
          <p:nvPr/>
        </p:nvPicPr>
        <p:blipFill>
          <a:blip r:embed="rId3"/>
          <a:stretch/>
        </p:blipFill>
        <p:spPr>
          <a:xfrm>
            <a:off x="4952880" y="1981080"/>
            <a:ext cx="2819520" cy="22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343400" y="380988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- 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\( 2/s \) =0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257800" y="2703600"/>
            <a:ext cx="1981080" cy="685800"/>
            <a:chOff x="5257800" y="2703600"/>
            <a:chExt cx="1981080" cy="685800"/>
          </a:xfrm>
        </p:grpSpPr>
        <p:sp>
          <p:nvSpPr>
            <p:cNvPr id="451" name=""/>
            <p:cNvSpPr/>
            <p:nvPr/>
          </p:nvSpPr>
          <p:spPr>
            <a:xfrm flipH="1">
              <a:off x="5257800" y="27799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293220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4320" y="2932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2703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2703600"/>
                <a:ext cx="469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7315200" y="38098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6/s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4191120"/>
                <a:ext cx="1320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095880" y="4114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9" name="F13.006E_W1215" descr=""/>
          <p:cNvPicPr/>
          <p:nvPr/>
        </p:nvPicPr>
        <p:blipFill>
          <a:blip r:embed="rId4"/>
          <a:stretch/>
        </p:blipFill>
        <p:spPr>
          <a:xfrm>
            <a:off x="3809880" y="4867200"/>
            <a:ext cx="3009960" cy="19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4876920"/>
                <a:ext cx="222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0640" y="50760"/>
            <a:ext cx="46598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560" y="609480"/>
            <a:ext cx="78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are a conventional approach to solve differential equations with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 using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3.001_W120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7672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7200" y="2629080"/>
                <a:ext cx="2692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3238560"/>
                <a:ext cx="3593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mentary equatio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29000" y="2514600"/>
                <a:ext cx="927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152960"/>
                <a:ext cx="3517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4686480"/>
                <a:ext cx="3111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cular solution for this cas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4991040"/>
                <a:ext cx="1498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5386320"/>
                <a:ext cx="16891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28800" y="537228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boundary condi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6019920"/>
                <a:ext cx="2248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696560" y="1219320"/>
            <a:ext cx="43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ke Laplace transform” of th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2209680"/>
                <a:ext cx="22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48320" y="281952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0" y="34290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34320" y="3429000"/>
                <a:ext cx="1574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495680" y="40384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0" y="4648320"/>
                <a:ext cx="3048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5867280"/>
                <a:ext cx="2247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16002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6821640" y="1806480"/>
            <a:ext cx="675720" cy="777960"/>
            <a:chOff x="6821640" y="1806480"/>
            <a:chExt cx="675720" cy="77796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162560" y="2057400"/>
                  <a:ext cx="334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21640" y="1806480"/>
              <a:ext cx="34884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46080" y="2496960"/>
            <a:ext cx="19746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86080" y="4859280"/>
            <a:ext cx="129168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ne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arc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ompl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15160" y="4021200"/>
            <a:ext cx="14806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01120" y="2819520"/>
            <a:ext cx="313200" cy="252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579120" y="1201680"/>
            <a:ext cx="1050840" cy="1312920"/>
            <a:chOff x="3579120" y="1201680"/>
            <a:chExt cx="1050840" cy="1312920"/>
          </a:xfrm>
        </p:grpSpPr>
        <p:sp>
          <p:nvSpPr>
            <p:cNvPr id="80" name=""/>
            <p:cNvSpPr/>
            <p:nvPr/>
          </p:nvSpPr>
          <p:spPr>
            <a:xfrm>
              <a:off x="3579120" y="1201680"/>
              <a:ext cx="1050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n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09880" y="1752480"/>
              <a:ext cx="152640" cy="762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4200" y="5868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7840" y="58680"/>
            <a:ext cx="44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invers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8880" y="515880"/>
            <a:ext cx="782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in the s-domain has established that the  Laplace transform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92160" y="114300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0" y="1143000"/>
                <a:ext cx="3174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76320" y="1752480"/>
                <a:ext cx="5803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670200" y="2438280"/>
                <a:ext cx="547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2514600"/>
                <a:ext cx="2044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0" y="3124080"/>
                <a:ext cx="64771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°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5181480" y="4114800"/>
                <a:ext cx="3911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486400" y="11430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0" y="4191120"/>
                <a:ext cx="4838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429000" y="4800600"/>
                <a:ext cx="570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t</m:t>
                    </m:r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8160" y="4876920"/>
                <a:ext cx="2095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160" y="541008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343400" y="5486400"/>
                <a:ext cx="464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0" y="5791320"/>
                <a:ext cx="541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quating coefficients of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6320" y="6184800"/>
                <a:ext cx="4012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932160" y="3182760"/>
            <a:ext cx="209484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facto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590920" y="76320"/>
                <a:ext cx="308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node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E13.001_W1216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04960" cy="18511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1219320" y="592200"/>
            <a:ext cx="2721960" cy="1236600"/>
            <a:chOff x="1219320" y="592200"/>
            <a:chExt cx="2721960" cy="1236600"/>
          </a:xfrm>
        </p:grpSpPr>
        <p:sp>
          <p:nvSpPr>
            <p:cNvPr id="490" name=""/>
            <p:cNvSpPr/>
            <p:nvPr/>
          </p:nvSpPr>
          <p:spPr>
            <a:xfrm>
              <a:off x="1219320" y="609480"/>
              <a:ext cx="1676160" cy="121932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1640" y="592200"/>
              <a:ext cx="125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48120" y="990720"/>
            <a:ext cx="239760" cy="457200"/>
            <a:chOff x="3048120" y="990720"/>
            <a:chExt cx="239760" cy="457200"/>
          </a:xfrm>
        </p:grpSpPr>
        <p:sp>
          <p:nvSpPr>
            <p:cNvPr id="493" name=""/>
            <p:cNvSpPr/>
            <p:nvPr/>
          </p:nvSpPr>
          <p:spPr>
            <a:xfrm>
              <a:off x="3048120" y="12952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048120" y="9907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507960" y="852480"/>
            <a:ext cx="711360" cy="595440"/>
            <a:chOff x="507960" y="852480"/>
            <a:chExt cx="711360" cy="595440"/>
          </a:xfrm>
        </p:grpSpPr>
        <p:sp>
          <p:nvSpPr>
            <p:cNvPr id="496" name=""/>
            <p:cNvSpPr/>
            <p:nvPr/>
          </p:nvSpPr>
          <p:spPr>
            <a:xfrm>
              <a:off x="838080" y="1219320"/>
              <a:ext cx="30492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07960" y="8524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"/>
          <p:cNvSpPr/>
          <p:nvPr/>
        </p:nvSpPr>
        <p:spPr>
          <a:xfrm>
            <a:off x="4531680" y="439560"/>
            <a:ext cx="4533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zero 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circuit transformation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53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101160" y="2666880"/>
            <a:ext cx="1954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 at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1447920"/>
            <a:ext cx="2667240" cy="990360"/>
            <a:chOff x="609480" y="1447920"/>
            <a:chExt cx="2667240" cy="990360"/>
          </a:xfrm>
        </p:grpSpPr>
        <p:sp>
          <p:nvSpPr>
            <p:cNvPr id="502" name=""/>
            <p:cNvSpPr/>
            <p:nvPr/>
          </p:nvSpPr>
          <p:spPr>
            <a:xfrm>
              <a:off x="609480" y="14479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14600" y="1600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19520" y="16002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1920" y="3065400"/>
                <a:ext cx="378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61920" y="365760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920" y="4203720"/>
                <a:ext cx="3314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ing the algebr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1920" y="5448240"/>
                <a:ext cx="6872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670200" y="102888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987720" y="1752480"/>
                <a:ext cx="5156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876920" y="30481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029200" y="3886200"/>
                <a:ext cx="344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590920" y="15228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loop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9" name="E13.002_W1217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2386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717480" y="1163520"/>
            <a:ext cx="2586240" cy="1383480"/>
            <a:chOff x="717480" y="1163520"/>
            <a:chExt cx="2586240" cy="1383480"/>
          </a:xfrm>
        </p:grpSpPr>
        <p:sp>
          <p:nvSpPr>
            <p:cNvPr id="521" name=""/>
            <p:cNvSpPr/>
            <p:nvPr/>
          </p:nvSpPr>
          <p:spPr>
            <a:xfrm>
              <a:off x="717480" y="1163520"/>
              <a:ext cx="2586240" cy="803520"/>
            </a:xfrm>
            <a:custGeom>
              <a:avLst/>
              <a:gdLst/>
              <a:ahLst/>
              <a:rect l="l" t="t" r="r" b="b"/>
              <a:pathLst>
                <a:path w="1629" h="506">
                  <a:moveTo>
                    <a:pt x="0" y="475"/>
                  </a:moveTo>
                  <a:cubicBezTo>
                    <a:pt x="3" y="322"/>
                    <a:pt x="8" y="15"/>
                    <a:pt x="8" y="15"/>
                  </a:cubicBezTo>
                  <a:cubicBezTo>
                    <a:pt x="534" y="0"/>
                    <a:pt x="947" y="4"/>
                    <a:pt x="1527" y="7"/>
                  </a:cubicBezTo>
                  <a:cubicBezTo>
                    <a:pt x="1592" y="18"/>
                    <a:pt x="1558" y="15"/>
                    <a:pt x="1629" y="15"/>
                  </a:cubicBezTo>
                  <a:cubicBezTo>
                    <a:pt x="1629" y="179"/>
                    <a:pt x="1629" y="342"/>
                    <a:pt x="1629" y="506"/>
                  </a:cubicBezTo>
                  <a:cubicBezTo>
                    <a:pt x="1190" y="506"/>
                    <a:pt x="751" y="506"/>
                    <a:pt x="312" y="5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42800" y="2209680"/>
              <a:ext cx="130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me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2280" y="2590920"/>
                <a:ext cx="24638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 due to source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52280" y="3505320"/>
                <a:ext cx="2705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VL on supermesh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81440" y="4478400"/>
            <a:ext cx="13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58760" y="4876920"/>
                <a:ext cx="4038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105520" y="1219320"/>
                <a:ext cx="2921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029200" y="213372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740040" y="2514600"/>
                <a:ext cx="528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657600" y="3352680"/>
                <a:ext cx="5410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724280" y="411480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399960" y="5621400"/>
            <a:ext cx="314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02680" y="19080"/>
            <a:ext cx="619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CIRCUIT ANALYSIS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2520" y="439560"/>
            <a:ext cx="86479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tudy of transients, especially transients due to switching, it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initial conditions. For this determination, one relies on the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oltage across capaci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urrent through induc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600200"/>
            <a:ext cx="5172120" cy="3191040"/>
            <a:chOff x="0" y="1600200"/>
            <a:chExt cx="5172120" cy="3191040"/>
          </a:xfrm>
        </p:grpSpPr>
        <p:sp>
          <p:nvSpPr>
            <p:cNvPr id="539" name=""/>
            <p:cNvSpPr/>
            <p:nvPr/>
          </p:nvSpPr>
          <p:spPr>
            <a:xfrm>
              <a:off x="106200" y="1600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38280" y="1676520"/>
                  <a:ext cx="2082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1" name="F13.007A_W1218" descr=""/>
            <p:cNvPicPr/>
            <p:nvPr/>
          </p:nvPicPr>
          <p:blipFill>
            <a:blip r:embed="rId1"/>
            <a:stretch/>
          </p:blipFill>
          <p:spPr>
            <a:xfrm>
              <a:off x="0" y="2057400"/>
              <a:ext cx="5172120" cy="27338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5257800"/>
                <a:ext cx="3898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DC case capacitors are open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s are short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3" name=""/>
          <p:cNvGrpSpPr/>
          <p:nvPr/>
        </p:nvGrpSpPr>
        <p:grpSpPr>
          <a:xfrm>
            <a:off x="552240" y="2908440"/>
            <a:ext cx="4550040" cy="2271600"/>
            <a:chOff x="552240" y="2908440"/>
            <a:chExt cx="4550040" cy="2271600"/>
          </a:xfrm>
        </p:grpSpPr>
        <p:sp>
          <p:nvSpPr>
            <p:cNvPr id="544" name=""/>
            <p:cNvSpPr/>
            <p:nvPr/>
          </p:nvSpPr>
          <p:spPr>
            <a:xfrm>
              <a:off x="552240" y="4356000"/>
              <a:ext cx="4550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steady state for t&lt;0 and 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across capacitors and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73240" y="290844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1463400" y="3670200"/>
                  <a:ext cx="50796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978000" y="3136680"/>
                  <a:ext cx="68580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4457880" y="4962600"/>
            <a:ext cx="4686120" cy="1896120"/>
            <a:chOff x="4457880" y="4962600"/>
            <a:chExt cx="4686120" cy="1896120"/>
          </a:xfrm>
        </p:grpSpPr>
        <p:pic>
          <p:nvPicPr>
            <p:cNvPr id="549" name="F13.007B_W1218" descr=""/>
            <p:cNvPicPr/>
            <p:nvPr/>
          </p:nvPicPr>
          <p:blipFill>
            <a:blip r:embed="rId2"/>
            <a:stretch/>
          </p:blipFill>
          <p:spPr>
            <a:xfrm>
              <a:off x="4457880" y="496260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6138360" y="65214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4686120" cy="1896120"/>
            <a:chOff x="0" y="0"/>
            <a:chExt cx="4686120" cy="1896120"/>
          </a:xfrm>
        </p:grpSpPr>
        <p:pic>
          <p:nvPicPr>
            <p:cNvPr id="555" name="F13.007B_W121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680480" y="15588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7" name=""/>
          <p:cNvGraphicFramePr/>
          <p:nvPr/>
        </p:nvGraphicFramePr>
        <p:xfrm>
          <a:off x="0" y="2057400"/>
          <a:ext cx="4724280" cy="19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47242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"/>
          <p:cNvGrpSpPr/>
          <p:nvPr/>
        </p:nvGrpSpPr>
        <p:grpSpPr>
          <a:xfrm>
            <a:off x="363600" y="1325520"/>
            <a:ext cx="962280" cy="938160"/>
            <a:chOff x="363600" y="1325520"/>
            <a:chExt cx="962280" cy="938160"/>
          </a:xfrm>
        </p:grpSpPr>
        <p:sp>
          <p:nvSpPr>
            <p:cNvPr id="560" name=""/>
            <p:cNvSpPr/>
            <p:nvPr/>
          </p:nvSpPr>
          <p:spPr>
            <a:xfrm>
              <a:off x="372600" y="1506600"/>
              <a:ext cx="9532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3600" y="1325520"/>
              <a:ext cx="379440" cy="938160"/>
            </a:xfrm>
            <a:custGeom>
              <a:avLst/>
              <a:gdLst/>
              <a:ahLst/>
              <a:rect l="l" t="t" r="r" b="b"/>
              <a:pathLst>
                <a:path w="239" h="591">
                  <a:moveTo>
                    <a:pt x="239" y="7"/>
                  </a:moveTo>
                  <a:cubicBezTo>
                    <a:pt x="202" y="9"/>
                    <a:pt x="163" y="0"/>
                    <a:pt x="129" y="14"/>
                  </a:cubicBezTo>
                  <a:cubicBezTo>
                    <a:pt x="113" y="21"/>
                    <a:pt x="113" y="45"/>
                    <a:pt x="106" y="61"/>
                  </a:cubicBezTo>
                  <a:cubicBezTo>
                    <a:pt x="78" y="130"/>
                    <a:pt x="109" y="89"/>
                    <a:pt x="59" y="139"/>
                  </a:cubicBezTo>
                  <a:cubicBezTo>
                    <a:pt x="42" y="180"/>
                    <a:pt x="26" y="221"/>
                    <a:pt x="13" y="264"/>
                  </a:cubicBezTo>
                  <a:cubicBezTo>
                    <a:pt x="0" y="364"/>
                    <a:pt x="1" y="331"/>
                    <a:pt x="13" y="474"/>
                  </a:cubicBezTo>
                  <a:cubicBezTo>
                    <a:pt x="15" y="500"/>
                    <a:pt x="30" y="535"/>
                    <a:pt x="36" y="560"/>
                  </a:cubicBezTo>
                  <a:cubicBezTo>
                    <a:pt x="38" y="570"/>
                    <a:pt x="44" y="591"/>
                    <a:pt x="44" y="591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3200" y="2590920"/>
            <a:ext cx="2298600" cy="1767600"/>
            <a:chOff x="673200" y="2590920"/>
            <a:chExt cx="2298600" cy="1767600"/>
          </a:xfrm>
        </p:grpSpPr>
        <p:sp>
          <p:nvSpPr>
            <p:cNvPr id="563" name=""/>
            <p:cNvSpPr/>
            <p:nvPr/>
          </p:nvSpPr>
          <p:spPr>
            <a:xfrm>
              <a:off x="937800" y="4021200"/>
              <a:ext cx="203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673200" y="2590920"/>
            <a:ext cx="62208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3200" y="2590920"/>
                      <a:ext cx="6220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2057400" y="2666880"/>
            <a:ext cx="581040" cy="74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2666880"/>
                      <a:ext cx="58104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6320" y="4495680"/>
                <a:ext cx="1917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76320" y="5181480"/>
                <a:ext cx="2577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2209680" y="4554360"/>
            <a:ext cx="2086920" cy="1044720"/>
            <a:chOff x="2209680" y="4554360"/>
            <a:chExt cx="2086920" cy="1044720"/>
          </a:xfrm>
        </p:grpSpPr>
        <p:sp>
          <p:nvSpPr>
            <p:cNvPr id="571" name=""/>
            <p:cNvSpPr/>
            <p:nvPr/>
          </p:nvSpPr>
          <p:spPr>
            <a:xfrm>
              <a:off x="2985120" y="4554360"/>
              <a:ext cx="1311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for 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2209680" y="4648320"/>
                  <a:ext cx="29052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743200" y="5334120"/>
                  <a:ext cx="722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52280" y="5943600"/>
                <a:ext cx="1828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133720" y="594360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15000" y="76320"/>
                <a:ext cx="1841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4915800" y="744480"/>
            <a:ext cx="403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determine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952880" y="1143000"/>
                <a:ext cx="4114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mplex conjugate ro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003640" y="1555920"/>
                <a:ext cx="32259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952880" y="2590920"/>
                <a:ext cx="3098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58280" y="2743200"/>
                <a:ext cx="148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657600" y="3733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34120" y="4724280"/>
                <a:ext cx="27050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4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E06.002_W0608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990880" cy="24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666880" y="144360"/>
                <a:ext cx="2210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16440" y="3106800"/>
            <a:ext cx="340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09480" y="350532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2" name=""/>
          <p:cNvGraphicFramePr/>
          <p:nvPr/>
        </p:nvGraphicFramePr>
        <p:xfrm>
          <a:off x="609480" y="4114800"/>
          <a:ext cx="3124440" cy="17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114800"/>
                    <a:ext cx="312444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1295280" y="5925960"/>
            <a:ext cx="2786760" cy="580680"/>
            <a:chOff x="1295280" y="5925960"/>
            <a:chExt cx="2786760" cy="58068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295280" y="5943600"/>
                  <a:ext cx="1689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3115080" y="5925960"/>
              <a:ext cx="966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952880" y="32004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E06.004_W0614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276720" cy="3000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819520" y="166680"/>
                <a:ext cx="212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120960" y="3792600"/>
            <a:ext cx="452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4114800"/>
            <a:ext cx="2590560" cy="2602080"/>
            <a:chOff x="152280" y="4114800"/>
            <a:chExt cx="2590560" cy="2602080"/>
          </a:xfrm>
        </p:grpSpPr>
        <p:pic>
          <p:nvPicPr>
            <p:cNvPr id="606" name="E06.004_W0614" descr=""/>
            <p:cNvPicPr/>
            <p:nvPr/>
          </p:nvPicPr>
          <p:blipFill>
            <a:blip r:embed="rId2"/>
            <a:stretch/>
          </p:blipFill>
          <p:spPr>
            <a:xfrm>
              <a:off x="152280" y="4343400"/>
              <a:ext cx="259056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371240" y="44197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447560" y="41148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9" name=""/>
          <p:cNvSpPr/>
          <p:nvPr/>
        </p:nvSpPr>
        <p:spPr>
          <a:xfrm>
            <a:off x="2756520" y="4249800"/>
            <a:ext cx="1578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124080" y="48769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124080" y="5257800"/>
                <a:ext cx="1028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048120" y="5943600"/>
                <a:ext cx="105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7772400" y="0"/>
          <a:ext cx="124452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0"/>
                    <a:ext cx="124452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267080" y="123840"/>
            <a:ext cx="3353040" cy="3305160"/>
            <a:chOff x="4267080" y="123840"/>
            <a:chExt cx="3353040" cy="3305160"/>
          </a:xfrm>
        </p:grpSpPr>
        <p:grpSp>
          <p:nvGrpSpPr>
            <p:cNvPr id="616" name=""/>
            <p:cNvGrpSpPr/>
            <p:nvPr/>
          </p:nvGrpSpPr>
          <p:grpSpPr>
            <a:xfrm>
              <a:off x="4267080" y="123840"/>
              <a:ext cx="3353040" cy="3305160"/>
              <a:chOff x="4267080" y="123840"/>
              <a:chExt cx="3353040" cy="3305160"/>
            </a:xfrm>
          </p:grpSpPr>
          <p:pic>
            <p:nvPicPr>
              <p:cNvPr id="617" name="E06.004_W06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267080" y="428400"/>
                <a:ext cx="3276720" cy="30006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18" name=""/>
                  <p:cNvSpPr txBox="1"/>
                  <p:nvPr/>
                </p:nvSpPr>
                <p:spPr>
                  <a:xfrm>
                    <a:off x="6172200" y="123840"/>
                    <a:ext cx="2649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"/>
              <p:cNvSpPr/>
              <p:nvPr/>
            </p:nvSpPr>
            <p:spPr>
              <a:xfrm>
                <a:off x="5562720" y="657000"/>
                <a:ext cx="53316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20" name=""/>
              <p:cNvGraphicFramePr/>
              <p:nvPr/>
            </p:nvGraphicFramePr>
            <p:xfrm>
              <a:off x="6494400" y="504720"/>
              <a:ext cx="973080" cy="1004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94400" y="504720"/>
                        <a:ext cx="97308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2" name=""/>
              <p:cNvSpPr/>
              <p:nvPr/>
            </p:nvSpPr>
            <p:spPr>
              <a:xfrm>
                <a:off x="6781680" y="1571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38880" y="65700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4" name=""/>
                  <p:cNvSpPr txBox="1"/>
                  <p:nvPr/>
                </p:nvSpPr>
                <p:spPr>
                  <a:xfrm>
                    <a:off x="7215120" y="1571400"/>
                    <a:ext cx="176400" cy="17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5" name=""/>
              <p:cNvSpPr/>
              <p:nvPr/>
            </p:nvSpPr>
            <p:spPr>
              <a:xfrm>
                <a:off x="6858000" y="35244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7010280" y="1800360"/>
                  <a:ext cx="532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857840" y="3562200"/>
                <a:ext cx="405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oltage divid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800600" y="4343400"/>
                <a:ext cx="1752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4343400"/>
                <a:ext cx="977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876920" y="502920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800600" y="5410080"/>
                <a:ext cx="2603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029200" y="6019920"/>
                <a:ext cx="2133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geaux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168000" y="85680"/>
            <a:ext cx="28933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58720" y="685800"/>
            <a:ext cx="2793960" cy="1434960"/>
            <a:chOff x="558720" y="685800"/>
            <a:chExt cx="2793960" cy="1434960"/>
          </a:xfrm>
        </p:grpSpPr>
        <p:sp>
          <p:nvSpPr>
            <p:cNvPr id="638" name=""/>
            <p:cNvSpPr/>
            <p:nvPr/>
          </p:nvSpPr>
          <p:spPr>
            <a:xfrm>
              <a:off x="1143000" y="685800"/>
              <a:ext cx="1600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10666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1066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558720" y="72540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2819520" y="685800"/>
                  <a:ext cx="469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"/>
            <p:cNvSpPr/>
            <p:nvPr/>
          </p:nvSpPr>
          <p:spPr>
            <a:xfrm>
              <a:off x="1087920" y="693720"/>
              <a:ext cx="168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ystem with 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itial cond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1295280" y="1523880"/>
                  <a:ext cx="1244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2600" y="2146320"/>
                <a:ext cx="42544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for the system is a differenti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2600" y="4191120"/>
                <a:ext cx="3022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initial conditions are zero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2600" y="5257800"/>
                <a:ext cx="3759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09480" y="6095880"/>
                <a:ext cx="297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86400" y="533520"/>
                <a:ext cx="254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29200" y="1295280"/>
                <a:ext cx="2451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impulse func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4622040" y="284796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H(s) is al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lled the impuls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03600" y="3657600"/>
            <a:ext cx="4481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mpulse response is known the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determine th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NY other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38440" y="1949400"/>
            <a:ext cx="4667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(s) can also be interpreted as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of the output when the inpu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impulse and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438280" y="76320"/>
                <a:ext cx="4724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network has impulse response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533520"/>
                <a:ext cx="599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response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for the input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90160" y="973080"/>
            <a:ext cx="3742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Laplace domain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Y(s)=H(s)X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3440" y="144792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3098880" y="1752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022560" y="23623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641680" y="34290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699080" y="34290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251160" y="4114800"/>
                <a:ext cx="234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3213000" y="4495680"/>
                <a:ext cx="257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505320" y="533412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95120" y="58680"/>
            <a:ext cx="5394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response of first and second ord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668160"/>
            <a:ext cx="202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31840" y="495360"/>
                <a:ext cx="2616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τ</m:t>
                        </m:r>
                      </m:num>
                      <m:den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5" name=""/>
          <p:cNvGrpSpPr/>
          <p:nvPr/>
        </p:nvGrpSpPr>
        <p:grpSpPr>
          <a:xfrm>
            <a:off x="152280" y="1447920"/>
            <a:ext cx="3555720" cy="1458720"/>
            <a:chOff x="152280" y="1447920"/>
            <a:chExt cx="3555720" cy="1458720"/>
          </a:xfrm>
        </p:grpSpPr>
        <p:sp>
          <p:nvSpPr>
            <p:cNvPr id="676" name=""/>
            <p:cNvSpPr/>
            <p:nvPr/>
          </p:nvSpPr>
          <p:spPr>
            <a:xfrm>
              <a:off x="200520" y="14479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152280" y="18288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685800" y="25146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6320" y="3048120"/>
                <a:ext cx="4267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se 1: </m:t>
                        </m:r>
                        <m:r>
                          <m:t xml:space="preserve">ς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: Overdamped network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0" name="F13.008A_W1219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914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4800600" y="533520"/>
            <a:ext cx="3733920" cy="696960"/>
            <a:chOff x="4800600" y="5335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4800600" y="5335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5260680" y="8380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4800600" y="1231920"/>
            <a:ext cx="3943440" cy="2273400"/>
            <a:chOff x="4800600" y="1231920"/>
            <a:chExt cx="3943440" cy="227340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257800" y="123192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86" name="F13.008B_W1219" descr=""/>
            <p:cNvPicPr/>
            <p:nvPr/>
          </p:nvPicPr>
          <p:blipFill>
            <a:blip r:embed="rId2"/>
            <a:stretch/>
          </p:blipFill>
          <p:spPr>
            <a:xfrm>
              <a:off x="4800600" y="1790640"/>
              <a:ext cx="3943440" cy="1714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800600" y="3352680"/>
                <a:ext cx="4267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: Critically damped networ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4581360" y="3733920"/>
            <a:ext cx="4181760" cy="2247840"/>
            <a:chOff x="4581360" y="3733920"/>
            <a:chExt cx="4181760" cy="2247840"/>
          </a:xfrm>
        </p:grpSpPr>
        <mc:AlternateContent>
          <mc:Choice xmlns:a14="http://schemas.microsoft.com/office/drawing/2010/main" Requires="a14">
            <p:sp>
              <p:nvSpPr>
                <p:cNvPr id="689" name=""/>
                <p:cNvSpPr txBox="1"/>
                <p:nvPr/>
              </p:nvSpPr>
              <p:spPr>
                <a:xfrm>
                  <a:off x="5638680" y="3733920"/>
                  <a:ext cx="2273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690" name="F13.008C_W1219" descr=""/>
            <p:cNvPicPr/>
            <p:nvPr/>
          </p:nvPicPr>
          <p:blipFill>
            <a:blip r:embed="rId3"/>
            <a:stretch/>
          </p:blipFill>
          <p:spPr>
            <a:xfrm>
              <a:off x="4581360" y="4267080"/>
              <a:ext cx="418176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1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15228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D13.001_W1207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133720" cy="138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" y="2514600"/>
                <a:ext cx="1638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using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2133720" y="1193760"/>
            <a:ext cx="1090440" cy="558720"/>
            <a:chOff x="2133720" y="1193760"/>
            <a:chExt cx="1090440" cy="558720"/>
          </a:xfrm>
        </p:grpSpPr>
        <p:sp>
          <p:nvSpPr>
            <p:cNvPr id="90" name=""/>
            <p:cNvSpPr/>
            <p:nvPr/>
          </p:nvSpPr>
          <p:spPr>
            <a:xfrm>
              <a:off x="2133720" y="1269720"/>
              <a:ext cx="0" cy="456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743200" y="1193760"/>
                  <a:ext cx="4809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533520" y="609480"/>
            <a:ext cx="1371600" cy="762120"/>
            <a:chOff x="533520" y="609480"/>
            <a:chExt cx="1371600" cy="762120"/>
          </a:xfrm>
        </p:grpSpPr>
        <p:sp>
          <p:nvSpPr>
            <p:cNvPr id="93" name=""/>
            <p:cNvSpPr/>
            <p:nvPr/>
          </p:nvSpPr>
          <p:spPr>
            <a:xfrm flipH="1">
              <a:off x="137160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520" y="609480"/>
                  <a:ext cx="6094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8400" y="16002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7400" y="248904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327672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438280" y="3657600"/>
            <a:ext cx="676080" cy="777960"/>
            <a:chOff x="2438280" y="3657600"/>
            <a:chExt cx="676080" cy="77796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79200" y="3908520"/>
                  <a:ext cx="335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38280" y="3657600"/>
              <a:ext cx="34920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4320" y="4038480"/>
                <a:ext cx="234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472428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594360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54100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775600" y="5270400"/>
            <a:ext cx="18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in 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44160" y="210960"/>
            <a:ext cx="4059360" cy="1160640"/>
            <a:chOff x="4844160" y="210960"/>
            <a:chExt cx="4059360" cy="1160640"/>
          </a:xfrm>
        </p:grpSpPr>
        <p:sp>
          <p:nvSpPr>
            <p:cNvPr id="107" name=""/>
            <p:cNvSpPr/>
            <p:nvPr/>
          </p:nvSpPr>
          <p:spPr>
            <a:xfrm>
              <a:off x="4844160" y="210960"/>
              <a:ext cx="40593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 the differ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is now an algebraic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943600" y="812880"/>
                  <a:ext cx="1892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s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05520" y="1447920"/>
                <a:ext cx="304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556160" y="2192400"/>
            <a:ext cx="442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s to determin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59092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81480" y="3429000"/>
                <a:ext cx="312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15000" y="4267080"/>
                <a:ext cx="1905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F13.009A_W1220" descr=""/>
          <p:cNvPicPr/>
          <p:nvPr/>
        </p:nvPicPr>
        <p:blipFill>
          <a:blip r:embed="rId1"/>
          <a:stretch/>
        </p:blipFill>
        <p:spPr>
          <a:xfrm>
            <a:off x="0" y="609480"/>
            <a:ext cx="382896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2768760" y="76320"/>
                <a:ext cx="4470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transfer function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240120" y="21160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2000" y="2819520"/>
          <a:ext cx="4410000" cy="19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19520"/>
                    <a:ext cx="441000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0" name=""/>
          <p:cNvGrpSpPr/>
          <p:nvPr/>
        </p:nvGrpSpPr>
        <p:grpSpPr>
          <a:xfrm>
            <a:off x="1143000" y="3429000"/>
            <a:ext cx="2057400" cy="1539000"/>
            <a:chOff x="1143000" y="3429000"/>
            <a:chExt cx="2057400" cy="1539000"/>
          </a:xfrm>
        </p:grpSpPr>
        <p:graphicFrame>
          <p:nvGraphicFramePr>
            <p:cNvPr id="701" name=""/>
            <p:cNvGraphicFramePr/>
            <p:nvPr/>
          </p:nvGraphicFramePr>
          <p:xfrm>
            <a:off x="1143000" y="3429000"/>
            <a:ext cx="685800" cy="81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3429000"/>
                      <a:ext cx="68580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3" name=""/>
            <p:cNvGraphicFramePr/>
            <p:nvPr/>
          </p:nvGraphicFramePr>
          <p:xfrm>
            <a:off x="2514600" y="3505320"/>
            <a:ext cx="68580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3505320"/>
                      <a:ext cx="6858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5" name=""/>
            <p:cNvSpPr/>
            <p:nvPr/>
          </p:nvSpPr>
          <p:spPr>
            <a:xfrm>
              <a:off x="1536120" y="4630680"/>
              <a:ext cx="159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80880" y="5105520"/>
                <a:ext cx="1435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04920" y="548640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52280" y="4038480"/>
                <a:ext cx="50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19520" y="51814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219320" y="6095880"/>
                <a:ext cx="2349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685800"/>
            <a:ext cx="3670200" cy="2895480"/>
            <a:chOff x="4572000" y="685800"/>
            <a:chExt cx="3670200" cy="2895480"/>
          </a:xfrm>
        </p:grpSpPr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4572000" y="685800"/>
                  <a:ext cx="36702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±</m:t>
                      </m:r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3" name="F13.009C_W1220" descr=""/>
            <p:cNvPicPr/>
            <p:nvPr/>
          </p:nvPicPr>
          <p:blipFill>
            <a:blip r:embed="rId8"/>
            <a:stretch/>
          </p:blipFill>
          <p:spPr>
            <a:xfrm>
              <a:off x="4572000" y="1066680"/>
              <a:ext cx="21146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6095880" y="1066680"/>
            <a:ext cx="3048120" cy="2543400"/>
            <a:chOff x="6095880" y="1066680"/>
            <a:chExt cx="3048120" cy="2543400"/>
          </a:xfrm>
        </p:grpSpPr>
        <p:pic>
          <p:nvPicPr>
            <p:cNvPr id="715" name="F13.009D_W1220" descr=""/>
            <p:cNvPicPr/>
            <p:nvPr/>
          </p:nvPicPr>
          <p:blipFill>
            <a:blip r:embed="rId9"/>
            <a:stretch/>
          </p:blipFill>
          <p:spPr>
            <a:xfrm>
              <a:off x="6781680" y="1066680"/>
              <a:ext cx="2362320" cy="25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3276720"/>
                  <a:ext cx="30481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7" name=""/>
          <p:cNvGrpSpPr/>
          <p:nvPr/>
        </p:nvGrpSpPr>
        <p:grpSpPr>
          <a:xfrm>
            <a:off x="4572000" y="3809880"/>
            <a:ext cx="4000680" cy="2867040"/>
            <a:chOff x="4572000" y="3809880"/>
            <a:chExt cx="4000680" cy="2867040"/>
          </a:xfrm>
        </p:grpSpPr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4648320" y="3809880"/>
                  <a:ext cx="39243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27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3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9" name="F13.009E_W1220" descr=""/>
            <p:cNvPicPr/>
            <p:nvPr/>
          </p:nvPicPr>
          <p:blipFill>
            <a:blip r:embed="rId10"/>
            <a:stretch/>
          </p:blipFill>
          <p:spPr>
            <a:xfrm>
              <a:off x="4572000" y="4114800"/>
              <a:ext cx="2343240" cy="25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geaux" descr=""/>
          <p:cNvPicPr/>
          <p:nvPr/>
        </p:nvPicPr>
        <p:blipFill>
          <a:blip r:embed="rId1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F13.010A_W1221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2248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576160" y="0"/>
            <a:ext cx="644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fer function, the type of damping 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4160" y="26956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F13.010B_W1221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370512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438280" y="5105520"/>
                <a:ext cx="60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514600" y="579132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"/>
          <p:cNvGrpSpPr/>
          <p:nvPr/>
        </p:nvGrpSpPr>
        <p:grpSpPr>
          <a:xfrm>
            <a:off x="1676520" y="4038480"/>
            <a:ext cx="533160" cy="457200"/>
            <a:chOff x="1676520" y="4038480"/>
            <a:chExt cx="533160" cy="457200"/>
          </a:xfrm>
        </p:grpSpPr>
        <p:sp>
          <p:nvSpPr>
            <p:cNvPr id="731" name=""/>
            <p:cNvSpPr/>
            <p:nvPr/>
          </p:nvSpPr>
          <p:spPr>
            <a:xfrm>
              <a:off x="1676520" y="44956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4038480"/>
              <a:ext cx="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200" y="3885840"/>
            <a:ext cx="1600200" cy="1676880"/>
            <a:chOff x="457200" y="3885840"/>
            <a:chExt cx="1600200" cy="1676880"/>
          </a:xfrm>
        </p:grpSpPr>
        <p:sp>
          <p:nvSpPr>
            <p:cNvPr id="734" name=""/>
            <p:cNvSpPr/>
            <p:nvPr/>
          </p:nvSpPr>
          <p:spPr>
            <a:xfrm>
              <a:off x="1214280" y="49528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57200" y="4572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523880" y="388584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49528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48320" y="685800"/>
                <a:ext cx="4356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685800" y="61722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572000" y="1447920"/>
                <a:ext cx="1955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6248520" y="1981080"/>
            <a:ext cx="17524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629400" y="209700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5715000" y="1981080"/>
            <a:ext cx="722160" cy="990720"/>
            <a:chOff x="5715000" y="1981080"/>
            <a:chExt cx="722160" cy="990720"/>
          </a:xfrm>
        </p:grpSpPr>
        <p:sp>
          <p:nvSpPr>
            <p:cNvPr id="744" name=""/>
            <p:cNvSpPr/>
            <p:nvPr/>
          </p:nvSpPr>
          <p:spPr>
            <a:xfrm>
              <a:off x="5715000" y="1981080"/>
              <a:ext cx="228600" cy="990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943600" y="2666880"/>
                  <a:ext cx="493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6477120" y="2666880"/>
                <a:ext cx="722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72000" y="30481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 step respons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72000" y="3657600"/>
                <a:ext cx="166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248520" y="3657600"/>
                <a:ext cx="266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572000" y="45720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572000" y="487692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572000" y="5257800"/>
                <a:ext cx="2730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72000" y="6019920"/>
                <a:ext cx="3467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28600" y="53352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2737800" y="58680"/>
            <a:ext cx="6161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le-zero plot, the type of damping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28600" y="1219320"/>
                <a:ext cx="1244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52280" y="1511280"/>
                <a:ext cx="2845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les: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2" name=""/>
          <p:cNvGrpSpPr/>
          <p:nvPr/>
        </p:nvGrpSpPr>
        <p:grpSpPr>
          <a:xfrm>
            <a:off x="457200" y="2285640"/>
            <a:ext cx="2716200" cy="2057400"/>
            <a:chOff x="457200" y="2285640"/>
            <a:chExt cx="2716200" cy="2057400"/>
          </a:xfrm>
        </p:grpSpPr>
        <p:sp>
          <p:nvSpPr>
            <p:cNvPr id="763" name=""/>
            <p:cNvSpPr/>
            <p:nvPr/>
          </p:nvSpPr>
          <p:spPr>
            <a:xfrm flipV="1">
              <a:off x="2590920" y="2285640"/>
              <a:ext cx="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342900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2971800" y="3581280"/>
                  <a:ext cx="2016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2666880" y="2362320"/>
                  <a:ext cx="330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7" name=""/>
          <p:cNvGrpSpPr/>
          <p:nvPr/>
        </p:nvGrpSpPr>
        <p:grpSpPr>
          <a:xfrm>
            <a:off x="38160" y="2558880"/>
            <a:ext cx="2832120" cy="1512360"/>
            <a:chOff x="38160" y="2558880"/>
            <a:chExt cx="2832120" cy="1512360"/>
          </a:xfrm>
        </p:grpSpPr>
        <p:sp>
          <p:nvSpPr>
            <p:cNvPr id="768" name=""/>
            <p:cNvSpPr/>
            <p:nvPr/>
          </p:nvSpPr>
          <p:spPr>
            <a:xfrm flipV="1">
              <a:off x="1905120" y="274284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00080" y="27417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05120" y="327636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05120" y="3962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5720" y="25588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5720" y="37339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590920" y="2630520"/>
                  <a:ext cx="2793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1905120" y="321480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0280" y="32446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38160" y="358128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8" name=""/>
          <p:cNvSpPr/>
          <p:nvPr/>
        </p:nvSpPr>
        <p:spPr>
          <a:xfrm>
            <a:off x="4268880" y="382680"/>
            <a:ext cx="1447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04920" y="464832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1" name=""/>
          <p:cNvGrpSpPr/>
          <p:nvPr/>
        </p:nvGrpSpPr>
        <p:grpSpPr>
          <a:xfrm>
            <a:off x="1143000" y="4572000"/>
            <a:ext cx="519120" cy="798480"/>
            <a:chOff x="1143000" y="4572000"/>
            <a:chExt cx="519120" cy="798480"/>
          </a:xfrm>
        </p:grpSpPr>
        <p:sp>
          <p:nvSpPr>
            <p:cNvPr id="782" name=""/>
            <p:cNvSpPr/>
            <p:nvPr/>
          </p:nvSpPr>
          <p:spPr>
            <a:xfrm>
              <a:off x="1143000" y="4572000"/>
              <a:ext cx="228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1371600" y="502920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4" name=""/>
          <p:cNvGrpSpPr/>
          <p:nvPr/>
        </p:nvGrpSpPr>
        <p:grpSpPr>
          <a:xfrm>
            <a:off x="609480" y="4495680"/>
            <a:ext cx="493920" cy="1052640"/>
            <a:chOff x="609480" y="4495680"/>
            <a:chExt cx="493920" cy="1052640"/>
          </a:xfrm>
        </p:grpSpPr>
        <p:sp>
          <p:nvSpPr>
            <p:cNvPr id="785" name=""/>
            <p:cNvSpPr/>
            <p:nvPr/>
          </p:nvSpPr>
          <p:spPr>
            <a:xfrm>
              <a:off x="685800" y="4495680"/>
              <a:ext cx="1522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609480" y="5257800"/>
                  <a:ext cx="493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752480" y="4648320"/>
                <a:ext cx="965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2743200" y="609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267080" y="762120"/>
                <a:ext cx="2781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343400" y="182880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562720" y="1447920"/>
                <a:ext cx="326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4572000" y="3200400"/>
                <a:ext cx="1803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72000" y="3809880"/>
                <a:ext cx="417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657600" y="2590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4495680"/>
                <a:ext cx="3759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4572000" y="5334120"/>
                <a:ext cx="306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9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93320" y="76320"/>
            <a:ext cx="640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networks: variation of poles with damp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68120" y="533520"/>
            <a:ext cx="3555720" cy="1458720"/>
            <a:chOff x="168120" y="533520"/>
            <a:chExt cx="3555720" cy="1458720"/>
          </a:xfrm>
        </p:grpSpPr>
        <p:sp>
          <p:nvSpPr>
            <p:cNvPr id="802" name=""/>
            <p:cNvSpPr/>
            <p:nvPr/>
          </p:nvSpPr>
          <p:spPr>
            <a:xfrm>
              <a:off x="216360" y="5335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8120" y="9144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701640" y="16002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228600" y="2133720"/>
            <a:ext cx="3733920" cy="696960"/>
            <a:chOff x="228600" y="21337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28600" y="21337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88680" y="24382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08" name="F13.011_W1223" descr=""/>
          <p:cNvPicPr/>
          <p:nvPr/>
        </p:nvPicPr>
        <p:blipFill>
          <a:blip r:embed="rId1"/>
          <a:stretch/>
        </p:blipFill>
        <p:spPr>
          <a:xfrm>
            <a:off x="76320" y="2971800"/>
            <a:ext cx="3200400" cy="240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04920" y="3962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0" name=""/>
          <p:cNvGrpSpPr/>
          <p:nvPr/>
        </p:nvGrpSpPr>
        <p:grpSpPr>
          <a:xfrm>
            <a:off x="4222440" y="457200"/>
            <a:ext cx="4921560" cy="1276200"/>
            <a:chOff x="4222440" y="457200"/>
            <a:chExt cx="4921560" cy="1276200"/>
          </a:xfrm>
        </p:grpSpPr>
        <p:pic>
          <p:nvPicPr>
            <p:cNvPr id="811" name="F13.012_W1224" descr=""/>
            <p:cNvPicPr/>
            <p:nvPr/>
          </p:nvPicPr>
          <p:blipFill>
            <a:blip r:embed="rId2"/>
            <a:stretch/>
          </p:blipFill>
          <p:spPr>
            <a:xfrm>
              <a:off x="6191280" y="457200"/>
              <a:ext cx="29527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4222440" y="457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343400" y="1828800"/>
                <a:ext cx="2692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7162920" y="1828800"/>
                <a:ext cx="173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038480" y="990720"/>
                <a:ext cx="2133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6" name=""/>
          <p:cNvGrpSpPr/>
          <p:nvPr/>
        </p:nvGrpSpPr>
        <p:grpSpPr>
          <a:xfrm>
            <a:off x="3263760" y="2971800"/>
            <a:ext cx="4584960" cy="3809880"/>
            <a:chOff x="3263760" y="2971800"/>
            <a:chExt cx="4584960" cy="3809880"/>
          </a:xfrm>
        </p:grpSpPr>
        <p:pic>
          <p:nvPicPr>
            <p:cNvPr id="817" name="F13.013_W1225" descr=""/>
            <p:cNvPicPr/>
            <p:nvPr/>
          </p:nvPicPr>
          <p:blipFill>
            <a:blip r:embed="rId3"/>
            <a:stretch/>
          </p:blipFill>
          <p:spPr>
            <a:xfrm>
              <a:off x="3263760" y="2971800"/>
              <a:ext cx="2822760" cy="3809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6006960" y="3352680"/>
                  <a:ext cx="1841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Variation of pole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se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9" name="F13.014_W1226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82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4320" y="586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F13.015_W1227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6476760" cy="54054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6520680" y="426960"/>
            <a:ext cx="2549160" cy="204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eviously th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s model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 that a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a wind-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 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etter expla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6492960" y="2654280"/>
                <a:ext cx="2336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6568920" y="3492360"/>
                <a:ext cx="2248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1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ind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6523560" y="4313160"/>
            <a:ext cx="226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rsional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6477120" y="4940280"/>
                <a:ext cx="25146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failu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nd speed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mp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ist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to collaps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1370880" y="6292800"/>
            <a:ext cx="51840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: Develop a circuit that models this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36" name=""/>
          <p:cNvGrpSpPr/>
          <p:nvPr/>
        </p:nvGrpSpPr>
        <p:grpSpPr>
          <a:xfrm>
            <a:off x="7920" y="135000"/>
            <a:ext cx="3160800" cy="627120"/>
            <a:chOff x="7920" y="135000"/>
            <a:chExt cx="3160800" cy="627120"/>
          </a:xfrm>
        </p:grpSpPr>
        <p:sp>
          <p:nvSpPr>
            <p:cNvPr id="837" name=""/>
            <p:cNvSpPr/>
            <p:nvPr/>
          </p:nvSpPr>
          <p:spPr>
            <a:xfrm>
              <a:off x="7920" y="135000"/>
              <a:ext cx="8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831960" y="152280"/>
                  <a:ext cx="2336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0" y="762120"/>
                <a:ext cx="4000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0" name=""/>
          <p:cNvGrpSpPr/>
          <p:nvPr/>
        </p:nvGrpSpPr>
        <p:grpSpPr>
          <a:xfrm>
            <a:off x="2895480" y="-17640"/>
            <a:ext cx="3359160" cy="3129120"/>
            <a:chOff x="2895480" y="-17640"/>
            <a:chExt cx="3359160" cy="3129120"/>
          </a:xfrm>
        </p:grpSpPr>
        <p:graphicFrame>
          <p:nvGraphicFramePr>
            <p:cNvPr id="841" name=""/>
            <p:cNvGraphicFramePr/>
            <p:nvPr/>
          </p:nvGraphicFramePr>
          <p:xfrm>
            <a:off x="4191120" y="0"/>
            <a:ext cx="20635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0"/>
                      <a:ext cx="20635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41148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"/>
            <p:cNvSpPr/>
            <p:nvPr/>
          </p:nvSpPr>
          <p:spPr>
            <a:xfrm>
              <a:off x="4572000" y="1371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81480" y="8380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895480" y="1752480"/>
                  <a:ext cx="209556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ω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s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4190040" y="-1764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629400" y="0"/>
            <a:ext cx="2514600" cy="3797280"/>
            <a:chOff x="6629400" y="0"/>
            <a:chExt cx="2514600" cy="3797280"/>
          </a:xfrm>
        </p:grpSpPr>
        <p:graphicFrame>
          <p:nvGraphicFramePr>
            <p:cNvPr id="849" name=""/>
            <p:cNvGraphicFramePr/>
            <p:nvPr/>
          </p:nvGraphicFramePr>
          <p:xfrm>
            <a:off x="6629400" y="228600"/>
            <a:ext cx="2286000" cy="22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9400" y="228600"/>
                      <a:ext cx="228600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6629400" y="1295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6781680" y="2057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3" name=""/>
            <p:cNvSpPr/>
            <p:nvPr/>
          </p:nvSpPr>
          <p:spPr>
            <a:xfrm>
              <a:off x="6781680" y="0"/>
              <a:ext cx="80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6972480" y="2438280"/>
                  <a:ext cx="21715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55" name=""/>
          <p:cNvGraphicFramePr/>
          <p:nvPr/>
        </p:nvGraphicFramePr>
        <p:xfrm>
          <a:off x="0" y="3124080"/>
          <a:ext cx="6934320" cy="381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934320" y="4876920"/>
                <a:ext cx="341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4038480" y="4368960"/>
                <a:ext cx="507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dθ</m:t>
                            </m:r>
                          </m:e>
                          <m:lim/>
                        </m:limUp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828800" y="4191120"/>
                <a:ext cx="59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97440" y="5545080"/>
            <a:ext cx="2107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0" y="1219320"/>
            <a:ext cx="3429000" cy="776880"/>
            <a:chOff x="0" y="1219320"/>
            <a:chExt cx="3429000" cy="77688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0" y="1219320"/>
                  <a:ext cx="34290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θ</m:t>
                          </m:r>
                        </m:e>
                        <m:lim>
                          <m:r>
                            <m:t xml:space="preserve">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156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3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limUpp>
                            <m:e>
                              <m:r>
                                <m:t xml:space="preserve">θ</m:t>
                              </m:r>
                            </m:e>
                            <m:lim/>
                          </m:limUp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79</m:t>
                          </m:r>
                          <m:r>
                            <m:t xml:space="preserve">θ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6720" y="1658880"/>
              <a:ext cx="2545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numerical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49880" y="2039760"/>
            <a:ext cx="127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63080" y="135000"/>
            <a:ext cx="202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76320" y="533520"/>
            <a:ext cx="4495680" cy="3044520"/>
            <a:chOff x="76320" y="533520"/>
            <a:chExt cx="4495680" cy="3044520"/>
          </a:xfrm>
        </p:grpSpPr>
        <p:pic>
          <p:nvPicPr>
            <p:cNvPr id="870" name="F13.018_W1230" descr=""/>
            <p:cNvPicPr/>
            <p:nvPr/>
          </p:nvPicPr>
          <p:blipFill>
            <a:blip r:embed="rId1"/>
            <a:stretch/>
          </p:blipFill>
          <p:spPr>
            <a:xfrm>
              <a:off x="76320" y="533520"/>
              <a:ext cx="4495680" cy="30445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1" name=""/>
            <p:cNvSpPr/>
            <p:nvPr/>
          </p:nvSpPr>
          <p:spPr>
            <a:xfrm>
              <a:off x="1694880" y="63648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20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47520" y="3638520"/>
            <a:ext cx="4524480" cy="3219480"/>
            <a:chOff x="47520" y="3638520"/>
            <a:chExt cx="4524480" cy="3219480"/>
          </a:xfrm>
        </p:grpSpPr>
        <p:pic>
          <p:nvPicPr>
            <p:cNvPr id="873" name="F13.019_W1231" descr=""/>
            <p:cNvPicPr/>
            <p:nvPr/>
          </p:nvPicPr>
          <p:blipFill>
            <a:blip r:embed="rId2"/>
            <a:stretch/>
          </p:blipFill>
          <p:spPr>
            <a:xfrm>
              <a:off x="47520" y="3638520"/>
              <a:ext cx="4524480" cy="321948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874" name=""/>
            <p:cNvSpPr/>
            <p:nvPr/>
          </p:nvSpPr>
          <p:spPr>
            <a:xfrm>
              <a:off x="1737720" y="3657600"/>
              <a:ext cx="254592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35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 =1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0" y="838080"/>
            <a:ext cx="3238560" cy="2514600"/>
            <a:chOff x="0" y="838080"/>
            <a:chExt cx="3238560" cy="2514600"/>
          </a:xfrm>
        </p:grpSpPr>
        <p:pic>
          <p:nvPicPr>
            <p:cNvPr id="879" name="F13.022_W1234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923920" cy="1361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228600" y="2209680"/>
                  <a:ext cx="3009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1" name=""/>
          <p:cNvSpPr/>
          <p:nvPr/>
        </p:nvSpPr>
        <p:spPr>
          <a:xfrm>
            <a:off x="2332800" y="76320"/>
            <a:ext cx="451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/BODE PLO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35160" y="457200"/>
            <a:ext cx="6765840" cy="347760"/>
            <a:chOff x="1235160" y="457200"/>
            <a:chExt cx="6765840" cy="347760"/>
          </a:xfrm>
        </p:grpSpPr>
        <p:sp>
          <p:nvSpPr>
            <p:cNvPr id="883" name=""/>
            <p:cNvSpPr/>
            <p:nvPr/>
          </p:nvSpPr>
          <p:spPr>
            <a:xfrm>
              <a:off x="1235160" y="457200"/>
              <a:ext cx="586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de plots display magnitude and phase informat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4" name=""/>
                <p:cNvSpPr txBox="1"/>
                <p:nvPr/>
              </p:nvSpPr>
              <p:spPr>
                <a:xfrm>
                  <a:off x="7086600" y="474840"/>
                  <a:ext cx="9144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5" name=""/>
          <p:cNvSpPr/>
          <p:nvPr/>
        </p:nvSpPr>
        <p:spPr>
          <a:xfrm>
            <a:off x="2850120" y="806400"/>
            <a:ext cx="348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y show a cross section of G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895480" y="114300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7" name="F13.023B_W1235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  <p:pic>
        <p:nvPicPr>
          <p:cNvPr id="888" name="F13.023A_W1235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936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89" name=""/>
          <p:cNvGrpSpPr/>
          <p:nvPr/>
        </p:nvGrpSpPr>
        <p:grpSpPr>
          <a:xfrm>
            <a:off x="5486400" y="4325760"/>
            <a:ext cx="3256560" cy="1541160"/>
            <a:chOff x="5486400" y="4325760"/>
            <a:chExt cx="3256560" cy="1541160"/>
          </a:xfrm>
        </p:grpSpPr>
        <p:sp>
          <p:nvSpPr>
            <p:cNvPr id="890" name=""/>
            <p:cNvSpPr/>
            <p:nvPr/>
          </p:nvSpPr>
          <p:spPr>
            <a:xfrm flipV="1">
              <a:off x="5486400" y="4876560"/>
              <a:ext cx="1752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38360" y="4325760"/>
              <a:ext cx="170460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ross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n by B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6364800" y="1582560"/>
            <a:ext cx="2716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poles get closer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aginary axis the pe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valleys are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nou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F13.023C_W1236" descr=""/>
          <p:cNvPicPr/>
          <p:nvPr/>
        </p:nvPicPr>
        <p:blipFill>
          <a:blip r:embed="rId1"/>
          <a:stretch/>
        </p:blipFill>
        <p:spPr>
          <a:xfrm>
            <a:off x="0" y="-30240"/>
            <a:ext cx="5029200" cy="38401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017000" y="51588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0" y="3352680"/>
            <a:ext cx="5076720" cy="3505320"/>
            <a:chOff x="0" y="3352680"/>
            <a:chExt cx="5076720" cy="3505320"/>
          </a:xfrm>
        </p:grpSpPr>
        <p:pic>
          <p:nvPicPr>
            <p:cNvPr id="899" name="F13.023D_W1236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5076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691200" y="371628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nt 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105520" y="152280"/>
            <a:ext cx="3871800" cy="3068640"/>
            <a:chOff x="5105520" y="152280"/>
            <a:chExt cx="3871800" cy="3068640"/>
          </a:xfrm>
        </p:grpSpPr>
        <p:pic>
          <p:nvPicPr>
            <p:cNvPr id="902" name="F13.023E_W1237" descr=""/>
            <p:cNvPicPr/>
            <p:nvPr/>
          </p:nvPicPr>
          <p:blipFill>
            <a:blip r:embed="rId3"/>
            <a:stretch/>
          </p:blipFill>
          <p:spPr>
            <a:xfrm>
              <a:off x="5105520" y="152280"/>
              <a:ext cx="387180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6523560" y="1523880"/>
              <a:ext cx="20581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 only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5181480" y="3710160"/>
            <a:ext cx="3962520" cy="3147840"/>
            <a:chOff x="5181480" y="3710160"/>
            <a:chExt cx="3962520" cy="3147840"/>
          </a:xfrm>
        </p:grpSpPr>
        <p:grpSp>
          <p:nvGrpSpPr>
            <p:cNvPr id="905" name=""/>
            <p:cNvGrpSpPr/>
            <p:nvPr/>
          </p:nvGrpSpPr>
          <p:grpSpPr>
            <a:xfrm>
              <a:off x="5181480" y="3710160"/>
              <a:ext cx="3962520" cy="3147840"/>
              <a:chOff x="5181480" y="3710160"/>
              <a:chExt cx="3962520" cy="3147840"/>
            </a:xfrm>
          </p:grpSpPr>
          <p:pic>
            <p:nvPicPr>
              <p:cNvPr id="906" name="F13.023F_W123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710160"/>
                <a:ext cx="3962520" cy="31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"/>
              <p:cNvSpPr/>
              <p:nvPr/>
            </p:nvSpPr>
            <p:spPr>
              <a:xfrm>
                <a:off x="6187680" y="3944880"/>
                <a:ext cx="22626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mplitude Bode p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6508440" y="5468760"/>
              <a:ext cx="1688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s log sc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773080" y="76320"/>
            <a:ext cx="3324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04920" y="592200"/>
            <a:ext cx="6737040" cy="337320"/>
            <a:chOff x="304920" y="592200"/>
            <a:chExt cx="6737040" cy="337320"/>
          </a:xfrm>
        </p:grpSpPr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304920" y="609480"/>
                  <a:ext cx="1650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5" name=""/>
            <p:cNvSpPr/>
            <p:nvPr/>
          </p:nvSpPr>
          <p:spPr>
            <a:xfrm>
              <a:off x="2296800" y="592200"/>
              <a:ext cx="4745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 when all initial conditions are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79520" y="1049400"/>
            <a:ext cx="807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uses positive time functions. Even for sinusoids the response con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tory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88560" y="1600200"/>
            <a:ext cx="5997960" cy="558720"/>
            <a:chOff x="88560" y="1600200"/>
            <a:chExt cx="5997960" cy="558720"/>
          </a:xfrm>
        </p:grpSpPr>
        <p:sp>
          <p:nvSpPr>
            <p:cNvPr id="918" name=""/>
            <p:cNvSpPr/>
            <p:nvPr/>
          </p:nvSpPr>
          <p:spPr>
            <a:xfrm>
              <a:off x="88560" y="1644480"/>
              <a:ext cx="1114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1235160" y="1600200"/>
                  <a:ext cx="4851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52280" y="2197080"/>
                <a:ext cx="4343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152280" y="3048120"/>
                <a:ext cx="3899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2" name=""/>
          <p:cNvGrpSpPr/>
          <p:nvPr/>
        </p:nvGrpSpPr>
        <p:grpSpPr>
          <a:xfrm>
            <a:off x="311400" y="3048120"/>
            <a:ext cx="1119600" cy="776880"/>
            <a:chOff x="311400" y="3048120"/>
            <a:chExt cx="1119600" cy="776880"/>
          </a:xfrm>
        </p:grpSpPr>
        <p:sp>
          <p:nvSpPr>
            <p:cNvPr id="923" name=""/>
            <p:cNvSpPr/>
            <p:nvPr/>
          </p:nvSpPr>
          <p:spPr>
            <a:xfrm>
              <a:off x="311400" y="3487680"/>
              <a:ext cx="111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1760" y="3048120"/>
              <a:ext cx="5335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447920" y="2971800"/>
            <a:ext cx="2743200" cy="889920"/>
            <a:chOff x="1447920" y="2971800"/>
            <a:chExt cx="2743200" cy="889920"/>
          </a:xfrm>
        </p:grpSpPr>
        <p:sp>
          <p:nvSpPr>
            <p:cNvPr id="926" name=""/>
            <p:cNvSpPr/>
            <p:nvPr/>
          </p:nvSpPr>
          <p:spPr>
            <a:xfrm>
              <a:off x="1447920" y="2971800"/>
              <a:ext cx="2743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46640" y="3524400"/>
              <a:ext cx="24120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4719600" y="2362320"/>
            <a:ext cx="4361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nterested in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, then don’t determine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ociated with transien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228600" y="4967280"/>
                <a:ext cx="694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28600" y="5729400"/>
                <a:ext cx="3797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4114800" y="5729400"/>
                <a:ext cx="452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8600" y="632448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3" name=""/>
          <p:cNvGrpSpPr/>
          <p:nvPr/>
        </p:nvGrpSpPr>
        <p:grpSpPr>
          <a:xfrm>
            <a:off x="228600" y="3944880"/>
            <a:ext cx="6224760" cy="1008000"/>
            <a:chOff x="228600" y="3944880"/>
            <a:chExt cx="6224760" cy="1008000"/>
          </a:xfrm>
        </p:grpSpPr>
        <mc:AlternateContent>
          <mc:Choice xmlns:a14="http://schemas.microsoft.com/office/drawing/2010/main" Requires="a14">
            <p:sp>
              <p:nvSpPr>
                <p:cNvPr id="934" name=""/>
                <p:cNvSpPr txBox="1"/>
                <p:nvPr/>
              </p:nvSpPr>
              <p:spPr>
                <a:xfrm>
                  <a:off x="228600" y="4281480"/>
                  <a:ext cx="6224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35" name=""/>
            <p:cNvSpPr/>
            <p:nvPr/>
          </p:nvSpPr>
          <p:spPr>
            <a:xfrm>
              <a:off x="249120" y="3944880"/>
              <a:ext cx="223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neral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673520" y="34290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4920" y="0"/>
            <a:ext cx="3565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533520"/>
            <a:ext cx="7040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used so far follows the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 Write the differential  equ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Use Laplace transform to convert the model to an algebraic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800" y="1430280"/>
            <a:ext cx="8759160" cy="155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 more efficient approa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velop s-domain model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raw the “Laplace equivalent circuit” keeping the interconnections and repl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lements by their s-domai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nalyze the Laplace equivalent circuit. All usual circuit tools are applicable an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are algebra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3182760"/>
            <a:ext cx="4438440" cy="2065680"/>
            <a:chOff x="4648320" y="3182760"/>
            <a:chExt cx="4438440" cy="2065680"/>
          </a:xfrm>
        </p:grpSpPr>
        <p:pic>
          <p:nvPicPr>
            <p:cNvPr id="121" name="F13.002A_W1208" descr=""/>
            <p:cNvPicPr/>
            <p:nvPr/>
          </p:nvPicPr>
          <p:blipFill>
            <a:blip r:embed="rId1"/>
            <a:stretch/>
          </p:blipFill>
          <p:spPr>
            <a:xfrm>
              <a:off x="4648320" y="3505320"/>
              <a:ext cx="4438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9120" y="31827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86400" y="5257800"/>
                <a:ext cx="2629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4920" y="3429000"/>
                <a:ext cx="2158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4495680"/>
                <a:ext cx="313668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pendent 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F13.024A_W1238" descr=""/>
          <p:cNvPicPr/>
          <p:nvPr/>
        </p:nvPicPr>
        <p:blipFill>
          <a:blip r:embed="rId1"/>
          <a:stretch/>
        </p:blipFill>
        <p:spPr>
          <a:xfrm>
            <a:off x="0" y="457200"/>
            <a:ext cx="4809960" cy="1971720"/>
          </a:xfrm>
          <a:prstGeom prst="rect">
            <a:avLst/>
          </a:prstGeom>
          <a:ln w="0">
            <a:noFill/>
          </a:ln>
        </p:spPr>
      </p:pic>
      <p:pic>
        <p:nvPicPr>
          <p:cNvPr id="942" name="F13.024B_W1238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53000" cy="171468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2548440" y="58680"/>
            <a:ext cx="393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240" y="2514600"/>
            <a:ext cx="469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914040" y="3276720"/>
            <a:ext cx="1752840" cy="914400"/>
            <a:chOff x="914040" y="3276720"/>
            <a:chExt cx="1752840" cy="914400"/>
          </a:xfrm>
        </p:grpSpPr>
        <p:sp>
          <p:nvSpPr>
            <p:cNvPr id="946" name=""/>
            <p:cNvSpPr/>
            <p:nvPr/>
          </p:nvSpPr>
          <p:spPr>
            <a:xfrm flipH="1">
              <a:off x="914040" y="33526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00200" y="3657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09680" y="32767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47242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762120" y="5638680"/>
                <a:ext cx="2857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699080" y="1981080"/>
                <a:ext cx="444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52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53" name=""/>
            <p:cNvSpPr/>
            <p:nvPr/>
          </p:nvSpPr>
          <p:spPr>
            <a:xfrm>
              <a:off x="0" y="1066680"/>
              <a:ext cx="152388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4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952880" y="2768760"/>
                <a:ext cx="3772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4673520" y="4572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181480" y="388620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8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E13.007_W1239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666880" y="763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4648320" y="457200"/>
                <a:ext cx="447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5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66" name=""/>
            <p:cNvSpPr/>
            <p:nvPr/>
          </p:nvSpPr>
          <p:spPr>
            <a:xfrm>
              <a:off x="0" y="1066680"/>
              <a:ext cx="11430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8" name=""/>
          <p:cNvSpPr/>
          <p:nvPr/>
        </p:nvSpPr>
        <p:spPr>
          <a:xfrm>
            <a:off x="498600" y="2209680"/>
            <a:ext cx="391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circuit to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52280" y="2948040"/>
            <a:ext cx="4038480" cy="1319040"/>
            <a:chOff x="152280" y="2948040"/>
            <a:chExt cx="4038480" cy="1319040"/>
          </a:xfrm>
        </p:grpSpPr>
        <p:pic>
          <p:nvPicPr>
            <p:cNvPr id="970" name="E13.007_W1239" descr=""/>
            <p:cNvPicPr/>
            <p:nvPr/>
          </p:nvPicPr>
          <p:blipFill>
            <a:blip r:embed="rId2"/>
            <a:stretch/>
          </p:blipFill>
          <p:spPr>
            <a:xfrm>
              <a:off x="152280" y="3124080"/>
              <a:ext cx="4038480" cy="114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2744640" y="294804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>
                  <a:off x="2057400" y="3429000"/>
                  <a:ext cx="176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3" name=""/>
                <p:cNvSpPr txBox="1"/>
                <p:nvPr/>
              </p:nvSpPr>
              <p:spPr>
                <a:xfrm>
                  <a:off x="533160" y="38862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4" name=""/>
          <p:cNvGrpSpPr/>
          <p:nvPr/>
        </p:nvGrpSpPr>
        <p:grpSpPr>
          <a:xfrm>
            <a:off x="0" y="2819520"/>
            <a:ext cx="3276720" cy="1676160"/>
            <a:chOff x="0" y="2819520"/>
            <a:chExt cx="3276720" cy="1676160"/>
          </a:xfrm>
        </p:grpSpPr>
        <p:sp>
          <p:nvSpPr>
            <p:cNvPr id="975" name=""/>
            <p:cNvSpPr/>
            <p:nvPr/>
          </p:nvSpPr>
          <p:spPr>
            <a:xfrm>
              <a:off x="29880" y="2819520"/>
              <a:ext cx="1114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0" y="2819520"/>
              <a:ext cx="3276720" cy="1676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76320" y="4533840"/>
                <a:ext cx="2946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01520" y="5664240"/>
                <a:ext cx="363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952880" y="1219320"/>
                <a:ext cx="237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5029200" y="2984400"/>
                <a:ext cx="219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1" name=""/>
          <p:cNvGrpSpPr/>
          <p:nvPr/>
        </p:nvGrpSpPr>
        <p:grpSpPr>
          <a:xfrm>
            <a:off x="5715000" y="2832120"/>
            <a:ext cx="1511280" cy="1027080"/>
            <a:chOff x="5715000" y="2832120"/>
            <a:chExt cx="1511280" cy="1027080"/>
          </a:xfrm>
        </p:grpSpPr>
        <p:sp>
          <p:nvSpPr>
            <p:cNvPr id="982" name=""/>
            <p:cNvSpPr/>
            <p:nvPr/>
          </p:nvSpPr>
          <p:spPr>
            <a:xfrm>
              <a:off x="5715000" y="2832120"/>
              <a:ext cx="99072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6705720" y="3594240"/>
                  <a:ext cx="520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629240" y="3898800"/>
                <a:ext cx="4279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952880" y="1905120"/>
                <a:ext cx="3009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648320" y="457200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F13.025_W1240" descr=""/>
          <p:cNvPicPr/>
          <p:nvPr/>
        </p:nvPicPr>
        <p:blipFill>
          <a:blip r:embed="rId1"/>
          <a:stretch/>
        </p:blipFill>
        <p:spPr>
          <a:xfrm>
            <a:off x="0" y="609480"/>
            <a:ext cx="4495680" cy="2335320"/>
          </a:xfrm>
          <a:prstGeom prst="rect">
            <a:avLst/>
          </a:prstGeom>
          <a:ln w="0">
            <a:noFill/>
          </a:ln>
        </p:spPr>
      </p:pic>
      <p:grpSp>
        <p:nvGrpSpPr>
          <p:cNvPr id="992" name=""/>
          <p:cNvGrpSpPr/>
          <p:nvPr/>
        </p:nvGrpSpPr>
        <p:grpSpPr>
          <a:xfrm>
            <a:off x="1727280" y="135000"/>
            <a:ext cx="4002840" cy="1336680"/>
            <a:chOff x="1727280" y="135000"/>
            <a:chExt cx="4002840" cy="1336680"/>
          </a:xfrm>
        </p:grpSpPr>
        <p:sp>
          <p:nvSpPr>
            <p:cNvPr id="993" name=""/>
            <p:cNvSpPr/>
            <p:nvPr/>
          </p:nvSpPr>
          <p:spPr>
            <a:xfrm>
              <a:off x="1727280" y="420840"/>
              <a:ext cx="2181240" cy="1050840"/>
            </a:xfrm>
            <a:custGeom>
              <a:avLst/>
              <a:gdLst/>
              <a:ahLst/>
              <a:rect l="l" t="t" r="r" b="b"/>
              <a:pathLst>
                <a:path w="1374" h="662">
                  <a:moveTo>
                    <a:pt x="985" y="132"/>
                  </a:moveTo>
                  <a:cubicBezTo>
                    <a:pt x="979" y="240"/>
                    <a:pt x="977" y="355"/>
                    <a:pt x="946" y="460"/>
                  </a:cubicBezTo>
                  <a:cubicBezTo>
                    <a:pt x="930" y="516"/>
                    <a:pt x="950" y="474"/>
                    <a:pt x="899" y="545"/>
                  </a:cubicBezTo>
                  <a:cubicBezTo>
                    <a:pt x="888" y="560"/>
                    <a:pt x="852" y="577"/>
                    <a:pt x="852" y="577"/>
                  </a:cubicBezTo>
                  <a:cubicBezTo>
                    <a:pt x="831" y="606"/>
                    <a:pt x="792" y="652"/>
                    <a:pt x="759" y="662"/>
                  </a:cubicBezTo>
                  <a:cubicBezTo>
                    <a:pt x="549" y="660"/>
                    <a:pt x="338" y="662"/>
                    <a:pt x="128" y="655"/>
                  </a:cubicBezTo>
                  <a:cubicBezTo>
                    <a:pt x="47" y="652"/>
                    <a:pt x="57" y="659"/>
                    <a:pt x="42" y="616"/>
                  </a:cubicBezTo>
                  <a:cubicBezTo>
                    <a:pt x="39" y="595"/>
                    <a:pt x="38" y="574"/>
                    <a:pt x="34" y="553"/>
                  </a:cubicBezTo>
                  <a:cubicBezTo>
                    <a:pt x="30" y="532"/>
                    <a:pt x="22" y="512"/>
                    <a:pt x="19" y="491"/>
                  </a:cubicBezTo>
                  <a:cubicBezTo>
                    <a:pt x="12" y="450"/>
                    <a:pt x="3" y="366"/>
                    <a:pt x="3" y="366"/>
                  </a:cubicBezTo>
                  <a:cubicBezTo>
                    <a:pt x="6" y="348"/>
                    <a:pt x="0" y="326"/>
                    <a:pt x="11" y="312"/>
                  </a:cubicBezTo>
                  <a:cubicBezTo>
                    <a:pt x="21" y="299"/>
                    <a:pt x="44" y="305"/>
                    <a:pt x="58" y="296"/>
                  </a:cubicBezTo>
                  <a:cubicBezTo>
                    <a:pt x="168" y="221"/>
                    <a:pt x="34" y="264"/>
                    <a:pt x="167" y="242"/>
                  </a:cubicBezTo>
                  <a:cubicBezTo>
                    <a:pt x="322" y="217"/>
                    <a:pt x="477" y="209"/>
                    <a:pt x="634" y="203"/>
                  </a:cubicBezTo>
                  <a:cubicBezTo>
                    <a:pt x="655" y="200"/>
                    <a:pt x="676" y="200"/>
                    <a:pt x="696" y="195"/>
                  </a:cubicBezTo>
                  <a:cubicBezTo>
                    <a:pt x="708" y="192"/>
                    <a:pt x="716" y="182"/>
                    <a:pt x="728" y="179"/>
                  </a:cubicBezTo>
                  <a:cubicBezTo>
                    <a:pt x="798" y="162"/>
                    <a:pt x="874" y="152"/>
                    <a:pt x="946" y="140"/>
                  </a:cubicBezTo>
                  <a:cubicBezTo>
                    <a:pt x="1032" y="104"/>
                    <a:pt x="1129" y="71"/>
                    <a:pt x="1219" y="47"/>
                  </a:cubicBezTo>
                  <a:cubicBezTo>
                    <a:pt x="1260" y="36"/>
                    <a:pt x="1343" y="16"/>
                    <a:pt x="1343" y="16"/>
                  </a:cubicBezTo>
                  <a:cubicBezTo>
                    <a:pt x="1353" y="11"/>
                    <a:pt x="1374" y="0"/>
                    <a:pt x="137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24480" y="135000"/>
              <a:ext cx="21056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-emphasize b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844200" y="1355760"/>
            <a:ext cx="3288240" cy="1953360"/>
            <a:chOff x="844200" y="1355760"/>
            <a:chExt cx="3288240" cy="1953360"/>
          </a:xfrm>
        </p:grpSpPr>
        <p:sp>
          <p:nvSpPr>
            <p:cNvPr id="996" name=""/>
            <p:cNvSpPr/>
            <p:nvPr/>
          </p:nvSpPr>
          <p:spPr>
            <a:xfrm>
              <a:off x="1768320" y="1355760"/>
              <a:ext cx="2364120" cy="1638360"/>
            </a:xfrm>
            <a:custGeom>
              <a:avLst/>
              <a:gdLst/>
              <a:ahLst/>
              <a:rect l="l" t="t" r="r" b="b"/>
              <a:pathLst>
                <a:path w="1489" h="1032">
                  <a:moveTo>
                    <a:pt x="865" y="408"/>
                  </a:moveTo>
                  <a:cubicBezTo>
                    <a:pt x="860" y="309"/>
                    <a:pt x="868" y="209"/>
                    <a:pt x="850" y="112"/>
                  </a:cubicBezTo>
                  <a:cubicBezTo>
                    <a:pt x="845" y="87"/>
                    <a:pt x="806" y="63"/>
                    <a:pt x="780" y="58"/>
                  </a:cubicBezTo>
                  <a:cubicBezTo>
                    <a:pt x="680" y="38"/>
                    <a:pt x="585" y="26"/>
                    <a:pt x="483" y="19"/>
                  </a:cubicBezTo>
                  <a:cubicBezTo>
                    <a:pt x="372" y="0"/>
                    <a:pt x="262" y="3"/>
                    <a:pt x="156" y="42"/>
                  </a:cubicBezTo>
                  <a:cubicBezTo>
                    <a:pt x="93" y="106"/>
                    <a:pt x="118" y="77"/>
                    <a:pt x="78" y="128"/>
                  </a:cubicBezTo>
                  <a:cubicBezTo>
                    <a:pt x="75" y="144"/>
                    <a:pt x="75" y="160"/>
                    <a:pt x="70" y="175"/>
                  </a:cubicBezTo>
                  <a:cubicBezTo>
                    <a:pt x="62" y="197"/>
                    <a:pt x="39" y="237"/>
                    <a:pt x="39" y="237"/>
                  </a:cubicBezTo>
                  <a:cubicBezTo>
                    <a:pt x="31" y="271"/>
                    <a:pt x="21" y="303"/>
                    <a:pt x="16" y="338"/>
                  </a:cubicBezTo>
                  <a:cubicBezTo>
                    <a:pt x="10" y="380"/>
                    <a:pt x="0" y="463"/>
                    <a:pt x="0" y="463"/>
                  </a:cubicBezTo>
                  <a:cubicBezTo>
                    <a:pt x="5" y="531"/>
                    <a:pt x="3" y="599"/>
                    <a:pt x="16" y="666"/>
                  </a:cubicBezTo>
                  <a:cubicBezTo>
                    <a:pt x="26" y="714"/>
                    <a:pt x="187" y="724"/>
                    <a:pt x="234" y="736"/>
                  </a:cubicBezTo>
                  <a:cubicBezTo>
                    <a:pt x="361" y="733"/>
                    <a:pt x="489" y="732"/>
                    <a:pt x="616" y="728"/>
                  </a:cubicBezTo>
                  <a:cubicBezTo>
                    <a:pt x="647" y="727"/>
                    <a:pt x="680" y="731"/>
                    <a:pt x="709" y="720"/>
                  </a:cubicBezTo>
                  <a:cubicBezTo>
                    <a:pt x="724" y="714"/>
                    <a:pt x="778" y="659"/>
                    <a:pt x="795" y="642"/>
                  </a:cubicBezTo>
                  <a:cubicBezTo>
                    <a:pt x="820" y="934"/>
                    <a:pt x="782" y="755"/>
                    <a:pt x="826" y="860"/>
                  </a:cubicBezTo>
                  <a:cubicBezTo>
                    <a:pt x="832" y="873"/>
                    <a:pt x="838" y="932"/>
                    <a:pt x="850" y="938"/>
                  </a:cubicBezTo>
                  <a:cubicBezTo>
                    <a:pt x="942" y="980"/>
                    <a:pt x="1127" y="986"/>
                    <a:pt x="1224" y="993"/>
                  </a:cubicBezTo>
                  <a:cubicBezTo>
                    <a:pt x="1294" y="998"/>
                    <a:pt x="1434" y="1009"/>
                    <a:pt x="1434" y="1009"/>
                  </a:cubicBezTo>
                  <a:cubicBezTo>
                    <a:pt x="1453" y="1015"/>
                    <a:pt x="1474" y="1017"/>
                    <a:pt x="1489" y="103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4200" y="2971800"/>
              <a:ext cx="3283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hances bass to original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152280" y="3429000"/>
                <a:ext cx="2743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AA recording filter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152280" y="4419720"/>
                <a:ext cx="1231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0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μ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1600200" y="464832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228600" y="5638680"/>
                <a:ext cx="3213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s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2" name=""/>
          <p:cNvGrpSpPr/>
          <p:nvPr/>
        </p:nvGrpSpPr>
        <p:grpSpPr>
          <a:xfrm>
            <a:off x="5257800" y="685800"/>
            <a:ext cx="3438360" cy="2093400"/>
            <a:chOff x="5257800" y="685800"/>
            <a:chExt cx="3438360" cy="2093400"/>
          </a:xfrm>
        </p:grpSpPr>
        <p:pic>
          <p:nvPicPr>
            <p:cNvPr id="1003" name="F13.026A_W1241" descr=""/>
            <p:cNvPicPr/>
            <p:nvPr/>
          </p:nvPicPr>
          <p:blipFill>
            <a:blip r:embed="rId2"/>
            <a:stretch/>
          </p:blipFill>
          <p:spPr>
            <a:xfrm>
              <a:off x="5257800" y="855360"/>
              <a:ext cx="343836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81920" y="68580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-zero map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5" name=""/>
                <p:cNvSpPr txBox="1"/>
                <p:nvPr/>
              </p:nvSpPr>
              <p:spPr>
                <a:xfrm>
                  <a:off x="7238880" y="703080"/>
                  <a:ext cx="660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6" name=""/>
          <p:cNvGrpSpPr/>
          <p:nvPr/>
        </p:nvGrpSpPr>
        <p:grpSpPr>
          <a:xfrm>
            <a:off x="4724280" y="3030480"/>
            <a:ext cx="3803040" cy="1031760"/>
            <a:chOff x="4724280" y="3030480"/>
            <a:chExt cx="3803040" cy="1031760"/>
          </a:xfrm>
        </p:grpSpPr>
        <p:sp>
          <p:nvSpPr>
            <p:cNvPr id="1007" name=""/>
            <p:cNvSpPr/>
            <p:nvPr/>
          </p:nvSpPr>
          <p:spPr>
            <a:xfrm>
              <a:off x="4785120" y="3030480"/>
              <a:ext cx="3742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layback filter is the recipr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4724280" y="3429000"/>
                  <a:ext cx="146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9" name=""/>
          <p:cNvGrpSpPr/>
          <p:nvPr/>
        </p:nvGrpSpPr>
        <p:grpSpPr>
          <a:xfrm>
            <a:off x="4278960" y="4114800"/>
            <a:ext cx="4407840" cy="2066760"/>
            <a:chOff x="4278960" y="4114800"/>
            <a:chExt cx="4407840" cy="2066760"/>
          </a:xfrm>
        </p:grpSpPr>
        <p:pic>
          <p:nvPicPr>
            <p:cNvPr id="1010" name="F13.026C_W1241" descr=""/>
            <p:cNvPicPr/>
            <p:nvPr/>
          </p:nvPicPr>
          <p:blipFill>
            <a:blip r:embed="rId3"/>
            <a:stretch/>
          </p:blipFill>
          <p:spPr>
            <a:xfrm>
              <a:off x="5257800" y="4267080"/>
              <a:ext cx="342900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4278960" y="4114800"/>
              <a:ext cx="3707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playback filter canc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record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F13.027_W124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505400" cy="157140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2733840" y="58680"/>
            <a:ext cx="437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ing noise in a data transmi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438920" y="609480"/>
            <a:ext cx="223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bits at 1000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61920" y="515880"/>
            <a:ext cx="247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source is 100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66600" y="914400"/>
            <a:ext cx="444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Insert a second order 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in the path. Should not affect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and should attenuat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8800" y="2286000"/>
            <a:ext cx="4533840" cy="2295360"/>
            <a:chOff x="28800" y="2286000"/>
            <a:chExt cx="4533840" cy="2295360"/>
          </a:xfrm>
        </p:grpSpPr>
        <p:pic>
          <p:nvPicPr>
            <p:cNvPr id="1022" name="F13.028_W1243" descr=""/>
            <p:cNvPicPr/>
            <p:nvPr/>
          </p:nvPicPr>
          <p:blipFill>
            <a:blip r:embed="rId2"/>
            <a:stretch/>
          </p:blipFill>
          <p:spPr>
            <a:xfrm>
              <a:off x="152280" y="2286000"/>
              <a:ext cx="44103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28800" y="2558880"/>
              <a:ext cx="168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905120" y="3138480"/>
            <a:ext cx="914400" cy="809640"/>
            <a:chOff x="1905120" y="3138480"/>
            <a:chExt cx="914400" cy="809640"/>
          </a:xfrm>
        </p:grpSpPr>
        <mc:AlternateContent>
          <mc:Choice xmlns:a14="http://schemas.microsoft.com/office/drawing/2010/main" Requires="a14">
            <p:sp>
              <p:nvSpPr>
                <p:cNvPr id="1025" name=""/>
                <p:cNvSpPr txBox="1"/>
                <p:nvPr/>
              </p:nvSpPr>
              <p:spPr>
                <a:xfrm>
                  <a:off x="1905120" y="313848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6" name=""/>
                <p:cNvSpPr txBox="1"/>
                <p:nvPr/>
              </p:nvSpPr>
              <p:spPr>
                <a:xfrm>
                  <a:off x="2209680" y="365760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7" name=""/>
          <p:cNvGrpSpPr/>
          <p:nvPr/>
        </p:nvGrpSpPr>
        <p:grpSpPr>
          <a:xfrm>
            <a:off x="990720" y="2971800"/>
            <a:ext cx="1143000" cy="1295280"/>
            <a:chOff x="990720" y="2971800"/>
            <a:chExt cx="1143000" cy="1295280"/>
          </a:xfrm>
        </p:grpSpPr>
        <p:sp>
          <p:nvSpPr>
            <p:cNvPr id="1028" name=""/>
            <p:cNvSpPr/>
            <p:nvPr/>
          </p:nvSpPr>
          <p:spPr>
            <a:xfrm flipH="1">
              <a:off x="990720" y="373392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81080" y="3809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05120" y="365760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1752480" y="29718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152280" y="4572000"/>
                <a:ext cx="346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3" name=""/>
          <p:cNvGrpSpPr/>
          <p:nvPr/>
        </p:nvGrpSpPr>
        <p:grpSpPr>
          <a:xfrm>
            <a:off x="2513160" y="3352680"/>
            <a:ext cx="992160" cy="74880"/>
            <a:chOff x="2513160" y="3352680"/>
            <a:chExt cx="992160" cy="74880"/>
          </a:xfrm>
        </p:grpSpPr>
        <p:sp>
          <p:nvSpPr>
            <p:cNvPr id="1034" name=""/>
            <p:cNvSpPr/>
            <p:nvPr/>
          </p:nvSpPr>
          <p:spPr>
            <a:xfrm>
              <a:off x="2513160" y="342756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048120" y="3352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152280" y="5257800"/>
                <a:ext cx="158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4191120" y="2095560"/>
                <a:ext cx="4775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8" name=""/>
          <p:cNvGrpSpPr/>
          <p:nvPr/>
        </p:nvGrpSpPr>
        <p:grpSpPr>
          <a:xfrm>
            <a:off x="4916520" y="2676600"/>
            <a:ext cx="4213080" cy="1374840"/>
            <a:chOff x="4916520" y="2676600"/>
            <a:chExt cx="4213080" cy="1374840"/>
          </a:xfrm>
        </p:grpSpPr>
        <p:sp>
          <p:nvSpPr>
            <p:cNvPr id="1039" name=""/>
            <p:cNvSpPr/>
            <p:nvPr/>
          </p:nvSpPr>
          <p:spPr>
            <a:xfrm>
              <a:off x="4916520" y="2676600"/>
              <a:ext cx="4213080" cy="1374840"/>
            </a:xfrm>
            <a:custGeom>
              <a:avLst/>
              <a:gdLst/>
              <a:ahLst/>
              <a:rect l="l" t="t" r="r" b="b"/>
              <a:pathLst>
                <a:path w="2654" h="866">
                  <a:moveTo>
                    <a:pt x="2576" y="566"/>
                  </a:moveTo>
                  <a:cubicBezTo>
                    <a:pt x="2593" y="450"/>
                    <a:pt x="2606" y="339"/>
                    <a:pt x="2615" y="223"/>
                  </a:cubicBezTo>
                  <a:cubicBezTo>
                    <a:pt x="2612" y="158"/>
                    <a:pt x="2635" y="87"/>
                    <a:pt x="2607" y="28"/>
                  </a:cubicBezTo>
                  <a:cubicBezTo>
                    <a:pt x="2593" y="0"/>
                    <a:pt x="2545" y="14"/>
                    <a:pt x="2514" y="13"/>
                  </a:cubicBezTo>
                  <a:cubicBezTo>
                    <a:pt x="2452" y="11"/>
                    <a:pt x="2389" y="18"/>
                    <a:pt x="2327" y="21"/>
                  </a:cubicBezTo>
                  <a:cubicBezTo>
                    <a:pt x="2234" y="31"/>
                    <a:pt x="2152" y="47"/>
                    <a:pt x="2062" y="60"/>
                  </a:cubicBezTo>
                  <a:cubicBezTo>
                    <a:pt x="1980" y="72"/>
                    <a:pt x="1895" y="72"/>
                    <a:pt x="1812" y="83"/>
                  </a:cubicBezTo>
                  <a:cubicBezTo>
                    <a:pt x="1351" y="79"/>
                    <a:pt x="854" y="97"/>
                    <a:pt x="386" y="44"/>
                  </a:cubicBezTo>
                  <a:cubicBezTo>
                    <a:pt x="356" y="46"/>
                    <a:pt x="151" y="35"/>
                    <a:pt x="75" y="83"/>
                  </a:cubicBezTo>
                  <a:cubicBezTo>
                    <a:pt x="54" y="96"/>
                    <a:pt x="34" y="140"/>
                    <a:pt x="20" y="161"/>
                  </a:cubicBezTo>
                  <a:cubicBezTo>
                    <a:pt x="0" y="280"/>
                    <a:pt x="7" y="403"/>
                    <a:pt x="82" y="504"/>
                  </a:cubicBezTo>
                  <a:cubicBezTo>
                    <a:pt x="98" y="599"/>
                    <a:pt x="103" y="598"/>
                    <a:pt x="176" y="660"/>
                  </a:cubicBezTo>
                  <a:cubicBezTo>
                    <a:pt x="249" y="722"/>
                    <a:pt x="192" y="695"/>
                    <a:pt x="269" y="722"/>
                  </a:cubicBezTo>
                  <a:cubicBezTo>
                    <a:pt x="342" y="774"/>
                    <a:pt x="715" y="759"/>
                    <a:pt x="760" y="761"/>
                  </a:cubicBezTo>
                  <a:cubicBezTo>
                    <a:pt x="880" y="765"/>
                    <a:pt x="1119" y="777"/>
                    <a:pt x="1119" y="777"/>
                  </a:cubicBezTo>
                  <a:cubicBezTo>
                    <a:pt x="1510" y="774"/>
                    <a:pt x="2178" y="866"/>
                    <a:pt x="2638" y="706"/>
                  </a:cubicBezTo>
                  <a:cubicBezTo>
                    <a:pt x="2643" y="698"/>
                    <a:pt x="2654" y="692"/>
                    <a:pt x="2654" y="683"/>
                  </a:cubicBezTo>
                  <a:cubicBezTo>
                    <a:pt x="2654" y="654"/>
                    <a:pt x="2634" y="537"/>
                    <a:pt x="2576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5562720" y="3505320"/>
                  <a:ext cx="147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1" name=""/>
          <p:cNvGrpSpPr/>
          <p:nvPr/>
        </p:nvGrpSpPr>
        <p:grpSpPr>
          <a:xfrm>
            <a:off x="3607560" y="4925880"/>
            <a:ext cx="5050800" cy="1931760"/>
            <a:chOff x="3607560" y="4925880"/>
            <a:chExt cx="5050800" cy="1931760"/>
          </a:xfrm>
        </p:grpSpPr>
        <p:grpSp>
          <p:nvGrpSpPr>
            <p:cNvPr id="1042" name=""/>
            <p:cNvGrpSpPr/>
            <p:nvPr/>
          </p:nvGrpSpPr>
          <p:grpSpPr>
            <a:xfrm>
              <a:off x="3607560" y="4925880"/>
              <a:ext cx="5050800" cy="1931760"/>
              <a:chOff x="3607560" y="4925880"/>
              <a:chExt cx="5050800" cy="1931760"/>
            </a:xfrm>
          </p:grpSpPr>
          <p:pic>
            <p:nvPicPr>
              <p:cNvPr id="1043" name="F13.029_W1244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4943160"/>
                <a:ext cx="3629160" cy="1914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4" name=""/>
              <p:cNvGrpSpPr/>
              <p:nvPr/>
            </p:nvGrpSpPr>
            <p:grpSpPr>
              <a:xfrm>
                <a:off x="6816600" y="5611680"/>
                <a:ext cx="1838160" cy="579240"/>
                <a:chOff x="6816600" y="5611680"/>
                <a:chExt cx="1838160" cy="57924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816600" y="5705280"/>
                  <a:ext cx="408240" cy="485640"/>
                </a:xfrm>
                <a:custGeom>
                  <a:avLst/>
                  <a:gdLst/>
                  <a:ahLst/>
                  <a:rect l="l" t="t" r="r" b="b"/>
                  <a:pathLst>
                    <a:path w="257" h="306">
                      <a:moveTo>
                        <a:pt x="257" y="90"/>
                      </a:moveTo>
                      <a:cubicBezTo>
                        <a:pt x="86" y="0"/>
                        <a:pt x="164" y="18"/>
                        <a:pt x="31" y="4"/>
                      </a:cubicBezTo>
                      <a:cubicBezTo>
                        <a:pt x="16" y="76"/>
                        <a:pt x="8" y="149"/>
                        <a:pt x="0" y="222"/>
                      </a:cubicBezTo>
                      <a:cubicBezTo>
                        <a:pt x="84" y="279"/>
                        <a:pt x="105" y="306"/>
                        <a:pt x="195" y="261"/>
                      </a:cubicBezTo>
                      <a:cubicBezTo>
                        <a:pt x="232" y="211"/>
                        <a:pt x="213" y="247"/>
                        <a:pt x="226" y="168"/>
                      </a:cubicBezTo>
                      <a:cubicBezTo>
                        <a:pt x="228" y="158"/>
                        <a:pt x="233" y="137"/>
                        <a:pt x="233" y="137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331040" y="5611680"/>
                  <a:ext cx="1323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937120" y="4925880"/>
                <a:ext cx="2224800" cy="662040"/>
                <a:chOff x="5937120" y="4925880"/>
                <a:chExt cx="2224800" cy="66204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937120" y="5151240"/>
                  <a:ext cx="420840" cy="43668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158"/>
                      </a:moveTo>
                      <a:cubicBezTo>
                        <a:pt x="163" y="75"/>
                        <a:pt x="143" y="0"/>
                        <a:pt x="16" y="104"/>
                      </a:cubicBezTo>
                      <a:cubicBezTo>
                        <a:pt x="0" y="117"/>
                        <a:pt x="11" y="145"/>
                        <a:pt x="8" y="166"/>
                      </a:cubicBezTo>
                      <a:cubicBezTo>
                        <a:pt x="11" y="189"/>
                        <a:pt x="8" y="214"/>
                        <a:pt x="16" y="236"/>
                      </a:cubicBezTo>
                      <a:cubicBezTo>
                        <a:pt x="23" y="255"/>
                        <a:pt x="99" y="269"/>
                        <a:pt x="117" y="275"/>
                      </a:cubicBezTo>
                      <a:cubicBezTo>
                        <a:pt x="140" y="272"/>
                        <a:pt x="165" y="274"/>
                        <a:pt x="187" y="267"/>
                      </a:cubicBezTo>
                      <a:cubicBezTo>
                        <a:pt x="206" y="261"/>
                        <a:pt x="216" y="237"/>
                        <a:pt x="234" y="228"/>
                      </a:cubicBezTo>
                      <a:cubicBezTo>
                        <a:pt x="261" y="215"/>
                        <a:pt x="258" y="231"/>
                        <a:pt x="258" y="213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350400" y="4925880"/>
                  <a:ext cx="1811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Well 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bove 1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>
                <a:off x="3607560" y="5553000"/>
                <a:ext cx="1442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 desi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rit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1" name=""/>
                <p:cNvSpPr txBox="1"/>
                <p:nvPr/>
              </p:nvSpPr>
              <p:spPr>
                <a:xfrm>
                  <a:off x="5867280" y="593388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2" name=""/>
          <p:cNvGrpSpPr/>
          <p:nvPr/>
        </p:nvGrpSpPr>
        <p:grpSpPr>
          <a:xfrm>
            <a:off x="4724280" y="3962520"/>
            <a:ext cx="3924360" cy="929160"/>
            <a:chOff x="4724280" y="3962520"/>
            <a:chExt cx="3924360" cy="929160"/>
          </a:xfrm>
        </p:grpSpPr>
        <mc:AlternateContent>
          <mc:Choice xmlns:a14="http://schemas.microsoft.com/office/drawing/2010/main" Requires="a14">
            <p:sp>
              <p:nvSpPr>
                <p:cNvPr id="1053" name=""/>
                <p:cNvSpPr txBox="1"/>
                <p:nvPr/>
              </p:nvSpPr>
              <p:spPr>
                <a:xfrm>
                  <a:off x="4724280" y="3962520"/>
                  <a:ext cx="39243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ς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54" name=""/>
            <p:cNvSpPr/>
            <p:nvPr/>
          </p:nvSpPr>
          <p:spPr>
            <a:xfrm>
              <a:off x="4760280" y="4554360"/>
              <a:ext cx="193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204840" y="152280"/>
            <a:ext cx="3925800" cy="1590480"/>
            <a:chOff x="204840" y="152280"/>
            <a:chExt cx="3925800" cy="1590480"/>
          </a:xfrm>
        </p:grpSpPr>
        <p:pic>
          <p:nvPicPr>
            <p:cNvPr id="1059" name="F13.030_W1245" descr=""/>
            <p:cNvPicPr/>
            <p:nvPr/>
          </p:nvPicPr>
          <p:blipFill>
            <a:blip r:embed="rId1"/>
            <a:stretch/>
          </p:blipFill>
          <p:spPr>
            <a:xfrm>
              <a:off x="473040" y="15228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04840" y="210960"/>
              <a:ext cx="3225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ed pole location o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52280" y="1523880"/>
                <a:ext cx="367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design equations </m:t>
                        </m:r>
                        <m:r>
                          <m:rPr>
                            <m:lit/>
                            <m:nor/>
                          </m:rPr>
                          <m:t xml:space="preserve">and determine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76320" y="2652840"/>
            <a:ext cx="4562280" cy="3672360"/>
            <a:chOff x="76320" y="2652840"/>
            <a:chExt cx="4562280" cy="3672360"/>
          </a:xfrm>
        </p:grpSpPr>
        <p:pic>
          <p:nvPicPr>
            <p:cNvPr id="1063" name="F13.031_W1246" descr=""/>
            <p:cNvPicPr/>
            <p:nvPr/>
          </p:nvPicPr>
          <p:blipFill>
            <a:blip r:embed="rId2"/>
            <a:stretch/>
          </p:blipFill>
          <p:spPr>
            <a:xfrm>
              <a:off x="76320" y="2652840"/>
              <a:ext cx="4562280" cy="33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407160" y="5987880"/>
              <a:ext cx="294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simulating the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0" y="3809880"/>
            <a:ext cx="1219320" cy="700920"/>
            <a:chOff x="0" y="3809880"/>
            <a:chExt cx="1219320" cy="700920"/>
          </a:xfrm>
        </p:grpSpPr>
        <p:sp>
          <p:nvSpPr>
            <p:cNvPr id="1066" name=""/>
            <p:cNvSpPr/>
            <p:nvPr/>
          </p:nvSpPr>
          <p:spPr>
            <a:xfrm>
              <a:off x="317880" y="41734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3809880"/>
              <a:ext cx="12193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4495680" y="0"/>
            <a:ext cx="4419720" cy="3187800"/>
            <a:chOff x="4495680" y="0"/>
            <a:chExt cx="4419720" cy="3187800"/>
          </a:xfrm>
        </p:grpSpPr>
        <p:pic>
          <p:nvPicPr>
            <p:cNvPr id="1069" name="F13.032_W1247" descr=""/>
            <p:cNvPicPr/>
            <p:nvPr/>
          </p:nvPicPr>
          <p:blipFill>
            <a:blip r:embed="rId3"/>
            <a:stretch/>
          </p:blipFill>
          <p:spPr>
            <a:xfrm>
              <a:off x="4495680" y="0"/>
              <a:ext cx="4419720" cy="3187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6553080" y="1066680"/>
                  <a:ext cx="1155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1" name=""/>
          <p:cNvGrpSpPr/>
          <p:nvPr/>
        </p:nvGrpSpPr>
        <p:grpSpPr>
          <a:xfrm>
            <a:off x="4416480" y="2189160"/>
            <a:ext cx="2966400" cy="1591920"/>
            <a:chOff x="4416480" y="2189160"/>
            <a:chExt cx="2966400" cy="1591920"/>
          </a:xfrm>
        </p:grpSpPr>
        <p:sp>
          <p:nvSpPr>
            <p:cNvPr id="1072" name=""/>
            <p:cNvSpPr/>
            <p:nvPr/>
          </p:nvSpPr>
          <p:spPr>
            <a:xfrm>
              <a:off x="4416480" y="2189160"/>
              <a:ext cx="1474560" cy="719280"/>
            </a:xfrm>
            <a:custGeom>
              <a:avLst/>
              <a:gdLst/>
              <a:ahLst/>
              <a:rect l="l" t="t" r="r" b="b"/>
              <a:pathLst>
                <a:path w="929" h="453">
                  <a:moveTo>
                    <a:pt x="70" y="47"/>
                  </a:moveTo>
                  <a:cubicBezTo>
                    <a:pt x="10" y="117"/>
                    <a:pt x="11" y="137"/>
                    <a:pt x="0" y="226"/>
                  </a:cubicBezTo>
                  <a:cubicBezTo>
                    <a:pt x="1" y="231"/>
                    <a:pt x="23" y="323"/>
                    <a:pt x="31" y="335"/>
                  </a:cubicBezTo>
                  <a:cubicBezTo>
                    <a:pt x="110" y="453"/>
                    <a:pt x="313" y="423"/>
                    <a:pt x="429" y="429"/>
                  </a:cubicBezTo>
                  <a:cubicBezTo>
                    <a:pt x="586" y="420"/>
                    <a:pt x="718" y="420"/>
                    <a:pt x="865" y="382"/>
                  </a:cubicBezTo>
                  <a:cubicBezTo>
                    <a:pt x="903" y="307"/>
                    <a:pt x="929" y="230"/>
                    <a:pt x="896" y="141"/>
                  </a:cubicBezTo>
                  <a:cubicBezTo>
                    <a:pt x="890" y="125"/>
                    <a:pt x="863" y="133"/>
                    <a:pt x="849" y="125"/>
                  </a:cubicBezTo>
                  <a:cubicBezTo>
                    <a:pt x="764" y="78"/>
                    <a:pt x="699" y="17"/>
                    <a:pt x="600" y="0"/>
                  </a:cubicBezTo>
                  <a:cubicBezTo>
                    <a:pt x="480" y="3"/>
                    <a:pt x="331" y="16"/>
                    <a:pt x="203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503240" y="3200400"/>
              <a:ext cx="287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ilter eliminates noi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smooths data 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038480" y="3733920"/>
            <a:ext cx="5159160" cy="3085920"/>
            <a:chOff x="4038480" y="3733920"/>
            <a:chExt cx="5159160" cy="3085920"/>
          </a:xfrm>
        </p:grpSpPr>
        <p:grpSp>
          <p:nvGrpSpPr>
            <p:cNvPr id="1075" name=""/>
            <p:cNvGrpSpPr/>
            <p:nvPr/>
          </p:nvGrpSpPr>
          <p:grpSpPr>
            <a:xfrm>
              <a:off x="4038480" y="3733920"/>
              <a:ext cx="5078880" cy="3085920"/>
              <a:chOff x="4038480" y="3733920"/>
              <a:chExt cx="5078880" cy="3085920"/>
            </a:xfrm>
          </p:grpSpPr>
          <p:pic>
            <p:nvPicPr>
              <p:cNvPr id="1076" name="F13.034_W1249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8480" y="3733920"/>
                <a:ext cx="458172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>
                <a:off x="7545240" y="3868560"/>
                <a:ext cx="1572120" cy="8240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5kb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ata transf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7570800" y="4935600"/>
              <a:ext cx="1626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s use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85160" y="5492880"/>
              <a:ext cx="1796760" cy="569880"/>
            </a:xfrm>
            <a:custGeom>
              <a:avLst/>
              <a:gdLst/>
              <a:ahLst/>
              <a:rect l="l" t="t" r="r" b="b"/>
              <a:pathLst>
                <a:path w="1132" h="359">
                  <a:moveTo>
                    <a:pt x="1132" y="0"/>
                  </a:moveTo>
                  <a:cubicBezTo>
                    <a:pt x="908" y="11"/>
                    <a:pt x="687" y="42"/>
                    <a:pt x="462" y="55"/>
                  </a:cubicBezTo>
                  <a:cubicBezTo>
                    <a:pt x="446" y="57"/>
                    <a:pt x="273" y="75"/>
                    <a:pt x="244" y="86"/>
                  </a:cubicBezTo>
                  <a:cubicBezTo>
                    <a:pt x="235" y="89"/>
                    <a:pt x="235" y="103"/>
                    <a:pt x="228" y="109"/>
                  </a:cubicBezTo>
                  <a:cubicBezTo>
                    <a:pt x="0" y="317"/>
                    <a:pt x="285" y="37"/>
                    <a:pt x="88" y="234"/>
                  </a:cubicBezTo>
                  <a:cubicBezTo>
                    <a:pt x="70" y="275"/>
                    <a:pt x="69" y="305"/>
                    <a:pt x="33" y="327"/>
                  </a:cubicBezTo>
                  <a:cubicBezTo>
                    <a:pt x="15" y="356"/>
                    <a:pt x="26" y="347"/>
                    <a:pt x="2" y="35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7767000" y="5850000"/>
            <a:ext cx="124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ESIG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304920" y="287280"/>
            <a:ext cx="3819240" cy="2075040"/>
            <a:chOff x="304920" y="287280"/>
            <a:chExt cx="3819240" cy="2075040"/>
          </a:xfrm>
        </p:grpSpPr>
        <p:sp>
          <p:nvSpPr>
            <p:cNvPr id="1085" name=""/>
            <p:cNvSpPr/>
            <p:nvPr/>
          </p:nvSpPr>
          <p:spPr>
            <a:xfrm>
              <a:off x="328320" y="28728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ole-zero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6" name="F13.035_W1249A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3819240" cy="1524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2971800" y="30492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8" name=""/>
          <p:cNvGrpSpPr/>
          <p:nvPr/>
        </p:nvGrpSpPr>
        <p:grpSpPr>
          <a:xfrm>
            <a:off x="152280" y="2801880"/>
            <a:ext cx="4543560" cy="3608280"/>
            <a:chOff x="152280" y="2801880"/>
            <a:chExt cx="4543560" cy="3608280"/>
          </a:xfrm>
        </p:grpSpPr>
        <p:pic>
          <p:nvPicPr>
            <p:cNvPr id="1089" name="F13.036_W1250" descr=""/>
            <p:cNvPicPr/>
            <p:nvPr/>
          </p:nvPicPr>
          <p:blipFill>
            <a:blip r:embed="rId2"/>
            <a:stretch/>
          </p:blipFill>
          <p:spPr>
            <a:xfrm>
              <a:off x="152280" y="3200400"/>
              <a:ext cx="45435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725400" y="280188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ulation for 25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4800600" y="380880"/>
                <a:ext cx="2743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7560000" y="5710320"/>
            <a:ext cx="1521720" cy="1143000"/>
            <a:chOff x="7560000" y="5710320"/>
            <a:chExt cx="1521720" cy="1143000"/>
          </a:xfrm>
        </p:grpSpPr>
        <p:pic>
          <p:nvPicPr>
            <p:cNvPr id="1094" name="stop" descr=""/>
            <p:cNvPicPr/>
            <p:nvPr/>
          </p:nvPicPr>
          <p:blipFill>
            <a:blip r:embed="rId3"/>
            <a:stretch/>
          </p:blipFill>
          <p:spPr>
            <a:xfrm>
              <a:off x="7968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7560000" y="5710320"/>
              <a:ext cx="152172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6240" y="58680"/>
            <a:ext cx="205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: Mod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533520"/>
          <a:ext cx="52578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52578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13372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2057400"/>
                <a:ext cx="2171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0" y="3124080"/>
            <a:ext cx="5638680" cy="1708200"/>
            <a:chOff x="0" y="3124080"/>
            <a:chExt cx="5638680" cy="1708200"/>
          </a:xfrm>
        </p:grpSpPr>
        <p:graphicFrame>
          <p:nvGraphicFramePr>
            <p:cNvPr id="135" name=""/>
            <p:cNvGraphicFramePr/>
            <p:nvPr/>
          </p:nvGraphicFramePr>
          <p:xfrm>
            <a:off x="0" y="3500280"/>
            <a:ext cx="5638680" cy="13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00280"/>
                      <a:ext cx="5638680" cy="13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5760" y="312408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: Mod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320" y="4952880"/>
                <a:ext cx="2171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72000" y="2286000"/>
                <a:ext cx="430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7040" y="4876920"/>
                <a:ext cx="2082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604680" y="76320"/>
            <a:ext cx="2477520" cy="2058840"/>
            <a:chOff x="3604680" y="76320"/>
            <a:chExt cx="2477520" cy="2058840"/>
          </a:xfrm>
        </p:grpSpPr>
        <p:sp>
          <p:nvSpPr>
            <p:cNvPr id="142" name=""/>
            <p:cNvSpPr/>
            <p:nvPr/>
          </p:nvSpPr>
          <p:spPr>
            <a:xfrm>
              <a:off x="4113360" y="382680"/>
              <a:ext cx="129528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4680" y="76320"/>
              <a:ext cx="247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29320" y="685800"/>
            <a:ext cx="1825560" cy="3532320"/>
            <a:chOff x="5629320" y="685800"/>
            <a:chExt cx="1825560" cy="35323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715000" y="685800"/>
                  <a:ext cx="17398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s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629320" y="1830240"/>
              <a:ext cx="1249200" cy="2387880"/>
            </a:xfrm>
            <a:custGeom>
              <a:avLst/>
              <a:gdLst/>
              <a:ahLst/>
              <a:rect l="l" t="t" r="r" b="b"/>
              <a:pathLst>
                <a:path w="787" h="1504">
                  <a:moveTo>
                    <a:pt x="787" y="0"/>
                  </a:moveTo>
                  <a:cubicBezTo>
                    <a:pt x="784" y="301"/>
                    <a:pt x="784" y="603"/>
                    <a:pt x="779" y="904"/>
                  </a:cubicBezTo>
                  <a:cubicBezTo>
                    <a:pt x="777" y="1013"/>
                    <a:pt x="755" y="1126"/>
                    <a:pt x="732" y="1232"/>
                  </a:cubicBezTo>
                  <a:cubicBezTo>
                    <a:pt x="721" y="1284"/>
                    <a:pt x="711" y="1336"/>
                    <a:pt x="701" y="1388"/>
                  </a:cubicBezTo>
                  <a:cubicBezTo>
                    <a:pt x="698" y="1404"/>
                    <a:pt x="699" y="1426"/>
                    <a:pt x="685" y="1434"/>
                  </a:cubicBezTo>
                  <a:cubicBezTo>
                    <a:pt x="588" y="1485"/>
                    <a:pt x="400" y="1474"/>
                    <a:pt x="296" y="1481"/>
                  </a:cubicBezTo>
                  <a:cubicBezTo>
                    <a:pt x="193" y="1498"/>
                    <a:pt x="106" y="1504"/>
                    <a:pt x="0" y="150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44040" y="2725560"/>
            <a:ext cx="2387520" cy="3247920"/>
            <a:chOff x="2444040" y="2725560"/>
            <a:chExt cx="2387520" cy="3247920"/>
          </a:xfrm>
        </p:grpSpPr>
        <p:sp>
          <p:nvSpPr>
            <p:cNvPr id="148" name=""/>
            <p:cNvSpPr/>
            <p:nvPr/>
          </p:nvSpPr>
          <p:spPr>
            <a:xfrm>
              <a:off x="2528280" y="2725560"/>
              <a:ext cx="2212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4040" y="5392800"/>
              <a:ext cx="2387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curr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76320"/>
                <a:ext cx="1790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1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000" y="76320"/>
            <a:ext cx="1841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57200"/>
          <a:ext cx="2516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2516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920" y="23623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19520" y="685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92160" y="2895480"/>
                <a:ext cx="1702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533520" y="3809880"/>
            <a:ext cx="7334280" cy="2387880"/>
            <a:chOff x="533520" y="3809880"/>
            <a:chExt cx="7334280" cy="2387880"/>
          </a:xfrm>
        </p:grpSpPr>
        <p:graphicFrame>
          <p:nvGraphicFramePr>
            <p:cNvPr id="161" name=""/>
            <p:cNvGraphicFramePr/>
            <p:nvPr/>
          </p:nvGraphicFramePr>
          <p:xfrm>
            <a:off x="533520" y="3809880"/>
            <a:ext cx="7334280" cy="190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809880"/>
                      <a:ext cx="733428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105520" y="5638680"/>
                  <a:ext cx="1701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990720" y="5715000"/>
                  <a:ext cx="2019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s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7520" y="2781360"/>
                <a:ext cx="410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213120" y="135000"/>
            <a:ext cx="210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320" y="533520"/>
          <a:ext cx="4800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800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0666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849320" y="2585880"/>
            <a:ext cx="7194960" cy="538200"/>
            <a:chOff x="1849320" y="2585880"/>
            <a:chExt cx="7194960" cy="538200"/>
          </a:xfrm>
        </p:grpSpPr>
        <p:sp>
          <p:nvSpPr>
            <p:cNvPr id="174" name=""/>
            <p:cNvSpPr/>
            <p:nvPr/>
          </p:nvSpPr>
          <p:spPr>
            <a:xfrm>
              <a:off x="1849320" y="2585880"/>
              <a:ext cx="2560680" cy="538200"/>
            </a:xfrm>
            <a:custGeom>
              <a:avLst/>
              <a:gdLst/>
              <a:ahLst/>
              <a:rect l="l" t="t" r="r" b="b"/>
              <a:pathLst>
                <a:path w="1613" h="339">
                  <a:moveTo>
                    <a:pt x="374" y="0"/>
                  </a:moveTo>
                  <a:cubicBezTo>
                    <a:pt x="381" y="73"/>
                    <a:pt x="398" y="142"/>
                    <a:pt x="421" y="211"/>
                  </a:cubicBezTo>
                  <a:cubicBezTo>
                    <a:pt x="403" y="263"/>
                    <a:pt x="320" y="268"/>
                    <a:pt x="273" y="273"/>
                  </a:cubicBezTo>
                  <a:cubicBezTo>
                    <a:pt x="242" y="281"/>
                    <a:pt x="217" y="294"/>
                    <a:pt x="187" y="304"/>
                  </a:cubicBezTo>
                  <a:cubicBezTo>
                    <a:pt x="26" y="296"/>
                    <a:pt x="40" y="339"/>
                    <a:pt x="15" y="242"/>
                  </a:cubicBezTo>
                  <a:cubicBezTo>
                    <a:pt x="9" y="197"/>
                    <a:pt x="0" y="154"/>
                    <a:pt x="15" y="109"/>
                  </a:cubicBezTo>
                  <a:cubicBezTo>
                    <a:pt x="18" y="100"/>
                    <a:pt x="76" y="67"/>
                    <a:pt x="86" y="63"/>
                  </a:cubicBezTo>
                  <a:cubicBezTo>
                    <a:pt x="178" y="25"/>
                    <a:pt x="301" y="30"/>
                    <a:pt x="397" y="24"/>
                  </a:cubicBezTo>
                  <a:cubicBezTo>
                    <a:pt x="766" y="26"/>
                    <a:pt x="1135" y="24"/>
                    <a:pt x="1504" y="31"/>
                  </a:cubicBezTo>
                  <a:cubicBezTo>
                    <a:pt x="1525" y="31"/>
                    <a:pt x="1548" y="35"/>
                    <a:pt x="1566" y="47"/>
                  </a:cubicBezTo>
                  <a:cubicBezTo>
                    <a:pt x="1571" y="50"/>
                    <a:pt x="1606" y="177"/>
                    <a:pt x="1613" y="203"/>
                  </a:cubicBezTo>
                  <a:cubicBezTo>
                    <a:pt x="1610" y="224"/>
                    <a:pt x="1613" y="246"/>
                    <a:pt x="1605" y="265"/>
                  </a:cubicBezTo>
                  <a:cubicBezTo>
                    <a:pt x="1600" y="277"/>
                    <a:pt x="1568" y="286"/>
                    <a:pt x="1558" y="289"/>
                  </a:cubicBezTo>
                  <a:cubicBezTo>
                    <a:pt x="1504" y="304"/>
                    <a:pt x="1458" y="320"/>
                    <a:pt x="1403" y="327"/>
                  </a:cubicBezTo>
                  <a:cubicBezTo>
                    <a:pt x="1251" y="320"/>
                    <a:pt x="1245" y="338"/>
                    <a:pt x="1153" y="250"/>
                  </a:cubicBezTo>
                  <a:cubicBezTo>
                    <a:pt x="1138" y="204"/>
                    <a:pt x="1138" y="176"/>
                    <a:pt x="1138" y="1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4840" y="2598480"/>
              <a:ext cx="460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bine into a single source in the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28880" y="3043080"/>
            <a:ext cx="5871960" cy="714600"/>
            <a:chOff x="1928880" y="3043080"/>
            <a:chExt cx="5871960" cy="714600"/>
          </a:xfrm>
        </p:grpSpPr>
        <p:sp>
          <p:nvSpPr>
            <p:cNvPr id="177" name=""/>
            <p:cNvSpPr/>
            <p:nvPr/>
          </p:nvSpPr>
          <p:spPr>
            <a:xfrm>
              <a:off x="1928880" y="3043080"/>
              <a:ext cx="2527200" cy="714600"/>
            </a:xfrm>
            <a:custGeom>
              <a:avLst/>
              <a:gdLst/>
              <a:ahLst/>
              <a:rect l="l" t="t" r="r" b="b"/>
              <a:pathLst>
                <a:path w="1592" h="450">
                  <a:moveTo>
                    <a:pt x="445" y="211"/>
                  </a:moveTo>
                  <a:cubicBezTo>
                    <a:pt x="451" y="176"/>
                    <a:pt x="465" y="117"/>
                    <a:pt x="445" y="86"/>
                  </a:cubicBezTo>
                  <a:cubicBezTo>
                    <a:pt x="405" y="24"/>
                    <a:pt x="306" y="15"/>
                    <a:pt x="242" y="0"/>
                  </a:cubicBezTo>
                  <a:cubicBezTo>
                    <a:pt x="198" y="3"/>
                    <a:pt x="154" y="3"/>
                    <a:pt x="110" y="8"/>
                  </a:cubicBezTo>
                  <a:cubicBezTo>
                    <a:pt x="91" y="10"/>
                    <a:pt x="68" y="9"/>
                    <a:pt x="55" y="23"/>
                  </a:cubicBezTo>
                  <a:cubicBezTo>
                    <a:pt x="41" y="39"/>
                    <a:pt x="11" y="124"/>
                    <a:pt x="1" y="156"/>
                  </a:cubicBezTo>
                  <a:cubicBezTo>
                    <a:pt x="3" y="174"/>
                    <a:pt x="0" y="194"/>
                    <a:pt x="8" y="211"/>
                  </a:cubicBezTo>
                  <a:cubicBezTo>
                    <a:pt x="35" y="271"/>
                    <a:pt x="154" y="266"/>
                    <a:pt x="203" y="273"/>
                  </a:cubicBezTo>
                  <a:cubicBezTo>
                    <a:pt x="274" y="268"/>
                    <a:pt x="332" y="262"/>
                    <a:pt x="398" y="242"/>
                  </a:cubicBezTo>
                  <a:cubicBezTo>
                    <a:pt x="475" y="373"/>
                    <a:pt x="347" y="170"/>
                    <a:pt x="476" y="312"/>
                  </a:cubicBezTo>
                  <a:cubicBezTo>
                    <a:pt x="487" y="324"/>
                    <a:pt x="480" y="347"/>
                    <a:pt x="492" y="359"/>
                  </a:cubicBezTo>
                  <a:cubicBezTo>
                    <a:pt x="583" y="450"/>
                    <a:pt x="763" y="425"/>
                    <a:pt x="881" y="437"/>
                  </a:cubicBezTo>
                  <a:cubicBezTo>
                    <a:pt x="1043" y="428"/>
                    <a:pt x="1203" y="410"/>
                    <a:pt x="1364" y="398"/>
                  </a:cubicBezTo>
                  <a:cubicBezTo>
                    <a:pt x="1428" y="382"/>
                    <a:pt x="1486" y="363"/>
                    <a:pt x="1551" y="351"/>
                  </a:cubicBezTo>
                  <a:cubicBezTo>
                    <a:pt x="1583" y="330"/>
                    <a:pt x="1588" y="334"/>
                    <a:pt x="1590" y="281"/>
                  </a:cubicBezTo>
                  <a:cubicBezTo>
                    <a:pt x="1592" y="237"/>
                    <a:pt x="1589" y="192"/>
                    <a:pt x="1583" y="148"/>
                  </a:cubicBezTo>
                  <a:cubicBezTo>
                    <a:pt x="1578" y="117"/>
                    <a:pt x="1547" y="93"/>
                    <a:pt x="1520" y="78"/>
                  </a:cubicBezTo>
                  <a:cubicBezTo>
                    <a:pt x="1456" y="43"/>
                    <a:pt x="1372" y="30"/>
                    <a:pt x="1302" y="8"/>
                  </a:cubicBezTo>
                  <a:cubicBezTo>
                    <a:pt x="1260" y="13"/>
                    <a:pt x="1218" y="14"/>
                    <a:pt x="1177" y="23"/>
                  </a:cubicBezTo>
                  <a:cubicBezTo>
                    <a:pt x="1121" y="35"/>
                    <a:pt x="1123" y="123"/>
                    <a:pt x="1107" y="172"/>
                  </a:cubicBezTo>
                  <a:cubicBezTo>
                    <a:pt x="1117" y="293"/>
                    <a:pt x="1096" y="238"/>
                    <a:pt x="1162" y="327"/>
                  </a:cubicBezTo>
                  <a:cubicBezTo>
                    <a:pt x="1190" y="364"/>
                    <a:pt x="1174" y="350"/>
                    <a:pt x="1193" y="36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9960" y="3060720"/>
              <a:ext cx="3260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source in the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152280" y="4114800"/>
          <a:ext cx="545148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14800"/>
                    <a:ext cx="545148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66600" y="2533680"/>
            <a:ext cx="4838760" cy="1712880"/>
            <a:chOff x="66600" y="2533680"/>
            <a:chExt cx="4838760" cy="1712880"/>
          </a:xfrm>
        </p:grpSpPr>
        <p:sp>
          <p:nvSpPr>
            <p:cNvPr id="182" name=""/>
            <p:cNvSpPr/>
            <p:nvPr/>
          </p:nvSpPr>
          <p:spPr>
            <a:xfrm>
              <a:off x="66600" y="2533680"/>
              <a:ext cx="2024280" cy="1712880"/>
            </a:xfrm>
            <a:custGeom>
              <a:avLst/>
              <a:gdLst/>
              <a:ahLst/>
              <a:rect l="l" t="t" r="r" b="b"/>
              <a:pathLst>
                <a:path w="1275" h="1079">
                  <a:moveTo>
                    <a:pt x="1275" y="87"/>
                  </a:moveTo>
                  <a:cubicBezTo>
                    <a:pt x="1170" y="6"/>
                    <a:pt x="1136" y="18"/>
                    <a:pt x="1010" y="2"/>
                  </a:cubicBezTo>
                  <a:cubicBezTo>
                    <a:pt x="615" y="6"/>
                    <a:pt x="431" y="0"/>
                    <a:pt x="114" y="41"/>
                  </a:cubicBezTo>
                  <a:cubicBezTo>
                    <a:pt x="74" y="66"/>
                    <a:pt x="49" y="101"/>
                    <a:pt x="28" y="142"/>
                  </a:cubicBezTo>
                  <a:cubicBezTo>
                    <a:pt x="0" y="362"/>
                    <a:pt x="15" y="388"/>
                    <a:pt x="59" y="719"/>
                  </a:cubicBezTo>
                  <a:cubicBezTo>
                    <a:pt x="68" y="789"/>
                    <a:pt x="77" y="779"/>
                    <a:pt x="129" y="796"/>
                  </a:cubicBezTo>
                  <a:cubicBezTo>
                    <a:pt x="164" y="831"/>
                    <a:pt x="151" y="824"/>
                    <a:pt x="215" y="843"/>
                  </a:cubicBezTo>
                  <a:cubicBezTo>
                    <a:pt x="256" y="855"/>
                    <a:pt x="340" y="874"/>
                    <a:pt x="340" y="874"/>
                  </a:cubicBezTo>
                  <a:cubicBezTo>
                    <a:pt x="443" y="946"/>
                    <a:pt x="547" y="973"/>
                    <a:pt x="667" y="999"/>
                  </a:cubicBezTo>
                  <a:cubicBezTo>
                    <a:pt x="719" y="1034"/>
                    <a:pt x="770" y="1059"/>
                    <a:pt x="831" y="1069"/>
                  </a:cubicBezTo>
                  <a:cubicBezTo>
                    <a:pt x="859" y="1079"/>
                    <a:pt x="846" y="1077"/>
                    <a:pt x="870" y="107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9200" y="3551400"/>
              <a:ext cx="1046160" cy="604800"/>
            </a:xfrm>
            <a:custGeom>
              <a:avLst/>
              <a:gdLst/>
              <a:ahLst/>
              <a:rect l="l" t="t" r="r" b="b"/>
              <a:pathLst>
                <a:path w="659" h="381">
                  <a:moveTo>
                    <a:pt x="390" y="0"/>
                  </a:moveTo>
                  <a:cubicBezTo>
                    <a:pt x="485" y="10"/>
                    <a:pt x="546" y="18"/>
                    <a:pt x="631" y="46"/>
                  </a:cubicBezTo>
                  <a:cubicBezTo>
                    <a:pt x="659" y="101"/>
                    <a:pt x="656" y="72"/>
                    <a:pt x="593" y="140"/>
                  </a:cubicBezTo>
                  <a:cubicBezTo>
                    <a:pt x="583" y="151"/>
                    <a:pt x="574" y="164"/>
                    <a:pt x="561" y="171"/>
                  </a:cubicBezTo>
                  <a:cubicBezTo>
                    <a:pt x="542" y="181"/>
                    <a:pt x="519" y="180"/>
                    <a:pt x="499" y="187"/>
                  </a:cubicBezTo>
                  <a:cubicBezTo>
                    <a:pt x="375" y="228"/>
                    <a:pt x="238" y="241"/>
                    <a:pt x="109" y="272"/>
                  </a:cubicBezTo>
                  <a:cubicBezTo>
                    <a:pt x="84" y="289"/>
                    <a:pt x="64" y="310"/>
                    <a:pt x="39" y="327"/>
                  </a:cubicBezTo>
                  <a:cubicBezTo>
                    <a:pt x="30" y="352"/>
                    <a:pt x="25" y="370"/>
                    <a:pt x="0" y="3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D13.002A_W1209" descr=""/>
          <p:cNvPicPr/>
          <p:nvPr/>
        </p:nvPicPr>
        <p:blipFill>
          <a:blip r:embed="rId1"/>
          <a:stretch/>
        </p:blipFill>
        <p:spPr>
          <a:xfrm>
            <a:off x="152280" y="1100160"/>
            <a:ext cx="29718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981080" y="1023840"/>
            <a:ext cx="862200" cy="457200"/>
            <a:chOff x="1981080" y="1023840"/>
            <a:chExt cx="862200" cy="457200"/>
          </a:xfrm>
        </p:grpSpPr>
        <p:sp>
          <p:nvSpPr>
            <p:cNvPr id="190" name=""/>
            <p:cNvSpPr/>
            <p:nvPr/>
          </p:nvSpPr>
          <p:spPr>
            <a:xfrm>
              <a:off x="1981080" y="148104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81080" y="1023840"/>
                  <a:ext cx="86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2612880" y="28440"/>
            <a:ext cx="631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odel in the s-domain and the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cross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374920" y="1066680"/>
            <a:ext cx="2184840" cy="1487520"/>
            <a:chOff x="2374920" y="1066680"/>
            <a:chExt cx="2184840" cy="1487520"/>
          </a:xfrm>
        </p:grpSpPr>
        <p:sp>
          <p:nvSpPr>
            <p:cNvPr id="194" name=""/>
            <p:cNvSpPr/>
            <p:nvPr/>
          </p:nvSpPr>
          <p:spPr>
            <a:xfrm>
              <a:off x="2374920" y="1576440"/>
              <a:ext cx="1189080" cy="977760"/>
            </a:xfrm>
            <a:custGeom>
              <a:avLst/>
              <a:gdLst/>
              <a:ahLst/>
              <a:rect l="l" t="t" r="r" b="b"/>
              <a:pathLst>
                <a:path w="749" h="616">
                  <a:moveTo>
                    <a:pt x="717" y="187"/>
                  </a:moveTo>
                  <a:cubicBezTo>
                    <a:pt x="714" y="146"/>
                    <a:pt x="724" y="101"/>
                    <a:pt x="709" y="63"/>
                  </a:cubicBezTo>
                  <a:cubicBezTo>
                    <a:pt x="701" y="44"/>
                    <a:pt x="675" y="38"/>
                    <a:pt x="655" y="32"/>
                  </a:cubicBezTo>
                  <a:cubicBezTo>
                    <a:pt x="593" y="15"/>
                    <a:pt x="505" y="7"/>
                    <a:pt x="437" y="0"/>
                  </a:cubicBezTo>
                  <a:cubicBezTo>
                    <a:pt x="302" y="5"/>
                    <a:pt x="203" y="7"/>
                    <a:pt x="78" y="47"/>
                  </a:cubicBezTo>
                  <a:cubicBezTo>
                    <a:pt x="4" y="99"/>
                    <a:pt x="12" y="166"/>
                    <a:pt x="0" y="250"/>
                  </a:cubicBezTo>
                  <a:cubicBezTo>
                    <a:pt x="3" y="323"/>
                    <a:pt x="4" y="395"/>
                    <a:pt x="8" y="468"/>
                  </a:cubicBezTo>
                  <a:cubicBezTo>
                    <a:pt x="9" y="486"/>
                    <a:pt x="21" y="546"/>
                    <a:pt x="31" y="562"/>
                  </a:cubicBezTo>
                  <a:cubicBezTo>
                    <a:pt x="43" y="581"/>
                    <a:pt x="87" y="582"/>
                    <a:pt x="101" y="585"/>
                  </a:cubicBezTo>
                  <a:cubicBezTo>
                    <a:pt x="164" y="599"/>
                    <a:pt x="224" y="608"/>
                    <a:pt x="288" y="616"/>
                  </a:cubicBezTo>
                  <a:cubicBezTo>
                    <a:pt x="392" y="611"/>
                    <a:pt x="497" y="613"/>
                    <a:pt x="600" y="601"/>
                  </a:cubicBezTo>
                  <a:cubicBezTo>
                    <a:pt x="633" y="597"/>
                    <a:pt x="694" y="569"/>
                    <a:pt x="694" y="569"/>
                  </a:cubicBezTo>
                  <a:cubicBezTo>
                    <a:pt x="749" y="494"/>
                    <a:pt x="725" y="371"/>
                    <a:pt x="725" y="2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2520" y="1066680"/>
              <a:ext cx="158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867280" y="914400"/>
          <a:ext cx="124488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14400"/>
                    <a:ext cx="124488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43440" y="3048120"/>
            <a:ext cx="2257920" cy="2942640"/>
            <a:chOff x="343440" y="3048120"/>
            <a:chExt cx="2257920" cy="2942640"/>
          </a:xfrm>
        </p:grpSpPr>
        <p:pic>
          <p:nvPicPr>
            <p:cNvPr id="199" name="D13.002B_W1209" descr=""/>
            <p:cNvPicPr/>
            <p:nvPr/>
          </p:nvPicPr>
          <p:blipFill>
            <a:blip r:embed="rId4"/>
            <a:stretch/>
          </p:blipFill>
          <p:spPr>
            <a:xfrm>
              <a:off x="750960" y="3048120"/>
              <a:ext cx="1846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3440" y="5410080"/>
              <a:ext cx="2257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43200" y="434340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1082520" y="3603600"/>
            <a:ext cx="3451320" cy="1382760"/>
            <a:chOff x="1082520" y="3603600"/>
            <a:chExt cx="3451320" cy="13827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666880" y="3962520"/>
                  <a:ext cx="18669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082520" y="3603600"/>
              <a:ext cx="698760" cy="1382760"/>
            </a:xfrm>
            <a:custGeom>
              <a:avLst/>
              <a:gdLst/>
              <a:ahLst/>
              <a:rect l="l" t="t" r="r" b="b"/>
              <a:pathLst>
                <a:path w="440" h="871">
                  <a:moveTo>
                    <a:pt x="440" y="99"/>
                  </a:moveTo>
                  <a:cubicBezTo>
                    <a:pt x="376" y="284"/>
                    <a:pt x="418" y="713"/>
                    <a:pt x="417" y="738"/>
                  </a:cubicBezTo>
                  <a:cubicBezTo>
                    <a:pt x="416" y="759"/>
                    <a:pt x="418" y="860"/>
                    <a:pt x="378" y="863"/>
                  </a:cubicBezTo>
                  <a:cubicBezTo>
                    <a:pt x="285" y="870"/>
                    <a:pt x="191" y="868"/>
                    <a:pt x="97" y="871"/>
                  </a:cubicBezTo>
                  <a:cubicBezTo>
                    <a:pt x="45" y="599"/>
                    <a:pt x="0" y="393"/>
                    <a:pt x="89" y="60"/>
                  </a:cubicBezTo>
                  <a:cubicBezTo>
                    <a:pt x="105" y="0"/>
                    <a:pt x="214" y="66"/>
                    <a:pt x="276" y="68"/>
                  </a:cubicBezTo>
                  <a:cubicBezTo>
                    <a:pt x="315" y="69"/>
                    <a:pt x="354" y="68"/>
                    <a:pt x="393" y="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5160" y="609480"/>
            <a:ext cx="21603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30480" y="85680"/>
            <a:ext cx="3117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0480" y="609480"/>
            <a:ext cx="5999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the analysis techniques are applicable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320" y="1125360"/>
            <a:ext cx="8569080" cy="2335320"/>
            <a:chOff x="76320" y="1125360"/>
            <a:chExt cx="8569080" cy="2335320"/>
          </a:xfrm>
        </p:grpSpPr>
        <p:sp>
          <p:nvSpPr>
            <p:cNvPr id="212" name=""/>
            <p:cNvSpPr/>
            <p:nvPr/>
          </p:nvSpPr>
          <p:spPr>
            <a:xfrm>
              <a:off x="91800" y="1125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30080" y="1125360"/>
              <a:ext cx="6115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aw the s-domain equivalent and find the voltage in b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 and tim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F13.003A_W1210" descr=""/>
            <p:cNvPicPr/>
            <p:nvPr/>
          </p:nvPicPr>
          <p:blipFill>
            <a:blip r:embed="rId1"/>
            <a:stretch/>
          </p:blipFill>
          <p:spPr>
            <a:xfrm>
              <a:off x="76320" y="1792440"/>
              <a:ext cx="449568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0" y="2590920"/>
            <a:ext cx="3048120" cy="838080"/>
            <a:chOff x="0" y="2590920"/>
            <a:chExt cx="3048120" cy="838080"/>
          </a:xfrm>
        </p:grpSpPr>
        <p:sp>
          <p:nvSpPr>
            <p:cNvPr id="216" name=""/>
            <p:cNvSpPr/>
            <p:nvPr/>
          </p:nvSpPr>
          <p:spPr>
            <a:xfrm>
              <a:off x="0" y="259092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71680" y="3138480"/>
                  <a:ext cx="2476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4599000" y="1811160"/>
            <a:ext cx="449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needs to determine the initial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4920" y="16002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5791320" y="2438280"/>
          <a:ext cx="2262240" cy="17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262240" cy="179100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2" name="F13.003B_W1210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3810240" cy="15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4952880"/>
                <a:ext cx="2082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040" y="5562720"/>
                <a:ext cx="3936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90920" y="3429000"/>
                <a:ext cx="3035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29200" y="42670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105520" y="487692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5791320"/>
                <a:ext cx="227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9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13:52Z</dcterms:created>
  <dc:creator>Jorge Aravena</dc:creator>
  <dc:description/>
  <dc:language>en-US</dc:language>
  <cp:lastModifiedBy>student</cp:lastModifiedBy>
  <cp:lastPrinted>2001-10-19T21:23:10Z</cp:lastPrinted>
  <dcterms:modified xsi:type="dcterms:W3CDTF">2001-10-19T21:24:01Z</dcterms:modified>
  <cp:revision>23</cp:revision>
  <dc:subject/>
  <dc:title>No Slide Title</dc:title>
</cp:coreProperties>
</file>