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97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0.png" ContentType="image/png"/>
  <Override PartName="/ppt/media/image98.wmf" ContentType="image/x-wmf"/>
  <Override PartName="/ppt/media/image52.png" ContentType="image/png"/>
  <Override PartName="/ppt/media/image13.wmf" ContentType="image/x-wmf"/>
  <Override PartName="/ppt/media/image56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7.wmf" ContentType="image/x-wmf"/>
  <Override PartName="/ppt/media/image5.wmf" ContentType="image/x-wmf"/>
  <Override PartName="/ppt/media/image82.wmf" ContentType="image/x-wmf"/>
  <Override PartName="/ppt/media/image51.png" ContentType="image/png"/>
  <Override PartName="/ppt/media/image105.wmf" ContentType="image/x-wmf"/>
  <Override PartName="/ppt/media/image12.wmf" ContentType="image/x-wmf"/>
  <Override PartName="/ppt/media/image55.png" ContentType="image/png"/>
  <Override PartName="/ppt/media/image27.png" ContentType="image/png"/>
  <Override PartName="/ppt/media/image92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85.png" ContentType="image/png"/>
  <Override PartName="/ppt/media/image16.wmf" ContentType="image/x-wmf"/>
  <Override PartName="/ppt/media/image4.wmf" ContentType="image/x-wmf"/>
  <Override PartName="/ppt/media/image59.png" ContentType="image/png"/>
  <Override PartName="/ppt/media/image110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8.png" ContentType="image/png"/>
  <Override PartName="/ppt/media/image11.png" ContentType="image/png"/>
  <Override PartName="/ppt/media/image108.png" ContentType="image/png"/>
  <Override PartName="/ppt/media/image35.wmf" ContentType="image/x-wmf"/>
  <Override PartName="/ppt/media/image47.png" ContentType="image/png"/>
  <Override PartName="/ppt/media/image10.png" ContentType="image/png"/>
  <Override PartName="/ppt/media/image78.wmf" ContentType="image/x-wmf"/>
  <Override PartName="/ppt/media/image34.wmf" ContentType="image/x-wmf"/>
  <Override PartName="/ppt/media/image77.png" ContentType="image/png"/>
  <Override PartName="/ppt/media/image33.wmf" ContentType="image/x-wmf"/>
  <Override PartName="/ppt/media/image76.png" ContentType="image/png"/>
  <Override PartName="/ppt/media/image26.wmf" ContentType="image/x-wmf"/>
  <Override PartName="/ppt/media/image69.png" ContentType="image/png"/>
  <Override PartName="/ppt/media/image120.png" ContentType="image/png"/>
  <Override PartName="/ppt/media/image2.png" ContentType="image/png"/>
  <Override PartName="/ppt/media/image25.png" ContentType="image/png"/>
  <Override PartName="/ppt/media/image90.png" ContentType="image/png"/>
  <Override PartName="/ppt/media/image74.png" ContentType="image/png"/>
  <Override PartName="/ppt/media/image118.png" ContentType="image/png"/>
  <Override PartName="/ppt/media/image80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91.png" ContentType="image/png"/>
  <Override PartName="/ppt/media/image73.png" ContentType="image/png"/>
  <Override PartName="/ppt/media/image117.png" ContentType="image/png"/>
  <Override PartName="/ppt/media/image100.wmf" ContentType="image/x-wmf"/>
  <Override PartName="/ppt/media/image14.wmf" ContentType="image/x-wmf"/>
  <Override PartName="/ppt/media/image96.png" ContentType="image/png"/>
  <Override PartName="/ppt/media/image103.png" ContentType="image/png"/>
  <Override PartName="/ppt/media/image57.wmf" ContentType="image/x-wmf"/>
  <Override PartName="/ppt/media/image95.png" ContentType="image/png"/>
  <Override PartName="/ppt/media/image102.png" ContentType="image/png"/>
  <Override PartName="/ppt/media/image121.png" ContentType="image/png"/>
  <Override PartName="/ppt/media/image106.png" ContentType="image/png"/>
  <Override PartName="/ppt/media/image116.wmf" ContentType="image/x-wmf"/>
  <Override PartName="/ppt/media/image114.png" ContentType="image/png"/>
  <Override PartName="/ppt/media/image70.png" ContentType="image/png"/>
  <Override PartName="/ppt/media/image72.png" ContentType="image/png"/>
  <Override PartName="/ppt/media/image112.wmf" ContentType="image/x-wmf"/>
  <Override PartName="/ppt/media/image65.png" ContentType="image/png"/>
  <Override PartName="/ppt/media/image79.png" ContentType="image/png"/>
  <Override PartName="/ppt/media/image81.png" ContentType="image/png"/>
  <Override PartName="/ppt/media/image101.png" ContentType="image/png"/>
  <Override PartName="/ppt/media/image109.jpeg" ContentType="image/jpeg"/>
  <Override PartName="/ppt/media/image71.png" ContentType="image/png"/>
  <Override PartName="/ppt/media/image94.png" ContentType="image/png"/>
  <Override PartName="/ppt/media/image29.png" ContentType="image/png"/>
  <Override PartName="/ppt/media/image111.wmf" ContentType="image/x-wmf"/>
  <Override PartName="/ppt/media/image93.wmf" ContentType="image/x-wmf"/>
  <Override PartName="/ppt/media/image122.png" ContentType="image/png"/>
  <Override PartName="/ppt/media/image104.png" ContentType="image/png"/>
  <Override PartName="/ppt/media/image64.png" ContentType="image/png"/>
  <Override PartName="/ppt/media/image21.wmf" ContentType="image/x-wmf"/>
  <Override PartName="/ppt/media/image58.wmf" ContentType="image/x-wmf"/>
  <Override PartName="/ppt/media/image68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62.wmf" ContentType="image/x-wmf"/>
  <Override PartName="/ppt/media/image31.png" ContentType="image/png"/>
  <Override PartName="/ppt/media/image99.wmf" ContentType="image/x-wmf"/>
  <Override PartName="/ppt/media/image115.wmf" ContentType="image/x-wmf"/>
  <Override PartName="/ppt/media/image61.png" ContentType="image/png"/>
  <Override PartName="/ppt/media/image23.png" ContentType="image/png"/>
  <Override PartName="/ppt/media/image53.png" ContentType="image/png"/>
  <Override PartName="/ppt/media/image107.wmf" ContentType="image/x-wmf"/>
  <Override PartName="/ppt/media/image22.png" ContentType="image/png"/>
  <Override PartName="/ppt/media/image119.png" ContentType="image/png"/>
  <Override PartName="/ppt/media/image32.wmf" ContentType="image/x-wmf"/>
  <Override PartName="/ppt/media/image75.png" ContentType="image/png"/>
  <Override PartName="/ppt/media/image113.png" ContentType="image/png"/>
  <Override PartName="/ppt/media/image84.wmf" ContentType="image/x-wmf"/>
  <Override PartName="/ppt/media/image19.wmf" ContentType="image/x-wmf"/>
  <Override PartName="/ppt/media/image20.wmf" ContentType="image/x-wmf"/>
  <Override PartName="/ppt/media/image6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29A-B913-4044-BE49-82532092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1EE-675C-4E97-8133-46F94D52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F86-F7AF-4A6E-BE4C-6EBDD770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6D6-BB8D-4C2C-A133-CDCF682C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783-239B-4C2F-8624-CCBBE746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EF8-BD42-44C7-8295-2F98FB17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8BA-8DFB-421C-9E73-FC0C77D4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1B3-E2ED-484D-9F11-519964A5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010-C4D1-4AF2-81C0-E79CD301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1F2-1292-4B2B-89CB-419230EA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133-E7FC-4F68-9482-ED0390B7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8B2-D90A-4390-9ECE-CD38D3BA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D888-C029-4F54-9E68-F79D51C8F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2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image" Target="../media/image109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png"/><Relationship Id="rId11" Type="http://schemas.openxmlformats.org/officeDocument/2006/relationships/image" Target="../media/image114.pn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5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2.png"/><Relationship Id="rId9" Type="http://schemas.openxmlformats.org/officeDocument/2006/relationships/image" Target="../media/image1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7543800" cy="358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se are some of the most powerful analysis results to be discu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y permit to hide information that is not relevant and concentrate in what is important to th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4240" y="236520"/>
            <a:ext cx="814356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VENIN’S AND NORTON’S THEOR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143000" y="1066680"/>
            <a:ext cx="3224160" cy="2684880"/>
            <a:chOff x="1143000" y="1066680"/>
            <a:chExt cx="3224160" cy="2684880"/>
          </a:xfrm>
        </p:grpSpPr>
        <p:graphicFrame>
          <p:nvGraphicFramePr>
            <p:cNvPr id="183" name=""/>
            <p:cNvGraphicFramePr/>
            <p:nvPr/>
          </p:nvGraphicFramePr>
          <p:xfrm>
            <a:off x="1143000" y="1066680"/>
            <a:ext cx="3224160" cy="228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1143000" y="1066680"/>
                      <a:ext cx="3224160" cy="2287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1827000" y="3352680"/>
              <a:ext cx="127512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29000" y="3429000"/>
                <a:ext cx="18684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6960" y="4648320"/>
            <a:ext cx="828828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equivalence can be viewed as a source transforma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shows how to convert a voltage source in series with a 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o an equivalent current  source in parallel with the 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51280" y="990720"/>
            <a:ext cx="3527640" cy="2536920"/>
            <a:chOff x="4751280" y="990720"/>
            <a:chExt cx="3527640" cy="2536920"/>
          </a:xfrm>
        </p:grpSpPr>
        <p:graphicFrame>
          <p:nvGraphicFramePr>
            <p:cNvPr id="189" name=""/>
            <p:cNvGraphicFramePr/>
            <p:nvPr/>
          </p:nvGraphicFramePr>
          <p:xfrm>
            <a:off x="4751280" y="990720"/>
            <a:ext cx="3527640" cy="251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4">
                      <a:alphaModFix amt="50000"/>
                    </a:blip>
                    <a:stretch/>
                  </p:blipFill>
                  <p:spPr>
                    <a:xfrm>
                      <a:off x="4751280" y="990720"/>
                      <a:ext cx="3527640" cy="2512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5746320" y="3128760"/>
              <a:ext cx="103572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r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548720" y="152280"/>
            <a:ext cx="6081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OTHER VIEW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10480" y="5770440"/>
            <a:ext cx="68450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URCE TRANSFORMATION CAN BE A GOOD TOOL TO REDU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PLEXITY OF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75600" y="287280"/>
            <a:ext cx="742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 is a good tool to reduce complexity in a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59720" y="668160"/>
            <a:ext cx="287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IT CAN BE APPLIED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93680" y="4800600"/>
            <a:ext cx="8821800" cy="794520"/>
            <a:chOff x="193680" y="4800600"/>
            <a:chExt cx="8821800" cy="794520"/>
          </a:xfrm>
        </p:grpSpPr>
        <p:sp>
          <p:nvSpPr>
            <p:cNvPr id="200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5257800"/>
              <a:ext cx="586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THERE MAY BE MORE EFFICIENT TECHN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61840" y="1219320"/>
            <a:ext cx="6650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sources” are not good models for real behavior of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5720" y="1625760"/>
            <a:ext cx="631188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real battery does not produce infinite current when short-circu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82760" y="238608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38608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572000" y="2690640"/>
                <a:ext cx="433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06280" y="374760"/>
          <a:ext cx="4289400" cy="10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374760"/>
                    <a:ext cx="428940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46240" y="0"/>
            <a:ext cx="442512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XAMPLE: SOLVE BY SOURCE 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4000" y="255600"/>
            <a:ext cx="1469880" cy="1382400"/>
            <a:chOff x="54000" y="255600"/>
            <a:chExt cx="1469880" cy="1382400"/>
          </a:xfrm>
        </p:grpSpPr>
        <p:sp>
          <p:nvSpPr>
            <p:cNvPr id="214" name=""/>
            <p:cNvSpPr/>
            <p:nvPr/>
          </p:nvSpPr>
          <p:spPr>
            <a:xfrm>
              <a:off x="54000" y="255600"/>
              <a:ext cx="1458720" cy="1382400"/>
            </a:xfrm>
            <a:custGeom>
              <a:avLst/>
              <a:gdLst/>
              <a:ahLst/>
              <a:rect l="l" t="t" r="r" b="b"/>
              <a:pathLst>
                <a:path w="919" h="871">
                  <a:moveTo>
                    <a:pt x="919" y="61"/>
                  </a:moveTo>
                  <a:cubicBezTo>
                    <a:pt x="738" y="0"/>
                    <a:pt x="435" y="43"/>
                    <a:pt x="304" y="45"/>
                  </a:cubicBezTo>
                  <a:cubicBezTo>
                    <a:pt x="252" y="63"/>
                    <a:pt x="211" y="90"/>
                    <a:pt x="156" y="100"/>
                  </a:cubicBezTo>
                  <a:cubicBezTo>
                    <a:pt x="130" y="117"/>
                    <a:pt x="111" y="138"/>
                    <a:pt x="85" y="155"/>
                  </a:cubicBezTo>
                  <a:cubicBezTo>
                    <a:pt x="75" y="176"/>
                    <a:pt x="64" y="196"/>
                    <a:pt x="54" y="217"/>
                  </a:cubicBezTo>
                  <a:cubicBezTo>
                    <a:pt x="42" y="241"/>
                    <a:pt x="43" y="271"/>
                    <a:pt x="31" y="295"/>
                  </a:cubicBezTo>
                  <a:cubicBezTo>
                    <a:pt x="15" y="416"/>
                    <a:pt x="0" y="425"/>
                    <a:pt x="23" y="591"/>
                  </a:cubicBezTo>
                  <a:cubicBezTo>
                    <a:pt x="26" y="612"/>
                    <a:pt x="127" y="634"/>
                    <a:pt x="148" y="638"/>
                  </a:cubicBezTo>
                  <a:cubicBezTo>
                    <a:pt x="153" y="656"/>
                    <a:pt x="157" y="674"/>
                    <a:pt x="163" y="692"/>
                  </a:cubicBezTo>
                  <a:cubicBezTo>
                    <a:pt x="170" y="713"/>
                    <a:pt x="181" y="733"/>
                    <a:pt x="187" y="755"/>
                  </a:cubicBezTo>
                  <a:cubicBezTo>
                    <a:pt x="191" y="770"/>
                    <a:pt x="184" y="789"/>
                    <a:pt x="194" y="801"/>
                  </a:cubicBezTo>
                  <a:cubicBezTo>
                    <a:pt x="210" y="819"/>
                    <a:pt x="234" y="827"/>
                    <a:pt x="257" y="833"/>
                  </a:cubicBezTo>
                  <a:cubicBezTo>
                    <a:pt x="350" y="858"/>
                    <a:pt x="450" y="859"/>
                    <a:pt x="545" y="871"/>
                  </a:cubicBezTo>
                  <a:cubicBezTo>
                    <a:pt x="558" y="856"/>
                    <a:pt x="575" y="843"/>
                    <a:pt x="584" y="825"/>
                  </a:cubicBezTo>
                  <a:cubicBezTo>
                    <a:pt x="619" y="756"/>
                    <a:pt x="618" y="686"/>
                    <a:pt x="662" y="622"/>
                  </a:cubicBezTo>
                  <a:cubicBezTo>
                    <a:pt x="676" y="575"/>
                    <a:pt x="677" y="527"/>
                    <a:pt x="693" y="482"/>
                  </a:cubicBezTo>
                  <a:cubicBezTo>
                    <a:pt x="694" y="471"/>
                    <a:pt x="702" y="392"/>
                    <a:pt x="709" y="388"/>
                  </a:cubicBezTo>
                  <a:cubicBezTo>
                    <a:pt x="724" y="379"/>
                    <a:pt x="745" y="383"/>
                    <a:pt x="763" y="381"/>
                  </a:cubicBezTo>
                  <a:cubicBezTo>
                    <a:pt x="792" y="378"/>
                    <a:pt x="820" y="376"/>
                    <a:pt x="849" y="373"/>
                  </a:cubicBezTo>
                  <a:cubicBezTo>
                    <a:pt x="864" y="309"/>
                    <a:pt x="872" y="242"/>
                    <a:pt x="888" y="178"/>
                  </a:cubicBezTo>
                  <a:cubicBezTo>
                    <a:pt x="889" y="173"/>
                    <a:pt x="904" y="108"/>
                    <a:pt x="919" y="108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990360" y="374400"/>
              <a:ext cx="533520" cy="1143000"/>
              <a:chOff x="990360" y="374400"/>
              <a:chExt cx="533520" cy="1143000"/>
            </a:xfrm>
          </p:grpSpPr>
          <p:sp>
            <p:nvSpPr>
              <p:cNvPr id="216" name=""/>
              <p:cNvSpPr/>
              <p:nvPr/>
            </p:nvSpPr>
            <p:spPr>
              <a:xfrm>
                <a:off x="990360" y="1288800"/>
                <a:ext cx="15264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71600" y="374400"/>
                <a:ext cx="15228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4805280" y="76320"/>
            <a:ext cx="4377960" cy="1580400"/>
            <a:chOff x="4805280" y="76320"/>
            <a:chExt cx="4377960" cy="1580400"/>
          </a:xfrm>
        </p:grpSpPr>
        <p:sp>
          <p:nvSpPr>
            <p:cNvPr id="219" name=""/>
            <p:cNvSpPr/>
            <p:nvPr/>
          </p:nvSpPr>
          <p:spPr>
            <a:xfrm>
              <a:off x="4805280" y="606240"/>
              <a:ext cx="409572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current source will have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lue 12V/3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18600" y="1136520"/>
              <a:ext cx="428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3k and the 6k resistors now are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9960" y="76320"/>
              <a:ext cx="437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between the terminals we connect a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and a resistance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152280" y="2127240"/>
          <a:ext cx="461988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127240"/>
                    <a:ext cx="46198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149400" y="2084400"/>
            <a:ext cx="1893600" cy="1584360"/>
            <a:chOff x="149400" y="2084400"/>
            <a:chExt cx="1893600" cy="1584360"/>
          </a:xfrm>
        </p:grpSpPr>
        <p:sp>
          <p:nvSpPr>
            <p:cNvPr id="225" name=""/>
            <p:cNvSpPr/>
            <p:nvPr/>
          </p:nvSpPr>
          <p:spPr>
            <a:xfrm>
              <a:off x="149400" y="2084400"/>
              <a:ext cx="1893600" cy="1584360"/>
            </a:xfrm>
            <a:custGeom>
              <a:avLst/>
              <a:gdLst/>
              <a:ahLst/>
              <a:rect l="l" t="t" r="r" b="b"/>
              <a:pathLst>
                <a:path w="1193" h="998">
                  <a:moveTo>
                    <a:pt x="1109" y="959"/>
                  </a:moveTo>
                  <a:cubicBezTo>
                    <a:pt x="1116" y="707"/>
                    <a:pt x="1129" y="458"/>
                    <a:pt x="1077" y="210"/>
                  </a:cubicBezTo>
                  <a:cubicBezTo>
                    <a:pt x="1067" y="160"/>
                    <a:pt x="1062" y="101"/>
                    <a:pt x="1038" y="55"/>
                  </a:cubicBezTo>
                  <a:cubicBezTo>
                    <a:pt x="947" y="120"/>
                    <a:pt x="1041" y="64"/>
                    <a:pt x="797" y="23"/>
                  </a:cubicBezTo>
                  <a:cubicBezTo>
                    <a:pt x="748" y="15"/>
                    <a:pt x="534" y="4"/>
                    <a:pt x="470" y="0"/>
                  </a:cubicBezTo>
                  <a:cubicBezTo>
                    <a:pt x="402" y="5"/>
                    <a:pt x="222" y="2"/>
                    <a:pt x="134" y="31"/>
                  </a:cubicBezTo>
                  <a:cubicBezTo>
                    <a:pt x="113" y="45"/>
                    <a:pt x="95" y="52"/>
                    <a:pt x="72" y="62"/>
                  </a:cubicBezTo>
                  <a:cubicBezTo>
                    <a:pt x="0" y="105"/>
                    <a:pt x="49" y="68"/>
                    <a:pt x="25" y="249"/>
                  </a:cubicBezTo>
                  <a:cubicBezTo>
                    <a:pt x="17" y="306"/>
                    <a:pt x="9" y="364"/>
                    <a:pt x="2" y="421"/>
                  </a:cubicBezTo>
                  <a:cubicBezTo>
                    <a:pt x="5" y="574"/>
                    <a:pt x="5" y="728"/>
                    <a:pt x="10" y="881"/>
                  </a:cubicBezTo>
                  <a:cubicBezTo>
                    <a:pt x="12" y="947"/>
                    <a:pt x="31" y="944"/>
                    <a:pt x="96" y="990"/>
                  </a:cubicBezTo>
                  <a:cubicBezTo>
                    <a:pt x="103" y="995"/>
                    <a:pt x="119" y="998"/>
                    <a:pt x="119" y="998"/>
                  </a:cubicBezTo>
                  <a:cubicBezTo>
                    <a:pt x="346" y="971"/>
                    <a:pt x="569" y="948"/>
                    <a:pt x="797" y="935"/>
                  </a:cubicBezTo>
                  <a:cubicBezTo>
                    <a:pt x="1064" y="920"/>
                    <a:pt x="1193" y="920"/>
                    <a:pt x="1085" y="920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752480" y="2279520"/>
              <a:ext cx="227880" cy="1143000"/>
              <a:chOff x="1752480" y="2279520"/>
              <a:chExt cx="227880" cy="1143000"/>
            </a:xfrm>
          </p:grpSpPr>
          <p:sp>
            <p:nvSpPr>
              <p:cNvPr id="227" name=""/>
              <p:cNvSpPr/>
              <p:nvPr/>
            </p:nvSpPr>
            <p:spPr>
              <a:xfrm>
                <a:off x="1752480" y="2279520"/>
                <a:ext cx="15192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28440" y="3193920"/>
                <a:ext cx="15192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4829040" y="1981080"/>
            <a:ext cx="4373280" cy="1510920"/>
            <a:chOff x="4829040" y="1981080"/>
            <a:chExt cx="4373280" cy="1510920"/>
          </a:xfrm>
        </p:grpSpPr>
        <p:sp>
          <p:nvSpPr>
            <p:cNvPr id="230" name=""/>
            <p:cNvSpPr/>
            <p:nvPr/>
          </p:nvSpPr>
          <p:spPr>
            <a:xfrm>
              <a:off x="4829040" y="1981080"/>
              <a:ext cx="437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between the terminals we connect a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in series with the resis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32280" y="2590560"/>
              <a:ext cx="379728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source has value 4mA*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33720" y="2971800"/>
              <a:ext cx="425124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2k and the 2k resistor become connect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series and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152280" y="3727440"/>
          <a:ext cx="3776760" cy="14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727440"/>
                    <a:ext cx="377676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4199040" y="3876840"/>
            <a:ext cx="5027040" cy="831600"/>
            <a:chOff x="4199040" y="3876840"/>
            <a:chExt cx="5027040" cy="831600"/>
          </a:xfrm>
        </p:grpSpPr>
        <p:sp>
          <p:nvSpPr>
            <p:cNvPr id="236" name=""/>
            <p:cNvSpPr/>
            <p:nvPr/>
          </p:nvSpPr>
          <p:spPr>
            <a:xfrm>
              <a:off x="4199040" y="3876840"/>
              <a:ext cx="50270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fter the transformation the sources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13440" y="4188240"/>
              <a:ext cx="457596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current source has value 8V/4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the combined current  source has value 4m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0" y="4952880"/>
            <a:ext cx="7028280" cy="1924200"/>
            <a:chOff x="0" y="4952880"/>
            <a:chExt cx="7028280" cy="1924200"/>
          </a:xfrm>
        </p:grpSpPr>
        <p:graphicFrame>
          <p:nvGraphicFramePr>
            <p:cNvPr id="239" name=""/>
            <p:cNvGraphicFramePr/>
            <p:nvPr/>
          </p:nvGraphicFramePr>
          <p:xfrm>
            <a:off x="0" y="5099040"/>
            <a:ext cx="4541760" cy="177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5099040"/>
                      <a:ext cx="454176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5011200" y="4952880"/>
              <a:ext cx="20170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tions at this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877640" y="5410080"/>
            <a:ext cx="4335840" cy="1206000"/>
            <a:chOff x="4877640" y="5410080"/>
            <a:chExt cx="4335840" cy="1206000"/>
          </a:xfrm>
        </p:grpSpPr>
        <p:sp>
          <p:nvSpPr>
            <p:cNvPr id="243" name=""/>
            <p:cNvSpPr/>
            <p:nvPr/>
          </p:nvSpPr>
          <p:spPr>
            <a:xfrm>
              <a:off x="4877640" y="5410080"/>
              <a:ext cx="42130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. Do another source transformation and ge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 single loop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15080" y="6095880"/>
              <a:ext cx="429840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. Use current divider to compute I_0 and th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mpute V_0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2600" y="3600360"/>
            <a:ext cx="1587600" cy="1612800"/>
            <a:chOff x="12600" y="3600360"/>
            <a:chExt cx="1587600" cy="1612800"/>
          </a:xfrm>
        </p:grpSpPr>
        <p:sp>
          <p:nvSpPr>
            <p:cNvPr id="246" name=""/>
            <p:cNvSpPr/>
            <p:nvPr/>
          </p:nvSpPr>
          <p:spPr>
            <a:xfrm>
              <a:off x="12600" y="3600360"/>
              <a:ext cx="1587600" cy="1612800"/>
            </a:xfrm>
            <a:custGeom>
              <a:avLst/>
              <a:gdLst/>
              <a:ahLst/>
              <a:rect l="l" t="t" r="r" b="b"/>
              <a:pathLst>
                <a:path w="1000" h="1016">
                  <a:moveTo>
                    <a:pt x="88" y="128"/>
                  </a:moveTo>
                  <a:cubicBezTo>
                    <a:pt x="448" y="64"/>
                    <a:pt x="808" y="0"/>
                    <a:pt x="904" y="128"/>
                  </a:cubicBezTo>
                  <a:cubicBezTo>
                    <a:pt x="1000" y="256"/>
                    <a:pt x="800" y="776"/>
                    <a:pt x="664" y="896"/>
                  </a:cubicBezTo>
                  <a:cubicBezTo>
                    <a:pt x="528" y="1016"/>
                    <a:pt x="176" y="984"/>
                    <a:pt x="88" y="848"/>
                  </a:cubicBezTo>
                  <a:cubicBezTo>
                    <a:pt x="0" y="712"/>
                    <a:pt x="68" y="396"/>
                    <a:pt x="136" y="80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990360" y="3879720"/>
              <a:ext cx="533520" cy="1143000"/>
              <a:chOff x="990360" y="3879720"/>
              <a:chExt cx="533520" cy="1143000"/>
            </a:xfrm>
          </p:grpSpPr>
          <p:sp>
            <p:nvSpPr>
              <p:cNvPr id="248" name=""/>
              <p:cNvSpPr/>
              <p:nvPr/>
            </p:nvSpPr>
            <p:spPr>
              <a:xfrm>
                <a:off x="990360" y="4794120"/>
                <a:ext cx="15264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71600" y="3879720"/>
                <a:ext cx="15228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5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-5760" y="4495680"/>
            <a:ext cx="3356640" cy="1882800"/>
            <a:chOff x="-5760" y="4495680"/>
            <a:chExt cx="3356640" cy="1882800"/>
          </a:xfrm>
        </p:grpSpPr>
        <p:sp>
          <p:nvSpPr>
            <p:cNvPr id="254" name=""/>
            <p:cNvSpPr/>
            <p:nvPr/>
          </p:nvSpPr>
          <p:spPr>
            <a:xfrm>
              <a:off x="-5760" y="4495680"/>
              <a:ext cx="33566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r one more source 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838080" y="5818320"/>
                  <a:ext cx="152424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56" name=""/>
            <p:cNvGraphicFramePr/>
            <p:nvPr/>
          </p:nvGraphicFramePr>
          <p:xfrm>
            <a:off x="0" y="4876920"/>
            <a:ext cx="2819520" cy="150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876920"/>
                      <a:ext cx="2819520" cy="15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2895480" y="5410080"/>
                  <a:ext cx="270000" cy="87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9" name=""/>
          <p:cNvGraphicFramePr/>
          <p:nvPr/>
        </p:nvGraphicFramePr>
        <p:xfrm>
          <a:off x="77760" y="233280"/>
          <a:ext cx="36910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60" y="233280"/>
                    <a:ext cx="36910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113040" y="11160"/>
            <a:ext cx="487620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BLEM  Compute V_0 using source 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5280" y="233280"/>
            <a:ext cx="1171800" cy="2144880"/>
          </a:xfrm>
          <a:custGeom>
            <a:avLst/>
            <a:gdLst/>
            <a:ahLst/>
            <a:rect l="l" t="t" r="r" b="b"/>
            <a:pathLst>
              <a:path w="738" h="1351">
                <a:moveTo>
                  <a:pt x="101" y="96"/>
                </a:moveTo>
                <a:cubicBezTo>
                  <a:pt x="95" y="205"/>
                  <a:pt x="80" y="301"/>
                  <a:pt x="62" y="408"/>
                </a:cubicBezTo>
                <a:cubicBezTo>
                  <a:pt x="53" y="513"/>
                  <a:pt x="44" y="616"/>
                  <a:pt x="31" y="720"/>
                </a:cubicBezTo>
                <a:cubicBezTo>
                  <a:pt x="28" y="741"/>
                  <a:pt x="21" y="761"/>
                  <a:pt x="16" y="782"/>
                </a:cubicBezTo>
                <a:cubicBezTo>
                  <a:pt x="11" y="803"/>
                  <a:pt x="0" y="844"/>
                  <a:pt x="0" y="844"/>
                </a:cubicBezTo>
                <a:cubicBezTo>
                  <a:pt x="3" y="961"/>
                  <a:pt x="4" y="1078"/>
                  <a:pt x="8" y="1195"/>
                </a:cubicBezTo>
                <a:cubicBezTo>
                  <a:pt x="10" y="1240"/>
                  <a:pt x="23" y="1283"/>
                  <a:pt x="23" y="1328"/>
                </a:cubicBezTo>
                <a:cubicBezTo>
                  <a:pt x="179" y="1332"/>
                  <a:pt x="342" y="1351"/>
                  <a:pt x="499" y="1351"/>
                </a:cubicBezTo>
                <a:lnTo>
                  <a:pt x="642" y="384"/>
                </a:lnTo>
                <a:lnTo>
                  <a:pt x="738" y="96"/>
                </a:lnTo>
                <a:lnTo>
                  <a:pt x="498" y="0"/>
                </a:lnTo>
                <a:lnTo>
                  <a:pt x="101" y="9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106960" y="360360"/>
            <a:ext cx="3309840" cy="1819440"/>
            <a:chOff x="5106960" y="360360"/>
            <a:chExt cx="3309840" cy="1819440"/>
          </a:xfrm>
        </p:grpSpPr>
        <p:graphicFrame>
          <p:nvGraphicFramePr>
            <p:cNvPr id="264" name=""/>
            <p:cNvGraphicFramePr/>
            <p:nvPr/>
          </p:nvGraphicFramePr>
          <p:xfrm>
            <a:off x="5182920" y="462240"/>
            <a:ext cx="3233880" cy="164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2920" y="462240"/>
                      <a:ext cx="3233880" cy="16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5106960" y="360360"/>
              <a:ext cx="990360" cy="1819440"/>
            </a:xfrm>
            <a:custGeom>
              <a:avLst/>
              <a:gdLst/>
              <a:ahLst/>
              <a:rect l="l" t="t" r="r" b="b"/>
              <a:pathLst>
                <a:path w="624" h="1146">
                  <a:moveTo>
                    <a:pt x="624" y="94"/>
                  </a:moveTo>
                  <a:cubicBezTo>
                    <a:pt x="621" y="169"/>
                    <a:pt x="620" y="245"/>
                    <a:pt x="616" y="320"/>
                  </a:cubicBezTo>
                  <a:cubicBezTo>
                    <a:pt x="613" y="370"/>
                    <a:pt x="600" y="418"/>
                    <a:pt x="600" y="468"/>
                  </a:cubicBezTo>
                  <a:cubicBezTo>
                    <a:pt x="597" y="515"/>
                    <a:pt x="584" y="712"/>
                    <a:pt x="577" y="733"/>
                  </a:cubicBezTo>
                  <a:cubicBezTo>
                    <a:pt x="572" y="749"/>
                    <a:pt x="561" y="780"/>
                    <a:pt x="561" y="780"/>
                  </a:cubicBezTo>
                  <a:cubicBezTo>
                    <a:pt x="551" y="850"/>
                    <a:pt x="542" y="902"/>
                    <a:pt x="522" y="967"/>
                  </a:cubicBezTo>
                  <a:cubicBezTo>
                    <a:pt x="512" y="998"/>
                    <a:pt x="505" y="1031"/>
                    <a:pt x="491" y="1061"/>
                  </a:cubicBezTo>
                  <a:cubicBezTo>
                    <a:pt x="481" y="1081"/>
                    <a:pt x="468" y="1123"/>
                    <a:pt x="468" y="1123"/>
                  </a:cubicBezTo>
                  <a:cubicBezTo>
                    <a:pt x="314" y="1128"/>
                    <a:pt x="154" y="1146"/>
                    <a:pt x="0" y="1146"/>
                  </a:cubicBezTo>
                  <a:cubicBezTo>
                    <a:pt x="80" y="1101"/>
                    <a:pt x="58" y="1034"/>
                    <a:pt x="63" y="944"/>
                  </a:cubicBezTo>
                  <a:cubicBezTo>
                    <a:pt x="75" y="746"/>
                    <a:pt x="83" y="549"/>
                    <a:pt x="94" y="351"/>
                  </a:cubicBezTo>
                  <a:cubicBezTo>
                    <a:pt x="82" y="0"/>
                    <a:pt x="144" y="183"/>
                    <a:pt x="55" y="94"/>
                  </a:cubicBezTo>
                  <a:cubicBezTo>
                    <a:pt x="150" y="99"/>
                    <a:pt x="241" y="108"/>
                    <a:pt x="335" y="118"/>
                  </a:cubicBezTo>
                  <a:cubicBezTo>
                    <a:pt x="377" y="115"/>
                    <a:pt x="419" y="116"/>
                    <a:pt x="460" y="110"/>
                  </a:cubicBezTo>
                  <a:cubicBezTo>
                    <a:pt x="494" y="105"/>
                    <a:pt x="527" y="93"/>
                    <a:pt x="561" y="86"/>
                  </a:cubicBezTo>
                  <a:cubicBezTo>
                    <a:pt x="577" y="83"/>
                    <a:pt x="593" y="65"/>
                    <a:pt x="608" y="71"/>
                  </a:cubicBezTo>
                  <a:cubicBezTo>
                    <a:pt x="617" y="74"/>
                    <a:pt x="619" y="86"/>
                    <a:pt x="624" y="94"/>
                  </a:cubicBezTo>
                  <a:close/>
                </a:path>
              </a:pathLst>
            </a:custGeom>
            <a:noFill/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114800" y="996840"/>
            <a:ext cx="612720" cy="384120"/>
          </a:xfrm>
          <a:prstGeom prst="rightArrow">
            <a:avLst>
              <a:gd name="adj1" fmla="val 50000"/>
              <a:gd name="adj2" fmla="val 39878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5040" y="157320"/>
            <a:ext cx="762120" cy="1981080"/>
          </a:xfrm>
          <a:prstGeom prst="rect">
            <a:avLst/>
          </a:prstGeom>
          <a:solidFill>
            <a:srgbClr val="99cc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4680" y="190980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726080" y="2381400"/>
          <a:ext cx="4110120" cy="24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6080" y="2381400"/>
                    <a:ext cx="4110120" cy="24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4338720" y="3306600"/>
            <a:ext cx="4174560" cy="2101320"/>
            <a:chOff x="4338720" y="3306600"/>
            <a:chExt cx="4174560" cy="2101320"/>
          </a:xfrm>
        </p:grpSpPr>
        <p:grpSp>
          <p:nvGrpSpPr>
            <p:cNvPr id="273" name=""/>
            <p:cNvGrpSpPr/>
            <p:nvPr/>
          </p:nvGrpSpPr>
          <p:grpSpPr>
            <a:xfrm>
              <a:off x="4338720" y="3306600"/>
              <a:ext cx="3457800" cy="1423800"/>
              <a:chOff x="4338720" y="3306600"/>
              <a:chExt cx="3457800" cy="1423800"/>
            </a:xfrm>
          </p:grpSpPr>
          <p:sp>
            <p:nvSpPr>
              <p:cNvPr id="274" name=""/>
              <p:cNvSpPr/>
              <p:nvPr/>
            </p:nvSpPr>
            <p:spPr>
              <a:xfrm>
                <a:off x="4338720" y="3306600"/>
                <a:ext cx="1260720" cy="982800"/>
              </a:xfrm>
              <a:custGeom>
                <a:avLst/>
                <a:gdLst/>
                <a:ahLst/>
                <a:rect l="l" t="t" r="r" b="b"/>
                <a:pathLst>
                  <a:path w="794" h="619">
                    <a:moveTo>
                      <a:pt x="627" y="31"/>
                    </a:moveTo>
                    <a:cubicBezTo>
                      <a:pt x="560" y="11"/>
                      <a:pt x="493" y="9"/>
                      <a:pt x="424" y="0"/>
                    </a:cubicBezTo>
                    <a:cubicBezTo>
                      <a:pt x="353" y="11"/>
                      <a:pt x="289" y="24"/>
                      <a:pt x="221" y="46"/>
                    </a:cubicBezTo>
                    <a:cubicBezTo>
                      <a:pt x="206" y="62"/>
                      <a:pt x="192" y="79"/>
                      <a:pt x="175" y="93"/>
                    </a:cubicBezTo>
                    <a:cubicBezTo>
                      <a:pt x="135" y="126"/>
                      <a:pt x="50" y="187"/>
                      <a:pt x="50" y="187"/>
                    </a:cubicBezTo>
                    <a:cubicBezTo>
                      <a:pt x="43" y="226"/>
                      <a:pt x="31" y="245"/>
                      <a:pt x="19" y="280"/>
                    </a:cubicBezTo>
                    <a:cubicBezTo>
                      <a:pt x="17" y="310"/>
                      <a:pt x="0" y="468"/>
                      <a:pt x="19" y="498"/>
                    </a:cubicBezTo>
                    <a:cubicBezTo>
                      <a:pt x="38" y="527"/>
                      <a:pt x="81" y="529"/>
                      <a:pt x="112" y="545"/>
                    </a:cubicBezTo>
                    <a:cubicBezTo>
                      <a:pt x="210" y="595"/>
                      <a:pt x="345" y="581"/>
                      <a:pt x="455" y="592"/>
                    </a:cubicBezTo>
                    <a:cubicBezTo>
                      <a:pt x="512" y="590"/>
                      <a:pt x="704" y="619"/>
                      <a:pt x="759" y="545"/>
                    </a:cubicBezTo>
                    <a:cubicBezTo>
                      <a:pt x="777" y="494"/>
                      <a:pt x="794" y="354"/>
                      <a:pt x="759" y="319"/>
                    </a:cubicBezTo>
                    <a:cubicBezTo>
                      <a:pt x="680" y="240"/>
                      <a:pt x="549" y="166"/>
                      <a:pt x="549" y="31"/>
                    </a:cubicBezTo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86680" y="3571560"/>
                <a:ext cx="676440" cy="1158840"/>
              </a:xfrm>
              <a:custGeom>
                <a:avLst/>
                <a:gdLst/>
                <a:ahLst/>
                <a:rect l="l" t="t" r="r" b="b"/>
                <a:pathLst>
                  <a:path w="426" h="730">
                    <a:moveTo>
                      <a:pt x="288" y="20"/>
                    </a:moveTo>
                    <a:cubicBezTo>
                      <a:pt x="192" y="0"/>
                      <a:pt x="100" y="20"/>
                      <a:pt x="0" y="20"/>
                    </a:cubicBezTo>
                    <a:cubicBezTo>
                      <a:pt x="7" y="716"/>
                      <a:pt x="7" y="482"/>
                      <a:pt x="7" y="721"/>
                    </a:cubicBezTo>
                    <a:cubicBezTo>
                      <a:pt x="61" y="724"/>
                      <a:pt x="115" y="730"/>
                      <a:pt x="169" y="729"/>
                    </a:cubicBezTo>
                    <a:cubicBezTo>
                      <a:pt x="230" y="728"/>
                      <a:pt x="350" y="713"/>
                      <a:pt x="350" y="713"/>
                    </a:cubicBezTo>
                    <a:cubicBezTo>
                      <a:pt x="370" y="702"/>
                      <a:pt x="404" y="703"/>
                      <a:pt x="409" y="681"/>
                    </a:cubicBezTo>
                    <a:cubicBezTo>
                      <a:pt x="426" y="612"/>
                      <a:pt x="390" y="466"/>
                      <a:pt x="381" y="386"/>
                    </a:cubicBezTo>
                    <a:cubicBezTo>
                      <a:pt x="377" y="320"/>
                      <a:pt x="384" y="107"/>
                      <a:pt x="311" y="66"/>
                    </a:cubicBezTo>
                    <a:cubicBezTo>
                      <a:pt x="288" y="53"/>
                      <a:pt x="259" y="61"/>
                      <a:pt x="233" y="59"/>
                    </a:cubicBezTo>
                    <a:cubicBezTo>
                      <a:pt x="217" y="33"/>
                      <a:pt x="227" y="35"/>
                      <a:pt x="210" y="35"/>
                    </a:cubicBezTo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29640" y="3306600"/>
                <a:ext cx="866880" cy="725400"/>
              </a:xfrm>
              <a:custGeom>
                <a:avLst/>
                <a:gdLst/>
                <a:ahLst/>
                <a:rect l="l" t="t" r="r" b="b"/>
                <a:pathLst>
                  <a:path w="546" h="457">
                    <a:moveTo>
                      <a:pt x="538" y="77"/>
                    </a:moveTo>
                    <a:cubicBezTo>
                      <a:pt x="404" y="6"/>
                      <a:pt x="359" y="0"/>
                      <a:pt x="202" y="0"/>
                    </a:cubicBezTo>
                    <a:cubicBezTo>
                      <a:pt x="137" y="72"/>
                      <a:pt x="0" y="151"/>
                      <a:pt x="78" y="257"/>
                    </a:cubicBezTo>
                    <a:cubicBezTo>
                      <a:pt x="149" y="353"/>
                      <a:pt x="114" y="332"/>
                      <a:pt x="163" y="358"/>
                    </a:cubicBezTo>
                    <a:cubicBezTo>
                      <a:pt x="225" y="381"/>
                      <a:pt x="288" y="404"/>
                      <a:pt x="350" y="428"/>
                    </a:cubicBezTo>
                    <a:cubicBezTo>
                      <a:pt x="384" y="442"/>
                      <a:pt x="382" y="457"/>
                      <a:pt x="382" y="436"/>
                    </a:cubicBezTo>
                    <a:cubicBezTo>
                      <a:pt x="408" y="418"/>
                      <a:pt x="437" y="403"/>
                      <a:pt x="460" y="381"/>
                    </a:cubicBezTo>
                    <a:cubicBezTo>
                      <a:pt x="546" y="300"/>
                      <a:pt x="545" y="185"/>
                      <a:pt x="538" y="77"/>
                    </a:cubicBezTo>
                    <a:close/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414040" y="4887720"/>
              <a:ext cx="3099240" cy="52020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 current sources in parallel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ree resistors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1440" y="2367000"/>
          <a:ext cx="409104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0" y="2367000"/>
                    <a:ext cx="409104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4344840" y="259560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4440" y="2976480"/>
          <a:ext cx="180036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440" y="2976480"/>
                    <a:ext cx="180036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3" name=""/>
          <p:cNvGrpSpPr/>
          <p:nvPr/>
        </p:nvGrpSpPr>
        <p:grpSpPr>
          <a:xfrm>
            <a:off x="1144440" y="2290680"/>
            <a:ext cx="1116000" cy="495360"/>
            <a:chOff x="1144440" y="2290680"/>
            <a:chExt cx="1116000" cy="495360"/>
          </a:xfrm>
        </p:grpSpPr>
        <p:sp>
          <p:nvSpPr>
            <p:cNvPr id="284" name=""/>
            <p:cNvSpPr/>
            <p:nvPr/>
          </p:nvSpPr>
          <p:spPr>
            <a:xfrm>
              <a:off x="1144440" y="2671560"/>
              <a:ext cx="68580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1906560" y="2290680"/>
                  <a:ext cx="353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6" name=""/>
          <p:cNvGrpSpPr/>
          <p:nvPr/>
        </p:nvGrpSpPr>
        <p:grpSpPr>
          <a:xfrm>
            <a:off x="3657600" y="5562720"/>
            <a:ext cx="4800600" cy="766800"/>
            <a:chOff x="3657600" y="5562720"/>
            <a:chExt cx="4800600" cy="766800"/>
          </a:xfrm>
        </p:grpSpPr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657600" y="5708880"/>
                  <a:ext cx="15238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6172200" y="5562720"/>
                  <a:ext cx="228600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9" name=""/>
          <p:cNvSpPr/>
          <p:nvPr/>
        </p:nvSpPr>
        <p:spPr>
          <a:xfrm>
            <a:off x="5869080" y="2671920"/>
            <a:ext cx="914400" cy="213336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geaux" descr=""/>
          <p:cNvPicPr/>
          <p:nvPr/>
        </p:nvPicPr>
        <p:blipFill>
          <a:blip r:embed="rId1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6960" y="557280"/>
            <a:ext cx="2617560" cy="6148440"/>
            <a:chOff x="66960" y="557280"/>
            <a:chExt cx="2617560" cy="6148440"/>
          </a:xfrm>
        </p:grpSpPr>
        <p:sp>
          <p:nvSpPr>
            <p:cNvPr id="294" name=""/>
            <p:cNvSpPr/>
            <p:nvPr/>
          </p:nvSpPr>
          <p:spPr>
            <a:xfrm>
              <a:off x="152280" y="557280"/>
              <a:ext cx="2532240" cy="2033640"/>
            </a:xfrm>
            <a:custGeom>
              <a:avLst/>
              <a:gdLst/>
              <a:ahLst/>
              <a:rect l="l" t="t" r="r" b="b"/>
              <a:pathLst>
                <a:path w="1595" h="1281">
                  <a:moveTo>
                    <a:pt x="5" y="23"/>
                  </a:moveTo>
                  <a:cubicBezTo>
                    <a:pt x="316" y="34"/>
                    <a:pt x="623" y="15"/>
                    <a:pt x="933" y="0"/>
                  </a:cubicBezTo>
                  <a:cubicBezTo>
                    <a:pt x="1002" y="1"/>
                    <a:pt x="1364" y="4"/>
                    <a:pt x="1501" y="15"/>
                  </a:cubicBezTo>
                  <a:cubicBezTo>
                    <a:pt x="1532" y="18"/>
                    <a:pt x="1562" y="31"/>
                    <a:pt x="1595" y="31"/>
                  </a:cubicBezTo>
                  <a:lnTo>
                    <a:pt x="1584" y="1185"/>
                  </a:lnTo>
                  <a:lnTo>
                    <a:pt x="0" y="1281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320" y="4876920"/>
              <a:ext cx="144756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0" y="0"/>
                  </a:moveTo>
                  <a:lnTo>
                    <a:pt x="912" y="0"/>
                  </a:lnTo>
                  <a:lnTo>
                    <a:pt x="912" y="1152"/>
                  </a:lnTo>
                  <a:lnTo>
                    <a:pt x="0" y="1152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60" y="2133720"/>
              <a:ext cx="2183400" cy="3070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ahoma"/>
                </a:rPr>
                <a:t>EQUIVALENT CIRCU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85440" y="5334120"/>
            <a:ext cx="724320" cy="914040"/>
            <a:chOff x="685440" y="5334120"/>
            <a:chExt cx="724320" cy="914040"/>
          </a:xfrm>
        </p:grpSpPr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990720" y="5562720"/>
                  <a:ext cx="4190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9" name=""/>
            <p:cNvSpPr/>
            <p:nvPr/>
          </p:nvSpPr>
          <p:spPr>
            <a:xfrm flipH="1" flipV="1">
              <a:off x="685440" y="5866920"/>
              <a:ext cx="3049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219320" y="533412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193680" y="4800600"/>
            <a:ext cx="8821800" cy="1281240"/>
            <a:chOff x="193680" y="4800600"/>
            <a:chExt cx="8821800" cy="1281240"/>
          </a:xfrm>
        </p:grpSpPr>
        <p:sp>
          <p:nvSpPr>
            <p:cNvPr id="302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7920" y="5257800"/>
              <a:ext cx="58672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NOW REVIEW SEVERAL EFFICIENT APPROACH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DETERMINE THEVENIN OR NORTO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482760" y="160020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60020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72000" y="1905120"/>
                <a:ext cx="43308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0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54720" y="339840"/>
            <a:ext cx="447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RECAP OF SOURCE 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62600" y="7920"/>
            <a:ext cx="7713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 General Procedure to Determine the Thevenin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16080" y="2895480"/>
            <a:ext cx="5094000" cy="1067040"/>
            <a:chOff x="316080" y="2895480"/>
            <a:chExt cx="5094000" cy="1067040"/>
          </a:xfrm>
        </p:grpSpPr>
        <p:sp>
          <p:nvSpPr>
            <p:cNvPr id="313" name=""/>
            <p:cNvSpPr/>
            <p:nvPr/>
          </p:nvSpPr>
          <p:spPr>
            <a:xfrm>
              <a:off x="316080" y="2895480"/>
              <a:ext cx="2658600" cy="100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 Determin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837520" y="2895480"/>
              <a:ext cx="2572560" cy="1067040"/>
              <a:chOff x="2837520" y="2895480"/>
              <a:chExt cx="2572560" cy="1067040"/>
            </a:xfrm>
          </p:grpSpPr>
          <p:sp>
            <p:nvSpPr>
              <p:cNvPr id="315" name=""/>
              <p:cNvSpPr/>
              <p:nvPr/>
            </p:nvSpPr>
            <p:spPr>
              <a:xfrm>
                <a:off x="2837520" y="2895480"/>
                <a:ext cx="2463840" cy="100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Remove part B 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mpute the OP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IRCUIT voltag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6" name=""/>
                  <p:cNvSpPr txBox="1"/>
                  <p:nvPr/>
                </p:nvSpPr>
                <p:spPr>
                  <a:xfrm>
                    <a:off x="4956120" y="3544920"/>
                    <a:ext cx="453960" cy="417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17" name=""/>
          <p:cNvGrpSpPr/>
          <p:nvPr/>
        </p:nvGrpSpPr>
        <p:grpSpPr>
          <a:xfrm>
            <a:off x="248760" y="4572000"/>
            <a:ext cx="4801680" cy="1015200"/>
            <a:chOff x="248760" y="4572000"/>
            <a:chExt cx="4801680" cy="1015200"/>
          </a:xfrm>
        </p:grpSpPr>
        <p:sp>
          <p:nvSpPr>
            <p:cNvPr id="318" name=""/>
            <p:cNvSpPr/>
            <p:nvPr/>
          </p:nvSpPr>
          <p:spPr>
            <a:xfrm>
              <a:off x="248760" y="4578480"/>
              <a:ext cx="2256480" cy="100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. Determin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HORT 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2457360" y="4572000"/>
              <a:ext cx="2593080" cy="1008720"/>
              <a:chOff x="2457360" y="4572000"/>
              <a:chExt cx="2593080" cy="1008720"/>
            </a:xfrm>
          </p:grpSpPr>
          <p:sp>
            <p:nvSpPr>
              <p:cNvPr id="320" name=""/>
              <p:cNvSpPr/>
              <p:nvPr/>
            </p:nvSpPr>
            <p:spPr>
              <a:xfrm>
                <a:off x="2457360" y="4572000"/>
                <a:ext cx="2593080" cy="100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Remove part B and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mpute the SH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IRCUIT curren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4572000" y="5181480"/>
                    <a:ext cx="406440" cy="37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9320" y="5683320"/>
                <a:ext cx="39304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3" name=""/>
          <p:cNvGrpSpPr/>
          <p:nvPr/>
        </p:nvGrpSpPr>
        <p:grpSpPr>
          <a:xfrm>
            <a:off x="5638680" y="4241880"/>
            <a:ext cx="3276720" cy="2178000"/>
            <a:chOff x="5638680" y="4241880"/>
            <a:chExt cx="3276720" cy="2178000"/>
          </a:xfrm>
        </p:grpSpPr>
        <p:graphicFrame>
          <p:nvGraphicFramePr>
            <p:cNvPr id="324" name=""/>
            <p:cNvGraphicFramePr/>
            <p:nvPr/>
          </p:nvGraphicFramePr>
          <p:xfrm>
            <a:off x="5638680" y="4648320"/>
            <a:ext cx="2982960" cy="177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648320"/>
                      <a:ext cx="2982960" cy="17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6" name=""/>
            <p:cNvGrpSpPr/>
            <p:nvPr/>
          </p:nvGrpSpPr>
          <p:grpSpPr>
            <a:xfrm>
              <a:off x="8458200" y="5105520"/>
              <a:ext cx="457200" cy="914400"/>
              <a:chOff x="8458200" y="5105520"/>
              <a:chExt cx="457200" cy="914400"/>
            </a:xfrm>
          </p:grpSpPr>
          <p:sp>
            <p:nvSpPr>
              <p:cNvPr id="327" name=""/>
              <p:cNvSpPr/>
              <p:nvPr/>
            </p:nvSpPr>
            <p:spPr>
              <a:xfrm>
                <a:off x="8458200" y="5105520"/>
                <a:ext cx="0" cy="9144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8" name=""/>
                  <p:cNvSpPr txBox="1"/>
                  <p:nvPr/>
                </p:nvSpPr>
                <p:spPr>
                  <a:xfrm>
                    <a:off x="8539200" y="5346720"/>
                    <a:ext cx="37620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29" name=""/>
            <p:cNvSpPr/>
            <p:nvPr/>
          </p:nvSpPr>
          <p:spPr>
            <a:xfrm>
              <a:off x="5845680" y="4241880"/>
              <a:ext cx="293292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cond circuit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295280" y="457200"/>
                <a:ext cx="462276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Open Circuit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voltage at a-b if Part B is removed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Short Circuit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current through a - b if Part B is repla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by a short circuit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5764320" y="2133720"/>
            <a:ext cx="3379320" cy="2152440"/>
            <a:chOff x="5764320" y="2133720"/>
            <a:chExt cx="3379320" cy="2152440"/>
          </a:xfrm>
        </p:grpSpPr>
        <p:sp>
          <p:nvSpPr>
            <p:cNvPr id="335" name=""/>
            <p:cNvSpPr/>
            <p:nvPr/>
          </p:nvSpPr>
          <p:spPr>
            <a:xfrm>
              <a:off x="6062040" y="2133720"/>
              <a:ext cx="255816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e circuit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8735760" y="2895480"/>
                  <a:ext cx="40788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337" name=""/>
            <p:cNvGraphicFramePr/>
            <p:nvPr/>
          </p:nvGraphicFramePr>
          <p:xfrm>
            <a:off x="5764320" y="2514600"/>
            <a:ext cx="2982600" cy="1771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514600"/>
                      <a:ext cx="2982600" cy="17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0640" y="81000"/>
            <a:ext cx="6174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DETERMINING THE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28600" y="380880"/>
          <a:ext cx="419112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419112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4680000" y="463680"/>
            <a:ext cx="38001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 B is irreleva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voltage V_ab will be the value of 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venin  equivalent sou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1480" y="1225440"/>
            <a:ext cx="42649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at is an efficient technique to comput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057400" y="380880"/>
            <a:ext cx="500040" cy="533520"/>
            <a:chOff x="2057400" y="380880"/>
            <a:chExt cx="500040" cy="533520"/>
          </a:xfrm>
        </p:grpSpPr>
        <p:sp>
          <p:nvSpPr>
            <p:cNvPr id="345" name=""/>
            <p:cNvSpPr/>
            <p:nvPr/>
          </p:nvSpPr>
          <p:spPr>
            <a:xfrm>
              <a:off x="2209680" y="762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2057400" y="380880"/>
                  <a:ext cx="5000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7" name=""/>
          <p:cNvSpPr/>
          <p:nvPr/>
        </p:nvSpPr>
        <p:spPr>
          <a:xfrm>
            <a:off x="685800" y="762120"/>
            <a:ext cx="15228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1960" y="2301840"/>
            <a:ext cx="3088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w for the 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ts try source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741760" y="912960"/>
            <a:ext cx="573120" cy="838080"/>
            <a:chOff x="2741760" y="912960"/>
            <a:chExt cx="573120" cy="838080"/>
          </a:xfrm>
        </p:grpSpPr>
        <p:sp>
          <p:nvSpPr>
            <p:cNvPr id="350" name=""/>
            <p:cNvSpPr/>
            <p:nvPr/>
          </p:nvSpPr>
          <p:spPr>
            <a:xfrm>
              <a:off x="2741760" y="912960"/>
              <a:ext cx="0" cy="838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819520" y="1143000"/>
                  <a:ext cx="4953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57200" y="4419720"/>
                <a:ext cx="17524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1155600" y="969840"/>
            <a:ext cx="978120" cy="690840"/>
          </a:xfrm>
          <a:custGeom>
            <a:avLst/>
            <a:gdLst/>
            <a:ahLst/>
            <a:rect l="l" t="t" r="r" b="b"/>
            <a:pathLst>
              <a:path w="616" h="435">
                <a:moveTo>
                  <a:pt x="513" y="21"/>
                </a:moveTo>
                <a:cubicBezTo>
                  <a:pt x="428" y="0"/>
                  <a:pt x="110" y="21"/>
                  <a:pt x="59" y="21"/>
                </a:cubicBezTo>
                <a:cubicBezTo>
                  <a:pt x="0" y="136"/>
                  <a:pt x="26" y="295"/>
                  <a:pt x="26" y="411"/>
                </a:cubicBezTo>
                <a:cubicBezTo>
                  <a:pt x="191" y="431"/>
                  <a:pt x="328" y="435"/>
                  <a:pt x="505" y="435"/>
                </a:cubicBezTo>
                <a:cubicBezTo>
                  <a:pt x="519" y="392"/>
                  <a:pt x="537" y="355"/>
                  <a:pt x="553" y="313"/>
                </a:cubicBezTo>
                <a:cubicBezTo>
                  <a:pt x="561" y="236"/>
                  <a:pt x="616" y="75"/>
                  <a:pt x="529" y="46"/>
                </a:cubicBezTo>
                <a:cubicBezTo>
                  <a:pt x="520" y="18"/>
                  <a:pt x="530" y="21"/>
                  <a:pt x="513" y="21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6920" y="2971800"/>
            <a:ext cx="4250160" cy="806400"/>
            <a:chOff x="16920" y="2971800"/>
            <a:chExt cx="4250160" cy="806400"/>
          </a:xfrm>
        </p:grpSpPr>
        <p:sp>
          <p:nvSpPr>
            <p:cNvPr id="355" name=""/>
            <p:cNvSpPr/>
            <p:nvPr/>
          </p:nvSpPr>
          <p:spPr>
            <a:xfrm>
              <a:off x="16920" y="2971800"/>
              <a:ext cx="34650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en the current source is open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through the short circui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3352680" y="2971800"/>
                  <a:ext cx="91440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61560" y="3816360"/>
            <a:ext cx="4497840" cy="560520"/>
            <a:chOff x="61560" y="3816360"/>
            <a:chExt cx="4497840" cy="560520"/>
          </a:xfrm>
        </p:grpSpPr>
        <p:sp>
          <p:nvSpPr>
            <p:cNvPr id="358" name=""/>
            <p:cNvSpPr/>
            <p:nvPr/>
          </p:nvSpPr>
          <p:spPr>
            <a:xfrm>
              <a:off x="61560" y="3816360"/>
              <a:ext cx="369036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en the voltage source is set to zero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through the short circuit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3657600" y="3962520"/>
                  <a:ext cx="90180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458640" y="5340240"/>
            <a:ext cx="3710160" cy="1433520"/>
            <a:chOff x="458640" y="5340240"/>
            <a:chExt cx="3710160" cy="1433520"/>
          </a:xfrm>
        </p:grpSpPr>
        <p:sp>
          <p:nvSpPr>
            <p:cNvPr id="361" name=""/>
            <p:cNvSpPr/>
            <p:nvPr/>
          </p:nvSpPr>
          <p:spPr>
            <a:xfrm>
              <a:off x="458640" y="5340240"/>
              <a:ext cx="37101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o compute the Thevenin resistance 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533520" y="5943600"/>
                  <a:ext cx="129528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800600" y="4038480"/>
                <a:ext cx="304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4" name=""/>
          <p:cNvGrpSpPr/>
          <p:nvPr/>
        </p:nvGrpSpPr>
        <p:grpSpPr>
          <a:xfrm>
            <a:off x="1941840" y="5645160"/>
            <a:ext cx="7093080" cy="1216080"/>
            <a:chOff x="1941840" y="5645160"/>
            <a:chExt cx="7093080" cy="1216080"/>
          </a:xfrm>
        </p:grpSpPr>
        <p:sp>
          <p:nvSpPr>
            <p:cNvPr id="365" name=""/>
            <p:cNvSpPr/>
            <p:nvPr/>
          </p:nvSpPr>
          <p:spPr>
            <a:xfrm>
              <a:off x="1941840" y="6127920"/>
              <a:ext cx="6017760" cy="733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this case the Thevenin resistance can be computed 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resistance from a - b when all independent sources have b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57600" y="5645160"/>
              <a:ext cx="877320" cy="733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s this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ul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85800" y="762120"/>
            <a:ext cx="165240" cy="1066680"/>
          </a:xfrm>
          <a:custGeom>
            <a:avLst/>
            <a:gdLst/>
            <a:ahLst/>
            <a:rect l="l" t="t" r="r" b="b"/>
            <a:pathLst>
              <a:path w="104" h="672">
                <a:moveTo>
                  <a:pt x="0" y="0"/>
                </a:moveTo>
                <a:cubicBezTo>
                  <a:pt x="44" y="64"/>
                  <a:pt x="88" y="128"/>
                  <a:pt x="96" y="240"/>
                </a:cubicBezTo>
                <a:cubicBezTo>
                  <a:pt x="104" y="352"/>
                  <a:pt x="56" y="600"/>
                  <a:pt x="48" y="672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800600" y="1752480"/>
            <a:ext cx="4181400" cy="2301840"/>
            <a:chOff x="4800600" y="1752480"/>
            <a:chExt cx="4181400" cy="2301840"/>
          </a:xfrm>
        </p:grpSpPr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4800600" y="1752480"/>
                  <a:ext cx="3098880" cy="23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7932600" y="2139840"/>
              <a:ext cx="10494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214720" y="4873680"/>
            <a:ext cx="5100480" cy="1119240"/>
            <a:chOff x="2214720" y="4873680"/>
            <a:chExt cx="5100480" cy="1119240"/>
          </a:xfrm>
        </p:grpSpPr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5638680" y="5181480"/>
                  <a:ext cx="1676520" cy="81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3" name=""/>
            <p:cNvSpPr/>
            <p:nvPr/>
          </p:nvSpPr>
          <p:spPr>
            <a:xfrm>
              <a:off x="2214720" y="4873680"/>
              <a:ext cx="3402000" cy="420480"/>
            </a:xfrm>
            <a:custGeom>
              <a:avLst/>
              <a:gdLst/>
              <a:ahLst/>
              <a:rect l="l" t="t" r="r" b="b"/>
              <a:pathLst>
                <a:path w="2143" h="265">
                  <a:moveTo>
                    <a:pt x="0" y="47"/>
                  </a:moveTo>
                  <a:cubicBezTo>
                    <a:pt x="520" y="27"/>
                    <a:pt x="1037" y="14"/>
                    <a:pt x="1558" y="8"/>
                  </a:cubicBezTo>
                  <a:cubicBezTo>
                    <a:pt x="1587" y="5"/>
                    <a:pt x="1644" y="0"/>
                    <a:pt x="1644" y="0"/>
                  </a:cubicBezTo>
                  <a:cubicBezTo>
                    <a:pt x="1512" y="0"/>
                    <a:pt x="1379" y="0"/>
                    <a:pt x="1247" y="0"/>
                  </a:cubicBezTo>
                  <a:cubicBezTo>
                    <a:pt x="1268" y="29"/>
                    <a:pt x="1282" y="63"/>
                    <a:pt x="1309" y="86"/>
                  </a:cubicBezTo>
                  <a:cubicBezTo>
                    <a:pt x="1321" y="96"/>
                    <a:pt x="1340" y="91"/>
                    <a:pt x="1356" y="94"/>
                  </a:cubicBezTo>
                  <a:cubicBezTo>
                    <a:pt x="1377" y="99"/>
                    <a:pt x="1397" y="105"/>
                    <a:pt x="1418" y="110"/>
                  </a:cubicBezTo>
                  <a:cubicBezTo>
                    <a:pt x="1472" y="145"/>
                    <a:pt x="1402" y="104"/>
                    <a:pt x="1488" y="133"/>
                  </a:cubicBezTo>
                  <a:cubicBezTo>
                    <a:pt x="1497" y="136"/>
                    <a:pt x="1503" y="145"/>
                    <a:pt x="1512" y="149"/>
                  </a:cubicBezTo>
                  <a:cubicBezTo>
                    <a:pt x="1547" y="164"/>
                    <a:pt x="1568" y="166"/>
                    <a:pt x="1605" y="172"/>
                  </a:cubicBezTo>
                  <a:cubicBezTo>
                    <a:pt x="1667" y="204"/>
                    <a:pt x="1732" y="208"/>
                    <a:pt x="1800" y="219"/>
                  </a:cubicBezTo>
                  <a:cubicBezTo>
                    <a:pt x="1913" y="237"/>
                    <a:pt x="2028" y="265"/>
                    <a:pt x="2143" y="265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91320" y="76320"/>
            <a:ext cx="8567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hevenin Equivalent in Circuits with 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6600" y="615960"/>
            <a:ext cx="63849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hevenin Equivalent Source is computed as the open loop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240" y="1073160"/>
            <a:ext cx="88585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hevenin Equivalent Resistance CAN BE COMPUTED by setting to zero all the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then determining the resistance seen from the terminals where the equivalent will be pla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2280" y="1600200"/>
          <a:ext cx="43434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52280" y="1600200"/>
                    <a:ext cx="4343400" cy="1549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1028880" y="2095560"/>
            <a:ext cx="914400" cy="901800"/>
          </a:xfrm>
          <a:custGeom>
            <a:avLst/>
            <a:gdLst/>
            <a:ahLst/>
            <a:rect l="l" t="t" r="r" b="b"/>
            <a:pathLst>
              <a:path w="576" h="568">
                <a:moveTo>
                  <a:pt x="504" y="72"/>
                </a:moveTo>
                <a:cubicBezTo>
                  <a:pt x="432" y="0"/>
                  <a:pt x="144" y="8"/>
                  <a:pt x="72" y="72"/>
                </a:cubicBezTo>
                <a:cubicBezTo>
                  <a:pt x="0" y="136"/>
                  <a:pt x="0" y="384"/>
                  <a:pt x="72" y="456"/>
                </a:cubicBezTo>
                <a:cubicBezTo>
                  <a:pt x="144" y="528"/>
                  <a:pt x="432" y="568"/>
                  <a:pt x="504" y="504"/>
                </a:cubicBezTo>
                <a:cubicBezTo>
                  <a:pt x="576" y="440"/>
                  <a:pt x="576" y="144"/>
                  <a:pt x="504" y="72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7840" y="2046240"/>
            <a:ext cx="241200" cy="1003320"/>
          </a:xfrm>
          <a:custGeom>
            <a:avLst/>
            <a:gdLst/>
            <a:ahLst/>
            <a:rect l="l" t="t" r="r" b="b"/>
            <a:pathLst>
              <a:path w="152" h="632">
                <a:moveTo>
                  <a:pt x="104" y="8"/>
                </a:moveTo>
                <a:cubicBezTo>
                  <a:pt x="52" y="4"/>
                  <a:pt x="0" y="0"/>
                  <a:pt x="8" y="104"/>
                </a:cubicBezTo>
                <a:cubicBezTo>
                  <a:pt x="16" y="208"/>
                  <a:pt x="128" y="544"/>
                  <a:pt x="152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930920" y="1600200"/>
          <a:ext cx="2536560" cy="16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4930920" y="1600200"/>
                    <a:ext cx="2536560" cy="163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457200" y="3429000"/>
          <a:ext cx="3255840" cy="15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429000"/>
                    <a:ext cx="3255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"/>
          <p:cNvGrpSpPr/>
          <p:nvPr/>
        </p:nvGrpSpPr>
        <p:grpSpPr>
          <a:xfrm>
            <a:off x="2209680" y="3282840"/>
            <a:ext cx="2409480" cy="1670040"/>
            <a:chOff x="2209680" y="3282840"/>
            <a:chExt cx="2409480" cy="1670040"/>
          </a:xfrm>
        </p:grpSpPr>
        <p:sp>
          <p:nvSpPr>
            <p:cNvPr id="389" name=""/>
            <p:cNvSpPr/>
            <p:nvPr/>
          </p:nvSpPr>
          <p:spPr>
            <a:xfrm>
              <a:off x="2209680" y="3657600"/>
              <a:ext cx="152640" cy="15228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09680" y="4572000"/>
              <a:ext cx="152640" cy="15228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22640" y="3289320"/>
              <a:ext cx="1587240" cy="1663560"/>
            </a:xfrm>
            <a:custGeom>
              <a:avLst/>
              <a:gdLst/>
              <a:ahLst/>
              <a:rect l="l" t="t" r="r" b="b"/>
              <a:pathLst>
                <a:path w="1000" h="1048">
                  <a:moveTo>
                    <a:pt x="904" y="88"/>
                  </a:moveTo>
                  <a:cubicBezTo>
                    <a:pt x="608" y="44"/>
                    <a:pt x="312" y="0"/>
                    <a:pt x="184" y="136"/>
                  </a:cubicBezTo>
                  <a:cubicBezTo>
                    <a:pt x="56" y="272"/>
                    <a:pt x="0" y="760"/>
                    <a:pt x="136" y="904"/>
                  </a:cubicBezTo>
                  <a:cubicBezTo>
                    <a:pt x="272" y="1048"/>
                    <a:pt x="856" y="984"/>
                    <a:pt x="1000" y="1000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36080" y="3282840"/>
              <a:ext cx="8830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733920" y="3962520"/>
                <a:ext cx="1295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4" name=""/>
          <p:cNvGraphicFramePr/>
          <p:nvPr/>
        </p:nvGraphicFramePr>
        <p:xfrm>
          <a:off x="228600" y="5181480"/>
          <a:ext cx="4721400" cy="151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8148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6" name=""/>
          <p:cNvGrpSpPr/>
          <p:nvPr/>
        </p:nvGrpSpPr>
        <p:grpSpPr>
          <a:xfrm>
            <a:off x="2209680" y="5105520"/>
            <a:ext cx="3547440" cy="1650960"/>
            <a:chOff x="2209680" y="5105520"/>
            <a:chExt cx="3547440" cy="1650960"/>
          </a:xfrm>
        </p:grpSpPr>
        <p:sp>
          <p:nvSpPr>
            <p:cNvPr id="397" name=""/>
            <p:cNvSpPr/>
            <p:nvPr/>
          </p:nvSpPr>
          <p:spPr>
            <a:xfrm>
              <a:off x="2209680" y="5105520"/>
              <a:ext cx="2667240" cy="1650960"/>
            </a:xfrm>
            <a:custGeom>
              <a:avLst/>
              <a:gdLst/>
              <a:ahLst/>
              <a:rect l="l" t="t" r="r" b="b"/>
              <a:pathLst>
                <a:path w="1680" h="1040">
                  <a:moveTo>
                    <a:pt x="912" y="48"/>
                  </a:moveTo>
                  <a:cubicBezTo>
                    <a:pt x="632" y="24"/>
                    <a:pt x="352" y="0"/>
                    <a:pt x="240" y="144"/>
                  </a:cubicBezTo>
                  <a:cubicBezTo>
                    <a:pt x="128" y="288"/>
                    <a:pt x="0" y="784"/>
                    <a:pt x="240" y="912"/>
                  </a:cubicBezTo>
                  <a:cubicBezTo>
                    <a:pt x="480" y="1040"/>
                    <a:pt x="1440" y="912"/>
                    <a:pt x="1680" y="912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4040" y="6407280"/>
              <a:ext cx="8830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800600" y="5867280"/>
                <a:ext cx="12952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33520" y="5638680"/>
            <a:ext cx="304560" cy="83844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96" y="28"/>
                  <a:pt x="0" y="56"/>
                  <a:pt x="0" y="144"/>
                </a:cubicBezTo>
                <a:cubicBezTo>
                  <a:pt x="0" y="232"/>
                  <a:pt x="96" y="380"/>
                  <a:pt x="192" y="5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7880" y="3587760"/>
            <a:ext cx="34329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ce the evaluation of the Theve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can be very simple,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n add it to our toolkit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of circu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76320" y="1038240"/>
          <a:ext cx="4495680" cy="21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38240"/>
                    <a:ext cx="449568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76320" y="152280"/>
          <a:ext cx="418932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52280"/>
                    <a:ext cx="4189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6320" y="3657600"/>
          <a:ext cx="4113000" cy="20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657600"/>
                    <a:ext cx="41130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33920" y="4724280"/>
                <a:ext cx="31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2" name=""/>
          <p:cNvGraphicFramePr/>
          <p:nvPr/>
        </p:nvGraphicFramePr>
        <p:xfrm>
          <a:off x="4876920" y="533520"/>
          <a:ext cx="3733560" cy="191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533520"/>
                    <a:ext cx="3733560" cy="19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8077320" y="1523880"/>
                <a:ext cx="442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5" name=""/>
          <p:cNvGraphicFramePr/>
          <p:nvPr/>
        </p:nvGraphicFramePr>
        <p:xfrm>
          <a:off x="5181480" y="3581280"/>
          <a:ext cx="3191040" cy="194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581280"/>
                    <a:ext cx="319104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2844720" y="1054080"/>
            <a:ext cx="1739880" cy="2377080"/>
            <a:chOff x="2844720" y="1054080"/>
            <a:chExt cx="1739880" cy="2377080"/>
          </a:xfrm>
        </p:grpSpPr>
        <p:sp>
          <p:nvSpPr>
            <p:cNvPr id="418" name=""/>
            <p:cNvSpPr/>
            <p:nvPr/>
          </p:nvSpPr>
          <p:spPr>
            <a:xfrm>
              <a:off x="2844720" y="3124080"/>
              <a:ext cx="960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52680" y="1054080"/>
              <a:ext cx="1231920" cy="2286000"/>
            </a:xfrm>
            <a:custGeom>
              <a:avLst/>
              <a:gdLst/>
              <a:ahLst/>
              <a:rect l="l" t="t" r="r" b="b"/>
              <a:pathLst>
                <a:path w="776" h="1440">
                  <a:moveTo>
                    <a:pt x="720" y="248"/>
                  </a:moveTo>
                  <a:cubicBezTo>
                    <a:pt x="748" y="168"/>
                    <a:pt x="776" y="88"/>
                    <a:pt x="720" y="56"/>
                  </a:cubicBezTo>
                  <a:cubicBezTo>
                    <a:pt x="664" y="24"/>
                    <a:pt x="472" y="0"/>
                    <a:pt x="384" y="56"/>
                  </a:cubicBezTo>
                  <a:cubicBezTo>
                    <a:pt x="296" y="112"/>
                    <a:pt x="256" y="272"/>
                    <a:pt x="192" y="392"/>
                  </a:cubicBezTo>
                  <a:cubicBezTo>
                    <a:pt x="128" y="512"/>
                    <a:pt x="0" y="616"/>
                    <a:pt x="0" y="776"/>
                  </a:cubicBezTo>
                  <a:cubicBezTo>
                    <a:pt x="0" y="936"/>
                    <a:pt x="80" y="1264"/>
                    <a:pt x="192" y="1352"/>
                  </a:cubicBezTo>
                  <a:cubicBezTo>
                    <a:pt x="304" y="1440"/>
                    <a:pt x="488" y="1372"/>
                    <a:pt x="672" y="1304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181480" y="5562720"/>
                <a:ext cx="2260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1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58520" y="111240"/>
            <a:ext cx="2581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0" y="228600"/>
          <a:ext cx="472140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168120" y="-1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31040" y="415800"/>
            <a:ext cx="42559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 the region shown, one could us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ansformation twice and reduce that part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single source with a resis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78800" y="1095480"/>
            <a:ext cx="37864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 Or we can apply Thevenin Equiva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o that part (viewed as “Part A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1628640"/>
                <a:ext cx="1339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6460920" y="1711440"/>
            <a:ext cx="25902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open loop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art outside the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 elimin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01520" y="203040"/>
            <a:ext cx="2514600" cy="2019600"/>
            <a:chOff x="101520" y="203040"/>
            <a:chExt cx="2514600" cy="2019600"/>
          </a:xfrm>
        </p:grpSpPr>
        <p:sp>
          <p:nvSpPr>
            <p:cNvPr id="433" name=""/>
            <p:cNvSpPr/>
            <p:nvPr/>
          </p:nvSpPr>
          <p:spPr>
            <a:xfrm>
              <a:off x="101520" y="203040"/>
              <a:ext cx="2514600" cy="2019600"/>
            </a:xfrm>
            <a:custGeom>
              <a:avLst/>
              <a:gdLst/>
              <a:ahLst/>
              <a:rect l="l" t="t" r="r" b="b"/>
              <a:pathLst>
                <a:path w="1584" h="1272">
                  <a:moveTo>
                    <a:pt x="1424" y="352"/>
                  </a:moveTo>
                  <a:cubicBezTo>
                    <a:pt x="1480" y="200"/>
                    <a:pt x="1584" y="192"/>
                    <a:pt x="1376" y="160"/>
                  </a:cubicBezTo>
                  <a:cubicBezTo>
                    <a:pt x="1168" y="128"/>
                    <a:pt x="352" y="0"/>
                    <a:pt x="176" y="160"/>
                  </a:cubicBezTo>
                  <a:cubicBezTo>
                    <a:pt x="0" y="320"/>
                    <a:pt x="176" y="968"/>
                    <a:pt x="320" y="1120"/>
                  </a:cubicBezTo>
                  <a:cubicBezTo>
                    <a:pt x="464" y="1272"/>
                    <a:pt x="856" y="1200"/>
                    <a:pt x="1040" y="1072"/>
                  </a:cubicBezTo>
                  <a:cubicBezTo>
                    <a:pt x="1224" y="944"/>
                    <a:pt x="1368" y="504"/>
                    <a:pt x="1424" y="352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86000" y="5335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09680" y="1447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38480" y="2066760"/>
                <a:ext cx="23623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37" name=""/>
          <p:cNvGraphicFramePr/>
          <p:nvPr/>
        </p:nvGraphicFramePr>
        <p:xfrm>
          <a:off x="0" y="2514600"/>
          <a:ext cx="385776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38577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06960" y="2139840"/>
            <a:ext cx="284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original circuit become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7760" y="1905120"/>
            <a:ext cx="1428840" cy="2149200"/>
            <a:chOff x="77760" y="1905120"/>
            <a:chExt cx="1428840" cy="2149200"/>
          </a:xfrm>
        </p:grpSpPr>
        <p:sp>
          <p:nvSpPr>
            <p:cNvPr id="441" name=""/>
            <p:cNvSpPr/>
            <p:nvPr/>
          </p:nvSpPr>
          <p:spPr>
            <a:xfrm>
              <a:off x="77760" y="2587680"/>
              <a:ext cx="1428840" cy="1466640"/>
            </a:xfrm>
            <a:custGeom>
              <a:avLst/>
              <a:gdLst/>
              <a:ahLst/>
              <a:rect l="l" t="t" r="r" b="b"/>
              <a:pathLst>
                <a:path w="900" h="924">
                  <a:moveTo>
                    <a:pt x="900" y="40"/>
                  </a:moveTo>
                  <a:cubicBezTo>
                    <a:pt x="884" y="173"/>
                    <a:pt x="863" y="371"/>
                    <a:pt x="786" y="486"/>
                  </a:cubicBezTo>
                  <a:cubicBezTo>
                    <a:pt x="769" y="554"/>
                    <a:pt x="747" y="621"/>
                    <a:pt x="729" y="689"/>
                  </a:cubicBezTo>
                  <a:cubicBezTo>
                    <a:pt x="722" y="743"/>
                    <a:pt x="714" y="797"/>
                    <a:pt x="705" y="851"/>
                  </a:cubicBezTo>
                  <a:cubicBezTo>
                    <a:pt x="703" y="864"/>
                    <a:pt x="700" y="878"/>
                    <a:pt x="697" y="891"/>
                  </a:cubicBezTo>
                  <a:cubicBezTo>
                    <a:pt x="695" y="902"/>
                    <a:pt x="689" y="924"/>
                    <a:pt x="689" y="924"/>
                  </a:cubicBezTo>
                  <a:cubicBezTo>
                    <a:pt x="601" y="903"/>
                    <a:pt x="512" y="896"/>
                    <a:pt x="421" y="891"/>
                  </a:cubicBezTo>
                  <a:cubicBezTo>
                    <a:pt x="297" y="885"/>
                    <a:pt x="48" y="875"/>
                    <a:pt x="48" y="875"/>
                  </a:cubicBezTo>
                  <a:cubicBezTo>
                    <a:pt x="37" y="707"/>
                    <a:pt x="12" y="541"/>
                    <a:pt x="0" y="373"/>
                  </a:cubicBezTo>
                  <a:cubicBezTo>
                    <a:pt x="8" y="113"/>
                    <a:pt x="8" y="205"/>
                    <a:pt x="8" y="97"/>
                  </a:cubicBezTo>
                  <a:cubicBezTo>
                    <a:pt x="13" y="90"/>
                    <a:pt x="30" y="61"/>
                    <a:pt x="40" y="56"/>
                  </a:cubicBezTo>
                  <a:cubicBezTo>
                    <a:pt x="97" y="27"/>
                    <a:pt x="166" y="12"/>
                    <a:pt x="227" y="0"/>
                  </a:cubicBezTo>
                  <a:cubicBezTo>
                    <a:pt x="378" y="3"/>
                    <a:pt x="530" y="3"/>
                    <a:pt x="681" y="8"/>
                  </a:cubicBezTo>
                  <a:cubicBezTo>
                    <a:pt x="755" y="10"/>
                    <a:pt x="822" y="40"/>
                    <a:pt x="900" y="40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0880" y="190512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cubicBezTo>
                    <a:pt x="84" y="180"/>
                    <a:pt x="24" y="360"/>
                    <a:pt x="0" y="4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263480" y="2666880"/>
            <a:ext cx="40838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one can apply Thevenin one more tim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038480" y="3305160"/>
                <a:ext cx="1308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5" name=""/>
          <p:cNvGrpSpPr/>
          <p:nvPr/>
        </p:nvGrpSpPr>
        <p:grpSpPr>
          <a:xfrm>
            <a:off x="57240" y="2522520"/>
            <a:ext cx="1847880" cy="1647720"/>
            <a:chOff x="57240" y="2522520"/>
            <a:chExt cx="1847880" cy="1647720"/>
          </a:xfrm>
        </p:grpSpPr>
        <p:sp>
          <p:nvSpPr>
            <p:cNvPr id="446" name=""/>
            <p:cNvSpPr/>
            <p:nvPr/>
          </p:nvSpPr>
          <p:spPr>
            <a:xfrm>
              <a:off x="57240" y="2522520"/>
              <a:ext cx="1834920" cy="1647720"/>
            </a:xfrm>
            <a:custGeom>
              <a:avLst/>
              <a:gdLst/>
              <a:ahLst/>
              <a:rect l="l" t="t" r="r" b="b"/>
              <a:pathLst>
                <a:path w="1156" h="1038">
                  <a:moveTo>
                    <a:pt x="1156" y="24"/>
                  </a:moveTo>
                  <a:cubicBezTo>
                    <a:pt x="1142" y="354"/>
                    <a:pt x="1156" y="684"/>
                    <a:pt x="1156" y="1014"/>
                  </a:cubicBezTo>
                  <a:cubicBezTo>
                    <a:pt x="1105" y="978"/>
                    <a:pt x="1030" y="981"/>
                    <a:pt x="969" y="973"/>
                  </a:cubicBezTo>
                  <a:cubicBezTo>
                    <a:pt x="669" y="978"/>
                    <a:pt x="611" y="958"/>
                    <a:pt x="410" y="997"/>
                  </a:cubicBezTo>
                  <a:cubicBezTo>
                    <a:pt x="381" y="1003"/>
                    <a:pt x="280" y="1006"/>
                    <a:pt x="248" y="1038"/>
                  </a:cubicBezTo>
                  <a:cubicBezTo>
                    <a:pt x="229" y="999"/>
                    <a:pt x="223" y="952"/>
                    <a:pt x="199" y="916"/>
                  </a:cubicBezTo>
                  <a:cubicBezTo>
                    <a:pt x="188" y="900"/>
                    <a:pt x="167" y="868"/>
                    <a:pt x="167" y="868"/>
                  </a:cubicBezTo>
                  <a:cubicBezTo>
                    <a:pt x="155" y="830"/>
                    <a:pt x="146" y="789"/>
                    <a:pt x="126" y="754"/>
                  </a:cubicBezTo>
                  <a:cubicBezTo>
                    <a:pt x="92" y="694"/>
                    <a:pt x="56" y="640"/>
                    <a:pt x="29" y="576"/>
                  </a:cubicBezTo>
                  <a:cubicBezTo>
                    <a:pt x="0" y="507"/>
                    <a:pt x="5" y="429"/>
                    <a:pt x="5" y="357"/>
                  </a:cubicBezTo>
                  <a:cubicBezTo>
                    <a:pt x="23" y="321"/>
                    <a:pt x="47" y="280"/>
                    <a:pt x="86" y="268"/>
                  </a:cubicBezTo>
                  <a:cubicBezTo>
                    <a:pt x="153" y="164"/>
                    <a:pt x="272" y="142"/>
                    <a:pt x="386" y="130"/>
                  </a:cubicBezTo>
                  <a:cubicBezTo>
                    <a:pt x="438" y="117"/>
                    <a:pt x="478" y="104"/>
                    <a:pt x="532" y="97"/>
                  </a:cubicBezTo>
                  <a:cubicBezTo>
                    <a:pt x="579" y="85"/>
                    <a:pt x="618" y="67"/>
                    <a:pt x="661" y="49"/>
                  </a:cubicBezTo>
                  <a:cubicBezTo>
                    <a:pt x="690" y="37"/>
                    <a:pt x="771" y="34"/>
                    <a:pt x="783" y="33"/>
                  </a:cubicBezTo>
                  <a:cubicBezTo>
                    <a:pt x="818" y="20"/>
                    <a:pt x="832" y="0"/>
                    <a:pt x="872" y="0"/>
                  </a:cubicBezTo>
                  <a:cubicBezTo>
                    <a:pt x="913" y="3"/>
                    <a:pt x="954" y="1"/>
                    <a:pt x="994" y="8"/>
                  </a:cubicBezTo>
                  <a:cubicBezTo>
                    <a:pt x="1012" y="11"/>
                    <a:pt x="1024" y="29"/>
                    <a:pt x="1042" y="33"/>
                  </a:cubicBezTo>
                  <a:cubicBezTo>
                    <a:pt x="1108" y="47"/>
                    <a:pt x="1091" y="43"/>
                    <a:pt x="1156" y="24"/>
                  </a:cubicBez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52480" y="2666880"/>
              <a:ext cx="152640" cy="228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52480" y="3657600"/>
              <a:ext cx="152640" cy="228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930320" y="2901960"/>
            <a:ext cx="7193520" cy="831960"/>
            <a:chOff x="1930320" y="2901960"/>
            <a:chExt cx="7193520" cy="831960"/>
          </a:xfrm>
        </p:grpSpPr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1930320" y="2971800"/>
                  <a:ext cx="3459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51" name=""/>
            <p:cNvSpPr/>
            <p:nvPr/>
          </p:nvSpPr>
          <p:spPr>
            <a:xfrm>
              <a:off x="6277680" y="2901960"/>
              <a:ext cx="284616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open loop voltage use 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6426000" y="3200400"/>
                  <a:ext cx="25779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53" name=""/>
          <p:cNvGraphicFramePr/>
          <p:nvPr/>
        </p:nvGraphicFramePr>
        <p:xfrm>
          <a:off x="152280" y="4648320"/>
          <a:ext cx="4295880" cy="188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648320"/>
                    <a:ext cx="429588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395280" y="4349880"/>
            <a:ext cx="37285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and we have a simple voltage divider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648320" y="5181480"/>
                <a:ext cx="2438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87960" y="0"/>
            <a:ext cx="328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0292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angelfire.com/ab3/mjramp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wDistortionAmplifier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0960" y="76320"/>
            <a:ext cx="46004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distortion audio power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140040" y="1397160"/>
            <a:ext cx="1835640" cy="2126160"/>
            <a:chOff x="-140040" y="1397160"/>
            <a:chExt cx="1835640" cy="2126160"/>
          </a:xfrm>
        </p:grpSpPr>
        <p:sp>
          <p:nvSpPr>
            <p:cNvPr id="50" name=""/>
            <p:cNvSpPr/>
            <p:nvPr/>
          </p:nvSpPr>
          <p:spPr>
            <a:xfrm>
              <a:off x="216000" y="1397160"/>
              <a:ext cx="88920" cy="1422360"/>
            </a:xfrm>
            <a:custGeom>
              <a:avLst/>
              <a:gdLst/>
              <a:ahLst/>
              <a:rect l="l" t="t" r="r" b="b"/>
              <a:pathLst>
                <a:path w="56" h="896">
                  <a:moveTo>
                    <a:pt x="8" y="896"/>
                  </a:moveTo>
                  <a:cubicBezTo>
                    <a:pt x="4" y="576"/>
                    <a:pt x="0" y="256"/>
                    <a:pt x="8" y="128"/>
                  </a:cubicBezTo>
                  <a:cubicBezTo>
                    <a:pt x="16" y="0"/>
                    <a:pt x="48" y="128"/>
                    <a:pt x="56" y="128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140040" y="2819520"/>
              <a:ext cx="1835640" cy="703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m Pre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voltage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251400" y="3125880"/>
            <a:ext cx="1629360" cy="481320"/>
            <a:chOff x="6251400" y="3125880"/>
            <a:chExt cx="1629360" cy="481320"/>
          </a:xfrm>
        </p:grpSpPr>
        <p:sp>
          <p:nvSpPr>
            <p:cNvPr id="53" name=""/>
            <p:cNvSpPr/>
            <p:nvPr/>
          </p:nvSpPr>
          <p:spPr>
            <a:xfrm>
              <a:off x="6251400" y="3125880"/>
              <a:ext cx="914400" cy="1440"/>
            </a:xfrm>
            <a:custGeom>
              <a:avLst/>
              <a:gdLst/>
              <a:ahLst/>
              <a:rect l="l" t="t" r="r" b="b"/>
              <a:pathLst>
                <a:path w="576" h="1">
                  <a:moveTo>
                    <a:pt x="0" y="0"/>
                  </a:moveTo>
                  <a:cubicBezTo>
                    <a:pt x="240" y="0"/>
                    <a:pt x="480" y="0"/>
                    <a:pt x="576" y="0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7600" y="3208320"/>
              <a:ext cx="161316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o spe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-380880" y="-380880"/>
            <a:ext cx="6858000" cy="5371920"/>
          </a:xfrm>
          <a:custGeom>
            <a:avLst/>
            <a:gdLst/>
            <a:ahLst/>
            <a:rect l="l" t="t" r="r" b="b"/>
            <a:pathLst>
              <a:path w="4320" h="3384">
                <a:moveTo>
                  <a:pt x="4320" y="1680"/>
                </a:moveTo>
                <a:cubicBezTo>
                  <a:pt x="4184" y="2172"/>
                  <a:pt x="4048" y="2664"/>
                  <a:pt x="3408" y="2880"/>
                </a:cubicBezTo>
                <a:cubicBezTo>
                  <a:pt x="2768" y="3096"/>
                  <a:pt x="944" y="3384"/>
                  <a:pt x="480" y="2976"/>
                </a:cubicBezTo>
                <a:cubicBezTo>
                  <a:pt x="16" y="2568"/>
                  <a:pt x="0" y="864"/>
                  <a:pt x="624" y="432"/>
                </a:cubicBezTo>
                <a:cubicBezTo>
                  <a:pt x="1248" y="0"/>
                  <a:pt x="2736" y="192"/>
                  <a:pt x="4224" y="38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20880" y="3733920"/>
            <a:ext cx="6242040" cy="2485800"/>
            <a:chOff x="920880" y="3733920"/>
            <a:chExt cx="6242040" cy="2485800"/>
          </a:xfrm>
        </p:grpSpPr>
        <p:sp>
          <p:nvSpPr>
            <p:cNvPr id="57" name=""/>
            <p:cNvSpPr/>
            <p:nvPr/>
          </p:nvSpPr>
          <p:spPr>
            <a:xfrm>
              <a:off x="6324480" y="3733920"/>
              <a:ext cx="838440" cy="2400120"/>
            </a:xfrm>
            <a:custGeom>
              <a:avLst/>
              <a:gdLst/>
              <a:ahLst/>
              <a:rect l="l" t="t" r="r" b="b"/>
              <a:pathLst>
                <a:path w="528" h="1512">
                  <a:moveTo>
                    <a:pt x="0" y="1296"/>
                  </a:moveTo>
                  <a:cubicBezTo>
                    <a:pt x="148" y="1404"/>
                    <a:pt x="296" y="1512"/>
                    <a:pt x="384" y="1296"/>
                  </a:cubicBezTo>
                  <a:cubicBezTo>
                    <a:pt x="472" y="1080"/>
                    <a:pt x="504" y="216"/>
                    <a:pt x="528" y="0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20880" y="5486400"/>
              <a:ext cx="3531960" cy="733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O MATCH SPEAKERS AND AMPL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T IS MUCH EASIER TO CONSIDER TH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 CIRCUIT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830560" y="235080"/>
            <a:ext cx="321516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O MATCH SPEAKER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PLIFIER ONE SHOULD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95680" y="4572000"/>
            <a:ext cx="4510440" cy="2108160"/>
            <a:chOff x="4495680" y="4572000"/>
            <a:chExt cx="4510440" cy="2108160"/>
          </a:xfrm>
        </p:grpSpPr>
        <p:grpSp>
          <p:nvGrpSpPr>
            <p:cNvPr id="61" name=""/>
            <p:cNvGrpSpPr/>
            <p:nvPr/>
          </p:nvGrpSpPr>
          <p:grpSpPr>
            <a:xfrm>
              <a:off x="4495680" y="4572000"/>
              <a:ext cx="2502000" cy="2108160"/>
              <a:chOff x="4495680" y="4572000"/>
              <a:chExt cx="2502000" cy="2108160"/>
            </a:xfrm>
          </p:grpSpPr>
          <p:graphicFrame>
            <p:nvGraphicFramePr>
              <p:cNvPr id="62" name=""/>
              <p:cNvGraphicFramePr/>
              <p:nvPr/>
            </p:nvGraphicFramePr>
            <p:xfrm>
              <a:off x="5168880" y="4838400"/>
              <a:ext cx="1828800" cy="15685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6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168880" y="4838400"/>
                        <a:ext cx="1828800" cy="1568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4" name=""/>
              <p:cNvSpPr/>
              <p:nvPr/>
            </p:nvSpPr>
            <p:spPr>
              <a:xfrm>
                <a:off x="4495680" y="4572000"/>
                <a:ext cx="2133720" cy="2108160"/>
              </a:xfrm>
              <a:custGeom>
                <a:avLst/>
                <a:gdLst/>
                <a:ahLst/>
                <a:rect l="l" t="t" r="r" b="b"/>
                <a:pathLst>
                  <a:path w="1344" h="1328">
                    <a:moveTo>
                      <a:pt x="1336" y="600"/>
                    </a:moveTo>
                    <a:cubicBezTo>
                      <a:pt x="1328" y="404"/>
                      <a:pt x="1320" y="208"/>
                      <a:pt x="1288" y="120"/>
                    </a:cubicBezTo>
                    <a:cubicBezTo>
                      <a:pt x="1256" y="32"/>
                      <a:pt x="1344" y="0"/>
                      <a:pt x="1144" y="72"/>
                    </a:cubicBezTo>
                    <a:cubicBezTo>
                      <a:pt x="944" y="144"/>
                      <a:pt x="176" y="352"/>
                      <a:pt x="88" y="552"/>
                    </a:cubicBezTo>
                    <a:cubicBezTo>
                      <a:pt x="0" y="752"/>
                      <a:pt x="416" y="1216"/>
                      <a:pt x="616" y="1272"/>
                    </a:cubicBezTo>
                    <a:cubicBezTo>
                      <a:pt x="816" y="1328"/>
                      <a:pt x="1052" y="1108"/>
                      <a:pt x="1288" y="888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7053120" y="5035680"/>
              <a:ext cx="1953000" cy="733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PLACE AMPL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 SIMPL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1280" y="472428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"/>
              </a:rPr>
              <a:t>Courtesy of M.J. Renard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-76320" y="228600"/>
          <a:ext cx="472140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2860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347400" y="1440"/>
            <a:ext cx="5307480" cy="3070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r we can use Thevenin only once to get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124080" y="533520"/>
            <a:ext cx="1493640" cy="1468800"/>
            <a:chOff x="3124080" y="533520"/>
            <a:chExt cx="1493640" cy="1468800"/>
          </a:xfrm>
        </p:grpSpPr>
        <p:sp>
          <p:nvSpPr>
            <p:cNvPr id="465" name=""/>
            <p:cNvSpPr/>
            <p:nvPr/>
          </p:nvSpPr>
          <p:spPr>
            <a:xfrm>
              <a:off x="3124080" y="533520"/>
              <a:ext cx="1493640" cy="1453680"/>
            </a:xfrm>
            <a:custGeom>
              <a:avLst/>
              <a:gdLst/>
              <a:ahLst/>
              <a:rect l="l" t="t" r="r" b="b"/>
              <a:pathLst>
                <a:path w="941" h="916">
                  <a:moveTo>
                    <a:pt x="0" y="0"/>
                  </a:moveTo>
                  <a:cubicBezTo>
                    <a:pt x="17" y="87"/>
                    <a:pt x="24" y="178"/>
                    <a:pt x="33" y="267"/>
                  </a:cubicBezTo>
                  <a:cubicBezTo>
                    <a:pt x="41" y="810"/>
                    <a:pt x="41" y="618"/>
                    <a:pt x="41" y="843"/>
                  </a:cubicBezTo>
                  <a:cubicBezTo>
                    <a:pt x="113" y="851"/>
                    <a:pt x="201" y="869"/>
                    <a:pt x="276" y="875"/>
                  </a:cubicBezTo>
                  <a:cubicBezTo>
                    <a:pt x="363" y="882"/>
                    <a:pt x="536" y="891"/>
                    <a:pt x="536" y="891"/>
                  </a:cubicBezTo>
                  <a:cubicBezTo>
                    <a:pt x="667" y="916"/>
                    <a:pt x="789" y="908"/>
                    <a:pt x="925" y="908"/>
                  </a:cubicBezTo>
                  <a:lnTo>
                    <a:pt x="941" y="1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88040" y="1695240"/>
              <a:ext cx="8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7" name=""/>
          <p:cNvGraphicFramePr/>
          <p:nvPr/>
        </p:nvGraphicFramePr>
        <p:xfrm>
          <a:off x="5257800" y="380880"/>
          <a:ext cx="3203640" cy="17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880"/>
                    <a:ext cx="320364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9" name=""/>
          <p:cNvGrpSpPr/>
          <p:nvPr/>
        </p:nvGrpSpPr>
        <p:grpSpPr>
          <a:xfrm>
            <a:off x="571680" y="82440"/>
            <a:ext cx="8089200" cy="1505160"/>
            <a:chOff x="571680" y="82440"/>
            <a:chExt cx="8089200" cy="1505160"/>
          </a:xfrm>
        </p:grpSpPr>
        <p:sp>
          <p:nvSpPr>
            <p:cNvPr id="470" name=""/>
            <p:cNvSpPr/>
            <p:nvPr/>
          </p:nvSpPr>
          <p:spPr>
            <a:xfrm>
              <a:off x="2174760" y="790560"/>
              <a:ext cx="973080" cy="703440"/>
            </a:xfrm>
            <a:custGeom>
              <a:avLst/>
              <a:gdLst/>
              <a:ahLst/>
              <a:rect l="l" t="t" r="r" b="b"/>
              <a:pathLst>
                <a:path w="613" h="443">
                  <a:moveTo>
                    <a:pt x="300" y="53"/>
                  </a:moveTo>
                  <a:cubicBezTo>
                    <a:pt x="221" y="0"/>
                    <a:pt x="130" y="45"/>
                    <a:pt x="33" y="45"/>
                  </a:cubicBezTo>
                  <a:cubicBezTo>
                    <a:pt x="1" y="209"/>
                    <a:pt x="0" y="150"/>
                    <a:pt x="0" y="370"/>
                  </a:cubicBezTo>
                  <a:cubicBezTo>
                    <a:pt x="107" y="440"/>
                    <a:pt x="186" y="427"/>
                    <a:pt x="325" y="434"/>
                  </a:cubicBezTo>
                  <a:cubicBezTo>
                    <a:pt x="511" y="443"/>
                    <a:pt x="406" y="442"/>
                    <a:pt x="511" y="442"/>
                  </a:cubicBezTo>
                  <a:cubicBezTo>
                    <a:pt x="533" y="439"/>
                    <a:pt x="555" y="440"/>
                    <a:pt x="576" y="434"/>
                  </a:cubicBezTo>
                  <a:cubicBezTo>
                    <a:pt x="585" y="431"/>
                    <a:pt x="600" y="418"/>
                    <a:pt x="600" y="418"/>
                  </a:cubicBezTo>
                  <a:cubicBezTo>
                    <a:pt x="613" y="384"/>
                    <a:pt x="613" y="398"/>
                    <a:pt x="600" y="353"/>
                  </a:cubicBezTo>
                  <a:cubicBezTo>
                    <a:pt x="575" y="265"/>
                    <a:pt x="542" y="266"/>
                    <a:pt x="479" y="224"/>
                  </a:cubicBezTo>
                  <a:cubicBezTo>
                    <a:pt x="433" y="156"/>
                    <a:pt x="382" y="96"/>
                    <a:pt x="300" y="70"/>
                  </a:cubicBezTo>
                  <a:cubicBezTo>
                    <a:pt x="291" y="31"/>
                    <a:pt x="287" y="27"/>
                    <a:pt x="300" y="53"/>
                  </a:cubicBezTo>
                  <a:close/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1680" y="609480"/>
              <a:ext cx="342720" cy="978120"/>
            </a:xfrm>
            <a:custGeom>
              <a:avLst/>
              <a:gdLst/>
              <a:ahLst/>
              <a:rect l="l" t="t" r="r" b="b"/>
              <a:pathLst>
                <a:path w="216" h="616">
                  <a:moveTo>
                    <a:pt x="24" y="0"/>
                  </a:moveTo>
                  <a:cubicBezTo>
                    <a:pt x="120" y="120"/>
                    <a:pt x="216" y="240"/>
                    <a:pt x="216" y="336"/>
                  </a:cubicBezTo>
                  <a:cubicBezTo>
                    <a:pt x="216" y="432"/>
                    <a:pt x="48" y="536"/>
                    <a:pt x="24" y="576"/>
                  </a:cubicBezTo>
                  <a:cubicBezTo>
                    <a:pt x="0" y="616"/>
                    <a:pt x="36" y="596"/>
                    <a:pt x="72" y="576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4160" y="82440"/>
              <a:ext cx="264672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the Thevenin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3" name=""/>
          <p:cNvGraphicFramePr/>
          <p:nvPr/>
        </p:nvGraphicFramePr>
        <p:xfrm>
          <a:off x="152280" y="2438280"/>
          <a:ext cx="4614840" cy="170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438280"/>
                    <a:ext cx="4614840" cy="17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479520" y="1905120"/>
            <a:ext cx="448920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Thevenin voltage we have to analyz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llowing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27520" y="2209680"/>
            <a:ext cx="11347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THOD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0880" y="2368440"/>
            <a:ext cx="32241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 superposition, f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02760" y="2743200"/>
            <a:ext cx="3250080" cy="1014480"/>
            <a:chOff x="4802760" y="2743200"/>
            <a:chExt cx="3250080" cy="1014480"/>
          </a:xfrm>
        </p:grpSpPr>
        <p:sp>
          <p:nvSpPr>
            <p:cNvPr id="479" name=""/>
            <p:cNvSpPr/>
            <p:nvPr/>
          </p:nvSpPr>
          <p:spPr>
            <a:xfrm>
              <a:off x="4802760" y="2743200"/>
              <a:ext cx="32500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ntribution of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5105520" y="3048120"/>
                  <a:ext cx="236196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1" name=""/>
          <p:cNvGrpSpPr/>
          <p:nvPr/>
        </p:nvGrpSpPr>
        <p:grpSpPr>
          <a:xfrm>
            <a:off x="4936320" y="3816360"/>
            <a:ext cx="3250080" cy="706320"/>
            <a:chOff x="4936320" y="3816360"/>
            <a:chExt cx="3250080" cy="706320"/>
          </a:xfrm>
        </p:grpSpPr>
        <p:sp>
          <p:nvSpPr>
            <p:cNvPr id="482" name=""/>
            <p:cNvSpPr/>
            <p:nvPr/>
          </p:nvSpPr>
          <p:spPr>
            <a:xfrm>
              <a:off x="4936320" y="3816360"/>
              <a:ext cx="32500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ntribution of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5029200" y="4114800"/>
                  <a:ext cx="304812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84" name=""/>
          <p:cNvGraphicFramePr/>
          <p:nvPr/>
        </p:nvGraphicFramePr>
        <p:xfrm>
          <a:off x="304920" y="4495680"/>
          <a:ext cx="2566800" cy="19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25668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3359880" y="5111640"/>
            <a:ext cx="219996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mpl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6640" y="4038480"/>
            <a:ext cx="2975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venin Equivalent of “Part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440" y="322200"/>
            <a:ext cx="3289320" cy="6253200"/>
            <a:chOff x="1440" y="322200"/>
            <a:chExt cx="3289320" cy="6253200"/>
          </a:xfrm>
        </p:grpSpPr>
        <p:sp>
          <p:nvSpPr>
            <p:cNvPr id="489" name=""/>
            <p:cNvSpPr/>
            <p:nvPr/>
          </p:nvSpPr>
          <p:spPr>
            <a:xfrm>
              <a:off x="152280" y="4362480"/>
              <a:ext cx="1976400" cy="2212920"/>
            </a:xfrm>
            <a:custGeom>
              <a:avLst/>
              <a:gdLst/>
              <a:ahLst/>
              <a:rect l="l" t="t" r="r" b="b"/>
              <a:pathLst>
                <a:path w="1245" h="1394">
                  <a:moveTo>
                    <a:pt x="1242" y="49"/>
                  </a:moveTo>
                  <a:cubicBezTo>
                    <a:pt x="1232" y="122"/>
                    <a:pt x="1220" y="190"/>
                    <a:pt x="1201" y="260"/>
                  </a:cubicBezTo>
                  <a:cubicBezTo>
                    <a:pt x="1194" y="285"/>
                    <a:pt x="1177" y="333"/>
                    <a:pt x="1177" y="333"/>
                  </a:cubicBezTo>
                  <a:cubicBezTo>
                    <a:pt x="1151" y="516"/>
                    <a:pt x="1148" y="699"/>
                    <a:pt x="1137" y="884"/>
                  </a:cubicBezTo>
                  <a:cubicBezTo>
                    <a:pt x="1127" y="1047"/>
                    <a:pt x="1112" y="1207"/>
                    <a:pt x="1112" y="1371"/>
                  </a:cubicBezTo>
                  <a:cubicBezTo>
                    <a:pt x="1004" y="1325"/>
                    <a:pt x="518" y="1375"/>
                    <a:pt x="366" y="1379"/>
                  </a:cubicBezTo>
                  <a:cubicBezTo>
                    <a:pt x="277" y="1385"/>
                    <a:pt x="239" y="1394"/>
                    <a:pt x="155" y="1379"/>
                  </a:cubicBezTo>
                  <a:cubicBezTo>
                    <a:pt x="113" y="1372"/>
                    <a:pt x="78" y="1346"/>
                    <a:pt x="34" y="1346"/>
                  </a:cubicBezTo>
                  <a:cubicBezTo>
                    <a:pt x="0" y="1105"/>
                    <a:pt x="22" y="1283"/>
                    <a:pt x="34" y="722"/>
                  </a:cubicBezTo>
                  <a:cubicBezTo>
                    <a:pt x="38" y="545"/>
                    <a:pt x="56" y="367"/>
                    <a:pt x="99" y="195"/>
                  </a:cubicBezTo>
                  <a:cubicBezTo>
                    <a:pt x="108" y="122"/>
                    <a:pt x="107" y="152"/>
                    <a:pt x="107" y="106"/>
                  </a:cubicBezTo>
                  <a:cubicBezTo>
                    <a:pt x="145" y="81"/>
                    <a:pt x="183" y="70"/>
                    <a:pt x="228" y="65"/>
                  </a:cubicBezTo>
                  <a:cubicBezTo>
                    <a:pt x="282" y="59"/>
                    <a:pt x="391" y="49"/>
                    <a:pt x="391" y="49"/>
                  </a:cubicBezTo>
                  <a:cubicBezTo>
                    <a:pt x="470" y="33"/>
                    <a:pt x="546" y="30"/>
                    <a:pt x="626" y="25"/>
                  </a:cubicBezTo>
                  <a:cubicBezTo>
                    <a:pt x="674" y="15"/>
                    <a:pt x="772" y="0"/>
                    <a:pt x="772" y="0"/>
                  </a:cubicBezTo>
                  <a:cubicBezTo>
                    <a:pt x="941" y="5"/>
                    <a:pt x="1064" y="11"/>
                    <a:pt x="1218" y="33"/>
                  </a:cubicBezTo>
                  <a:cubicBezTo>
                    <a:pt x="1245" y="42"/>
                    <a:pt x="1242" y="33"/>
                    <a:pt x="1242" y="49"/>
                  </a:cubicBez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40" y="322200"/>
              <a:ext cx="3289320" cy="1575000"/>
            </a:xfrm>
            <a:custGeom>
              <a:avLst/>
              <a:gdLst/>
              <a:ahLst/>
              <a:rect l="l" t="t" r="r" b="b"/>
              <a:pathLst>
                <a:path w="2072" h="992">
                  <a:moveTo>
                    <a:pt x="2056" y="358"/>
                  </a:moveTo>
                  <a:cubicBezTo>
                    <a:pt x="2056" y="246"/>
                    <a:pt x="2056" y="135"/>
                    <a:pt x="2056" y="23"/>
                  </a:cubicBezTo>
                  <a:cubicBezTo>
                    <a:pt x="1399" y="18"/>
                    <a:pt x="742" y="0"/>
                    <a:pt x="85" y="0"/>
                  </a:cubicBezTo>
                  <a:cubicBezTo>
                    <a:pt x="72" y="90"/>
                    <a:pt x="61" y="184"/>
                    <a:pt x="38" y="272"/>
                  </a:cubicBezTo>
                  <a:cubicBezTo>
                    <a:pt x="25" y="409"/>
                    <a:pt x="0" y="548"/>
                    <a:pt x="38" y="685"/>
                  </a:cubicBezTo>
                  <a:cubicBezTo>
                    <a:pt x="45" y="708"/>
                    <a:pt x="67" y="833"/>
                    <a:pt x="100" y="833"/>
                  </a:cubicBezTo>
                  <a:cubicBezTo>
                    <a:pt x="285" y="860"/>
                    <a:pt x="457" y="867"/>
                    <a:pt x="646" y="872"/>
                  </a:cubicBezTo>
                  <a:cubicBezTo>
                    <a:pt x="805" y="888"/>
                    <a:pt x="961" y="898"/>
                    <a:pt x="1121" y="904"/>
                  </a:cubicBezTo>
                  <a:cubicBezTo>
                    <a:pt x="1354" y="942"/>
                    <a:pt x="1594" y="951"/>
                    <a:pt x="1830" y="966"/>
                  </a:cubicBezTo>
                  <a:cubicBezTo>
                    <a:pt x="1898" y="963"/>
                    <a:pt x="2011" y="992"/>
                    <a:pt x="2072" y="935"/>
                  </a:cubicBezTo>
                  <a:cubicBezTo>
                    <a:pt x="2067" y="825"/>
                    <a:pt x="2056" y="717"/>
                    <a:pt x="2056" y="607"/>
                  </a:cubicBezTo>
                </a:path>
              </a:pathLst>
            </a:custGeom>
            <a:noFill/>
            <a:ln w="507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7010280" y="1523880"/>
                <a:ext cx="106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0" y="484200"/>
          <a:ext cx="403848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84200"/>
                    <a:ext cx="40384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185400" y="554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160" y="647640"/>
            <a:ext cx="4059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ou have the choice on the way to part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ke “Part A” as simple as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158920" y="476280"/>
            <a:ext cx="2489400" cy="2884320"/>
            <a:chOff x="2158920" y="476280"/>
            <a:chExt cx="2489400" cy="2884320"/>
          </a:xfrm>
        </p:grpSpPr>
        <p:sp>
          <p:nvSpPr>
            <p:cNvPr id="500" name=""/>
            <p:cNvSpPr/>
            <p:nvPr/>
          </p:nvSpPr>
          <p:spPr>
            <a:xfrm>
              <a:off x="2158920" y="476280"/>
              <a:ext cx="2489400" cy="2884320"/>
            </a:xfrm>
            <a:custGeom>
              <a:avLst/>
              <a:gdLst/>
              <a:ahLst/>
              <a:rect l="l" t="t" r="r" b="b"/>
              <a:pathLst>
                <a:path w="1568" h="1817">
                  <a:moveTo>
                    <a:pt x="0" y="0"/>
                  </a:moveTo>
                  <a:cubicBezTo>
                    <a:pt x="5" y="568"/>
                    <a:pt x="25" y="1142"/>
                    <a:pt x="25" y="1711"/>
                  </a:cubicBezTo>
                  <a:cubicBezTo>
                    <a:pt x="450" y="1817"/>
                    <a:pt x="940" y="1747"/>
                    <a:pt x="1387" y="1759"/>
                  </a:cubicBezTo>
                  <a:cubicBezTo>
                    <a:pt x="1433" y="1762"/>
                    <a:pt x="1479" y="1762"/>
                    <a:pt x="1525" y="1767"/>
                  </a:cubicBezTo>
                  <a:cubicBezTo>
                    <a:pt x="1536" y="1768"/>
                    <a:pt x="1568" y="1776"/>
                    <a:pt x="1557" y="1776"/>
                  </a:cubicBezTo>
                  <a:cubicBezTo>
                    <a:pt x="1525" y="1776"/>
                    <a:pt x="1484" y="1756"/>
                    <a:pt x="1452" y="1751"/>
                  </a:cubicBezTo>
                  <a:cubicBezTo>
                    <a:pt x="1414" y="1745"/>
                    <a:pt x="1338" y="1735"/>
                    <a:pt x="1338" y="1735"/>
                  </a:cubicBezTo>
                  <a:cubicBezTo>
                    <a:pt x="1158" y="1645"/>
                    <a:pt x="1310" y="1733"/>
                    <a:pt x="1298" y="1224"/>
                  </a:cubicBezTo>
                  <a:cubicBezTo>
                    <a:pt x="1294" y="1058"/>
                    <a:pt x="1268" y="895"/>
                    <a:pt x="1257" y="730"/>
                  </a:cubicBezTo>
                  <a:cubicBezTo>
                    <a:pt x="1241" y="484"/>
                    <a:pt x="1220" y="240"/>
                    <a:pt x="1160" y="0"/>
                  </a:cubicBezTo>
                  <a:cubicBezTo>
                    <a:pt x="1082" y="10"/>
                    <a:pt x="1004" y="18"/>
                    <a:pt x="925" y="24"/>
                  </a:cubicBezTo>
                  <a:cubicBezTo>
                    <a:pt x="617" y="20"/>
                    <a:pt x="308" y="0"/>
                    <a:pt x="0" y="0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83480" y="2978280"/>
              <a:ext cx="8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4498560" y="1327320"/>
            <a:ext cx="4536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ce there are only independent sourc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Thevenin resistance we set to zero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s and determine the equivalent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419720" y="2089080"/>
          <a:ext cx="205884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89080"/>
                    <a:ext cx="2058840" cy="1873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 rot="10800000">
                <a:off x="6553080" y="2300040"/>
                <a:ext cx="2052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49120" y="3429000"/>
            <a:ext cx="4059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open circuit voltage we analyz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llowing circuit (“Part A”)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3975120"/>
          <a:ext cx="2743200" cy="23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975120"/>
                    <a:ext cx="2743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971800" y="4114800"/>
                <a:ext cx="30495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alysi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2971800" y="5334120"/>
                <a:ext cx="29383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838080" y="6248520"/>
                <a:ext cx="54928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2" name=""/>
          <p:cNvGraphicFramePr/>
          <p:nvPr/>
        </p:nvGraphicFramePr>
        <p:xfrm>
          <a:off x="6095880" y="4648320"/>
          <a:ext cx="2820960" cy="149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4648320"/>
                    <a:ext cx="2820960" cy="14983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6477480" y="4273560"/>
            <a:ext cx="2105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 become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27360" y="76320"/>
            <a:ext cx="3338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THEVENIN TO COMPUT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0" y="635040"/>
          <a:ext cx="554040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55404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238680" y="82440"/>
            <a:ext cx="505296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ARNING EXTENSION: USE THEVENIN TO COMPUT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666880" y="546120"/>
            <a:ext cx="2300400" cy="2882880"/>
            <a:chOff x="2666880" y="546120"/>
            <a:chExt cx="2300400" cy="2882880"/>
          </a:xfrm>
        </p:grpSpPr>
        <p:sp>
          <p:nvSpPr>
            <p:cNvPr id="523" name=""/>
            <p:cNvSpPr/>
            <p:nvPr/>
          </p:nvSpPr>
          <p:spPr>
            <a:xfrm>
              <a:off x="2666880" y="546120"/>
              <a:ext cx="2300400" cy="2882880"/>
            </a:xfrm>
            <a:custGeom>
              <a:avLst/>
              <a:gdLst/>
              <a:ahLst/>
              <a:rect l="l" t="t" r="r" b="b"/>
              <a:pathLst>
                <a:path w="1449" h="1816">
                  <a:moveTo>
                    <a:pt x="1449" y="0"/>
                  </a:moveTo>
                  <a:cubicBezTo>
                    <a:pt x="984" y="3"/>
                    <a:pt x="519" y="0"/>
                    <a:pt x="54" y="8"/>
                  </a:cubicBezTo>
                  <a:cubicBezTo>
                    <a:pt x="20" y="9"/>
                    <a:pt x="15" y="16"/>
                    <a:pt x="0" y="31"/>
                  </a:cubicBezTo>
                  <a:cubicBezTo>
                    <a:pt x="4" y="24"/>
                    <a:pt x="10" y="1"/>
                    <a:pt x="11" y="9"/>
                  </a:cubicBezTo>
                  <a:cubicBezTo>
                    <a:pt x="14" y="37"/>
                    <a:pt x="7" y="66"/>
                    <a:pt x="7" y="94"/>
                  </a:cubicBezTo>
                  <a:cubicBezTo>
                    <a:pt x="8" y="171"/>
                    <a:pt x="23" y="287"/>
                    <a:pt x="23" y="374"/>
                  </a:cubicBezTo>
                  <a:cubicBezTo>
                    <a:pt x="208" y="383"/>
                    <a:pt x="390" y="413"/>
                    <a:pt x="576" y="413"/>
                  </a:cubicBezTo>
                  <a:cubicBezTo>
                    <a:pt x="571" y="496"/>
                    <a:pt x="565" y="580"/>
                    <a:pt x="561" y="663"/>
                  </a:cubicBezTo>
                  <a:cubicBezTo>
                    <a:pt x="555" y="793"/>
                    <a:pt x="545" y="1052"/>
                    <a:pt x="545" y="1052"/>
                  </a:cubicBezTo>
                  <a:cubicBezTo>
                    <a:pt x="550" y="1388"/>
                    <a:pt x="529" y="1443"/>
                    <a:pt x="568" y="1660"/>
                  </a:cubicBezTo>
                  <a:cubicBezTo>
                    <a:pt x="576" y="1781"/>
                    <a:pt x="548" y="1749"/>
                    <a:pt x="584" y="1785"/>
                  </a:cubicBezTo>
                  <a:cubicBezTo>
                    <a:pt x="724" y="1791"/>
                    <a:pt x="893" y="1781"/>
                    <a:pt x="1028" y="1816"/>
                  </a:cubicBezTo>
                  <a:cubicBezTo>
                    <a:pt x="1064" y="1811"/>
                    <a:pt x="1109" y="1793"/>
                    <a:pt x="1145" y="1793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52720" y="865080"/>
              <a:ext cx="960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662440" y="152280"/>
            <a:ext cx="3148200" cy="2484720"/>
            <a:chOff x="5662440" y="152280"/>
            <a:chExt cx="3148200" cy="2484720"/>
          </a:xfrm>
        </p:grpSpPr>
        <p:graphicFrame>
          <p:nvGraphicFramePr>
            <p:cNvPr id="526" name=""/>
            <p:cNvGraphicFramePr/>
            <p:nvPr/>
          </p:nvGraphicFramePr>
          <p:xfrm>
            <a:off x="5662440" y="152280"/>
            <a:ext cx="2826000" cy="248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62440" y="152280"/>
                      <a:ext cx="2826000" cy="24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8405640" y="380880"/>
                  <a:ext cx="405000" cy="21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9" name=""/>
          <p:cNvGrpSpPr/>
          <p:nvPr/>
        </p:nvGrpSpPr>
        <p:grpSpPr>
          <a:xfrm>
            <a:off x="6705720" y="762120"/>
            <a:ext cx="457200" cy="1371600"/>
            <a:chOff x="6705720" y="762120"/>
            <a:chExt cx="457200" cy="1371600"/>
          </a:xfrm>
        </p:grpSpPr>
        <p:sp>
          <p:nvSpPr>
            <p:cNvPr id="530" name=""/>
            <p:cNvSpPr/>
            <p:nvPr/>
          </p:nvSpPr>
          <p:spPr>
            <a:xfrm>
              <a:off x="6705720" y="762120"/>
              <a:ext cx="457200" cy="1371600"/>
            </a:xfrm>
            <a:custGeom>
              <a:avLst/>
              <a:gdLst/>
              <a:ahLst/>
              <a:rect l="l" t="t" r="r" b="b"/>
              <a:pathLst>
                <a:path w="288" h="864">
                  <a:moveTo>
                    <a:pt x="0" y="864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288" y="816"/>
                  </a:lnTo>
                  <a:lnTo>
                    <a:pt x="144" y="816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6858360" y="121932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6072120" y="2757600"/>
                <a:ext cx="2222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6148440" y="3062160"/>
                <a:ext cx="2133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286000" y="495288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5" name=""/>
          <p:cNvGrpSpPr/>
          <p:nvPr/>
        </p:nvGrpSpPr>
        <p:grpSpPr>
          <a:xfrm>
            <a:off x="4572000" y="3505320"/>
            <a:ext cx="4114800" cy="1904760"/>
            <a:chOff x="4572000" y="3505320"/>
            <a:chExt cx="4114800" cy="1904760"/>
          </a:xfrm>
        </p:grpSpPr>
        <p:graphicFrame>
          <p:nvGraphicFramePr>
            <p:cNvPr id="536" name=""/>
            <p:cNvGraphicFramePr/>
            <p:nvPr/>
          </p:nvGraphicFramePr>
          <p:xfrm>
            <a:off x="4572000" y="3770280"/>
            <a:ext cx="4114800" cy="16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7" name="" descr=""/>
                    <p:cNvPicPr/>
                    <p:nvPr/>
                  </p:nvPicPr>
                  <p:blipFill>
                    <a:blip r:embed="rId6">
                      <a:alphaModFix amt="50000"/>
                    </a:blip>
                    <a:stretch/>
                  </p:blipFill>
                  <p:spPr>
                    <a:xfrm>
                      <a:off x="4572000" y="3770280"/>
                      <a:ext cx="4114800" cy="16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8" name=""/>
            <p:cNvSpPr/>
            <p:nvPr/>
          </p:nvSpPr>
          <p:spPr>
            <a:xfrm>
              <a:off x="4935960" y="3505320"/>
              <a:ext cx="3129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ULTING EQUIVALENT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572000" y="5486400"/>
                <a:ext cx="2336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0" name=""/>
          <p:cNvGrpSpPr/>
          <p:nvPr/>
        </p:nvGrpSpPr>
        <p:grpSpPr>
          <a:xfrm>
            <a:off x="200160" y="3657600"/>
            <a:ext cx="2866320" cy="2454120"/>
            <a:chOff x="200160" y="3657600"/>
            <a:chExt cx="2866320" cy="2454120"/>
          </a:xfrm>
        </p:grpSpPr>
        <p:grpSp>
          <p:nvGrpSpPr>
            <p:cNvPr id="541" name=""/>
            <p:cNvGrpSpPr/>
            <p:nvPr/>
          </p:nvGrpSpPr>
          <p:grpSpPr>
            <a:xfrm>
              <a:off x="200160" y="3657600"/>
              <a:ext cx="2466720" cy="2454120"/>
              <a:chOff x="200160" y="3657600"/>
              <a:chExt cx="2466720" cy="2454120"/>
            </a:xfrm>
          </p:grpSpPr>
          <p:graphicFrame>
            <p:nvGraphicFramePr>
              <p:cNvPr id="542" name=""/>
              <p:cNvGraphicFramePr/>
              <p:nvPr/>
            </p:nvGraphicFramePr>
            <p:xfrm>
              <a:off x="200160" y="3657600"/>
              <a:ext cx="2160360" cy="2454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4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00160" y="3657600"/>
                        <a:ext cx="2160360" cy="245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4" name=""/>
              <p:cNvSpPr/>
              <p:nvPr/>
            </p:nvSpPr>
            <p:spPr>
              <a:xfrm>
                <a:off x="1752480" y="3809880"/>
                <a:ext cx="8384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28800" y="5943600"/>
                <a:ext cx="8380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85800" y="4419720"/>
              <a:ext cx="1085760" cy="1436040"/>
              <a:chOff x="685800" y="4419720"/>
              <a:chExt cx="1085760" cy="1436040"/>
            </a:xfrm>
          </p:grpSpPr>
          <p:sp>
            <p:nvSpPr>
              <p:cNvPr id="547" name=""/>
              <p:cNvSpPr/>
              <p:nvPr/>
            </p:nvSpPr>
            <p:spPr>
              <a:xfrm>
                <a:off x="685800" y="4419720"/>
                <a:ext cx="307800" cy="1063080"/>
              </a:xfrm>
              <a:custGeom>
                <a:avLst/>
                <a:gdLst/>
                <a:ahLst/>
                <a:rect l="l" t="t" r="r" b="b"/>
                <a:pathLst>
                  <a:path w="194" h="670">
                    <a:moveTo>
                      <a:pt x="15" y="0"/>
                    </a:moveTo>
                    <a:cubicBezTo>
                      <a:pt x="151" y="55"/>
                      <a:pt x="90" y="47"/>
                      <a:pt x="194" y="47"/>
                    </a:cubicBezTo>
                    <a:cubicBezTo>
                      <a:pt x="184" y="336"/>
                      <a:pt x="187" y="182"/>
                      <a:pt x="187" y="507"/>
                    </a:cubicBezTo>
                    <a:cubicBezTo>
                      <a:pt x="166" y="538"/>
                      <a:pt x="151" y="574"/>
                      <a:pt x="124" y="600"/>
                    </a:cubicBezTo>
                    <a:cubicBezTo>
                      <a:pt x="112" y="612"/>
                      <a:pt x="91" y="607"/>
                      <a:pt x="77" y="616"/>
                    </a:cubicBezTo>
                    <a:cubicBezTo>
                      <a:pt x="69" y="621"/>
                      <a:pt x="68" y="632"/>
                      <a:pt x="62" y="639"/>
                    </a:cubicBezTo>
                    <a:cubicBezTo>
                      <a:pt x="45" y="657"/>
                      <a:pt x="21" y="660"/>
                      <a:pt x="0" y="670"/>
                    </a:cubicBezTo>
                  </a:path>
                </a:pathLst>
              </a:custGeom>
              <a:solidFill>
                <a:srgbClr val="ccecff">
                  <a:alpha val="50000"/>
                </a:srgbClr>
              </a:solidFill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90680" y="4865400"/>
                <a:ext cx="380880" cy="990360"/>
              </a:xfrm>
              <a:custGeom>
                <a:avLst/>
                <a:gdLst/>
                <a:ahLst/>
                <a:rect l="l" t="t" r="r" b="b"/>
                <a:pathLst>
                  <a:path w="240" h="624">
                    <a:moveTo>
                      <a:pt x="240" y="0"/>
                    </a:moveTo>
                    <a:lnTo>
                      <a:pt x="48" y="96"/>
                    </a:lnTo>
                    <a:lnTo>
                      <a:pt x="0" y="336"/>
                    </a:lnTo>
                    <a:lnTo>
                      <a:pt x="240" y="624"/>
                    </a:lnTo>
                  </a:path>
                </a:pathLst>
              </a:custGeom>
              <a:solidFill>
                <a:srgbClr val="ccecff">
                  <a:alpha val="50000"/>
                </a:srgbClr>
              </a:solidFill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2076120" y="4484520"/>
              <a:ext cx="990360" cy="380880"/>
              <a:chOff x="2076120" y="4484520"/>
              <a:chExt cx="990360" cy="380880"/>
            </a:xfrm>
          </p:grpSpPr>
          <p:sp>
            <p:nvSpPr>
              <p:cNvPr id="550" name=""/>
              <p:cNvSpPr/>
              <p:nvPr/>
            </p:nvSpPr>
            <p:spPr>
              <a:xfrm flipH="1">
                <a:off x="2076120" y="4865400"/>
                <a:ext cx="990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2457360" y="448452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5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0" y="500040"/>
          <a:ext cx="594360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0040"/>
                    <a:ext cx="59436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549000" y="55440"/>
            <a:ext cx="5529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TENSION: COMPUTE Vo USING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898720" y="260280"/>
            <a:ext cx="1633320" cy="2415240"/>
            <a:chOff x="2898720" y="260280"/>
            <a:chExt cx="1633320" cy="2415240"/>
          </a:xfrm>
        </p:grpSpPr>
        <p:sp>
          <p:nvSpPr>
            <p:cNvPr id="559" name=""/>
            <p:cNvSpPr/>
            <p:nvPr/>
          </p:nvSpPr>
          <p:spPr>
            <a:xfrm>
              <a:off x="2898720" y="260280"/>
              <a:ext cx="1633320" cy="2314800"/>
            </a:xfrm>
            <a:custGeom>
              <a:avLst/>
              <a:gdLst/>
              <a:ahLst/>
              <a:rect l="l" t="t" r="r" b="b"/>
              <a:pathLst>
                <a:path w="1029" h="1458">
                  <a:moveTo>
                    <a:pt x="1029" y="0"/>
                  </a:moveTo>
                  <a:cubicBezTo>
                    <a:pt x="692" y="14"/>
                    <a:pt x="353" y="62"/>
                    <a:pt x="16" y="62"/>
                  </a:cubicBezTo>
                  <a:cubicBezTo>
                    <a:pt x="9" y="198"/>
                    <a:pt x="0" y="330"/>
                    <a:pt x="0" y="467"/>
                  </a:cubicBezTo>
                  <a:cubicBezTo>
                    <a:pt x="197" y="517"/>
                    <a:pt x="403" y="569"/>
                    <a:pt x="608" y="569"/>
                  </a:cubicBezTo>
                  <a:cubicBezTo>
                    <a:pt x="611" y="616"/>
                    <a:pt x="614" y="662"/>
                    <a:pt x="616" y="709"/>
                  </a:cubicBezTo>
                  <a:cubicBezTo>
                    <a:pt x="621" y="808"/>
                    <a:pt x="626" y="906"/>
                    <a:pt x="631" y="1005"/>
                  </a:cubicBezTo>
                  <a:cubicBezTo>
                    <a:pt x="637" y="1118"/>
                    <a:pt x="641" y="1223"/>
                    <a:pt x="670" y="1332"/>
                  </a:cubicBezTo>
                  <a:cubicBezTo>
                    <a:pt x="678" y="1361"/>
                    <a:pt x="673" y="1397"/>
                    <a:pt x="694" y="1418"/>
                  </a:cubicBezTo>
                  <a:cubicBezTo>
                    <a:pt x="734" y="1458"/>
                    <a:pt x="808" y="1431"/>
                    <a:pt x="865" y="1434"/>
                  </a:cubicBezTo>
                  <a:cubicBezTo>
                    <a:pt x="891" y="1440"/>
                    <a:pt x="916" y="1449"/>
                    <a:pt x="943" y="1449"/>
                  </a:cubicBezTo>
                  <a:lnTo>
                    <a:pt x="862" y="1420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5160" y="2368440"/>
              <a:ext cx="8024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57200" y="23623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2514600" y="685800"/>
            <a:ext cx="673200" cy="1600200"/>
            <a:chOff x="2514600" y="685800"/>
            <a:chExt cx="673200" cy="1600200"/>
          </a:xfrm>
        </p:grpSpPr>
        <p:sp>
          <p:nvSpPr>
            <p:cNvPr id="563" name=""/>
            <p:cNvSpPr/>
            <p:nvPr/>
          </p:nvSpPr>
          <p:spPr>
            <a:xfrm>
              <a:off x="2514600" y="685800"/>
              <a:ext cx="444600" cy="1600200"/>
            </a:xfrm>
            <a:custGeom>
              <a:avLst/>
              <a:gdLst/>
              <a:ahLst/>
              <a:rect l="l" t="t" r="r" b="b"/>
              <a:pathLst>
                <a:path w="280" h="1008">
                  <a:moveTo>
                    <a:pt x="0" y="0"/>
                  </a:moveTo>
                  <a:cubicBezTo>
                    <a:pt x="100" y="132"/>
                    <a:pt x="200" y="264"/>
                    <a:pt x="240" y="384"/>
                  </a:cubicBezTo>
                  <a:cubicBezTo>
                    <a:pt x="280" y="504"/>
                    <a:pt x="272" y="616"/>
                    <a:pt x="240" y="720"/>
                  </a:cubicBezTo>
                  <a:cubicBezTo>
                    <a:pt x="208" y="824"/>
                    <a:pt x="80" y="960"/>
                    <a:pt x="48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819520" y="198144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5" name=""/>
          <p:cNvGrpSpPr/>
          <p:nvPr/>
        </p:nvGrpSpPr>
        <p:grpSpPr>
          <a:xfrm>
            <a:off x="476280" y="838080"/>
            <a:ext cx="2844720" cy="2387880"/>
            <a:chOff x="476280" y="838080"/>
            <a:chExt cx="2844720" cy="2387880"/>
          </a:xfrm>
        </p:grpSpPr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476280" y="2666880"/>
                  <a:ext cx="2844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"/>
            <p:cNvSpPr/>
            <p:nvPr/>
          </p:nvSpPr>
          <p:spPr>
            <a:xfrm>
              <a:off x="1295280" y="838080"/>
              <a:ext cx="9907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2209680" y="914400"/>
              <a:ext cx="0" cy="838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9" name=""/>
          <p:cNvGraphicFramePr/>
          <p:nvPr/>
        </p:nvGraphicFramePr>
        <p:xfrm>
          <a:off x="5943600" y="457200"/>
          <a:ext cx="3048120" cy="17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57200"/>
                    <a:ext cx="304812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019920" y="2133720"/>
                <a:ext cx="2666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k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72" name=""/>
          <p:cNvGrpSpPr/>
          <p:nvPr/>
        </p:nvGrpSpPr>
        <p:grpSpPr>
          <a:xfrm>
            <a:off x="7924680" y="1143000"/>
            <a:ext cx="685800" cy="228600"/>
            <a:chOff x="7924680" y="1143000"/>
            <a:chExt cx="685800" cy="228600"/>
          </a:xfrm>
        </p:grpSpPr>
        <p:sp>
          <p:nvSpPr>
            <p:cNvPr id="573" name=""/>
            <p:cNvSpPr/>
            <p:nvPr/>
          </p:nvSpPr>
          <p:spPr>
            <a:xfrm>
              <a:off x="7924680" y="1143000"/>
              <a:ext cx="6858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4" name=""/>
                <p:cNvSpPr txBox="1"/>
                <p:nvPr/>
              </p:nvSpPr>
              <p:spPr>
                <a:xfrm>
                  <a:off x="8077320" y="11574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6095880" y="2819520"/>
                <a:ext cx="1778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6" name=""/>
          <p:cNvGraphicFramePr/>
          <p:nvPr/>
        </p:nvGraphicFramePr>
        <p:xfrm>
          <a:off x="0" y="3886200"/>
          <a:ext cx="5638680" cy="18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86200"/>
                    <a:ext cx="56386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>
            <a:off x="146520" y="3408480"/>
            <a:ext cx="3283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PUTE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506400" y="3435480"/>
            <a:ext cx="802440" cy="2462040"/>
            <a:chOff x="3506400" y="3435480"/>
            <a:chExt cx="802440" cy="2462040"/>
          </a:xfrm>
        </p:grpSpPr>
        <p:sp>
          <p:nvSpPr>
            <p:cNvPr id="580" name=""/>
            <p:cNvSpPr/>
            <p:nvPr/>
          </p:nvSpPr>
          <p:spPr>
            <a:xfrm>
              <a:off x="3570120" y="3613320"/>
              <a:ext cx="696960" cy="2284200"/>
            </a:xfrm>
            <a:custGeom>
              <a:avLst/>
              <a:gdLst/>
              <a:ahLst/>
              <a:rect l="l" t="t" r="r" b="b"/>
              <a:pathLst>
                <a:path w="439" h="1439">
                  <a:moveTo>
                    <a:pt x="315" y="0"/>
                  </a:moveTo>
                  <a:cubicBezTo>
                    <a:pt x="245" y="13"/>
                    <a:pt x="243" y="54"/>
                    <a:pt x="190" y="85"/>
                  </a:cubicBezTo>
                  <a:cubicBezTo>
                    <a:pt x="170" y="97"/>
                    <a:pt x="149" y="106"/>
                    <a:pt x="128" y="116"/>
                  </a:cubicBezTo>
                  <a:cubicBezTo>
                    <a:pt x="120" y="119"/>
                    <a:pt x="104" y="124"/>
                    <a:pt x="104" y="124"/>
                  </a:cubicBezTo>
                  <a:cubicBezTo>
                    <a:pt x="89" y="218"/>
                    <a:pt x="72" y="311"/>
                    <a:pt x="58" y="405"/>
                  </a:cubicBezTo>
                  <a:cubicBezTo>
                    <a:pt x="39" y="670"/>
                    <a:pt x="38" y="884"/>
                    <a:pt x="34" y="1176"/>
                  </a:cubicBezTo>
                  <a:cubicBezTo>
                    <a:pt x="47" y="1439"/>
                    <a:pt x="0" y="1339"/>
                    <a:pt x="89" y="1309"/>
                  </a:cubicBezTo>
                  <a:cubicBezTo>
                    <a:pt x="115" y="1314"/>
                    <a:pt x="141" y="1317"/>
                    <a:pt x="167" y="1324"/>
                  </a:cubicBezTo>
                  <a:cubicBezTo>
                    <a:pt x="205" y="1334"/>
                    <a:pt x="251" y="1361"/>
                    <a:pt x="291" y="1363"/>
                  </a:cubicBezTo>
                  <a:cubicBezTo>
                    <a:pt x="325" y="1365"/>
                    <a:pt x="359" y="1363"/>
                    <a:pt x="393" y="1363"/>
                  </a:cubicBezTo>
                  <a:lnTo>
                    <a:pt x="439" y="1372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06400" y="3435480"/>
              <a:ext cx="8024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209680" y="3733920"/>
            <a:ext cx="621000" cy="457200"/>
            <a:chOff x="2209680" y="3733920"/>
            <a:chExt cx="621000" cy="457200"/>
          </a:xfrm>
        </p:grpSpPr>
        <p:sp>
          <p:nvSpPr>
            <p:cNvPr id="583" name=""/>
            <p:cNvSpPr/>
            <p:nvPr/>
          </p:nvSpPr>
          <p:spPr>
            <a:xfrm>
              <a:off x="2209680" y="3962520"/>
              <a:ext cx="304920" cy="2286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2438280" y="3733920"/>
                  <a:ext cx="392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5" name=""/>
          <p:cNvGrpSpPr/>
          <p:nvPr/>
        </p:nvGrpSpPr>
        <p:grpSpPr>
          <a:xfrm>
            <a:off x="685800" y="4191120"/>
            <a:ext cx="1841400" cy="2082600"/>
            <a:chOff x="685800" y="4191120"/>
            <a:chExt cx="1841400" cy="2082600"/>
          </a:xfrm>
        </p:grpSpPr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685800" y="5715000"/>
                  <a:ext cx="1841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"/>
            <p:cNvSpPr/>
            <p:nvPr/>
          </p:nvSpPr>
          <p:spPr>
            <a:xfrm>
              <a:off x="2209680" y="4343400"/>
              <a:ext cx="0" cy="685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1447920" y="4191120"/>
              <a:ext cx="7617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838080" y="63244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0" name=""/>
          <p:cNvGraphicFramePr/>
          <p:nvPr/>
        </p:nvGraphicFramePr>
        <p:xfrm>
          <a:off x="6095880" y="3759120"/>
          <a:ext cx="2514600" cy="187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375912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48520" y="5715000"/>
                <a:ext cx="2133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0" y="380880"/>
          <a:ext cx="3483000" cy="32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34830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2840" y="-27000"/>
            <a:ext cx="2008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-25560" y="804960"/>
            <a:ext cx="2979720" cy="2894040"/>
          </a:xfrm>
          <a:custGeom>
            <a:avLst/>
            <a:gdLst/>
            <a:ahLst/>
            <a:rect l="l" t="t" r="r" b="b"/>
            <a:pathLst>
              <a:path w="1877" h="1823">
                <a:moveTo>
                  <a:pt x="32" y="15"/>
                </a:moveTo>
                <a:cubicBezTo>
                  <a:pt x="441" y="7"/>
                  <a:pt x="539" y="0"/>
                  <a:pt x="990" y="15"/>
                </a:cubicBezTo>
                <a:cubicBezTo>
                  <a:pt x="1200" y="22"/>
                  <a:pt x="1411" y="53"/>
                  <a:pt x="1621" y="62"/>
                </a:cubicBezTo>
                <a:cubicBezTo>
                  <a:pt x="1668" y="67"/>
                  <a:pt x="1762" y="77"/>
                  <a:pt x="1762" y="77"/>
                </a:cubicBezTo>
                <a:cubicBezTo>
                  <a:pt x="1745" y="557"/>
                  <a:pt x="1747" y="982"/>
                  <a:pt x="1754" y="1488"/>
                </a:cubicBezTo>
                <a:cubicBezTo>
                  <a:pt x="1755" y="1540"/>
                  <a:pt x="1759" y="1592"/>
                  <a:pt x="1762" y="1644"/>
                </a:cubicBezTo>
                <a:cubicBezTo>
                  <a:pt x="1764" y="1683"/>
                  <a:pt x="1769" y="1761"/>
                  <a:pt x="1769" y="1761"/>
                </a:cubicBezTo>
                <a:cubicBezTo>
                  <a:pt x="1877" y="1705"/>
                  <a:pt x="1802" y="1748"/>
                  <a:pt x="1504" y="1753"/>
                </a:cubicBezTo>
                <a:cubicBezTo>
                  <a:pt x="1343" y="1756"/>
                  <a:pt x="1182" y="1758"/>
                  <a:pt x="1021" y="1761"/>
                </a:cubicBezTo>
                <a:cubicBezTo>
                  <a:pt x="818" y="1775"/>
                  <a:pt x="616" y="1791"/>
                  <a:pt x="413" y="1800"/>
                </a:cubicBezTo>
                <a:cubicBezTo>
                  <a:pt x="235" y="1823"/>
                  <a:pt x="372" y="1808"/>
                  <a:pt x="0" y="1808"/>
                </a:cubicBezTo>
                <a:lnTo>
                  <a:pt x="64" y="17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0" y="3657600"/>
            <a:ext cx="3048120" cy="2894040"/>
            <a:chOff x="0" y="3657600"/>
            <a:chExt cx="3048120" cy="2894040"/>
          </a:xfrm>
        </p:grpSpPr>
        <p:graphicFrame>
          <p:nvGraphicFramePr>
            <p:cNvPr id="601" name=""/>
            <p:cNvGraphicFramePr/>
            <p:nvPr/>
          </p:nvGraphicFramePr>
          <p:xfrm>
            <a:off x="380880" y="3975120"/>
            <a:ext cx="2667240" cy="188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975120"/>
                      <a:ext cx="2667240" cy="18860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3" name=""/>
            <p:cNvSpPr/>
            <p:nvPr/>
          </p:nvSpPr>
          <p:spPr>
            <a:xfrm>
              <a:off x="0" y="3657600"/>
              <a:ext cx="2979720" cy="2894040"/>
            </a:xfrm>
            <a:custGeom>
              <a:avLst/>
              <a:gdLst/>
              <a:ahLst/>
              <a:rect l="l" t="t" r="r" b="b"/>
              <a:pathLst>
                <a:path w="1877" h="1823">
                  <a:moveTo>
                    <a:pt x="32" y="15"/>
                  </a:moveTo>
                  <a:cubicBezTo>
                    <a:pt x="441" y="7"/>
                    <a:pt x="539" y="0"/>
                    <a:pt x="990" y="15"/>
                  </a:cubicBezTo>
                  <a:cubicBezTo>
                    <a:pt x="1200" y="22"/>
                    <a:pt x="1411" y="53"/>
                    <a:pt x="1621" y="62"/>
                  </a:cubicBezTo>
                  <a:cubicBezTo>
                    <a:pt x="1668" y="67"/>
                    <a:pt x="1762" y="77"/>
                    <a:pt x="1762" y="77"/>
                  </a:cubicBezTo>
                  <a:cubicBezTo>
                    <a:pt x="1745" y="557"/>
                    <a:pt x="1747" y="982"/>
                    <a:pt x="1754" y="1488"/>
                  </a:cubicBezTo>
                  <a:cubicBezTo>
                    <a:pt x="1755" y="1540"/>
                    <a:pt x="1759" y="1592"/>
                    <a:pt x="1762" y="1644"/>
                  </a:cubicBezTo>
                  <a:cubicBezTo>
                    <a:pt x="1764" y="1683"/>
                    <a:pt x="1769" y="1761"/>
                    <a:pt x="1769" y="1761"/>
                  </a:cubicBezTo>
                  <a:cubicBezTo>
                    <a:pt x="1877" y="1705"/>
                    <a:pt x="1802" y="1748"/>
                    <a:pt x="1504" y="1753"/>
                  </a:cubicBezTo>
                  <a:cubicBezTo>
                    <a:pt x="1343" y="1756"/>
                    <a:pt x="1182" y="1758"/>
                    <a:pt x="1021" y="1761"/>
                  </a:cubicBezTo>
                  <a:cubicBezTo>
                    <a:pt x="818" y="1775"/>
                    <a:pt x="616" y="1791"/>
                    <a:pt x="413" y="1800"/>
                  </a:cubicBezTo>
                  <a:cubicBezTo>
                    <a:pt x="235" y="1823"/>
                    <a:pt x="372" y="1808"/>
                    <a:pt x="0" y="1808"/>
                  </a:cubicBezTo>
                  <a:lnTo>
                    <a:pt x="64" y="17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0920" y="5950080"/>
              <a:ext cx="259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is is what we need to 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4600800" y="76320"/>
            <a:ext cx="453780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Resistance: Independent sources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733920" y="457200"/>
          <a:ext cx="3200400" cy="210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57200"/>
                    <a:ext cx="320040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6324480" y="1981080"/>
                <a:ext cx="2438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9" name=""/>
          <p:cNvGrpSpPr/>
          <p:nvPr/>
        </p:nvGrpSpPr>
        <p:grpSpPr>
          <a:xfrm>
            <a:off x="5943600" y="762120"/>
            <a:ext cx="1200240" cy="1295280"/>
            <a:chOff x="5943600" y="762120"/>
            <a:chExt cx="1200240" cy="1295280"/>
          </a:xfrm>
        </p:grpSpPr>
        <p:sp>
          <p:nvSpPr>
            <p:cNvPr id="610" name=""/>
            <p:cNvSpPr/>
            <p:nvPr/>
          </p:nvSpPr>
          <p:spPr>
            <a:xfrm>
              <a:off x="5943600" y="1066680"/>
              <a:ext cx="1155600" cy="990720"/>
            </a:xfrm>
            <a:custGeom>
              <a:avLst/>
              <a:gdLst/>
              <a:ahLst/>
              <a:rect l="l" t="t" r="r" b="b"/>
              <a:pathLst>
                <a:path w="728" h="624">
                  <a:moveTo>
                    <a:pt x="624" y="0"/>
                  </a:moveTo>
                  <a:cubicBezTo>
                    <a:pt x="676" y="216"/>
                    <a:pt x="728" y="432"/>
                    <a:pt x="624" y="528"/>
                  </a:cubicBezTo>
                  <a:cubicBezTo>
                    <a:pt x="520" y="624"/>
                    <a:pt x="104" y="568"/>
                    <a:pt x="0" y="5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"/>
                <p:cNvSpPr txBox="1"/>
                <p:nvPr/>
              </p:nvSpPr>
              <p:spPr>
                <a:xfrm>
                  <a:off x="6705720" y="762120"/>
                  <a:ext cx="43812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2" name=""/>
          <p:cNvSpPr/>
          <p:nvPr/>
        </p:nvSpPr>
        <p:spPr>
          <a:xfrm>
            <a:off x="3974040" y="2673360"/>
            <a:ext cx="43916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Voltage: Node, loop, superpositio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28600" y="2324160"/>
            <a:ext cx="1054080" cy="1015920"/>
            <a:chOff x="228600" y="2324160"/>
            <a:chExt cx="1054080" cy="1015920"/>
          </a:xfrm>
        </p:grpSpPr>
        <p:sp>
          <p:nvSpPr>
            <p:cNvPr id="614" name=""/>
            <p:cNvSpPr/>
            <p:nvPr/>
          </p:nvSpPr>
          <p:spPr>
            <a:xfrm>
              <a:off x="228600" y="2324160"/>
              <a:ext cx="1054080" cy="1015920"/>
            </a:xfrm>
            <a:custGeom>
              <a:avLst/>
              <a:gdLst/>
              <a:ahLst/>
              <a:rect l="l" t="t" r="r" b="b"/>
              <a:pathLst>
                <a:path w="664" h="640">
                  <a:moveTo>
                    <a:pt x="576" y="600"/>
                  </a:moveTo>
                  <a:cubicBezTo>
                    <a:pt x="600" y="400"/>
                    <a:pt x="624" y="200"/>
                    <a:pt x="624" y="120"/>
                  </a:cubicBezTo>
                  <a:cubicBezTo>
                    <a:pt x="624" y="40"/>
                    <a:pt x="664" y="128"/>
                    <a:pt x="576" y="120"/>
                  </a:cubicBezTo>
                  <a:cubicBezTo>
                    <a:pt x="488" y="112"/>
                    <a:pt x="184" y="0"/>
                    <a:pt x="96" y="72"/>
                  </a:cubicBezTo>
                  <a:cubicBezTo>
                    <a:pt x="8" y="144"/>
                    <a:pt x="0" y="464"/>
                    <a:pt x="48" y="552"/>
                  </a:cubicBezTo>
                  <a:cubicBezTo>
                    <a:pt x="96" y="640"/>
                    <a:pt x="240" y="620"/>
                    <a:pt x="384" y="600"/>
                  </a:cubicBezTo>
                </a:path>
              </a:pathLst>
            </a:custGeom>
            <a:solidFill>
              <a:srgbClr val="ffcccc">
                <a:alpha val="50000"/>
              </a:srgbClr>
            </a:solidFill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762120" y="2743200"/>
                  <a:ext cx="2682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6" name=""/>
          <p:cNvGrpSpPr/>
          <p:nvPr/>
        </p:nvGrpSpPr>
        <p:grpSpPr>
          <a:xfrm>
            <a:off x="384120" y="1500120"/>
            <a:ext cx="1990800" cy="1654200"/>
            <a:chOff x="384120" y="1500120"/>
            <a:chExt cx="1990800" cy="1654200"/>
          </a:xfrm>
        </p:grpSpPr>
        <p:sp>
          <p:nvSpPr>
            <p:cNvPr id="617" name=""/>
            <p:cNvSpPr/>
            <p:nvPr/>
          </p:nvSpPr>
          <p:spPr>
            <a:xfrm>
              <a:off x="384120" y="1500120"/>
              <a:ext cx="1990800" cy="1654200"/>
            </a:xfrm>
            <a:custGeom>
              <a:avLst/>
              <a:gdLst/>
              <a:ahLst/>
              <a:rect l="l" t="t" r="r" b="b"/>
              <a:pathLst>
                <a:path w="1254" h="1042">
                  <a:moveTo>
                    <a:pt x="1161" y="45"/>
                  </a:moveTo>
                  <a:cubicBezTo>
                    <a:pt x="764" y="0"/>
                    <a:pt x="542" y="29"/>
                    <a:pt x="15" y="29"/>
                  </a:cubicBezTo>
                  <a:cubicBezTo>
                    <a:pt x="10" y="367"/>
                    <a:pt x="0" y="704"/>
                    <a:pt x="0" y="1042"/>
                  </a:cubicBezTo>
                  <a:cubicBezTo>
                    <a:pt x="249" y="1042"/>
                    <a:pt x="499" y="1042"/>
                    <a:pt x="748" y="1042"/>
                  </a:cubicBezTo>
                  <a:cubicBezTo>
                    <a:pt x="748" y="821"/>
                    <a:pt x="748" y="601"/>
                    <a:pt x="748" y="380"/>
                  </a:cubicBezTo>
                  <a:cubicBezTo>
                    <a:pt x="917" y="383"/>
                    <a:pt x="1254" y="388"/>
                    <a:pt x="1254" y="388"/>
                  </a:cubicBezTo>
                  <a:cubicBezTo>
                    <a:pt x="1234" y="306"/>
                    <a:pt x="1232" y="272"/>
                    <a:pt x="1246" y="193"/>
                  </a:cubicBezTo>
                  <a:cubicBezTo>
                    <a:pt x="1197" y="102"/>
                    <a:pt x="1200" y="140"/>
                    <a:pt x="1200" y="91"/>
                  </a:cubicBezTo>
                </a:path>
              </a:pathLst>
            </a:custGeom>
            <a:noFill/>
            <a:ln w="316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8" name=""/>
                <p:cNvSpPr txBox="1"/>
                <p:nvPr/>
              </p:nvSpPr>
              <p:spPr>
                <a:xfrm>
                  <a:off x="1600200" y="1600200"/>
                  <a:ext cx="3160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809880" y="2978280"/>
                <a:ext cx="1019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991040" y="3003480"/>
                <a:ext cx="4076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1900080" y="2286000"/>
            <a:ext cx="1405080" cy="1047600"/>
            <a:chOff x="1900080" y="2286000"/>
            <a:chExt cx="1405080" cy="104760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2819520" y="2286000"/>
                  <a:ext cx="485640" cy="10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"/>
            <p:cNvSpPr/>
            <p:nvPr/>
          </p:nvSpPr>
          <p:spPr>
            <a:xfrm>
              <a:off x="1900080" y="2532240"/>
              <a:ext cx="722520" cy="696600"/>
            </a:xfrm>
            <a:custGeom>
              <a:avLst/>
              <a:gdLst/>
              <a:ahLst/>
              <a:rect l="l" t="t" r="r" b="b"/>
              <a:pathLst>
                <a:path w="455" h="439">
                  <a:moveTo>
                    <a:pt x="432" y="18"/>
                  </a:moveTo>
                  <a:cubicBezTo>
                    <a:pt x="326" y="0"/>
                    <a:pt x="280" y="46"/>
                    <a:pt x="190" y="49"/>
                  </a:cubicBezTo>
                  <a:cubicBezTo>
                    <a:pt x="130" y="51"/>
                    <a:pt x="71" y="49"/>
                    <a:pt x="11" y="49"/>
                  </a:cubicBezTo>
                  <a:cubicBezTo>
                    <a:pt x="0" y="286"/>
                    <a:pt x="3" y="164"/>
                    <a:pt x="3" y="416"/>
                  </a:cubicBezTo>
                  <a:cubicBezTo>
                    <a:pt x="112" y="418"/>
                    <a:pt x="221" y="417"/>
                    <a:pt x="330" y="423"/>
                  </a:cubicBezTo>
                  <a:cubicBezTo>
                    <a:pt x="369" y="425"/>
                    <a:pt x="447" y="439"/>
                    <a:pt x="447" y="439"/>
                  </a:cubicBezTo>
                  <a:cubicBezTo>
                    <a:pt x="450" y="382"/>
                    <a:pt x="455" y="268"/>
                    <a:pt x="455" y="26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72440" y="2749680"/>
              <a:ext cx="5158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809880" y="3505320"/>
                <a:ext cx="26672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3744000" y="3962520"/>
            <a:ext cx="315108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ow about source superpositi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82480" y="4108320"/>
            <a:ext cx="3970440" cy="696960"/>
            <a:chOff x="4182480" y="4108320"/>
            <a:chExt cx="3970440" cy="696960"/>
          </a:xfrm>
        </p:grpSpPr>
        <p:sp>
          <p:nvSpPr>
            <p:cNvPr id="628" name=""/>
            <p:cNvSpPr/>
            <p:nvPr/>
          </p:nvSpPr>
          <p:spPr>
            <a:xfrm>
              <a:off x="4182480" y="4267080"/>
              <a:ext cx="273960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ing the current source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6933960" y="4108320"/>
                  <a:ext cx="12189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0" name=""/>
          <p:cNvGrpSpPr/>
          <p:nvPr/>
        </p:nvGrpSpPr>
        <p:grpSpPr>
          <a:xfrm>
            <a:off x="3124080" y="4572000"/>
            <a:ext cx="3788640" cy="2050920"/>
            <a:chOff x="3124080" y="4572000"/>
            <a:chExt cx="3788640" cy="2050920"/>
          </a:xfrm>
        </p:grpSpPr>
        <p:sp>
          <p:nvSpPr>
            <p:cNvPr id="631" name=""/>
            <p:cNvSpPr/>
            <p:nvPr/>
          </p:nvSpPr>
          <p:spPr>
            <a:xfrm>
              <a:off x="3648960" y="4572000"/>
              <a:ext cx="326376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hort circuiting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2" name=""/>
            <p:cNvGraphicFramePr/>
            <p:nvPr/>
          </p:nvGraphicFramePr>
          <p:xfrm>
            <a:off x="3124080" y="4883040"/>
            <a:ext cx="1847880" cy="1739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24080" y="4883040"/>
                      <a:ext cx="1847880" cy="17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4" name=""/>
          <p:cNvGrpSpPr/>
          <p:nvPr/>
        </p:nvGrpSpPr>
        <p:grpSpPr>
          <a:xfrm>
            <a:off x="3733920" y="5181480"/>
            <a:ext cx="228600" cy="457200"/>
            <a:chOff x="3733920" y="5181480"/>
            <a:chExt cx="228600" cy="457200"/>
          </a:xfrm>
        </p:grpSpPr>
        <p:sp>
          <p:nvSpPr>
            <p:cNvPr id="635" name=""/>
            <p:cNvSpPr/>
            <p:nvPr/>
          </p:nvSpPr>
          <p:spPr>
            <a:xfrm>
              <a:off x="3962520" y="51814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"/>
                <p:cNvSpPr txBox="1"/>
                <p:nvPr/>
              </p:nvSpPr>
              <p:spPr>
                <a:xfrm>
                  <a:off x="3733920" y="5181480"/>
                  <a:ext cx="1954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6781680" y="4952880"/>
                <a:ext cx="9050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8" name=""/>
          <p:cNvGrpSpPr/>
          <p:nvPr/>
        </p:nvGrpSpPr>
        <p:grpSpPr>
          <a:xfrm>
            <a:off x="3657600" y="5943600"/>
            <a:ext cx="304560" cy="584280"/>
            <a:chOff x="3657600" y="5943600"/>
            <a:chExt cx="304560" cy="584280"/>
          </a:xfrm>
        </p:grpSpPr>
        <p:sp>
          <p:nvSpPr>
            <p:cNvPr id="639" name=""/>
            <p:cNvSpPr/>
            <p:nvPr/>
          </p:nvSpPr>
          <p:spPr>
            <a:xfrm flipV="1">
              <a:off x="3962160" y="59436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0" name=""/>
                <p:cNvSpPr txBox="1"/>
                <p:nvPr/>
              </p:nvSpPr>
              <p:spPr>
                <a:xfrm>
                  <a:off x="3657600" y="6172200"/>
                  <a:ext cx="2934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7696080" y="4952880"/>
                <a:ext cx="1014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42" name=""/>
          <p:cNvGrpSpPr/>
          <p:nvPr/>
        </p:nvGrpSpPr>
        <p:grpSpPr>
          <a:xfrm>
            <a:off x="4375080" y="5029200"/>
            <a:ext cx="2863800" cy="1447920"/>
            <a:chOff x="4375080" y="5029200"/>
            <a:chExt cx="2863800" cy="1447920"/>
          </a:xfrm>
        </p:grpSpPr>
        <p:sp>
          <p:nvSpPr>
            <p:cNvPr id="643" name=""/>
            <p:cNvSpPr/>
            <p:nvPr/>
          </p:nvSpPr>
          <p:spPr>
            <a:xfrm>
              <a:off x="4375080" y="5029200"/>
              <a:ext cx="395280" cy="1447920"/>
            </a:xfrm>
            <a:custGeom>
              <a:avLst/>
              <a:gdLst/>
              <a:ahLst/>
              <a:rect l="l" t="t" r="r" b="b"/>
              <a:pathLst>
                <a:path w="249" h="912">
                  <a:moveTo>
                    <a:pt x="249" y="24"/>
                  </a:moveTo>
                  <a:cubicBezTo>
                    <a:pt x="181" y="0"/>
                    <a:pt x="110" y="24"/>
                    <a:pt x="39" y="24"/>
                  </a:cubicBezTo>
                  <a:cubicBezTo>
                    <a:pt x="34" y="300"/>
                    <a:pt x="23" y="556"/>
                    <a:pt x="0" y="827"/>
                  </a:cubicBezTo>
                  <a:cubicBezTo>
                    <a:pt x="3" y="835"/>
                    <a:pt x="6" y="842"/>
                    <a:pt x="8" y="850"/>
                  </a:cubicBezTo>
                  <a:cubicBezTo>
                    <a:pt x="11" y="860"/>
                    <a:pt x="16" y="881"/>
                    <a:pt x="16" y="881"/>
                  </a:cubicBezTo>
                  <a:cubicBezTo>
                    <a:pt x="94" y="888"/>
                    <a:pt x="170" y="912"/>
                    <a:pt x="249" y="912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15280" y="5975640"/>
              <a:ext cx="5158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5" name=""/>
                <p:cNvSpPr txBox="1"/>
                <p:nvPr/>
              </p:nvSpPr>
              <p:spPr>
                <a:xfrm>
                  <a:off x="5105160" y="5588280"/>
                  <a:ext cx="213372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91320" y="6095880"/>
                <a:ext cx="20844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8296560" y="2673360"/>
            <a:ext cx="944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4419720" y="3809880"/>
            <a:ext cx="3601800" cy="2820960"/>
            <a:chOff x="4419720" y="3809880"/>
            <a:chExt cx="3601800" cy="2820960"/>
          </a:xfrm>
        </p:grpSpPr>
        <p:graphicFrame>
          <p:nvGraphicFramePr>
            <p:cNvPr id="652" name=""/>
            <p:cNvGraphicFramePr/>
            <p:nvPr/>
          </p:nvGraphicFramePr>
          <p:xfrm>
            <a:off x="4419720" y="3809880"/>
            <a:ext cx="3601800" cy="2820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19720" y="3809880"/>
                      <a:ext cx="3601800" cy="282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7086600" y="5257800"/>
                  <a:ext cx="4158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5" name=""/>
          <p:cNvSpPr/>
          <p:nvPr/>
        </p:nvSpPr>
        <p:spPr>
          <a:xfrm>
            <a:off x="183240" y="31680"/>
            <a:ext cx="2148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 PRO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0" y="380880"/>
          <a:ext cx="3048120" cy="300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304812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414960" y="82440"/>
            <a:ext cx="23248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l in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352680" y="380880"/>
          <a:ext cx="3276720" cy="278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80880"/>
                    <a:ext cx="3276720" cy="27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4502160" y="1633680"/>
            <a:ext cx="1906560" cy="1496880"/>
          </a:xfrm>
          <a:custGeom>
            <a:avLst/>
            <a:gdLst/>
            <a:ahLst/>
            <a:rect l="l" t="t" r="r" b="b"/>
            <a:pathLst>
              <a:path w="1201" h="943">
                <a:moveTo>
                  <a:pt x="1201" y="888"/>
                </a:moveTo>
                <a:cubicBezTo>
                  <a:pt x="930" y="898"/>
                  <a:pt x="661" y="917"/>
                  <a:pt x="390" y="927"/>
                </a:cubicBezTo>
                <a:cubicBezTo>
                  <a:pt x="198" y="943"/>
                  <a:pt x="328" y="935"/>
                  <a:pt x="0" y="935"/>
                </a:cubicBezTo>
                <a:cubicBezTo>
                  <a:pt x="29" y="625"/>
                  <a:pt x="8" y="311"/>
                  <a:pt x="8" y="0"/>
                </a:cubicBezTo>
                <a:cubicBezTo>
                  <a:pt x="78" y="2"/>
                  <a:pt x="219" y="7"/>
                  <a:pt x="219" y="7"/>
                </a:cubicBezTo>
                <a:cubicBezTo>
                  <a:pt x="216" y="41"/>
                  <a:pt x="213" y="75"/>
                  <a:pt x="211" y="109"/>
                </a:cubicBezTo>
                <a:cubicBezTo>
                  <a:pt x="204" y="244"/>
                  <a:pt x="174" y="695"/>
                  <a:pt x="219" y="740"/>
                </a:cubicBezTo>
                <a:cubicBezTo>
                  <a:pt x="351" y="737"/>
                  <a:pt x="484" y="737"/>
                  <a:pt x="616" y="732"/>
                </a:cubicBezTo>
                <a:cubicBezTo>
                  <a:pt x="800" y="726"/>
                  <a:pt x="554" y="724"/>
                  <a:pt x="741" y="709"/>
                </a:cubicBezTo>
                <a:cubicBezTo>
                  <a:pt x="849" y="700"/>
                  <a:pt x="929" y="701"/>
                  <a:pt x="1029" y="701"/>
                </a:cubicBezTo>
                <a:cubicBezTo>
                  <a:pt x="1037" y="907"/>
                  <a:pt x="969" y="904"/>
                  <a:pt x="1045" y="9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73560" y="385920"/>
            <a:ext cx="2712960" cy="1482480"/>
          </a:xfrm>
          <a:custGeom>
            <a:avLst/>
            <a:gdLst/>
            <a:ahLst/>
            <a:rect l="l" t="t" r="r" b="b"/>
            <a:pathLst>
              <a:path w="1709" h="934">
                <a:moveTo>
                  <a:pt x="182" y="910"/>
                </a:moveTo>
                <a:cubicBezTo>
                  <a:pt x="153" y="913"/>
                  <a:pt x="124" y="914"/>
                  <a:pt x="96" y="918"/>
                </a:cubicBezTo>
                <a:cubicBezTo>
                  <a:pt x="88" y="919"/>
                  <a:pt x="73" y="926"/>
                  <a:pt x="73" y="926"/>
                </a:cubicBezTo>
                <a:cubicBezTo>
                  <a:pt x="69" y="793"/>
                  <a:pt x="76" y="540"/>
                  <a:pt x="26" y="396"/>
                </a:cubicBezTo>
                <a:cubicBezTo>
                  <a:pt x="19" y="297"/>
                  <a:pt x="0" y="186"/>
                  <a:pt x="41" y="92"/>
                </a:cubicBezTo>
                <a:cubicBezTo>
                  <a:pt x="292" y="87"/>
                  <a:pt x="533" y="68"/>
                  <a:pt x="782" y="53"/>
                </a:cubicBezTo>
                <a:cubicBezTo>
                  <a:pt x="901" y="46"/>
                  <a:pt x="1140" y="30"/>
                  <a:pt x="1140" y="30"/>
                </a:cubicBezTo>
                <a:cubicBezTo>
                  <a:pt x="1317" y="0"/>
                  <a:pt x="1515" y="14"/>
                  <a:pt x="1693" y="14"/>
                </a:cubicBezTo>
                <a:cubicBezTo>
                  <a:pt x="1702" y="263"/>
                  <a:pt x="1709" y="475"/>
                  <a:pt x="1701" y="731"/>
                </a:cubicBezTo>
                <a:cubicBezTo>
                  <a:pt x="1699" y="791"/>
                  <a:pt x="1686" y="850"/>
                  <a:pt x="1686" y="910"/>
                </a:cubicBezTo>
                <a:cubicBezTo>
                  <a:pt x="1668" y="913"/>
                  <a:pt x="1649" y="914"/>
                  <a:pt x="1631" y="918"/>
                </a:cubicBezTo>
                <a:cubicBezTo>
                  <a:pt x="1615" y="922"/>
                  <a:pt x="1584" y="934"/>
                  <a:pt x="1584" y="934"/>
                </a:cubicBezTo>
                <a:cubicBezTo>
                  <a:pt x="1556" y="915"/>
                  <a:pt x="1569" y="922"/>
                  <a:pt x="1545" y="910"/>
                </a:cubicBezTo>
                <a:cubicBezTo>
                  <a:pt x="1568" y="688"/>
                  <a:pt x="1561" y="473"/>
                  <a:pt x="1553" y="248"/>
                </a:cubicBezTo>
                <a:cubicBezTo>
                  <a:pt x="1552" y="216"/>
                  <a:pt x="1530" y="154"/>
                  <a:pt x="1530" y="154"/>
                </a:cubicBezTo>
                <a:cubicBezTo>
                  <a:pt x="1106" y="167"/>
                  <a:pt x="685" y="194"/>
                  <a:pt x="260" y="201"/>
                </a:cubicBezTo>
                <a:cubicBezTo>
                  <a:pt x="229" y="211"/>
                  <a:pt x="244" y="209"/>
                  <a:pt x="213" y="209"/>
                </a:cubicBezTo>
                <a:cubicBezTo>
                  <a:pt x="210" y="440"/>
                  <a:pt x="215" y="672"/>
                  <a:pt x="205" y="903"/>
                </a:cubicBezTo>
                <a:cubicBezTo>
                  <a:pt x="205" y="911"/>
                  <a:pt x="182" y="910"/>
                  <a:pt x="182" y="91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00800" y="235080"/>
            <a:ext cx="26175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l resistors are in parallel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 rot="10800000">
                <a:off x="6095880" y="761760"/>
                <a:ext cx="29926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87480" y="480960"/>
            <a:ext cx="1323720" cy="1300320"/>
          </a:xfrm>
          <a:custGeom>
            <a:avLst/>
            <a:gdLst/>
            <a:ahLst/>
            <a:rect l="l" t="t" r="r" b="b"/>
            <a:pathLst>
              <a:path w="834" h="819">
                <a:moveTo>
                  <a:pt x="826" y="63"/>
                </a:moveTo>
                <a:cubicBezTo>
                  <a:pt x="818" y="178"/>
                  <a:pt x="834" y="139"/>
                  <a:pt x="810" y="188"/>
                </a:cubicBezTo>
                <a:cubicBezTo>
                  <a:pt x="557" y="195"/>
                  <a:pt x="577" y="191"/>
                  <a:pt x="389" y="204"/>
                </a:cubicBezTo>
                <a:cubicBezTo>
                  <a:pt x="338" y="208"/>
                  <a:pt x="257" y="204"/>
                  <a:pt x="210" y="227"/>
                </a:cubicBezTo>
                <a:cubicBezTo>
                  <a:pt x="201" y="324"/>
                  <a:pt x="185" y="419"/>
                  <a:pt x="171" y="515"/>
                </a:cubicBezTo>
                <a:cubicBezTo>
                  <a:pt x="165" y="557"/>
                  <a:pt x="155" y="640"/>
                  <a:pt x="155" y="640"/>
                </a:cubicBezTo>
                <a:cubicBezTo>
                  <a:pt x="147" y="793"/>
                  <a:pt x="148" y="733"/>
                  <a:pt x="148" y="819"/>
                </a:cubicBezTo>
                <a:cubicBezTo>
                  <a:pt x="111" y="796"/>
                  <a:pt x="100" y="788"/>
                  <a:pt x="54" y="780"/>
                </a:cubicBezTo>
                <a:cubicBezTo>
                  <a:pt x="41" y="778"/>
                  <a:pt x="15" y="772"/>
                  <a:pt x="15" y="772"/>
                </a:cubicBezTo>
                <a:cubicBezTo>
                  <a:pt x="10" y="539"/>
                  <a:pt x="0" y="304"/>
                  <a:pt x="0" y="71"/>
                </a:cubicBezTo>
                <a:cubicBezTo>
                  <a:pt x="194" y="49"/>
                  <a:pt x="314" y="45"/>
                  <a:pt x="545" y="40"/>
                </a:cubicBezTo>
                <a:cubicBezTo>
                  <a:pt x="629" y="33"/>
                  <a:pt x="759" y="0"/>
                  <a:pt x="826" y="63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85920" y="3352680"/>
            <a:ext cx="267552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 can be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69480" y="1828800"/>
            <a:ext cx="3481560" cy="2016720"/>
            <a:chOff x="69480" y="1828800"/>
            <a:chExt cx="3481560" cy="2016720"/>
          </a:xfrm>
        </p:grpSpPr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2188800" y="1828800"/>
                  <a:ext cx="38736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69" name=""/>
            <p:cNvSpPr/>
            <p:nvPr/>
          </p:nvSpPr>
          <p:spPr>
            <a:xfrm>
              <a:off x="69480" y="3538440"/>
              <a:ext cx="348156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,,, An to compute Equivalent Source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791320" y="5029200"/>
            <a:ext cx="1587240" cy="1558800"/>
          </a:xfrm>
          <a:custGeom>
            <a:avLst/>
            <a:gdLst/>
            <a:ahLst/>
            <a:rect l="l" t="t" r="r" b="b"/>
            <a:pathLst>
              <a:path w="1000" h="982">
                <a:moveTo>
                  <a:pt x="213" y="0"/>
                </a:moveTo>
                <a:cubicBezTo>
                  <a:pt x="16" y="8"/>
                  <a:pt x="84" y="8"/>
                  <a:pt x="11" y="8"/>
                </a:cubicBezTo>
                <a:cubicBezTo>
                  <a:pt x="0" y="639"/>
                  <a:pt x="3" y="325"/>
                  <a:pt x="3" y="951"/>
                </a:cubicBezTo>
                <a:cubicBezTo>
                  <a:pt x="73" y="948"/>
                  <a:pt x="213" y="943"/>
                  <a:pt x="213" y="943"/>
                </a:cubicBezTo>
                <a:cubicBezTo>
                  <a:pt x="363" y="960"/>
                  <a:pt x="507" y="974"/>
                  <a:pt x="657" y="982"/>
                </a:cubicBezTo>
                <a:cubicBezTo>
                  <a:pt x="959" y="973"/>
                  <a:pt x="844" y="974"/>
                  <a:pt x="1000" y="974"/>
                </a:cubicBezTo>
                <a:cubicBezTo>
                  <a:pt x="998" y="925"/>
                  <a:pt x="993" y="826"/>
                  <a:pt x="993" y="826"/>
                </a:cubicBezTo>
                <a:cubicBezTo>
                  <a:pt x="623" y="821"/>
                  <a:pt x="539" y="881"/>
                  <a:pt x="315" y="803"/>
                </a:cubicBezTo>
                <a:cubicBezTo>
                  <a:pt x="295" y="756"/>
                  <a:pt x="292" y="749"/>
                  <a:pt x="260" y="717"/>
                </a:cubicBezTo>
                <a:cubicBezTo>
                  <a:pt x="251" y="538"/>
                  <a:pt x="261" y="313"/>
                  <a:pt x="159" y="156"/>
                </a:cubicBezTo>
                <a:cubicBezTo>
                  <a:pt x="168" y="78"/>
                  <a:pt x="178" y="70"/>
                  <a:pt x="213" y="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76320" y="3809880"/>
            <a:ext cx="3717720" cy="1955880"/>
            <a:chOff x="76320" y="3809880"/>
            <a:chExt cx="3717720" cy="1955880"/>
          </a:xfrm>
        </p:grpSpPr>
        <p:graphicFrame>
          <p:nvGraphicFramePr>
            <p:cNvPr id="672" name=""/>
            <p:cNvGraphicFramePr/>
            <p:nvPr/>
          </p:nvGraphicFramePr>
          <p:xfrm>
            <a:off x="76320" y="3809880"/>
            <a:ext cx="3717720" cy="1955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320" y="3809880"/>
                      <a:ext cx="37177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4" name=""/>
            <p:cNvSpPr/>
            <p:nvPr/>
          </p:nvSpPr>
          <p:spPr>
            <a:xfrm>
              <a:off x="1905120" y="5257800"/>
              <a:ext cx="228600" cy="2286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2058840" y="4844880"/>
                  <a:ext cx="8366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422280" y="4406760"/>
                  <a:ext cx="26352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3048120" y="4343400"/>
                  <a:ext cx="26352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8" name=""/>
          <p:cNvSpPr/>
          <p:nvPr/>
        </p:nvSpPr>
        <p:spPr>
          <a:xfrm>
            <a:off x="442800" y="5797440"/>
            <a:ext cx="1533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457200" y="6141960"/>
                <a:ext cx="3328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0" name=""/>
          <p:cNvGrpSpPr/>
          <p:nvPr/>
        </p:nvGrpSpPr>
        <p:grpSpPr>
          <a:xfrm>
            <a:off x="3751920" y="4343400"/>
            <a:ext cx="1875240" cy="1129680"/>
            <a:chOff x="3751920" y="4343400"/>
            <a:chExt cx="1875240" cy="1129680"/>
          </a:xfrm>
        </p:grpSpPr>
        <p:sp>
          <p:nvSpPr>
            <p:cNvPr id="681" name=""/>
            <p:cNvSpPr/>
            <p:nvPr/>
          </p:nvSpPr>
          <p:spPr>
            <a:xfrm>
              <a:off x="4038480" y="4343400"/>
              <a:ext cx="457200" cy="609480"/>
            </a:xfrm>
            <a:prstGeom prst="left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51920" y="4952880"/>
              <a:ext cx="187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62520" y="108000"/>
            <a:ext cx="8391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VENIN EQUIVALENT FOR CIRCUITS WITH ONLY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52280" y="609480"/>
          <a:ext cx="2590920" cy="16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59092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>
            <a:off x="2923920" y="685800"/>
            <a:ext cx="577224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circuit with only dependent sources cannot self sta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52280" y="3414600"/>
            <a:ext cx="2668680" cy="1766880"/>
            <a:chOff x="152280" y="3414600"/>
            <a:chExt cx="2668680" cy="1766880"/>
          </a:xfrm>
        </p:grpSpPr>
        <p:graphicFrame>
          <p:nvGraphicFramePr>
            <p:cNvPr id="691" name=""/>
            <p:cNvGraphicFramePr/>
            <p:nvPr/>
          </p:nvGraphicFramePr>
          <p:xfrm>
            <a:off x="152280" y="3414600"/>
            <a:ext cx="2668680" cy="176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3414600"/>
                      <a:ext cx="2668680" cy="17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914400" y="4267080"/>
                  <a:ext cx="9270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4" name=""/>
          <p:cNvGrpSpPr/>
          <p:nvPr/>
        </p:nvGrpSpPr>
        <p:grpSpPr>
          <a:xfrm>
            <a:off x="3551040" y="2590920"/>
            <a:ext cx="5360760" cy="858240"/>
            <a:chOff x="3551040" y="2590920"/>
            <a:chExt cx="5360760" cy="858240"/>
          </a:xfrm>
        </p:grpSpPr>
        <p:sp>
          <p:nvSpPr>
            <p:cNvPr id="695" name=""/>
            <p:cNvSpPr/>
            <p:nvPr/>
          </p:nvSpPr>
          <p:spPr>
            <a:xfrm>
              <a:off x="3612240" y="2590920"/>
              <a:ext cx="291636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is is a big simplification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51040" y="2868480"/>
              <a:ext cx="536076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But we need a special approach for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putation of the Thevenin equivalent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377520" y="3533760"/>
            <a:ext cx="559260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nce the circuit cannot self start we need to probe 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ith an external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366720" y="4143240"/>
            <a:ext cx="56458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source can be either a voltage source or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urrent source and its value can be chosen arbitrarily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363120" y="4753080"/>
            <a:ext cx="501804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one to choose is often determined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mplicity of the result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28600" y="2286000"/>
                <a:ext cx="2209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52280" y="2971800"/>
                <a:ext cx="245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3254040" y="1111320"/>
            <a:ext cx="5149080" cy="580680"/>
            <a:chOff x="3254040" y="1111320"/>
            <a:chExt cx="5149080" cy="580680"/>
          </a:xfrm>
        </p:grpSpPr>
        <p:sp>
          <p:nvSpPr>
            <p:cNvPr id="703" name=""/>
            <p:cNvSpPr/>
            <p:nvPr/>
          </p:nvSpPr>
          <p:spPr>
            <a:xfrm>
              <a:off x="3254040" y="1111320"/>
              <a:ext cx="514908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actually that statement has to be qualified a b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hat happens if                       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5181480" y="1371600"/>
                  <a:ext cx="1193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5" name=""/>
          <p:cNvGrpSpPr/>
          <p:nvPr/>
        </p:nvGrpSpPr>
        <p:grpSpPr>
          <a:xfrm>
            <a:off x="3234960" y="1835280"/>
            <a:ext cx="5715720" cy="674640"/>
            <a:chOff x="3234960" y="1835280"/>
            <a:chExt cx="5715720" cy="674640"/>
          </a:xfrm>
        </p:grpSpPr>
        <p:sp>
          <p:nvSpPr>
            <p:cNvPr id="706" name=""/>
            <p:cNvSpPr/>
            <p:nvPr/>
          </p:nvSpPr>
          <p:spPr>
            <a:xfrm>
              <a:off x="3234960" y="1835280"/>
              <a:ext cx="5715720" cy="5202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ANY PROPERLY DESIGNED CICUIT WITH ONLY 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4191120" y="2133720"/>
                  <a:ext cx="198252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1" name=""/>
          <p:cNvGraphicFramePr/>
          <p:nvPr/>
        </p:nvGraphicFramePr>
        <p:xfrm>
          <a:off x="0" y="457200"/>
          <a:ext cx="422100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422100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167760" y="55440"/>
            <a:ext cx="3688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CHOOSE A VOLTAGE PROB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809880" y="2133720"/>
                <a:ext cx="612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809880" y="4648320"/>
                <a:ext cx="612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4643280" y="4040280"/>
            <a:ext cx="530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562720" y="3962520"/>
                <a:ext cx="1214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8" name=""/>
          <p:cNvGrpSpPr/>
          <p:nvPr/>
        </p:nvGrpSpPr>
        <p:grpSpPr>
          <a:xfrm>
            <a:off x="1142640" y="685800"/>
            <a:ext cx="5842440" cy="843120"/>
            <a:chOff x="1142640" y="685800"/>
            <a:chExt cx="5842440" cy="843120"/>
          </a:xfrm>
        </p:grpSpPr>
        <mc:AlternateContent>
          <mc:Choice xmlns:a14="http://schemas.microsoft.com/office/drawing/2010/main" Requires="a14">
            <p:sp>
              <p:nvSpPr>
                <p:cNvPr id="719" name=""/>
                <p:cNvSpPr txBox="1"/>
                <p:nvPr/>
              </p:nvSpPr>
              <p:spPr>
                <a:xfrm>
                  <a:off x="4419720" y="685800"/>
                  <a:ext cx="2565360" cy="84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20" name=""/>
            <p:cNvSpPr/>
            <p:nvPr/>
          </p:nvSpPr>
          <p:spPr>
            <a:xfrm flipH="1">
              <a:off x="1142640" y="99072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7238880" y="609480"/>
                <a:ext cx="12668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4572000" y="1676520"/>
                <a:ext cx="35020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876920" y="4800600"/>
                <a:ext cx="316692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154880" y="6075360"/>
            <a:ext cx="5464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chosen for the probe voltage is irreleva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ftentimes we simply set it to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90840" y="55440"/>
            <a:ext cx="4509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 MUST COMPUTE CURRENT SUPPLI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B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30680" y="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CHOOSE A CURRENT SOURCE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0" y="762120"/>
          <a:ext cx="341460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341460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2971800" y="1295280"/>
                <a:ext cx="595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895480" y="3505320"/>
                <a:ext cx="5889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3733920" y="3505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99cc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4876920" y="3505320"/>
                <a:ext cx="13334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3844800" y="488880"/>
            <a:ext cx="4702320" cy="368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 must compute the node voltage V_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886200" y="914400"/>
                <a:ext cx="29052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934320" y="1066680"/>
                <a:ext cx="12571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3809880" y="2209680"/>
                <a:ext cx="39592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1840320" y="5008680"/>
            <a:ext cx="60238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of the probe current is irrelevant. For simpl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t is often choosen as 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4" name=""/>
          <p:cNvGraphicFramePr/>
          <p:nvPr/>
        </p:nvGraphicFramePr>
        <p:xfrm>
          <a:off x="144360" y="3951360"/>
          <a:ext cx="442764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3951360"/>
                    <a:ext cx="442764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0" y="380880"/>
          <a:ext cx="3871800" cy="25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38718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"/>
          <p:cNvSpPr/>
          <p:nvPr/>
        </p:nvSpPr>
        <p:spPr>
          <a:xfrm>
            <a:off x="9180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240" y="2895480"/>
            <a:ext cx="44967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 we use current probe or voltage prob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-360" y="914400"/>
            <a:ext cx="2983320" cy="609480"/>
            <a:chOff x="-360" y="914400"/>
            <a:chExt cx="2983320" cy="609480"/>
          </a:xfrm>
        </p:grpSpPr>
        <p:grpSp>
          <p:nvGrpSpPr>
            <p:cNvPr id="751" name=""/>
            <p:cNvGrpSpPr/>
            <p:nvPr/>
          </p:nvGrpSpPr>
          <p:grpSpPr>
            <a:xfrm>
              <a:off x="2438280" y="990720"/>
              <a:ext cx="544680" cy="533160"/>
              <a:chOff x="2438280" y="990720"/>
              <a:chExt cx="544680" cy="533160"/>
            </a:xfrm>
          </p:grpSpPr>
          <p:sp>
            <p:nvSpPr>
              <p:cNvPr id="752" name=""/>
              <p:cNvSpPr/>
              <p:nvPr/>
            </p:nvSpPr>
            <p:spPr>
              <a:xfrm>
                <a:off x="2438280" y="1295280"/>
                <a:ext cx="152640" cy="2286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3" name=""/>
                  <p:cNvSpPr txBox="1"/>
                  <p:nvPr/>
                </p:nvSpPr>
                <p:spPr>
                  <a:xfrm>
                    <a:off x="2590920" y="990720"/>
                    <a:ext cx="392040" cy="40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4" name=""/>
            <p:cNvSpPr/>
            <p:nvPr/>
          </p:nvSpPr>
          <p:spPr>
            <a:xfrm flipH="1">
              <a:off x="1218600" y="1295280"/>
              <a:ext cx="228600" cy="228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-360" y="914400"/>
              <a:ext cx="441720" cy="609480"/>
              <a:chOff x="-360" y="914400"/>
              <a:chExt cx="441720" cy="609480"/>
            </a:xfrm>
          </p:grpSpPr>
          <p:sp>
            <p:nvSpPr>
              <p:cNvPr id="756" name=""/>
              <p:cNvSpPr/>
              <p:nvPr/>
            </p:nvSpPr>
            <p:spPr>
              <a:xfrm flipH="1">
                <a:off x="-720" y="1295280"/>
                <a:ext cx="228600" cy="2286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2844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7" name=""/>
                  <p:cNvSpPr txBox="1"/>
                  <p:nvPr/>
                </p:nvSpPr>
                <p:spPr>
                  <a:xfrm>
                    <a:off x="152280" y="914400"/>
                    <a:ext cx="289080" cy="411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572000" y="533520"/>
                <a:ext cx="3816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</m:t>
                    </m:r>
                    <m:r>
                      <m:t xml:space="preserve">@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9" name=""/>
          <p:cNvGrpSpPr/>
          <p:nvPr/>
        </p:nvGrpSpPr>
        <p:grpSpPr>
          <a:xfrm>
            <a:off x="4658040" y="1143000"/>
            <a:ext cx="3952440" cy="412560"/>
            <a:chOff x="4658040" y="1143000"/>
            <a:chExt cx="3952440" cy="412560"/>
          </a:xfrm>
        </p:grpSpPr>
        <p:sp>
          <p:nvSpPr>
            <p:cNvPr id="760" name=""/>
            <p:cNvSpPr/>
            <p:nvPr/>
          </p:nvSpPr>
          <p:spPr>
            <a:xfrm>
              <a:off x="4658040" y="1143000"/>
              <a:ext cx="225648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ing variabl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1" name=""/>
                <p:cNvSpPr txBox="1"/>
                <p:nvPr/>
              </p:nvSpPr>
              <p:spPr>
                <a:xfrm>
                  <a:off x="6934320" y="1143000"/>
                  <a:ext cx="167616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3505320" y="4637160"/>
                <a:ext cx="3189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105520" y="2593800"/>
                <a:ext cx="3276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4" name=""/>
          <p:cNvGrpSpPr/>
          <p:nvPr/>
        </p:nvGrpSpPr>
        <p:grpSpPr>
          <a:xfrm>
            <a:off x="1904760" y="4560840"/>
            <a:ext cx="1559160" cy="1143000"/>
            <a:chOff x="1904760" y="4560840"/>
            <a:chExt cx="1559160" cy="1143000"/>
          </a:xfrm>
        </p:grpSpPr>
        <p:sp>
          <p:nvSpPr>
            <p:cNvPr id="765" name=""/>
            <p:cNvSpPr/>
            <p:nvPr/>
          </p:nvSpPr>
          <p:spPr>
            <a:xfrm flipH="1">
              <a:off x="1904760" y="532296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3048120" y="501804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7" name=""/>
            <p:cNvSpPr/>
            <p:nvPr/>
          </p:nvSpPr>
          <p:spPr>
            <a:xfrm>
              <a:off x="2666880" y="532296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047760" y="486576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133360" y="45608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38880" y="3255840"/>
            <a:ext cx="429696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use voltage probe there is only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de not connected through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343400" y="4267080"/>
            <a:ext cx="4029840" cy="1419120"/>
            <a:chOff x="4343400" y="4267080"/>
            <a:chExt cx="4029840" cy="1419120"/>
          </a:xfrm>
        </p:grpSpPr>
        <mc:AlternateContent>
          <mc:Choice xmlns:a14="http://schemas.microsoft.com/office/drawing/2010/main" Requires="a14">
            <p:sp>
              <p:nvSpPr>
                <p:cNvPr id="772" name=""/>
                <p:cNvSpPr txBox="1"/>
                <p:nvPr/>
              </p:nvSpPr>
              <p:spPr>
                <a:xfrm>
                  <a:off x="4343400" y="4267080"/>
                  <a:ext cx="125748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73" name=""/>
            <p:cNvSpPr/>
            <p:nvPr/>
          </p:nvSpPr>
          <p:spPr>
            <a:xfrm>
              <a:off x="4579200" y="5105520"/>
              <a:ext cx="379404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sing voltage probe. Must comp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suppl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410080" y="1600200"/>
                <a:ext cx="2882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 THE  EQUA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6705720" y="3352680"/>
                <a:ext cx="1001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638680" y="4282920"/>
                <a:ext cx="914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>
            <a:off x="2431080" y="76320"/>
            <a:ext cx="355644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484280" y="33480"/>
            <a:ext cx="57463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VENI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8600" y="6095880"/>
                <a:ext cx="3873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1219320" y="3200400"/>
            <a:ext cx="6019560" cy="2841480"/>
            <a:chOff x="1219320" y="3200400"/>
            <a:chExt cx="6019560" cy="2841480"/>
          </a:xfrm>
        </p:grpSpPr>
        <p:graphicFrame>
          <p:nvGraphicFramePr>
            <p:cNvPr id="78" name=""/>
            <p:cNvGraphicFramePr/>
            <p:nvPr/>
          </p:nvGraphicFramePr>
          <p:xfrm>
            <a:off x="1219320" y="3200400"/>
            <a:ext cx="601956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3200400"/>
                      <a:ext cx="60195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234080" y="5334120"/>
              <a:ext cx="302292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"/>
          <p:cNvGraphicFramePr/>
          <p:nvPr/>
        </p:nvGraphicFramePr>
        <p:xfrm>
          <a:off x="0" y="2209680"/>
          <a:ext cx="454968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454968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0" y="380880"/>
          <a:ext cx="457200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57200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"/>
          <p:cNvSpPr/>
          <p:nvPr/>
        </p:nvSpPr>
        <p:spPr>
          <a:xfrm>
            <a:off x="15480" y="-1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701240" y="43668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ly dependent sources. Hence V_th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42560" y="790560"/>
            <a:ext cx="4403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compute the equivalent resistance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st apply an external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3440" y="1808280"/>
            <a:ext cx="376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 choose to apply a current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352680" y="1812960"/>
            <a:ext cx="1524240" cy="1692360"/>
            <a:chOff x="3352680" y="1812960"/>
            <a:chExt cx="1524240" cy="1692360"/>
          </a:xfrm>
        </p:grpSpPr>
        <mc:AlternateContent>
          <mc:Choice xmlns:a14="http://schemas.microsoft.com/office/drawing/2010/main" Requires="a14">
            <p:sp>
              <p:nvSpPr>
                <p:cNvPr id="790" name=""/>
                <p:cNvSpPr txBox="1"/>
                <p:nvPr/>
              </p:nvSpPr>
              <p:spPr>
                <a:xfrm>
                  <a:off x="3898800" y="3184560"/>
                  <a:ext cx="2923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3352680" y="2575080"/>
                  <a:ext cx="31284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2" name=""/>
                <p:cNvSpPr txBox="1"/>
                <p:nvPr/>
              </p:nvSpPr>
              <p:spPr>
                <a:xfrm>
                  <a:off x="3962520" y="1812960"/>
                  <a:ext cx="914400" cy="58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3" name=""/>
          <p:cNvGrpSpPr/>
          <p:nvPr/>
        </p:nvGrpSpPr>
        <p:grpSpPr>
          <a:xfrm>
            <a:off x="685800" y="2362320"/>
            <a:ext cx="2133720" cy="228600"/>
            <a:chOff x="685800" y="2362320"/>
            <a:chExt cx="2133720" cy="228600"/>
          </a:xfrm>
        </p:grpSpPr>
        <p:sp>
          <p:nvSpPr>
            <p:cNvPr id="794" name=""/>
            <p:cNvSpPr/>
            <p:nvPr/>
          </p:nvSpPr>
          <p:spPr>
            <a:xfrm>
              <a:off x="6858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7652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66880" y="24382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593960" y="2330280"/>
            <a:ext cx="69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@V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5486400" y="1981080"/>
          <a:ext cx="293544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981080"/>
                    <a:ext cx="2935440" cy="8175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4670280" y="2951280"/>
            <a:ext cx="69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@V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5715000" y="2743200"/>
            <a:ext cx="2930400" cy="727200"/>
            <a:chOff x="5715000" y="2743200"/>
            <a:chExt cx="2930400" cy="727200"/>
          </a:xfrm>
        </p:grpSpPr>
        <p:graphicFrame>
          <p:nvGraphicFramePr>
            <p:cNvPr id="802" name=""/>
            <p:cNvGraphicFramePr/>
            <p:nvPr/>
          </p:nvGraphicFramePr>
          <p:xfrm>
            <a:off x="5715000" y="2743200"/>
            <a:ext cx="2325600" cy="727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2743200"/>
                      <a:ext cx="2325600" cy="727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8077320" y="2895480"/>
                  <a:ext cx="5680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4710240" y="3368520"/>
            <a:ext cx="3138480" cy="517680"/>
            <a:chOff x="4710240" y="3368520"/>
            <a:chExt cx="3138480" cy="517680"/>
          </a:xfrm>
        </p:grpSpPr>
        <p:sp>
          <p:nvSpPr>
            <p:cNvPr id="806" name=""/>
            <p:cNvSpPr/>
            <p:nvPr/>
          </p:nvSpPr>
          <p:spPr>
            <a:xfrm>
              <a:off x="4710240" y="3408480"/>
              <a:ext cx="2198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ing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7" name=""/>
            <p:cNvGraphicFramePr/>
            <p:nvPr/>
          </p:nvGraphicFramePr>
          <p:xfrm>
            <a:off x="7112160" y="3368520"/>
            <a:ext cx="736560" cy="517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12160" y="3368520"/>
                      <a:ext cx="736560" cy="51768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809" name=""/>
          <p:cNvSpPr/>
          <p:nvPr/>
        </p:nvSpPr>
        <p:spPr>
          <a:xfrm>
            <a:off x="92160" y="3713040"/>
            <a:ext cx="4070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ventional” circuit with 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urces - use nod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4572000" y="3983040"/>
                <a:ext cx="4213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>
            <a:off x="4317840" y="2362320"/>
            <a:ext cx="330480" cy="1676160"/>
          </a:xfrm>
          <a:custGeom>
            <a:avLst/>
            <a:gdLst/>
            <a:ahLst/>
            <a:rect l="l" t="t" r="r" b="b"/>
            <a:pathLst>
              <a:path w="208" h="1056">
                <a:moveTo>
                  <a:pt x="208" y="0"/>
                </a:moveTo>
                <a:cubicBezTo>
                  <a:pt x="120" y="152"/>
                  <a:pt x="32" y="304"/>
                  <a:pt x="16" y="480"/>
                </a:cubicBezTo>
                <a:cubicBezTo>
                  <a:pt x="0" y="656"/>
                  <a:pt x="96" y="960"/>
                  <a:pt x="112" y="10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6840" y="1447920"/>
            <a:ext cx="2892240" cy="2438280"/>
          </a:xfrm>
          <a:custGeom>
            <a:avLst/>
            <a:gdLst/>
            <a:ahLst/>
            <a:rect l="l" t="t" r="r" b="b"/>
            <a:pathLst>
              <a:path w="1822" h="1536">
                <a:moveTo>
                  <a:pt x="0" y="393"/>
                </a:moveTo>
                <a:cubicBezTo>
                  <a:pt x="109" y="398"/>
                  <a:pt x="217" y="418"/>
                  <a:pt x="325" y="418"/>
                </a:cubicBezTo>
                <a:lnTo>
                  <a:pt x="190" y="384"/>
                </a:lnTo>
                <a:lnTo>
                  <a:pt x="430" y="0"/>
                </a:lnTo>
                <a:lnTo>
                  <a:pt x="1822" y="240"/>
                </a:lnTo>
                <a:lnTo>
                  <a:pt x="1822" y="1392"/>
                </a:lnTo>
                <a:lnTo>
                  <a:pt x="1198" y="1536"/>
                </a:lnTo>
                <a:lnTo>
                  <a:pt x="766" y="1536"/>
                </a:lnTo>
                <a:lnTo>
                  <a:pt x="622" y="1296"/>
                </a:lnTo>
                <a:lnTo>
                  <a:pt x="910" y="115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572000" y="4419720"/>
                <a:ext cx="2692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4" name=""/>
          <p:cNvSpPr/>
          <p:nvPr/>
        </p:nvSpPr>
        <p:spPr>
          <a:xfrm>
            <a:off x="4203720" y="3124080"/>
            <a:ext cx="444600" cy="1447920"/>
          </a:xfrm>
          <a:custGeom>
            <a:avLst/>
            <a:gdLst/>
            <a:ahLst/>
            <a:rect l="l" t="t" r="r" b="b"/>
            <a:pathLst>
              <a:path w="280" h="912">
                <a:moveTo>
                  <a:pt x="280" y="0"/>
                </a:moveTo>
                <a:cubicBezTo>
                  <a:pt x="180" y="108"/>
                  <a:pt x="80" y="216"/>
                  <a:pt x="40" y="336"/>
                </a:cubicBezTo>
                <a:cubicBezTo>
                  <a:pt x="0" y="456"/>
                  <a:pt x="8" y="624"/>
                  <a:pt x="40" y="720"/>
                </a:cubicBezTo>
                <a:cubicBezTo>
                  <a:pt x="72" y="816"/>
                  <a:pt x="152" y="864"/>
                  <a:pt x="232" y="912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343400" y="4862520"/>
                <a:ext cx="1890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6858000" y="5029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7467480" y="4952880"/>
                <a:ext cx="15051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343400" y="5791320"/>
                <a:ext cx="4648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∩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29000" y="5029200"/>
            <a:ext cx="762120" cy="457200"/>
          </a:xfrm>
          <a:prstGeom prst="leftArrow">
            <a:avLst>
              <a:gd name="adj1" fmla="val 50000"/>
              <a:gd name="adj2" fmla="val 416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367200" y="4572000"/>
            <a:ext cx="2269800" cy="1917000"/>
            <a:chOff x="367200" y="4572000"/>
            <a:chExt cx="2269800" cy="1917000"/>
          </a:xfrm>
        </p:grpSpPr>
        <p:graphicFrame>
          <p:nvGraphicFramePr>
            <p:cNvPr id="821" name=""/>
            <p:cNvGraphicFramePr/>
            <p:nvPr/>
          </p:nvGraphicFramePr>
          <p:xfrm>
            <a:off x="685800" y="4572000"/>
            <a:ext cx="1951200" cy="1517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" y="4572000"/>
                      <a:ext cx="1951200" cy="151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"/>
            <p:cNvSpPr/>
            <p:nvPr/>
          </p:nvSpPr>
          <p:spPr>
            <a:xfrm>
              <a:off x="367200" y="6151680"/>
              <a:ext cx="2253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6248520" y="4876920"/>
                <a:ext cx="558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25" name="geaux" descr=""/>
          <p:cNvPicPr/>
          <p:nvPr/>
        </p:nvPicPr>
        <p:blipFill>
          <a:blip r:embed="rId1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91400" y="0"/>
            <a:ext cx="459108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circuit at A -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1680" y="-20520"/>
            <a:ext cx="224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0" y="304920"/>
          <a:ext cx="320040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2004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"/>
          <p:cNvGrpSpPr/>
          <p:nvPr/>
        </p:nvGrpSpPr>
        <p:grpSpPr>
          <a:xfrm>
            <a:off x="0" y="2438280"/>
            <a:ext cx="3200400" cy="2186280"/>
            <a:chOff x="0" y="2438280"/>
            <a:chExt cx="3200400" cy="2186280"/>
          </a:xfrm>
        </p:grpSpPr>
        <p:graphicFrame>
          <p:nvGraphicFramePr>
            <p:cNvPr id="833" name=""/>
            <p:cNvGraphicFramePr/>
            <p:nvPr/>
          </p:nvGraphicFramePr>
          <p:xfrm>
            <a:off x="0" y="2438280"/>
            <a:ext cx="3200400" cy="218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438280"/>
                      <a:ext cx="3200400" cy="218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35" name=""/>
                <p:cNvSpPr txBox="1"/>
                <p:nvPr/>
              </p:nvSpPr>
              <p:spPr>
                <a:xfrm>
                  <a:off x="1752480" y="3238560"/>
                  <a:ext cx="927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36" name=""/>
          <p:cNvGraphicFramePr/>
          <p:nvPr/>
        </p:nvGraphicFramePr>
        <p:xfrm>
          <a:off x="76320" y="4876920"/>
          <a:ext cx="3352680" cy="181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876920"/>
                    <a:ext cx="335268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8" name=""/>
          <p:cNvSpPr/>
          <p:nvPr/>
        </p:nvSpPr>
        <p:spPr>
          <a:xfrm>
            <a:off x="2178720" y="4495680"/>
            <a:ext cx="15447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05320" y="5257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4191120" y="4648320"/>
                <a:ext cx="1976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3962520" y="5334120"/>
                <a:ext cx="51051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4024440" y="5618160"/>
            <a:ext cx="219852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6248520" y="5638680"/>
                <a:ext cx="19555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4" name=""/>
          <p:cNvGrpSpPr/>
          <p:nvPr/>
        </p:nvGrpSpPr>
        <p:grpSpPr>
          <a:xfrm>
            <a:off x="1752480" y="2819520"/>
            <a:ext cx="812880" cy="1295280"/>
            <a:chOff x="1752480" y="2819520"/>
            <a:chExt cx="812880" cy="1295280"/>
          </a:xfrm>
        </p:grpSpPr>
        <mc:AlternateContent>
          <mc:Choice xmlns:a14="http://schemas.microsoft.com/office/drawing/2010/main" Requires="a14">
            <p:sp>
              <p:nvSpPr>
                <p:cNvPr id="845" name=""/>
                <p:cNvSpPr txBox="1"/>
                <p:nvPr/>
              </p:nvSpPr>
              <p:spPr>
                <a:xfrm>
                  <a:off x="1887480" y="2819520"/>
                  <a:ext cx="62712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6" name=""/>
            <p:cNvSpPr/>
            <p:nvPr/>
          </p:nvSpPr>
          <p:spPr>
            <a:xfrm>
              <a:off x="1752480" y="3505320"/>
              <a:ext cx="812880" cy="609480"/>
            </a:xfrm>
            <a:custGeom>
              <a:avLst/>
              <a:gdLst/>
              <a:ahLst/>
              <a:rect l="l" t="t" r="r" b="b"/>
              <a:pathLst>
                <a:path w="512" h="384">
                  <a:moveTo>
                    <a:pt x="112" y="48"/>
                  </a:moveTo>
                  <a:cubicBezTo>
                    <a:pt x="252" y="24"/>
                    <a:pt x="392" y="0"/>
                    <a:pt x="448" y="48"/>
                  </a:cubicBezTo>
                  <a:cubicBezTo>
                    <a:pt x="504" y="96"/>
                    <a:pt x="512" y="288"/>
                    <a:pt x="448" y="336"/>
                  </a:cubicBezTo>
                  <a:cubicBezTo>
                    <a:pt x="384" y="384"/>
                    <a:pt x="128" y="376"/>
                    <a:pt x="64" y="336"/>
                  </a:cubicBezTo>
                  <a:cubicBezTo>
                    <a:pt x="0" y="296"/>
                    <a:pt x="64" y="136"/>
                    <a:pt x="64" y="96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2844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60000" y="5923080"/>
            <a:ext cx="31143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oltage across current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421080" y="6248520"/>
                <a:ext cx="4732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5867280" y="434340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324480" y="2895480"/>
            <a:ext cx="381240" cy="381240"/>
          </a:xfrm>
          <a:prstGeom prst="up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4939200" y="838080"/>
            <a:ext cx="2269800" cy="1916640"/>
            <a:chOff x="4939200" y="838080"/>
            <a:chExt cx="2269800" cy="1916640"/>
          </a:xfrm>
        </p:grpSpPr>
        <p:graphicFrame>
          <p:nvGraphicFramePr>
            <p:cNvPr id="852" name=""/>
            <p:cNvGraphicFramePr/>
            <p:nvPr/>
          </p:nvGraphicFramePr>
          <p:xfrm>
            <a:off x="5257800" y="838080"/>
            <a:ext cx="1951200" cy="1517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8">
                      <a:alphaModFix amt="50000"/>
                    </a:blip>
                    <a:stretch/>
                  </p:blipFill>
                  <p:spPr>
                    <a:xfrm>
                      <a:off x="5257800" y="838080"/>
                      <a:ext cx="1951200" cy="1517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4939200" y="2417400"/>
              <a:ext cx="225324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029200" y="3332160"/>
            <a:ext cx="3970080" cy="1067400"/>
            <a:chOff x="5029200" y="3332160"/>
            <a:chExt cx="3970080" cy="1067400"/>
          </a:xfrm>
        </p:grpSpPr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5029200" y="3505320"/>
                  <a:ext cx="197316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57" name=""/>
            <p:cNvSpPr/>
            <p:nvPr/>
          </p:nvSpPr>
          <p:spPr>
            <a:xfrm>
              <a:off x="6994440" y="3332160"/>
              <a:ext cx="2004840" cy="10674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 resistanc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umerically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 V_p but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nits of KOh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58" name=""/>
          <p:cNvGraphicFramePr/>
          <p:nvPr/>
        </p:nvGraphicFramePr>
        <p:xfrm>
          <a:off x="3314880" y="3216240"/>
          <a:ext cx="1249200" cy="6066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314880" y="3216240"/>
                    <a:ext cx="1249200" cy="606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60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5560" y="4191120"/>
                <a:ext cx="340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 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ETHOD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4" name=""/>
          <p:cNvGraphicFramePr/>
          <p:nvPr/>
        </p:nvGraphicFramePr>
        <p:xfrm>
          <a:off x="0" y="1235160"/>
          <a:ext cx="3024360" cy="18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302436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venin Equival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s with both Dependent and Independ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152280" y="3200400"/>
            <a:ext cx="2355840" cy="2209680"/>
            <a:chOff x="152280" y="3200400"/>
            <a:chExt cx="2355840" cy="2209680"/>
          </a:xfrm>
        </p:grpSpPr>
        <p:graphicFrame>
          <p:nvGraphicFramePr>
            <p:cNvPr id="868" name=""/>
            <p:cNvGraphicFramePr/>
            <p:nvPr/>
          </p:nvGraphicFramePr>
          <p:xfrm>
            <a:off x="320760" y="3259080"/>
            <a:ext cx="2187360" cy="197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760" y="3259080"/>
                      <a:ext cx="218736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52280" y="3200400"/>
              <a:ext cx="1752840" cy="2209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304920" y="5562720"/>
                <a:ext cx="15922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676520" y="4038480"/>
                <a:ext cx="1280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2681640" y="1119240"/>
            <a:ext cx="647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compute open circuit voltage and short 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17360" y="1506600"/>
            <a:ext cx="5177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determination of a Thevenin equival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solve two circu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35120" y="2666880"/>
            <a:ext cx="6163920" cy="10674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y and all the techniques discussed should be read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ailable; e.g.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, KVL,combination series/parallel, node, loop analysi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, source transformation,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04280" y="5105520"/>
            <a:ext cx="5433840" cy="82404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ach of setting to zero all sources and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ing resistances t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ance is in general not applicable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0" name=""/>
          <p:cNvGraphicFramePr/>
          <p:nvPr/>
        </p:nvGraphicFramePr>
        <p:xfrm>
          <a:off x="76320" y="352440"/>
          <a:ext cx="48006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52440"/>
                    <a:ext cx="48006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/>
          <p:nvPr/>
        </p:nvSpPr>
        <p:spPr>
          <a:xfrm>
            <a:off x="147240" y="58680"/>
            <a:ext cx="4277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 Use Thevenin to determin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2481120" y="380880"/>
            <a:ext cx="2548080" cy="1662120"/>
            <a:chOff x="2481120" y="380880"/>
            <a:chExt cx="2548080" cy="1662120"/>
          </a:xfrm>
        </p:grpSpPr>
        <p:sp>
          <p:nvSpPr>
            <p:cNvPr id="884" name=""/>
            <p:cNvSpPr/>
            <p:nvPr/>
          </p:nvSpPr>
          <p:spPr>
            <a:xfrm>
              <a:off x="2481120" y="380880"/>
              <a:ext cx="2548080" cy="1662120"/>
            </a:xfrm>
            <a:custGeom>
              <a:avLst/>
              <a:gdLst/>
              <a:ahLst/>
              <a:rect l="l" t="t" r="r" b="b"/>
              <a:pathLst>
                <a:path w="1605" h="1047">
                  <a:moveTo>
                    <a:pt x="32" y="2"/>
                  </a:moveTo>
                  <a:cubicBezTo>
                    <a:pt x="16" y="93"/>
                    <a:pt x="32" y="13"/>
                    <a:pt x="16" y="72"/>
                  </a:cubicBezTo>
                  <a:cubicBezTo>
                    <a:pt x="10" y="93"/>
                    <a:pt x="0" y="134"/>
                    <a:pt x="0" y="134"/>
                  </a:cubicBezTo>
                  <a:cubicBezTo>
                    <a:pt x="3" y="178"/>
                    <a:pt x="3" y="223"/>
                    <a:pt x="8" y="267"/>
                  </a:cubicBezTo>
                  <a:cubicBezTo>
                    <a:pt x="9" y="275"/>
                    <a:pt x="10" y="284"/>
                    <a:pt x="16" y="290"/>
                  </a:cubicBezTo>
                  <a:cubicBezTo>
                    <a:pt x="30" y="304"/>
                    <a:pt x="54" y="303"/>
                    <a:pt x="71" y="313"/>
                  </a:cubicBezTo>
                  <a:cubicBezTo>
                    <a:pt x="111" y="335"/>
                    <a:pt x="78" y="322"/>
                    <a:pt x="117" y="352"/>
                  </a:cubicBezTo>
                  <a:cubicBezTo>
                    <a:pt x="151" y="378"/>
                    <a:pt x="182" y="393"/>
                    <a:pt x="211" y="422"/>
                  </a:cubicBezTo>
                  <a:cubicBezTo>
                    <a:pt x="221" y="451"/>
                    <a:pt x="233" y="475"/>
                    <a:pt x="250" y="500"/>
                  </a:cubicBezTo>
                  <a:cubicBezTo>
                    <a:pt x="259" y="526"/>
                    <a:pt x="264" y="552"/>
                    <a:pt x="273" y="578"/>
                  </a:cubicBezTo>
                  <a:cubicBezTo>
                    <a:pt x="270" y="596"/>
                    <a:pt x="277" y="619"/>
                    <a:pt x="265" y="633"/>
                  </a:cubicBezTo>
                  <a:cubicBezTo>
                    <a:pt x="253" y="647"/>
                    <a:pt x="229" y="642"/>
                    <a:pt x="211" y="648"/>
                  </a:cubicBezTo>
                  <a:cubicBezTo>
                    <a:pt x="192" y="655"/>
                    <a:pt x="174" y="664"/>
                    <a:pt x="156" y="672"/>
                  </a:cubicBezTo>
                  <a:cubicBezTo>
                    <a:pt x="151" y="680"/>
                    <a:pt x="149" y="690"/>
                    <a:pt x="141" y="695"/>
                  </a:cubicBezTo>
                  <a:cubicBezTo>
                    <a:pt x="127" y="704"/>
                    <a:pt x="106" y="699"/>
                    <a:pt x="94" y="711"/>
                  </a:cubicBezTo>
                  <a:cubicBezTo>
                    <a:pt x="82" y="723"/>
                    <a:pt x="83" y="742"/>
                    <a:pt x="78" y="758"/>
                  </a:cubicBezTo>
                  <a:cubicBezTo>
                    <a:pt x="75" y="766"/>
                    <a:pt x="71" y="781"/>
                    <a:pt x="71" y="781"/>
                  </a:cubicBezTo>
                  <a:cubicBezTo>
                    <a:pt x="64" y="825"/>
                    <a:pt x="45" y="922"/>
                    <a:pt x="78" y="952"/>
                  </a:cubicBezTo>
                  <a:cubicBezTo>
                    <a:pt x="104" y="976"/>
                    <a:pt x="341" y="982"/>
                    <a:pt x="367" y="984"/>
                  </a:cubicBezTo>
                  <a:cubicBezTo>
                    <a:pt x="510" y="993"/>
                    <a:pt x="653" y="1003"/>
                    <a:pt x="795" y="1015"/>
                  </a:cubicBezTo>
                  <a:cubicBezTo>
                    <a:pt x="931" y="1047"/>
                    <a:pt x="836" y="1030"/>
                    <a:pt x="1084" y="1030"/>
                  </a:cubicBezTo>
                  <a:lnTo>
                    <a:pt x="1605" y="288"/>
                  </a:lnTo>
                  <a:lnTo>
                    <a:pt x="117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15400" y="387360"/>
              <a:ext cx="88308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5254200" y="298440"/>
            <a:ext cx="37864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 A” should be as simple as possib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660920" y="603360"/>
            <a:ext cx="440532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fter “Part A” is replaced by the Theve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we should have a very simple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30280" y="0"/>
            <a:ext cx="22442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uidelines to parti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4520" y="1905120"/>
            <a:ext cx="19882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0" y="2259000"/>
          <a:ext cx="2971800" cy="13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59000"/>
                    <a:ext cx="297180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"/>
          <p:cNvSpPr/>
          <p:nvPr/>
        </p:nvSpPr>
        <p:spPr>
          <a:xfrm>
            <a:off x="4995360" y="1152360"/>
            <a:ext cx="418428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dependent sources and their control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ariables must remain toge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88360" y="1981080"/>
            <a:ext cx="11394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tions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15840" y="2303640"/>
            <a:ext cx="1224000" cy="668160"/>
          </a:xfrm>
          <a:custGeom>
            <a:avLst/>
            <a:gdLst/>
            <a:ahLst/>
            <a:rect l="l" t="t" r="r" b="b"/>
            <a:pathLst>
              <a:path w="771" h="421">
                <a:moveTo>
                  <a:pt x="0" y="11"/>
                </a:moveTo>
                <a:cubicBezTo>
                  <a:pt x="2" y="61"/>
                  <a:pt x="15" y="213"/>
                  <a:pt x="15" y="292"/>
                </a:cubicBezTo>
                <a:cubicBezTo>
                  <a:pt x="106" y="295"/>
                  <a:pt x="197" y="296"/>
                  <a:pt x="288" y="300"/>
                </a:cubicBezTo>
                <a:cubicBezTo>
                  <a:pt x="341" y="302"/>
                  <a:pt x="329" y="297"/>
                  <a:pt x="350" y="331"/>
                </a:cubicBezTo>
                <a:cubicBezTo>
                  <a:pt x="353" y="346"/>
                  <a:pt x="350" y="364"/>
                  <a:pt x="358" y="377"/>
                </a:cubicBezTo>
                <a:cubicBezTo>
                  <a:pt x="384" y="421"/>
                  <a:pt x="381" y="381"/>
                  <a:pt x="381" y="377"/>
                </a:cubicBezTo>
                <a:cubicBezTo>
                  <a:pt x="398" y="382"/>
                  <a:pt x="415" y="398"/>
                  <a:pt x="431" y="391"/>
                </a:cubicBezTo>
                <a:cubicBezTo>
                  <a:pt x="462" y="378"/>
                  <a:pt x="476" y="338"/>
                  <a:pt x="506" y="323"/>
                </a:cubicBezTo>
                <a:cubicBezTo>
                  <a:pt x="560" y="295"/>
                  <a:pt x="726" y="282"/>
                  <a:pt x="771" y="237"/>
                </a:cubicBezTo>
                <a:cubicBezTo>
                  <a:pt x="771" y="188"/>
                  <a:pt x="771" y="138"/>
                  <a:pt x="771" y="89"/>
                </a:cubicBezTo>
                <a:cubicBezTo>
                  <a:pt x="599" y="27"/>
                  <a:pt x="432" y="27"/>
                  <a:pt x="249" y="19"/>
                </a:cubicBezTo>
                <a:cubicBezTo>
                  <a:pt x="136" y="0"/>
                  <a:pt x="218" y="11"/>
                  <a:pt x="0" y="11"/>
                </a:cubicBezTo>
                <a:close/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52280" y="2178000"/>
            <a:ext cx="1828800" cy="412920"/>
            <a:chOff x="152280" y="2178000"/>
            <a:chExt cx="1828800" cy="412920"/>
          </a:xfrm>
        </p:grpSpPr>
        <p:sp>
          <p:nvSpPr>
            <p:cNvPr id="896" name=""/>
            <p:cNvSpPr/>
            <p:nvPr/>
          </p:nvSpPr>
          <p:spPr>
            <a:xfrm>
              <a:off x="990720" y="2438280"/>
              <a:ext cx="15228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52280" y="2438280"/>
              <a:ext cx="15264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28800" y="2362320"/>
              <a:ext cx="152280" cy="152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990720" y="2178000"/>
                  <a:ext cx="182520" cy="2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5943600" y="1801800"/>
                <a:ext cx="3124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3582360" y="1828800"/>
            <a:ext cx="2399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straint at super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516480" y="2209680"/>
            <a:ext cx="17870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CL at super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532480" y="2133720"/>
                <a:ext cx="3611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3654720" y="2666880"/>
            <a:ext cx="308412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ation for 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781680" y="2590920"/>
                <a:ext cx="838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6" name=""/>
          <p:cNvSpPr/>
          <p:nvPr/>
        </p:nvSpPr>
        <p:spPr>
          <a:xfrm>
            <a:off x="3727800" y="2978280"/>
            <a:ext cx="6501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572000" y="2886120"/>
                <a:ext cx="18223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8" name=""/>
          <p:cNvSpPr/>
          <p:nvPr/>
        </p:nvSpPr>
        <p:spPr>
          <a:xfrm>
            <a:off x="2160" y="3359160"/>
            <a:ext cx="199440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0" y="3657600"/>
          <a:ext cx="3048120" cy="12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657600"/>
                    <a:ext cx="30481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1" name=""/>
          <p:cNvGrpSpPr/>
          <p:nvPr/>
        </p:nvGrpSpPr>
        <p:grpSpPr>
          <a:xfrm>
            <a:off x="1828800" y="3505320"/>
            <a:ext cx="444600" cy="457200"/>
            <a:chOff x="1828800" y="3505320"/>
            <a:chExt cx="444600" cy="457200"/>
          </a:xfrm>
        </p:grpSpPr>
        <p:sp>
          <p:nvSpPr>
            <p:cNvPr id="912" name=""/>
            <p:cNvSpPr/>
            <p:nvPr/>
          </p:nvSpPr>
          <p:spPr>
            <a:xfrm>
              <a:off x="1828800" y="3809880"/>
              <a:ext cx="15228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1981080" y="3505320"/>
                  <a:ext cx="2923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14" name=""/>
          <p:cNvGraphicFramePr/>
          <p:nvPr/>
        </p:nvGraphicFramePr>
        <p:xfrm>
          <a:off x="4495680" y="3460680"/>
          <a:ext cx="2319480" cy="14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3194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6" name=""/>
          <p:cNvGrpSpPr/>
          <p:nvPr/>
        </p:nvGrpSpPr>
        <p:grpSpPr>
          <a:xfrm>
            <a:off x="3048120" y="3505320"/>
            <a:ext cx="1371600" cy="1066320"/>
            <a:chOff x="3048120" y="3505320"/>
            <a:chExt cx="1371600" cy="1066320"/>
          </a:xfrm>
        </p:grpSpPr>
        <mc:AlternateContent>
          <mc:Choice xmlns:a14="http://schemas.microsoft.com/office/drawing/2010/main" Requires="a14">
            <p:sp>
              <p:nvSpPr>
                <p:cNvPr id="917" name=""/>
                <p:cNvSpPr txBox="1"/>
                <p:nvPr/>
              </p:nvSpPr>
              <p:spPr>
                <a:xfrm>
                  <a:off x="3048120" y="3505320"/>
                  <a:ext cx="1371600" cy="72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= {  {V rSub { size 8{A} } }  over  {2k} } =0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18" name=""/>
            <p:cNvSpPr/>
            <p:nvPr/>
          </p:nvSpPr>
          <p:spPr>
            <a:xfrm>
              <a:off x="3986280" y="4254840"/>
              <a:ext cx="288720" cy="316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ccff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781680" y="3505320"/>
                <a:ext cx="22194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6586560" y="4373640"/>
                <a:ext cx="25574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1" name=""/>
          <p:cNvSpPr/>
          <p:nvPr/>
        </p:nvSpPr>
        <p:spPr>
          <a:xfrm>
            <a:off x="5212800" y="5181480"/>
            <a:ext cx="388548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ting all sources to zero and comb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sistances will yield an incorrect value!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60080" y="4775040"/>
            <a:ext cx="331092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gative resistances for some “a’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40760" y="4883040"/>
            <a:ext cx="22960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to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0" y="5462640"/>
          <a:ext cx="3087720" cy="13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5462640"/>
                    <a:ext cx="308772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-127080" y="5900760"/>
            <a:ext cx="932040" cy="828720"/>
          </a:xfrm>
          <a:custGeom>
            <a:avLst/>
            <a:gdLst/>
            <a:ahLst/>
            <a:rect l="l" t="t" r="r" b="b"/>
            <a:pathLst>
              <a:path w="587" h="522">
                <a:moveTo>
                  <a:pt x="587" y="258"/>
                </a:moveTo>
                <a:cubicBezTo>
                  <a:pt x="531" y="239"/>
                  <a:pt x="456" y="238"/>
                  <a:pt x="415" y="195"/>
                </a:cubicBezTo>
                <a:cubicBezTo>
                  <a:pt x="397" y="88"/>
                  <a:pt x="430" y="209"/>
                  <a:pt x="345" y="117"/>
                </a:cubicBezTo>
                <a:cubicBezTo>
                  <a:pt x="325" y="96"/>
                  <a:pt x="333" y="49"/>
                  <a:pt x="306" y="39"/>
                </a:cubicBezTo>
                <a:cubicBezTo>
                  <a:pt x="233" y="12"/>
                  <a:pt x="264" y="26"/>
                  <a:pt x="212" y="0"/>
                </a:cubicBezTo>
                <a:cubicBezTo>
                  <a:pt x="137" y="13"/>
                  <a:pt x="72" y="18"/>
                  <a:pt x="25" y="86"/>
                </a:cubicBezTo>
                <a:cubicBezTo>
                  <a:pt x="23" y="102"/>
                  <a:pt x="22" y="118"/>
                  <a:pt x="18" y="133"/>
                </a:cubicBezTo>
                <a:cubicBezTo>
                  <a:pt x="15" y="144"/>
                  <a:pt x="3" y="152"/>
                  <a:pt x="2" y="164"/>
                </a:cubicBezTo>
                <a:cubicBezTo>
                  <a:pt x="0" y="203"/>
                  <a:pt x="16" y="370"/>
                  <a:pt x="49" y="421"/>
                </a:cubicBezTo>
                <a:cubicBezTo>
                  <a:pt x="63" y="443"/>
                  <a:pt x="85" y="458"/>
                  <a:pt x="103" y="476"/>
                </a:cubicBezTo>
                <a:cubicBezTo>
                  <a:pt x="122" y="495"/>
                  <a:pt x="170" y="505"/>
                  <a:pt x="189" y="507"/>
                </a:cubicBezTo>
                <a:cubicBezTo>
                  <a:pt x="248" y="515"/>
                  <a:pt x="368" y="522"/>
                  <a:pt x="368" y="522"/>
                </a:cubicBezTo>
                <a:cubicBezTo>
                  <a:pt x="438" y="512"/>
                  <a:pt x="490" y="512"/>
                  <a:pt x="548" y="476"/>
                </a:cubicBezTo>
                <a:cubicBezTo>
                  <a:pt x="554" y="399"/>
                  <a:pt x="551" y="327"/>
                  <a:pt x="587" y="258"/>
                </a:cubicBezTo>
                <a:close/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304920" y="6284880"/>
                <a:ext cx="380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28" name=""/>
          <p:cNvGrpSpPr/>
          <p:nvPr/>
        </p:nvGrpSpPr>
        <p:grpSpPr>
          <a:xfrm>
            <a:off x="457200" y="5219640"/>
            <a:ext cx="1824120" cy="876240"/>
            <a:chOff x="457200" y="5219640"/>
            <a:chExt cx="1824120" cy="876240"/>
          </a:xfrm>
        </p:grpSpPr>
        <p:sp>
          <p:nvSpPr>
            <p:cNvPr id="929" name=""/>
            <p:cNvSpPr/>
            <p:nvPr/>
          </p:nvSpPr>
          <p:spPr>
            <a:xfrm>
              <a:off x="457200" y="5410080"/>
              <a:ext cx="53352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0" name=""/>
                <p:cNvSpPr txBox="1"/>
                <p:nvPr/>
              </p:nvSpPr>
              <p:spPr>
                <a:xfrm>
                  <a:off x="990720" y="5219640"/>
                  <a:ext cx="12906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276720" y="5867280"/>
                <a:ext cx="2220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3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0" y="380880"/>
          <a:ext cx="408132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40813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1523880" y="99072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1600200" y="160020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9" name=""/>
          <p:cNvSpPr/>
          <p:nvPr/>
        </p:nvSpPr>
        <p:spPr>
          <a:xfrm>
            <a:off x="533880" y="0"/>
            <a:ext cx="2521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197600" y="1440"/>
            <a:ext cx="1988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038480" y="304920"/>
            <a:ext cx="3470400" cy="1717560"/>
            <a:chOff x="4038480" y="304920"/>
            <a:chExt cx="3470400" cy="1717560"/>
          </a:xfrm>
        </p:grpSpPr>
        <p:graphicFrame>
          <p:nvGraphicFramePr>
            <p:cNvPr id="942" name=""/>
            <p:cNvGraphicFramePr/>
            <p:nvPr/>
          </p:nvGraphicFramePr>
          <p:xfrm>
            <a:off x="4038480" y="304920"/>
            <a:ext cx="3470400" cy="171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8480" y="304920"/>
                      <a:ext cx="3470400" cy="17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44" name=""/>
            <p:cNvGrpSpPr/>
            <p:nvPr/>
          </p:nvGrpSpPr>
          <p:grpSpPr>
            <a:xfrm>
              <a:off x="5638680" y="1143000"/>
              <a:ext cx="486000" cy="762120"/>
              <a:chOff x="5638680" y="1143000"/>
              <a:chExt cx="48600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5638680" y="1143000"/>
                <a:ext cx="2088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46" name=""/>
                  <p:cNvSpPr txBox="1"/>
                  <p:nvPr/>
                </p:nvSpPr>
                <p:spPr>
                  <a:xfrm>
                    <a:off x="5791320" y="1523880"/>
                    <a:ext cx="333360" cy="33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47" name=""/>
          <p:cNvSpPr/>
          <p:nvPr/>
        </p:nvSpPr>
        <p:spPr>
          <a:xfrm>
            <a:off x="-76320" y="304920"/>
            <a:ext cx="3322800" cy="2090520"/>
          </a:xfrm>
          <a:custGeom>
            <a:avLst/>
            <a:gdLst/>
            <a:ahLst/>
            <a:rect l="l" t="t" r="r" b="b"/>
            <a:pathLst>
              <a:path w="2093" h="1317">
                <a:moveTo>
                  <a:pt x="69" y="62"/>
                </a:moveTo>
                <a:cubicBezTo>
                  <a:pt x="28" y="503"/>
                  <a:pt x="47" y="228"/>
                  <a:pt x="38" y="888"/>
                </a:cubicBezTo>
                <a:cubicBezTo>
                  <a:pt x="46" y="1237"/>
                  <a:pt x="0" y="1126"/>
                  <a:pt x="53" y="1247"/>
                </a:cubicBezTo>
                <a:cubicBezTo>
                  <a:pt x="259" y="1277"/>
                  <a:pt x="495" y="1265"/>
                  <a:pt x="700" y="1270"/>
                </a:cubicBezTo>
                <a:cubicBezTo>
                  <a:pt x="1148" y="1299"/>
                  <a:pt x="1606" y="1317"/>
                  <a:pt x="2056" y="1317"/>
                </a:cubicBezTo>
                <a:cubicBezTo>
                  <a:pt x="2093" y="954"/>
                  <a:pt x="2072" y="1213"/>
                  <a:pt x="2072" y="538"/>
                </a:cubicBezTo>
                <a:cubicBezTo>
                  <a:pt x="1996" y="532"/>
                  <a:pt x="1927" y="525"/>
                  <a:pt x="1853" y="506"/>
                </a:cubicBezTo>
                <a:cubicBezTo>
                  <a:pt x="1805" y="540"/>
                  <a:pt x="1807" y="557"/>
                  <a:pt x="1807" y="530"/>
                </a:cubicBezTo>
                <a:cubicBezTo>
                  <a:pt x="1791" y="522"/>
                  <a:pt x="1763" y="523"/>
                  <a:pt x="1758" y="505"/>
                </a:cubicBezTo>
                <a:cubicBezTo>
                  <a:pt x="1750" y="475"/>
                  <a:pt x="1775" y="444"/>
                  <a:pt x="1776" y="413"/>
                </a:cubicBezTo>
                <a:cubicBezTo>
                  <a:pt x="1783" y="124"/>
                  <a:pt x="1816" y="191"/>
                  <a:pt x="1760" y="86"/>
                </a:cubicBezTo>
                <a:cubicBezTo>
                  <a:pt x="1520" y="25"/>
                  <a:pt x="1283" y="30"/>
                  <a:pt x="1035" y="23"/>
                </a:cubicBezTo>
                <a:cubicBezTo>
                  <a:pt x="703" y="0"/>
                  <a:pt x="797" y="4"/>
                  <a:pt x="194" y="23"/>
                </a:cubicBezTo>
                <a:cubicBezTo>
                  <a:pt x="158" y="24"/>
                  <a:pt x="95" y="114"/>
                  <a:pt x="69" y="6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257800" y="304920"/>
            <a:ext cx="2814120" cy="1014120"/>
            <a:chOff x="5257800" y="304920"/>
            <a:chExt cx="2814120" cy="1014120"/>
          </a:xfrm>
        </p:grpSpPr>
        <p:sp>
          <p:nvSpPr>
            <p:cNvPr id="949" name=""/>
            <p:cNvSpPr/>
            <p:nvPr/>
          </p:nvSpPr>
          <p:spPr>
            <a:xfrm>
              <a:off x="5257800" y="304920"/>
              <a:ext cx="1596960" cy="1014120"/>
            </a:xfrm>
            <a:custGeom>
              <a:avLst/>
              <a:gdLst/>
              <a:ahLst/>
              <a:rect l="l" t="t" r="r" b="b"/>
              <a:pathLst>
                <a:path w="1006" h="639">
                  <a:moveTo>
                    <a:pt x="78" y="0"/>
                  </a:moveTo>
                  <a:cubicBezTo>
                    <a:pt x="50" y="121"/>
                    <a:pt x="35" y="245"/>
                    <a:pt x="8" y="366"/>
                  </a:cubicBezTo>
                  <a:cubicBezTo>
                    <a:pt x="5" y="405"/>
                    <a:pt x="0" y="483"/>
                    <a:pt x="0" y="483"/>
                  </a:cubicBezTo>
                  <a:cubicBezTo>
                    <a:pt x="86" y="488"/>
                    <a:pt x="158" y="495"/>
                    <a:pt x="241" y="506"/>
                  </a:cubicBezTo>
                  <a:cubicBezTo>
                    <a:pt x="299" y="544"/>
                    <a:pt x="347" y="586"/>
                    <a:pt x="413" y="607"/>
                  </a:cubicBezTo>
                  <a:cubicBezTo>
                    <a:pt x="421" y="612"/>
                    <a:pt x="427" y="620"/>
                    <a:pt x="436" y="623"/>
                  </a:cubicBezTo>
                  <a:cubicBezTo>
                    <a:pt x="456" y="631"/>
                    <a:pt x="498" y="639"/>
                    <a:pt x="498" y="639"/>
                  </a:cubicBezTo>
                  <a:cubicBezTo>
                    <a:pt x="553" y="618"/>
                    <a:pt x="608" y="598"/>
                    <a:pt x="662" y="576"/>
                  </a:cubicBezTo>
                  <a:cubicBezTo>
                    <a:pt x="690" y="564"/>
                    <a:pt x="719" y="527"/>
                    <a:pt x="740" y="514"/>
                  </a:cubicBezTo>
                  <a:cubicBezTo>
                    <a:pt x="754" y="505"/>
                    <a:pt x="772" y="505"/>
                    <a:pt x="787" y="498"/>
                  </a:cubicBezTo>
                  <a:cubicBezTo>
                    <a:pt x="873" y="455"/>
                    <a:pt x="872" y="452"/>
                    <a:pt x="982" y="452"/>
                  </a:cubicBezTo>
                  <a:cubicBezTo>
                    <a:pt x="1006" y="226"/>
                    <a:pt x="997" y="358"/>
                    <a:pt x="997" y="54"/>
                  </a:cubicBezTo>
                  <a:cubicBezTo>
                    <a:pt x="963" y="13"/>
                    <a:pt x="920" y="40"/>
                    <a:pt x="873" y="39"/>
                  </a:cubicBezTo>
                  <a:cubicBezTo>
                    <a:pt x="585" y="34"/>
                    <a:pt x="296" y="36"/>
                    <a:pt x="8" y="31"/>
                  </a:cubicBezTo>
                  <a:cubicBezTo>
                    <a:pt x="5" y="31"/>
                    <a:pt x="8" y="26"/>
                    <a:pt x="8" y="23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86800" y="361800"/>
              <a:ext cx="118512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er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267080" y="2057400"/>
                <a:ext cx="2660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>
            <a:off x="6406200" y="77760"/>
            <a:ext cx="11271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ethod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562720" y="395280"/>
            <a:ext cx="263520" cy="595440"/>
            <a:chOff x="5562720" y="395280"/>
            <a:chExt cx="263520" cy="595440"/>
          </a:xfrm>
        </p:grpSpPr>
        <p:sp>
          <p:nvSpPr>
            <p:cNvPr id="954" name=""/>
            <p:cNvSpPr/>
            <p:nvPr/>
          </p:nvSpPr>
          <p:spPr>
            <a:xfrm>
              <a:off x="5562720" y="7621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5" name=""/>
                <p:cNvSpPr txBox="1"/>
                <p:nvPr/>
              </p:nvSpPr>
              <p:spPr>
                <a:xfrm>
                  <a:off x="5562720" y="395280"/>
                  <a:ext cx="263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7162920" y="2133720"/>
                <a:ext cx="1447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7" name=""/>
          <p:cNvGrpSpPr/>
          <p:nvPr/>
        </p:nvGrpSpPr>
        <p:grpSpPr>
          <a:xfrm>
            <a:off x="6095880" y="990720"/>
            <a:ext cx="2454120" cy="882360"/>
            <a:chOff x="6095880" y="990720"/>
            <a:chExt cx="2454120" cy="882360"/>
          </a:xfrm>
        </p:grpSpPr>
        <p:sp>
          <p:nvSpPr>
            <p:cNvPr id="958" name=""/>
            <p:cNvSpPr/>
            <p:nvPr/>
          </p:nvSpPr>
          <p:spPr>
            <a:xfrm>
              <a:off x="6095880" y="990720"/>
              <a:ext cx="1942920" cy="882360"/>
            </a:xfrm>
            <a:custGeom>
              <a:avLst/>
              <a:gdLst/>
              <a:ahLst/>
              <a:rect l="l" t="t" r="r" b="b"/>
              <a:pathLst>
                <a:path w="1224" h="556">
                  <a:moveTo>
                    <a:pt x="1161" y="42"/>
                  </a:moveTo>
                  <a:cubicBezTo>
                    <a:pt x="794" y="0"/>
                    <a:pt x="373" y="42"/>
                    <a:pt x="0" y="42"/>
                  </a:cubicBezTo>
                  <a:cubicBezTo>
                    <a:pt x="0" y="47"/>
                    <a:pt x="16" y="392"/>
                    <a:pt x="16" y="541"/>
                  </a:cubicBezTo>
                  <a:cubicBezTo>
                    <a:pt x="417" y="545"/>
                    <a:pt x="822" y="556"/>
                    <a:pt x="1224" y="556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34120" y="1297080"/>
              <a:ext cx="51588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7218000" y="2592360"/>
            <a:ext cx="1957680" cy="912960"/>
            <a:chOff x="7218000" y="2592360"/>
            <a:chExt cx="1957680" cy="912960"/>
          </a:xfrm>
        </p:grpSpPr>
        <p:sp>
          <p:nvSpPr>
            <p:cNvPr id="961" name=""/>
            <p:cNvSpPr/>
            <p:nvPr/>
          </p:nvSpPr>
          <p:spPr>
            <a:xfrm>
              <a:off x="7218000" y="2592360"/>
              <a:ext cx="19576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olling var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2" name=""/>
                <p:cNvSpPr txBox="1"/>
                <p:nvPr/>
              </p:nvSpPr>
              <p:spPr>
                <a:xfrm>
                  <a:off x="7772400" y="2943360"/>
                  <a:ext cx="81432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3" name=""/>
          <p:cNvGrpSpPr/>
          <p:nvPr/>
        </p:nvGrpSpPr>
        <p:grpSpPr>
          <a:xfrm>
            <a:off x="3897360" y="2705040"/>
            <a:ext cx="3303720" cy="346680"/>
            <a:chOff x="3897360" y="2705040"/>
            <a:chExt cx="3303720" cy="346680"/>
          </a:xfrm>
        </p:grpSpPr>
        <mc:AlternateContent>
          <mc:Choice xmlns:a14="http://schemas.microsoft.com/office/drawing/2010/main" Requires="a14">
            <p:sp>
              <p:nvSpPr>
                <p:cNvPr id="964" name=""/>
                <p:cNvSpPr txBox="1"/>
                <p:nvPr/>
              </p:nvSpPr>
              <p:spPr>
                <a:xfrm>
                  <a:off x="4572000" y="2705040"/>
                  <a:ext cx="26290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00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5" name=""/>
            <p:cNvSpPr/>
            <p:nvPr/>
          </p:nvSpPr>
          <p:spPr>
            <a:xfrm>
              <a:off x="3897360" y="2744640"/>
              <a:ext cx="515880" cy="3070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181480" y="3173400"/>
                <a:ext cx="16369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253800" y="2403360"/>
            <a:ext cx="20401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0" y="2706840"/>
            <a:ext cx="4230720" cy="2181240"/>
            <a:chOff x="0" y="2706840"/>
            <a:chExt cx="4230720" cy="2181240"/>
          </a:xfrm>
        </p:grpSpPr>
        <p:graphicFrame>
          <p:nvGraphicFramePr>
            <p:cNvPr id="969" name=""/>
            <p:cNvGraphicFramePr/>
            <p:nvPr/>
          </p:nvGraphicFramePr>
          <p:xfrm>
            <a:off x="0" y="2706840"/>
            <a:ext cx="3813120" cy="190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706840"/>
                      <a:ext cx="3813120" cy="190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1" name=""/>
            <p:cNvSpPr/>
            <p:nvPr/>
          </p:nvSpPr>
          <p:spPr>
            <a:xfrm>
              <a:off x="3043080" y="3348000"/>
              <a:ext cx="730440" cy="1540080"/>
            </a:xfrm>
            <a:custGeom>
              <a:avLst/>
              <a:gdLst/>
              <a:ahLst/>
              <a:rect l="l" t="t" r="r" b="b"/>
              <a:pathLst>
                <a:path w="460" h="970">
                  <a:moveTo>
                    <a:pt x="0" y="23"/>
                  </a:moveTo>
                  <a:cubicBezTo>
                    <a:pt x="183" y="0"/>
                    <a:pt x="101" y="8"/>
                    <a:pt x="444" y="8"/>
                  </a:cubicBezTo>
                  <a:cubicBezTo>
                    <a:pt x="454" y="160"/>
                    <a:pt x="460" y="970"/>
                    <a:pt x="460" y="73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3809880" y="3798720"/>
                  <a:ext cx="4208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3" name=""/>
            <p:cNvSpPr/>
            <p:nvPr/>
          </p:nvSpPr>
          <p:spPr>
            <a:xfrm>
              <a:off x="1752480" y="3468600"/>
              <a:ext cx="0" cy="106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4" name=""/>
                <p:cNvSpPr txBox="1"/>
                <p:nvPr/>
              </p:nvSpPr>
              <p:spPr>
                <a:xfrm>
                  <a:off x="1905120" y="3956040"/>
                  <a:ext cx="32832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75" name=""/>
            <p:cNvSpPr/>
            <p:nvPr/>
          </p:nvSpPr>
          <p:spPr>
            <a:xfrm>
              <a:off x="1676520" y="3316320"/>
              <a:ext cx="152280" cy="2286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6" name=""/>
                <p:cNvSpPr txBox="1"/>
                <p:nvPr/>
              </p:nvSpPr>
              <p:spPr>
                <a:xfrm>
                  <a:off x="1600200" y="2895480"/>
                  <a:ext cx="34128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52280" y="4724280"/>
                <a:ext cx="1459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52480" y="4648320"/>
                <a:ext cx="9144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666880" y="4800600"/>
                <a:ext cx="2281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0" name=""/>
          <p:cNvSpPr/>
          <p:nvPr/>
        </p:nvSpPr>
        <p:spPr>
          <a:xfrm>
            <a:off x="226080" y="5265720"/>
            <a:ext cx="5144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52280" y="5529240"/>
                <a:ext cx="3481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28600" y="5943600"/>
                <a:ext cx="2217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5115960" y="3665520"/>
            <a:ext cx="21222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quivalent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4952880" y="3886200"/>
          <a:ext cx="3505320" cy="15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4952880" y="3886200"/>
                    <a:ext cx="350532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181480" y="5334120"/>
                <a:ext cx="2608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2684160" y="5945040"/>
            <a:ext cx="5040720" cy="73332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quivalent resistance cannot be obtain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ing the sources and determining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sistance of the resulting interconnection of re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38080" y="3505320"/>
            <a:ext cx="1905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7316640" y="990720"/>
                <a:ext cx="3794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9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3" name=""/>
          <p:cNvGraphicFramePr/>
          <p:nvPr/>
        </p:nvGraphicFramePr>
        <p:xfrm>
          <a:off x="76320" y="4952880"/>
          <a:ext cx="2592360" cy="18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952880"/>
                    <a:ext cx="259236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5" name=""/>
          <p:cNvGraphicFramePr/>
          <p:nvPr/>
        </p:nvGraphicFramePr>
        <p:xfrm>
          <a:off x="76320" y="2744640"/>
          <a:ext cx="301788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744640"/>
                    <a:ext cx="301788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7" name=""/>
          <p:cNvSpPr/>
          <p:nvPr/>
        </p:nvSpPr>
        <p:spPr>
          <a:xfrm>
            <a:off x="147600" y="-23760"/>
            <a:ext cx="41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:  Use Thevenin to comput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-3240" y="279360"/>
          <a:ext cx="3813120" cy="21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240" y="279360"/>
                    <a:ext cx="38131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0" name=""/>
          <p:cNvSpPr/>
          <p:nvPr/>
        </p:nvSpPr>
        <p:spPr>
          <a:xfrm>
            <a:off x="5360400" y="82440"/>
            <a:ext cx="1451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N’T PANIC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8280" y="82440"/>
            <a:ext cx="20080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lect your part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144880" y="228600"/>
            <a:ext cx="1817640" cy="2143080"/>
            <a:chOff x="2144880" y="228600"/>
            <a:chExt cx="1817640" cy="2143080"/>
          </a:xfrm>
        </p:grpSpPr>
        <p:sp>
          <p:nvSpPr>
            <p:cNvPr id="1003" name=""/>
            <p:cNvSpPr/>
            <p:nvPr/>
          </p:nvSpPr>
          <p:spPr>
            <a:xfrm>
              <a:off x="2144880" y="228600"/>
              <a:ext cx="1817640" cy="2143080"/>
            </a:xfrm>
            <a:custGeom>
              <a:avLst/>
              <a:gdLst/>
              <a:ahLst/>
              <a:rect l="l" t="t" r="r" b="b"/>
              <a:pathLst>
                <a:path w="1145" h="1350">
                  <a:moveTo>
                    <a:pt x="16" y="43"/>
                  </a:moveTo>
                  <a:cubicBezTo>
                    <a:pt x="12" y="147"/>
                    <a:pt x="0" y="250"/>
                    <a:pt x="0" y="354"/>
                  </a:cubicBezTo>
                  <a:cubicBezTo>
                    <a:pt x="0" y="479"/>
                    <a:pt x="4" y="603"/>
                    <a:pt x="8" y="728"/>
                  </a:cubicBezTo>
                  <a:cubicBezTo>
                    <a:pt x="12" y="877"/>
                    <a:pt x="36" y="1018"/>
                    <a:pt x="55" y="1165"/>
                  </a:cubicBezTo>
                  <a:cubicBezTo>
                    <a:pt x="60" y="1207"/>
                    <a:pt x="76" y="1248"/>
                    <a:pt x="86" y="1289"/>
                  </a:cubicBezTo>
                  <a:cubicBezTo>
                    <a:pt x="90" y="1305"/>
                    <a:pt x="87" y="1329"/>
                    <a:pt x="102" y="1336"/>
                  </a:cubicBezTo>
                  <a:cubicBezTo>
                    <a:pt x="130" y="1350"/>
                    <a:pt x="164" y="1341"/>
                    <a:pt x="195" y="1344"/>
                  </a:cubicBezTo>
                  <a:cubicBezTo>
                    <a:pt x="511" y="1337"/>
                    <a:pt x="822" y="1321"/>
                    <a:pt x="1138" y="1321"/>
                  </a:cubicBezTo>
                  <a:cubicBezTo>
                    <a:pt x="1133" y="959"/>
                    <a:pt x="1145" y="588"/>
                    <a:pt x="1083" y="230"/>
                  </a:cubicBezTo>
                  <a:cubicBezTo>
                    <a:pt x="1078" y="165"/>
                    <a:pt x="1082" y="87"/>
                    <a:pt x="1052" y="27"/>
                  </a:cubicBezTo>
                  <a:cubicBezTo>
                    <a:pt x="678" y="0"/>
                    <a:pt x="826" y="7"/>
                    <a:pt x="86" y="27"/>
                  </a:cubicBezTo>
                  <a:cubicBezTo>
                    <a:pt x="69" y="27"/>
                    <a:pt x="56" y="43"/>
                    <a:pt x="39" y="43"/>
                  </a:cubicBezTo>
                  <a:cubicBezTo>
                    <a:pt x="31" y="43"/>
                    <a:pt x="24" y="43"/>
                    <a:pt x="16" y="43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69120" y="609480"/>
              <a:ext cx="88308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37520" y="2438280"/>
            <a:ext cx="2024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5105520" y="2286000"/>
                <a:ext cx="1904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"/>
          <p:cNvSpPr/>
          <p:nvPr/>
        </p:nvSpPr>
        <p:spPr>
          <a:xfrm>
            <a:off x="3554280" y="2444760"/>
            <a:ext cx="1550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op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625200" y="2971800"/>
            <a:ext cx="1957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5578560" y="2971800"/>
                <a:ext cx="1812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733920" y="3429000"/>
                <a:ext cx="4403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1" name=""/>
          <p:cNvGrpSpPr/>
          <p:nvPr/>
        </p:nvGrpSpPr>
        <p:grpSpPr>
          <a:xfrm>
            <a:off x="4491000" y="3809880"/>
            <a:ext cx="4653000" cy="347400"/>
            <a:chOff x="4491000" y="3809880"/>
            <a:chExt cx="4653000" cy="347400"/>
          </a:xfrm>
        </p:grpSpPr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4491000" y="3823920"/>
                  <a:ext cx="21114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3" name=""/>
                <p:cNvSpPr txBox="1"/>
                <p:nvPr/>
              </p:nvSpPr>
              <p:spPr>
                <a:xfrm>
                  <a:off x="6548400" y="3809880"/>
                  <a:ext cx="2595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4" name=""/>
          <p:cNvSpPr/>
          <p:nvPr/>
        </p:nvSpPr>
        <p:spPr>
          <a:xfrm>
            <a:off x="3050280" y="472428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762120" y="5029200"/>
            <a:ext cx="1600200" cy="1701720"/>
            <a:chOff x="762120" y="5029200"/>
            <a:chExt cx="1600200" cy="1701720"/>
          </a:xfrm>
        </p:grpSpPr>
        <p:sp>
          <p:nvSpPr>
            <p:cNvPr id="1016" name=""/>
            <p:cNvSpPr/>
            <p:nvPr/>
          </p:nvSpPr>
          <p:spPr>
            <a:xfrm>
              <a:off x="838080" y="5029200"/>
              <a:ext cx="511200" cy="530280"/>
            </a:xfrm>
            <a:custGeom>
              <a:avLst/>
              <a:gdLst/>
              <a:ahLst/>
              <a:rect l="l" t="t" r="r" b="b"/>
              <a:pathLst>
                <a:path w="320" h="336">
                  <a:moveTo>
                    <a:pt x="40" y="336"/>
                  </a:moveTo>
                  <a:cubicBezTo>
                    <a:pt x="20" y="216"/>
                    <a:pt x="0" y="96"/>
                    <a:pt x="40" y="48"/>
                  </a:cubicBezTo>
                  <a:cubicBezTo>
                    <a:pt x="80" y="0"/>
                    <a:pt x="240" y="8"/>
                    <a:pt x="280" y="48"/>
                  </a:cubicBezTo>
                  <a:cubicBezTo>
                    <a:pt x="320" y="88"/>
                    <a:pt x="304" y="248"/>
                    <a:pt x="280" y="288"/>
                  </a:cubicBezTo>
                  <a:cubicBezTo>
                    <a:pt x="256" y="328"/>
                    <a:pt x="160" y="288"/>
                    <a:pt x="136" y="28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7" name=""/>
                <p:cNvSpPr txBox="1"/>
                <p:nvPr/>
              </p:nvSpPr>
              <p:spPr>
                <a:xfrm rot="10800000">
                  <a:off x="990720" y="5105160"/>
                  <a:ext cx="2332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18" name=""/>
            <p:cNvSpPr/>
            <p:nvPr/>
          </p:nvSpPr>
          <p:spPr>
            <a:xfrm>
              <a:off x="762120" y="6172200"/>
              <a:ext cx="507960" cy="444600"/>
            </a:xfrm>
            <a:custGeom>
              <a:avLst/>
              <a:gdLst/>
              <a:ahLst/>
              <a:rect l="l" t="t" r="r" b="b"/>
              <a:pathLst>
                <a:path w="320" h="280">
                  <a:moveTo>
                    <a:pt x="40" y="280"/>
                  </a:moveTo>
                  <a:cubicBezTo>
                    <a:pt x="20" y="180"/>
                    <a:pt x="0" y="80"/>
                    <a:pt x="40" y="40"/>
                  </a:cubicBezTo>
                  <a:cubicBezTo>
                    <a:pt x="80" y="0"/>
                    <a:pt x="240" y="8"/>
                    <a:pt x="280" y="40"/>
                  </a:cubicBezTo>
                  <a:cubicBezTo>
                    <a:pt x="320" y="72"/>
                    <a:pt x="312" y="192"/>
                    <a:pt x="280" y="232"/>
                  </a:cubicBezTo>
                  <a:cubicBezTo>
                    <a:pt x="248" y="272"/>
                    <a:pt x="168" y="276"/>
                    <a:pt x="88" y="28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914400" y="6248520"/>
                  <a:ext cx="23328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20" name=""/>
            <p:cNvSpPr/>
            <p:nvPr/>
          </p:nvSpPr>
          <p:spPr>
            <a:xfrm>
              <a:off x="1854360" y="5105520"/>
              <a:ext cx="507960" cy="1625400"/>
            </a:xfrm>
            <a:custGeom>
              <a:avLst/>
              <a:gdLst/>
              <a:ahLst/>
              <a:rect l="l" t="t" r="r" b="b"/>
              <a:pathLst>
                <a:path w="320" h="1024">
                  <a:moveTo>
                    <a:pt x="40" y="896"/>
                  </a:moveTo>
                  <a:cubicBezTo>
                    <a:pt x="20" y="576"/>
                    <a:pt x="0" y="256"/>
                    <a:pt x="40" y="128"/>
                  </a:cubicBezTo>
                  <a:cubicBezTo>
                    <a:pt x="80" y="0"/>
                    <a:pt x="240" y="0"/>
                    <a:pt x="280" y="128"/>
                  </a:cubicBezTo>
                  <a:cubicBezTo>
                    <a:pt x="320" y="256"/>
                    <a:pt x="312" y="768"/>
                    <a:pt x="280" y="896"/>
                  </a:cubicBezTo>
                  <a:cubicBezTo>
                    <a:pt x="248" y="1024"/>
                    <a:pt x="120" y="896"/>
                    <a:pt x="88" y="8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"/>
                <p:cNvSpPr txBox="1"/>
                <p:nvPr/>
              </p:nvSpPr>
              <p:spPr>
                <a:xfrm>
                  <a:off x="1938240" y="5638680"/>
                  <a:ext cx="3794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2" name=""/>
          <p:cNvSpPr/>
          <p:nvPr/>
        </p:nvSpPr>
        <p:spPr>
          <a:xfrm>
            <a:off x="5029200" y="4495680"/>
            <a:ext cx="1550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op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2971800" y="5105520"/>
                <a:ext cx="15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 over  {</m:t>
                        </m:r>
                        <m:r>
                          <m:t xml:space="preserve">2000</m:t>
                        </m:r>
                        <m:r>
                          <m:rPr>
                            <m:lit/>
                            <m:nor/>
                          </m:rPr>
                          <m:t xml:space="preserve">} } ;``I rSub { size 8{2} } =2 ital </m:t>
                        </m:r>
                        <m:r>
                          <m:t xml:space="preserve">mA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976480" y="5610240"/>
                <a:ext cx="2281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2999520" y="5943600"/>
            <a:ext cx="1957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971800" y="6267600"/>
                <a:ext cx="19051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4k* \( I rSub { size 8{1} }  - I rSub { size 8{2} } 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27" name=""/>
          <p:cNvGrpSpPr/>
          <p:nvPr/>
        </p:nvGrpSpPr>
        <p:grpSpPr>
          <a:xfrm>
            <a:off x="5335560" y="4876920"/>
            <a:ext cx="2618640" cy="344520"/>
            <a:chOff x="5335560" y="4876920"/>
            <a:chExt cx="2618640" cy="344520"/>
          </a:xfrm>
        </p:grpSpPr>
        <mc:AlternateContent>
          <mc:Choice xmlns:a14="http://schemas.microsoft.com/office/drawing/2010/main" Requires="a14">
            <p:sp>
              <p:nvSpPr>
                <p:cNvPr id="1028" name=""/>
                <p:cNvSpPr txBox="1"/>
                <p:nvPr/>
              </p:nvSpPr>
              <p:spPr>
                <a:xfrm>
                  <a:off x="5335560" y="4876920"/>
                  <a:ext cx="10681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9" name=""/>
            <p:cNvSpPr/>
            <p:nvPr/>
          </p:nvSpPr>
          <p:spPr>
            <a:xfrm>
              <a:off x="6417000" y="4876920"/>
              <a:ext cx="1537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ame as bef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337000" y="5257800"/>
                <a:ext cx="2694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1" name=""/>
          <p:cNvGrpSpPr/>
          <p:nvPr/>
        </p:nvGrpSpPr>
        <p:grpSpPr>
          <a:xfrm>
            <a:off x="5413320" y="5943600"/>
            <a:ext cx="2739960" cy="914400"/>
            <a:chOff x="5413320" y="5943600"/>
            <a:chExt cx="2739960" cy="914400"/>
          </a:xfrm>
        </p:grpSpPr>
        <p:sp>
          <p:nvSpPr>
            <p:cNvPr id="1032" name=""/>
            <p:cNvSpPr/>
            <p:nvPr/>
          </p:nvSpPr>
          <p:spPr>
            <a:xfrm>
              <a:off x="5798880" y="5943600"/>
              <a:ext cx="19666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venin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3" name=""/>
                <p:cNvSpPr txBox="1"/>
                <p:nvPr/>
              </p:nvSpPr>
              <p:spPr>
                <a:xfrm>
                  <a:off x="5413320" y="6275520"/>
                  <a:ext cx="27399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4" name=""/>
          <p:cNvSpPr/>
          <p:nvPr/>
        </p:nvSpPr>
        <p:spPr>
          <a:xfrm>
            <a:off x="4528080" y="463680"/>
            <a:ext cx="4511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w compute V_0 using the Thevenin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4511520" y="706320"/>
          <a:ext cx="2490840" cy="12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11520" y="706320"/>
                    <a:ext cx="24908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7" name=""/>
          <p:cNvGrpSpPr/>
          <p:nvPr/>
        </p:nvGrpSpPr>
        <p:grpSpPr>
          <a:xfrm>
            <a:off x="4511520" y="1143000"/>
            <a:ext cx="762120" cy="880920"/>
            <a:chOff x="4511520" y="1143000"/>
            <a:chExt cx="762120" cy="880920"/>
          </a:xfrm>
        </p:grpSpPr>
        <p:sp>
          <p:nvSpPr>
            <p:cNvPr id="1038" name=""/>
            <p:cNvSpPr/>
            <p:nvPr/>
          </p:nvSpPr>
          <p:spPr>
            <a:xfrm>
              <a:off x="4511520" y="1143000"/>
              <a:ext cx="7621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9" name=""/>
                <p:cNvSpPr txBox="1"/>
                <p:nvPr/>
              </p:nvSpPr>
              <p:spPr>
                <a:xfrm>
                  <a:off x="4572000" y="1752480"/>
                  <a:ext cx="36684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0" name=""/>
          <p:cNvGrpSpPr/>
          <p:nvPr/>
        </p:nvGrpSpPr>
        <p:grpSpPr>
          <a:xfrm>
            <a:off x="5197320" y="762120"/>
            <a:ext cx="533520" cy="860400"/>
            <a:chOff x="5197320" y="762120"/>
            <a:chExt cx="533520" cy="860400"/>
          </a:xfrm>
        </p:grpSpPr>
        <p:sp>
          <p:nvSpPr>
            <p:cNvPr id="1041" name=""/>
            <p:cNvSpPr/>
            <p:nvPr/>
          </p:nvSpPr>
          <p:spPr>
            <a:xfrm>
              <a:off x="5197320" y="762120"/>
              <a:ext cx="5335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2" name=""/>
                <p:cNvSpPr txBox="1"/>
                <p:nvPr/>
              </p:nvSpPr>
              <p:spPr>
                <a:xfrm>
                  <a:off x="5334120" y="1339920"/>
                  <a:ext cx="3808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7086600" y="1143000"/>
                <a:ext cx="1768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k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4" name=""/>
          <p:cNvGrpSpPr/>
          <p:nvPr/>
        </p:nvGrpSpPr>
        <p:grpSpPr>
          <a:xfrm>
            <a:off x="2362320" y="3103560"/>
            <a:ext cx="2085120" cy="1242000"/>
            <a:chOff x="2362320" y="3103560"/>
            <a:chExt cx="2085120" cy="1242000"/>
          </a:xfrm>
        </p:grpSpPr>
        <p:sp>
          <p:nvSpPr>
            <p:cNvPr id="1045" name=""/>
            <p:cNvSpPr/>
            <p:nvPr/>
          </p:nvSpPr>
          <p:spPr>
            <a:xfrm>
              <a:off x="3190680" y="4038480"/>
              <a:ext cx="1256760" cy="30708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 for V_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362320" y="3103560"/>
              <a:ext cx="720360" cy="1092240"/>
            </a:xfrm>
            <a:custGeom>
              <a:avLst/>
              <a:gdLst/>
              <a:ahLst/>
              <a:rect l="l" t="t" r="r" b="b"/>
              <a:pathLst>
                <a:path w="454" h="688">
                  <a:moveTo>
                    <a:pt x="290" y="5"/>
                  </a:moveTo>
                  <a:cubicBezTo>
                    <a:pt x="203" y="0"/>
                    <a:pt x="139" y="5"/>
                    <a:pt x="57" y="5"/>
                  </a:cubicBezTo>
                  <a:cubicBezTo>
                    <a:pt x="52" y="78"/>
                    <a:pt x="46" y="132"/>
                    <a:pt x="26" y="200"/>
                  </a:cubicBezTo>
                  <a:cubicBezTo>
                    <a:pt x="0" y="401"/>
                    <a:pt x="18" y="241"/>
                    <a:pt x="18" y="683"/>
                  </a:cubicBezTo>
                  <a:cubicBezTo>
                    <a:pt x="169" y="688"/>
                    <a:pt x="305" y="683"/>
                    <a:pt x="454" y="683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130840" y="2406600"/>
            <a:ext cx="114984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lo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1" name=""/>
          <p:cNvGraphicFramePr/>
          <p:nvPr/>
        </p:nvGraphicFramePr>
        <p:xfrm>
          <a:off x="85680" y="1143000"/>
          <a:ext cx="3867120" cy="20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143000"/>
                    <a:ext cx="3867120" cy="20700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3" name=""/>
          <p:cNvSpPr/>
          <p:nvPr/>
        </p:nvSpPr>
        <p:spPr>
          <a:xfrm>
            <a:off x="17640" y="1552680"/>
            <a:ext cx="3473280" cy="1828800"/>
          </a:xfrm>
          <a:custGeom>
            <a:avLst/>
            <a:gdLst/>
            <a:ahLst/>
            <a:rect l="l" t="t" r="r" b="b"/>
            <a:pathLst>
              <a:path w="2189" h="1154">
                <a:moveTo>
                  <a:pt x="2152" y="63"/>
                </a:moveTo>
                <a:cubicBezTo>
                  <a:pt x="2189" y="384"/>
                  <a:pt x="2166" y="156"/>
                  <a:pt x="2152" y="905"/>
                </a:cubicBezTo>
                <a:cubicBezTo>
                  <a:pt x="2151" y="967"/>
                  <a:pt x="2129" y="1030"/>
                  <a:pt x="2129" y="1092"/>
                </a:cubicBezTo>
                <a:cubicBezTo>
                  <a:pt x="1501" y="1063"/>
                  <a:pt x="789" y="1104"/>
                  <a:pt x="189" y="1108"/>
                </a:cubicBezTo>
                <a:cubicBezTo>
                  <a:pt x="135" y="1121"/>
                  <a:pt x="118" y="1132"/>
                  <a:pt x="72" y="1154"/>
                </a:cubicBezTo>
                <a:cubicBezTo>
                  <a:pt x="67" y="1136"/>
                  <a:pt x="62" y="1118"/>
                  <a:pt x="56" y="1100"/>
                </a:cubicBezTo>
                <a:cubicBezTo>
                  <a:pt x="54" y="1092"/>
                  <a:pt x="46" y="1084"/>
                  <a:pt x="48" y="1076"/>
                </a:cubicBezTo>
                <a:cubicBezTo>
                  <a:pt x="49" y="1069"/>
                  <a:pt x="59" y="1066"/>
                  <a:pt x="64" y="1061"/>
                </a:cubicBezTo>
                <a:cubicBezTo>
                  <a:pt x="108" y="997"/>
                  <a:pt x="85" y="916"/>
                  <a:pt x="72" y="843"/>
                </a:cubicBezTo>
                <a:cubicBezTo>
                  <a:pt x="62" y="712"/>
                  <a:pt x="29" y="597"/>
                  <a:pt x="2" y="469"/>
                </a:cubicBezTo>
                <a:cubicBezTo>
                  <a:pt x="4" y="422"/>
                  <a:pt x="0" y="374"/>
                  <a:pt x="9" y="328"/>
                </a:cubicBezTo>
                <a:cubicBezTo>
                  <a:pt x="13" y="305"/>
                  <a:pt x="41" y="266"/>
                  <a:pt x="41" y="266"/>
                </a:cubicBezTo>
                <a:cubicBezTo>
                  <a:pt x="61" y="133"/>
                  <a:pt x="29" y="292"/>
                  <a:pt x="72" y="188"/>
                </a:cubicBezTo>
                <a:cubicBezTo>
                  <a:pt x="103" y="112"/>
                  <a:pt x="59" y="162"/>
                  <a:pt x="95" y="126"/>
                </a:cubicBezTo>
                <a:cubicBezTo>
                  <a:pt x="107" y="109"/>
                  <a:pt x="110" y="78"/>
                  <a:pt x="130" y="75"/>
                </a:cubicBezTo>
                <a:cubicBezTo>
                  <a:pt x="196" y="64"/>
                  <a:pt x="263" y="86"/>
                  <a:pt x="329" y="87"/>
                </a:cubicBezTo>
                <a:cubicBezTo>
                  <a:pt x="405" y="88"/>
                  <a:pt x="480" y="75"/>
                  <a:pt x="555" y="71"/>
                </a:cubicBezTo>
                <a:cubicBezTo>
                  <a:pt x="602" y="65"/>
                  <a:pt x="648" y="52"/>
                  <a:pt x="695" y="48"/>
                </a:cubicBezTo>
                <a:cubicBezTo>
                  <a:pt x="768" y="42"/>
                  <a:pt x="913" y="32"/>
                  <a:pt x="913" y="32"/>
                </a:cubicBezTo>
                <a:cubicBezTo>
                  <a:pt x="1493" y="36"/>
                  <a:pt x="1725" y="0"/>
                  <a:pt x="2152" y="6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214200" y="3335400"/>
            <a:ext cx="2395800" cy="3363840"/>
            <a:chOff x="214200" y="3335400"/>
            <a:chExt cx="2395800" cy="3363840"/>
          </a:xfrm>
        </p:grpSpPr>
        <p:graphicFrame>
          <p:nvGraphicFramePr>
            <p:cNvPr id="1055" name=""/>
            <p:cNvGraphicFramePr/>
            <p:nvPr/>
          </p:nvGraphicFramePr>
          <p:xfrm>
            <a:off x="217440" y="3335400"/>
            <a:ext cx="2392560" cy="181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7440" y="3335400"/>
                      <a:ext cx="2392560" cy="18190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57" name=""/>
            <p:cNvSpPr/>
            <p:nvPr/>
          </p:nvSpPr>
          <p:spPr>
            <a:xfrm>
              <a:off x="214200" y="3338640"/>
              <a:ext cx="1839960" cy="3360600"/>
            </a:xfrm>
            <a:custGeom>
              <a:avLst/>
              <a:gdLst/>
              <a:ahLst/>
              <a:rect l="l" t="t" r="r" b="b"/>
              <a:pathLst>
                <a:path w="1159" h="2117">
                  <a:moveTo>
                    <a:pt x="1159" y="1"/>
                  </a:moveTo>
                  <a:cubicBezTo>
                    <a:pt x="1156" y="89"/>
                    <a:pt x="1153" y="178"/>
                    <a:pt x="1151" y="266"/>
                  </a:cubicBezTo>
                  <a:cubicBezTo>
                    <a:pt x="1147" y="443"/>
                    <a:pt x="1145" y="619"/>
                    <a:pt x="1143" y="796"/>
                  </a:cubicBezTo>
                  <a:cubicBezTo>
                    <a:pt x="1134" y="1623"/>
                    <a:pt x="1135" y="2117"/>
                    <a:pt x="1135" y="1326"/>
                  </a:cubicBezTo>
                  <a:cubicBezTo>
                    <a:pt x="785" y="1337"/>
                    <a:pt x="440" y="1349"/>
                    <a:pt x="91" y="1349"/>
                  </a:cubicBezTo>
                  <a:cubicBezTo>
                    <a:pt x="85" y="1222"/>
                    <a:pt x="77" y="1101"/>
                    <a:pt x="60" y="975"/>
                  </a:cubicBezTo>
                  <a:cubicBezTo>
                    <a:pt x="53" y="921"/>
                    <a:pt x="54" y="864"/>
                    <a:pt x="36" y="812"/>
                  </a:cubicBezTo>
                  <a:cubicBezTo>
                    <a:pt x="0" y="584"/>
                    <a:pt x="13" y="369"/>
                    <a:pt x="13" y="134"/>
                  </a:cubicBezTo>
                  <a:cubicBezTo>
                    <a:pt x="141" y="96"/>
                    <a:pt x="262" y="79"/>
                    <a:pt x="395" y="71"/>
                  </a:cubicBezTo>
                  <a:cubicBezTo>
                    <a:pt x="511" y="56"/>
                    <a:pt x="629" y="55"/>
                    <a:pt x="746" y="48"/>
                  </a:cubicBezTo>
                  <a:cubicBezTo>
                    <a:pt x="884" y="0"/>
                    <a:pt x="1017" y="58"/>
                    <a:pt x="1159" y="1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4136760" y="1219320"/>
            <a:ext cx="3173760" cy="1041120"/>
            <a:chOff x="4136760" y="1219320"/>
            <a:chExt cx="3173760" cy="1041120"/>
          </a:xfrm>
        </p:grpSpPr>
        <mc:AlternateContent>
          <mc:Choice xmlns:a14="http://schemas.microsoft.com/office/drawing/2010/main" Requires="a14">
            <p:sp>
              <p:nvSpPr>
                <p:cNvPr id="1059" name=""/>
                <p:cNvSpPr txBox="1"/>
                <p:nvPr/>
              </p:nvSpPr>
              <p:spPr>
                <a:xfrm>
                  <a:off x="4267080" y="1523880"/>
                  <a:ext cx="26654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0" name=""/>
            <p:cNvSpPr/>
            <p:nvPr/>
          </p:nvSpPr>
          <p:spPr>
            <a:xfrm>
              <a:off x="4136760" y="1219320"/>
              <a:ext cx="317376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alternative for mixed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581280" y="2133720"/>
            <a:ext cx="2580480" cy="742680"/>
            <a:chOff x="3581280" y="2133720"/>
            <a:chExt cx="2580480" cy="742680"/>
          </a:xfrm>
        </p:grpSpPr>
        <p:sp>
          <p:nvSpPr>
            <p:cNvPr id="1062" name=""/>
            <p:cNvSpPr/>
            <p:nvPr/>
          </p:nvSpPr>
          <p:spPr>
            <a:xfrm>
              <a:off x="4173480" y="2444760"/>
              <a:ext cx="19882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 circuit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3581280" y="2133720"/>
                  <a:ext cx="3445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5197320" y="2743200"/>
                <a:ext cx="18892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724280" y="3124080"/>
                <a:ext cx="42516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3505320" y="2057400"/>
            <a:ext cx="2513880" cy="2135880"/>
            <a:chOff x="3505320" y="2057400"/>
            <a:chExt cx="2513880" cy="2135880"/>
          </a:xfrm>
        </p:grpSpPr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068" name=""/>
            <p:cNvSpPr/>
            <p:nvPr/>
          </p:nvSpPr>
          <p:spPr>
            <a:xfrm>
              <a:off x="4024800" y="3886200"/>
              <a:ext cx="19944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hort circuit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3505320" y="2057400"/>
              <a:ext cx="344520" cy="1424160"/>
              <a:chOff x="3505320" y="2057400"/>
              <a:chExt cx="344520" cy="1424160"/>
            </a:xfrm>
          </p:grpSpPr>
          <p:sp>
            <p:nvSpPr>
              <p:cNvPr id="1070" name=""/>
              <p:cNvSpPr/>
              <p:nvPr/>
            </p:nvSpPr>
            <p:spPr>
              <a:xfrm>
                <a:off x="3581280" y="2057400"/>
                <a:ext cx="0" cy="10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1" name=""/>
                  <p:cNvSpPr txBox="1"/>
                  <p:nvPr/>
                </p:nvSpPr>
                <p:spPr>
                  <a:xfrm>
                    <a:off x="3505320" y="3209760"/>
                    <a:ext cx="344520" cy="27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3886200" y="4267080"/>
                <a:ext cx="3114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3" name=""/>
          <p:cNvGrpSpPr/>
          <p:nvPr/>
        </p:nvGrpSpPr>
        <p:grpSpPr>
          <a:xfrm>
            <a:off x="4048920" y="5029200"/>
            <a:ext cx="2131560" cy="1015920"/>
            <a:chOff x="4048920" y="5029200"/>
            <a:chExt cx="2131560" cy="1015920"/>
          </a:xfrm>
        </p:grpSpPr>
        <p:sp>
          <p:nvSpPr>
            <p:cNvPr id="1074" name=""/>
            <p:cNvSpPr/>
            <p:nvPr/>
          </p:nvSpPr>
          <p:spPr>
            <a:xfrm>
              <a:off x="4048920" y="5029200"/>
              <a:ext cx="21315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5" name=""/>
                <p:cNvSpPr txBox="1"/>
                <p:nvPr/>
              </p:nvSpPr>
              <p:spPr>
                <a:xfrm>
                  <a:off x="4267080" y="5338800"/>
                  <a:ext cx="174960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76" name=""/>
          <p:cNvSpPr/>
          <p:nvPr/>
        </p:nvSpPr>
        <p:spPr>
          <a:xfrm>
            <a:off x="552960" y="380880"/>
            <a:ext cx="111492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0" name=""/>
          <p:cNvGraphicFramePr/>
          <p:nvPr/>
        </p:nvGraphicFramePr>
        <p:xfrm>
          <a:off x="4191120" y="4876920"/>
          <a:ext cx="220968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876920"/>
                    <a:ext cx="2209680" cy="1685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3809880" y="4114800"/>
            <a:ext cx="3124440" cy="1523880"/>
            <a:chOff x="3809880" y="4114800"/>
            <a:chExt cx="3124440" cy="1523880"/>
          </a:xfrm>
        </p:grpSpPr>
        <p:sp>
          <p:nvSpPr>
            <p:cNvPr id="1083" name=""/>
            <p:cNvSpPr/>
            <p:nvPr/>
          </p:nvSpPr>
          <p:spPr>
            <a:xfrm>
              <a:off x="3809880" y="4114800"/>
              <a:ext cx="312444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181480" y="4952880"/>
              <a:ext cx="60984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85" name=""/>
          <p:cNvGraphicFramePr/>
          <p:nvPr/>
        </p:nvGraphicFramePr>
        <p:xfrm>
          <a:off x="0" y="533520"/>
          <a:ext cx="3521160" cy="22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3521160" cy="22050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7" name=""/>
          <p:cNvSpPr/>
          <p:nvPr/>
        </p:nvSpPr>
        <p:spPr>
          <a:xfrm>
            <a:off x="46440" y="-27000"/>
            <a:ext cx="20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MPLE 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06720" y="82440"/>
            <a:ext cx="3876480" cy="3070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ixed sources. Must compute Voc and I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2895480" y="539640"/>
            <a:ext cx="2748600" cy="1517760"/>
            <a:chOff x="2895480" y="539640"/>
            <a:chExt cx="2748600" cy="1517760"/>
          </a:xfrm>
        </p:grpSpPr>
        <p:sp>
          <p:nvSpPr>
            <p:cNvPr id="1090" name=""/>
            <p:cNvSpPr/>
            <p:nvPr/>
          </p:nvSpPr>
          <p:spPr>
            <a:xfrm>
              <a:off x="3655800" y="539640"/>
              <a:ext cx="19882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 circuit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1" name=""/>
                <p:cNvSpPr txBox="1"/>
                <p:nvPr/>
              </p:nvSpPr>
              <p:spPr>
                <a:xfrm>
                  <a:off x="2895480" y="1066680"/>
                  <a:ext cx="4590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2" name=""/>
          <p:cNvGrpSpPr/>
          <p:nvPr/>
        </p:nvGrpSpPr>
        <p:grpSpPr>
          <a:xfrm>
            <a:off x="457200" y="1447560"/>
            <a:ext cx="222120" cy="549000"/>
            <a:chOff x="457200" y="1447560"/>
            <a:chExt cx="222120" cy="549000"/>
          </a:xfrm>
        </p:grpSpPr>
        <p:sp>
          <p:nvSpPr>
            <p:cNvPr id="1093" name=""/>
            <p:cNvSpPr/>
            <p:nvPr/>
          </p:nvSpPr>
          <p:spPr>
            <a:xfrm flipV="1">
              <a:off x="457200" y="1447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4" name=""/>
                <p:cNvSpPr txBox="1"/>
                <p:nvPr/>
              </p:nvSpPr>
              <p:spPr>
                <a:xfrm>
                  <a:off x="457200" y="1676160"/>
                  <a:ext cx="22212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5" name=""/>
          <p:cNvGrpSpPr/>
          <p:nvPr/>
        </p:nvGrpSpPr>
        <p:grpSpPr>
          <a:xfrm>
            <a:off x="3813120" y="762120"/>
            <a:ext cx="4035600" cy="398520"/>
            <a:chOff x="3813120" y="762120"/>
            <a:chExt cx="4035600" cy="398520"/>
          </a:xfrm>
        </p:grpSpPr>
        <p:sp>
          <p:nvSpPr>
            <p:cNvPr id="1096" name=""/>
            <p:cNvSpPr/>
            <p:nvPr/>
          </p:nvSpPr>
          <p:spPr>
            <a:xfrm>
              <a:off x="3813120" y="762120"/>
              <a:ext cx="178704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CL at super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7" name=""/>
                <p:cNvSpPr txBox="1"/>
                <p:nvPr/>
              </p:nvSpPr>
              <p:spPr>
                <a:xfrm>
                  <a:off x="5611680" y="762120"/>
                  <a:ext cx="223704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8" name=""/>
          <p:cNvSpPr/>
          <p:nvPr/>
        </p:nvSpPr>
        <p:spPr>
          <a:xfrm>
            <a:off x="3814560" y="1149480"/>
            <a:ext cx="3254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wo 4k resistors are in 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7086600" y="1162080"/>
                <a:ext cx="838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0" name=""/>
          <p:cNvSpPr/>
          <p:nvPr/>
        </p:nvSpPr>
        <p:spPr>
          <a:xfrm>
            <a:off x="2160" y="296532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0" y="3510000"/>
          <a:ext cx="3521160" cy="22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510000"/>
                    <a:ext cx="3521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3" name=""/>
          <p:cNvGrpSpPr/>
          <p:nvPr/>
        </p:nvGrpSpPr>
        <p:grpSpPr>
          <a:xfrm>
            <a:off x="3200400" y="4038480"/>
            <a:ext cx="547560" cy="990360"/>
            <a:chOff x="3200400" y="4038480"/>
            <a:chExt cx="547560" cy="990360"/>
          </a:xfrm>
        </p:grpSpPr>
        <p:sp>
          <p:nvSpPr>
            <p:cNvPr id="1104" name=""/>
            <p:cNvSpPr/>
            <p:nvPr/>
          </p:nvSpPr>
          <p:spPr>
            <a:xfrm>
              <a:off x="3200400" y="4038480"/>
              <a:ext cx="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"/>
                <p:cNvSpPr txBox="1"/>
                <p:nvPr/>
              </p:nvSpPr>
              <p:spPr>
                <a:xfrm>
                  <a:off x="3276720" y="4446360"/>
                  <a:ext cx="47124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6" name=""/>
          <p:cNvGrpSpPr/>
          <p:nvPr/>
        </p:nvGrpSpPr>
        <p:grpSpPr>
          <a:xfrm>
            <a:off x="457200" y="4111560"/>
            <a:ext cx="307800" cy="612720"/>
            <a:chOff x="457200" y="4111560"/>
            <a:chExt cx="307800" cy="612720"/>
          </a:xfrm>
        </p:grpSpPr>
        <p:sp>
          <p:nvSpPr>
            <p:cNvPr id="1107" name=""/>
            <p:cNvSpPr/>
            <p:nvPr/>
          </p:nvSpPr>
          <p:spPr>
            <a:xfrm flipV="1">
              <a:off x="457200" y="411156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457200" y="4416480"/>
                  <a:ext cx="3078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09" name=""/>
          <p:cNvSpPr/>
          <p:nvPr/>
        </p:nvSpPr>
        <p:spPr>
          <a:xfrm>
            <a:off x="609480" y="3657600"/>
            <a:ext cx="137160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28600" y="3505320"/>
            <a:ext cx="2675880" cy="1842480"/>
            <a:chOff x="228600" y="3505320"/>
            <a:chExt cx="2675880" cy="1842480"/>
          </a:xfrm>
        </p:grpSpPr>
        <p:sp>
          <p:nvSpPr>
            <p:cNvPr id="1111" name=""/>
            <p:cNvSpPr/>
            <p:nvPr/>
          </p:nvSpPr>
          <p:spPr>
            <a:xfrm>
              <a:off x="228600" y="3784320"/>
              <a:ext cx="2671920" cy="1563480"/>
            </a:xfrm>
            <a:custGeom>
              <a:avLst/>
              <a:gdLst/>
              <a:ahLst/>
              <a:rect l="l" t="t" r="r" b="b"/>
              <a:pathLst>
                <a:path w="1683" h="985">
                  <a:moveTo>
                    <a:pt x="34" y="848"/>
                  </a:moveTo>
                  <a:cubicBezTo>
                    <a:pt x="0" y="519"/>
                    <a:pt x="26" y="796"/>
                    <a:pt x="26" y="14"/>
                  </a:cubicBezTo>
                  <a:cubicBezTo>
                    <a:pt x="568" y="10"/>
                    <a:pt x="1086" y="7"/>
                    <a:pt x="1623" y="7"/>
                  </a:cubicBezTo>
                  <a:cubicBezTo>
                    <a:pt x="1683" y="20"/>
                    <a:pt x="1627" y="0"/>
                    <a:pt x="1623" y="108"/>
                  </a:cubicBezTo>
                  <a:cubicBezTo>
                    <a:pt x="1617" y="283"/>
                    <a:pt x="1624" y="483"/>
                    <a:pt x="1647" y="661"/>
                  </a:cubicBezTo>
                  <a:cubicBezTo>
                    <a:pt x="1655" y="854"/>
                    <a:pt x="1654" y="776"/>
                    <a:pt x="1654" y="895"/>
                  </a:cubicBezTo>
                  <a:cubicBezTo>
                    <a:pt x="1484" y="901"/>
                    <a:pt x="1355" y="912"/>
                    <a:pt x="1187" y="918"/>
                  </a:cubicBezTo>
                  <a:cubicBezTo>
                    <a:pt x="1029" y="934"/>
                    <a:pt x="870" y="947"/>
                    <a:pt x="712" y="957"/>
                  </a:cubicBezTo>
                  <a:cubicBezTo>
                    <a:pt x="154" y="942"/>
                    <a:pt x="331" y="985"/>
                    <a:pt x="104" y="926"/>
                  </a:cubicBezTo>
                  <a:cubicBezTo>
                    <a:pt x="86" y="900"/>
                    <a:pt x="95" y="910"/>
                    <a:pt x="80" y="89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88600" y="3505320"/>
              <a:ext cx="51588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657600" y="3581280"/>
                <a:ext cx="4044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7696080" y="3886200"/>
                <a:ext cx="12956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5" name=""/>
          <p:cNvSpPr/>
          <p:nvPr/>
        </p:nvSpPr>
        <p:spPr>
          <a:xfrm>
            <a:off x="7162920" y="3962520"/>
            <a:ext cx="30456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809880" y="4114800"/>
                <a:ext cx="3121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2147400" y="5943600"/>
            <a:ext cx="15188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AL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4114800" y="1981080"/>
            <a:ext cx="2362320" cy="4343400"/>
            <a:chOff x="4114800" y="1981080"/>
            <a:chExt cx="2362320" cy="4343400"/>
          </a:xfrm>
        </p:grpSpPr>
        <p:sp>
          <p:nvSpPr>
            <p:cNvPr id="1119" name=""/>
            <p:cNvSpPr/>
            <p:nvPr/>
          </p:nvSpPr>
          <p:spPr>
            <a:xfrm>
              <a:off x="5029200" y="1981080"/>
              <a:ext cx="144792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114800" y="5486400"/>
              <a:ext cx="1066680" cy="83808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85800" y="360360"/>
            <a:ext cx="2235600" cy="1087200"/>
            <a:chOff x="685800" y="360360"/>
            <a:chExt cx="2235600" cy="1087200"/>
          </a:xfrm>
        </p:grpSpPr>
        <p:sp>
          <p:nvSpPr>
            <p:cNvPr id="1122" name=""/>
            <p:cNvSpPr/>
            <p:nvPr/>
          </p:nvSpPr>
          <p:spPr>
            <a:xfrm>
              <a:off x="685800" y="609480"/>
              <a:ext cx="144792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61760" y="360360"/>
              <a:ext cx="12596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809880" y="2689200"/>
            <a:ext cx="1967760" cy="739800"/>
            <a:chOff x="3809880" y="2689200"/>
            <a:chExt cx="1967760" cy="739800"/>
          </a:xfrm>
        </p:grpSpPr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3809880" y="3070080"/>
                  <a:ext cx="120816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3822840" y="2689200"/>
              <a:ext cx="195480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KCL at 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962520" y="2057400"/>
                <a:ext cx="234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28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38520" y="-23760"/>
            <a:ext cx="20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PLE 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2" name=""/>
          <p:cNvGraphicFramePr/>
          <p:nvPr/>
        </p:nvGraphicFramePr>
        <p:xfrm>
          <a:off x="0" y="380880"/>
          <a:ext cx="3814920" cy="19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38149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523880" y="1146240"/>
                <a:ext cx="739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"/>
          <p:cNvSpPr/>
          <p:nvPr/>
        </p:nvSpPr>
        <p:spPr>
          <a:xfrm>
            <a:off x="3803760" y="7920"/>
            <a:ext cx="485784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ixed sources! Must compute open loop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100160" y="847800"/>
            <a:ext cx="423720" cy="600120"/>
            <a:chOff x="1100160" y="847800"/>
            <a:chExt cx="423720" cy="600120"/>
          </a:xfrm>
        </p:grpSpPr>
        <p:sp>
          <p:nvSpPr>
            <p:cNvPr id="1137" name=""/>
            <p:cNvSpPr/>
            <p:nvPr/>
          </p:nvSpPr>
          <p:spPr>
            <a:xfrm>
              <a:off x="1371600" y="12193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8" name=""/>
                <p:cNvSpPr txBox="1"/>
                <p:nvPr/>
              </p:nvSpPr>
              <p:spPr>
                <a:xfrm>
                  <a:off x="1100160" y="847800"/>
                  <a:ext cx="2714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9" name=""/>
          <p:cNvGrpSpPr/>
          <p:nvPr/>
        </p:nvGrpSpPr>
        <p:grpSpPr>
          <a:xfrm>
            <a:off x="2286000" y="762120"/>
            <a:ext cx="496800" cy="685800"/>
            <a:chOff x="2286000" y="762120"/>
            <a:chExt cx="496800" cy="685800"/>
          </a:xfrm>
        </p:grpSpPr>
        <p:sp>
          <p:nvSpPr>
            <p:cNvPr id="1140" name=""/>
            <p:cNvSpPr/>
            <p:nvPr/>
          </p:nvSpPr>
          <p:spPr>
            <a:xfrm>
              <a:off x="2286000" y="12193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"/>
                <p:cNvSpPr txBox="1"/>
                <p:nvPr/>
              </p:nvSpPr>
              <p:spPr>
                <a:xfrm>
                  <a:off x="2498760" y="762120"/>
                  <a:ext cx="2840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6477120" y="1143000"/>
                <a:ext cx="259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3756600" y="465120"/>
            <a:ext cx="1988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3733920" y="838080"/>
                <a:ext cx="1935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5" name=""/>
          <p:cNvSpPr/>
          <p:nvPr/>
        </p:nvSpPr>
        <p:spPr>
          <a:xfrm>
            <a:off x="2514600" y="1422360"/>
            <a:ext cx="711360" cy="787320"/>
          </a:xfrm>
          <a:custGeom>
            <a:avLst/>
            <a:gdLst/>
            <a:ahLst/>
            <a:rect l="l" t="t" r="r" b="b"/>
            <a:pathLst>
              <a:path w="448" h="496">
                <a:moveTo>
                  <a:pt x="0" y="16"/>
                </a:moveTo>
                <a:cubicBezTo>
                  <a:pt x="160" y="8"/>
                  <a:pt x="320" y="0"/>
                  <a:pt x="384" y="64"/>
                </a:cubicBezTo>
                <a:cubicBezTo>
                  <a:pt x="448" y="128"/>
                  <a:pt x="392" y="336"/>
                  <a:pt x="384" y="400"/>
                </a:cubicBezTo>
                <a:cubicBezTo>
                  <a:pt x="376" y="464"/>
                  <a:pt x="392" y="432"/>
                  <a:pt x="336" y="448"/>
                </a:cubicBezTo>
                <a:cubicBezTo>
                  <a:pt x="280" y="464"/>
                  <a:pt x="164" y="480"/>
                  <a:pt x="48" y="49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59560" y="1297080"/>
            <a:ext cx="2475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Vx us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91320" y="1684440"/>
            <a:ext cx="1480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Vb use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3886200" y="2006640"/>
                <a:ext cx="44496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33920" y="2438280"/>
                <a:ext cx="5410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6705720" y="2811600"/>
                <a:ext cx="1919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1" name=""/>
          <p:cNvSpPr/>
          <p:nvPr/>
        </p:nvSpPr>
        <p:spPr>
          <a:xfrm>
            <a:off x="16200" y="274464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2" name=""/>
          <p:cNvGraphicFramePr/>
          <p:nvPr/>
        </p:nvGraphicFramePr>
        <p:xfrm>
          <a:off x="-14400" y="3429000"/>
          <a:ext cx="3824280" cy="15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0" y="3429000"/>
                    <a:ext cx="382428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4" name=""/>
          <p:cNvGrpSpPr/>
          <p:nvPr/>
        </p:nvGrpSpPr>
        <p:grpSpPr>
          <a:xfrm>
            <a:off x="1447920" y="3352680"/>
            <a:ext cx="914400" cy="381240"/>
            <a:chOff x="1447920" y="3352680"/>
            <a:chExt cx="914400" cy="381240"/>
          </a:xfrm>
        </p:grpSpPr>
        <p:sp>
          <p:nvSpPr>
            <p:cNvPr id="1155" name=""/>
            <p:cNvSpPr/>
            <p:nvPr/>
          </p:nvSpPr>
          <p:spPr>
            <a:xfrm>
              <a:off x="1447920" y="373392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6" name=""/>
                <p:cNvSpPr txBox="1"/>
                <p:nvPr/>
              </p:nvSpPr>
              <p:spPr>
                <a:xfrm>
                  <a:off x="1752480" y="3352680"/>
                  <a:ext cx="371520" cy="2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7" name=""/>
          <p:cNvSpPr/>
          <p:nvPr/>
        </p:nvSpPr>
        <p:spPr>
          <a:xfrm>
            <a:off x="2843640" y="3056040"/>
            <a:ext cx="23965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e need to compute V_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399240" y="3125880"/>
            <a:ext cx="2267640" cy="1065240"/>
            <a:chOff x="399240" y="3125880"/>
            <a:chExt cx="2267640" cy="1065240"/>
          </a:xfrm>
        </p:grpSpPr>
        <p:sp>
          <p:nvSpPr>
            <p:cNvPr id="1159" name=""/>
            <p:cNvSpPr/>
            <p:nvPr/>
          </p:nvSpPr>
          <p:spPr>
            <a:xfrm>
              <a:off x="1143000" y="3352680"/>
              <a:ext cx="1523880" cy="838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99240" y="3125880"/>
              <a:ext cx="1213920" cy="3070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ingl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1" name=""/>
                <p:cNvSpPr txBox="1"/>
                <p:nvPr/>
              </p:nvSpPr>
              <p:spPr>
                <a:xfrm>
                  <a:off x="1521000" y="3814920"/>
                  <a:ext cx="231480" cy="22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2" name=""/>
          <p:cNvSpPr/>
          <p:nvPr/>
        </p:nvSpPr>
        <p:spPr>
          <a:xfrm>
            <a:off x="3061440" y="3430440"/>
            <a:ext cx="893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@V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962520" y="3441600"/>
                <a:ext cx="3284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7620120" y="3429000"/>
                <a:ext cx="1471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5" name=""/>
          <p:cNvSpPr/>
          <p:nvPr/>
        </p:nvSpPr>
        <p:spPr>
          <a:xfrm>
            <a:off x="7391520" y="3657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008960" y="4116240"/>
            <a:ext cx="40410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 again can give the 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2209680" y="4038480"/>
            <a:ext cx="914400" cy="685800"/>
            <a:chOff x="2209680" y="4038480"/>
            <a:chExt cx="914400" cy="685800"/>
          </a:xfrm>
        </p:grpSpPr>
        <p:sp>
          <p:nvSpPr>
            <p:cNvPr id="1168" name=""/>
            <p:cNvSpPr/>
            <p:nvPr/>
          </p:nvSpPr>
          <p:spPr>
            <a:xfrm>
              <a:off x="2209680" y="403848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514600" y="411480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3962520" y="4460760"/>
                <a:ext cx="23065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6477120" y="4465800"/>
                <a:ext cx="231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228600" y="5351400"/>
                <a:ext cx="33210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73" name=""/>
          <p:cNvGrpSpPr/>
          <p:nvPr/>
        </p:nvGrpSpPr>
        <p:grpSpPr>
          <a:xfrm>
            <a:off x="3886200" y="5105520"/>
            <a:ext cx="3754080" cy="1569960"/>
            <a:chOff x="3886200" y="5105520"/>
            <a:chExt cx="3754080" cy="1569960"/>
          </a:xfrm>
        </p:grpSpPr>
        <p:graphicFrame>
          <p:nvGraphicFramePr>
            <p:cNvPr id="1174" name=""/>
            <p:cNvGraphicFramePr/>
            <p:nvPr/>
          </p:nvGraphicFramePr>
          <p:xfrm>
            <a:off x="3886200" y="5105520"/>
            <a:ext cx="2057400" cy="15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5" name="" descr=""/>
                    <p:cNvPicPr/>
                    <p:nvPr/>
                  </p:nvPicPr>
                  <p:blipFill>
                    <a:blip r:embed="rId6">
                      <a:alphaModFix amt="50000"/>
                    </a:blip>
                    <a:stretch/>
                  </p:blipFill>
                  <p:spPr>
                    <a:xfrm>
                      <a:off x="3886200" y="5105520"/>
                      <a:ext cx="2057400" cy="1569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76" name=""/>
            <p:cNvSpPr/>
            <p:nvPr/>
          </p:nvSpPr>
          <p:spPr>
            <a:xfrm>
              <a:off x="5937120" y="5316480"/>
              <a:ext cx="1703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31320" y="349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38120" y="2895480"/>
            <a:ext cx="4066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EXCEL to generate and plo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0" y="533520"/>
          <a:ext cx="429588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29588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2577960" y="76320"/>
                <a:ext cx="504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AND  PLOT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4343400" y="685800"/>
                <a:ext cx="4800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4576680" y="439560"/>
            <a:ext cx="2315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TO BE PLO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1138320" y="3200400"/>
          <a:ext cx="6778440" cy="34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8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1138320" y="3200400"/>
                    <a:ext cx="67784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451520" y="33480"/>
            <a:ext cx="55407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O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6760" y="6095880"/>
                <a:ext cx="3797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1195560" y="3200400"/>
            <a:ext cx="6067080" cy="2841480"/>
            <a:chOff x="1195560" y="3200400"/>
            <a:chExt cx="6067080" cy="2841480"/>
          </a:xfrm>
        </p:grpSpPr>
        <p:graphicFrame>
          <p:nvGraphicFramePr>
            <p:cNvPr id="89" name=""/>
            <p:cNvGraphicFramePr/>
            <p:nvPr/>
          </p:nvGraphicFramePr>
          <p:xfrm>
            <a:off x="1195560" y="3200400"/>
            <a:ext cx="606708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60" y="3200400"/>
                      <a:ext cx="606708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1225800" y="5334120"/>
              <a:ext cx="281556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rto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2" name=""/>
          <p:cNvGraphicFramePr/>
          <p:nvPr/>
        </p:nvGraphicFramePr>
        <p:xfrm>
          <a:off x="0" y="533520"/>
          <a:ext cx="9144000" cy="58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1320" y="349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54480" y="1371600"/>
            <a:ext cx="430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generate and plo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0" y="466560"/>
          <a:ext cx="383868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66560"/>
                    <a:ext cx="383868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2577960" y="76320"/>
                <a:ext cx="504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AND  PLOT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4343400" y="685800"/>
                <a:ext cx="4800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6" name=""/>
          <p:cNvSpPr/>
          <p:nvPr/>
        </p:nvSpPr>
        <p:spPr>
          <a:xfrm>
            <a:off x="4576680" y="439560"/>
            <a:ext cx="2315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TO BE PLO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80080" y="1695600"/>
            <a:ext cx="5109480" cy="15858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Rx=[0:0.1:10]'; %define the range of resistors to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Voc=12-6*Rx./(Rx+4); %the formula for Voc. Notice "./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Rth=4*Rx./(4+Rx); %formula for Thevenin resistanc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plot(Rx,Voc,'bo', Rx,Rth,'md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title('USING MATLAB'), %proper graph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grid, xlabel('Rx(kOhm)'), ylabel('Volts/kOhms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legend('Voc[V]','Rth[kOhm]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8" name="LearningExample4p12" descr=""/>
          <p:cNvPicPr/>
          <p:nvPr/>
        </p:nvPicPr>
        <p:blipFill>
          <a:blip r:embed="rId4"/>
          <a:stretch/>
        </p:blipFill>
        <p:spPr>
          <a:xfrm>
            <a:off x="76320" y="3330720"/>
            <a:ext cx="86104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68920" y="228600"/>
            <a:ext cx="4979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ORE GENERAL VIEW OF THEVENIN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0" name=""/>
          <p:cNvGraphicFramePr/>
          <p:nvPr/>
        </p:nvGraphicFramePr>
        <p:xfrm>
          <a:off x="4343400" y="2819520"/>
          <a:ext cx="193032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819520"/>
                    <a:ext cx="193032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2" name=""/>
          <p:cNvGraphicFramePr/>
          <p:nvPr/>
        </p:nvGraphicFramePr>
        <p:xfrm>
          <a:off x="6673680" y="2590920"/>
          <a:ext cx="230688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3680" y="2590920"/>
                    <a:ext cx="23068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4" name=""/>
          <p:cNvSpPr/>
          <p:nvPr/>
        </p:nvSpPr>
        <p:spPr>
          <a:xfrm>
            <a:off x="6172200" y="4572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609480" y="838080"/>
          <a:ext cx="3024360" cy="181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838080"/>
                    <a:ext cx="302436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152280" y="3048120"/>
          <a:ext cx="3640320" cy="236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8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152280" y="3048120"/>
                    <a:ext cx="364032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9" name=""/>
          <p:cNvSpPr/>
          <p:nvPr/>
        </p:nvSpPr>
        <p:spPr>
          <a:xfrm>
            <a:off x="99720" y="5727600"/>
            <a:ext cx="4170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NTERPRETATION AP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EN WHEN THE PASS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 INDUC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3962520" y="608040"/>
            <a:ext cx="4921560" cy="2363760"/>
            <a:chOff x="3962520" y="608040"/>
            <a:chExt cx="4921560" cy="2363760"/>
          </a:xfrm>
        </p:grpSpPr>
        <p:graphicFrame>
          <p:nvGraphicFramePr>
            <p:cNvPr id="1221" name=""/>
            <p:cNvGraphicFramePr/>
            <p:nvPr/>
          </p:nvGraphicFramePr>
          <p:xfrm>
            <a:off x="3962520" y="608040"/>
            <a:ext cx="2185920" cy="2363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2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608040"/>
                      <a:ext cx="2185920" cy="23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3" name=""/>
            <p:cNvSpPr/>
            <p:nvPr/>
          </p:nvSpPr>
          <p:spPr>
            <a:xfrm>
              <a:off x="6213240" y="1123920"/>
              <a:ext cx="2670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UAL INTERPRE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8107200" y="5850000"/>
            <a:ext cx="1114920" cy="988920"/>
            <a:chOff x="8107200" y="5850000"/>
            <a:chExt cx="1114920" cy="988920"/>
          </a:xfrm>
        </p:grpSpPr>
        <p:pic>
          <p:nvPicPr>
            <p:cNvPr id="1226" name="stop" descr=""/>
            <p:cNvPicPr/>
            <p:nvPr/>
          </p:nvPicPr>
          <p:blipFill>
            <a:blip r:embed="rId11"/>
            <a:stretch/>
          </p:blipFill>
          <p:spPr>
            <a:xfrm>
              <a:off x="8610480" y="63244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7" name=""/>
            <p:cNvSpPr/>
            <p:nvPr/>
          </p:nvSpPr>
          <p:spPr>
            <a:xfrm>
              <a:off x="8107200" y="5850000"/>
              <a:ext cx="111492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LowDistortionAmplifier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507600" y="28440"/>
            <a:ext cx="46094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-45720" y="1397160"/>
            <a:ext cx="1835640" cy="2126160"/>
            <a:chOff x="-45720" y="1397160"/>
            <a:chExt cx="1835640" cy="2126160"/>
          </a:xfrm>
        </p:grpSpPr>
        <p:sp>
          <p:nvSpPr>
            <p:cNvPr id="1232" name=""/>
            <p:cNvSpPr/>
            <p:nvPr/>
          </p:nvSpPr>
          <p:spPr>
            <a:xfrm>
              <a:off x="216000" y="1397160"/>
              <a:ext cx="88920" cy="1422360"/>
            </a:xfrm>
            <a:custGeom>
              <a:avLst/>
              <a:gdLst/>
              <a:ahLst/>
              <a:rect l="l" t="t" r="r" b="b"/>
              <a:pathLst>
                <a:path w="56" h="896">
                  <a:moveTo>
                    <a:pt x="8" y="896"/>
                  </a:moveTo>
                  <a:cubicBezTo>
                    <a:pt x="4" y="576"/>
                    <a:pt x="0" y="256"/>
                    <a:pt x="8" y="128"/>
                  </a:cubicBezTo>
                  <a:cubicBezTo>
                    <a:pt x="16" y="0"/>
                    <a:pt x="48" y="128"/>
                    <a:pt x="56" y="12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442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-45720" y="2819520"/>
              <a:ext cx="1835640" cy="7038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442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From Pre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(voltage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6251400" y="3125880"/>
            <a:ext cx="1725840" cy="481320"/>
            <a:chOff x="6251400" y="3125880"/>
            <a:chExt cx="1725840" cy="481320"/>
          </a:xfrm>
        </p:grpSpPr>
        <p:sp>
          <p:nvSpPr>
            <p:cNvPr id="1235" name=""/>
            <p:cNvSpPr/>
            <p:nvPr/>
          </p:nvSpPr>
          <p:spPr>
            <a:xfrm>
              <a:off x="6251400" y="3125880"/>
              <a:ext cx="914400" cy="1440"/>
            </a:xfrm>
            <a:custGeom>
              <a:avLst/>
              <a:gdLst/>
              <a:ahLst/>
              <a:rect l="l" t="t" r="r" b="b"/>
              <a:pathLst>
                <a:path w="576" h="1">
                  <a:moveTo>
                    <a:pt x="0" y="0"/>
                  </a:moveTo>
                  <a:cubicBezTo>
                    <a:pt x="240" y="0"/>
                    <a:pt x="480" y="0"/>
                    <a:pt x="576" y="0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64080" y="3208320"/>
              <a:ext cx="1613160" cy="398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To spe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-380880" y="-380880"/>
            <a:ext cx="6858000" cy="5371920"/>
          </a:xfrm>
          <a:custGeom>
            <a:avLst/>
            <a:gdLst/>
            <a:ahLst/>
            <a:rect l="l" t="t" r="r" b="b"/>
            <a:pathLst>
              <a:path w="4320" h="3384">
                <a:moveTo>
                  <a:pt x="4320" y="1680"/>
                </a:moveTo>
                <a:cubicBezTo>
                  <a:pt x="4184" y="2172"/>
                  <a:pt x="4048" y="2664"/>
                  <a:pt x="3408" y="2880"/>
                </a:cubicBezTo>
                <a:cubicBezTo>
                  <a:pt x="2768" y="3096"/>
                  <a:pt x="944" y="3384"/>
                  <a:pt x="480" y="2976"/>
                </a:cubicBezTo>
                <a:cubicBezTo>
                  <a:pt x="16" y="2568"/>
                  <a:pt x="0" y="864"/>
                  <a:pt x="624" y="432"/>
                </a:cubicBezTo>
                <a:cubicBezTo>
                  <a:pt x="1248" y="0"/>
                  <a:pt x="2736" y="192"/>
                  <a:pt x="4224" y="38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304920" y="4749840"/>
            <a:ext cx="2280960" cy="2108160"/>
            <a:chOff x="304920" y="4749840"/>
            <a:chExt cx="2280960" cy="2108160"/>
          </a:xfrm>
        </p:grpSpPr>
        <p:graphicFrame>
          <p:nvGraphicFramePr>
            <p:cNvPr id="1239" name=""/>
            <p:cNvGraphicFramePr/>
            <p:nvPr/>
          </p:nvGraphicFramePr>
          <p:xfrm>
            <a:off x="977760" y="5016600"/>
            <a:ext cx="1608120" cy="1379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77760" y="5016600"/>
                      <a:ext cx="1608120" cy="1379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41" name=""/>
            <p:cNvSpPr/>
            <p:nvPr/>
          </p:nvSpPr>
          <p:spPr>
            <a:xfrm>
              <a:off x="304920" y="4749840"/>
              <a:ext cx="2133360" cy="2108160"/>
            </a:xfrm>
            <a:custGeom>
              <a:avLst/>
              <a:gdLst/>
              <a:ahLst/>
              <a:rect l="l" t="t" r="r" b="b"/>
              <a:pathLst>
                <a:path w="1344" h="1328">
                  <a:moveTo>
                    <a:pt x="1336" y="600"/>
                  </a:moveTo>
                  <a:cubicBezTo>
                    <a:pt x="1328" y="404"/>
                    <a:pt x="1320" y="208"/>
                    <a:pt x="1288" y="120"/>
                  </a:cubicBezTo>
                  <a:cubicBezTo>
                    <a:pt x="1256" y="32"/>
                    <a:pt x="1344" y="0"/>
                    <a:pt x="1144" y="72"/>
                  </a:cubicBezTo>
                  <a:cubicBezTo>
                    <a:pt x="944" y="144"/>
                    <a:pt x="176" y="352"/>
                    <a:pt x="88" y="552"/>
                  </a:cubicBezTo>
                  <a:cubicBezTo>
                    <a:pt x="0" y="752"/>
                    <a:pt x="416" y="1216"/>
                    <a:pt x="616" y="1272"/>
                  </a:cubicBezTo>
                  <a:cubicBezTo>
                    <a:pt x="816" y="1328"/>
                    <a:pt x="1052" y="1108"/>
                    <a:pt x="1288" y="888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6143400" y="3868560"/>
            <a:ext cx="2678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implest model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peaker is a resist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5029200" y="4572000"/>
            <a:ext cx="2630520" cy="2178000"/>
            <a:chOff x="5029200" y="4572000"/>
            <a:chExt cx="2630520" cy="2178000"/>
          </a:xfrm>
        </p:grpSpPr>
        <p:graphicFrame>
          <p:nvGraphicFramePr>
            <p:cNvPr id="1244" name=""/>
            <p:cNvGraphicFramePr/>
            <p:nvPr/>
          </p:nvGraphicFramePr>
          <p:xfrm>
            <a:off x="5029200" y="4572000"/>
            <a:ext cx="2630520" cy="1379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29200" y="4572000"/>
                      <a:ext cx="2630520" cy="1379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46" name=""/>
            <p:cNvSpPr/>
            <p:nvPr/>
          </p:nvSpPr>
          <p:spPr>
            <a:xfrm>
              <a:off x="5081040" y="5925960"/>
              <a:ext cx="25110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MODEL FOR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SIS OF POW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876920" y="9144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angelfire.com/ab3/mjramp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22760" y="53352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"/>
              </a:rPr>
              <a:t>Courtesy of M.J. Renard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208800" y="82440"/>
            <a:ext cx="3873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MUM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3" name=""/>
          <p:cNvGraphicFramePr/>
          <p:nvPr/>
        </p:nvGraphicFramePr>
        <p:xfrm>
          <a:off x="396720" y="762120"/>
          <a:ext cx="278604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762120"/>
                    <a:ext cx="2786040" cy="2936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2286000" y="533520"/>
                <a:ext cx="35956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6019920" y="457200"/>
                <a:ext cx="30416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57" name=""/>
          <p:cNvSpPr/>
          <p:nvPr/>
        </p:nvSpPr>
        <p:spPr>
          <a:xfrm>
            <a:off x="3503520" y="167652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 every choice of R_L we have a different pow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ow do we find the maximum valu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24040" y="2286000"/>
            <a:ext cx="47894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ider P_L as a function of R_L and fi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ximum of such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505320" y="2895480"/>
                <a:ext cx="4546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60" name=""/>
          <p:cNvGrpSpPr/>
          <p:nvPr/>
        </p:nvGrpSpPr>
        <p:grpSpPr>
          <a:xfrm>
            <a:off x="5940000" y="2895120"/>
            <a:ext cx="2061000" cy="774360"/>
            <a:chOff x="5940000" y="2895120"/>
            <a:chExt cx="2061000" cy="774360"/>
          </a:xfrm>
        </p:grpSpPr>
        <p:sp>
          <p:nvSpPr>
            <p:cNvPr id="1261" name=""/>
            <p:cNvSpPr/>
            <p:nvPr/>
          </p:nvSpPr>
          <p:spPr>
            <a:xfrm flipV="1">
              <a:off x="6781680" y="2895120"/>
              <a:ext cx="12193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 flipV="1">
              <a:off x="5940000" y="2896920"/>
              <a:ext cx="73080" cy="38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858000" y="3581280"/>
              <a:ext cx="152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03080" y="3332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2753640" y="3865680"/>
            <a:ext cx="5284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t the derivative to zero to find extreme poi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 this case we need to set to zero the num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2666880" y="4648320"/>
                <a:ext cx="3040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5715000" y="4572000"/>
                <a:ext cx="1503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8" name=""/>
          <p:cNvSpPr/>
          <p:nvPr/>
        </p:nvSpPr>
        <p:spPr>
          <a:xfrm>
            <a:off x="7309080" y="4419720"/>
            <a:ext cx="1750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wer trans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931120" y="5257800"/>
            <a:ext cx="6118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load that maximizes the power transfer for a circuit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qual to the Thevenin equivalent resistance of the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920" y="3962520"/>
            <a:ext cx="221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chnically w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verify that i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deed a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80" y="5105520"/>
            <a:ext cx="2895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of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wer that can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ansferred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84240" y="5867280"/>
                <a:ext cx="1890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3" name=""/>
          <p:cNvSpPr/>
          <p:nvPr/>
        </p:nvSpPr>
        <p:spPr>
          <a:xfrm>
            <a:off x="2134080" y="6151680"/>
            <a:ext cx="69501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LY IN THIS CASE WE NEED TO COMPUTE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7" name=""/>
          <p:cNvGraphicFramePr/>
          <p:nvPr/>
        </p:nvGraphicFramePr>
        <p:xfrm>
          <a:off x="-6480" y="3887640"/>
          <a:ext cx="443232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3887640"/>
                    <a:ext cx="443232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9" name=""/>
          <p:cNvGraphicFramePr/>
          <p:nvPr/>
        </p:nvGraphicFramePr>
        <p:xfrm>
          <a:off x="0" y="380880"/>
          <a:ext cx="4917960" cy="32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91796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1" name=""/>
          <p:cNvSpPr/>
          <p:nvPr/>
        </p:nvSpPr>
        <p:spPr>
          <a:xfrm>
            <a:off x="31320" y="-205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318960" y="307800"/>
            <a:ext cx="8477640" cy="657000"/>
            <a:chOff x="318960" y="307800"/>
            <a:chExt cx="8477640" cy="657000"/>
          </a:xfrm>
        </p:grpSpPr>
        <p:grpSp>
          <p:nvGrpSpPr>
            <p:cNvPr id="1283" name=""/>
            <p:cNvGrpSpPr/>
            <p:nvPr/>
          </p:nvGrpSpPr>
          <p:grpSpPr>
            <a:xfrm>
              <a:off x="318960" y="307800"/>
              <a:ext cx="439560" cy="378000"/>
              <a:chOff x="318960" y="307800"/>
              <a:chExt cx="439560" cy="378000"/>
            </a:xfrm>
          </p:grpSpPr>
          <p:sp>
            <p:nvSpPr>
              <p:cNvPr id="1284" name=""/>
              <p:cNvSpPr/>
              <p:nvPr/>
            </p:nvSpPr>
            <p:spPr>
              <a:xfrm>
                <a:off x="318960" y="53352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55760" y="307800"/>
                <a:ext cx="302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3886200" y="504720"/>
              <a:ext cx="450360" cy="337320"/>
              <a:chOff x="3886200" y="504720"/>
              <a:chExt cx="450360" cy="337320"/>
            </a:xfrm>
          </p:grpSpPr>
          <p:sp>
            <p:nvSpPr>
              <p:cNvPr id="1287" name=""/>
              <p:cNvSpPr/>
              <p:nvPr/>
            </p:nvSpPr>
            <p:spPr>
              <a:xfrm>
                <a:off x="3886200" y="598320"/>
                <a:ext cx="152280" cy="15264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027680" y="504720"/>
                <a:ext cx="3088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"/>
            <p:cNvSpPr/>
            <p:nvPr/>
          </p:nvSpPr>
          <p:spPr>
            <a:xfrm>
              <a:off x="4492080" y="384120"/>
              <a:ext cx="4304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need to find the Thevenin resista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 a - 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4041360" y="917640"/>
            <a:ext cx="5118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 contains only independent sources 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-152280" y="1981080"/>
            <a:ext cx="4190760" cy="1067040"/>
            <a:chOff x="-152280" y="1981080"/>
            <a:chExt cx="4190760" cy="1067040"/>
          </a:xfrm>
        </p:grpSpPr>
        <p:sp>
          <p:nvSpPr>
            <p:cNvPr id="1292" name=""/>
            <p:cNvSpPr/>
            <p:nvPr/>
          </p:nvSpPr>
          <p:spPr>
            <a:xfrm>
              <a:off x="-152280" y="1981080"/>
              <a:ext cx="1119240" cy="954360"/>
            </a:xfrm>
            <a:custGeom>
              <a:avLst/>
              <a:gdLst/>
              <a:ahLst/>
              <a:rect l="l" t="t" r="r" b="b"/>
              <a:pathLst>
                <a:path w="705" h="601">
                  <a:moveTo>
                    <a:pt x="686" y="244"/>
                  </a:moveTo>
                  <a:cubicBezTo>
                    <a:pt x="626" y="197"/>
                    <a:pt x="562" y="182"/>
                    <a:pt x="491" y="158"/>
                  </a:cubicBezTo>
                  <a:cubicBezTo>
                    <a:pt x="475" y="105"/>
                    <a:pt x="390" y="57"/>
                    <a:pt x="343" y="26"/>
                  </a:cubicBezTo>
                  <a:cubicBezTo>
                    <a:pt x="329" y="17"/>
                    <a:pt x="315" y="3"/>
                    <a:pt x="297" y="2"/>
                  </a:cubicBezTo>
                  <a:cubicBezTo>
                    <a:pt x="253" y="0"/>
                    <a:pt x="208" y="2"/>
                    <a:pt x="164" y="2"/>
                  </a:cubicBezTo>
                  <a:cubicBezTo>
                    <a:pt x="143" y="5"/>
                    <a:pt x="122" y="3"/>
                    <a:pt x="102" y="10"/>
                  </a:cubicBezTo>
                  <a:cubicBezTo>
                    <a:pt x="85" y="16"/>
                    <a:pt x="72" y="44"/>
                    <a:pt x="63" y="57"/>
                  </a:cubicBezTo>
                  <a:cubicBezTo>
                    <a:pt x="35" y="99"/>
                    <a:pt x="13" y="132"/>
                    <a:pt x="0" y="181"/>
                  </a:cubicBezTo>
                  <a:cubicBezTo>
                    <a:pt x="3" y="233"/>
                    <a:pt x="4" y="285"/>
                    <a:pt x="8" y="337"/>
                  </a:cubicBezTo>
                  <a:cubicBezTo>
                    <a:pt x="16" y="429"/>
                    <a:pt x="127" y="509"/>
                    <a:pt x="195" y="556"/>
                  </a:cubicBezTo>
                  <a:cubicBezTo>
                    <a:pt x="259" y="601"/>
                    <a:pt x="429" y="579"/>
                    <a:pt x="429" y="579"/>
                  </a:cubicBezTo>
                  <a:cubicBezTo>
                    <a:pt x="459" y="576"/>
                    <a:pt x="500" y="578"/>
                    <a:pt x="530" y="563"/>
                  </a:cubicBezTo>
                  <a:cubicBezTo>
                    <a:pt x="566" y="546"/>
                    <a:pt x="587" y="513"/>
                    <a:pt x="624" y="501"/>
                  </a:cubicBezTo>
                  <a:cubicBezTo>
                    <a:pt x="647" y="478"/>
                    <a:pt x="663" y="454"/>
                    <a:pt x="686" y="431"/>
                  </a:cubicBezTo>
                  <a:cubicBezTo>
                    <a:pt x="705" y="359"/>
                    <a:pt x="698" y="323"/>
                    <a:pt x="686" y="244"/>
                  </a:cubicBezTo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68680" y="1981080"/>
              <a:ext cx="469800" cy="1067040"/>
            </a:xfrm>
            <a:custGeom>
              <a:avLst/>
              <a:gdLst/>
              <a:ahLst/>
              <a:rect l="l" t="t" r="r" b="b"/>
              <a:pathLst>
                <a:path w="296" h="672">
                  <a:moveTo>
                    <a:pt x="296" y="0"/>
                  </a:moveTo>
                  <a:cubicBezTo>
                    <a:pt x="156" y="88"/>
                    <a:pt x="16" y="176"/>
                    <a:pt x="8" y="288"/>
                  </a:cubicBezTo>
                  <a:cubicBezTo>
                    <a:pt x="0" y="400"/>
                    <a:pt x="124" y="536"/>
                    <a:pt x="248" y="67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5181480" y="1447920"/>
            <a:ext cx="3365640" cy="1040760"/>
            <a:chOff x="5181480" y="1447920"/>
            <a:chExt cx="3365640" cy="1040760"/>
          </a:xfrm>
        </p:grpSpPr>
        <mc:AlternateContent>
          <mc:Choice xmlns:a14="http://schemas.microsoft.com/office/drawing/2010/main" Requires="a14">
            <p:sp>
              <p:nvSpPr>
                <p:cNvPr id="1295" name=""/>
                <p:cNvSpPr txBox="1"/>
                <p:nvPr/>
              </p:nvSpPr>
              <p:spPr>
                <a:xfrm>
                  <a:off x="5181480" y="1447920"/>
                  <a:ext cx="336564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6" name=""/>
            <p:cNvSpPr/>
            <p:nvPr/>
          </p:nvSpPr>
          <p:spPr>
            <a:xfrm>
              <a:off x="5525640" y="1908000"/>
              <a:ext cx="275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ance for maximu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4939200" y="2606760"/>
            <a:ext cx="389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we MUST find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that can be transferred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he Thevenin voltage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4572000" y="3429000"/>
                <a:ext cx="2227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 rot="10800000">
                <a:off x="4178160" y="3962520"/>
                <a:ext cx="4965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6400800" y="4411800"/>
                <a:ext cx="26924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4114800" y="5715000"/>
                <a:ext cx="1504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5715000" y="58672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172200" y="5697360"/>
                <a:ext cx="2971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4" name=""/>
          <p:cNvGrpSpPr/>
          <p:nvPr/>
        </p:nvGrpSpPr>
        <p:grpSpPr>
          <a:xfrm>
            <a:off x="1050840" y="4057560"/>
            <a:ext cx="7882200" cy="1454400"/>
            <a:chOff x="1050840" y="4057560"/>
            <a:chExt cx="7882200" cy="1454400"/>
          </a:xfrm>
        </p:grpSpPr>
        <mc:AlternateContent>
          <mc:Choice xmlns:a14="http://schemas.microsoft.com/office/drawing/2010/main" Requires="a14">
            <p:sp>
              <p:nvSpPr>
                <p:cNvPr id="1305" name=""/>
                <p:cNvSpPr txBox="1"/>
                <p:nvPr/>
              </p:nvSpPr>
              <p:spPr>
                <a:xfrm>
                  <a:off x="4572000" y="5137200"/>
                  <a:ext cx="436104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6" name=""/>
            <p:cNvSpPr/>
            <p:nvPr/>
          </p:nvSpPr>
          <p:spPr>
            <a:xfrm>
              <a:off x="1050840" y="4057560"/>
              <a:ext cx="2559240" cy="606600"/>
            </a:xfrm>
            <a:custGeom>
              <a:avLst/>
              <a:gdLst/>
              <a:ahLst/>
              <a:rect l="l" t="t" r="r" b="b"/>
              <a:pathLst>
                <a:path w="1612" h="382">
                  <a:moveTo>
                    <a:pt x="0" y="0"/>
                  </a:moveTo>
                  <a:cubicBezTo>
                    <a:pt x="0" y="120"/>
                    <a:pt x="0" y="239"/>
                    <a:pt x="0" y="359"/>
                  </a:cubicBezTo>
                  <a:cubicBezTo>
                    <a:pt x="756" y="324"/>
                    <a:pt x="229" y="343"/>
                    <a:pt x="1582" y="343"/>
                  </a:cubicBezTo>
                  <a:cubicBezTo>
                    <a:pt x="1586" y="353"/>
                    <a:pt x="1592" y="382"/>
                    <a:pt x="1594" y="372"/>
                  </a:cubicBezTo>
                  <a:cubicBezTo>
                    <a:pt x="1612" y="261"/>
                    <a:pt x="1606" y="119"/>
                    <a:pt x="1606" y="8"/>
                  </a:cubicBezTo>
                </a:path>
              </a:pathLst>
            </a:custGeom>
            <a:solidFill>
              <a:srgbClr val="ccffcc">
                <a:alpha val="50000"/>
              </a:srgbClr>
            </a:solidFill>
            <a:ln w="2556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2590920" y="14400"/>
                <a:ext cx="533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MAXIMUM  POWER  TRANSFE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1" name=""/>
          <p:cNvGraphicFramePr/>
          <p:nvPr/>
        </p:nvGraphicFramePr>
        <p:xfrm>
          <a:off x="76320" y="2743200"/>
          <a:ext cx="4114800" cy="15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743200"/>
                    <a:ext cx="411480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3" name=""/>
          <p:cNvGraphicFramePr/>
          <p:nvPr/>
        </p:nvGraphicFramePr>
        <p:xfrm>
          <a:off x="93600" y="482760"/>
          <a:ext cx="4859280" cy="18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482760"/>
                    <a:ext cx="485928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"/>
          <p:cNvSpPr/>
          <p:nvPr/>
        </p:nvSpPr>
        <p:spPr>
          <a:xfrm>
            <a:off x="31320" y="23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4272120" y="384120"/>
            <a:ext cx="4704840" cy="1901880"/>
            <a:chOff x="4272120" y="384120"/>
            <a:chExt cx="4704840" cy="1901880"/>
          </a:xfrm>
        </p:grpSpPr>
        <p:grpSp>
          <p:nvGrpSpPr>
            <p:cNvPr id="1317" name=""/>
            <p:cNvGrpSpPr/>
            <p:nvPr/>
          </p:nvGrpSpPr>
          <p:grpSpPr>
            <a:xfrm>
              <a:off x="4272120" y="384120"/>
              <a:ext cx="376200" cy="1901880"/>
              <a:chOff x="4272120" y="384120"/>
              <a:chExt cx="376200" cy="1901880"/>
            </a:xfrm>
          </p:grpSpPr>
          <p:sp>
            <p:nvSpPr>
              <p:cNvPr id="1318" name=""/>
              <p:cNvSpPr/>
              <p:nvPr/>
            </p:nvSpPr>
            <p:spPr>
              <a:xfrm>
                <a:off x="4495680" y="68580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495680" y="213372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343400" y="384120"/>
                <a:ext cx="302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272120" y="1876320"/>
                <a:ext cx="3088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4875120" y="515880"/>
              <a:ext cx="410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Find the Thevenin equivalent at a -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853520" y="841320"/>
            <a:ext cx="4132440" cy="1027080"/>
            <a:chOff x="4853520" y="841320"/>
            <a:chExt cx="4132440" cy="1027080"/>
          </a:xfrm>
        </p:grpSpPr>
        <p:sp>
          <p:nvSpPr>
            <p:cNvPr id="1324" name=""/>
            <p:cNvSpPr/>
            <p:nvPr/>
          </p:nvSpPr>
          <p:spPr>
            <a:xfrm>
              <a:off x="4853520" y="841320"/>
              <a:ext cx="4132440" cy="5806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2. Remember that for maximum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5" name=""/>
                <p:cNvSpPr txBox="1"/>
                <p:nvPr/>
              </p:nvSpPr>
              <p:spPr>
                <a:xfrm>
                  <a:off x="6019920" y="1143000"/>
                  <a:ext cx="14047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6" name=""/>
                <p:cNvSpPr txBox="1"/>
                <p:nvPr/>
              </p:nvSpPr>
              <p:spPr>
                <a:xfrm>
                  <a:off x="7467480" y="1143000"/>
                  <a:ext cx="135252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7" name=""/>
          <p:cNvSpPr/>
          <p:nvPr/>
        </p:nvSpPr>
        <p:spPr>
          <a:xfrm>
            <a:off x="702000" y="2289240"/>
            <a:ext cx="340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mixed sources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3124080" y="685800"/>
            <a:ext cx="5915880" cy="2031480"/>
            <a:chOff x="3124080" y="685800"/>
            <a:chExt cx="5915880" cy="2031480"/>
          </a:xfrm>
        </p:grpSpPr>
        <p:sp>
          <p:nvSpPr>
            <p:cNvPr id="1329" name=""/>
            <p:cNvSpPr/>
            <p:nvPr/>
          </p:nvSpPr>
          <p:spPr>
            <a:xfrm>
              <a:off x="4712400" y="2136600"/>
              <a:ext cx="4327560" cy="5806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... And it is simpler if we do Theven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 c - d  and account for the 4k at the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0" name=""/>
            <p:cNvGrpSpPr/>
            <p:nvPr/>
          </p:nvGrpSpPr>
          <p:grpSpPr>
            <a:xfrm>
              <a:off x="3124080" y="685800"/>
              <a:ext cx="228600" cy="1600200"/>
              <a:chOff x="3124080" y="685800"/>
              <a:chExt cx="228600" cy="1600200"/>
            </a:xfrm>
          </p:grpSpPr>
          <p:sp>
            <p:nvSpPr>
              <p:cNvPr id="1331" name=""/>
              <p:cNvSpPr/>
              <p:nvPr/>
            </p:nvSpPr>
            <p:spPr>
              <a:xfrm>
                <a:off x="3124080" y="6858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200400" y="21337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3" name=""/>
          <p:cNvGrpSpPr/>
          <p:nvPr/>
        </p:nvGrpSpPr>
        <p:grpSpPr>
          <a:xfrm>
            <a:off x="533520" y="3124080"/>
            <a:ext cx="1930320" cy="890640"/>
            <a:chOff x="533520" y="3124080"/>
            <a:chExt cx="1930320" cy="890640"/>
          </a:xfrm>
        </p:grpSpPr>
        <p:sp>
          <p:nvSpPr>
            <p:cNvPr id="1334" name=""/>
            <p:cNvSpPr/>
            <p:nvPr/>
          </p:nvSpPr>
          <p:spPr>
            <a:xfrm>
              <a:off x="604800" y="3166920"/>
              <a:ext cx="799560" cy="78732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400" y="496"/>
                  </a:moveTo>
                  <a:cubicBezTo>
                    <a:pt x="452" y="340"/>
                    <a:pt x="504" y="184"/>
                    <a:pt x="448" y="112"/>
                  </a:cubicBezTo>
                  <a:cubicBezTo>
                    <a:pt x="392" y="40"/>
                    <a:pt x="128" y="0"/>
                    <a:pt x="64" y="64"/>
                  </a:cubicBezTo>
                  <a:cubicBezTo>
                    <a:pt x="0" y="128"/>
                    <a:pt x="64" y="424"/>
                    <a:pt x="64" y="4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5" name=""/>
                <p:cNvSpPr txBox="1"/>
                <p:nvPr/>
              </p:nvSpPr>
              <p:spPr>
                <a:xfrm>
                  <a:off x="713880" y="3585960"/>
                  <a:ext cx="215640" cy="2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36" name=""/>
            <p:cNvSpPr/>
            <p:nvPr/>
          </p:nvSpPr>
          <p:spPr>
            <a:xfrm>
              <a:off x="533520" y="3124080"/>
              <a:ext cx="1930320" cy="890640"/>
            </a:xfrm>
            <a:custGeom>
              <a:avLst/>
              <a:gdLst/>
              <a:ahLst/>
              <a:rect l="l" t="t" r="r" b="b"/>
              <a:pathLst>
                <a:path w="1216" h="561">
                  <a:moveTo>
                    <a:pt x="0" y="553"/>
                  </a:moveTo>
                  <a:cubicBezTo>
                    <a:pt x="0" y="376"/>
                    <a:pt x="0" y="200"/>
                    <a:pt x="0" y="23"/>
                  </a:cubicBezTo>
                  <a:cubicBezTo>
                    <a:pt x="250" y="14"/>
                    <a:pt x="498" y="5"/>
                    <a:pt x="748" y="0"/>
                  </a:cubicBezTo>
                  <a:cubicBezTo>
                    <a:pt x="847" y="2"/>
                    <a:pt x="945" y="2"/>
                    <a:pt x="1044" y="7"/>
                  </a:cubicBezTo>
                  <a:cubicBezTo>
                    <a:pt x="1100" y="10"/>
                    <a:pt x="1158" y="23"/>
                    <a:pt x="1216" y="23"/>
                  </a:cubicBezTo>
                  <a:cubicBezTo>
                    <a:pt x="1208" y="530"/>
                    <a:pt x="1208" y="350"/>
                    <a:pt x="1208" y="561"/>
                  </a:cubicBezTo>
                  <a:cubicBezTo>
                    <a:pt x="977" y="541"/>
                    <a:pt x="747" y="561"/>
                    <a:pt x="515" y="56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7" name=""/>
                <p:cNvSpPr txBox="1"/>
                <p:nvPr/>
              </p:nvSpPr>
              <p:spPr>
                <a:xfrm>
                  <a:off x="2068560" y="3591000"/>
                  <a:ext cx="2502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4952880" y="2743200"/>
                <a:ext cx="19814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4952880" y="3201840"/>
                <a:ext cx="3981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0" name=""/>
          <p:cNvGrpSpPr/>
          <p:nvPr/>
        </p:nvGrpSpPr>
        <p:grpSpPr>
          <a:xfrm>
            <a:off x="5014800" y="3616200"/>
            <a:ext cx="3062160" cy="352440"/>
            <a:chOff x="5014800" y="3616200"/>
            <a:chExt cx="3062160" cy="352440"/>
          </a:xfrm>
        </p:grpSpPr>
        <p:sp>
          <p:nvSpPr>
            <p:cNvPr id="1341" name=""/>
            <p:cNvSpPr/>
            <p:nvPr/>
          </p:nvSpPr>
          <p:spPr>
            <a:xfrm>
              <a:off x="5014800" y="3619440"/>
              <a:ext cx="2309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olling variabl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2" name=""/>
                <p:cNvSpPr txBox="1"/>
                <p:nvPr/>
              </p:nvSpPr>
              <p:spPr>
                <a:xfrm>
                  <a:off x="7315200" y="3616200"/>
                  <a:ext cx="761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 rot="10800000">
                <a:off x="4492800" y="4044960"/>
                <a:ext cx="29746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>
            <a:off x="262440" y="4422600"/>
            <a:ext cx="314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the short 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7512120" y="3943440"/>
            <a:ext cx="1326960" cy="939600"/>
            <a:chOff x="7512120" y="3943440"/>
            <a:chExt cx="1326960" cy="939600"/>
          </a:xfrm>
        </p:grpSpPr>
        <p:sp>
          <p:nvSpPr>
            <p:cNvPr id="1346" name=""/>
            <p:cNvSpPr/>
            <p:nvPr/>
          </p:nvSpPr>
          <p:spPr>
            <a:xfrm>
              <a:off x="7512120" y="3943440"/>
              <a:ext cx="177840" cy="939600"/>
            </a:xfrm>
            <a:custGeom>
              <a:avLst/>
              <a:gdLst/>
              <a:ahLst/>
              <a:rect l="l" t="t" r="r" b="b"/>
              <a:pathLst>
                <a:path w="112" h="592">
                  <a:moveTo>
                    <a:pt x="3" y="0"/>
                  </a:moveTo>
                  <a:cubicBezTo>
                    <a:pt x="11" y="8"/>
                    <a:pt x="24" y="12"/>
                    <a:pt x="26" y="23"/>
                  </a:cubicBezTo>
                  <a:cubicBezTo>
                    <a:pt x="34" y="72"/>
                    <a:pt x="0" y="304"/>
                    <a:pt x="112" y="304"/>
                  </a:cubicBezTo>
                  <a:cubicBezTo>
                    <a:pt x="73" y="313"/>
                    <a:pt x="70" y="321"/>
                    <a:pt x="57" y="358"/>
                  </a:cubicBezTo>
                  <a:cubicBezTo>
                    <a:pt x="54" y="420"/>
                    <a:pt x="53" y="483"/>
                    <a:pt x="49" y="545"/>
                  </a:cubicBezTo>
                  <a:cubicBezTo>
                    <a:pt x="47" y="583"/>
                    <a:pt x="50" y="576"/>
                    <a:pt x="34" y="592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7" name=""/>
                <p:cNvSpPr txBox="1"/>
                <p:nvPr/>
              </p:nvSpPr>
              <p:spPr>
                <a:xfrm>
                  <a:off x="7737480" y="4267080"/>
                  <a:ext cx="1101600" cy="34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8" name=""/>
          <p:cNvSpPr/>
          <p:nvPr/>
        </p:nvSpPr>
        <p:spPr>
          <a:xfrm>
            <a:off x="4223520" y="5000760"/>
            <a:ext cx="489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ember now where the partition was m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9" name=""/>
              <p:cNvSpPr txBox="1"/>
              <p:nvPr/>
            </p:nvSpPr>
            <p:spPr>
              <a:xfrm>
                <a:off x="7086600" y="5340240"/>
                <a:ext cx="9399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6553080" y="5722920"/>
                <a:ext cx="25909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51" name=""/>
          <p:cNvGraphicFramePr/>
          <p:nvPr/>
        </p:nvGraphicFramePr>
        <p:xfrm>
          <a:off x="0" y="4876920"/>
          <a:ext cx="3886200" cy="14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876920"/>
                    <a:ext cx="388620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3" name=""/>
          <p:cNvGrpSpPr/>
          <p:nvPr/>
        </p:nvGrpSpPr>
        <p:grpSpPr>
          <a:xfrm>
            <a:off x="1827360" y="4578480"/>
            <a:ext cx="5640120" cy="1812960"/>
            <a:chOff x="1827360" y="4578480"/>
            <a:chExt cx="5640120" cy="1812960"/>
          </a:xfrm>
        </p:grpSpPr>
        <p:grpSp>
          <p:nvGrpSpPr>
            <p:cNvPr id="1354" name=""/>
            <p:cNvGrpSpPr/>
            <p:nvPr/>
          </p:nvGrpSpPr>
          <p:grpSpPr>
            <a:xfrm>
              <a:off x="5073480" y="4578480"/>
              <a:ext cx="2394000" cy="374400"/>
              <a:chOff x="5073480" y="4578480"/>
              <a:chExt cx="2394000" cy="374400"/>
            </a:xfrm>
          </p:grpSpPr>
          <mc:AlternateContent>
            <mc:Choice xmlns:a14="http://schemas.microsoft.com/office/drawing/2010/main" Requires="a14">
              <p:sp>
                <p:nvSpPr>
                  <p:cNvPr id="1355" name=""/>
                  <p:cNvSpPr txBox="1"/>
                  <p:nvPr/>
                </p:nvSpPr>
                <p:spPr>
                  <a:xfrm>
                    <a:off x="5073480" y="4578480"/>
                    <a:ext cx="711000" cy="37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0} {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56" name=""/>
              <p:cNvSpPr/>
              <p:nvPr/>
            </p:nvSpPr>
            <p:spPr>
              <a:xfrm>
                <a:off x="5835240" y="4713120"/>
                <a:ext cx="304920" cy="151920"/>
              </a:xfrm>
              <a:prstGeom prst="rightArrow">
                <a:avLst>
                  <a:gd name="adj1" fmla="val 50000"/>
                  <a:gd name="adj2" fmla="val 50178"/>
                </a:avLst>
              </a:prstGeom>
              <a:solidFill>
                <a:srgbClr val="ccecff">
                  <a:alpha val="50000"/>
                </a:srgbClr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57" name=""/>
                  <p:cNvSpPr txBox="1"/>
                  <p:nvPr/>
                </p:nvSpPr>
                <p:spPr>
                  <a:xfrm>
                    <a:off x="6140160" y="4578480"/>
                    <a:ext cx="1327320" cy="36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58" name=""/>
            <p:cNvSpPr/>
            <p:nvPr/>
          </p:nvSpPr>
          <p:spPr>
            <a:xfrm>
              <a:off x="1827360" y="4800600"/>
              <a:ext cx="2119320" cy="1590840"/>
            </a:xfrm>
            <a:custGeom>
              <a:avLst/>
              <a:gdLst/>
              <a:ahLst/>
              <a:rect l="l" t="t" r="r" b="b"/>
              <a:pathLst>
                <a:path w="1335" h="1002">
                  <a:moveTo>
                    <a:pt x="244" y="4"/>
                  </a:moveTo>
                  <a:cubicBezTo>
                    <a:pt x="241" y="27"/>
                    <a:pt x="235" y="51"/>
                    <a:pt x="236" y="74"/>
                  </a:cubicBezTo>
                  <a:cubicBezTo>
                    <a:pt x="273" y="962"/>
                    <a:pt x="0" y="920"/>
                    <a:pt x="439" y="939"/>
                  </a:cubicBezTo>
                  <a:cubicBezTo>
                    <a:pt x="512" y="942"/>
                    <a:pt x="584" y="944"/>
                    <a:pt x="657" y="947"/>
                  </a:cubicBezTo>
                  <a:cubicBezTo>
                    <a:pt x="839" y="961"/>
                    <a:pt x="1019" y="972"/>
                    <a:pt x="1202" y="978"/>
                  </a:cubicBezTo>
                  <a:cubicBezTo>
                    <a:pt x="1238" y="981"/>
                    <a:pt x="1278" y="1002"/>
                    <a:pt x="1311" y="986"/>
                  </a:cubicBezTo>
                  <a:cubicBezTo>
                    <a:pt x="1333" y="975"/>
                    <a:pt x="1325" y="939"/>
                    <a:pt x="1327" y="915"/>
                  </a:cubicBezTo>
                  <a:cubicBezTo>
                    <a:pt x="1333" y="843"/>
                    <a:pt x="1332" y="770"/>
                    <a:pt x="1335" y="697"/>
                  </a:cubicBezTo>
                  <a:cubicBezTo>
                    <a:pt x="1330" y="548"/>
                    <a:pt x="1325" y="401"/>
                    <a:pt x="1311" y="253"/>
                  </a:cubicBezTo>
                  <a:cubicBezTo>
                    <a:pt x="1311" y="251"/>
                    <a:pt x="1297" y="115"/>
                    <a:pt x="1296" y="113"/>
                  </a:cubicBezTo>
                  <a:cubicBezTo>
                    <a:pt x="1283" y="96"/>
                    <a:pt x="1255" y="102"/>
                    <a:pt x="1234" y="97"/>
                  </a:cubicBezTo>
                  <a:cubicBezTo>
                    <a:pt x="1168" y="56"/>
                    <a:pt x="1139" y="72"/>
                    <a:pt x="1039" y="66"/>
                  </a:cubicBezTo>
                  <a:cubicBezTo>
                    <a:pt x="824" y="53"/>
                    <a:pt x="608" y="51"/>
                    <a:pt x="392" y="43"/>
                  </a:cubicBezTo>
                  <a:cubicBezTo>
                    <a:pt x="361" y="35"/>
                    <a:pt x="330" y="24"/>
                    <a:pt x="298" y="19"/>
                  </a:cubicBezTo>
                  <a:cubicBezTo>
                    <a:pt x="172" y="0"/>
                    <a:pt x="174" y="53"/>
                    <a:pt x="174" y="4"/>
                  </a:cubicBezTo>
                  <a:lnTo>
                    <a:pt x="244" y="4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3790800" y="5410080"/>
            <a:ext cx="2762280" cy="1176480"/>
            <a:chOff x="3790800" y="5410080"/>
            <a:chExt cx="2762280" cy="1176480"/>
          </a:xfrm>
        </p:grpSpPr>
        <p:graphicFrame>
          <p:nvGraphicFramePr>
            <p:cNvPr id="1360" name=""/>
            <p:cNvGraphicFramePr/>
            <p:nvPr/>
          </p:nvGraphicFramePr>
          <p:xfrm>
            <a:off x="3790800" y="5410080"/>
            <a:ext cx="2762280" cy="1176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61" name="" descr=""/>
                    <p:cNvPicPr/>
                    <p:nvPr/>
                  </p:nvPicPr>
                  <p:blipFill>
                    <a:blip r:embed="rId8">
                      <a:alphaModFix amt="50000"/>
                    </a:blip>
                    <a:stretch/>
                  </p:blipFill>
                  <p:spPr>
                    <a:xfrm>
                      <a:off x="3790800" y="5410080"/>
                      <a:ext cx="2762280" cy="11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362" name=""/>
                <p:cNvSpPr txBox="1"/>
                <p:nvPr/>
              </p:nvSpPr>
              <p:spPr>
                <a:xfrm>
                  <a:off x="4419720" y="6172200"/>
                  <a:ext cx="3031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2602080" y="90360"/>
                <a:ext cx="5779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MAXIMUM  POWER  TRANSFERR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5" name="stop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453360" cy="1940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8920" y="158760"/>
            <a:ext cx="4888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 of Valid and Invalid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51040"/>
            <a:ext cx="3048120" cy="2577960"/>
          </a:xfrm>
          <a:custGeom>
            <a:avLst/>
            <a:gdLst/>
            <a:ahLst/>
            <a:rect l="l" t="t" r="r" b="b"/>
            <a:pathLst>
              <a:path w="1920" h="1624">
                <a:moveTo>
                  <a:pt x="288" y="472"/>
                </a:moveTo>
                <a:cubicBezTo>
                  <a:pt x="268" y="276"/>
                  <a:pt x="248" y="80"/>
                  <a:pt x="480" y="40"/>
                </a:cubicBezTo>
                <a:cubicBezTo>
                  <a:pt x="712" y="0"/>
                  <a:pt x="1480" y="0"/>
                  <a:pt x="1680" y="232"/>
                </a:cubicBezTo>
                <a:cubicBezTo>
                  <a:pt x="1880" y="464"/>
                  <a:pt x="1920" y="1240"/>
                  <a:pt x="1680" y="1432"/>
                </a:cubicBezTo>
                <a:cubicBezTo>
                  <a:pt x="1440" y="1624"/>
                  <a:pt x="480" y="1528"/>
                  <a:pt x="240" y="1384"/>
                </a:cubicBezTo>
                <a:cubicBezTo>
                  <a:pt x="0" y="1240"/>
                  <a:pt x="120" y="904"/>
                  <a:pt x="240" y="568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4280" y="698400"/>
            <a:ext cx="5067360" cy="2705040"/>
          </a:xfrm>
          <a:custGeom>
            <a:avLst/>
            <a:gdLst/>
            <a:ahLst/>
            <a:rect l="l" t="t" r="r" b="b"/>
            <a:pathLst>
              <a:path w="3192" h="1704">
                <a:moveTo>
                  <a:pt x="2752" y="88"/>
                </a:moveTo>
                <a:cubicBezTo>
                  <a:pt x="2972" y="672"/>
                  <a:pt x="3192" y="1256"/>
                  <a:pt x="2800" y="1480"/>
                </a:cubicBezTo>
                <a:cubicBezTo>
                  <a:pt x="2408" y="1704"/>
                  <a:pt x="800" y="1640"/>
                  <a:pt x="400" y="1432"/>
                </a:cubicBezTo>
                <a:cubicBezTo>
                  <a:pt x="0" y="1224"/>
                  <a:pt x="64" y="464"/>
                  <a:pt x="400" y="232"/>
                </a:cubicBezTo>
                <a:cubicBezTo>
                  <a:pt x="736" y="0"/>
                  <a:pt x="2080" y="72"/>
                  <a:pt x="2416" y="4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546120"/>
            <a:ext cx="6769080" cy="4546440"/>
          </a:xfrm>
          <a:custGeom>
            <a:avLst/>
            <a:gdLst/>
            <a:ahLst/>
            <a:rect l="l" t="t" r="r" b="b"/>
            <a:pathLst>
              <a:path w="4264" h="2864">
                <a:moveTo>
                  <a:pt x="0" y="376"/>
                </a:moveTo>
                <a:cubicBezTo>
                  <a:pt x="1660" y="188"/>
                  <a:pt x="3320" y="0"/>
                  <a:pt x="3792" y="376"/>
                </a:cubicBezTo>
                <a:cubicBezTo>
                  <a:pt x="4264" y="752"/>
                  <a:pt x="3408" y="2400"/>
                  <a:pt x="2832" y="2632"/>
                </a:cubicBezTo>
                <a:cubicBezTo>
                  <a:pt x="2256" y="2864"/>
                  <a:pt x="752" y="1912"/>
                  <a:pt x="336" y="1768"/>
                </a:cubicBezTo>
              </a:path>
            </a:pathLst>
          </a:custGeom>
          <a:noFill/>
          <a:ln w="507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5360" y="6480"/>
            <a:ext cx="3867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LINE OF PROOF - vers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457200"/>
          <a:ext cx="9077400" cy="17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0774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53840" y="2228760"/>
            <a:ext cx="7674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Circuit A is unchanged then the current should be the same FOR ANY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6120" y="2798640"/>
            <a:ext cx="31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84680" y="4495680"/>
            <a:ext cx="3483000" cy="1520640"/>
            <a:chOff x="5584680" y="4495680"/>
            <a:chExt cx="3483000" cy="1520640"/>
          </a:xfrm>
        </p:grpSpPr>
        <p:graphicFrame>
          <p:nvGraphicFramePr>
            <p:cNvPr id="106" name=""/>
            <p:cNvGraphicFramePr/>
            <p:nvPr/>
          </p:nvGraphicFramePr>
          <p:xfrm>
            <a:off x="5584680" y="4495680"/>
            <a:ext cx="3483000" cy="1520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84680" y="4495680"/>
                      <a:ext cx="3483000" cy="15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8" name=""/>
            <p:cNvGrpSpPr/>
            <p:nvPr/>
          </p:nvGrpSpPr>
          <p:grpSpPr>
            <a:xfrm>
              <a:off x="7010280" y="4797360"/>
              <a:ext cx="1676160" cy="838080"/>
              <a:chOff x="7010280" y="4797360"/>
              <a:chExt cx="1676160" cy="838080"/>
            </a:xfrm>
          </p:grpSpPr>
          <p:sp>
            <p:nvSpPr>
              <p:cNvPr id="109" name=""/>
              <p:cNvSpPr/>
              <p:nvPr/>
            </p:nvSpPr>
            <p:spPr>
              <a:xfrm>
                <a:off x="8686440" y="4873680"/>
                <a:ext cx="0" cy="7617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" name=""/>
                  <p:cNvSpPr txBox="1"/>
                  <p:nvPr/>
                </p:nvSpPr>
                <p:spPr>
                  <a:xfrm>
                    <a:off x="7010280" y="4797360"/>
                    <a:ext cx="315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6272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4194000" y="2819520"/>
            <a:ext cx="4775400" cy="1596960"/>
            <a:chOff x="4194000" y="2819520"/>
            <a:chExt cx="4775400" cy="1596960"/>
          </a:xfrm>
        </p:grpSpPr>
        <p:graphicFrame>
          <p:nvGraphicFramePr>
            <p:cNvPr id="113" name=""/>
            <p:cNvGraphicFramePr/>
            <p:nvPr/>
          </p:nvGraphicFramePr>
          <p:xfrm>
            <a:off x="5486400" y="2895480"/>
            <a:ext cx="3483000" cy="152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895480"/>
                      <a:ext cx="3483000" cy="15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94000" y="3276720"/>
              <a:ext cx="18464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ll independ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ources set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zero in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6705720" y="28195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" name=""/>
          <p:cNvGrpSpPr/>
          <p:nvPr/>
        </p:nvGrpSpPr>
        <p:grpSpPr>
          <a:xfrm>
            <a:off x="0" y="3124080"/>
            <a:ext cx="4114800" cy="1521000"/>
            <a:chOff x="0" y="3124080"/>
            <a:chExt cx="4114800" cy="1521000"/>
          </a:xfrm>
        </p:grpSpPr>
        <p:graphicFrame>
          <p:nvGraphicFramePr>
            <p:cNvPr id="118" name=""/>
            <p:cNvGraphicFramePr/>
            <p:nvPr/>
          </p:nvGraphicFramePr>
          <p:xfrm>
            <a:off x="0" y="3124080"/>
            <a:ext cx="3483000" cy="1521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3124080"/>
                      <a:ext cx="3483000" cy="15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3657600" y="3660480"/>
                  <a:ext cx="457200" cy="3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47560" y="4648320"/>
                <a:ext cx="24116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INE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924680" y="43434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959200" y="464832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3520" y="5295960"/>
                <a:ext cx="39369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PECIAL  CASE: OPEN  CIRCUIT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87800" y="5638680"/>
                <a:ext cx="1307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57880" y="5638680"/>
                <a:ext cx="1257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248520"/>
                <a:ext cx="322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79880" y="6292800"/>
            <a:ext cx="398448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OW DO WE INTERPRET THIS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15360" y="6480"/>
            <a:ext cx="3867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LINE OF PROOF - vers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560" y="3794040"/>
            <a:ext cx="767880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Result must hold for “every valid Part B” that we can ima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0520" y="2895480"/>
            <a:ext cx="8742600" cy="833400"/>
            <a:chOff x="20520" y="2895480"/>
            <a:chExt cx="8742600" cy="833400"/>
          </a:xfrm>
        </p:grpSpPr>
        <p:sp>
          <p:nvSpPr>
            <p:cNvPr id="135" name=""/>
            <p:cNvSpPr/>
            <p:nvPr/>
          </p:nvSpPr>
          <p:spPr>
            <a:xfrm>
              <a:off x="20520" y="2895480"/>
              <a:ext cx="8742600" cy="7038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 Because of the linearity of the models, for any Part B the relationshi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etwe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Vo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nd the current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, has to be of the 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>
              <a:alphaModFix amt="50000"/>
            </a:blip>
            <a:stretch/>
          </p:blipFill>
          <p:spPr>
            <a:xfrm>
              <a:off x="6858000" y="3200400"/>
              <a:ext cx="1905120" cy="52848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174960" y="4189320"/>
            <a:ext cx="6149520" cy="446040"/>
            <a:chOff x="174960" y="4189320"/>
            <a:chExt cx="6149520" cy="446040"/>
          </a:xfrm>
        </p:grpSpPr>
        <p:sp>
          <p:nvSpPr>
            <p:cNvPr id="138" name=""/>
            <p:cNvSpPr/>
            <p:nvPr/>
          </p:nvSpPr>
          <p:spPr>
            <a:xfrm>
              <a:off x="174960" y="4189320"/>
              <a:ext cx="52844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. If part B is an open circuit then i=0 and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>
              <a:alphaModFix amt="50000"/>
            </a:blip>
            <a:stretch/>
          </p:blipFill>
          <p:spPr>
            <a:xfrm>
              <a:off x="5410080" y="4189320"/>
              <a:ext cx="914400" cy="44604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sp>
        <p:nvSpPr>
          <p:cNvPr id="140" name=""/>
          <p:cNvSpPr/>
          <p:nvPr/>
        </p:nvSpPr>
        <p:spPr>
          <a:xfrm>
            <a:off x="133920" y="4622760"/>
            <a:ext cx="667764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If Part B is a short circuit then Vo is zero. In thi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2438280" y="6012000"/>
            <a:ext cx="2779920" cy="6174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5540040" y="5877000"/>
            <a:ext cx="324396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interpret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5008680"/>
            <a:ext cx="4800600" cy="934920"/>
            <a:chOff x="1143000" y="5008680"/>
            <a:chExt cx="4800600" cy="934920"/>
          </a:xfrm>
        </p:grpSpPr>
        <p:pic>
          <p:nvPicPr>
            <p:cNvPr id="144" name="" descr=""/>
            <p:cNvPicPr/>
            <p:nvPr/>
          </p:nvPicPr>
          <p:blipFill>
            <a:blip r:embed="rId4">
              <a:alphaModFix amt="50000"/>
            </a:blip>
            <a:stretch/>
          </p:blipFill>
          <p:spPr>
            <a:xfrm>
              <a:off x="1143000" y="5156280"/>
              <a:ext cx="1981080" cy="55872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5">
              <a:alphaModFix amt="50000"/>
            </a:blip>
            <a:stretch/>
          </p:blipFill>
          <p:spPr>
            <a:xfrm>
              <a:off x="3124080" y="5008680"/>
              <a:ext cx="2819520" cy="93492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pic>
        <p:nvPicPr>
          <p:cNvPr id="146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103280" y="3962520"/>
            <a:ext cx="3855240" cy="7038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the Thevenin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rcuit for the circuit in Par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6520" y="3048120"/>
            <a:ext cx="5771880" cy="617400"/>
            <a:chOff x="1676520" y="3048120"/>
            <a:chExt cx="5771880" cy="61740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1676520" y="3048120"/>
                  <a:ext cx="277956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i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4435920" y="3048120"/>
              <a:ext cx="301248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or ANY circuit in Par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31000" y="4800600"/>
            <a:ext cx="4570920" cy="1541880"/>
            <a:chOff x="4131000" y="4800600"/>
            <a:chExt cx="4570920" cy="1541880"/>
          </a:xfrm>
        </p:grpSpPr>
        <p:sp>
          <p:nvSpPr>
            <p:cNvPr id="156" name=""/>
            <p:cNvSpPr/>
            <p:nvPr/>
          </p:nvSpPr>
          <p:spPr>
            <a:xfrm>
              <a:off x="4131000" y="4800600"/>
              <a:ext cx="4077720" cy="703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 voltage source is called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41080" y="5638680"/>
              <a:ext cx="4560840" cy="703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 resistance is called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RESI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887400" y="3886200"/>
            <a:ext cx="3224160" cy="2812680"/>
            <a:chOff x="887400" y="3886200"/>
            <a:chExt cx="3224160" cy="2812680"/>
          </a:xfrm>
        </p:grpSpPr>
        <p:graphicFrame>
          <p:nvGraphicFramePr>
            <p:cNvPr id="159" name=""/>
            <p:cNvGraphicFramePr/>
            <p:nvPr/>
          </p:nvGraphicFramePr>
          <p:xfrm>
            <a:off x="887400" y="3886200"/>
            <a:ext cx="3224160" cy="228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87400" y="3886200"/>
                      <a:ext cx="3224160" cy="2287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1036440" y="6178680"/>
              <a:ext cx="25336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A MUST BEHAVE LI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IS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351440" y="152280"/>
            <a:ext cx="267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VENI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29640" y="236520"/>
            <a:ext cx="28234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Norton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28560" y="3398760"/>
            <a:ext cx="3527640" cy="2537280"/>
            <a:chOff x="628560" y="3398760"/>
            <a:chExt cx="3527640" cy="2537280"/>
          </a:xfrm>
        </p:grpSpPr>
        <p:graphicFrame>
          <p:nvGraphicFramePr>
            <p:cNvPr id="170" name=""/>
            <p:cNvGraphicFramePr/>
            <p:nvPr/>
          </p:nvGraphicFramePr>
          <p:xfrm>
            <a:off x="628560" y="3398760"/>
            <a:ext cx="3527640" cy="251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628560" y="3398760"/>
                      <a:ext cx="3527640" cy="25131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1623600" y="5537160"/>
              <a:ext cx="103572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r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581280" y="228600"/>
                <a:ext cx="320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990720" y="990720"/>
          <a:ext cx="6019560" cy="22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99072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162920" y="228600"/>
                <a:ext cx="96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267080" y="4205160"/>
                <a:ext cx="313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Norton  Equivalent Sourc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267080" y="3429000"/>
                <a:ext cx="2781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ton  Equival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presentation  for  Part  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9:14:28Z</dcterms:created>
  <dc:creator>Jorge L. Aravena</dc:creator>
  <dc:description/>
  <dc:language>en-US</dc:language>
  <cp:lastModifiedBy>Jorge Aravena</cp:lastModifiedBy>
  <dcterms:modified xsi:type="dcterms:W3CDTF">2001-04-23T21:02:18Z</dcterms:modified>
  <cp:revision>31</cp:revision>
  <dc:subject/>
  <dc:title>Thevenin Equivalence</dc:title>
</cp:coreProperties>
</file>