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56.png" ContentType="image/png"/>
  <Override PartName="/ppt/media/image44.wmf" ContentType="image/x-wmf"/>
  <Override PartName="/ppt/media/image59.png" ContentType="image/png"/>
  <Override PartName="/ppt/media/image57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57C-91BF-47AD-B6B7-879C3F7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08A-288D-4B6A-9C55-B336E01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DFC-5663-4C81-BDC3-DB9F9540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593-58D7-4C05-A5BF-D48C3162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180-6FAE-4A69-853A-F9A8751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632-7CC6-4963-BEE7-0D91C2D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D7E-8F9C-45FD-B840-C4CEC38F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D30-A93E-4A97-A061-7FD4453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F5B-F3B2-4992-BEFA-D7E5A98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B55-4971-41A9-A3A4-DAE4A25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50A-7C78-4E2A-A664-B0441166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FEF-B72E-4F43-9DA1-816E09A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015-1F0F-4E92-BBA7-41A888826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398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09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12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15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18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21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24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36" name="stop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aux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geaux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1-04-23T20:16:23Z</dcterms:modified>
  <cp:revision>23</cp:revision>
  <dc:subject/>
  <dc:title>No Slide Title</dc:title>
</cp:coreProperties>
</file>