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71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25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6.png" ContentType="image/png"/>
  <Override PartName="/ppt/media/image86.wmf" ContentType="image/x-wmf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74.png" ContentType="image/png"/>
  <Override PartName="/ppt/media/image94.wmf" ContentType="image/x-wmf"/>
  <Override PartName="/ppt/media/image79.png" ContentType="image/png"/>
  <Override PartName="/ppt/media/image89.png" ContentType="image/png"/>
  <Override PartName="/ppt/media/image27.wmf" ContentType="image/x-wmf"/>
  <Override PartName="/ppt/media/image92.wmf" ContentType="image/x-wmf"/>
  <Override PartName="/ppt/media/image73.wmf" ContentType="image/x-wmf"/>
  <Override PartName="/ppt/media/image33.png" ContentType="image/png"/>
  <Override PartName="/ppt/media/image90.png" ContentType="image/png"/>
  <Override PartName="/ppt/media/image88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26.wmf" ContentType="image/x-wmf"/>
  <Override PartName="/ppt/media/image91.wmf" ContentType="image/x-wmf"/>
  <Override PartName="/ppt/media/image69.png" ContentType="image/png"/>
  <Override PartName="/ppt/media/image32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B9C-91A3-4A41-8CA4-5132325D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4CB-7A1C-46BB-B1C0-C36C109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C9B-344A-4064-82DB-9B6E1F22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75E-0137-431B-AFD9-F1EB6EA8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FCB-EA3C-4A8D-94A1-8D7E7769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2B0-58A8-42E6-9F2B-D1971ADB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DB1-5E0B-4D28-8D4D-0B49B42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E27-4324-4311-B02D-DC40496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AE5-2B64-4C9F-A2C2-B592F867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91A-16B7-43B5-9538-D428AD40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CF1-8302-4323-A3BE-435E2331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546-32A1-4FC9-8891-82477FE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F4D4-0A3C-4FF2-93BE-5A3CF89E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07.006A_W0734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F07.006B_W0734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07.006C_W0734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07.006D_W0734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7.007A_W0735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F07.007B_W073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07.007C_W0735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F07.007D_W0735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F07.008B_W0736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07.008A_W0736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F07.008C_W0736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F07.008D_W0736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F07.009_W0737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F07.010_W0738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07.002_W0730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F07.001B_W0729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F07.001A_W0729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E07.008_W0739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D07.002_W0740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D07.003_W0741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F07.011_W0742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E07.009_W0743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F07.012A_W074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F07.012B_W0744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E07.010_W074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F07.013_W0746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F07.014B_W0747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F07.014C_W0747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F07.014D_W0747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F07.014A_W0747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F07.015B_W0749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07.015C_W0749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F07.015D_W0749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D07.004_W074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F07.016B_W0751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E07.012_W0752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7.003C_W0731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F07.003B_W0731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F07.003A_W0731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E07.013_W0761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E07.014_W0762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34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6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47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51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5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56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61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7p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277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282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287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F07.026_W076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07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07.004_W073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F07.005_W0733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eaux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student</cp:lastModifiedBy>
  <dcterms:modified xsi:type="dcterms:W3CDTF">2001-06-14T16:40:01Z</dcterms:modified>
  <cp:revision>33</cp:revision>
  <dc:subject/>
  <dc:title>No Slide Title</dc:title>
</cp:coreProperties>
</file>