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54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40.png" ContentType="image/png"/>
  <Override PartName="/ppt/media/image4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09A-ECB9-474D-A23E-8C0E761A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AD3-2D6E-40FD-B48A-22321C24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6C6-D0F5-424A-9797-445D69E9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6DA-E70E-4F7C-89D0-FB93FCBB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FF2-6ADF-4563-8523-C75D0AC5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4F6-BFF5-47A2-B916-C40AE012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994-55F0-45BD-B278-30BEDD61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A92-B8DE-45C0-ADF4-76F19E95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AFB-8FD3-4D8D-9C9A-FC8BC442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79A-3BCC-40EF-A8EB-79C5C69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090-2109-4DB6-B7DF-8CF6D3A8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0CE-CFB7-4835-B5CA-EB43BFF5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AFF1-4EA7-4976-8978-0BFDE2473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1.jpeg"/><Relationship Id="rId3" Type="http://schemas.openxmlformats.org/officeDocument/2006/relationships/image" Target="../media/image4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4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image" Target="../media/image6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9.006_W0969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873600" y="4648320"/>
                <a:ext cx="509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E09.005_W097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E09.006_W097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F09.009_W0975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F09.010_W0976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09.007_W0977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352680" y="2496960"/>
                <a:ext cx="2730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09.001_W0961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F09.002_W0962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E09.008_W0978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E09.009_W0979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09.011_W0980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LossesVsPowerFactor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F09.012_W0981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39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6" name="F09.014_W0983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0" y="4764240"/>
                <a:ext cx="5410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53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8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9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60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5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F09.015_W09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691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6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698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0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5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3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34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6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38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43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7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49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54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6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8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9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F09.017_W0986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64" name="LossesVsPowerFactor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768" name="F09.016_W0985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F09.003_W0963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F09.018_W0986a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809880" cy="9288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438280" y="1892160"/>
                <a:ext cx="215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76720" y="185724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85" name=""/>
          <p:cNvGrpSpPr/>
          <p:nvPr/>
        </p:nvGrpSpPr>
        <p:grpSpPr>
          <a:xfrm>
            <a:off x="76320" y="2590920"/>
            <a:ext cx="3581280" cy="290520"/>
            <a:chOff x="76320" y="259092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155600" y="259092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82440" y="289548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36720" y="297180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95400" y="3581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495680" y="365760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3960" y="441972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280" y="4876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19520" y="495288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15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9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24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28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0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34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847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8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1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855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F09.021B_W0989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6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F09.022_W0990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876" name="F09.023_W0991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F09.024_W0992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9.026_W0994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898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4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05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F09.025_W0993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2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33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952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959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F09.004_W0964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F09.030A_W0998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F09.030B_W0998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972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986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989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1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F09.032_W1000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03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5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06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F09.033A_W100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21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3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24" name="F09.033B_W1001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27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8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0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31" name="F09.033D_W1001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4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35" name="F09.033C_W1001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F09.034A_W1002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F09.034B_W1002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067" name="stop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09.001_W096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E09.002_W0965a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F09.005_W096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07080" y="3581280"/>
                <a:ext cx="3886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8680" y="4173480"/>
                <a:ext cx="1143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E09.003_W0967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E09.004_W0968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student</cp:lastModifiedBy>
  <dcterms:modified xsi:type="dcterms:W3CDTF">2001-09-20T15:10:08Z</dcterms:modified>
  <cp:revision>17</cp:revision>
  <dc:subject/>
  <dc:title>No Slide Title</dc:title>
</cp:coreProperties>
</file>