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2.png" ContentType="image/png"/>
  <Override PartName="/ppt/media/image95.jpeg" ContentType="image/jpe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98.wmf" ContentType="image/x-wmf"/>
  <Override PartName="/ppt/media/image42.wmf" ContentType="image/x-wmf"/>
  <Override PartName="/ppt/media/image8.png" ContentType="image/png"/>
  <Override PartName="/ppt/media/image85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70.wmf" ContentType="image/x-wmf"/>
  <Override PartName="/ppt/media/image11.png" ContentType="image/png"/>
  <Override PartName="/ppt/media/image36.png" ContentType="image/png"/>
  <Override PartName="/ppt/media/image6.png" ContentType="image/png"/>
  <Override PartName="/ppt/media/image83.png" ContentType="image/png"/>
  <Override PartName="/ppt/media/image29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23.png" ContentType="image/png"/>
  <Override PartName="/ppt/media/image60.png" ContentType="image/png"/>
  <Override PartName="/ppt/media/image16.jpeg" ContentType="image/jpeg"/>
  <Override PartName="/ppt/media/image74.png" ContentType="image/png"/>
  <Override PartName="/ppt/media/image61.jpeg" ContentType="image/jpeg"/>
  <Override PartName="/ppt/media/image77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wmf" ContentType="image/x-wmf"/>
  <Override PartName="/ppt/media/image71.png" ContentType="image/png"/>
  <Override PartName="/ppt/media/image72.png" ContentType="image/png"/>
  <Override PartName="/ppt/media/image73.png" ContentType="image/png"/>
  <Override PartName="/ppt/media/image75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87.png" ContentType="image/png"/>
  <Override PartName="/ppt/media/image94.jpeg" ContentType="image/jpeg"/>
  <Override PartName="/ppt/media/image88.png" ContentType="image/png"/>
  <Override PartName="/ppt/media/image76.png" ContentType="image/png"/>
  <Override PartName="/ppt/media/image62.png" ContentType="image/png"/>
  <Override PartName="/ppt/media/image102.wmf" ContentType="image/x-wmf"/>
  <Override PartName="/ppt/media/image82.wmf" ContentType="image/x-wmf"/>
  <Override PartName="/ppt/media/image79.png" ContentType="image/png"/>
  <Override PartName="/ppt/media/image101.png" ContentType="image/png"/>
  <Override PartName="/ppt/media/image78.png" ContentType="image/png"/>
  <Override PartName="/ppt/media/image22.png" ContentType="image/png"/>
  <Override PartName="/ppt/media/image59.png" ContentType="image/png"/>
  <Override PartName="/ppt/media/image31.png" ContentType="image/png"/>
  <Override PartName="/ppt/media/image99.wmf" ContentType="image/x-wmf"/>
  <Override PartName="/ppt/media/image21.png" ContentType="image/png"/>
  <Override PartName="/ppt/media/image58.png" ContentType="image/png"/>
  <Override PartName="/ppt/media/image18.jpeg" ContentType="image/jpeg"/>
  <Override PartName="/ppt/media/image97.wmf" ContentType="image/x-wmf"/>
  <Override PartName="/ppt/media/image24.png" ContentType="image/png"/>
  <Override PartName="/ppt/media/image90.png" ContentType="image/png"/>
  <Override PartName="/ppt/media/image25.png" ContentType="image/png"/>
  <Override PartName="/ppt/media/image14.png" ContentType="image/png"/>
  <Override PartName="/ppt/media/image2.png" ContentType="image/png"/>
  <Override PartName="/ppt/media/image93.jpeg" ContentType="image/jpeg"/>
  <Override PartName="/ppt/media/image32.png" ContentType="image/png"/>
  <Override PartName="/ppt/media/image91.png" ContentType="image/png"/>
  <Override PartName="/ppt/media/image26.png" ContentType="image/png"/>
  <Override PartName="/ppt/media/image17.jpeg" ContentType="image/jpe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2E4F-66ED-453A-B702-D7336E12B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DC79-D9BF-4532-8599-25E10547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7BB8-BC83-4DE5-B5D6-CD3C85D20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EA87-4103-440A-995D-D97D158A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CEA7-CDA4-403E-903F-82532956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1DD2-DB59-4FD2-B585-E455B521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7E32-53D0-4703-9C70-83A73D04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058B-2D66-46A0-9E2C-160BAE12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9C88-B6AF-4257-9367-44D484FB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0088-9BB3-4877-B577-1C0157DF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7415-2CE9-4FF2-B6B6-F441C335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3B54-5CE1-4B45-B2F7-C59EFA07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725A-DE83-4FAD-BF0B-41093C8C8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jpeg"/><Relationship Id="rId3" Type="http://schemas.openxmlformats.org/officeDocument/2006/relationships/image" Target="../media/image20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42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2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image" Target="../media/image65.png"/><Relationship Id="rId5" Type="http://schemas.openxmlformats.org/officeDocument/2006/relationships/image" Target="../media/image66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0.wmf"/><Relationship Id="rId7" Type="http://schemas.openxmlformats.org/officeDocument/2006/relationships/image" Target="../media/image71.png"/><Relationship Id="rId8" Type="http://schemas.openxmlformats.org/officeDocument/2006/relationships/image" Target="../media/image72.png"/><Relationship Id="rId9" Type="http://schemas.openxmlformats.org/officeDocument/2006/relationships/image" Target="../media/image73.png"/><Relationship Id="rId10" Type="http://schemas.openxmlformats.org/officeDocument/2006/relationships/image" Target="../media/image74.png"/><Relationship Id="rId11" Type="http://schemas.openxmlformats.org/officeDocument/2006/relationships/image" Target="../media/image75.png"/><Relationship Id="rId12" Type="http://schemas.openxmlformats.org/officeDocument/2006/relationships/image" Target="../media/image76.png"/><Relationship Id="rId13" Type="http://schemas.openxmlformats.org/officeDocument/2006/relationships/image" Target="../media/image77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6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9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0.wmf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2.wmf"/><Relationship Id="rId5" Type="http://schemas.openxmlformats.org/officeDocument/2006/relationships/image" Target="../media/image83.png"/><Relationship Id="rId6" Type="http://schemas.openxmlformats.org/officeDocument/2006/relationships/image" Target="../media/image84.png"/><Relationship Id="rId7" Type="http://schemas.openxmlformats.org/officeDocument/2006/relationships/image" Target="../media/image85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image" Target="../media/image95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9.wmf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02.wmf"/><Relationship Id="rId12" Type="http://schemas.openxmlformats.org/officeDocument/2006/relationships/image" Target="../media/image103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38720" y="76320"/>
            <a:ext cx="5918760" cy="52056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FOURIER ANALYSIS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1880" y="2603520"/>
            <a:ext cx="8157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series permit the extension of steady state analysis to general period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9480" y="2178000"/>
            <a:ext cx="1782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320" y="1125360"/>
            <a:ext cx="1963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4960" y="3473280"/>
            <a:ext cx="2386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040" y="3886200"/>
            <a:ext cx="7835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transform allows us  to extend the concepts of frequency domain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bitrary  non-periodic in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5013360"/>
            <a:ext cx="3733920" cy="1587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657600" y="1905120"/>
                <a:ext cx="37083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657600" y="685800"/>
                <a:ext cx="336564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514600" y="1371600"/>
                <a:ext cx="800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130320" y="228600"/>
            <a:ext cx="667008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IGONOMETRIC SERIES FOR FUNCTIONS WITH EVEN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0" y="609480"/>
                <a:ext cx="243828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138960" y="4395960"/>
            <a:ext cx="660888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IGONOMETRIC SERIES FOR FUNCTIONS WITH ODD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235560" y="1447920"/>
                <a:ext cx="2908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8" name=""/>
          <p:cNvGrpSpPr/>
          <p:nvPr/>
        </p:nvGrpSpPr>
        <p:grpSpPr>
          <a:xfrm>
            <a:off x="3505320" y="4724280"/>
            <a:ext cx="5638680" cy="2005200"/>
            <a:chOff x="3505320" y="4724280"/>
            <a:chExt cx="5638680" cy="2005200"/>
          </a:xfrm>
        </p:grpSpPr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3505320" y="4724280"/>
                  <a:ext cx="3746520" cy="105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  <m:sup>
                          <m:f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n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0,1</m:t>
                      </m:r>
                      <m:r>
                        <m:t xml:space="preserve">,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3505320" y="5867280"/>
                  <a:ext cx="3327120" cy="86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f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n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1,2</m:t>
                      </m:r>
                      <m:r>
                        <m:t xml:space="preserve">,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1" name=""/>
                <p:cNvSpPr txBox="1"/>
                <p:nvPr/>
              </p:nvSpPr>
              <p:spPr>
                <a:xfrm>
                  <a:off x="6718320" y="5486400"/>
                  <a:ext cx="24256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sSubSup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−</m:t>
                              </m:r>
                              <m:r>
                                <m:t xml:space="preserve">n</m:t>
                              </m:r>
                            </m:sub>
                            <m:sup/>
                          </m:sSubSup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j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1,2</m:t>
                          </m:r>
                          <m:r>
                            <m:t xml:space="preserve">,</m:t>
                          </m:r>
                          <m:r>
                            <m:t xml:space="preserve">…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2" name=""/>
          <p:cNvGrpSpPr/>
          <p:nvPr/>
        </p:nvGrpSpPr>
        <p:grpSpPr>
          <a:xfrm>
            <a:off x="47520" y="2971800"/>
            <a:ext cx="8537760" cy="1333440"/>
            <a:chOff x="47520" y="2971800"/>
            <a:chExt cx="8537760" cy="1333440"/>
          </a:xfrm>
        </p:grpSpPr>
        <p:pic>
          <p:nvPicPr>
            <p:cNvPr id="253" name="" descr=""/>
            <p:cNvPicPr/>
            <p:nvPr/>
          </p:nvPicPr>
          <p:blipFill>
            <a:blip r:embed="rId2"/>
            <a:stretch/>
          </p:blipFill>
          <p:spPr>
            <a:xfrm>
              <a:off x="47520" y="2971800"/>
              <a:ext cx="4295880" cy="13334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4419720" y="3429000"/>
                  <a:ext cx="26794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nπ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πn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t xml:space="preserve">πn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5" name=""/>
                <p:cNvSpPr txBox="1"/>
                <p:nvPr/>
              </p:nvSpPr>
              <p:spPr>
                <a:xfrm>
                  <a:off x="7162920" y="3581280"/>
                  <a:ext cx="1422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1,2</m:t>
                      </m:r>
                      <m:r>
                        <m:t xml:space="preserve">,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4419720" y="3048120"/>
                  <a:ext cx="596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7238880" y="533520"/>
                <a:ext cx="151128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3440" y="76320"/>
            <a:ext cx="43596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UNCTIONS WITH HALF-WAVE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276720" y="457200"/>
                <a:ext cx="2082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3876840" cy="1647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360800" y="3168720"/>
            <a:ext cx="62128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ach half cycle is an inverted copy of the adjacent half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3943440" cy="17049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059920" y="2801880"/>
            <a:ext cx="4803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ples of signals with half-wave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066680" y="2133720"/>
            <a:ext cx="5486400" cy="380880"/>
            <a:chOff x="1066680" y="2133720"/>
            <a:chExt cx="5486400" cy="380880"/>
          </a:xfrm>
        </p:grpSpPr>
        <p:sp>
          <p:nvSpPr>
            <p:cNvPr id="268" name=""/>
            <p:cNvSpPr/>
            <p:nvPr/>
          </p:nvSpPr>
          <p:spPr>
            <a:xfrm>
              <a:off x="1066680" y="2133720"/>
              <a:ext cx="838440" cy="38088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lnTo>
                    <a:pt x="528" y="0"/>
                  </a:lnTo>
                  <a:lnTo>
                    <a:pt x="288" y="2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95880" y="2133720"/>
              <a:ext cx="457200" cy="2286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28600" y="3733920"/>
                <a:ext cx="3784680" cy="24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          for n even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for n odd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for n od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4282200" y="3716280"/>
            <a:ext cx="47070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re is further simplification if the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also odd  or even symme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3828960" cy="26096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585520" y="76320"/>
            <a:ext cx="5149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rigonometric Fourier series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17200" y="533520"/>
            <a:ext cx="52099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s an even function with half-wave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4800600" y="1066680"/>
                <a:ext cx="2362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en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0" y="2971800"/>
                <a:ext cx="617364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alf-wave symmetry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for n od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n eve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0" y="4267080"/>
                <a:ext cx="72532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  <m:e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  <m:e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0" y="5410080"/>
                <a:ext cx="5538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6629400" y="3352680"/>
                <a:ext cx="19940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85520" y="76320"/>
            <a:ext cx="5149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rigonometric Fourier series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4190760" cy="1781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677760" y="457200"/>
            <a:ext cx="5101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s an odd function with half-wave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029200" y="91440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dd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177840" y="2133720"/>
                <a:ext cx="612288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alf-wave symmetry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for n od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n od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0" y="3429000"/>
                <a:ext cx="65548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t xml:space="preserve">V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[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]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t xml:space="preserve">V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[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]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6622560" y="3352680"/>
            <a:ext cx="248184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change of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show that the tw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tegrals have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me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0" y="4495680"/>
                <a:ext cx="320040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t xml:space="preserve">V</m:t>
                        </m:r>
                      </m:num>
                      <m:den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6121440" y="4495680"/>
                <a:ext cx="29462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-19080" y="5327640"/>
                <a:ext cx="48513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V</m:t>
                        </m:r>
                      </m:num>
                      <m:den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]</m:t>
                                </m:r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114800" y="4648320"/>
                <a:ext cx="9018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029200" y="5486400"/>
                <a:ext cx="2984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3038760" cy="22287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85520" y="76320"/>
            <a:ext cx="5149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rigonometric Fourier series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52280" y="762120"/>
            <a:ext cx="7391520" cy="544320"/>
            <a:chOff x="152280" y="762120"/>
            <a:chExt cx="7391520" cy="544320"/>
          </a:xfrm>
        </p:grpSpPr>
        <p:sp>
          <p:nvSpPr>
            <p:cNvPr id="307" name=""/>
            <p:cNvSpPr/>
            <p:nvPr/>
          </p:nvSpPr>
          <p:spPr>
            <a:xfrm>
              <a:off x="152280" y="1295280"/>
              <a:ext cx="3962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8" name=""/>
                <p:cNvSpPr txBox="1"/>
                <p:nvPr/>
              </p:nvSpPr>
              <p:spPr>
                <a:xfrm>
                  <a:off x="3429000" y="762120"/>
                  <a:ext cx="411480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 is odd with half-wave symmetry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0" y="2590920"/>
            <a:ext cx="3943440" cy="1704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021120" y="1828800"/>
                <a:ext cx="612288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alf-wave symmetry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for n od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n od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228600" y="3962520"/>
                <a:ext cx="624996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]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228600" y="4876920"/>
                <a:ext cx="4406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π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048120" y="5562720"/>
                <a:ext cx="36320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495680" y="144792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dd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1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4295880" cy="13334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4572000" y="1362240"/>
            <a:ext cx="4048200" cy="16858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79280" y="135000"/>
            <a:ext cx="4920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ype of symmetry of the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23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4295880" cy="13338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03320" y="58680"/>
            <a:ext cx="5664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igonometric Fourier series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4267080" y="433440"/>
            <a:ext cx="4203720" cy="1724040"/>
            <a:chOff x="4267080" y="433440"/>
            <a:chExt cx="4203720" cy="1724040"/>
          </a:xfrm>
        </p:grpSpPr>
        <mc:AlternateContent>
          <mc:Choice xmlns:a14="http://schemas.microsoft.com/office/drawing/2010/main" Requires="a14">
            <p:sp>
              <p:nvSpPr>
                <p:cNvPr id="329" name=""/>
                <p:cNvSpPr txBox="1"/>
                <p:nvPr/>
              </p:nvSpPr>
              <p:spPr>
                <a:xfrm>
                  <a:off x="4267080" y="609480"/>
                  <a:ext cx="2260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even function 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5105520" y="1295280"/>
                  <a:ext cx="3365280" cy="86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f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n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1,2</m:t>
                      </m:r>
                      <m:r>
                        <m:t xml:space="preserve">,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1" name=""/>
                <p:cNvSpPr txBox="1"/>
                <p:nvPr/>
              </p:nvSpPr>
              <p:spPr>
                <a:xfrm>
                  <a:off x="6781680" y="433440"/>
                  <a:ext cx="1511280" cy="86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f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2" name=""/>
          <p:cNvGrpSpPr/>
          <p:nvPr/>
        </p:nvGrpSpPr>
        <p:grpSpPr>
          <a:xfrm>
            <a:off x="838080" y="2057400"/>
            <a:ext cx="1676520" cy="290520"/>
            <a:chOff x="838080" y="2057400"/>
            <a:chExt cx="1676520" cy="290520"/>
          </a:xfrm>
        </p:grpSpPr>
        <p:sp>
          <p:nvSpPr>
            <p:cNvPr id="333" name=""/>
            <p:cNvSpPr/>
            <p:nvPr/>
          </p:nvSpPr>
          <p:spPr>
            <a:xfrm>
              <a:off x="838080" y="2057400"/>
              <a:ext cx="1676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4" name=""/>
                <p:cNvSpPr txBox="1"/>
                <p:nvPr/>
              </p:nvSpPr>
              <p:spPr>
                <a:xfrm>
                  <a:off x="1371600" y="2057400"/>
                  <a:ext cx="58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52280" y="2438280"/>
                <a:ext cx="17146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52280" y="3048120"/>
                <a:ext cx="35560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4</m:t>
                            </m:r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2819520" y="1981080"/>
                <a:ext cx="6858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4419720" y="3124080"/>
                <a:ext cx="2666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nπ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4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803320" y="58680"/>
            <a:ext cx="5664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igonometric Fourier series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42920" y="609480"/>
            <a:ext cx="4048200" cy="1685880"/>
          </a:xfrm>
          <a:prstGeom prst="rect">
            <a:avLst/>
          </a:prstGeom>
          <a:ln w="0">
            <a:noFill/>
          </a:ln>
        </p:spPr>
      </p:pic>
      <p:grpSp>
        <p:nvGrpSpPr>
          <p:cNvPr id="345" name=""/>
          <p:cNvGrpSpPr/>
          <p:nvPr/>
        </p:nvGrpSpPr>
        <p:grpSpPr>
          <a:xfrm>
            <a:off x="5130720" y="515880"/>
            <a:ext cx="3784680" cy="2874960"/>
            <a:chOff x="5130720" y="515880"/>
            <a:chExt cx="3784680" cy="2874960"/>
          </a:xfrm>
        </p:grpSpPr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5130720" y="914400"/>
                  <a:ext cx="3784680" cy="247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     for n even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4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den>
                          </m:f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f>
                                <m:num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p>
                            <m:e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n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       for n odd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4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den>
                          </m:f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f>
                                <m:num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p>
                            <m:e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n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      for n odd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47" name=""/>
            <p:cNvSpPr/>
            <p:nvPr/>
          </p:nvSpPr>
          <p:spPr>
            <a:xfrm>
              <a:off x="5207040" y="515880"/>
              <a:ext cx="228096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alf-wave symme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066680" y="2286000"/>
            <a:ext cx="2210040" cy="544680"/>
            <a:chOff x="1066680" y="2286000"/>
            <a:chExt cx="2210040" cy="544680"/>
          </a:xfrm>
        </p:grpSpPr>
        <p:sp>
          <p:nvSpPr>
            <p:cNvPr id="349" name=""/>
            <p:cNvSpPr/>
            <p:nvPr/>
          </p:nvSpPr>
          <p:spPr>
            <a:xfrm>
              <a:off x="1066680" y="2362320"/>
              <a:ext cx="12956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0" name=""/>
                <p:cNvSpPr txBox="1"/>
                <p:nvPr/>
              </p:nvSpPr>
              <p:spPr>
                <a:xfrm>
                  <a:off x="1371600" y="2362320"/>
                  <a:ext cx="58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1" name=""/>
                <p:cNvSpPr txBox="1"/>
                <p:nvPr/>
              </p:nvSpPr>
              <p:spPr>
                <a:xfrm>
                  <a:off x="2590920" y="2286000"/>
                  <a:ext cx="68580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80880" y="3581280"/>
                <a:ext cx="39625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 n od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80880" y="4419720"/>
                <a:ext cx="38862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 n od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4876920" y="3657600"/>
                <a:ext cx="2768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4800600" y="4419720"/>
                <a:ext cx="3213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π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50120" y="76320"/>
            <a:ext cx="38383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Series Via PSPICE S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0240" y="515880"/>
            <a:ext cx="395424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Create a suitable PSPICE schema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Create the waveform of inter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Set up simulat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View the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0" y="1811160"/>
            <a:ext cx="4089240" cy="4589640"/>
            <a:chOff x="0" y="1811160"/>
            <a:chExt cx="4089240" cy="4589640"/>
          </a:xfrm>
        </p:grpSpPr>
        <p:pic>
          <p:nvPicPr>
            <p:cNvPr id="362" name="" descr=""/>
            <p:cNvPicPr/>
            <p:nvPr/>
          </p:nvPicPr>
          <p:blipFill>
            <a:blip r:embed="rId1"/>
            <a:stretch/>
          </p:blipFill>
          <p:spPr>
            <a:xfrm>
              <a:off x="0" y="2743200"/>
              <a:ext cx="408924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91800" y="18111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960" y="2209680"/>
              <a:ext cx="38552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termine the Fourier Series of thi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ave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357440" y="0"/>
            <a:ext cx="4405680" cy="2664000"/>
            <a:chOff x="4357440" y="0"/>
            <a:chExt cx="4405680" cy="2664000"/>
          </a:xfrm>
        </p:grpSpPr>
        <p:pic>
          <p:nvPicPr>
            <p:cNvPr id="366" name="" descr=""/>
            <p:cNvPicPr/>
            <p:nvPr/>
          </p:nvPicPr>
          <p:blipFill>
            <a:blip r:embed="rId2"/>
            <a:stretch/>
          </p:blipFill>
          <p:spPr>
            <a:xfrm>
              <a:off x="4419720" y="0"/>
              <a:ext cx="434340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4357440" y="76320"/>
              <a:ext cx="2183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1. PSPICE schema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4267080" y="457200"/>
            <a:ext cx="4309560" cy="2104560"/>
            <a:chOff x="4267080" y="457200"/>
            <a:chExt cx="4309560" cy="2104560"/>
          </a:xfrm>
        </p:grpSpPr>
        <p:sp>
          <p:nvSpPr>
            <p:cNvPr id="369" name=""/>
            <p:cNvSpPr/>
            <p:nvPr/>
          </p:nvSpPr>
          <p:spPr>
            <a:xfrm>
              <a:off x="4267080" y="457200"/>
              <a:ext cx="3078360" cy="1752480"/>
            </a:xfrm>
            <a:custGeom>
              <a:avLst/>
              <a:gdLst/>
              <a:ahLst/>
              <a:rect l="l" t="t" r="r" b="b"/>
              <a:pathLst>
                <a:path w="1939" h="1257">
                  <a:moveTo>
                    <a:pt x="1828" y="414"/>
                  </a:moveTo>
                  <a:cubicBezTo>
                    <a:pt x="1801" y="365"/>
                    <a:pt x="1782" y="312"/>
                    <a:pt x="1747" y="268"/>
                  </a:cubicBezTo>
                  <a:cubicBezTo>
                    <a:pt x="1736" y="255"/>
                    <a:pt x="1711" y="264"/>
                    <a:pt x="1699" y="252"/>
                  </a:cubicBezTo>
                  <a:cubicBezTo>
                    <a:pt x="1687" y="240"/>
                    <a:pt x="1692" y="217"/>
                    <a:pt x="1682" y="203"/>
                  </a:cubicBezTo>
                  <a:lnTo>
                    <a:pt x="1609" y="130"/>
                  </a:lnTo>
                  <a:cubicBezTo>
                    <a:pt x="1609" y="130"/>
                    <a:pt x="1609" y="130"/>
                    <a:pt x="1609" y="130"/>
                  </a:cubicBezTo>
                  <a:cubicBezTo>
                    <a:pt x="1529" y="70"/>
                    <a:pt x="1398" y="48"/>
                    <a:pt x="1301" y="33"/>
                  </a:cubicBezTo>
                  <a:cubicBezTo>
                    <a:pt x="1258" y="26"/>
                    <a:pt x="1215" y="19"/>
                    <a:pt x="1171" y="16"/>
                  </a:cubicBezTo>
                  <a:cubicBezTo>
                    <a:pt x="1074" y="8"/>
                    <a:pt x="880" y="0"/>
                    <a:pt x="880" y="0"/>
                  </a:cubicBezTo>
                  <a:cubicBezTo>
                    <a:pt x="682" y="5"/>
                    <a:pt x="578" y="5"/>
                    <a:pt x="401" y="41"/>
                  </a:cubicBezTo>
                  <a:cubicBezTo>
                    <a:pt x="221" y="175"/>
                    <a:pt x="304" y="145"/>
                    <a:pt x="174" y="179"/>
                  </a:cubicBezTo>
                  <a:cubicBezTo>
                    <a:pt x="114" y="238"/>
                    <a:pt x="121" y="264"/>
                    <a:pt x="61" y="324"/>
                  </a:cubicBezTo>
                  <a:cubicBezTo>
                    <a:pt x="43" y="375"/>
                    <a:pt x="25" y="417"/>
                    <a:pt x="12" y="470"/>
                  </a:cubicBezTo>
                  <a:cubicBezTo>
                    <a:pt x="9" y="540"/>
                    <a:pt x="4" y="611"/>
                    <a:pt x="4" y="681"/>
                  </a:cubicBezTo>
                  <a:cubicBezTo>
                    <a:pt x="4" y="813"/>
                    <a:pt x="0" y="1021"/>
                    <a:pt x="150" y="1070"/>
                  </a:cubicBezTo>
                  <a:cubicBezTo>
                    <a:pt x="316" y="1246"/>
                    <a:pt x="511" y="1245"/>
                    <a:pt x="734" y="1257"/>
                  </a:cubicBezTo>
                  <a:cubicBezTo>
                    <a:pt x="1017" y="1250"/>
                    <a:pt x="1273" y="1254"/>
                    <a:pt x="1545" y="1224"/>
                  </a:cubicBezTo>
                  <a:cubicBezTo>
                    <a:pt x="1582" y="1212"/>
                    <a:pt x="1622" y="1208"/>
                    <a:pt x="1658" y="1192"/>
                  </a:cubicBezTo>
                  <a:cubicBezTo>
                    <a:pt x="1733" y="1159"/>
                    <a:pt x="1796" y="1103"/>
                    <a:pt x="1853" y="1046"/>
                  </a:cubicBezTo>
                  <a:cubicBezTo>
                    <a:pt x="1893" y="946"/>
                    <a:pt x="1909" y="844"/>
                    <a:pt x="1926" y="738"/>
                  </a:cubicBezTo>
                  <a:cubicBezTo>
                    <a:pt x="1926" y="726"/>
                    <a:pt x="1939" y="525"/>
                    <a:pt x="1893" y="470"/>
                  </a:cubicBezTo>
                  <a:cubicBezTo>
                    <a:pt x="1807" y="368"/>
                    <a:pt x="1851" y="484"/>
                    <a:pt x="1828" y="414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41960" y="1981080"/>
              <a:ext cx="4234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PWL_FILE  in PSPICE libr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iecewise linear periodic voltage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4191120" y="2743200"/>
            <a:ext cx="5119560" cy="4278240"/>
          </a:xfrm>
          <a:prstGeom prst="rect">
            <a:avLst/>
          </a:prstGeom>
          <a:ln w="0">
            <a:noFill/>
          </a:ln>
        </p:spPr>
      </p:pic>
      <p:grpSp>
        <p:nvGrpSpPr>
          <p:cNvPr id="372" name=""/>
          <p:cNvGrpSpPr/>
          <p:nvPr/>
        </p:nvGrpSpPr>
        <p:grpSpPr>
          <a:xfrm>
            <a:off x="4437000" y="4684680"/>
            <a:ext cx="4803480" cy="376920"/>
            <a:chOff x="4437000" y="4684680"/>
            <a:chExt cx="4803480" cy="376920"/>
          </a:xfrm>
        </p:grpSpPr>
        <p:sp>
          <p:nvSpPr>
            <p:cNvPr id="373" name=""/>
            <p:cNvSpPr/>
            <p:nvPr/>
          </p:nvSpPr>
          <p:spPr>
            <a:xfrm>
              <a:off x="6539040" y="4724280"/>
              <a:ext cx="27014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le specifying wave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437000" y="4684680"/>
              <a:ext cx="2462400" cy="254160"/>
            </a:xfrm>
            <a:custGeom>
              <a:avLst/>
              <a:gdLst/>
              <a:ahLst/>
              <a:rect l="l" t="t" r="r" b="b"/>
              <a:pathLst>
                <a:path w="1551" h="160">
                  <a:moveTo>
                    <a:pt x="35" y="0"/>
                  </a:moveTo>
                  <a:cubicBezTo>
                    <a:pt x="0" y="53"/>
                    <a:pt x="32" y="52"/>
                    <a:pt x="84" y="81"/>
                  </a:cubicBezTo>
                  <a:cubicBezTo>
                    <a:pt x="109" y="160"/>
                    <a:pt x="80" y="25"/>
                    <a:pt x="76" y="8"/>
                  </a:cubicBezTo>
                  <a:cubicBezTo>
                    <a:pt x="582" y="3"/>
                    <a:pt x="1053" y="24"/>
                    <a:pt x="1551" y="2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5" name="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7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30040" y="135000"/>
            <a:ext cx="40183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ext file defining corners of piecew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ar wave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2647800" cy="325728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76320" y="3505320"/>
            <a:ext cx="4495680" cy="3429000"/>
          </a:xfrm>
          <a:prstGeom prst="rect">
            <a:avLst/>
          </a:prstGeom>
          <a:ln w="0">
            <a:noFill/>
          </a:ln>
        </p:spPr>
      </p:pic>
      <p:grpSp>
        <p:nvGrpSpPr>
          <p:cNvPr id="381" name=""/>
          <p:cNvGrpSpPr/>
          <p:nvPr/>
        </p:nvGrpSpPr>
        <p:grpSpPr>
          <a:xfrm>
            <a:off x="380880" y="1981080"/>
            <a:ext cx="1524240" cy="2819520"/>
            <a:chOff x="380880" y="1981080"/>
            <a:chExt cx="1524240" cy="2819520"/>
          </a:xfrm>
        </p:grpSpPr>
        <p:sp>
          <p:nvSpPr>
            <p:cNvPr id="382" name=""/>
            <p:cNvSpPr/>
            <p:nvPr/>
          </p:nvSpPr>
          <p:spPr>
            <a:xfrm>
              <a:off x="1905120" y="4038480"/>
              <a:ext cx="0" cy="7621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0880" y="1981080"/>
              <a:ext cx="914400" cy="228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457200" y="3124080"/>
            <a:ext cx="3048120" cy="2514600"/>
            <a:chOff x="457200" y="3124080"/>
            <a:chExt cx="3048120" cy="2514600"/>
          </a:xfrm>
        </p:grpSpPr>
        <p:sp>
          <p:nvSpPr>
            <p:cNvPr id="385" name=""/>
            <p:cNvSpPr/>
            <p:nvPr/>
          </p:nvSpPr>
          <p:spPr>
            <a:xfrm>
              <a:off x="3505320" y="480060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57200" y="3124080"/>
              <a:ext cx="762120" cy="1526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527040" y="577800"/>
            <a:ext cx="3051360" cy="1266120"/>
            <a:chOff x="527040" y="577800"/>
            <a:chExt cx="3051360" cy="1266120"/>
          </a:xfrm>
        </p:grpSpPr>
        <p:sp>
          <p:nvSpPr>
            <p:cNvPr id="388" name=""/>
            <p:cNvSpPr/>
            <p:nvPr/>
          </p:nvSpPr>
          <p:spPr>
            <a:xfrm>
              <a:off x="527040" y="577800"/>
              <a:ext cx="3051360" cy="960480"/>
            </a:xfrm>
            <a:custGeom>
              <a:avLst/>
              <a:gdLst/>
              <a:ahLst/>
              <a:rect l="l" t="t" r="r" b="b"/>
              <a:pathLst>
                <a:path w="1922" h="605">
                  <a:moveTo>
                    <a:pt x="1922" y="204"/>
                  </a:moveTo>
                  <a:cubicBezTo>
                    <a:pt x="1879" y="185"/>
                    <a:pt x="1835" y="167"/>
                    <a:pt x="1793" y="147"/>
                  </a:cubicBezTo>
                  <a:cubicBezTo>
                    <a:pt x="1773" y="138"/>
                    <a:pt x="1758" y="120"/>
                    <a:pt x="1736" y="114"/>
                  </a:cubicBezTo>
                  <a:cubicBezTo>
                    <a:pt x="1659" y="94"/>
                    <a:pt x="1571" y="88"/>
                    <a:pt x="1492" y="82"/>
                  </a:cubicBezTo>
                  <a:cubicBezTo>
                    <a:pt x="1195" y="33"/>
                    <a:pt x="901" y="22"/>
                    <a:pt x="601" y="1"/>
                  </a:cubicBezTo>
                  <a:cubicBezTo>
                    <a:pt x="351" y="7"/>
                    <a:pt x="278" y="0"/>
                    <a:pt x="82" y="49"/>
                  </a:cubicBezTo>
                  <a:cubicBezTo>
                    <a:pt x="15" y="116"/>
                    <a:pt x="25" y="254"/>
                    <a:pt x="0" y="341"/>
                  </a:cubicBezTo>
                  <a:cubicBezTo>
                    <a:pt x="16" y="387"/>
                    <a:pt x="22" y="438"/>
                    <a:pt x="49" y="479"/>
                  </a:cubicBezTo>
                  <a:cubicBezTo>
                    <a:pt x="89" y="539"/>
                    <a:pt x="313" y="551"/>
                    <a:pt x="325" y="552"/>
                  </a:cubicBezTo>
                  <a:cubicBezTo>
                    <a:pt x="490" y="562"/>
                    <a:pt x="653" y="580"/>
                    <a:pt x="819" y="585"/>
                  </a:cubicBezTo>
                  <a:cubicBezTo>
                    <a:pt x="922" y="588"/>
                    <a:pt x="1025" y="590"/>
                    <a:pt x="1128" y="593"/>
                  </a:cubicBezTo>
                  <a:cubicBezTo>
                    <a:pt x="1409" y="587"/>
                    <a:pt x="1558" y="605"/>
                    <a:pt x="1793" y="487"/>
                  </a:cubicBezTo>
                  <a:cubicBezTo>
                    <a:pt x="1814" y="460"/>
                    <a:pt x="1837" y="434"/>
                    <a:pt x="1857" y="406"/>
                  </a:cubicBezTo>
                  <a:cubicBezTo>
                    <a:pt x="1864" y="396"/>
                    <a:pt x="1874" y="374"/>
                    <a:pt x="1874" y="37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972440" y="1506600"/>
              <a:ext cx="1250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572000" y="58680"/>
            <a:ext cx="4521240" cy="6966000"/>
            <a:chOff x="4572000" y="58680"/>
            <a:chExt cx="4521240" cy="6966000"/>
          </a:xfrm>
        </p:grpSpPr>
        <p:pic>
          <p:nvPicPr>
            <p:cNvPr id="391" name="" descr=""/>
            <p:cNvPicPr/>
            <p:nvPr/>
          </p:nvPicPr>
          <p:blipFill>
            <a:blip r:embed="rId3"/>
            <a:stretch/>
          </p:blipFill>
          <p:spPr>
            <a:xfrm>
              <a:off x="4572000" y="380880"/>
              <a:ext cx="4521240" cy="66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4744800" y="58680"/>
              <a:ext cx="2419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e transient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7299360" y="3716280"/>
              <a:ext cx="1759320" cy="1238400"/>
              <a:chOff x="7299360" y="3716280"/>
              <a:chExt cx="1759320" cy="1238400"/>
            </a:xfrm>
          </p:grpSpPr>
          <p:sp>
            <p:nvSpPr>
              <p:cNvPr id="394" name=""/>
              <p:cNvSpPr/>
              <p:nvPr/>
            </p:nvSpPr>
            <p:spPr>
              <a:xfrm>
                <a:off x="7410240" y="3716280"/>
                <a:ext cx="164844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undament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requency (Hz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299360" y="4299120"/>
                <a:ext cx="784080" cy="655560"/>
              </a:xfrm>
              <a:custGeom>
                <a:avLst/>
                <a:gdLst/>
                <a:ahLst/>
                <a:rect l="l" t="t" r="r" b="b"/>
                <a:pathLst>
                  <a:path w="494" h="413">
                    <a:moveTo>
                      <a:pt x="0" y="316"/>
                    </a:moveTo>
                    <a:cubicBezTo>
                      <a:pt x="494" y="261"/>
                      <a:pt x="436" y="413"/>
                      <a:pt x="446" y="73"/>
                    </a:cubicBezTo>
                    <a:cubicBezTo>
                      <a:pt x="447" y="49"/>
                      <a:pt x="446" y="24"/>
                      <a:pt x="446" y="0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96" name="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97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08200" y="85680"/>
            <a:ext cx="21924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FOURIER S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9760" y="533520"/>
            <a:ext cx="8200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ourier series permits the representation of an arbitrary periodic signal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um of sinusoids or complex exponent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" y="1143000"/>
            <a:ext cx="1663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iodic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57200" y="1541520"/>
                <a:ext cx="56275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signal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periodic iff there exists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such that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629640" y="2209680"/>
            <a:ext cx="8116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 smallest T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that satisfies the previous condition is called the (fundamen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iod of the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52280" y="2895480"/>
            <a:ext cx="3934080" cy="2086200"/>
            <a:chOff x="152280" y="2895480"/>
            <a:chExt cx="3934080" cy="2086200"/>
          </a:xfrm>
        </p:grpSpPr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152280" y="2895480"/>
              <a:ext cx="3934080" cy="20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838080" y="3276720"/>
              <a:ext cx="990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029200" y="2819520"/>
            <a:ext cx="3943440" cy="2104920"/>
            <a:chOff x="5029200" y="2819520"/>
            <a:chExt cx="3943440" cy="2104920"/>
          </a:xfrm>
        </p:grpSpPr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5029200" y="2819520"/>
              <a:ext cx="3943440" cy="21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5638680" y="34290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590920" y="4724280"/>
            <a:ext cx="3952800" cy="1933560"/>
            <a:chOff x="2590920" y="4724280"/>
            <a:chExt cx="3952800" cy="1933560"/>
          </a:xfrm>
        </p:grpSpPr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2590920" y="4724280"/>
              <a:ext cx="395280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200400" y="525780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400960" cy="43243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93640" y="210960"/>
            <a:ext cx="4467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chematic used for Fourier series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23600" y="5087880"/>
            <a:ext cx="309456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view resul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om PROBE menu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iew/Output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search until you fin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analysis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181400" y="5105520"/>
            <a:ext cx="440820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curacy of simulation is affected b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tup paramet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creases with number of cy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creases with number of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04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"/>
          <p:cNvGrpSpPr/>
          <p:nvPr/>
        </p:nvGrpSpPr>
        <p:grpSpPr>
          <a:xfrm>
            <a:off x="152280" y="152280"/>
            <a:ext cx="8763120" cy="6487560"/>
            <a:chOff x="152280" y="152280"/>
            <a:chExt cx="8763120" cy="6487560"/>
          </a:xfrm>
        </p:grpSpPr>
        <p:sp>
          <p:nvSpPr>
            <p:cNvPr id="407" name=""/>
            <p:cNvSpPr/>
            <p:nvPr/>
          </p:nvSpPr>
          <p:spPr>
            <a:xfrm>
              <a:off x="152280" y="152280"/>
              <a:ext cx="8763120" cy="64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FOURIER COMPONENTS OF TRANSIENT RESPONSE V(V_V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DC COMPONENT =  -1.353267E-0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HARMONIC   FREQUENCY    FOURIER    NORMALIZED    PHASE        NORMALIZ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NO                    (HZ)     COMPONENT    COMPONENT    (DEG)       PHASE (DEG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     1.000E+00    4.222E+00    1.000E+00    2.969E-07    0.000E+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2     2.000E+00    1.283E+00    3.039E-01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3     3.000E+00    4.378E-01    1.037E-01   -1.800E+02   -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4     4.000E+00    3.838E-01    9.090E-02    4.620E-07   -7.254E-0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5     5.000E+00    1.079E-04    2.556E-05    1.712E-03    1.711E-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6     6.000E+00    1.703E-01    4.034E-02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7     7.000E+00    8.012E-02    1.898E-02   -9.548E-06   -1.163E-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8     8.000E+00    8.016E-02    1.899E-02    5.191E-06    2.816E-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9     9.000E+00    5.144E-02    1.218E-02   -1.800E+02   -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0     1.000E+01    1.397E-04    3.310E-05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1     1.100E+01    3.440E-02    8.149E-03   -1.112E-04   -1.145E-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2     1.200E+01    3.531E-02    8.364E-03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3     1.300E+01    2.343E-02    5.549E-03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4     1.400E+01    3.068E-02    7.267E-03   -3.545E-05   -3.960E-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5     1.500E+01    3.379E-04    8.003E-05   -3.208E-03   -3.212E-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6     1.600E+01    2.355E-02    5.579E-03   -1.800E+02   -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7     1.700E+01    1.309E-02    3.101E-03    2.905E-04    2.854E-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8     1.800E+01    1.596E-02    3.781E-03   -5.322E-05   -5.856E-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9     1.900E+01    1.085E-02    2.569E-03   -1.800E+02   -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20     2.000E+01    2.994E-04    7.092E-05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OTAL HARMONIC DISTORTION =   3.378352E+01 PERC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952320" y="2209680"/>
              <a:ext cx="1843560" cy="3987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* file pwl1.t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* example 14.5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* BECA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* ORCAD 9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* By J.L. Arave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1,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2,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3,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4,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5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6,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7,-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8,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9,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1.0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5902920" y="236520"/>
            <a:ext cx="2262600" cy="520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RELEVANT SEGMEN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OUTPUT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1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98640" y="135000"/>
            <a:ext cx="17107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-SHIF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138040" y="58680"/>
            <a:ext cx="6636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t is easier to study the effect of time-shift with the exponen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ries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228600" y="762120"/>
                <a:ext cx="1714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222640" y="762120"/>
                <a:ext cx="4609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17" name=""/>
          <p:cNvSpPr/>
          <p:nvPr/>
        </p:nvSpPr>
        <p:spPr>
          <a:xfrm>
            <a:off x="1023480" y="1523880"/>
            <a:ext cx="71362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 shifting the function only changes the phase of the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3244680" y="1905120"/>
                <a:ext cx="2794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ime shift for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hase shift for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6705720" y="2819520"/>
                <a:ext cx="24638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6629400" y="205740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1" name=""/>
          <p:cNvGrpSpPr/>
          <p:nvPr/>
        </p:nvGrpSpPr>
        <p:grpSpPr>
          <a:xfrm>
            <a:off x="183960" y="2209680"/>
            <a:ext cx="4026240" cy="4105440"/>
            <a:chOff x="183960" y="2209680"/>
            <a:chExt cx="4026240" cy="4105440"/>
          </a:xfrm>
        </p:grpSpPr>
        <p:grpSp>
          <p:nvGrpSpPr>
            <p:cNvPr id="422" name=""/>
            <p:cNvGrpSpPr/>
            <p:nvPr/>
          </p:nvGrpSpPr>
          <p:grpSpPr>
            <a:xfrm>
              <a:off x="183960" y="2209680"/>
              <a:ext cx="4026240" cy="4105440"/>
              <a:chOff x="183960" y="2209680"/>
              <a:chExt cx="4026240" cy="4105440"/>
            </a:xfrm>
          </p:grpSpPr>
          <p:pic>
            <p:nvPicPr>
              <p:cNvPr id="42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2819520"/>
                <a:ext cx="382932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2120" y="4648320"/>
                <a:ext cx="3400200" cy="166680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425" name=""/>
                  <p:cNvSpPr txBox="1"/>
                  <p:nvPr/>
                </p:nvSpPr>
                <p:spPr>
                  <a:xfrm>
                    <a:off x="533520" y="4419720"/>
                    <a:ext cx="1485720" cy="544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26" name=""/>
                  <p:cNvSpPr txBox="1"/>
                  <p:nvPr/>
                </p:nvSpPr>
                <p:spPr>
                  <a:xfrm>
                    <a:off x="1676520" y="2743200"/>
                    <a:ext cx="45720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27" name=""/>
              <p:cNvSpPr/>
              <p:nvPr/>
            </p:nvSpPr>
            <p:spPr>
              <a:xfrm>
                <a:off x="183960" y="2209680"/>
                <a:ext cx="2224440" cy="337320"/>
              </a:xfrm>
              <a:prstGeom prst="rect">
                <a:avLst/>
              </a:prstGeom>
              <a:solidFill>
                <a:srgbClr val="cccc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LEARNING EXAMP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28" name=""/>
                <p:cNvSpPr txBox="1"/>
                <p:nvPr/>
              </p:nvSpPr>
              <p:spPr>
                <a:xfrm>
                  <a:off x="2819520" y="4495680"/>
                  <a:ext cx="609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4038480" y="2666880"/>
                <a:ext cx="260352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ven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πn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n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d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4038480" y="3962520"/>
                <a:ext cx="1714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5867280" y="3962520"/>
                <a:ext cx="321336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ven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πn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n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  <m:f>
                                    <m:num>
                                      <m:r>
                                        <m:t xml:space="preserve">nπ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p>
                              </m:sSup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d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4572000" y="4952880"/>
                <a:ext cx="237492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n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7315200" y="5257800"/>
                <a:ext cx="1409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π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35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10520" y="0"/>
            <a:ext cx="4636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 shifting and half-wave periodic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-28440" y="685800"/>
            <a:ext cx="4752360" cy="3648240"/>
            <a:chOff x="-28440" y="685800"/>
            <a:chExt cx="4752360" cy="3648240"/>
          </a:xfrm>
        </p:grpSpPr>
        <p:pic>
          <p:nvPicPr>
            <p:cNvPr id="439" name="" descr=""/>
            <p:cNvPicPr/>
            <p:nvPr/>
          </p:nvPicPr>
          <p:blipFill>
            <a:blip r:embed="rId1"/>
            <a:stretch/>
          </p:blipFill>
          <p:spPr>
            <a:xfrm>
              <a:off x="304560" y="685800"/>
              <a:ext cx="4419360" cy="19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" descr=""/>
            <p:cNvPicPr/>
            <p:nvPr/>
          </p:nvPicPr>
          <p:blipFill>
            <a:blip r:embed="rId2"/>
            <a:stretch/>
          </p:blipFill>
          <p:spPr>
            <a:xfrm>
              <a:off x="-28440" y="2362320"/>
              <a:ext cx="4066920" cy="1971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495360" y="4572000"/>
            <a:ext cx="4076640" cy="201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4730760" y="380880"/>
                <a:ext cx="4305240" cy="24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very half-wave periodic signal,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wit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eriod,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can be expressed as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 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f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≤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&lt;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T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T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  <m:r>
                                    <m:t xml:space="preserve">≤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&lt;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4724280" y="2971800"/>
                <a:ext cx="26035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sume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5715000" y="3570120"/>
                <a:ext cx="33908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7620120" y="313848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6781680" y="4419720"/>
                <a:ext cx="16383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5257800" y="4876920"/>
                <a:ext cx="320040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4677480" y="5791320"/>
            <a:ext cx="41310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the odd coefficients o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1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are 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5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06920" y="190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3648240" cy="152388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3743280" cy="1323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533520" y="1981080"/>
                <a:ext cx="6714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6" name=""/>
          <p:cNvGrpSpPr/>
          <p:nvPr/>
        </p:nvGrpSpPr>
        <p:grpSpPr>
          <a:xfrm>
            <a:off x="4682880" y="76320"/>
            <a:ext cx="4171680" cy="1257120"/>
            <a:chOff x="4682880" y="76320"/>
            <a:chExt cx="4171680" cy="1257120"/>
          </a:xfrm>
        </p:grpSpPr>
        <p:sp>
          <p:nvSpPr>
            <p:cNvPr id="457" name=""/>
            <p:cNvSpPr/>
            <p:nvPr/>
          </p:nvSpPr>
          <p:spPr>
            <a:xfrm>
              <a:off x="4682880" y="152280"/>
              <a:ext cx="2232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t was shown bef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at for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v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8" name=""/>
                <p:cNvSpPr txBox="1"/>
                <p:nvPr/>
              </p:nvSpPr>
              <p:spPr>
                <a:xfrm>
                  <a:off x="7026120" y="76320"/>
                  <a:ext cx="1828440" cy="12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n</m:t>
                                  </m:r>
                                  <m:r>
                                    <m:t xml:space="preserve">π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j</m:t>
                              </m:r>
                              <m:r>
                                <m:t xml:space="preserve">2</m:t>
                              </m:r>
                              <m:r>
                                <m:t xml:space="preserve">πn</m:t>
                              </m:r>
                            </m:den>
                          </m:f>
                          <m:r>
                            <m:t xml:space="preserve">,</m:t>
                          </m:r>
                          <m:r>
                            <m:t xml:space="preserve">n</m:t>
                          </m:r>
                          <m:r>
                            <m:t xml:space="preserve">≠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3809880" y="1981080"/>
                <a:ext cx="48895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mpute the coefficients for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-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show tha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y differ by a </m:t>
                        </m:r>
                        <m:r>
                          <m:rPr>
                            <m:lit/>
                            <m:nor/>
                          </m:rPr>
                          <m:t xml:space="preserve">πn</m:t>
                        </m:r>
                        <m:r>
                          <m:rPr>
                            <m:lit/>
                            <m:nor/>
                          </m:rPr>
                          <m:t xml:space="preserve"> angle from those of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304920" y="3429000"/>
                <a:ext cx="2450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the delayed function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2540160" y="457200"/>
                <a:ext cx="2031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3124080" y="5846760"/>
                <a:ext cx="14479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d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r>
                          <m:t xml:space="preserve">π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5943600" y="4932360"/>
                <a:ext cx="1612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r>
                              <m:t xml:space="preserve">π</m:t>
                            </m:r>
                          </m:sup>
                        </m:sSup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r>
                              <m:t xml:space="preserve">π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64" name=""/>
          <p:cNvGrpSpPr/>
          <p:nvPr/>
        </p:nvGrpSpPr>
        <p:grpSpPr>
          <a:xfrm>
            <a:off x="304920" y="4648320"/>
            <a:ext cx="5549760" cy="955440"/>
            <a:chOff x="304920" y="4648320"/>
            <a:chExt cx="5549760" cy="955440"/>
          </a:xfrm>
        </p:grpSpPr>
        <mc:AlternateContent>
          <mc:Choice xmlns:a14="http://schemas.microsoft.com/office/drawing/2010/main" Requires="a14">
            <p:sp>
              <p:nvSpPr>
                <p:cNvPr id="465" name=""/>
                <p:cNvSpPr txBox="1"/>
                <p:nvPr/>
              </p:nvSpPr>
              <p:spPr>
                <a:xfrm>
                  <a:off x="304920" y="4932360"/>
                  <a:ext cx="33908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d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r>
                                <m:t xml:space="preserve">π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r>
                                <m:t xml:space="preserve">π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6" name=""/>
                <p:cNvSpPr txBox="1"/>
                <p:nvPr/>
              </p:nvSpPr>
              <p:spPr>
                <a:xfrm>
                  <a:off x="3733920" y="4932360"/>
                  <a:ext cx="21207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πn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r>
                                <m:t xml:space="preserve">π</m:t>
                              </m:r>
                            </m:sup>
                          </m:sSup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2</m:t>
                              </m:r>
                              <m:r>
                                <m:t xml:space="preserve">nπ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7" name=""/>
                <p:cNvSpPr txBox="1"/>
                <p:nvPr/>
              </p:nvSpPr>
              <p:spPr>
                <a:xfrm>
                  <a:off x="304920" y="4648320"/>
                  <a:ext cx="8888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or </m:t>
                      </m:r>
                      <m:r>
                        <m:t xml:space="preserve">n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6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27440" y="76320"/>
            <a:ext cx="27457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AVEFORM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357360" y="1752480"/>
            <a:ext cx="55483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Fourier series for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t)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known then one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asily  determine the expansion for any time-shif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time-scaled version o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2971800" y="457200"/>
                <a:ext cx="22194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76320" y="457200"/>
                <a:ext cx="2565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sume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75" name=""/>
          <p:cNvSpPr/>
          <p:nvPr/>
        </p:nvSpPr>
        <p:spPr>
          <a:xfrm>
            <a:off x="5327640" y="457200"/>
            <a:ext cx="3559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 scaling does not chang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lues of the series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76320" y="1143000"/>
                <a:ext cx="44323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77" name=""/>
          <p:cNvSpPr/>
          <p:nvPr/>
        </p:nvSpPr>
        <p:spPr>
          <a:xfrm>
            <a:off x="5108040" y="1143000"/>
            <a:ext cx="37681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-shifting modifies the phas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101520" y="1817640"/>
                <a:ext cx="31752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3514680" cy="166680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5334120" y="3124080"/>
            <a:ext cx="3657600" cy="168588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3"/>
          <a:stretch/>
        </p:blipFill>
        <p:spPr>
          <a:xfrm>
            <a:off x="2666880" y="4267080"/>
            <a:ext cx="3781440" cy="207648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295560" y="2573280"/>
            <a:ext cx="8227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efficients of a linear combination of signals are the linear combination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6629400" y="5105520"/>
                <a:ext cx="1701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4" name=""/>
          <p:cNvSpPr/>
          <p:nvPr/>
        </p:nvSpPr>
        <p:spPr>
          <a:xfrm>
            <a:off x="96480" y="6095880"/>
            <a:ext cx="90306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tabulate the expansions for some basic waveforms and use them to determ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expansions or other signal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8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27480" cy="608652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4724280" y="0"/>
            <a:ext cx="3934080" cy="671508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3639960" y="1295280"/>
            <a:ext cx="156456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s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abulated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CA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4721400" cy="601992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4343400" y="0"/>
            <a:ext cx="5067360" cy="68295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3"/>
          <a:stretch/>
        </p:blipFill>
        <p:spPr>
          <a:xfrm>
            <a:off x="4572000" y="28440"/>
            <a:ext cx="5067360" cy="6829560"/>
          </a:xfrm>
          <a:prstGeom prst="rect">
            <a:avLst/>
          </a:prstGeom>
          <a:ln w="0">
            <a:noFill/>
          </a:ln>
        </p:spPr>
      </p:pic>
      <p:sp>
        <p:nvSpPr>
          <p:cNvPr id="497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4"/>
          <a:stretch/>
        </p:blipFill>
        <p:spPr>
          <a:xfrm>
            <a:off x="8793000" y="6477120"/>
            <a:ext cx="731880" cy="3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0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304920" y="3684600"/>
            <a:ext cx="5779800" cy="1027080"/>
            <a:chOff x="304920" y="3684600"/>
            <a:chExt cx="5779800" cy="1027080"/>
          </a:xfrm>
        </p:grpSpPr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304920" y="4370400"/>
                  <a:ext cx="57798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jn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9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jn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n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b>
                        <m:e>
                          <m:r>
                            <m:t xml:space="preserve">n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380880" y="3684600"/>
                  <a:ext cx="8892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or </m:t>
                          </m:r>
                          <m:r>
                            <m:t xml:space="preserve">n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9" name=""/>
          <p:cNvSpPr/>
          <p:nvPr/>
        </p:nvSpPr>
        <p:spPr>
          <a:xfrm>
            <a:off x="114480" y="171360"/>
            <a:ext cx="26906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SERIES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27080" y="533520"/>
                <a:ext cx="8281800" cy="30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periodic, with period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hen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can be expressed in one of the followin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quivalent forms</m:t>
                        </m:r>
                      </m:e>
                      <m:e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∠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n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1273680" y="1238400"/>
            <a:ext cx="1945440" cy="337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sine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05280" y="2363760"/>
            <a:ext cx="3422160" cy="337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 exponential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60400" y="3049560"/>
            <a:ext cx="227772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igonometric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4232160" y="1068480"/>
            <a:ext cx="2788560" cy="1092240"/>
            <a:chOff x="4232160" y="1068480"/>
            <a:chExt cx="2788560" cy="1092240"/>
          </a:xfrm>
        </p:grpSpPr>
        <p:sp>
          <p:nvSpPr>
            <p:cNvPr id="75" name=""/>
            <p:cNvSpPr/>
            <p:nvPr/>
          </p:nvSpPr>
          <p:spPr>
            <a:xfrm>
              <a:off x="4232160" y="1395360"/>
              <a:ext cx="841320" cy="765360"/>
            </a:xfrm>
            <a:custGeom>
              <a:avLst/>
              <a:gdLst/>
              <a:ahLst/>
              <a:rect l="l" t="t" r="r" b="b"/>
              <a:pathLst>
                <a:path w="530" h="482">
                  <a:moveTo>
                    <a:pt x="513" y="149"/>
                  </a:moveTo>
                  <a:cubicBezTo>
                    <a:pt x="497" y="130"/>
                    <a:pt x="486" y="105"/>
                    <a:pt x="465" y="92"/>
                  </a:cubicBezTo>
                  <a:cubicBezTo>
                    <a:pt x="415" y="62"/>
                    <a:pt x="330" y="46"/>
                    <a:pt x="270" y="36"/>
                  </a:cubicBezTo>
                  <a:cubicBezTo>
                    <a:pt x="198" y="0"/>
                    <a:pt x="180" y="13"/>
                    <a:pt x="84" y="20"/>
                  </a:cubicBezTo>
                  <a:cubicBezTo>
                    <a:pt x="62" y="27"/>
                    <a:pt x="12" y="40"/>
                    <a:pt x="11" y="52"/>
                  </a:cubicBezTo>
                  <a:cubicBezTo>
                    <a:pt x="0" y="204"/>
                    <a:pt x="6" y="311"/>
                    <a:pt x="92" y="425"/>
                  </a:cubicBezTo>
                  <a:cubicBezTo>
                    <a:pt x="104" y="441"/>
                    <a:pt x="129" y="436"/>
                    <a:pt x="148" y="441"/>
                  </a:cubicBezTo>
                  <a:cubicBezTo>
                    <a:pt x="189" y="467"/>
                    <a:pt x="232" y="470"/>
                    <a:pt x="278" y="482"/>
                  </a:cubicBezTo>
                  <a:cubicBezTo>
                    <a:pt x="362" y="474"/>
                    <a:pt x="453" y="461"/>
                    <a:pt x="530" y="42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98040" y="1068480"/>
              <a:ext cx="27226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for n-th harmo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7238880" y="914400"/>
                <a:ext cx="91440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943600" y="2209680"/>
                <a:ext cx="2666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79" name=""/>
          <p:cNvGrpSpPr/>
          <p:nvPr/>
        </p:nvGrpSpPr>
        <p:grpSpPr>
          <a:xfrm>
            <a:off x="2357280" y="4219560"/>
            <a:ext cx="914400" cy="914400"/>
            <a:chOff x="2357280" y="4219560"/>
            <a:chExt cx="914400" cy="914400"/>
          </a:xfrm>
        </p:grpSpPr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2666880" y="48276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1" name=""/>
            <p:cNvSpPr/>
            <p:nvPr/>
          </p:nvSpPr>
          <p:spPr>
            <a:xfrm>
              <a:off x="2357280" y="4219560"/>
              <a:ext cx="914400" cy="9144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191120" y="4065480"/>
            <a:ext cx="1066680" cy="1143000"/>
            <a:chOff x="4191120" y="4065480"/>
            <a:chExt cx="1066680" cy="1143000"/>
          </a:xfrm>
        </p:grpSpPr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4572000" y="490356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4" name=""/>
            <p:cNvSpPr/>
            <p:nvPr/>
          </p:nvSpPr>
          <p:spPr>
            <a:xfrm>
              <a:off x="4191120" y="4065480"/>
              <a:ext cx="1066680" cy="11430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1823760" y="3666960"/>
            <a:ext cx="6756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lationship between exponential and trigonometric expa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248520" y="4370400"/>
                <a:ext cx="1676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334120" y="5132520"/>
                <a:ext cx="364464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is real-valued then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304560" y="5483160"/>
            <a:ext cx="840564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L STRATEG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Approximate a periodic signal using a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Analyze the network for each harmonic using phasors or complex exponent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Use the superposition principle to determine the response to the periodic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251840" y="2629080"/>
                <a:ext cx="18921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66600" y="914400"/>
            <a:ext cx="9010800" cy="502920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0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6296040" cy="1085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533520" y="3733920"/>
                <a:ext cx="18414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380880" y="4800600"/>
                <a:ext cx="2514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nπ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12" name=""/>
          <p:cNvGrpSpPr/>
          <p:nvPr/>
        </p:nvGrpSpPr>
        <p:grpSpPr>
          <a:xfrm>
            <a:off x="520560" y="1905120"/>
            <a:ext cx="8367840" cy="1712880"/>
            <a:chOff x="520560" y="1905120"/>
            <a:chExt cx="8367840" cy="1712880"/>
          </a:xfrm>
        </p:grpSpPr>
        <p:grpSp>
          <p:nvGrpSpPr>
            <p:cNvPr id="513" name=""/>
            <p:cNvGrpSpPr/>
            <p:nvPr/>
          </p:nvGrpSpPr>
          <p:grpSpPr>
            <a:xfrm>
              <a:off x="520560" y="1905120"/>
              <a:ext cx="7328160" cy="1712880"/>
              <a:chOff x="520560" y="1905120"/>
              <a:chExt cx="7328160" cy="1712880"/>
            </a:xfrm>
          </p:grpSpPr>
          <p:graphicFrame>
            <p:nvGraphicFramePr>
              <p:cNvPr id="514" name=""/>
              <p:cNvGraphicFramePr/>
              <p:nvPr/>
            </p:nvGraphicFramePr>
            <p:xfrm>
              <a:off x="520560" y="1905120"/>
              <a:ext cx="4267440" cy="17128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515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520560" y="1905120"/>
                        <a:ext cx="4267440" cy="1712880"/>
                      </a:xfrm>
                      <a:prstGeom prst="rect">
                        <a:avLst/>
                      </a:prstGeom>
                      <a:ln w="38160">
                        <a:solidFill>
                          <a:srgbClr val="ccffcc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516" name=""/>
                  <p:cNvSpPr txBox="1"/>
                  <p:nvPr/>
                </p:nvSpPr>
                <p:spPr>
                  <a:xfrm>
                    <a:off x="4788000" y="2478240"/>
                    <a:ext cx="3060720" cy="722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nπ</m:t>
                                </m:r>
                              </m:den>
                            </m:f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πδ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δ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17" name=""/>
              <p:cNvSpPr/>
              <p:nvPr/>
            </p:nvSpPr>
            <p:spPr>
              <a:xfrm>
                <a:off x="2658960" y="1981080"/>
                <a:ext cx="3370320" cy="337320"/>
              </a:xfrm>
              <a:prstGeom prst="rect">
                <a:avLst/>
              </a:prstGeom>
              <a:solidFill>
                <a:srgbClr val="ccffcc"/>
              </a:solidFill>
              <a:ln w="3816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rom the table of Fourier ser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18" name=""/>
                <p:cNvSpPr txBox="1"/>
                <p:nvPr/>
              </p:nvSpPr>
              <p:spPr>
                <a:xfrm>
                  <a:off x="8077320" y="2514600"/>
                  <a:ext cx="8110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Aδ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2971800" y="4876920"/>
                <a:ext cx="609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0" name=""/>
          <p:cNvSpPr/>
          <p:nvPr/>
        </p:nvSpPr>
        <p:spPr>
          <a:xfrm>
            <a:off x="273960" y="5638680"/>
            <a:ext cx="42177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ictly speaking the value for n=0 mu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 computed separate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4876920" y="3276720"/>
                <a:ext cx="2577960" cy="15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δ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7391520" y="762120"/>
                <a:ext cx="609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4876920" y="4876920"/>
                <a:ext cx="328932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≠</m:t>
                    </m:r>
                    <m:r>
                      <m:t xml:space="preserve">0</m:t>
                    </m:r>
                    <m:limLow>
                      <m:e/>
                      <m:lim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4876920" y="5791320"/>
                <a:ext cx="30985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≠</m:t>
                    </m:r>
                    <m:r>
                      <m:t xml:space="preserve">0</m:t>
                    </m:r>
                    <m:limLow>
                      <m:e/>
                      <m:lim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r>
                          <m:t xml:space="preserve">π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3340080" y="6324480"/>
                <a:ext cx="12319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26" name=""/>
          <p:cNvSpPr/>
          <p:nvPr/>
        </p:nvSpPr>
        <p:spPr>
          <a:xfrm>
            <a:off x="2588400" y="58680"/>
            <a:ext cx="6191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 table of Fourier series to determine the expa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se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2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150840" y="34920"/>
            <a:ext cx="31143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FREQUENCY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66760" y="533520"/>
            <a:ext cx="7765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pectrum is a graphical display of the coefficients of the Fourier se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one-sided spectrum is based on the 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1219320" y="1143000"/>
                <a:ext cx="54356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∠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533" name=""/>
          <p:cNvGrpSpPr/>
          <p:nvPr/>
        </p:nvGrpSpPr>
        <p:grpSpPr>
          <a:xfrm>
            <a:off x="851040" y="1887480"/>
            <a:ext cx="7347960" cy="824040"/>
            <a:chOff x="851040" y="1887480"/>
            <a:chExt cx="7347960" cy="824040"/>
          </a:xfrm>
        </p:grpSpPr>
        <p:sp>
          <p:nvSpPr>
            <p:cNvPr id="534" name=""/>
            <p:cNvSpPr/>
            <p:nvPr/>
          </p:nvSpPr>
          <p:spPr>
            <a:xfrm>
              <a:off x="851040" y="1887480"/>
              <a:ext cx="734796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amplitude spectrum displays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Dn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 the function of the frequenc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phase spectrum displays the angle      as function of the frequenc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frequency axis is usually drawn in units of fundamental frequ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5" name=""/>
                <p:cNvSpPr txBox="1"/>
                <p:nvPr/>
              </p:nvSpPr>
              <p:spPr>
                <a:xfrm>
                  <a:off x="4968720" y="214776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6" name=""/>
          <p:cNvGrpSpPr/>
          <p:nvPr/>
        </p:nvGrpSpPr>
        <p:grpSpPr>
          <a:xfrm>
            <a:off x="1082520" y="2878200"/>
            <a:ext cx="7031160" cy="1019160"/>
            <a:chOff x="1082520" y="2878200"/>
            <a:chExt cx="7031160" cy="1019160"/>
          </a:xfrm>
        </p:grpSpPr>
        <mc:AlternateContent>
          <mc:Choice xmlns:a14="http://schemas.microsoft.com/office/drawing/2010/main" Requires="a14">
            <p:sp>
              <p:nvSpPr>
                <p:cNvPr id="537" name=""/>
                <p:cNvSpPr txBox="1"/>
                <p:nvPr/>
              </p:nvSpPr>
              <p:spPr>
                <a:xfrm>
                  <a:off x="3733920" y="3276720"/>
                  <a:ext cx="171432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538" name=""/>
            <p:cNvSpPr/>
            <p:nvPr/>
          </p:nvSpPr>
          <p:spPr>
            <a:xfrm>
              <a:off x="1082520" y="2878200"/>
              <a:ext cx="703116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two-sided spectrum is based on the exponential repres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358560" y="4021200"/>
            <a:ext cx="8628120" cy="580680"/>
            <a:chOff x="358560" y="4021200"/>
            <a:chExt cx="8628120" cy="580680"/>
          </a:xfrm>
        </p:grpSpPr>
        <p:sp>
          <p:nvSpPr>
            <p:cNvPr id="540" name=""/>
            <p:cNvSpPr/>
            <p:nvPr/>
          </p:nvSpPr>
          <p:spPr>
            <a:xfrm>
              <a:off x="358560" y="4021200"/>
              <a:ext cx="86281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two-sided case, the amplitude spectrum plots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|cn|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hile the phase spectr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lots         versus frequency (in units of fundamental frequenc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1" name=""/>
                <p:cNvSpPr txBox="1"/>
                <p:nvPr/>
              </p:nvSpPr>
              <p:spPr>
                <a:xfrm>
                  <a:off x="990720" y="4267080"/>
                  <a:ext cx="404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2" name=""/>
          <p:cNvGrpSpPr/>
          <p:nvPr/>
        </p:nvGrpSpPr>
        <p:grpSpPr>
          <a:xfrm>
            <a:off x="2270520" y="4800600"/>
            <a:ext cx="4653720" cy="1251720"/>
            <a:chOff x="2270520" y="4800600"/>
            <a:chExt cx="4653720" cy="1251720"/>
          </a:xfrm>
        </p:grpSpPr>
        <mc:AlternateContent>
          <mc:Choice xmlns:a14="http://schemas.microsoft.com/office/drawing/2010/main" Requires="a14">
            <p:sp>
              <p:nvSpPr>
                <p:cNvPr id="543" name=""/>
                <p:cNvSpPr txBox="1"/>
                <p:nvPr/>
              </p:nvSpPr>
              <p:spPr>
                <a:xfrm>
                  <a:off x="3276720" y="4800600"/>
                  <a:ext cx="266688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∠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j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4" name=""/>
                <p:cNvSpPr txBox="1"/>
                <p:nvPr/>
              </p:nvSpPr>
              <p:spPr>
                <a:xfrm>
                  <a:off x="4191120" y="5181480"/>
                  <a:ext cx="7617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545" name=""/>
            <p:cNvSpPr/>
            <p:nvPr/>
          </p:nvSpPr>
          <p:spPr>
            <a:xfrm>
              <a:off x="2270520" y="5715000"/>
              <a:ext cx="4653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oth spectra display equivalent in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47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4876920" y="779400"/>
                <a:ext cx="370836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dd</m:t>
                    </m:r>
                    <m:limLow>
                      <m:e/>
                      <m:lim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781440" cy="207648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4572360" y="152280"/>
            <a:ext cx="4236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ourier series expansion, when A=5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given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542120" y="1658880"/>
            <a:ext cx="4161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nd plot the first four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3276720" y="2362320"/>
                <a:ext cx="2666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0" y="2743200"/>
                <a:ext cx="3187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276720" y="2743200"/>
                <a:ext cx="2971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t xml:space="preserve">9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2133720" y="3429000"/>
                <a:ext cx="391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°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58" name=""/>
          <p:cNvGrpSpPr/>
          <p:nvPr/>
        </p:nvGrpSpPr>
        <p:grpSpPr>
          <a:xfrm>
            <a:off x="457200" y="3886200"/>
            <a:ext cx="3228840" cy="2471040"/>
            <a:chOff x="457200" y="3886200"/>
            <a:chExt cx="3228840" cy="2471040"/>
          </a:xfrm>
        </p:grpSpPr>
        <p:pic>
          <p:nvPicPr>
            <p:cNvPr id="559" name="" descr=""/>
            <p:cNvPicPr/>
            <p:nvPr/>
          </p:nvPicPr>
          <p:blipFill>
            <a:blip r:embed="rId2"/>
            <a:stretch/>
          </p:blipFill>
          <p:spPr>
            <a:xfrm>
              <a:off x="457200" y="3886200"/>
              <a:ext cx="322884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1169640" y="6019920"/>
              <a:ext cx="2261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mplitude spectr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5029200" y="3886200"/>
            <a:ext cx="3228840" cy="2166120"/>
            <a:chOff x="5029200" y="3886200"/>
            <a:chExt cx="3228840" cy="2166120"/>
          </a:xfrm>
        </p:grpSpPr>
        <p:pic>
          <p:nvPicPr>
            <p:cNvPr id="562" name="" descr=""/>
            <p:cNvPicPr/>
            <p:nvPr/>
          </p:nvPicPr>
          <p:blipFill>
            <a:blip r:embed="rId3"/>
            <a:stretch/>
          </p:blipFill>
          <p:spPr>
            <a:xfrm>
              <a:off x="5029200" y="3886200"/>
              <a:ext cx="322884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>
              <a:off x="5887080" y="5715000"/>
              <a:ext cx="1802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spectr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4" name="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65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3686400" cy="109548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2804400" y="135000"/>
            <a:ext cx="5857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igonometric Fourier series and plot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rst four terms of the amplitude and phase spec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0" y="1828800"/>
            <a:ext cx="8726040" cy="1838160"/>
            <a:chOff x="0" y="1828800"/>
            <a:chExt cx="8726040" cy="1838160"/>
          </a:xfrm>
        </p:grpSpPr>
        <p:graphicFrame>
          <p:nvGraphicFramePr>
            <p:cNvPr id="571" name=""/>
            <p:cNvGraphicFramePr/>
            <p:nvPr/>
          </p:nvGraphicFramePr>
          <p:xfrm>
            <a:off x="0" y="1828800"/>
            <a:ext cx="3809880" cy="1838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7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828800"/>
                      <a:ext cx="3809880" cy="183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73" name=""/>
            <p:cNvGrpSpPr/>
            <p:nvPr/>
          </p:nvGrpSpPr>
          <p:grpSpPr>
            <a:xfrm>
              <a:off x="3962520" y="2133360"/>
              <a:ext cx="4763520" cy="932040"/>
              <a:chOff x="3962520" y="2133360"/>
              <a:chExt cx="4763520" cy="932040"/>
            </a:xfrm>
          </p:grpSpPr>
          <mc:AlternateContent>
            <mc:Choice xmlns:a14="http://schemas.microsoft.com/office/drawing/2010/main" Requires="a14">
              <p:sp>
                <p:nvSpPr>
                  <p:cNvPr id="574" name=""/>
                  <p:cNvSpPr txBox="1"/>
                  <p:nvPr/>
                </p:nvSpPr>
                <p:spPr>
                  <a:xfrm>
                    <a:off x="3962520" y="2444760"/>
                    <a:ext cx="237456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π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75" name=""/>
              <p:cNvSpPr/>
              <p:nvPr/>
            </p:nvSpPr>
            <p:spPr>
              <a:xfrm>
                <a:off x="6792840" y="2133360"/>
                <a:ext cx="1933200" cy="5806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rom the table o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er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6477120" y="3079800"/>
                <a:ext cx="2666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4572000" y="990720"/>
                <a:ext cx="23749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0" y="3429000"/>
                <a:ext cx="2438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n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79" name=""/>
          <p:cNvGraphicFramePr/>
          <p:nvPr/>
        </p:nvGraphicFramePr>
        <p:xfrm>
          <a:off x="2514600" y="3809880"/>
          <a:ext cx="6100920" cy="2600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8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14600" y="3809880"/>
                    <a:ext cx="610092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1" name="" descr=""/>
          <p:cNvPicPr/>
          <p:nvPr/>
        </p:nvPicPr>
        <p:blipFill>
          <a:blip r:embed="rId6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8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953280" y="50760"/>
            <a:ext cx="7221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TEADY STATE NETWOK RESPONSE TO PERIODIC 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605960" y="533520"/>
            <a:ext cx="59824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Replace the periodic signal by its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Determine the steady state response to each harmo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Add the steady state harmonic respon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3048120" y="2209680"/>
            <a:ext cx="3047760" cy="685800"/>
            <a:chOff x="3048120" y="2209680"/>
            <a:chExt cx="3047760" cy="685800"/>
          </a:xfrm>
        </p:grpSpPr>
        <p:grpSp>
          <p:nvGrpSpPr>
            <p:cNvPr id="587" name=""/>
            <p:cNvGrpSpPr/>
            <p:nvPr/>
          </p:nvGrpSpPr>
          <p:grpSpPr>
            <a:xfrm>
              <a:off x="3048120" y="2209680"/>
              <a:ext cx="3047760" cy="685800"/>
              <a:chOff x="3048120" y="2209680"/>
              <a:chExt cx="3047760" cy="685800"/>
            </a:xfrm>
          </p:grpSpPr>
          <p:sp>
            <p:nvSpPr>
              <p:cNvPr id="588" name=""/>
              <p:cNvSpPr/>
              <p:nvPr/>
            </p:nvSpPr>
            <p:spPr>
              <a:xfrm>
                <a:off x="3886200" y="2209680"/>
                <a:ext cx="1371600" cy="68580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048120" y="2514600"/>
                <a:ext cx="8380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257800" y="2514600"/>
                <a:ext cx="8380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91" name=""/>
                <p:cNvSpPr txBox="1"/>
                <p:nvPr/>
              </p:nvSpPr>
              <p:spPr>
                <a:xfrm>
                  <a:off x="4191120" y="2401920"/>
                  <a:ext cx="6984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jω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2" name=""/>
          <p:cNvGrpSpPr/>
          <p:nvPr/>
        </p:nvGrpSpPr>
        <p:grpSpPr>
          <a:xfrm>
            <a:off x="2514600" y="3076560"/>
            <a:ext cx="5410080" cy="428760"/>
            <a:chOff x="2514600" y="3076560"/>
            <a:chExt cx="5410080" cy="428760"/>
          </a:xfrm>
        </p:grpSpPr>
        <mc:AlternateContent>
          <mc:Choice xmlns:a14="http://schemas.microsoft.com/office/drawing/2010/main" Requires="a14">
            <p:sp>
              <p:nvSpPr>
                <p:cNvPr id="593" name=""/>
                <p:cNvSpPr txBox="1"/>
                <p:nvPr/>
              </p:nvSpPr>
              <p:spPr>
                <a:xfrm>
                  <a:off x="2514600" y="3076560"/>
                  <a:ext cx="134604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c</m:t>
                      </m:r>
                      <m:r>
                        <m:t xml:space="preserve">|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t xml:space="preserve">θ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594" name=""/>
            <p:cNvSpPr/>
            <p:nvPr/>
          </p:nvSpPr>
          <p:spPr>
            <a:xfrm>
              <a:off x="3962520" y="3276720"/>
              <a:ext cx="12189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5" name=""/>
                <p:cNvSpPr txBox="1"/>
                <p:nvPr/>
              </p:nvSpPr>
              <p:spPr>
                <a:xfrm>
                  <a:off x="5257800" y="3083040"/>
                  <a:ext cx="2666880" cy="38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c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j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|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t xml:space="preserve">θ</m:t>
                          </m:r>
                          <m:r>
                            <m:t xml:space="preserve">+</m:t>
                          </m:r>
                          <m:r>
                            <m:t xml:space="preserve">φ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6" name=""/>
          <p:cNvGrpSpPr/>
          <p:nvPr/>
        </p:nvGrpSpPr>
        <p:grpSpPr>
          <a:xfrm>
            <a:off x="1981080" y="3711600"/>
            <a:ext cx="6782040" cy="403200"/>
            <a:chOff x="1981080" y="3711600"/>
            <a:chExt cx="6782040" cy="403200"/>
          </a:xfrm>
        </p:grpSpPr>
        <mc:AlternateContent>
          <mc:Choice xmlns:a14="http://schemas.microsoft.com/office/drawing/2010/main" Requires="a14">
            <p:sp>
              <p:nvSpPr>
                <p:cNvPr id="597" name=""/>
                <p:cNvSpPr txBox="1"/>
                <p:nvPr/>
              </p:nvSpPr>
              <p:spPr>
                <a:xfrm>
                  <a:off x="1981080" y="3747960"/>
                  <a:ext cx="1905120" cy="3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θ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8" name=""/>
                <p:cNvSpPr txBox="1"/>
                <p:nvPr/>
              </p:nvSpPr>
              <p:spPr>
                <a:xfrm>
                  <a:off x="5257800" y="3711600"/>
                  <a:ext cx="3505320" cy="32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j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θ</m:t>
                      </m:r>
                      <m:r>
                        <m:t xml:space="preserve">+</m:t>
                      </m:r>
                      <m:r>
                        <m:t xml:space="preserve">φ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9" name=""/>
            <p:cNvSpPr/>
            <p:nvPr/>
          </p:nvSpPr>
          <p:spPr>
            <a:xfrm>
              <a:off x="3886200" y="3886200"/>
              <a:ext cx="1371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2362320" y="1676520"/>
                <a:ext cx="475596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01" name=""/>
          <p:cNvGrpSpPr/>
          <p:nvPr/>
        </p:nvGrpSpPr>
        <p:grpSpPr>
          <a:xfrm>
            <a:off x="1676520" y="4267080"/>
            <a:ext cx="7238880" cy="432000"/>
            <a:chOff x="1676520" y="4267080"/>
            <a:chExt cx="7238880" cy="432000"/>
          </a:xfrm>
        </p:grpSpPr>
        <mc:AlternateContent>
          <mc:Choice xmlns:a14="http://schemas.microsoft.com/office/drawing/2010/main" Requires="a14">
            <p:sp>
              <p:nvSpPr>
                <p:cNvPr id="602" name=""/>
                <p:cNvSpPr txBox="1"/>
                <p:nvPr/>
              </p:nvSpPr>
              <p:spPr>
                <a:xfrm>
                  <a:off x="1676520" y="4267080"/>
                  <a:ext cx="206676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|</m:t>
                          </m:r>
                          <m:r>
                            <m:t xml:space="preserve">D</m:t>
                          </m:r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θ</m:t>
                          </m:r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sSub>
                                <m:e>
                                  <m:r>
                                    <m:t xml:space="preserve">j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3" name=""/>
                <p:cNvSpPr txBox="1"/>
                <p:nvPr/>
              </p:nvSpPr>
              <p:spPr>
                <a:xfrm>
                  <a:off x="5310360" y="4314960"/>
                  <a:ext cx="360504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|</m:t>
                          </m:r>
                          <m:r>
                            <m:t xml:space="preserve">D</m:t>
                          </m:r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θ</m:t>
                          </m:r>
                          <m:r>
                            <m:t xml:space="preserve">|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j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φ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604" name=""/>
            <p:cNvSpPr/>
            <p:nvPr/>
          </p:nvSpPr>
          <p:spPr>
            <a:xfrm>
              <a:off x="3886200" y="4518000"/>
              <a:ext cx="1371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0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5" dur="indefinite" restart="never" nodeType="tmRoot">
          <p:childTnLst>
            <p:seq>
              <p:cTn id="1316" dur="indefinite" nodeType="mainSeq">
                <p:childTnLst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4038480" y="68580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76320" y="457200"/>
            <a:ext cx="3781440" cy="2076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1447920" y="457200"/>
                <a:ext cx="1765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387360" y="2133720"/>
                <a:ext cx="36576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dd</m:t>
                    </m:r>
                    <m:limLow>
                      <m:e/>
                      <m:lim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5029200" y="1295280"/>
                <a:ext cx="353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4" name=""/>
          <p:cNvSpPr/>
          <p:nvPr/>
        </p:nvSpPr>
        <p:spPr>
          <a:xfrm>
            <a:off x="5334120" y="76320"/>
            <a:ext cx="1523880" cy="2209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6000840" y="88920"/>
                <a:ext cx="787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4419720" y="380880"/>
                <a:ext cx="6094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4572000" y="2057400"/>
                <a:ext cx="41911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jω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jω</m:t>
                            </m:r>
                          </m:den>
                        </m:f>
                      </m:den>
                    </m:f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ω</m:t>
                        </m:r>
                      </m:den>
                    </m:f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5181480" y="609480"/>
                <a:ext cx="685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6934320" y="76320"/>
                <a:ext cx="927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7772400" y="1219320"/>
                <a:ext cx="825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2743200" y="3886200"/>
                <a:ext cx="4025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1752480" y="3048120"/>
                <a:ext cx="21463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∠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228600" y="4572000"/>
                <a:ext cx="2819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n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3352680" y="4495680"/>
                <a:ext cx="24638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0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sSup>
                                      <m:e>
                                        <m:r>
                                          <m:t xml:space="preserve">π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num>
                                  <m:den>
                                    <m:r>
                                      <m:t xml:space="preserve">nπ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352680" y="5257800"/>
                <a:ext cx="40388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4184640" y="3282840"/>
                <a:ext cx="773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1143000" y="5867280"/>
                <a:ext cx="70754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0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sSup>
                                      <m:e>
                                        <m:r>
                                          <m:t xml:space="preserve">π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num>
                                  <m:den>
                                    <m:r>
                                      <m:t xml:space="preserve">nπ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t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28" name="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2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3" dur="indefinite" restart="never" nodeType="tmRoot">
          <p:childTnLst>
            <p:seq>
              <p:cTn id="1324" dur="indefinite" nodeType="mainSeq">
                <p:childTnLst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30600" y="190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2514600" y="76320"/>
                <a:ext cx="51436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steady state expression for the current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3276720" cy="1401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3886200" y="609480"/>
                <a:ext cx="30988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3809880" y="1371600"/>
                <a:ext cx="4407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36" name=""/>
          <p:cNvGrpSpPr/>
          <p:nvPr/>
        </p:nvGrpSpPr>
        <p:grpSpPr>
          <a:xfrm>
            <a:off x="533520" y="1341360"/>
            <a:ext cx="1307880" cy="1236600"/>
            <a:chOff x="533520" y="1341360"/>
            <a:chExt cx="1307880" cy="1236600"/>
          </a:xfrm>
        </p:grpSpPr>
        <p:sp>
          <p:nvSpPr>
            <p:cNvPr id="637" name=""/>
            <p:cNvSpPr/>
            <p:nvPr/>
          </p:nvSpPr>
          <p:spPr>
            <a:xfrm>
              <a:off x="892080" y="1341360"/>
              <a:ext cx="523800" cy="679680"/>
            </a:xfrm>
            <a:custGeom>
              <a:avLst/>
              <a:gdLst/>
              <a:ahLst/>
              <a:rect l="l" t="t" r="r" b="b"/>
              <a:pathLst>
                <a:path w="330" h="428">
                  <a:moveTo>
                    <a:pt x="111" y="428"/>
                  </a:moveTo>
                  <a:cubicBezTo>
                    <a:pt x="129" y="0"/>
                    <a:pt x="0" y="50"/>
                    <a:pt x="289" y="39"/>
                  </a:cubicBezTo>
                  <a:cubicBezTo>
                    <a:pt x="303" y="38"/>
                    <a:pt x="316" y="39"/>
                    <a:pt x="330" y="3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8" name=""/>
                <p:cNvSpPr txBox="1"/>
                <p:nvPr/>
              </p:nvSpPr>
              <p:spPr>
                <a:xfrm>
                  <a:off x="533520" y="1981080"/>
                  <a:ext cx="13078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jω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304920" y="2590920"/>
                <a:ext cx="3085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3886200" y="2057400"/>
                <a:ext cx="48769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04920" y="3429000"/>
                <a:ext cx="5868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den>
                    </m:f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phasor for n-th harmoni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311040" y="4114800"/>
                <a:ext cx="439416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9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  <m:r>
                          <m:t xml:space="preserve">(</m:t>
                        </m:r>
                        <m:r>
                          <m:t xml:space="preserve">∠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∠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6629400" y="3276720"/>
                <a:ext cx="1486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2673360" y="5416560"/>
                <a:ext cx="40132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−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4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3414240" y="85680"/>
            <a:ext cx="2320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VERAGE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53400" y="592200"/>
            <a:ext cx="8294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a network with periodic sources (of the same period) the steady state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ross any element and the current through are all of the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3048120" y="1219320"/>
                <a:ext cx="303516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2933640" y="2590920"/>
                <a:ext cx="33148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verage Power 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1382760" y="3314880"/>
                <a:ext cx="631332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</m:s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80880" y="4724280"/>
                <a:ext cx="871380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</m:e>
                    </m:nary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76320" y="5486400"/>
                <a:ext cx="3962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⇒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k</m:t>
                              </m:r>
                              <m:r>
                                <m:t xml:space="preserve">≠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604800" y="3124080"/>
                <a:ext cx="46188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656" name=""/>
          <p:cNvSpPr/>
          <p:nvPr/>
        </p:nvSpPr>
        <p:spPr>
          <a:xfrm flipV="1">
            <a:off x="3657600" y="3429000"/>
            <a:ext cx="914400" cy="5335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6324480" y="3123720"/>
            <a:ext cx="990720" cy="7621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6248520" y="4419360"/>
            <a:ext cx="2057400" cy="685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6019920" y="5105520"/>
            <a:ext cx="2768400" cy="747720"/>
            <a:chOff x="6019920" y="5105520"/>
            <a:chExt cx="2768400" cy="747720"/>
          </a:xfrm>
        </p:grpSpPr>
        <p:sp>
          <p:nvSpPr>
            <p:cNvPr id="660" name=""/>
            <p:cNvSpPr/>
            <p:nvPr/>
          </p:nvSpPr>
          <p:spPr>
            <a:xfrm>
              <a:off x="6629400" y="5105520"/>
              <a:ext cx="1295280" cy="609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1" name=""/>
                <p:cNvSpPr txBox="1"/>
                <p:nvPr/>
              </p:nvSpPr>
              <p:spPr>
                <a:xfrm>
                  <a:off x="6019920" y="5562720"/>
                  <a:ext cx="2768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T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vn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for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4114800" y="5867280"/>
                <a:ext cx="46735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verage Power </m:t>
                    </m:r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n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</m:nary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3" name=""/>
          <p:cNvSpPr/>
          <p:nvPr/>
        </p:nvSpPr>
        <p:spPr>
          <a:xfrm>
            <a:off x="6166080" y="1295280"/>
            <a:ext cx="293004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average power i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m of the average pow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each harmo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65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9" dur="indefinite" restart="never" nodeType="tmRoot">
          <p:childTnLst>
            <p:seq>
              <p:cTn id="1490" dur="indefinite" nodeType="mainSeq">
                <p:childTnLst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50760" y="533520"/>
                <a:ext cx="49784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2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9" name=""/>
          <p:cNvSpPr/>
          <p:nvPr/>
        </p:nvSpPr>
        <p:spPr>
          <a:xfrm>
            <a:off x="2753640" y="58680"/>
            <a:ext cx="3225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average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2666880" y="533520"/>
            <a:ext cx="5473800" cy="264960"/>
            <a:chOff x="2666880" y="533520"/>
            <a:chExt cx="5473800" cy="264960"/>
          </a:xfrm>
        </p:grpSpPr>
        <mc:AlternateContent>
          <mc:Choice xmlns:a14="http://schemas.microsoft.com/office/drawing/2010/main" Requires="a14">
            <p:sp>
              <p:nvSpPr>
                <p:cNvPr id="671" name=""/>
                <p:cNvSpPr txBox="1"/>
                <p:nvPr/>
              </p:nvSpPr>
              <p:spPr>
                <a:xfrm>
                  <a:off x="6019920" y="533520"/>
                  <a:ext cx="21207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α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α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80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72" name=""/>
            <p:cNvSpPr/>
            <p:nvPr/>
          </p:nvSpPr>
          <p:spPr>
            <a:xfrm>
              <a:off x="2666880" y="76212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1758960" y="1600200"/>
                <a:ext cx="53100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2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3282840" y="2133720"/>
                <a:ext cx="27432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75" name="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7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305160" cy="1619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52680" y="228600"/>
            <a:ext cx="2550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iginal Periodic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80880" y="3321000"/>
            <a:ext cx="3463920" cy="3041640"/>
            <a:chOff x="380880" y="3321000"/>
            <a:chExt cx="3463920" cy="3041640"/>
          </a:xfrm>
        </p:grpSpPr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380880" y="3733920"/>
              <a:ext cx="3333960" cy="26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808200" y="3321000"/>
              <a:ext cx="3036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roximation with 2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952880" y="152280"/>
            <a:ext cx="3539880" cy="3124080"/>
            <a:chOff x="4952880" y="152280"/>
            <a:chExt cx="3539880" cy="3124080"/>
          </a:xfrm>
        </p:grpSpPr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4952880" y="637920"/>
              <a:ext cx="3353040" cy="26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456160" y="152280"/>
              <a:ext cx="3036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roximation with 4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029200" y="3352680"/>
            <a:ext cx="3786120" cy="3019680"/>
            <a:chOff x="5029200" y="3352680"/>
            <a:chExt cx="3786120" cy="3019680"/>
          </a:xfrm>
        </p:grpSpPr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5029200" y="3733920"/>
              <a:ext cx="3228840" cy="26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546880" y="3352680"/>
              <a:ext cx="3268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roximation with 100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28600" y="6095880"/>
                <a:ext cx="387360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334120" y="6095880"/>
                <a:ext cx="31748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502160" y="3282840"/>
                <a:ext cx="139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705040" y="2286000"/>
                <a:ext cx="21718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3283200" y="533520"/>
            <a:ext cx="19411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PL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QUALITY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ROX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029040" cy="12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3581280" y="838080"/>
                <a:ext cx="48513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754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2438280" y="76320"/>
                <a:ext cx="6097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termine the current,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and the average power absorb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y the networ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82" name=""/>
          <p:cNvGrpSpPr/>
          <p:nvPr/>
        </p:nvGrpSpPr>
        <p:grpSpPr>
          <a:xfrm>
            <a:off x="963720" y="1569960"/>
            <a:ext cx="2376360" cy="1008000"/>
            <a:chOff x="963720" y="1569960"/>
            <a:chExt cx="2376360" cy="1008000"/>
          </a:xfrm>
        </p:grpSpPr>
        <mc:AlternateContent>
          <mc:Choice xmlns:a14="http://schemas.microsoft.com/office/drawing/2010/main" Requires="a14">
            <p:sp>
              <p:nvSpPr>
                <p:cNvPr id="683" name=""/>
                <p:cNvSpPr txBox="1"/>
                <p:nvPr/>
              </p:nvSpPr>
              <p:spPr>
                <a:xfrm>
                  <a:off x="990720" y="1981080"/>
                  <a:ext cx="23493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(</m:t>
                      </m:r>
                      <m:r>
                        <m:t xml:space="preserve">j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R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jL</m:t>
                      </m:r>
                      <m:r>
                        <m:t xml:space="preserve">ω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jC</m:t>
                          </m:r>
                          <m:r>
                            <m:t xml:space="preserve">ω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84" name=""/>
            <p:cNvSpPr/>
            <p:nvPr/>
          </p:nvSpPr>
          <p:spPr>
            <a:xfrm>
              <a:off x="963720" y="1569960"/>
              <a:ext cx="195120" cy="746280"/>
            </a:xfrm>
            <a:custGeom>
              <a:avLst/>
              <a:gdLst/>
              <a:ahLst/>
              <a:rect l="l" t="t" r="r" b="b"/>
              <a:pathLst>
                <a:path w="123" h="470">
                  <a:moveTo>
                    <a:pt x="9" y="470"/>
                  </a:moveTo>
                  <a:cubicBezTo>
                    <a:pt x="0" y="81"/>
                    <a:pt x="1" y="233"/>
                    <a:pt x="1" y="16"/>
                  </a:cubicBezTo>
                  <a:cubicBezTo>
                    <a:pt x="49" y="4"/>
                    <a:pt x="69" y="0"/>
                    <a:pt x="123" y="0"/>
                  </a:cubicBezTo>
                </a:path>
              </a:pathLst>
            </a:custGeom>
            <a:solidFill>
              <a:srgbClr val="ccecff"/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3505320" y="1981080"/>
                <a:ext cx="1485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152280" y="2666880"/>
                <a:ext cx="419112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0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377</m:t>
                            </m:r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152280" y="4724280"/>
                <a:ext cx="447048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°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0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4</m:t>
                            </m:r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4419720" y="2590920"/>
                <a:ext cx="36957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apacitor acts as open circuit 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4152960" y="3657600"/>
                <a:ext cx="49910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754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4038480" y="5029200"/>
                <a:ext cx="5004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"/>
              <p:cNvSpPr txBox="1"/>
              <p:nvPr/>
            </p:nvSpPr>
            <p:spPr>
              <a:xfrm>
                <a:off x="4419720" y="4114800"/>
                <a:ext cx="46735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verage Power </m:t>
                    </m:r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n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</m:nary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93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9" dur="indefinite" restart="never" nodeType="tmRoot">
          <p:childTnLst>
            <p:seq>
              <p:cTn id="1590" dur="indefinite" nodeType="mainSeq">
                <p:childTnLst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2806560" y="76320"/>
            <a:ext cx="349560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FOURIER 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609480" y="685800"/>
                <a:ext cx="21337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5289480" y="762120"/>
                <a:ext cx="21589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f>
                          <m:num>
                            <m:r>
                              <m:t xml:space="preserve">d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698" name=""/>
          <p:cNvGrpSpPr/>
          <p:nvPr/>
        </p:nvGrpSpPr>
        <p:grpSpPr>
          <a:xfrm>
            <a:off x="838080" y="1523880"/>
            <a:ext cx="6413760" cy="330120"/>
            <a:chOff x="838080" y="1523880"/>
            <a:chExt cx="6413760" cy="330120"/>
          </a:xfrm>
        </p:grpSpPr>
        <mc:AlternateContent>
          <mc:Choice xmlns:a14="http://schemas.microsoft.com/office/drawing/2010/main" Requires="a14">
            <p:sp>
              <p:nvSpPr>
                <p:cNvPr id="699" name=""/>
                <p:cNvSpPr txBox="1"/>
                <p:nvPr/>
              </p:nvSpPr>
              <p:spPr>
                <a:xfrm>
                  <a:off x="838080" y="1523880"/>
                  <a:ext cx="14734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[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0" name=""/>
                <p:cNvSpPr txBox="1"/>
                <p:nvPr/>
              </p:nvSpPr>
              <p:spPr>
                <a:xfrm>
                  <a:off x="5638680" y="1523880"/>
                  <a:ext cx="16131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F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-1</m:t>
                          </m:r>
                        </m:sup>
                      </m:sSup>
                      <m:r>
                        <m:t xml:space="preserve">[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01" name=""/>
          <p:cNvSpPr/>
          <p:nvPr/>
        </p:nvSpPr>
        <p:spPr>
          <a:xfrm>
            <a:off x="151200" y="1905120"/>
            <a:ext cx="4315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heuristic view of the Fourier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304920" y="2362320"/>
            <a:ext cx="7772400" cy="1523880"/>
            <a:chOff x="304920" y="2362320"/>
            <a:chExt cx="7772400" cy="1523880"/>
          </a:xfrm>
        </p:grpSpPr>
        <p:pic>
          <p:nvPicPr>
            <p:cNvPr id="703" name="" descr=""/>
            <p:cNvPicPr/>
            <p:nvPr/>
          </p:nvPicPr>
          <p:blipFill>
            <a:blip r:embed="rId1"/>
            <a:stretch/>
          </p:blipFill>
          <p:spPr>
            <a:xfrm>
              <a:off x="304920" y="2362320"/>
              <a:ext cx="3209760" cy="151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" descr=""/>
            <p:cNvPicPr/>
            <p:nvPr/>
          </p:nvPicPr>
          <p:blipFill>
            <a:blip r:embed="rId2"/>
            <a:stretch/>
          </p:blipFill>
          <p:spPr>
            <a:xfrm>
              <a:off x="4572000" y="2381400"/>
              <a:ext cx="3505320" cy="15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"/>
          <p:cNvSpPr/>
          <p:nvPr/>
        </p:nvSpPr>
        <p:spPr>
          <a:xfrm>
            <a:off x="367200" y="3639960"/>
            <a:ext cx="8468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non-periodic function can be viewed as the limit of a periodic function whe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iod approaches infi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25560" y="4267080"/>
                <a:ext cx="1841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25560" y="5029200"/>
                <a:ext cx="22604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2362320" y="4267080"/>
                <a:ext cx="2171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2362320" y="5029200"/>
                <a:ext cx="21970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4724280" y="4648320"/>
                <a:ext cx="95256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Δω</m:t>
                        </m:r>
                      </m:e>
                      <m:e>
                        <m:r>
                          <m:t xml:space="preserve">nΔω</m:t>
                        </m:r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11" name=""/>
          <p:cNvGrpSpPr/>
          <p:nvPr/>
        </p:nvGrpSpPr>
        <p:grpSpPr>
          <a:xfrm>
            <a:off x="4572000" y="5257800"/>
            <a:ext cx="2781360" cy="671400"/>
            <a:chOff x="4572000" y="5257800"/>
            <a:chExt cx="2781360" cy="671400"/>
          </a:xfrm>
        </p:grpSpPr>
        <p:sp>
          <p:nvSpPr>
            <p:cNvPr id="712" name=""/>
            <p:cNvSpPr/>
            <p:nvPr/>
          </p:nvSpPr>
          <p:spPr>
            <a:xfrm>
              <a:off x="4572000" y="5638680"/>
              <a:ext cx="12952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3" name=""/>
                <p:cNvSpPr txBox="1"/>
                <p:nvPr/>
              </p:nvSpPr>
              <p:spPr>
                <a:xfrm>
                  <a:off x="6172200" y="5257800"/>
                  <a:ext cx="118116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ω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4" name=""/>
          <p:cNvGrpSpPr/>
          <p:nvPr/>
        </p:nvGrpSpPr>
        <p:grpSpPr>
          <a:xfrm>
            <a:off x="4572000" y="4191120"/>
            <a:ext cx="3009960" cy="671400"/>
            <a:chOff x="4572000" y="4191120"/>
            <a:chExt cx="3009960" cy="671400"/>
          </a:xfrm>
        </p:grpSpPr>
        <p:sp>
          <p:nvSpPr>
            <p:cNvPr id="715" name=""/>
            <p:cNvSpPr/>
            <p:nvPr/>
          </p:nvSpPr>
          <p:spPr>
            <a:xfrm>
              <a:off x="4572000" y="4495680"/>
              <a:ext cx="1523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6" name=""/>
                <p:cNvSpPr txBox="1"/>
                <p:nvPr/>
              </p:nvSpPr>
              <p:spPr>
                <a:xfrm>
                  <a:off x="6095880" y="4191120"/>
                  <a:ext cx="148608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ωt</m:t>
                              </m:r>
                            </m:sup>
                          </m:sSup>
                          <m:f>
                            <m:num>
                              <m:r>
                                <m:t xml:space="preserve">dω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4800600" y="5791320"/>
                <a:ext cx="9144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18" name="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1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5" dur="indefinite" restart="never" nodeType="tmRoot">
          <p:childTnLst>
            <p:seq>
              <p:cTn id="1646" dur="indefinite" nodeType="mainSeq">
                <p:childTnLst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533680" y="58680"/>
            <a:ext cx="3530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Fourier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3809880" cy="1947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24" name=""/>
              <p:cNvSpPr txBox="1"/>
              <p:nvPr/>
            </p:nvSpPr>
            <p:spPr>
              <a:xfrm>
                <a:off x="76320" y="2133720"/>
                <a:ext cx="32637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V</m:t>
                    </m:r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5" name=""/>
              <p:cNvSpPr txBox="1"/>
              <p:nvPr/>
            </p:nvSpPr>
            <p:spPr>
              <a:xfrm>
                <a:off x="76320" y="2819520"/>
                <a:ext cx="24638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V</m:t>
                    </m:r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6" name=""/>
              <p:cNvSpPr txBox="1"/>
              <p:nvPr/>
            </p:nvSpPr>
            <p:spPr>
              <a:xfrm>
                <a:off x="2590920" y="2895480"/>
                <a:ext cx="18795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V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ωδ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ωδ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num>
                      <m:den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27" name=""/>
          <p:cNvGrpSpPr/>
          <p:nvPr/>
        </p:nvGrpSpPr>
        <p:grpSpPr>
          <a:xfrm>
            <a:off x="152280" y="3657600"/>
            <a:ext cx="4229280" cy="2867040"/>
            <a:chOff x="152280" y="3657600"/>
            <a:chExt cx="4229280" cy="2867040"/>
          </a:xfrm>
        </p:grpSpPr>
        <p:pic>
          <p:nvPicPr>
            <p:cNvPr id="728" name="" descr=""/>
            <p:cNvPicPr/>
            <p:nvPr/>
          </p:nvPicPr>
          <p:blipFill>
            <a:blip r:embed="rId2"/>
            <a:stretch/>
          </p:blipFill>
          <p:spPr>
            <a:xfrm>
              <a:off x="152280" y="4419720"/>
              <a:ext cx="4229280" cy="21049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29" name=""/>
                <p:cNvSpPr txBox="1"/>
                <p:nvPr/>
              </p:nvSpPr>
              <p:spPr>
                <a:xfrm>
                  <a:off x="380880" y="3657600"/>
                  <a:ext cx="1689120" cy="107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Vδ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num>
                        <m:den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30" name=""/>
          <p:cNvGrpSpPr/>
          <p:nvPr/>
        </p:nvGrpSpPr>
        <p:grpSpPr>
          <a:xfrm>
            <a:off x="4572000" y="1114560"/>
            <a:ext cx="4210200" cy="2527200"/>
            <a:chOff x="4572000" y="1114560"/>
            <a:chExt cx="4210200" cy="2527200"/>
          </a:xfrm>
        </p:grpSpPr>
        <p:pic>
          <p:nvPicPr>
            <p:cNvPr id="731" name="" descr=""/>
            <p:cNvPicPr/>
            <p:nvPr/>
          </p:nvPicPr>
          <p:blipFill>
            <a:blip r:embed="rId3"/>
            <a:stretch/>
          </p:blipFill>
          <p:spPr>
            <a:xfrm>
              <a:off x="4572000" y="1114560"/>
              <a:ext cx="4210200" cy="17049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32" name=""/>
                <p:cNvSpPr txBox="1"/>
                <p:nvPr/>
              </p:nvSpPr>
              <p:spPr>
                <a:xfrm>
                  <a:off x="5791320" y="2562480"/>
                  <a:ext cx="1447560" cy="107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Vδ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num>
                        <m:den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33" name=""/>
          <p:cNvSpPr/>
          <p:nvPr/>
        </p:nvSpPr>
        <p:spPr>
          <a:xfrm>
            <a:off x="4748040" y="533520"/>
            <a:ext cx="4097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comparison we show the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a related periodic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4572000" y="4238640"/>
            <a:ext cx="4229280" cy="2085840"/>
            <a:chOff x="4572000" y="4238640"/>
            <a:chExt cx="4229280" cy="2085840"/>
          </a:xfrm>
        </p:grpSpPr>
        <p:pic>
          <p:nvPicPr>
            <p:cNvPr id="735" name="" descr=""/>
            <p:cNvPicPr/>
            <p:nvPr/>
          </p:nvPicPr>
          <p:blipFill>
            <a:blip r:embed="rId4"/>
            <a:stretch/>
          </p:blipFill>
          <p:spPr>
            <a:xfrm>
              <a:off x="4572000" y="4238640"/>
              <a:ext cx="4229280" cy="20858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36" name=""/>
                <p:cNvSpPr txBox="1"/>
                <p:nvPr/>
              </p:nvSpPr>
              <p:spPr>
                <a:xfrm>
                  <a:off x="5587920" y="5991120"/>
                  <a:ext cx="226080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pectrum  for 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37" name="" descr=""/>
          <p:cNvPicPr/>
          <p:nvPr/>
        </p:nvPicPr>
        <p:blipFill>
          <a:blip r:embed="rId5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3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9" dur="indefinite" restart="never" nodeType="tmRoot">
          <p:childTnLst>
            <p:seq>
              <p:cTn id="1720" dur="indefinite" nodeType="mainSeq">
                <p:childTnLst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68760" y="76320"/>
            <a:ext cx="23356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25280" y="457200"/>
            <a:ext cx="4181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Fourier transform of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it impulse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5823000" y="1143000"/>
                <a:ext cx="21589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f>
                          <m:num>
                            <m:r>
                              <m:t xml:space="preserve">d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743" name=""/>
          <p:cNvGrpSpPr/>
          <p:nvPr/>
        </p:nvGrpSpPr>
        <p:grpSpPr>
          <a:xfrm>
            <a:off x="76320" y="1041480"/>
            <a:ext cx="2133360" cy="1066680"/>
            <a:chOff x="76320" y="1041480"/>
            <a:chExt cx="2133360" cy="1066680"/>
          </a:xfrm>
        </p:grpSpPr>
        <mc:AlternateContent>
          <mc:Choice xmlns:a14="http://schemas.microsoft.com/office/drawing/2010/main" Requires="a14">
            <p:sp>
              <p:nvSpPr>
                <p:cNvPr id="744" name=""/>
                <p:cNvSpPr txBox="1"/>
                <p:nvPr/>
              </p:nvSpPr>
              <p:spPr>
                <a:xfrm>
                  <a:off x="76320" y="1041480"/>
                  <a:ext cx="213336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jω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5" name=""/>
                <p:cNvSpPr txBox="1"/>
                <p:nvPr/>
              </p:nvSpPr>
              <p:spPr>
                <a:xfrm>
                  <a:off x="533160" y="1828800"/>
                  <a:ext cx="14731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[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76320" y="3657600"/>
                <a:ext cx="3365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[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76320" y="2133720"/>
                <a:ext cx="37306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fting or sampling property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impulse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4876920" y="1981080"/>
                <a:ext cx="39877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sider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fi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corresponding function of tim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5283360" y="2819520"/>
                <a:ext cx="28065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f>
                          <m:num>
                            <m:r>
                              <m:t xml:space="preserve">d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6248520" y="3657600"/>
                <a:ext cx="10922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397480" y="4313160"/>
                <a:ext cx="2718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πδ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ω-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52" name=""/>
          <p:cNvGrpSpPr/>
          <p:nvPr/>
        </p:nvGrpSpPr>
        <p:grpSpPr>
          <a:xfrm>
            <a:off x="328320" y="4724280"/>
            <a:ext cx="3177000" cy="853200"/>
            <a:chOff x="328320" y="4724280"/>
            <a:chExt cx="3177000" cy="853200"/>
          </a:xfrm>
        </p:grpSpPr>
        <p:sp>
          <p:nvSpPr>
            <p:cNvPr id="753" name=""/>
            <p:cNvSpPr/>
            <p:nvPr/>
          </p:nvSpPr>
          <p:spPr>
            <a:xfrm>
              <a:off x="328320" y="472428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73760" y="5240160"/>
              <a:ext cx="1265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term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5" name=""/>
                <p:cNvSpPr txBox="1"/>
                <p:nvPr/>
              </p:nvSpPr>
              <p:spPr>
                <a:xfrm>
                  <a:off x="1828800" y="5257800"/>
                  <a:ext cx="16765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0" y="5715000"/>
                <a:ext cx="2971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3048120" y="5715000"/>
                <a:ext cx="3314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609480" y="6400800"/>
                <a:ext cx="3187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jπ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6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648320" y="152280"/>
                <a:ext cx="4114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termine the Fourier transform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9" dur="indefinite" restart="never" nodeType="tmRoot">
          <p:childTnLst>
            <p:seq>
              <p:cTn id="1770" dur="indefinite" nodeType="mainSeq">
                <p:childTnLst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7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64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2"/>
          <a:stretch/>
        </p:blipFill>
        <p:spPr>
          <a:xfrm>
            <a:off x="1943280" y="414360"/>
            <a:ext cx="5257800" cy="602928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2819520" y="3808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9" dur="indefinite" restart="never" nodeType="tmRoot">
          <p:childTnLst>
            <p:seq>
              <p:cTn id="1850" dur="indefinite" nodeType="mainSeq">
                <p:childTnLst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633240" y="76320"/>
            <a:ext cx="7877520" cy="6562440"/>
          </a:xfrm>
          <a:prstGeom prst="rect">
            <a:avLst/>
          </a:prstGeom>
          <a:ln w="0">
            <a:noFill/>
          </a:ln>
        </p:spPr>
      </p:pic>
      <p:sp>
        <p:nvSpPr>
          <p:cNvPr id="769" name=""/>
          <p:cNvSpPr/>
          <p:nvPr/>
        </p:nvSpPr>
        <p:spPr>
          <a:xfrm>
            <a:off x="457200" y="5181480"/>
            <a:ext cx="7772400" cy="1600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7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523880" y="152280"/>
            <a:ext cx="6098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7" dur="indefinite" restart="never" nodeType="tmRoot">
          <p:childTnLst>
            <p:seq>
              <p:cTn id="1858" dur="indefinite" nodeType="mainSeq">
                <p:childTnLst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134640" y="76320"/>
            <a:ext cx="35791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of of the convolution 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228600" y="457200"/>
                <a:ext cx="38354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304920" y="1523880"/>
                <a:ext cx="3593880" cy="14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∫"/>
                                  </m:naryPr>
                                  <m:sub>
                                    <m:r>
                                      <m:t xml:space="preserve">−</m:t>
                                    </m:r>
                                    <m:r>
                                      <m:t xml:space="preserve">∞</m:t>
                                    </m:r>
                                  </m:sub>
                                  <m:sup>
                                    <m:r>
                                      <m:t xml:space="preserve">∞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nary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298440" y="3505320"/>
                <a:ext cx="36068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8" name=""/>
          <p:cNvSpPr/>
          <p:nvPr/>
        </p:nvSpPr>
        <p:spPr>
          <a:xfrm>
            <a:off x="268920" y="3030480"/>
            <a:ext cx="3525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changing orders of 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320760" y="4325760"/>
            <a:ext cx="3030480" cy="676440"/>
            <a:chOff x="320760" y="4325760"/>
            <a:chExt cx="3030480" cy="676440"/>
          </a:xfrm>
        </p:grpSpPr>
        <p:sp>
          <p:nvSpPr>
            <p:cNvPr id="780" name=""/>
            <p:cNvSpPr/>
            <p:nvPr/>
          </p:nvSpPr>
          <p:spPr>
            <a:xfrm>
              <a:off x="320760" y="4325760"/>
              <a:ext cx="3030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ange integration vari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1" name=""/>
                <p:cNvSpPr txBox="1"/>
                <p:nvPr/>
              </p:nvSpPr>
              <p:spPr>
                <a:xfrm>
                  <a:off x="685800" y="4800600"/>
                  <a:ext cx="1930320" cy="20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=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x</m:t>
                      </m:r>
                      <m:r>
                        <m:t xml:space="preserve">⇒</m:t>
                      </m:r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u</m:t>
                      </m:r>
                      <m:r>
                        <m:t xml:space="preserve">+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82" name=""/>
          <p:cNvSpPr/>
          <p:nvPr/>
        </p:nvSpPr>
        <p:spPr>
          <a:xfrm>
            <a:off x="138240" y="5073480"/>
            <a:ext cx="4446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limits of integration remain the 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304920" y="5562720"/>
                <a:ext cx="36957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u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</m:nary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4800600" y="380880"/>
                <a:ext cx="38988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u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x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</m:nary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4794120" y="1143000"/>
                <a:ext cx="39117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u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</m:nary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5715000" y="190512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8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5" dur="indefinite" restart="never" nodeType="tmRoot">
          <p:childTnLst>
            <p:seq>
              <p:cTn id="1866" dur="indefinite" nodeType="mainSeq">
                <p:childTnLst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181080" y="76320"/>
            <a:ext cx="52527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ystems application of the convolution 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152280" y="623880"/>
            <a:ext cx="4419720" cy="900000"/>
            <a:chOff x="152280" y="623880"/>
            <a:chExt cx="4419720" cy="900000"/>
          </a:xfrm>
        </p:grpSpPr>
        <p:sp>
          <p:nvSpPr>
            <p:cNvPr id="792" name=""/>
            <p:cNvSpPr/>
            <p:nvPr/>
          </p:nvSpPr>
          <p:spPr>
            <a:xfrm>
              <a:off x="761760" y="838080"/>
              <a:ext cx="1371600" cy="6858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3" name=""/>
                <p:cNvSpPr txBox="1"/>
                <p:nvPr/>
              </p:nvSpPr>
              <p:spPr>
                <a:xfrm>
                  <a:off x="1218960" y="1066680"/>
                  <a:ext cx="4050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94" name=""/>
            <p:cNvSpPr/>
            <p:nvPr/>
          </p:nvSpPr>
          <p:spPr>
            <a:xfrm>
              <a:off x="152280" y="114300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133360" y="1143000"/>
              <a:ext cx="6098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6" name=""/>
                <p:cNvSpPr txBox="1"/>
                <p:nvPr/>
              </p:nvSpPr>
              <p:spPr>
                <a:xfrm>
                  <a:off x="152280" y="762120"/>
                  <a:ext cx="469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7" name=""/>
                <p:cNvSpPr txBox="1"/>
                <p:nvPr/>
              </p:nvSpPr>
              <p:spPr>
                <a:xfrm>
                  <a:off x="2235240" y="623880"/>
                  <a:ext cx="233676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98" name="" descr=""/>
          <p:cNvPicPr/>
          <p:nvPr/>
        </p:nvPicPr>
        <p:blipFill>
          <a:blip r:embed="rId1"/>
          <a:stretch/>
        </p:blipFill>
        <p:spPr>
          <a:xfrm>
            <a:off x="171360" y="1828800"/>
            <a:ext cx="4400640" cy="581040"/>
          </a:xfrm>
          <a:prstGeom prst="rect">
            <a:avLst/>
          </a:prstGeom>
          <a:ln w="0">
            <a:noFill/>
          </a:ln>
        </p:spPr>
      </p:pic>
      <p:grpSp>
        <p:nvGrpSpPr>
          <p:cNvPr id="799" name=""/>
          <p:cNvGrpSpPr/>
          <p:nvPr/>
        </p:nvGrpSpPr>
        <p:grpSpPr>
          <a:xfrm>
            <a:off x="99720" y="3048120"/>
            <a:ext cx="7138800" cy="1905480"/>
            <a:chOff x="99720" y="3048120"/>
            <a:chExt cx="7138800" cy="1905480"/>
          </a:xfrm>
        </p:grpSpPr>
        <p:sp>
          <p:nvSpPr>
            <p:cNvPr id="800" name=""/>
            <p:cNvSpPr/>
            <p:nvPr/>
          </p:nvSpPr>
          <p:spPr>
            <a:xfrm>
              <a:off x="99720" y="304812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1" name="" descr=""/>
            <p:cNvPicPr/>
            <p:nvPr/>
          </p:nvPicPr>
          <p:blipFill>
            <a:blip r:embed="rId2"/>
            <a:stretch/>
          </p:blipFill>
          <p:spPr>
            <a:xfrm>
              <a:off x="154440" y="3643200"/>
              <a:ext cx="3512520" cy="6001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802" name=""/>
                <p:cNvSpPr txBox="1"/>
                <p:nvPr/>
              </p:nvSpPr>
              <p:spPr>
                <a:xfrm>
                  <a:off x="147960" y="4100400"/>
                  <a:ext cx="13698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3" name=""/>
                <p:cNvSpPr txBox="1"/>
                <p:nvPr/>
              </p:nvSpPr>
              <p:spPr>
                <a:xfrm>
                  <a:off x="1720080" y="4253040"/>
                  <a:ext cx="13957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04" name=""/>
            <p:cNvSpPr/>
            <p:nvPr/>
          </p:nvSpPr>
          <p:spPr>
            <a:xfrm>
              <a:off x="143640" y="4616280"/>
              <a:ext cx="3655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And all initial conditions are zer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5" name=""/>
                <p:cNvSpPr txBox="1"/>
                <p:nvPr/>
              </p:nvSpPr>
              <p:spPr>
                <a:xfrm>
                  <a:off x="2737800" y="3125880"/>
                  <a:ext cx="450072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Use Fourier transform to determine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06" name=""/>
          <p:cNvGrpSpPr/>
          <p:nvPr/>
        </p:nvGrpSpPr>
        <p:grpSpPr>
          <a:xfrm>
            <a:off x="4724280" y="3564000"/>
            <a:ext cx="3505320" cy="969840"/>
            <a:chOff x="4724280" y="3564000"/>
            <a:chExt cx="3505320" cy="969840"/>
          </a:xfrm>
        </p:grpSpPr>
        <p:graphicFrame>
          <p:nvGraphicFramePr>
            <p:cNvPr id="807" name=""/>
            <p:cNvGraphicFramePr/>
            <p:nvPr/>
          </p:nvGraphicFramePr>
          <p:xfrm>
            <a:off x="4724280" y="3886200"/>
            <a:ext cx="3505320" cy="647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0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886200"/>
                      <a:ext cx="3505320" cy="647640"/>
                    </a:xfrm>
                    <a:prstGeom prst="rect">
                      <a:avLst/>
                    </a:prstGeom>
                    <a:ln w="50760">
                      <a:solidFill>
                        <a:srgbClr val="ccff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09" name=""/>
            <p:cNvSpPr/>
            <p:nvPr/>
          </p:nvSpPr>
          <p:spPr>
            <a:xfrm>
              <a:off x="4756320" y="3564000"/>
              <a:ext cx="311580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om the table of transfo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304920" y="5029200"/>
                <a:ext cx="2031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304920" y="6019920"/>
                <a:ext cx="2489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2" name=""/>
          <p:cNvSpPr/>
          <p:nvPr/>
        </p:nvSpPr>
        <p:spPr>
          <a:xfrm>
            <a:off x="2464200" y="5257800"/>
            <a:ext cx="21420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partial f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pan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5410080" y="4648320"/>
                <a:ext cx="2400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14" name=""/>
          <p:cNvGrpSpPr/>
          <p:nvPr/>
        </p:nvGrpSpPr>
        <p:grpSpPr>
          <a:xfrm>
            <a:off x="5562720" y="4157640"/>
            <a:ext cx="3259080" cy="2254320"/>
            <a:chOff x="5562720" y="4157640"/>
            <a:chExt cx="3259080" cy="2254320"/>
          </a:xfrm>
        </p:grpSpPr>
        <mc:AlternateContent>
          <mc:Choice xmlns:a14="http://schemas.microsoft.com/office/drawing/2010/main" Requires="a14">
            <p:sp>
              <p:nvSpPr>
                <p:cNvPr id="815" name=""/>
                <p:cNvSpPr txBox="1"/>
                <p:nvPr/>
              </p:nvSpPr>
              <p:spPr>
                <a:xfrm>
                  <a:off x="5562720" y="5410080"/>
                  <a:ext cx="223524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816" name=""/>
            <p:cNvSpPr/>
            <p:nvPr/>
          </p:nvSpPr>
          <p:spPr>
            <a:xfrm>
              <a:off x="7763040" y="4157640"/>
              <a:ext cx="1058760" cy="1930320"/>
            </a:xfrm>
            <a:custGeom>
              <a:avLst/>
              <a:gdLst/>
              <a:ahLst/>
              <a:rect l="l" t="t" r="r" b="b"/>
              <a:pathLst>
                <a:path w="667" h="1216">
                  <a:moveTo>
                    <a:pt x="308" y="0"/>
                  </a:moveTo>
                  <a:cubicBezTo>
                    <a:pt x="402" y="10"/>
                    <a:pt x="490" y="28"/>
                    <a:pt x="583" y="40"/>
                  </a:cubicBezTo>
                  <a:cubicBezTo>
                    <a:pt x="636" y="93"/>
                    <a:pt x="618" y="63"/>
                    <a:pt x="640" y="129"/>
                  </a:cubicBezTo>
                  <a:cubicBezTo>
                    <a:pt x="667" y="352"/>
                    <a:pt x="662" y="659"/>
                    <a:pt x="494" y="827"/>
                  </a:cubicBezTo>
                  <a:cubicBezTo>
                    <a:pt x="441" y="976"/>
                    <a:pt x="482" y="912"/>
                    <a:pt x="373" y="1021"/>
                  </a:cubicBezTo>
                  <a:cubicBezTo>
                    <a:pt x="366" y="1028"/>
                    <a:pt x="365" y="1041"/>
                    <a:pt x="356" y="1046"/>
                  </a:cubicBezTo>
                  <a:cubicBezTo>
                    <a:pt x="336" y="1056"/>
                    <a:pt x="314" y="1058"/>
                    <a:pt x="292" y="1062"/>
                  </a:cubicBezTo>
                  <a:cubicBezTo>
                    <a:pt x="260" y="1068"/>
                    <a:pt x="194" y="1078"/>
                    <a:pt x="194" y="1078"/>
                  </a:cubicBezTo>
                  <a:cubicBezTo>
                    <a:pt x="115" y="1104"/>
                    <a:pt x="163" y="1093"/>
                    <a:pt x="48" y="1102"/>
                  </a:cubicBezTo>
                  <a:cubicBezTo>
                    <a:pt x="42" y="1184"/>
                    <a:pt x="69" y="1216"/>
                    <a:pt x="0" y="12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4333320" y="1219320"/>
            <a:ext cx="43822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output (response) of a network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 computed using the Fourier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5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1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7" dur="indefinite" restart="never" nodeType="tmRoot">
          <p:childTnLst>
            <p:seq>
              <p:cTn id="1928" dur="indefinite" nodeType="mainSeq">
                <p:childTnLst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6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150840" y="76320"/>
            <a:ext cx="23860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SEVAL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2" name=""/>
              <p:cNvSpPr txBox="1"/>
              <p:nvPr/>
            </p:nvSpPr>
            <p:spPr>
              <a:xfrm>
                <a:off x="304920" y="533520"/>
                <a:ext cx="2705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|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|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d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823" name=""/>
          <p:cNvGrpSpPr/>
          <p:nvPr/>
        </p:nvGrpSpPr>
        <p:grpSpPr>
          <a:xfrm>
            <a:off x="3259440" y="228600"/>
            <a:ext cx="5682600" cy="711360"/>
            <a:chOff x="3259440" y="228600"/>
            <a:chExt cx="5682600" cy="711360"/>
          </a:xfrm>
        </p:grpSpPr>
        <p:sp>
          <p:nvSpPr>
            <p:cNvPr id="824" name=""/>
            <p:cNvSpPr/>
            <p:nvPr/>
          </p:nvSpPr>
          <p:spPr>
            <a:xfrm>
              <a:off x="3259440" y="228600"/>
              <a:ext cx="568260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ink of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f(t)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as a voltage applied to a one Ohm 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5" name=""/>
                <p:cNvSpPr txBox="1"/>
                <p:nvPr/>
              </p:nvSpPr>
              <p:spPr>
                <a:xfrm>
                  <a:off x="4844880" y="609480"/>
                  <a:ext cx="217188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sSup>
                        <m:e>
                          <m:r>
                            <m:t xml:space="preserve">|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26" name=""/>
          <p:cNvGrpSpPr/>
          <p:nvPr/>
        </p:nvGrpSpPr>
        <p:grpSpPr>
          <a:xfrm>
            <a:off x="304920" y="1353960"/>
            <a:ext cx="6146640" cy="729000"/>
            <a:chOff x="304920" y="1353960"/>
            <a:chExt cx="6146640" cy="729000"/>
          </a:xfrm>
        </p:grpSpPr>
        <p:sp>
          <p:nvSpPr>
            <p:cNvPr id="827" name=""/>
            <p:cNvSpPr/>
            <p:nvPr/>
          </p:nvSpPr>
          <p:spPr>
            <a:xfrm>
              <a:off x="400320" y="1353960"/>
              <a:ext cx="6051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y definition, the left hand side is the energy of the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8" name=""/>
                <p:cNvSpPr txBox="1"/>
                <p:nvPr/>
              </p:nvSpPr>
              <p:spPr>
                <a:xfrm>
                  <a:off x="304920" y="1752480"/>
                  <a:ext cx="457200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sSup>
                        <m:e>
                          <m:r>
                            <m:t xml:space="preserve">|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power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or energy density in time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29" name=""/>
              <p:cNvSpPr txBox="1"/>
              <p:nvPr/>
            </p:nvSpPr>
            <p:spPr>
              <a:xfrm>
                <a:off x="304920" y="2209680"/>
                <a:ext cx="541008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nergy density in the frequency domain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30" name=""/>
          <p:cNvGrpSpPr/>
          <p:nvPr/>
        </p:nvGrpSpPr>
        <p:grpSpPr>
          <a:xfrm>
            <a:off x="117720" y="3305160"/>
            <a:ext cx="8490960" cy="1342440"/>
            <a:chOff x="117720" y="3305160"/>
            <a:chExt cx="8490960" cy="1342440"/>
          </a:xfrm>
        </p:grpSpPr>
        <p:sp>
          <p:nvSpPr>
            <p:cNvPr id="831" name=""/>
            <p:cNvSpPr/>
            <p:nvPr/>
          </p:nvSpPr>
          <p:spPr>
            <a:xfrm>
              <a:off x="117720" y="3305160"/>
              <a:ext cx="84909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uitively, if the Fourier transform has a large magnitude over a frequency 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n the signal has significant energy over that 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64160" y="4066920"/>
              <a:ext cx="80964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if the magnitude of the Fourier transform is zero (or  very small) then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gnal has no significant energy in that 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3" name=""/>
          <p:cNvSpPr/>
          <p:nvPr/>
        </p:nvSpPr>
        <p:spPr>
          <a:xfrm>
            <a:off x="497880" y="2666880"/>
            <a:ext cx="7814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seval’s theorem permits the determination of the energy of a signal in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frequency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4" name="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35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3" dur="indefinite" restart="never" nodeType="tmRoot">
          <p:childTnLst>
            <p:seq>
              <p:cTn id="1984" dur="indefinite" nodeType="mainSeq">
                <p:childTnLst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8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0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8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3047760" cy="1944720"/>
          </a:xfrm>
          <a:prstGeom prst="rect">
            <a:avLst/>
          </a:prstGeom>
          <a:ln w="0">
            <a:noFill/>
          </a:ln>
        </p:spPr>
      </p:pic>
      <p:sp>
        <p:nvSpPr>
          <p:cNvPr id="839" name=""/>
          <p:cNvSpPr/>
          <p:nvPr/>
        </p:nvSpPr>
        <p:spPr>
          <a:xfrm>
            <a:off x="3425760" y="58680"/>
            <a:ext cx="4909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ine the effect of this low-pass filter i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quality of the input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0" name=""/>
              <p:cNvSpPr txBox="1"/>
              <p:nvPr/>
            </p:nvSpPr>
            <p:spPr>
              <a:xfrm>
                <a:off x="228600" y="2222640"/>
                <a:ext cx="1536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1981080" y="2209680"/>
                <a:ext cx="27939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2" name=""/>
              <p:cNvSpPr txBox="1"/>
              <p:nvPr/>
            </p:nvSpPr>
            <p:spPr>
              <a:xfrm>
                <a:off x="3809880" y="121932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3" name=""/>
          <p:cNvSpPr/>
          <p:nvPr/>
        </p:nvSpPr>
        <p:spPr>
          <a:xfrm>
            <a:off x="5098320" y="2039760"/>
            <a:ext cx="3731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use Bode plots to visual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effect of the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152280" y="3352680"/>
            <a:ext cx="7124760" cy="1866960"/>
            <a:chOff x="152280" y="3352680"/>
            <a:chExt cx="7124760" cy="1866960"/>
          </a:xfrm>
        </p:grpSpPr>
        <p:pic>
          <p:nvPicPr>
            <p:cNvPr id="845" name="" descr=""/>
            <p:cNvPicPr/>
            <p:nvPr/>
          </p:nvPicPr>
          <p:blipFill>
            <a:blip r:embed="rId2"/>
            <a:stretch/>
          </p:blipFill>
          <p:spPr>
            <a:xfrm>
              <a:off x="152280" y="3505320"/>
              <a:ext cx="362916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" descr=""/>
            <p:cNvPicPr/>
            <p:nvPr/>
          </p:nvPicPr>
          <p:blipFill>
            <a:blip r:embed="rId3"/>
            <a:stretch/>
          </p:blipFill>
          <p:spPr>
            <a:xfrm>
              <a:off x="3962520" y="3352680"/>
              <a:ext cx="3314520" cy="172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7" name="" descr=""/>
          <p:cNvPicPr/>
          <p:nvPr/>
        </p:nvPicPr>
        <p:blipFill>
          <a:blip r:embed="rId4"/>
          <a:stretch/>
        </p:blipFill>
        <p:spPr>
          <a:xfrm>
            <a:off x="76320" y="4952880"/>
            <a:ext cx="3495600" cy="174312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3652560" y="5029200"/>
            <a:ext cx="5388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igh frequencies in the input signal are attenu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he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137120" y="5773680"/>
            <a:ext cx="4838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effect is clearly visible in the time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0" name="" descr=""/>
          <p:cNvPicPr/>
          <p:nvPr/>
        </p:nvPicPr>
        <p:blipFill>
          <a:blip r:embed="rId5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5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1" dur="indefinite" restart="never" nodeType="tmRoot">
          <p:childTnLst>
            <p:seq>
              <p:cTn id="2022" dur="indefinite" nodeType="mainSeq">
                <p:childTnLst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0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6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2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7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8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9" fill="hold">
                      <p:stCondLst>
                        <p:cond delay="indefinite"/>
                      </p:stCondLst>
                      <p:childTnLst>
                        <p:par>
                          <p:cTn id="2060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9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6320" y="0"/>
            <a:ext cx="35049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PONENTIAL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28680" y="439560"/>
            <a:ext cx="8533800" cy="1260720"/>
            <a:chOff x="328680" y="439560"/>
            <a:chExt cx="8533800" cy="1260720"/>
          </a:xfrm>
        </p:grpSpPr>
        <p:grpSp>
          <p:nvGrpSpPr>
            <p:cNvPr id="114" name=""/>
            <p:cNvGrpSpPr/>
            <p:nvPr/>
          </p:nvGrpSpPr>
          <p:grpSpPr>
            <a:xfrm>
              <a:off x="328680" y="439560"/>
              <a:ext cx="8533800" cy="580680"/>
              <a:chOff x="328680" y="439560"/>
              <a:chExt cx="8533800" cy="580680"/>
            </a:xfrm>
          </p:grpSpPr>
          <p:sp>
            <p:nvSpPr>
              <p:cNvPr id="115" name=""/>
              <p:cNvSpPr/>
              <p:nvPr/>
            </p:nvSpPr>
            <p:spPr>
              <a:xfrm>
                <a:off x="328680" y="439560"/>
                <a:ext cx="853380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ny “physically realizable” periodic signal, with period To, can be represented o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the interval                      by the expression 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6" name=""/>
                  <p:cNvSpPr txBox="1"/>
                  <p:nvPr/>
                </p:nvSpPr>
                <p:spPr>
                  <a:xfrm>
                    <a:off x="1523880" y="685800"/>
                    <a:ext cx="1244880" cy="298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3200400" y="1066680"/>
                  <a:ext cx="2781360" cy="63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∞</m:t>
                          </m:r>
                        </m:sup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nary>
                      <m:r>
                        <m:t xml:space="preserve">;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8" name=""/>
          <p:cNvSpPr/>
          <p:nvPr/>
        </p:nvSpPr>
        <p:spPr>
          <a:xfrm>
            <a:off x="-62280" y="1825560"/>
            <a:ext cx="864936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um of exponential functions is always a continuous function. Hence, the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nd side is a continuous fun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echnically, one requires the signal,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t),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to be at least piecewise continuous. In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e, the equality does not hold at the points where the signal is discontinu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960" y="3048120"/>
            <a:ext cx="6096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ation of the exponential Fourier series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66680" y="3657600"/>
                <a:ext cx="17910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38200" y="3657600"/>
                <a:ext cx="3808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048120" y="3809880"/>
                <a:ext cx="7999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28600" y="4572000"/>
                <a:ext cx="40892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n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181480" y="3886200"/>
                <a:ext cx="28958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or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≠</m:t>
                                    </m:r>
                                    <m:r>
                                      <m:t xml:space="preserve">k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or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k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28600" y="5373720"/>
                <a:ext cx="21844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28600" y="6172200"/>
                <a:ext cx="6019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arbitray and can be chosen to make computations simpler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172200"/>
          </a:xfrm>
          <a:prstGeom prst="rect">
            <a:avLst/>
          </a:prstGeom>
          <a:ln w="0">
            <a:noFill/>
          </a:ln>
        </p:spPr>
      </p:pic>
      <p:sp>
        <p:nvSpPr>
          <p:cNvPr id="854" name=""/>
          <p:cNvSpPr/>
          <p:nvPr/>
        </p:nvSpPr>
        <p:spPr>
          <a:xfrm>
            <a:off x="741240" y="5911920"/>
            <a:ext cx="7232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output signal is slower and with less energy than the input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5" name="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5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7" dur="indefinite" restart="never" nodeType="tmRoot">
          <p:childTnLst>
            <p:seq>
              <p:cTn id="2078" dur="indefinite" nodeType="mainSeq">
                <p:childTnLst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/>
          <p:nvPr/>
        </p:nvSpPr>
        <p:spPr>
          <a:xfrm>
            <a:off x="178560" y="76320"/>
            <a:ext cx="26845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FFECT OF IDEAL 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2590920" cy="1596960"/>
          </a:xfrm>
          <a:prstGeom prst="rect">
            <a:avLst/>
          </a:prstGeom>
          <a:ln w="0">
            <a:noFill/>
          </a:ln>
        </p:spPr>
      </p:pic>
      <p:grpSp>
        <p:nvGrpSpPr>
          <p:cNvPr id="860" name=""/>
          <p:cNvGrpSpPr/>
          <p:nvPr/>
        </p:nvGrpSpPr>
        <p:grpSpPr>
          <a:xfrm>
            <a:off x="76320" y="2268360"/>
            <a:ext cx="4162320" cy="1846440"/>
            <a:chOff x="76320" y="2268360"/>
            <a:chExt cx="4162320" cy="1846440"/>
          </a:xfrm>
        </p:grpSpPr>
        <p:pic>
          <p:nvPicPr>
            <p:cNvPr id="861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416232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2" name=""/>
            <p:cNvSpPr/>
            <p:nvPr/>
          </p:nvSpPr>
          <p:spPr>
            <a:xfrm>
              <a:off x="955800" y="2268360"/>
              <a:ext cx="2506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low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152280" y="4449600"/>
            <a:ext cx="4172040" cy="1874880"/>
            <a:chOff x="152280" y="4449600"/>
            <a:chExt cx="4172040" cy="1874880"/>
          </a:xfrm>
        </p:grpSpPr>
        <p:pic>
          <p:nvPicPr>
            <p:cNvPr id="864" name="" descr=""/>
            <p:cNvPicPr/>
            <p:nvPr/>
          </p:nvPicPr>
          <p:blipFill>
            <a:blip r:embed="rId3"/>
            <a:stretch/>
          </p:blipFill>
          <p:spPr>
            <a:xfrm>
              <a:off x="152280" y="4848120"/>
              <a:ext cx="417204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5" name=""/>
            <p:cNvSpPr/>
            <p:nvPr/>
          </p:nvSpPr>
          <p:spPr>
            <a:xfrm>
              <a:off x="1032480" y="4449600"/>
              <a:ext cx="2601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high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4572000" y="287280"/>
            <a:ext cx="4172040" cy="2179800"/>
            <a:chOff x="4572000" y="287280"/>
            <a:chExt cx="4172040" cy="2179800"/>
          </a:xfrm>
        </p:grpSpPr>
        <p:pic>
          <p:nvPicPr>
            <p:cNvPr id="867" name="" descr=""/>
            <p:cNvPicPr/>
            <p:nvPr/>
          </p:nvPicPr>
          <p:blipFill>
            <a:blip r:embed="rId4"/>
            <a:stretch/>
          </p:blipFill>
          <p:spPr>
            <a:xfrm>
              <a:off x="4572000" y="990720"/>
              <a:ext cx="417204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5071320" y="287280"/>
              <a:ext cx="2655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band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4572000" y="3625920"/>
            <a:ext cx="4324320" cy="2089080"/>
            <a:chOff x="4572000" y="3625920"/>
            <a:chExt cx="4324320" cy="2089080"/>
          </a:xfrm>
        </p:grpSpPr>
        <p:pic>
          <p:nvPicPr>
            <p:cNvPr id="870" name="" descr=""/>
            <p:cNvPicPr/>
            <p:nvPr/>
          </p:nvPicPr>
          <p:blipFill>
            <a:blip r:embed="rId5"/>
            <a:stretch/>
          </p:blipFill>
          <p:spPr>
            <a:xfrm>
              <a:off x="4572000" y="4191120"/>
              <a:ext cx="43243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>
              <a:off x="5378400" y="3625920"/>
              <a:ext cx="2646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band-stop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2" name="" descr=""/>
          <p:cNvPicPr/>
          <p:nvPr/>
        </p:nvPicPr>
        <p:blipFill>
          <a:blip r:embed="rId6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73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5" dur="indefinite" restart="never" nodeType="tmRoot">
          <p:childTnLst>
            <p:seq>
              <p:cTn id="2086" dur="indefinite" nodeType="mainSeq">
                <p:childTnLst>
                  <p:par>
                    <p:cTn id="2087" fill="hold">
                      <p:stCondLst>
                        <p:cond delay="indefinite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fill="hold">
                      <p:stCondLst>
                        <p:cond delay="indefinite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7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8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delay="indefinite"/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3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4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9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24120" y="0"/>
            <a:ext cx="11149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243800" y="0"/>
            <a:ext cx="4892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MPLITUDE MODULATED (AM) BROADCA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47960" y="304920"/>
            <a:ext cx="887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udio signals do not propagate well in atmosphere – they get attenuated very quick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55880" y="669960"/>
            <a:ext cx="925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iginal Solution: Move the audio signals to a different frequency range for broadcas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requency range 540kHz – 1700kHz is reserved for AM modulated broadca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2819520" cy="371520"/>
          </a:xfrm>
          <a:prstGeom prst="rect">
            <a:avLst/>
          </a:prstGeom>
          <a:ln w="0">
            <a:noFill/>
          </a:ln>
        </p:spPr>
      </p:pic>
      <p:grpSp>
        <p:nvGrpSpPr>
          <p:cNvPr id="880" name=""/>
          <p:cNvGrpSpPr/>
          <p:nvPr/>
        </p:nvGrpSpPr>
        <p:grpSpPr>
          <a:xfrm>
            <a:off x="1671480" y="1265400"/>
            <a:ext cx="3142800" cy="824400"/>
            <a:chOff x="1671480" y="1265400"/>
            <a:chExt cx="3142800" cy="824400"/>
          </a:xfrm>
        </p:grpSpPr>
        <p:sp>
          <p:nvSpPr>
            <p:cNvPr id="881" name=""/>
            <p:cNvSpPr/>
            <p:nvPr/>
          </p:nvSpPr>
          <p:spPr>
            <a:xfrm>
              <a:off x="1671480" y="1265400"/>
              <a:ext cx="665280" cy="502920"/>
            </a:xfrm>
            <a:custGeom>
              <a:avLst/>
              <a:gdLst/>
              <a:ahLst/>
              <a:rect l="l" t="t" r="r" b="b"/>
              <a:pathLst>
                <a:path w="419" h="317">
                  <a:moveTo>
                    <a:pt x="99" y="19"/>
                  </a:moveTo>
                  <a:cubicBezTo>
                    <a:pt x="60" y="45"/>
                    <a:pt x="67" y="58"/>
                    <a:pt x="41" y="96"/>
                  </a:cubicBezTo>
                  <a:cubicBezTo>
                    <a:pt x="0" y="229"/>
                    <a:pt x="65" y="288"/>
                    <a:pt x="176" y="317"/>
                  </a:cubicBezTo>
                  <a:cubicBezTo>
                    <a:pt x="208" y="314"/>
                    <a:pt x="240" y="313"/>
                    <a:pt x="272" y="307"/>
                  </a:cubicBezTo>
                  <a:cubicBezTo>
                    <a:pt x="292" y="303"/>
                    <a:pt x="329" y="288"/>
                    <a:pt x="329" y="288"/>
                  </a:cubicBezTo>
                  <a:cubicBezTo>
                    <a:pt x="383" y="252"/>
                    <a:pt x="388" y="203"/>
                    <a:pt x="406" y="144"/>
                  </a:cubicBezTo>
                  <a:cubicBezTo>
                    <a:pt x="395" y="32"/>
                    <a:pt x="419" y="23"/>
                    <a:pt x="320" y="0"/>
                  </a:cubicBezTo>
                  <a:cubicBezTo>
                    <a:pt x="285" y="3"/>
                    <a:pt x="232" y="1"/>
                    <a:pt x="195" y="19"/>
                  </a:cubicBezTo>
                  <a:cubicBezTo>
                    <a:pt x="186" y="23"/>
                    <a:pt x="151" y="52"/>
                    <a:pt x="137" y="48"/>
                  </a:cubicBezTo>
                  <a:cubicBezTo>
                    <a:pt x="122" y="44"/>
                    <a:pt x="112" y="29"/>
                    <a:pt x="99" y="19"/>
                  </a:cubicBez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723320" y="1752480"/>
              <a:ext cx="143028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udio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255760" y="1281240"/>
              <a:ext cx="1096920" cy="471240"/>
            </a:xfrm>
            <a:custGeom>
              <a:avLst/>
              <a:gdLst/>
              <a:ahLst/>
              <a:rect l="l" t="t" r="r" b="b"/>
              <a:pathLst>
                <a:path w="691" h="297">
                  <a:moveTo>
                    <a:pt x="691" y="191"/>
                  </a:moveTo>
                  <a:cubicBezTo>
                    <a:pt x="688" y="175"/>
                    <a:pt x="682" y="126"/>
                    <a:pt x="672" y="105"/>
                  </a:cubicBezTo>
                  <a:cubicBezTo>
                    <a:pt x="622" y="1"/>
                    <a:pt x="477" y="16"/>
                    <a:pt x="384" y="9"/>
                  </a:cubicBezTo>
                  <a:cubicBezTo>
                    <a:pt x="247" y="14"/>
                    <a:pt x="168" y="0"/>
                    <a:pt x="57" y="38"/>
                  </a:cubicBezTo>
                  <a:cubicBezTo>
                    <a:pt x="24" y="72"/>
                    <a:pt x="14" y="109"/>
                    <a:pt x="0" y="153"/>
                  </a:cubicBezTo>
                  <a:cubicBezTo>
                    <a:pt x="3" y="172"/>
                    <a:pt x="2" y="193"/>
                    <a:pt x="9" y="211"/>
                  </a:cubicBezTo>
                  <a:cubicBezTo>
                    <a:pt x="12" y="220"/>
                    <a:pt x="22" y="225"/>
                    <a:pt x="29" y="230"/>
                  </a:cubicBezTo>
                  <a:cubicBezTo>
                    <a:pt x="106" y="287"/>
                    <a:pt x="144" y="267"/>
                    <a:pt x="230" y="297"/>
                  </a:cubicBezTo>
                  <a:cubicBezTo>
                    <a:pt x="362" y="292"/>
                    <a:pt x="478" y="290"/>
                    <a:pt x="605" y="268"/>
                  </a:cubicBezTo>
                  <a:cubicBezTo>
                    <a:pt x="635" y="247"/>
                    <a:pt x="675" y="224"/>
                    <a:pt x="691" y="191"/>
                  </a:cubicBez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162960" y="1279440"/>
              <a:ext cx="165132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rrier sig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"/>
          <p:cNvSpPr/>
          <p:nvPr/>
        </p:nvSpPr>
        <p:spPr>
          <a:xfrm>
            <a:off x="120240" y="1660680"/>
            <a:ext cx="1445760" cy="5806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roadcas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41200" y="1219320"/>
            <a:ext cx="627120" cy="522000"/>
          </a:xfrm>
          <a:custGeom>
            <a:avLst/>
            <a:gdLst/>
            <a:ahLst/>
            <a:rect l="l" t="t" r="r" b="b"/>
            <a:pathLst>
              <a:path w="395" h="329">
                <a:moveTo>
                  <a:pt x="395" y="182"/>
                </a:moveTo>
                <a:cubicBezTo>
                  <a:pt x="367" y="98"/>
                  <a:pt x="322" y="24"/>
                  <a:pt x="232" y="0"/>
                </a:cubicBezTo>
                <a:cubicBezTo>
                  <a:pt x="194" y="3"/>
                  <a:pt x="155" y="5"/>
                  <a:pt x="117" y="10"/>
                </a:cubicBezTo>
                <a:cubicBezTo>
                  <a:pt x="47" y="19"/>
                  <a:pt x="20" y="86"/>
                  <a:pt x="2" y="144"/>
                </a:cubicBezTo>
                <a:cubicBezTo>
                  <a:pt x="9" y="208"/>
                  <a:pt x="0" y="236"/>
                  <a:pt x="50" y="269"/>
                </a:cubicBezTo>
                <a:cubicBezTo>
                  <a:pt x="85" y="323"/>
                  <a:pt x="152" y="319"/>
                  <a:pt x="213" y="326"/>
                </a:cubicBezTo>
                <a:cubicBezTo>
                  <a:pt x="293" y="318"/>
                  <a:pt x="316" y="329"/>
                  <a:pt x="366" y="278"/>
                </a:cubicBezTo>
                <a:cubicBezTo>
                  <a:pt x="390" y="208"/>
                  <a:pt x="381" y="241"/>
                  <a:pt x="395" y="182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254560" y="1279440"/>
            <a:ext cx="3852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M receivers pick a faint copy of v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4114800" y="1676520"/>
            <a:ext cx="4723920" cy="761400"/>
            <a:chOff x="4114800" y="1676520"/>
            <a:chExt cx="4723920" cy="761400"/>
          </a:xfrm>
        </p:grpSpPr>
        <p:pic>
          <p:nvPicPr>
            <p:cNvPr id="889" name="" descr=""/>
            <p:cNvPicPr/>
            <p:nvPr/>
          </p:nvPicPr>
          <p:blipFill>
            <a:blip r:embed="rId2"/>
            <a:stretch/>
          </p:blipFill>
          <p:spPr>
            <a:xfrm>
              <a:off x="4114800" y="1676520"/>
              <a:ext cx="1885680" cy="4284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890" name=""/>
            <p:cNvGraphicFramePr/>
            <p:nvPr/>
          </p:nvGraphicFramePr>
          <p:xfrm>
            <a:off x="6095880" y="1752480"/>
            <a:ext cx="2742840" cy="30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9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95880" y="1752480"/>
                      <a:ext cx="2742840" cy="30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92" name=""/>
            <p:cNvGraphicFramePr/>
            <p:nvPr/>
          </p:nvGraphicFramePr>
          <p:xfrm>
            <a:off x="5028840" y="2133360"/>
            <a:ext cx="2323800" cy="304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9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28840" y="2133360"/>
                      <a:ext cx="2323800" cy="30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94" name=""/>
          <p:cNvGrpSpPr/>
          <p:nvPr/>
        </p:nvGrpSpPr>
        <p:grpSpPr>
          <a:xfrm>
            <a:off x="228600" y="2438280"/>
            <a:ext cx="8667720" cy="1533600"/>
            <a:chOff x="228600" y="2438280"/>
            <a:chExt cx="8667720" cy="1533600"/>
          </a:xfrm>
        </p:grpSpPr>
        <p:pic>
          <p:nvPicPr>
            <p:cNvPr id="895" name="" descr=""/>
            <p:cNvPicPr/>
            <p:nvPr/>
          </p:nvPicPr>
          <p:blipFill>
            <a:blip r:embed="rId7"/>
            <a:stretch/>
          </p:blipFill>
          <p:spPr>
            <a:xfrm>
              <a:off x="228600" y="2666880"/>
              <a:ext cx="5486400" cy="5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" descr=""/>
            <p:cNvPicPr/>
            <p:nvPr/>
          </p:nvPicPr>
          <p:blipFill>
            <a:blip r:embed="rId8"/>
            <a:stretch/>
          </p:blipFill>
          <p:spPr>
            <a:xfrm>
              <a:off x="6095880" y="2438280"/>
              <a:ext cx="2800440" cy="1533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97" name="" descr=""/>
          <p:cNvPicPr/>
          <p:nvPr/>
        </p:nvPicPr>
        <p:blipFill>
          <a:blip r:embed="rId9"/>
          <a:stretch/>
        </p:blipFill>
        <p:spPr>
          <a:xfrm>
            <a:off x="0" y="3429000"/>
            <a:ext cx="5924520" cy="514440"/>
          </a:xfrm>
          <a:prstGeom prst="rect">
            <a:avLst/>
          </a:prstGeom>
          <a:ln w="0">
            <a:noFill/>
          </a:ln>
        </p:spPr>
      </p:pic>
      <p:pic>
        <p:nvPicPr>
          <p:cNvPr id="898" name="" descr=""/>
          <p:cNvPicPr/>
          <p:nvPr/>
        </p:nvPicPr>
        <p:blipFill>
          <a:blip r:embed="rId10"/>
          <a:stretch/>
        </p:blipFill>
        <p:spPr>
          <a:xfrm>
            <a:off x="0" y="4038480"/>
            <a:ext cx="4533840" cy="409680"/>
          </a:xfrm>
          <a:prstGeom prst="rect">
            <a:avLst/>
          </a:prstGeom>
          <a:ln w="0">
            <a:noFill/>
          </a:ln>
        </p:spPr>
      </p:pic>
      <p:grpSp>
        <p:nvGrpSpPr>
          <p:cNvPr id="899" name=""/>
          <p:cNvGrpSpPr/>
          <p:nvPr/>
        </p:nvGrpSpPr>
        <p:grpSpPr>
          <a:xfrm>
            <a:off x="0" y="4495680"/>
            <a:ext cx="9191520" cy="704880"/>
            <a:chOff x="0" y="4495680"/>
            <a:chExt cx="9191520" cy="704880"/>
          </a:xfrm>
        </p:grpSpPr>
        <p:pic>
          <p:nvPicPr>
            <p:cNvPr id="900" name="" descr=""/>
            <p:cNvPicPr/>
            <p:nvPr/>
          </p:nvPicPr>
          <p:blipFill>
            <a:blip r:embed="rId11"/>
            <a:stretch/>
          </p:blipFill>
          <p:spPr>
            <a:xfrm>
              <a:off x="0" y="4495680"/>
              <a:ext cx="3828960" cy="7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1" name="" descr=""/>
            <p:cNvPicPr/>
            <p:nvPr/>
          </p:nvPicPr>
          <p:blipFill>
            <a:blip r:embed="rId12"/>
            <a:stretch/>
          </p:blipFill>
          <p:spPr>
            <a:xfrm>
              <a:off x="3962520" y="4495680"/>
              <a:ext cx="5229000" cy="60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2" name=""/>
          <p:cNvGrpSpPr/>
          <p:nvPr/>
        </p:nvGrpSpPr>
        <p:grpSpPr>
          <a:xfrm>
            <a:off x="457200" y="5181480"/>
            <a:ext cx="8243640" cy="1562400"/>
            <a:chOff x="457200" y="5181480"/>
            <a:chExt cx="8243640" cy="1562400"/>
          </a:xfrm>
        </p:grpSpPr>
        <p:pic>
          <p:nvPicPr>
            <p:cNvPr id="903" name="" descr=""/>
            <p:cNvPicPr/>
            <p:nvPr/>
          </p:nvPicPr>
          <p:blipFill>
            <a:blip r:embed="rId13"/>
            <a:stretch/>
          </p:blipFill>
          <p:spPr>
            <a:xfrm>
              <a:off x="457200" y="5181480"/>
              <a:ext cx="6477120" cy="15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4" name=""/>
            <p:cNvSpPr/>
            <p:nvPr/>
          </p:nvSpPr>
          <p:spPr>
            <a:xfrm>
              <a:off x="6109200" y="5181480"/>
              <a:ext cx="25916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thing in audio range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5" name="" descr=""/>
          <p:cNvPicPr/>
          <p:nvPr/>
        </p:nvPicPr>
        <p:blipFill>
          <a:blip r:embed="rId1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90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7" dur="indefinite" restart="never" nodeType="tmRoot">
          <p:childTnLst>
            <p:seq>
              <p:cTn id="2118" dur="indefinite" nodeType="mainSeq">
                <p:childTnLst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3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4" fill="hold">
                      <p:stCondLst>
                        <p:cond delay="indefinite"/>
                      </p:stCondLst>
                      <p:childTnLst>
                        <p:par>
                          <p:cTn id="2125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8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3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fill="hold">
                      <p:stCondLst>
                        <p:cond delay="indefinite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3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4" fill="hold">
                      <p:stCondLst>
                        <p:cond delay="indefinite"/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9" fill="hold">
                      <p:stCondLst>
                        <p:cond delay="indefinite"/>
                      </p:stCondLst>
                      <p:childTnLst>
                        <p:par>
                          <p:cTn id="2150" fill="hold">
                            <p:stCondLst>
                              <p:cond delay="0"/>
                            </p:stCondLst>
                            <p:childTnLst>
                              <p:par>
                                <p:cTn id="2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3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4" fill="hold">
                      <p:stCondLst>
                        <p:cond delay="indefinite"/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9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3818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909" name=""/>
          <p:cNvGrpSpPr/>
          <p:nvPr/>
        </p:nvGrpSpPr>
        <p:grpSpPr>
          <a:xfrm>
            <a:off x="1050840" y="2133720"/>
            <a:ext cx="6904440" cy="2454840"/>
            <a:chOff x="1050840" y="2133720"/>
            <a:chExt cx="6904440" cy="2454840"/>
          </a:xfrm>
        </p:grpSpPr>
        <p:pic>
          <p:nvPicPr>
            <p:cNvPr id="910" name="" descr=""/>
            <p:cNvPicPr/>
            <p:nvPr/>
          </p:nvPicPr>
          <p:blipFill>
            <a:blip r:embed="rId2"/>
            <a:stretch/>
          </p:blipFill>
          <p:spPr>
            <a:xfrm>
              <a:off x="1676520" y="2133720"/>
              <a:ext cx="5295960" cy="21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1" name=""/>
            <p:cNvSpPr/>
            <p:nvPr/>
          </p:nvSpPr>
          <p:spPr>
            <a:xfrm>
              <a:off x="1050840" y="4251240"/>
              <a:ext cx="69044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udio signal has been AM modulated to the radio frequency 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4114800" y="1676520"/>
            <a:ext cx="4723920" cy="761400"/>
            <a:chOff x="4114800" y="1676520"/>
            <a:chExt cx="4723920" cy="761400"/>
          </a:xfrm>
        </p:grpSpPr>
        <p:pic>
          <p:nvPicPr>
            <p:cNvPr id="913" name="" descr=""/>
            <p:cNvPicPr/>
            <p:nvPr/>
          </p:nvPicPr>
          <p:blipFill>
            <a:blip r:embed="rId3"/>
            <a:stretch/>
          </p:blipFill>
          <p:spPr>
            <a:xfrm>
              <a:off x="4114800" y="1676520"/>
              <a:ext cx="1885680" cy="4284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914" name=""/>
            <p:cNvGraphicFramePr/>
            <p:nvPr/>
          </p:nvGraphicFramePr>
          <p:xfrm>
            <a:off x="6095880" y="1752480"/>
            <a:ext cx="2742840" cy="304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1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095880" y="1752480"/>
                      <a:ext cx="2742840" cy="30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16" name=""/>
            <p:cNvGraphicFramePr/>
            <p:nvPr/>
          </p:nvGraphicFramePr>
          <p:xfrm>
            <a:off x="5028840" y="2133360"/>
            <a:ext cx="2323800" cy="3045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91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028840" y="2133360"/>
                      <a:ext cx="2323800" cy="30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918" name="" descr=""/>
          <p:cNvPicPr/>
          <p:nvPr/>
        </p:nvPicPr>
        <p:blipFill>
          <a:blip r:embed="rId8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91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0" dur="indefinite" restart="never" nodeType="tmRoot">
          <p:childTnLst>
            <p:seq>
              <p:cTn id="2161" dur="indefinite" nodeType="mainSeq">
                <p:childTnLst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6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1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6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7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100440" y="60480"/>
            <a:ext cx="11149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471680" y="60480"/>
            <a:ext cx="3465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RMONICS IN POWER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3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4048200" cy="235260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2"/>
          <a:stretch/>
        </p:blipFill>
        <p:spPr>
          <a:xfrm>
            <a:off x="4572000" y="457200"/>
            <a:ext cx="4086360" cy="2819520"/>
          </a:xfrm>
          <a:prstGeom prst="rect">
            <a:avLst/>
          </a:prstGeom>
          <a:ln w="0">
            <a:noFill/>
          </a:ln>
        </p:spPr>
      </p:pic>
      <p:sp>
        <p:nvSpPr>
          <p:cNvPr id="925" name=""/>
          <p:cNvSpPr/>
          <p:nvPr/>
        </p:nvSpPr>
        <p:spPr>
          <a:xfrm>
            <a:off x="5410080" y="4572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6" name=""/>
          <p:cNvGraphicFramePr/>
          <p:nvPr/>
        </p:nvGraphicFramePr>
        <p:xfrm>
          <a:off x="1676520" y="2514600"/>
          <a:ext cx="106668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514600"/>
                    <a:ext cx="10666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8" name="" descr=""/>
          <p:cNvPicPr/>
          <p:nvPr/>
        </p:nvPicPr>
        <p:blipFill>
          <a:blip r:embed="rId5"/>
          <a:stretch/>
        </p:blipFill>
        <p:spPr>
          <a:xfrm>
            <a:off x="457200" y="2895480"/>
            <a:ext cx="4371840" cy="28584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"/>
          <p:cNvPicPr/>
          <p:nvPr/>
        </p:nvPicPr>
        <p:blipFill>
          <a:blip r:embed="rId6"/>
          <a:stretch/>
        </p:blipFill>
        <p:spPr>
          <a:xfrm>
            <a:off x="228600" y="3276720"/>
            <a:ext cx="6610320" cy="304560"/>
          </a:xfrm>
          <a:prstGeom prst="rect">
            <a:avLst/>
          </a:prstGeom>
          <a:ln w="0">
            <a:noFill/>
          </a:ln>
        </p:spPr>
      </p:pic>
      <p:pic>
        <p:nvPicPr>
          <p:cNvPr id="930" name="" descr=""/>
          <p:cNvPicPr/>
          <p:nvPr/>
        </p:nvPicPr>
        <p:blipFill>
          <a:blip r:embed="rId7"/>
          <a:stretch/>
        </p:blipFill>
        <p:spPr>
          <a:xfrm>
            <a:off x="304920" y="3657600"/>
            <a:ext cx="1847880" cy="695160"/>
          </a:xfrm>
          <a:prstGeom prst="rect">
            <a:avLst/>
          </a:prstGeom>
          <a:ln w="25560">
            <a:solidFill>
              <a:srgbClr val="ccffcc"/>
            </a:solidFill>
            <a:miter/>
          </a:ln>
        </p:spPr>
      </p:pic>
      <p:pic>
        <p:nvPicPr>
          <p:cNvPr id="931" name="" descr=""/>
          <p:cNvPicPr/>
          <p:nvPr/>
        </p:nvPicPr>
        <p:blipFill>
          <a:blip r:embed="rId8"/>
          <a:stretch/>
        </p:blipFill>
        <p:spPr>
          <a:xfrm>
            <a:off x="2209680" y="3581280"/>
            <a:ext cx="4505400" cy="2886120"/>
          </a:xfrm>
          <a:prstGeom prst="rect">
            <a:avLst/>
          </a:prstGeom>
          <a:ln w="0">
            <a:noFill/>
          </a:ln>
        </p:spPr>
      </p:pic>
      <p:sp>
        <p:nvSpPr>
          <p:cNvPr id="932" name=""/>
          <p:cNvSpPr/>
          <p:nvPr/>
        </p:nvSpPr>
        <p:spPr>
          <a:xfrm>
            <a:off x="3124080" y="3581280"/>
            <a:ext cx="68580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3" name="" descr=""/>
          <p:cNvPicPr/>
          <p:nvPr/>
        </p:nvPicPr>
        <p:blipFill>
          <a:blip r:embed="rId9"/>
          <a:stretch/>
        </p:blipFill>
        <p:spPr>
          <a:xfrm>
            <a:off x="76320" y="6400800"/>
            <a:ext cx="5324400" cy="343080"/>
          </a:xfrm>
          <a:prstGeom prst="rect">
            <a:avLst/>
          </a:prstGeom>
          <a:ln w="0">
            <a:noFill/>
          </a:ln>
        </p:spPr>
      </p:pic>
      <p:sp>
        <p:nvSpPr>
          <p:cNvPr id="934" name=""/>
          <p:cNvSpPr/>
          <p:nvPr/>
        </p:nvSpPr>
        <p:spPr>
          <a:xfrm>
            <a:off x="6207840" y="4540320"/>
            <a:ext cx="2535480" cy="8240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rmonics account 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01.8W or 9.14% 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tal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10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936" name="">
            <a:hlinkClick r:id="" action="ppaction://hlinkshowjump?jump=nextslide"/>
          </p:cNvPr>
          <p:cNvSpPr/>
          <p:nvPr/>
        </p:nvSpPr>
        <p:spPr>
          <a:xfrm>
            <a:off x="60958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>
            <a:hlinkClick r:id="" action="ppaction://hlinkshowjump?jump=previousslide"/>
          </p:cNvPr>
          <p:cNvSpPr/>
          <p:nvPr/>
        </p:nvSpPr>
        <p:spPr>
          <a:xfrm>
            <a:off x="556272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8" dur="indefinite" restart="never" nodeType="tmRoot">
          <p:childTnLst>
            <p:seq>
              <p:cTn id="2179" dur="indefinite" nodeType="mainSeq">
                <p:childTnLst>
                  <p:par>
                    <p:cTn id="2180" fill="hold">
                      <p:stCondLst>
                        <p:cond delay="indefinite"/>
                      </p:stCondLst>
                      <p:childTnLst>
                        <p:par>
                          <p:cTn id="2181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4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9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4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9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fill="hold">
                      <p:stCondLst>
                        <p:cond delay="indefinite"/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5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110880" y="7632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721600" y="76320"/>
            <a:ext cx="3524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uning-out” an AM radio 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0" name="" descr=""/>
          <p:cNvPicPr/>
          <p:nvPr/>
        </p:nvPicPr>
        <p:blipFill>
          <a:blip r:embed="rId1"/>
          <a:stretch/>
        </p:blipFill>
        <p:spPr>
          <a:xfrm>
            <a:off x="76320" y="914400"/>
            <a:ext cx="3924360" cy="158112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225000" y="2573280"/>
            <a:ext cx="3976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transform of signal broad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two AM s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3809880" y="533520"/>
                <a:ext cx="494028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gnal from station 1: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gnal from station 2: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simplicity assume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3" name=""/>
              <p:cNvSpPr txBox="1"/>
              <p:nvPr/>
            </p:nvSpPr>
            <p:spPr>
              <a:xfrm>
                <a:off x="4876920" y="160020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0</m:t>
                    </m:r>
                    <m:r>
                      <m:rPr>
                        <m:lit/>
                        <m:nor/>
                      </m:rPr>
                      <m:t xml:space="preserve">kHz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0</m:t>
                    </m:r>
                    <m:r>
                      <m:rPr>
                        <m:lit/>
                        <m:nor/>
                      </m:rPr>
                      <m:t xml:space="preserve">k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4307040" y="2146320"/>
                <a:ext cx="483696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ssuming both stations reach the receiv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 equal strength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gnal at antenna: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45" name=""/>
          <p:cNvGrpSpPr/>
          <p:nvPr/>
        </p:nvGrpSpPr>
        <p:grpSpPr>
          <a:xfrm>
            <a:off x="0" y="4038480"/>
            <a:ext cx="4781520" cy="1843560"/>
            <a:chOff x="0" y="4038480"/>
            <a:chExt cx="4781520" cy="1843560"/>
          </a:xfrm>
        </p:grpSpPr>
        <p:pic>
          <p:nvPicPr>
            <p:cNvPr id="946" name="" descr=""/>
            <p:cNvPicPr/>
            <p:nvPr/>
          </p:nvPicPr>
          <p:blipFill>
            <a:blip r:embed="rId2"/>
            <a:stretch/>
          </p:blipFill>
          <p:spPr>
            <a:xfrm>
              <a:off x="0" y="4038480"/>
              <a:ext cx="47815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>
              <a:off x="433080" y="5544720"/>
              <a:ext cx="3830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urier transform of received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0" y="3733920"/>
            <a:ext cx="4446000" cy="1600200"/>
            <a:chOff x="0" y="3733920"/>
            <a:chExt cx="4446000" cy="1600200"/>
          </a:xfrm>
        </p:grpSpPr>
        <p:grpSp>
          <p:nvGrpSpPr>
            <p:cNvPr id="949" name=""/>
            <p:cNvGrpSpPr/>
            <p:nvPr/>
          </p:nvGrpSpPr>
          <p:grpSpPr>
            <a:xfrm>
              <a:off x="0" y="4419360"/>
              <a:ext cx="4419360" cy="914760"/>
              <a:chOff x="0" y="4419360"/>
              <a:chExt cx="4419360" cy="914760"/>
            </a:xfrm>
          </p:grpSpPr>
          <p:grpSp>
            <p:nvGrpSpPr>
              <p:cNvPr id="950" name=""/>
              <p:cNvGrpSpPr/>
              <p:nvPr/>
            </p:nvGrpSpPr>
            <p:grpSpPr>
              <a:xfrm>
                <a:off x="3581280" y="4419360"/>
                <a:ext cx="838080" cy="838440"/>
                <a:chOff x="3581280" y="4419360"/>
                <a:chExt cx="838080" cy="838440"/>
              </a:xfrm>
            </p:grpSpPr>
            <p:sp>
              <p:nvSpPr>
                <p:cNvPr id="951" name=""/>
                <p:cNvSpPr/>
                <p:nvPr/>
              </p:nvSpPr>
              <p:spPr>
                <a:xfrm flipV="1">
                  <a:off x="3657600" y="4419720"/>
                  <a:ext cx="0" cy="83808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 flipV="1">
                  <a:off x="4419360" y="4419360"/>
                  <a:ext cx="0" cy="76212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 flipH="1">
                  <a:off x="3581280" y="4419720"/>
                  <a:ext cx="83808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0" y="4495680"/>
                <a:ext cx="838080" cy="838440"/>
                <a:chOff x="0" y="4495680"/>
                <a:chExt cx="838080" cy="838440"/>
              </a:xfrm>
            </p:grpSpPr>
            <p:sp>
              <p:nvSpPr>
                <p:cNvPr id="955" name=""/>
                <p:cNvSpPr/>
                <p:nvPr/>
              </p:nvSpPr>
              <p:spPr>
                <a:xfrm flipV="1">
                  <a:off x="76320" y="4496040"/>
                  <a:ext cx="0" cy="83808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 flipV="1">
                  <a:off x="838080" y="4495680"/>
                  <a:ext cx="0" cy="76212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 flipH="1">
                  <a:off x="0" y="4496040"/>
                  <a:ext cx="83808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8" name=""/>
            <p:cNvSpPr/>
            <p:nvPr/>
          </p:nvSpPr>
          <p:spPr>
            <a:xfrm>
              <a:off x="415800" y="3733920"/>
              <a:ext cx="4030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filter to tune out one AM s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4971960" y="3200400"/>
            <a:ext cx="2800440" cy="1646280"/>
            <a:chOff x="4971960" y="3200400"/>
            <a:chExt cx="2800440" cy="1646280"/>
          </a:xfrm>
        </p:grpSpPr>
        <p:pic>
          <p:nvPicPr>
            <p:cNvPr id="960" name="" descr=""/>
            <p:cNvPicPr/>
            <p:nvPr/>
          </p:nvPicPr>
          <p:blipFill>
            <a:blip r:embed="rId3"/>
            <a:stretch/>
          </p:blipFill>
          <p:spPr>
            <a:xfrm>
              <a:off x="4971960" y="3522600"/>
              <a:ext cx="280044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1" name=""/>
            <p:cNvSpPr/>
            <p:nvPr/>
          </p:nvSpPr>
          <p:spPr>
            <a:xfrm>
              <a:off x="5129640" y="3200400"/>
              <a:ext cx="2555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posed tuning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5257800" y="4876920"/>
                <a:ext cx="26290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7924680" y="4876920"/>
                <a:ext cx="749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5207040" y="5765760"/>
                <a:ext cx="21081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s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5" name=""/>
          <p:cNvSpPr/>
          <p:nvPr/>
        </p:nvSpPr>
        <p:spPr>
          <a:xfrm>
            <a:off x="152640" y="6019920"/>
            <a:ext cx="49035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 we show how to design the tuning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selecting suitable R,L,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967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6" dur="indefinite" restart="never" nodeType="tmRoot">
          <p:childTnLst>
            <p:seq>
              <p:cTn id="2207" dur="indefinite" nodeType="mainSeq">
                <p:childTnLst>
                  <p:par>
                    <p:cTn id="2208" fill="hold">
                      <p:stCondLst>
                        <p:cond delay="indefinite"/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2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3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4" fill="hold">
                      <p:stCondLst>
                        <p:cond delay="indefinite"/>
                      </p:stCondLst>
                      <p:childTnLst>
                        <p:par>
                          <p:cTn id="2215" fill="hold">
                            <p:stCondLst>
                              <p:cond delay="0"/>
                            </p:stCondLst>
                            <p:childTnLst>
                              <p:par>
                                <p:cTn id="2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8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9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4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5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0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5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6" fill="hold">
                      <p:stCondLst>
                        <p:cond delay="indefinite"/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260640" y="135000"/>
            <a:ext cx="3020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ing the tuning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609480" y="533520"/>
                <a:ext cx="21081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s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71" name=""/>
          <p:cNvGrpSpPr/>
          <p:nvPr/>
        </p:nvGrpSpPr>
        <p:grpSpPr>
          <a:xfrm>
            <a:off x="304920" y="1735200"/>
            <a:ext cx="3365280" cy="1541520"/>
            <a:chOff x="304920" y="1735200"/>
            <a:chExt cx="3365280" cy="1541520"/>
          </a:xfrm>
        </p:grpSpPr>
        <mc:AlternateContent>
          <mc:Choice xmlns:a14="http://schemas.microsoft.com/office/drawing/2010/main" Requires="a14">
            <p:sp>
              <p:nvSpPr>
                <p:cNvPr id="972" name=""/>
                <p:cNvSpPr txBox="1"/>
                <p:nvPr/>
              </p:nvSpPr>
              <p:spPr>
                <a:xfrm>
                  <a:off x="304920" y="2108160"/>
                  <a:ext cx="336528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enter frequency:  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3" name=""/>
                <p:cNvSpPr txBox="1"/>
                <p:nvPr/>
              </p:nvSpPr>
              <p:spPr>
                <a:xfrm>
                  <a:off x="304920" y="2717640"/>
                  <a:ext cx="253980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andwidth:  </m:t>
                      </m:r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den>
                      </m:f>
                      <m:f>
                        <m:num>
                          <m:r>
                            <m:t xml:space="preserve">R</m:t>
                          </m:r>
                        </m:num>
                        <m:den>
                          <m:r>
                            <m:t xml:space="preserve">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74" name=""/>
            <p:cNvSpPr/>
            <p:nvPr/>
          </p:nvSpPr>
          <p:spPr>
            <a:xfrm>
              <a:off x="340920" y="1735200"/>
              <a:ext cx="193932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equ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380880" y="3352680"/>
            <a:ext cx="2400480" cy="1095480"/>
            <a:chOff x="380880" y="3352680"/>
            <a:chExt cx="2400480" cy="1095480"/>
          </a:xfrm>
        </p:grpSpPr>
        <p:sp>
          <p:nvSpPr>
            <p:cNvPr id="976" name=""/>
            <p:cNvSpPr/>
            <p:nvPr/>
          </p:nvSpPr>
          <p:spPr>
            <a:xfrm>
              <a:off x="419040" y="3352680"/>
              <a:ext cx="2317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specific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7" name=""/>
                <p:cNvSpPr txBox="1"/>
                <p:nvPr/>
              </p:nvSpPr>
              <p:spPr>
                <a:xfrm>
                  <a:off x="380880" y="3827160"/>
                  <a:ext cx="2400480" cy="62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BW</m:t>
                          </m:r>
                          <m:r>
                            <m:t xml:space="preserve">≤</m:t>
                          </m:r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  <m:r>
                            <m:rPr>
                              <m:lit/>
                              <m:nor/>
                            </m:rPr>
                            <m:t xml:space="preserve">kHz</m:t>
                          </m:r>
                        </m:e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900</m:t>
                          </m:r>
                          <m:r>
                            <m:rPr>
                              <m:lit/>
                              <m:nor/>
                            </m:rPr>
                            <m:t xml:space="preserve">kHz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960</m:t>
                          </m:r>
                          <m:r>
                            <m:rPr>
                              <m:lit/>
                              <m:nor/>
                            </m:rPr>
                            <m:t xml:space="preserve">kHz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78" name=""/>
          <p:cNvGrpSpPr/>
          <p:nvPr/>
        </p:nvGrpSpPr>
        <p:grpSpPr>
          <a:xfrm>
            <a:off x="4362480" y="61920"/>
            <a:ext cx="4781520" cy="2148480"/>
            <a:chOff x="4362480" y="61920"/>
            <a:chExt cx="4781520" cy="2148480"/>
          </a:xfrm>
        </p:grpSpPr>
        <p:grpSp>
          <p:nvGrpSpPr>
            <p:cNvPr id="979" name=""/>
            <p:cNvGrpSpPr/>
            <p:nvPr/>
          </p:nvGrpSpPr>
          <p:grpSpPr>
            <a:xfrm>
              <a:off x="4362480" y="366840"/>
              <a:ext cx="4781520" cy="1843560"/>
              <a:chOff x="4362480" y="366840"/>
              <a:chExt cx="4781520" cy="1843560"/>
            </a:xfrm>
          </p:grpSpPr>
          <p:pic>
            <p:nvPicPr>
              <p:cNvPr id="98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62480" y="366840"/>
                <a:ext cx="478152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1" name=""/>
              <p:cNvSpPr/>
              <p:nvPr/>
            </p:nvSpPr>
            <p:spPr>
              <a:xfrm>
                <a:off x="4795560" y="1873080"/>
                <a:ext cx="383076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ourier transform of received sign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2" name=""/>
            <p:cNvGrpSpPr/>
            <p:nvPr/>
          </p:nvGrpSpPr>
          <p:grpSpPr>
            <a:xfrm>
              <a:off x="4362480" y="61920"/>
              <a:ext cx="4446000" cy="1600200"/>
              <a:chOff x="4362480" y="61920"/>
              <a:chExt cx="4446000" cy="1600200"/>
            </a:xfrm>
          </p:grpSpPr>
          <p:grpSp>
            <p:nvGrpSpPr>
              <p:cNvPr id="983" name=""/>
              <p:cNvGrpSpPr/>
              <p:nvPr/>
            </p:nvGrpSpPr>
            <p:grpSpPr>
              <a:xfrm>
                <a:off x="4362480" y="747360"/>
                <a:ext cx="4419360" cy="914760"/>
                <a:chOff x="4362480" y="747360"/>
                <a:chExt cx="4419360" cy="914760"/>
              </a:xfrm>
            </p:grpSpPr>
            <p:grpSp>
              <p:nvGrpSpPr>
                <p:cNvPr id="984" name=""/>
                <p:cNvGrpSpPr/>
                <p:nvPr/>
              </p:nvGrpSpPr>
              <p:grpSpPr>
                <a:xfrm>
                  <a:off x="7943760" y="747360"/>
                  <a:ext cx="838080" cy="838440"/>
                  <a:chOff x="7943760" y="747360"/>
                  <a:chExt cx="838080" cy="838440"/>
                </a:xfrm>
              </p:grpSpPr>
              <p:sp>
                <p:nvSpPr>
                  <p:cNvPr id="985" name=""/>
                  <p:cNvSpPr/>
                  <p:nvPr/>
                </p:nvSpPr>
                <p:spPr>
                  <a:xfrm flipV="1">
                    <a:off x="8020080" y="747720"/>
                    <a:ext cx="0" cy="83808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 flipV="1">
                    <a:off x="8781840" y="747360"/>
                    <a:ext cx="0" cy="76212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 flipH="1">
                    <a:off x="7943760" y="747720"/>
                    <a:ext cx="838080" cy="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8" name=""/>
                <p:cNvGrpSpPr/>
                <p:nvPr/>
              </p:nvGrpSpPr>
              <p:grpSpPr>
                <a:xfrm>
                  <a:off x="4362480" y="823680"/>
                  <a:ext cx="838080" cy="838440"/>
                  <a:chOff x="4362480" y="823680"/>
                  <a:chExt cx="838080" cy="838440"/>
                </a:xfrm>
              </p:grpSpPr>
              <p:sp>
                <p:nvSpPr>
                  <p:cNvPr id="989" name=""/>
                  <p:cNvSpPr/>
                  <p:nvPr/>
                </p:nvSpPr>
                <p:spPr>
                  <a:xfrm flipV="1">
                    <a:off x="4438800" y="824040"/>
                    <a:ext cx="0" cy="83808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 flipV="1">
                    <a:off x="5200560" y="823680"/>
                    <a:ext cx="0" cy="76212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 flipH="1">
                    <a:off x="4362480" y="824040"/>
                    <a:ext cx="838080" cy="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92" name=""/>
              <p:cNvSpPr/>
              <p:nvPr/>
            </p:nvSpPr>
            <p:spPr>
              <a:xfrm>
                <a:off x="4778280" y="61920"/>
                <a:ext cx="40302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deal filter to tune out one AM s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93" name=""/>
          <p:cNvSpPr/>
          <p:nvPr/>
        </p:nvSpPr>
        <p:spPr>
          <a:xfrm>
            <a:off x="150120" y="4554360"/>
            <a:ext cx="4079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 unknowns than equations. M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me cho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152280" y="5181480"/>
                <a:ext cx="12700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kHz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1525680" y="5181480"/>
                <a:ext cx="27050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μ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"/>
              <p:cNvSpPr txBox="1"/>
              <p:nvPr/>
            </p:nvSpPr>
            <p:spPr>
              <a:xfrm>
                <a:off x="152280" y="5943600"/>
                <a:ext cx="43308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C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9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kHz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7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6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kHz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97" name=""/>
          <p:cNvGrpSpPr/>
          <p:nvPr/>
        </p:nvGrpSpPr>
        <p:grpSpPr>
          <a:xfrm>
            <a:off x="4572000" y="2724120"/>
            <a:ext cx="4467240" cy="3371760"/>
            <a:chOff x="4572000" y="2724120"/>
            <a:chExt cx="4467240" cy="3371760"/>
          </a:xfrm>
        </p:grpSpPr>
        <p:pic>
          <p:nvPicPr>
            <p:cNvPr id="998" name="" descr=""/>
            <p:cNvPicPr/>
            <p:nvPr/>
          </p:nvPicPr>
          <p:blipFill>
            <a:blip r:embed="rId2"/>
            <a:stretch/>
          </p:blipFill>
          <p:spPr>
            <a:xfrm>
              <a:off x="4572000" y="3028680"/>
              <a:ext cx="4467240" cy="306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9" name=""/>
            <p:cNvSpPr/>
            <p:nvPr/>
          </p:nvSpPr>
          <p:spPr>
            <a:xfrm>
              <a:off x="5460840" y="2724120"/>
              <a:ext cx="3216600" cy="5806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y response of circu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uned to 960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00" name="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00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2" dur="indefinite" restart="never" nodeType="tmRoot">
          <p:childTnLst>
            <p:seq>
              <p:cTn id="2263" dur="indefinite" nodeType="mainSeq">
                <p:childTnLst>
                  <p:par>
                    <p:cTn id="2264" fill="hold">
                      <p:stCondLst>
                        <p:cond delay="indefinite"/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8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9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4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6" fill="hold">
                      <p:stCondLst>
                        <p:cond delay="indefinite"/>
                      </p:stCondLst>
                      <p:childTnLst>
                        <p:par>
                          <p:cTn id="2277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0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fill="hold">
                      <p:stCondLst>
                        <p:cond delay="indefinite"/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8" fill="hold">
                      <p:stCondLst>
                        <p:cond delay="indefinite"/>
                      </p:stCondLst>
                      <p:childTnLst>
                        <p:par>
                          <p:cTn id="2289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2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3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4" fill="hold">
                      <p:stCondLst>
                        <p:cond delay="indefinite"/>
                      </p:stCondLst>
                      <p:childTnLst>
                        <p:par>
                          <p:cTn id="2295" fill="hold">
                            <p:stCondLst>
                              <p:cond delay="0"/>
                            </p:stCondLst>
                            <p:childTnLst>
                              <p:par>
                                <p:cTn id="2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0" fill="hold">
                      <p:stCondLst>
                        <p:cond delay="indefinite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4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5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6" fill="hold">
                      <p:stCondLst>
                        <p:cond delay="indefinite"/>
                      </p:stCondLst>
                      <p:childTnLst>
                        <p:par>
                          <p:cTn id="2307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0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1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2" fill="hold">
                      <p:stCondLst>
                        <p:cond delay="indefinite"/>
                      </p:stCondLst>
                      <p:childTnLst>
                        <p:par>
                          <p:cTn id="2313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6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7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4896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561400" y="58680"/>
            <a:ext cx="3269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example of band-pas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609480" y="457200"/>
                <a:ext cx="6705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t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t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t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6" name=""/>
          <p:cNvSpPr/>
          <p:nvPr/>
        </p:nvSpPr>
        <p:spPr>
          <a:xfrm>
            <a:off x="3976920" y="838080"/>
            <a:ext cx="788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1825920" y="820800"/>
            <a:ext cx="5004720" cy="354600"/>
            <a:chOff x="1825920" y="820800"/>
            <a:chExt cx="5004720" cy="354600"/>
          </a:xfrm>
        </p:grpSpPr>
        <p:sp>
          <p:nvSpPr>
            <p:cNvPr id="1008" name=""/>
            <p:cNvSpPr/>
            <p:nvPr/>
          </p:nvSpPr>
          <p:spPr>
            <a:xfrm>
              <a:off x="1825920" y="820800"/>
              <a:ext cx="72180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i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108840" y="838080"/>
              <a:ext cx="72180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i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762120" y="1905120"/>
            <a:ext cx="8011080" cy="3286080"/>
            <a:chOff x="762120" y="1905120"/>
            <a:chExt cx="8011080" cy="3286080"/>
          </a:xfrm>
        </p:grpSpPr>
        <p:pic>
          <p:nvPicPr>
            <p:cNvPr id="1011" name="" descr=""/>
            <p:cNvPicPr/>
            <p:nvPr/>
          </p:nvPicPr>
          <p:blipFill>
            <a:blip r:embed="rId1"/>
            <a:stretch/>
          </p:blipFill>
          <p:spPr>
            <a:xfrm>
              <a:off x="762120" y="1905120"/>
              <a:ext cx="6753240" cy="32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2" name=""/>
            <p:cNvSpPr/>
            <p:nvPr/>
          </p:nvSpPr>
          <p:spPr>
            <a:xfrm>
              <a:off x="7565400" y="2251440"/>
              <a:ext cx="1207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po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wo-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p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tw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nt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2362320" y="3200400"/>
            <a:ext cx="609480" cy="750600"/>
            <a:chOff x="2362320" y="3200400"/>
            <a:chExt cx="609480" cy="750600"/>
          </a:xfrm>
        </p:grpSpPr>
        <p:sp>
          <p:nvSpPr>
            <p:cNvPr id="1014" name=""/>
            <p:cNvSpPr/>
            <p:nvPr/>
          </p:nvSpPr>
          <p:spPr>
            <a:xfrm>
              <a:off x="2362320" y="3504960"/>
              <a:ext cx="3045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895480" y="3200400"/>
              <a:ext cx="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6" name=""/>
                <p:cNvSpPr txBox="1"/>
                <p:nvPr/>
              </p:nvSpPr>
              <p:spPr>
                <a:xfrm>
                  <a:off x="2514600" y="3733560"/>
                  <a:ext cx="45720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457200" y="4724280"/>
                <a:ext cx="236232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CL@ 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463680" y="5638680"/>
                <a:ext cx="378432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CL@ 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19" name=""/>
          <p:cNvGrpSpPr/>
          <p:nvPr/>
        </p:nvGrpSpPr>
        <p:grpSpPr>
          <a:xfrm>
            <a:off x="1525680" y="2819520"/>
            <a:ext cx="1217520" cy="988920"/>
            <a:chOff x="1525680" y="2819520"/>
            <a:chExt cx="1217520" cy="988920"/>
          </a:xfrm>
        </p:grpSpPr>
        <p:sp>
          <p:nvSpPr>
            <p:cNvPr id="1020" name=""/>
            <p:cNvSpPr/>
            <p:nvPr/>
          </p:nvSpPr>
          <p:spPr>
            <a:xfrm>
              <a:off x="1525680" y="3808440"/>
              <a:ext cx="5331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133720" y="2819520"/>
              <a:ext cx="0" cy="685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286000" y="320040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4572000" y="5245200"/>
                <a:ext cx="396252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jω</m:t>
                        </m:r>
                      </m:num>
                      <m:den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jω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3200400" y="4648320"/>
                <a:ext cx="2362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533520" y="2514600"/>
                <a:ext cx="1218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6" name=""/>
          <p:cNvSpPr/>
          <p:nvPr/>
        </p:nvSpPr>
        <p:spPr>
          <a:xfrm>
            <a:off x="409680" y="1278000"/>
            <a:ext cx="741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 requirement: Make the signal 100 times stronger than the no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7" name="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02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8" dur="indefinite" restart="never" nodeType="tmRoot">
          <p:childTnLst>
            <p:seq>
              <p:cTn id="2319" dur="indefinite" nodeType="mainSeq">
                <p:childTnLst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6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8" fill="hold">
                      <p:stCondLst>
                        <p:cond delay="indefinite"/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2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4" fill="hold">
                      <p:stCondLst>
                        <p:cond delay="indefinite"/>
                      </p:stCondLst>
                      <p:childTnLst>
                        <p:par>
                          <p:cTn id="2345" fill="hold">
                            <p:stCondLst>
                              <p:cond delay="0"/>
                            </p:stCondLst>
                            <p:childTnLst>
                              <p:par>
                                <p:cTn id="2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8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9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fill="hold">
                      <p:stCondLst>
                        <p:cond delay="indefinite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4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5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6" fill="hold">
                      <p:stCondLst>
                        <p:cond delay="indefinite"/>
                      </p:stCondLst>
                      <p:childTnLst>
                        <p:par>
                          <p:cTn id="2357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0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1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fill="hold">
                      <p:stCondLst>
                        <p:cond delay="indefinite"/>
                      </p:stCondLst>
                      <p:childTnLst>
                        <p:par>
                          <p:cTn id="2363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6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7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fill="hold">
                      <p:stCondLst>
                        <p:cond delay="indefinite"/>
                      </p:stCondLst>
                      <p:childTnLst>
                        <p:par>
                          <p:cTn id="2369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2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3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304920" y="228600"/>
                <a:ext cx="342900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eneral form of a band-pass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Q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Q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152280" y="1892160"/>
                <a:ext cx="396252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jω</m:t>
                        </m:r>
                      </m:num>
                      <m:den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jω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457200" y="3962520"/>
                <a:ext cx="275580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equations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3" name=""/>
          <p:cNvSpPr/>
          <p:nvPr/>
        </p:nvSpPr>
        <p:spPr>
          <a:xfrm>
            <a:off x="294120" y="3335400"/>
            <a:ext cx="4051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ng terms one gets a set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ons that can be used for desig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4" name=""/>
          <p:cNvGrpSpPr/>
          <p:nvPr/>
        </p:nvGrpSpPr>
        <p:grpSpPr>
          <a:xfrm>
            <a:off x="2438280" y="1219320"/>
            <a:ext cx="1747800" cy="1976400"/>
            <a:chOff x="2438280" y="1219320"/>
            <a:chExt cx="1747800" cy="1976400"/>
          </a:xfrm>
        </p:grpSpPr>
        <p:sp>
          <p:nvSpPr>
            <p:cNvPr id="1035" name=""/>
            <p:cNvSpPr/>
            <p:nvPr/>
          </p:nvSpPr>
          <p:spPr>
            <a:xfrm>
              <a:off x="3271680" y="2585880"/>
              <a:ext cx="914400" cy="60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438280" y="1219320"/>
              <a:ext cx="38124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7" name=""/>
          <p:cNvGrpSpPr/>
          <p:nvPr/>
        </p:nvGrpSpPr>
        <p:grpSpPr>
          <a:xfrm>
            <a:off x="1447920" y="1219320"/>
            <a:ext cx="1371600" cy="2133360"/>
            <a:chOff x="1447920" y="1219320"/>
            <a:chExt cx="1371600" cy="2133360"/>
          </a:xfrm>
        </p:grpSpPr>
        <p:sp>
          <p:nvSpPr>
            <p:cNvPr id="1038" name=""/>
            <p:cNvSpPr/>
            <p:nvPr/>
          </p:nvSpPr>
          <p:spPr>
            <a:xfrm>
              <a:off x="2209680" y="2514600"/>
              <a:ext cx="60984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447920" y="1219320"/>
              <a:ext cx="457200" cy="7617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40" name=""/>
              <p:cNvSpPr txBox="1"/>
              <p:nvPr/>
            </p:nvSpPr>
            <p:spPr>
              <a:xfrm>
                <a:off x="2971800" y="533520"/>
                <a:ext cx="32767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enter frequency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gain  at center frequency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quality factor of the filte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1" name=""/>
          <p:cNvSpPr/>
          <p:nvPr/>
        </p:nvSpPr>
        <p:spPr>
          <a:xfrm>
            <a:off x="6371640" y="228600"/>
            <a:ext cx="255060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a log scale, thi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symmetric arou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enter frequ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ence, focus on 1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57400" y="5715000"/>
            <a:ext cx="37393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kHz, 100kHz are noise frequen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0kHz is the signal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5257800" y="1600200"/>
                <a:ext cx="346716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ain at </m:t>
                    </m:r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j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Q</m:t>
                            </m:r>
                          </m:den>
                        </m:f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Q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44" name=""/>
          <p:cNvGrpSpPr/>
          <p:nvPr/>
        </p:nvGrpSpPr>
        <p:grpSpPr>
          <a:xfrm>
            <a:off x="4495680" y="2895480"/>
            <a:ext cx="2768760" cy="1619280"/>
            <a:chOff x="4495680" y="2895480"/>
            <a:chExt cx="2768760" cy="1619280"/>
          </a:xfrm>
        </p:grpSpPr>
        <mc:AlternateContent>
          <mc:Choice xmlns:a14="http://schemas.microsoft.com/office/drawing/2010/main" Requires="a14">
            <p:sp>
              <p:nvSpPr>
                <p:cNvPr id="1045" name=""/>
                <p:cNvSpPr txBox="1"/>
                <p:nvPr/>
              </p:nvSpPr>
              <p:spPr>
                <a:xfrm>
                  <a:off x="4495680" y="3232080"/>
                  <a:ext cx="276876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f>
                            <m:num>
                              <m:r>
                                <m:t xml:space="preserve">j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t xml:space="preserve">Q</m:t>
                                  </m:r>
                                </m:den>
                              </m:f>
                            </m:num>
                            <m:den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0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t xml:space="preserve">Q</m:t>
                                  </m:r>
                                </m:den>
                              </m:f>
                            </m:den>
                          </m:f>
                        </m:e>
                      </m:d>
                      <m:r>
                        <m:t xml:space="preserve">≤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00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46" name=""/>
            <p:cNvSpPr/>
            <p:nvPr/>
          </p:nvSpPr>
          <p:spPr>
            <a:xfrm>
              <a:off x="4528080" y="2895480"/>
              <a:ext cx="197460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constr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7261920" y="3273480"/>
            <a:ext cx="185256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fter two s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oise gain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000 ti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ma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484160" y="4554360"/>
            <a:ext cx="4463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ce center frequency is gi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equation constrains the quality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9" name=""/>
              <p:cNvSpPr txBox="1"/>
              <p:nvPr/>
            </p:nvSpPr>
            <p:spPr>
              <a:xfrm>
                <a:off x="4419720" y="5181480"/>
                <a:ext cx="2984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ing for Q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≥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</m:e>
                        </m:rad>
                        <m:r>
                          <m:t xml:space="preserve">⇒</m:t>
                        </m:r>
                        <m:r>
                          <m:t xml:space="preserve">Q</m:t>
                        </m:r>
                        <m:r>
                          <m:t xml:space="preserve">≈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50" name=""/>
          <p:cNvSpPr/>
          <p:nvPr/>
        </p:nvSpPr>
        <p:spPr>
          <a:xfrm>
            <a:off x="228600" y="4952880"/>
            <a:ext cx="17524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52280" y="4267080"/>
            <a:ext cx="167652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87200" y="6307200"/>
            <a:ext cx="4322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use the requirements to constraint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7467480" y="5257800"/>
                <a:ext cx="1041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4952880" y="5943600"/>
                <a:ext cx="3009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icking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5423040" y="6248520"/>
                <a:ext cx="2577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n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56" name="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057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4" dur="indefinite" restart="never" nodeType="tmRoot">
          <p:childTnLst>
            <p:seq>
              <p:cTn id="2375" dur="indefinite" nodeType="mainSeq">
                <p:childTnLst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fill="hold">
                      <p:stCondLst>
                        <p:cond delay="indefinite"/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3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4" fill="hold">
                      <p:stCondLst>
                        <p:cond delay="indefinite"/>
                      </p:stCondLst>
                      <p:childTnLst>
                        <p:par>
                          <p:cTn id="2395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8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9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0" fill="hold">
                      <p:stCondLst>
                        <p:cond delay="indefinite"/>
                      </p:stCondLst>
                      <p:childTnLst>
                        <p:par>
                          <p:cTn id="2401" fill="hold">
                            <p:stCondLst>
                              <p:cond delay="0"/>
                            </p:stCondLst>
                            <p:childTnLst>
                              <p:par>
                                <p:cTn id="2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4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5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6" fill="hold">
                      <p:stCondLst>
                        <p:cond delay="indefinite"/>
                      </p:stCondLst>
                      <p:childTnLst>
                        <p:par>
                          <p:cTn id="2407" fill="hold">
                            <p:stCondLst>
                              <p:cond delay="0"/>
                            </p:stCondLst>
                            <p:childTnLst>
                              <p:par>
                                <p:cTn id="2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0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1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2" fill="hold">
                      <p:stCondLst>
                        <p:cond delay="indefinite"/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6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7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8" fill="hold">
                      <p:stCondLst>
                        <p:cond delay="indefinite"/>
                      </p:stCondLst>
                      <p:childTnLst>
                        <p:par>
                          <p:cTn id="2419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2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3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4" fill="hold">
                      <p:stCondLst>
                        <p:cond delay="indefinite"/>
                      </p:stCondLst>
                      <p:childTnLst>
                        <p:par>
                          <p:cTn id="2425" fill="hold">
                            <p:stCondLst>
                              <p:cond delay="0"/>
                            </p:stCondLst>
                            <p:childTnLst>
                              <p:par>
                                <p:cTn id="2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8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9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0" fill="hold">
                      <p:stCondLst>
                        <p:cond delay="indefinite"/>
                      </p:stCondLst>
                      <p:childTnLst>
                        <p:par>
                          <p:cTn id="2431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4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5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6" fill="hold">
                      <p:stCondLst>
                        <p:cond delay="indefinite"/>
                      </p:stCondLst>
                      <p:childTnLst>
                        <p:par>
                          <p:cTn id="2437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0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1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2" fill="hold">
                      <p:stCondLst>
                        <p:cond delay="indefinite"/>
                      </p:stCondLst>
                      <p:childTnLst>
                        <p:par>
                          <p:cTn id="2443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6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7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8" fill="hold">
                      <p:stCondLst>
                        <p:cond delay="indefinite"/>
                      </p:stCondLst>
                      <p:childTnLst>
                        <p:par>
                          <p:cTn id="2449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2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3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4" fill="hold">
                      <p:stCondLst>
                        <p:cond delay="indefinite"/>
                      </p:stCondLst>
                      <p:childTnLst>
                        <p:par>
                          <p:cTn id="2455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8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9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fill="hold">
                      <p:stCondLst>
                        <p:cond delay="indefinite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4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5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6" fill="hold">
                      <p:stCondLst>
                        <p:cond delay="indefinite"/>
                      </p:stCondLst>
                      <p:childTnLst>
                        <p:par>
                          <p:cTn id="2467" fill="hold">
                            <p:stCondLst>
                              <p:cond delay="0"/>
                            </p:stCondLst>
                            <p:childTnLst>
                              <p:par>
                                <p:cTn id="2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0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1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2" fill="hold">
                      <p:stCondLst>
                        <p:cond delay="indefinite"/>
                      </p:stCondLst>
                      <p:childTnLst>
                        <p:par>
                          <p:cTn id="2473" fill="hold">
                            <p:stCondLst>
                              <p:cond delay="0"/>
                            </p:stCondLst>
                            <p:childTnLst>
                              <p:par>
                                <p:cTn id="2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6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7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8" fill="hold">
                      <p:stCondLst>
                        <p:cond delay="indefinite"/>
                      </p:stCondLst>
                      <p:childTnLst>
                        <p:par>
                          <p:cTn id="2479" fill="hold">
                            <p:stCondLst>
                              <p:cond delay="0"/>
                            </p:stCondLst>
                            <p:childTnLst>
                              <p:par>
                                <p:cTn id="2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2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3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4" fill="hold">
                      <p:stCondLst>
                        <p:cond delay="indefinite"/>
                      </p:stCondLst>
                      <p:childTnLst>
                        <p:par>
                          <p:cTn id="2485" fill="hold">
                            <p:stCondLst>
                              <p:cond delay="0"/>
                            </p:stCondLst>
                            <p:childTnLst>
                              <p:par>
                                <p:cTn id="2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8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9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719760" cy="5271840"/>
          </a:xfrm>
          <a:prstGeom prst="rect">
            <a:avLst/>
          </a:prstGeom>
          <a:ln w="0">
            <a:noFill/>
          </a:ln>
        </p:spPr>
      </p:pic>
      <p:sp>
        <p:nvSpPr>
          <p:cNvPr id="1060" name=""/>
          <p:cNvSpPr/>
          <p:nvPr/>
        </p:nvSpPr>
        <p:spPr>
          <a:xfrm>
            <a:off x="2139120" y="5621400"/>
            <a:ext cx="5394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ulting Bode plot obtained with PSPICE AC swe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1" name="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06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0" dur="indefinite" restart="never" nodeType="tmRoot">
          <p:childTnLst>
            <p:seq>
              <p:cTn id="2491" dur="indefinite" nodeType="mainSeq">
                <p:childTnLst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828960" cy="2610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553480" y="58680"/>
            <a:ext cx="4362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exponential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362640" y="380880"/>
                <a:ext cx="27813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6400800" y="1066680"/>
                <a:ext cx="21844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6019920" y="1905120"/>
                <a:ext cx="242568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strategy: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etermine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elect a convenient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o the integra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 flipH="1">
            <a:off x="5943240" y="2514600"/>
            <a:ext cx="21337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2362320"/>
            <a:ext cx="3683160" cy="544320"/>
            <a:chOff x="1295280" y="2362320"/>
            <a:chExt cx="3683160" cy="544320"/>
          </a:xfrm>
        </p:grpSpPr>
        <p:sp>
          <p:nvSpPr>
            <p:cNvPr id="138" name=""/>
            <p:cNvSpPr/>
            <p:nvPr/>
          </p:nvSpPr>
          <p:spPr>
            <a:xfrm>
              <a:off x="1295280" y="2590920"/>
              <a:ext cx="1447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3276720" y="2362320"/>
                  <a:ext cx="170172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T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0" name=""/>
          <p:cNvSpPr/>
          <p:nvPr/>
        </p:nvSpPr>
        <p:spPr>
          <a:xfrm flipH="1">
            <a:off x="5867280" y="2895480"/>
            <a:ext cx="23623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14400" y="2895480"/>
                <a:ext cx="939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 flipH="1">
            <a:off x="5943600" y="3276720"/>
            <a:ext cx="22096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0" y="3352680"/>
                <a:ext cx="68724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nary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b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0" y="4495680"/>
                <a:ext cx="49276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b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b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0" y="5181480"/>
                <a:ext cx="7736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jT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7315200" y="4191120"/>
                <a:ext cx="914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0" y="6019920"/>
                <a:ext cx="67071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r>
                              <m:t xml:space="preserve">π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r>
                              <m:t xml:space="preserve">π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n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nπ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7238880" y="3429000"/>
                <a:ext cx="1803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</m:num>
                      <m:den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568680" y="990720"/>
                <a:ext cx="260352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ven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πn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n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d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079960" y="4457880"/>
                <a:ext cx="1803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is is for </m:t>
                        </m:r>
                        <m:r>
                          <m:t xml:space="preserve">n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!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in this ca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" descr=""/>
          <p:cNvPicPr/>
          <p:nvPr/>
        </p:nvPicPr>
        <p:blipFill>
          <a:blip r:embed="rId1"/>
          <a:stretch/>
        </p:blipFill>
        <p:spPr>
          <a:xfrm>
            <a:off x="1066680" y="19080"/>
            <a:ext cx="6681960" cy="3257640"/>
          </a:xfrm>
          <a:prstGeom prst="rect">
            <a:avLst/>
          </a:prstGeom>
          <a:ln w="0">
            <a:noFill/>
          </a:ln>
        </p:spPr>
      </p:pic>
      <p:sp>
        <p:nvSpPr>
          <p:cNvPr id="1065" name=""/>
          <p:cNvSpPr/>
          <p:nvPr/>
        </p:nvSpPr>
        <p:spPr>
          <a:xfrm>
            <a:off x="7558200" y="363600"/>
            <a:ext cx="15980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lter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btained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SP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6" name=""/>
          <p:cNvGrpSpPr/>
          <p:nvPr/>
        </p:nvGrpSpPr>
        <p:grpSpPr>
          <a:xfrm>
            <a:off x="762120" y="3124080"/>
            <a:ext cx="7367400" cy="3632400"/>
            <a:chOff x="762120" y="3124080"/>
            <a:chExt cx="7367400" cy="3632400"/>
          </a:xfrm>
        </p:grpSpPr>
        <p:pic>
          <p:nvPicPr>
            <p:cNvPr id="1067" name="" descr=""/>
            <p:cNvPicPr/>
            <p:nvPr/>
          </p:nvPicPr>
          <p:blipFill>
            <a:blip r:embed="rId2"/>
            <a:stretch/>
          </p:blipFill>
          <p:spPr>
            <a:xfrm>
              <a:off x="762120" y="3124080"/>
              <a:ext cx="7367400" cy="363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8" name=""/>
            <p:cNvSpPr/>
            <p:nvPr/>
          </p:nvSpPr>
          <p:spPr>
            <a:xfrm>
              <a:off x="5275800" y="3868560"/>
              <a:ext cx="249732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urier transform of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utput signal obtain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PSP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69" name="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07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8" dur="indefinite" restart="never" nodeType="tmRoot">
          <p:childTnLst>
            <p:seq>
              <p:cTn id="2499" dur="indefinite" nodeType="mainSeq">
                <p:childTnLst>
                  <p:par>
                    <p:cTn id="2500" fill="hold">
                      <p:stCondLst>
                        <p:cond delay="indefinite"/>
                      </p:stCondLst>
                      <p:childTnLst>
                        <p:par>
                          <p:cTn id="2501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4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5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6" fill="hold">
                      <p:stCondLst>
                        <p:cond delay="indefinite"/>
                      </p:stCondLst>
                      <p:childTnLst>
                        <p:par>
                          <p:cTn id="2507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0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1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24120" y="0"/>
            <a:ext cx="11149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3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2409840" cy="2057400"/>
          </a:xfrm>
          <a:prstGeom prst="rect">
            <a:avLst/>
          </a:prstGeom>
          <a:ln w="0">
            <a:noFill/>
          </a:ln>
        </p:spPr>
      </p:pic>
      <p:sp>
        <p:nvSpPr>
          <p:cNvPr id="1074" name=""/>
          <p:cNvSpPr/>
          <p:nvPr/>
        </p:nvSpPr>
        <p:spPr>
          <a:xfrm>
            <a:off x="1576800" y="60480"/>
            <a:ext cx="4080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LTIPLE FREQUENCY “TRAP”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375720" y="66996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NOTCH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6" name=""/>
          <p:cNvGraphicFramePr/>
          <p:nvPr/>
        </p:nvGraphicFramePr>
        <p:xfrm>
          <a:off x="2590920" y="1066680"/>
          <a:ext cx="3492360" cy="133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1066680"/>
                    <a:ext cx="349236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8" name=""/>
          <p:cNvGraphicFramePr/>
          <p:nvPr/>
        </p:nvGraphicFramePr>
        <p:xfrm>
          <a:off x="6248520" y="1371600"/>
          <a:ext cx="2590560" cy="819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7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48520" y="1371600"/>
                    <a:ext cx="259056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0" name=""/>
          <p:cNvGrpSpPr/>
          <p:nvPr/>
        </p:nvGrpSpPr>
        <p:grpSpPr>
          <a:xfrm>
            <a:off x="6899400" y="14400"/>
            <a:ext cx="1928520" cy="1673280"/>
            <a:chOff x="6899400" y="14400"/>
            <a:chExt cx="1928520" cy="1673280"/>
          </a:xfrm>
        </p:grpSpPr>
        <p:graphicFrame>
          <p:nvGraphicFramePr>
            <p:cNvPr id="1081" name=""/>
            <p:cNvGraphicFramePr/>
            <p:nvPr/>
          </p:nvGraphicFramePr>
          <p:xfrm>
            <a:off x="7238880" y="228600"/>
            <a:ext cx="1371600" cy="785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8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238880" y="228600"/>
                      <a:ext cx="1371600" cy="78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3" name=""/>
            <p:cNvSpPr/>
            <p:nvPr/>
          </p:nvSpPr>
          <p:spPr>
            <a:xfrm>
              <a:off x="6899400" y="14400"/>
              <a:ext cx="1928520" cy="1673280"/>
            </a:xfrm>
            <a:custGeom>
              <a:avLst/>
              <a:gdLst/>
              <a:ahLst/>
              <a:rect l="l" t="t" r="r" b="b"/>
              <a:pathLst>
                <a:path w="1215" h="1054">
                  <a:moveTo>
                    <a:pt x="1215" y="339"/>
                  </a:moveTo>
                  <a:cubicBezTo>
                    <a:pt x="1215" y="339"/>
                    <a:pt x="1200" y="212"/>
                    <a:pt x="1196" y="200"/>
                  </a:cubicBezTo>
                  <a:cubicBezTo>
                    <a:pt x="1181" y="155"/>
                    <a:pt x="1136" y="105"/>
                    <a:pt x="1096" y="80"/>
                  </a:cubicBezTo>
                  <a:cubicBezTo>
                    <a:pt x="1066" y="62"/>
                    <a:pt x="998" y="58"/>
                    <a:pt x="967" y="51"/>
                  </a:cubicBezTo>
                  <a:cubicBezTo>
                    <a:pt x="802" y="13"/>
                    <a:pt x="987" y="46"/>
                    <a:pt x="838" y="21"/>
                  </a:cubicBezTo>
                  <a:cubicBezTo>
                    <a:pt x="767" y="23"/>
                    <a:pt x="425" y="0"/>
                    <a:pt x="272" y="51"/>
                  </a:cubicBezTo>
                  <a:cubicBezTo>
                    <a:pt x="225" y="84"/>
                    <a:pt x="197" y="97"/>
                    <a:pt x="163" y="140"/>
                  </a:cubicBezTo>
                  <a:cubicBezTo>
                    <a:pt x="148" y="159"/>
                    <a:pt x="134" y="179"/>
                    <a:pt x="123" y="200"/>
                  </a:cubicBezTo>
                  <a:cubicBezTo>
                    <a:pt x="110" y="226"/>
                    <a:pt x="101" y="256"/>
                    <a:pt x="83" y="279"/>
                  </a:cubicBezTo>
                  <a:cubicBezTo>
                    <a:pt x="46" y="327"/>
                    <a:pt x="23" y="370"/>
                    <a:pt x="4" y="428"/>
                  </a:cubicBezTo>
                  <a:cubicBezTo>
                    <a:pt x="11" y="507"/>
                    <a:pt x="0" y="569"/>
                    <a:pt x="83" y="597"/>
                  </a:cubicBezTo>
                  <a:cubicBezTo>
                    <a:pt x="154" y="668"/>
                    <a:pt x="90" y="612"/>
                    <a:pt x="202" y="676"/>
                  </a:cubicBezTo>
                  <a:cubicBezTo>
                    <a:pt x="235" y="695"/>
                    <a:pt x="265" y="724"/>
                    <a:pt x="302" y="736"/>
                  </a:cubicBezTo>
                  <a:cubicBezTo>
                    <a:pt x="371" y="759"/>
                    <a:pt x="449" y="789"/>
                    <a:pt x="520" y="805"/>
                  </a:cubicBezTo>
                  <a:cubicBezTo>
                    <a:pt x="581" y="819"/>
                    <a:pt x="647" y="823"/>
                    <a:pt x="709" y="835"/>
                  </a:cubicBezTo>
                  <a:cubicBezTo>
                    <a:pt x="816" y="827"/>
                    <a:pt x="1016" y="821"/>
                    <a:pt x="1106" y="746"/>
                  </a:cubicBezTo>
                  <a:cubicBezTo>
                    <a:pt x="1141" y="717"/>
                    <a:pt x="1148" y="698"/>
                    <a:pt x="1176" y="656"/>
                  </a:cubicBezTo>
                  <a:cubicBezTo>
                    <a:pt x="1189" y="636"/>
                    <a:pt x="1149" y="696"/>
                    <a:pt x="1136" y="716"/>
                  </a:cubicBezTo>
                  <a:cubicBezTo>
                    <a:pt x="1123" y="736"/>
                    <a:pt x="1109" y="756"/>
                    <a:pt x="1096" y="776"/>
                  </a:cubicBezTo>
                  <a:cubicBezTo>
                    <a:pt x="1089" y="786"/>
                    <a:pt x="1076" y="805"/>
                    <a:pt x="1076" y="805"/>
                  </a:cubicBezTo>
                  <a:cubicBezTo>
                    <a:pt x="1063" y="859"/>
                    <a:pt x="1042" y="895"/>
                    <a:pt x="997" y="925"/>
                  </a:cubicBezTo>
                  <a:cubicBezTo>
                    <a:pt x="979" y="977"/>
                    <a:pt x="999" y="934"/>
                    <a:pt x="957" y="984"/>
                  </a:cubicBezTo>
                  <a:cubicBezTo>
                    <a:pt x="915" y="1034"/>
                    <a:pt x="913" y="1027"/>
                    <a:pt x="858" y="105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76320" y="2895480"/>
            <a:ext cx="3562200" cy="2531520"/>
            <a:chOff x="76320" y="2895480"/>
            <a:chExt cx="3562200" cy="2531520"/>
          </a:xfrm>
        </p:grpSpPr>
        <p:pic>
          <p:nvPicPr>
            <p:cNvPr id="1085" name="" descr=""/>
            <p:cNvPicPr/>
            <p:nvPr/>
          </p:nvPicPr>
          <p:blipFill>
            <a:blip r:embed="rId8"/>
            <a:stretch/>
          </p:blipFill>
          <p:spPr>
            <a:xfrm>
              <a:off x="76320" y="2895480"/>
              <a:ext cx="356220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6" name=""/>
            <p:cNvSpPr/>
            <p:nvPr/>
          </p:nvSpPr>
          <p:spPr>
            <a:xfrm>
              <a:off x="282960" y="5089680"/>
              <a:ext cx="2586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ultiple frequency tr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3426120" y="2743200"/>
            <a:ext cx="5108400" cy="3141000"/>
            <a:chOff x="3426120" y="2743200"/>
            <a:chExt cx="5108400" cy="3141000"/>
          </a:xfrm>
        </p:grpSpPr>
        <p:pic>
          <p:nvPicPr>
            <p:cNvPr id="1088" name="" descr=""/>
            <p:cNvPicPr/>
            <p:nvPr/>
          </p:nvPicPr>
          <p:blipFill>
            <a:blip r:embed="rId9"/>
            <a:stretch/>
          </p:blipFill>
          <p:spPr>
            <a:xfrm>
              <a:off x="3733920" y="3124080"/>
              <a:ext cx="4800600" cy="24195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089" name=""/>
            <p:cNvGraphicFramePr/>
            <p:nvPr/>
          </p:nvGraphicFramePr>
          <p:xfrm>
            <a:off x="4648320" y="2743200"/>
            <a:ext cx="1942920" cy="3049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090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2743200"/>
                      <a:ext cx="194292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91" name=""/>
            <p:cNvSpPr/>
            <p:nvPr/>
          </p:nvSpPr>
          <p:spPr>
            <a:xfrm>
              <a:off x="3426120" y="5546880"/>
              <a:ext cx="373176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liminates 10kHz, 20kHz and 30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2" name=""/>
          <p:cNvGrpSpPr/>
          <p:nvPr/>
        </p:nvGrpSpPr>
        <p:grpSpPr>
          <a:xfrm>
            <a:off x="5603760" y="2727360"/>
            <a:ext cx="3413160" cy="1182600"/>
            <a:chOff x="5603760" y="2727360"/>
            <a:chExt cx="3413160" cy="1182600"/>
          </a:xfrm>
        </p:grpSpPr>
        <p:sp>
          <p:nvSpPr>
            <p:cNvPr id="1093" name=""/>
            <p:cNvSpPr/>
            <p:nvPr/>
          </p:nvSpPr>
          <p:spPr>
            <a:xfrm>
              <a:off x="5603760" y="3075120"/>
              <a:ext cx="3098880" cy="834840"/>
            </a:xfrm>
            <a:custGeom>
              <a:avLst/>
              <a:gdLst/>
              <a:ahLst/>
              <a:rect l="l" t="t" r="r" b="b"/>
              <a:pathLst>
                <a:path w="1952" h="526">
                  <a:moveTo>
                    <a:pt x="1902" y="218"/>
                  </a:moveTo>
                  <a:cubicBezTo>
                    <a:pt x="1853" y="169"/>
                    <a:pt x="1837" y="179"/>
                    <a:pt x="1763" y="168"/>
                  </a:cubicBezTo>
                  <a:cubicBezTo>
                    <a:pt x="1669" y="153"/>
                    <a:pt x="1581" y="137"/>
                    <a:pt x="1485" y="129"/>
                  </a:cubicBezTo>
                  <a:cubicBezTo>
                    <a:pt x="1284" y="61"/>
                    <a:pt x="1081" y="14"/>
                    <a:pt x="869" y="0"/>
                  </a:cubicBezTo>
                  <a:cubicBezTo>
                    <a:pt x="825" y="3"/>
                    <a:pt x="668" y="13"/>
                    <a:pt x="621" y="19"/>
                  </a:cubicBezTo>
                  <a:cubicBezTo>
                    <a:pt x="579" y="24"/>
                    <a:pt x="553" y="35"/>
                    <a:pt x="512" y="49"/>
                  </a:cubicBezTo>
                  <a:cubicBezTo>
                    <a:pt x="460" y="66"/>
                    <a:pt x="386" y="72"/>
                    <a:pt x="333" y="79"/>
                  </a:cubicBezTo>
                  <a:cubicBezTo>
                    <a:pt x="283" y="96"/>
                    <a:pt x="251" y="116"/>
                    <a:pt x="204" y="139"/>
                  </a:cubicBezTo>
                  <a:cubicBezTo>
                    <a:pt x="164" y="159"/>
                    <a:pt x="123" y="173"/>
                    <a:pt x="85" y="198"/>
                  </a:cubicBezTo>
                  <a:cubicBezTo>
                    <a:pt x="0" y="325"/>
                    <a:pt x="147" y="411"/>
                    <a:pt x="254" y="446"/>
                  </a:cubicBezTo>
                  <a:cubicBezTo>
                    <a:pt x="298" y="460"/>
                    <a:pt x="327" y="489"/>
                    <a:pt x="373" y="496"/>
                  </a:cubicBezTo>
                  <a:cubicBezTo>
                    <a:pt x="406" y="501"/>
                    <a:pt x="439" y="503"/>
                    <a:pt x="472" y="506"/>
                  </a:cubicBezTo>
                  <a:cubicBezTo>
                    <a:pt x="788" y="496"/>
                    <a:pt x="1101" y="497"/>
                    <a:pt x="1416" y="526"/>
                  </a:cubicBezTo>
                  <a:cubicBezTo>
                    <a:pt x="1434" y="525"/>
                    <a:pt x="1671" y="511"/>
                    <a:pt x="1704" y="506"/>
                  </a:cubicBezTo>
                  <a:cubicBezTo>
                    <a:pt x="1764" y="497"/>
                    <a:pt x="1806" y="470"/>
                    <a:pt x="1863" y="456"/>
                  </a:cubicBezTo>
                  <a:cubicBezTo>
                    <a:pt x="1883" y="443"/>
                    <a:pt x="1902" y="430"/>
                    <a:pt x="1922" y="417"/>
                  </a:cubicBezTo>
                  <a:cubicBezTo>
                    <a:pt x="1940" y="405"/>
                    <a:pt x="1935" y="377"/>
                    <a:pt x="1942" y="357"/>
                  </a:cubicBezTo>
                  <a:cubicBezTo>
                    <a:pt x="1945" y="347"/>
                    <a:pt x="1952" y="327"/>
                    <a:pt x="1952" y="327"/>
                  </a:cubicBezTo>
                  <a:cubicBezTo>
                    <a:pt x="1943" y="272"/>
                    <a:pt x="1939" y="255"/>
                    <a:pt x="1902" y="218"/>
                  </a:cubicBez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193160" y="2727360"/>
              <a:ext cx="182376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uned for 10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7979040" y="5790600"/>
            <a:ext cx="1140840" cy="1078560"/>
            <a:chOff x="7979040" y="5790600"/>
            <a:chExt cx="1140840" cy="1078560"/>
          </a:xfrm>
        </p:grpSpPr>
        <p:pic>
          <p:nvPicPr>
            <p:cNvPr id="1096" name="" descr=""/>
            <p:cNvPicPr/>
            <p:nvPr/>
          </p:nvPicPr>
          <p:blipFill>
            <a:blip r:embed="rId12"/>
            <a:stretch/>
          </p:blipFill>
          <p:spPr>
            <a:xfrm>
              <a:off x="8516880" y="635472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7" name=""/>
            <p:cNvSpPr/>
            <p:nvPr/>
          </p:nvSpPr>
          <p:spPr>
            <a:xfrm>
              <a:off x="7979040" y="5790600"/>
              <a:ext cx="11408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Four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8" name="">
            <a:hlinkClick r:id="" action="ppaction://hlinkshowjump?jump=previousslide"/>
          </p:cNvPr>
          <p:cNvSpPr/>
          <p:nvPr/>
        </p:nvSpPr>
        <p:spPr>
          <a:xfrm>
            <a:off x="4114800" y="663588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2" dur="indefinite" restart="never" nodeType="tmRoot">
          <p:childTnLst>
            <p:seq>
              <p:cTn id="2513" dur="indefinite" nodeType="mainSeq">
                <p:childTnLst>
                  <p:par>
                    <p:cTn id="2514" fill="hold">
                      <p:stCondLst>
                        <p:cond delay="indefinite"/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8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fill="hold">
                      <p:stCondLst>
                        <p:cond delay="indefinite"/>
                      </p:stCondLst>
                      <p:childTnLst>
                        <p:par>
                          <p:cTn id="2520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4" fill="hold">
                      <p:stCondLst>
                        <p:cond delay="indefinite"/>
                      </p:stCondLst>
                      <p:childTnLst>
                        <p:par>
                          <p:cTn id="2525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8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3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4" fill="hold">
                      <p:stCondLst>
                        <p:cond delay="indefinite"/>
                      </p:stCondLst>
                      <p:childTnLst>
                        <p:par>
                          <p:cTn id="2535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8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9" fill="hold">
                      <p:stCondLst>
                        <p:cond delay="indefinite"/>
                      </p:stCondLst>
                      <p:childTnLst>
                        <p:par>
                          <p:cTn id="2540" fill="hold">
                            <p:stCondLst>
                              <p:cond delay="0"/>
                            </p:stCondLst>
                            <p:childTnLst>
                              <p:par>
                                <p:cTn id="2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3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4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69400" y="120600"/>
            <a:ext cx="4362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exponential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3886200" cy="1136520"/>
          </a:xfrm>
          <a:prstGeom prst="rect">
            <a:avLst/>
          </a:prstGeom>
          <a:ln w="0">
            <a:noFill/>
          </a:ln>
        </p:spPr>
      </p:pic>
      <p:grpSp>
        <p:nvGrpSpPr>
          <p:cNvPr id="157" name=""/>
          <p:cNvGrpSpPr/>
          <p:nvPr/>
        </p:nvGrpSpPr>
        <p:grpSpPr>
          <a:xfrm>
            <a:off x="6357960" y="380880"/>
            <a:ext cx="2781360" cy="2756160"/>
            <a:chOff x="6357960" y="380880"/>
            <a:chExt cx="2781360" cy="2756160"/>
          </a:xfrm>
        </p:grpSpPr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6400800" y="1828800"/>
                  <a:ext cx="2425680" cy="130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 strategy: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Determine 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and 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Select a convenient 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Do the integration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6357960" y="380880"/>
                  <a:ext cx="2781360" cy="63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∞</m:t>
                          </m:r>
                        </m:sup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nary>
                      <m:r>
                        <m:t xml:space="preserve">;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6396120" y="1066680"/>
                  <a:ext cx="218448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1" name=""/>
          <p:cNvGrpSpPr/>
          <p:nvPr/>
        </p:nvGrpSpPr>
        <p:grpSpPr>
          <a:xfrm>
            <a:off x="1143000" y="533520"/>
            <a:ext cx="762120" cy="380880"/>
            <a:chOff x="1143000" y="533520"/>
            <a:chExt cx="762120" cy="380880"/>
          </a:xfrm>
        </p:grpSpPr>
        <p:sp>
          <p:nvSpPr>
            <p:cNvPr id="162" name=""/>
            <p:cNvSpPr/>
            <p:nvPr/>
          </p:nvSpPr>
          <p:spPr>
            <a:xfrm>
              <a:off x="1143000" y="91440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1295280" y="533520"/>
                  <a:ext cx="582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362320" y="533520"/>
                <a:ext cx="660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838080" y="1676520"/>
                <a:ext cx="520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0" y="2590920"/>
                <a:ext cx="55245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jπn</m:t>
                        </m:r>
                      </m:den>
                    </m:f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t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πn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jπn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486400" y="3124080"/>
                <a:ext cx="88884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n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191120" y="3352680"/>
                <a:ext cx="8888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69400" y="120600"/>
            <a:ext cx="4362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exponential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357960" y="444600"/>
            <a:ext cx="2781360" cy="2755440"/>
            <a:chOff x="6357960" y="444600"/>
            <a:chExt cx="2781360" cy="2755440"/>
          </a:xfrm>
        </p:grpSpPr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6400800" y="1892160"/>
                  <a:ext cx="2425680" cy="130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 strategy: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Determine 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and 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Select a convenient 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Do the integration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6357960" y="444600"/>
                  <a:ext cx="278136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∞</m:t>
                          </m:r>
                        </m:sup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nary>
                      <m:r>
                        <m:t xml:space="preserve">;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6396120" y="1130040"/>
                  <a:ext cx="218448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441936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1066680" y="609480"/>
            <a:ext cx="1676520" cy="533520"/>
            <a:chOff x="1066680" y="609480"/>
            <a:chExt cx="1676520" cy="533520"/>
          </a:xfrm>
        </p:grpSpPr>
        <p:sp>
          <p:nvSpPr>
            <p:cNvPr id="180" name=""/>
            <p:cNvSpPr/>
            <p:nvPr/>
          </p:nvSpPr>
          <p:spPr>
            <a:xfrm flipV="1">
              <a:off x="1066680" y="7621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743200" y="6858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66680" y="914400"/>
              <a:ext cx="1676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1905120" y="609480"/>
                  <a:ext cx="58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114800" y="533520"/>
                <a:ext cx="685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762120" y="1981080"/>
                <a:ext cx="647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28600" y="2362320"/>
                <a:ext cx="16765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52280" y="3200400"/>
                <a:ext cx="53848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nπ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nπ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nπ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52280" y="4114800"/>
                <a:ext cx="575316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28600" y="4952880"/>
                <a:ext cx="2679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π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7238880" y="3429000"/>
                <a:ext cx="1803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</m:num>
                      <m:den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760" y="76320"/>
            <a:ext cx="3564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IGONOMETRIC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752480" y="533520"/>
                <a:ext cx="38736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96" name=""/>
          <p:cNvGrpSpPr/>
          <p:nvPr/>
        </p:nvGrpSpPr>
        <p:grpSpPr>
          <a:xfrm>
            <a:off x="0" y="1236600"/>
            <a:ext cx="5780160" cy="1027080"/>
            <a:chOff x="0" y="1236600"/>
            <a:chExt cx="5780160" cy="1027080"/>
          </a:xfrm>
        </p:grpSpPr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0" y="1922400"/>
                  <a:ext cx="57801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jn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jn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n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b>
                        <m:e>
                          <m:r>
                            <m:t xml:space="preserve">n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76320" y="1236600"/>
                  <a:ext cx="88884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or </m:t>
                          </m:r>
                          <m:r>
                            <m:t xml:space="preserve">n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9" name=""/>
          <p:cNvGrpSpPr/>
          <p:nvPr/>
        </p:nvGrpSpPr>
        <p:grpSpPr>
          <a:xfrm>
            <a:off x="2052720" y="1771560"/>
            <a:ext cx="914400" cy="914400"/>
            <a:chOff x="2052720" y="1771560"/>
            <a:chExt cx="914400" cy="914400"/>
          </a:xfrm>
        </p:grpSpPr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2362320" y="23796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1" name=""/>
            <p:cNvSpPr/>
            <p:nvPr/>
          </p:nvSpPr>
          <p:spPr>
            <a:xfrm>
              <a:off x="2052720" y="1771560"/>
              <a:ext cx="914400" cy="9144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86200" y="1617840"/>
            <a:ext cx="1066680" cy="1143000"/>
            <a:chOff x="3886200" y="1617840"/>
            <a:chExt cx="1066680" cy="1143000"/>
          </a:xfrm>
        </p:grpSpPr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4267080" y="245592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4" name=""/>
            <p:cNvSpPr/>
            <p:nvPr/>
          </p:nvSpPr>
          <p:spPr>
            <a:xfrm>
              <a:off x="3886200" y="1617840"/>
              <a:ext cx="1066680" cy="11430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1518840" y="1219320"/>
            <a:ext cx="6756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lationship between exponential and trigonometric expa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943600" y="1922400"/>
                <a:ext cx="1676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5029200" y="2684520"/>
                <a:ext cx="36450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is real-valued then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6705720" y="38160"/>
                <a:ext cx="18921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715000" y="228600"/>
                <a:ext cx="800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0" y="2819520"/>
                <a:ext cx="21844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514600" y="2971800"/>
                <a:ext cx="243828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5013720" y="3124080"/>
            <a:ext cx="397404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rigonometric form permit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of symmetry properties 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unction to simplify the comput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45160" y="5392800"/>
            <a:ext cx="4110840" cy="337320"/>
            <a:chOff x="245160" y="5392800"/>
            <a:chExt cx="4110840" cy="337320"/>
          </a:xfrm>
        </p:grpSpPr>
        <p:sp>
          <p:nvSpPr>
            <p:cNvPr id="214" name=""/>
            <p:cNvSpPr/>
            <p:nvPr/>
          </p:nvSpPr>
          <p:spPr>
            <a:xfrm>
              <a:off x="245160" y="5392800"/>
              <a:ext cx="2655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ven function symme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3124080" y="5410080"/>
                  <a:ext cx="123192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934320" y="4876920"/>
                <a:ext cx="2006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x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217" name=""/>
          <p:cNvGrpSpPr/>
          <p:nvPr/>
        </p:nvGrpSpPr>
        <p:grpSpPr>
          <a:xfrm>
            <a:off x="4876920" y="4724280"/>
            <a:ext cx="1904760" cy="1090800"/>
            <a:chOff x="4876920" y="4724280"/>
            <a:chExt cx="1904760" cy="1090800"/>
          </a:xfrm>
        </p:grpSpPr>
        <p:sp>
          <p:nvSpPr>
            <p:cNvPr id="218" name=""/>
            <p:cNvSpPr/>
            <p:nvPr/>
          </p:nvSpPr>
          <p:spPr>
            <a:xfrm>
              <a:off x="4876920" y="5638680"/>
              <a:ext cx="19047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5791320" y="4724280"/>
              <a:ext cx="0" cy="10670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5257800" y="5028840"/>
              <a:ext cx="53352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91320" y="5029200"/>
              <a:ext cx="60948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86480" y="4992840"/>
              <a:ext cx="223920" cy="631800"/>
            </a:xfrm>
            <a:custGeom>
              <a:avLst/>
              <a:gdLst/>
              <a:ahLst/>
              <a:rect l="l" t="t" r="r" b="b"/>
              <a:pathLst>
                <a:path w="141" h="398">
                  <a:moveTo>
                    <a:pt x="130" y="390"/>
                  </a:moveTo>
                  <a:cubicBezTo>
                    <a:pt x="133" y="287"/>
                    <a:pt x="138" y="185"/>
                    <a:pt x="138" y="82"/>
                  </a:cubicBezTo>
                  <a:cubicBezTo>
                    <a:pt x="138" y="58"/>
                    <a:pt x="141" y="31"/>
                    <a:pt x="130" y="9"/>
                  </a:cubicBezTo>
                  <a:cubicBezTo>
                    <a:pt x="126" y="0"/>
                    <a:pt x="114" y="33"/>
                    <a:pt x="114" y="33"/>
                  </a:cubicBezTo>
                  <a:cubicBezTo>
                    <a:pt x="90" y="49"/>
                    <a:pt x="64" y="63"/>
                    <a:pt x="41" y="82"/>
                  </a:cubicBezTo>
                  <a:cubicBezTo>
                    <a:pt x="14" y="104"/>
                    <a:pt x="0" y="179"/>
                    <a:pt x="0" y="212"/>
                  </a:cubicBezTo>
                  <a:cubicBezTo>
                    <a:pt x="0" y="274"/>
                    <a:pt x="0" y="336"/>
                    <a:pt x="0" y="398"/>
                  </a:cubicBezTo>
                  <a:cubicBezTo>
                    <a:pt x="43" y="395"/>
                    <a:pt x="87" y="393"/>
                    <a:pt x="130" y="390"/>
                  </a:cubicBezTo>
                  <a:close/>
                </a:path>
              </a:pathLst>
            </a:custGeom>
            <a:solidFill>
              <a:srgbClr val="ccccff">
                <a:alpha val="50000"/>
              </a:srgbClr>
            </a:solidFill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80160" y="4998960"/>
              <a:ext cx="244440" cy="639720"/>
            </a:xfrm>
            <a:custGeom>
              <a:avLst/>
              <a:gdLst/>
              <a:ahLst/>
              <a:rect l="l" t="t" r="r" b="b"/>
              <a:pathLst>
                <a:path w="154" h="403">
                  <a:moveTo>
                    <a:pt x="0" y="386"/>
                  </a:moveTo>
                  <a:cubicBezTo>
                    <a:pt x="14" y="284"/>
                    <a:pt x="66" y="119"/>
                    <a:pt x="0" y="45"/>
                  </a:cubicBezTo>
                  <a:cubicBezTo>
                    <a:pt x="10" y="7"/>
                    <a:pt x="18" y="0"/>
                    <a:pt x="49" y="29"/>
                  </a:cubicBezTo>
                  <a:cubicBezTo>
                    <a:pt x="74" y="106"/>
                    <a:pt x="100" y="113"/>
                    <a:pt x="154" y="167"/>
                  </a:cubicBezTo>
                  <a:lnTo>
                    <a:pt x="151" y="403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4" name=""/>
                <p:cNvSpPr txBox="1"/>
                <p:nvPr/>
              </p:nvSpPr>
              <p:spPr>
                <a:xfrm>
                  <a:off x="5334120" y="5638680"/>
                  <a:ext cx="353880" cy="1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5943600" y="5638680"/>
                  <a:ext cx="190440" cy="1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6" name=""/>
          <p:cNvGrpSpPr/>
          <p:nvPr/>
        </p:nvGrpSpPr>
        <p:grpSpPr>
          <a:xfrm>
            <a:off x="248040" y="6002280"/>
            <a:ext cx="4101840" cy="337320"/>
            <a:chOff x="248040" y="6002280"/>
            <a:chExt cx="4101840" cy="337320"/>
          </a:xfrm>
        </p:grpSpPr>
        <p:sp>
          <p:nvSpPr>
            <p:cNvPr id="227" name=""/>
            <p:cNvSpPr/>
            <p:nvPr/>
          </p:nvSpPr>
          <p:spPr>
            <a:xfrm>
              <a:off x="248040" y="6002280"/>
              <a:ext cx="2591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dd function symme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2978280" y="6019920"/>
                  <a:ext cx="13716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9" name=""/>
          <p:cNvGrpSpPr/>
          <p:nvPr/>
        </p:nvGrpSpPr>
        <p:grpSpPr>
          <a:xfrm>
            <a:off x="4800600" y="5790960"/>
            <a:ext cx="2133720" cy="1066680"/>
            <a:chOff x="4800600" y="5790960"/>
            <a:chExt cx="2133720" cy="1066680"/>
          </a:xfrm>
        </p:grpSpPr>
        <p:sp>
          <p:nvSpPr>
            <p:cNvPr id="230" name=""/>
            <p:cNvSpPr/>
            <p:nvPr/>
          </p:nvSpPr>
          <p:spPr>
            <a:xfrm flipV="1">
              <a:off x="5867280" y="5790960"/>
              <a:ext cx="0" cy="10666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4800600" y="5866920"/>
              <a:ext cx="2133720" cy="762120"/>
              <a:chOff x="4800600" y="5866920"/>
              <a:chExt cx="2133720" cy="762120"/>
            </a:xfrm>
          </p:grpSpPr>
          <p:sp>
            <p:nvSpPr>
              <p:cNvPr id="232" name=""/>
              <p:cNvSpPr/>
              <p:nvPr/>
            </p:nvSpPr>
            <p:spPr>
              <a:xfrm>
                <a:off x="4800600" y="6324480"/>
                <a:ext cx="21337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5257800" y="5866920"/>
                <a:ext cx="1067040" cy="7621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410440" y="6324480"/>
                <a:ext cx="0" cy="2286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943600" y="6095880"/>
                <a:ext cx="0" cy="2286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934320" y="5867280"/>
                <a:ext cx="22096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x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</m:e>
                    </m:nary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00:29:26Z</dcterms:created>
  <dc:creator>Jorge Aravena</dc:creator>
  <dc:description/>
  <dc:language>en-US</dc:language>
  <cp:lastModifiedBy>Jorge Aravena</cp:lastModifiedBy>
  <dcterms:modified xsi:type="dcterms:W3CDTF">2004-09-28T03:23:49Z</dcterms:modified>
  <cp:revision>36</cp:revision>
  <dc:subject/>
  <dc:title>No Slide Title</dc:title>
</cp:coreProperties>
</file>