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2.png" ContentType="image/png"/>
  <Override PartName="/ppt/media/image116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123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139.wmf" ContentType="image/x-wmf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48.png" ContentType="image/png"/>
  <Override PartName="/ppt/media/image134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93.png" ContentType="image/png"/>
  <Override PartName="/ppt/media/image147.wmf" ContentType="image/x-wmf"/>
  <Override PartName="/ppt/media/image132.png" ContentType="image/png"/>
  <Override PartName="/ppt/media/image46.png" ContentType="image/png"/>
  <Override PartName="/ppt/media/image47.wmf" ContentType="image/x-wmf"/>
  <Override PartName="/ppt/media/image143.png" ContentType="image/png"/>
  <Override PartName="/ppt/media/image51.png" ContentType="image/png"/>
  <Override PartName="/ppt/media/image148.png" ContentType="image/png"/>
  <Override PartName="/ppt/media/image10.png" ContentType="image/png"/>
  <Override PartName="/ppt/media/image107.png" ContentType="image/png"/>
  <Override PartName="/ppt/media/image133.png" ContentType="image/png"/>
  <Override PartName="/ppt/media/image145.png" ContentType="image/png"/>
  <Override PartName="/ppt/media/image53.png" ContentType="image/png"/>
  <Override PartName="/ppt/media/image136.png" ContentType="image/png"/>
  <Override PartName="/ppt/media/image56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128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2.png" ContentType="image/png"/>
  <Override PartName="/ppt/media/image50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1.png" ContentType="image/png"/>
  <Override PartName="/ppt/media/image9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119.png" ContentType="image/png"/>
  <Override PartName="/ppt/media/image23.png" ContentType="image/png"/>
  <Override PartName="/ppt/media/image25.wmf" ContentType="image/x-wmf"/>
  <Override PartName="/ppt/media/image69.png" ContentType="image/png"/>
  <Override PartName="/ppt/media/image91.wmf" ContentType="image/x-wmf"/>
  <Override PartName="/ppt/media/image120.png" ContentType="image/png"/>
  <Override PartName="/ppt/media/image27.wmf" ContentType="image/x-wmf"/>
  <Override PartName="/ppt/media/image121.png" ContentType="image/png"/>
  <Override PartName="/ppt/media/image92.wmf" ContentType="image/x-wmf"/>
  <Override PartName="/ppt/media/image24.wmf" ContentType="image/x-wmf"/>
  <Override PartName="/ppt/media/image60.png" ContentType="image/png"/>
  <Override PartName="/ppt/media/image61.png" ContentType="image/png"/>
  <Override PartName="/ppt/media/image62.png" ContentType="image/png"/>
  <Override PartName="/ppt/media/image63.wmf" ContentType="image/x-wmf"/>
  <Override PartName="/ppt/media/image64.png" ContentType="image/png"/>
  <Override PartName="/ppt/media/image65.png" ContentType="image/png"/>
  <Override PartName="/ppt/media/image66.png" ContentType="image/png"/>
  <Override PartName="/ppt/media/image67.wmf" ContentType="image/x-wmf"/>
  <Override PartName="/ppt/media/image68.wmf" ContentType="image/x-wmf"/>
  <Override PartName="/ppt/media/image70.png" ContentType="image/png"/>
  <Override PartName="/ppt/media/image124.wmf" ContentType="image/x-wmf"/>
  <Override PartName="/ppt/media/image57.png" ContentType="image/png"/>
  <Override PartName="/ppt/media/image71.png" ContentType="image/png"/>
  <Override PartName="/ppt/media/image72.png" ContentType="image/png"/>
  <Override PartName="/ppt/media/image73.wmf" ContentType="image/x-wmf"/>
  <Override PartName="/ppt/media/image102.png" ContentType="image/png"/>
  <Override PartName="/ppt/media/image141.wmf" ContentType="image/x-wmf"/>
  <Override PartName="/ppt/media/image74.png" ContentType="image/png"/>
  <Override PartName="/ppt/media/image142.wmf" ContentType="image/x-wmf"/>
  <Override PartName="/ppt/media/image75.png" ContentType="image/png"/>
  <Override PartName="/ppt/media/image76.png" ContentType="image/png"/>
  <Override PartName="/ppt/media/image22.png" ContentType="image/png"/>
  <Override PartName="/ppt/media/image90.png" ContentType="image/png"/>
  <Override PartName="/ppt/media/image144.wmf" ContentType="image/x-wmf"/>
  <Override PartName="/ppt/media/image77.png" ContentType="image/png"/>
  <Override PartName="/ppt/media/image78.png" ContentType="image/png"/>
  <Override PartName="/ppt/media/image79.png" ContentType="image/png"/>
  <Override PartName="/ppt/media/image146.wmf" ContentType="image/x-wmf"/>
  <Override PartName="/ppt/media/image86.wmf" ContentType="image/x-wmf"/>
  <Override PartName="/ppt/media/image115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wmf" ContentType="image/x-wmf"/>
  <Override PartName="/ppt/media/image9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9CE-EF8F-470E-974A-3429CF56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E7F-09E1-4409-8F14-49781EC1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A2C-68E2-432D-ADC9-D6FEF45E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C1B-2C0E-4266-8A82-99E3DFB5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E76-A437-4FB4-960D-F8226619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2A9-773A-41B3-8A64-AD5E2E12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E86-E578-46F5-A2EA-FEE8648D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407-29FC-4669-A0BF-005577D2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4FB-61F6-4692-872D-B6CD53C4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48B-94DA-4DE6-B248-8ECBBB48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417-5F34-42E8-A73B-8BF40880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098-0004-4132-B0C5-8D6B1080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760C-B195-4D93-B204-13F9409D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image" Target="../media/image103.png"/><Relationship Id="rId10" Type="http://schemas.openxmlformats.org/officeDocument/2006/relationships/image" Target="../media/image104.png"/><Relationship Id="rId11" Type="http://schemas.openxmlformats.org/officeDocument/2006/relationships/image" Target="../media/image105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0.png"/><Relationship Id="rId3" Type="http://schemas.openxmlformats.org/officeDocument/2006/relationships/image" Target="../media/image1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image" Target="../media/image121.png"/><Relationship Id="rId6" Type="http://schemas.openxmlformats.org/officeDocument/2006/relationships/image" Target="../media/image12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4.wmf"/><Relationship Id="rId4" Type="http://schemas.openxmlformats.org/officeDocument/2006/relationships/image" Target="../media/image125.png"/><Relationship Id="rId5" Type="http://schemas.openxmlformats.org/officeDocument/2006/relationships/image" Target="../media/image126.png"/><Relationship Id="rId6" Type="http://schemas.openxmlformats.org/officeDocument/2006/relationships/image" Target="../media/image127.png"/><Relationship Id="rId7" Type="http://schemas.openxmlformats.org/officeDocument/2006/relationships/image" Target="../media/image128.png"/><Relationship Id="rId8" Type="http://schemas.openxmlformats.org/officeDocument/2006/relationships/image" Target="../media/image129.png"/><Relationship Id="rId9" Type="http://schemas.openxmlformats.org/officeDocument/2006/relationships/image" Target="../media/image130.png"/><Relationship Id="rId10" Type="http://schemas.openxmlformats.org/officeDocument/2006/relationships/image" Target="../media/image131.png"/><Relationship Id="rId11" Type="http://schemas.openxmlformats.org/officeDocument/2006/relationships/image" Target="../media/image132.png"/><Relationship Id="rId12" Type="http://schemas.openxmlformats.org/officeDocument/2006/relationships/image" Target="../media/image133.png"/><Relationship Id="rId13" Type="http://schemas.openxmlformats.org/officeDocument/2006/relationships/image" Target="../media/image134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image" Target="../media/image13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9.wmf"/><Relationship Id="rId7" Type="http://schemas.openxmlformats.org/officeDocument/2006/relationships/image" Target="../media/image14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2.wmf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4.wmf"/><Relationship Id="rId4" Type="http://schemas.openxmlformats.org/officeDocument/2006/relationships/image" Target="../media/image14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7.wmf"/><Relationship Id="rId9" Type="http://schemas.openxmlformats.org/officeDocument/2006/relationships/image" Target="../media/image148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0880" y="90360"/>
            <a:ext cx="5775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 STEADY-STAT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6858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35720" y="1201680"/>
            <a:ext cx="4676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basic facts about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64520" y="1919160"/>
            <a:ext cx="6423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circuits with sinusoida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modeling of sinusoids in terms of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4920" y="2882880"/>
            <a:ext cx="6856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complex exponentials as vectors. It facili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-state analysis of circu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29240" y="3846600"/>
            <a:ext cx="6179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ization of the familiar concepts of resistan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ance to describe AC steady state circuit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53360" y="4808520"/>
            <a:ext cx="673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AC voltages and currents as complex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6400" y="5527800"/>
            <a:ext cx="469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AC ANALYSIS USING KIRCHHOFF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8600" y="6002280"/>
            <a:ext cx="602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tension of node, loop, Thevenin and other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1600200"/>
                <a:ext cx="129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8160" y="2133720"/>
                <a:ext cx="2476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52280" y="25146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" y="3124080"/>
                <a:ext cx="1955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440" y="3657600"/>
                <a:ext cx="43815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8240" y="51055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L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920880" y="5486400"/>
                <a:ext cx="165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66880" y="5486400"/>
                <a:ext cx="1067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12840" y="617220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105520" y="228600"/>
                <a:ext cx="2958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334120" y="838080"/>
                <a:ext cx="28191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111640" y="1828800"/>
                <a:ext cx="327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51360" y="2706840"/>
                <a:ext cx="3873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562720" y="4114800"/>
                <a:ext cx="24001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99720" y="90360"/>
            <a:ext cx="182664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8600" y="744480"/>
            <a:ext cx="727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SEN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INDEPENDENT SOURCES ARE SINUSOIDS OF 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080" y="1447920"/>
            <a:ext cx="791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OF SOURCE SUPERPOSITION  ONE CAN CONSIDER A SINGL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505320" y="1752480"/>
                <a:ext cx="20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74280" y="2116080"/>
            <a:ext cx="8122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RESPONSE OF ANY CIRCUIT VARIABLE WILL BE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81280" y="2438280"/>
                <a:ext cx="203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721440" y="2743200"/>
            <a:ext cx="5069880" cy="825480"/>
            <a:chOff x="721440" y="2743200"/>
            <a:chExt cx="5069880" cy="825480"/>
          </a:xfrm>
        </p:grpSpPr>
        <p:sp>
          <p:nvSpPr>
            <p:cNvPr id="211" name=""/>
            <p:cNvSpPr/>
            <p:nvPr/>
          </p:nvSpPr>
          <p:spPr>
            <a:xfrm>
              <a:off x="721440" y="2801880"/>
              <a:ext cx="1430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RTCU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2362320" y="2743200"/>
                  <a:ext cx="34290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sSup>
                            <m:e/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2362320" y="320040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753480" y="3792600"/>
            <a:ext cx="6104520" cy="358560"/>
            <a:chOff x="753480" y="3792600"/>
            <a:chExt cx="6104520" cy="358560"/>
          </a:xfrm>
        </p:grpSpPr>
        <p:sp>
          <p:nvSpPr>
            <p:cNvPr id="215" name=""/>
            <p:cNvSpPr/>
            <p:nvPr/>
          </p:nvSpPr>
          <p:spPr>
            <a:xfrm>
              <a:off x="753480" y="3792600"/>
              <a:ext cx="1247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IDE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13372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ω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457200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φ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828800" y="4191120"/>
                <a:ext cx="5600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HORTCUT IN NOT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STEAD OF WRITING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WRITE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ND WE ACCEPT ANGLES IN DEGRE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47920" y="5181480"/>
                <a:ext cx="632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IS THE PHASOR REPRESENTATION FOR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14480" y="5562720"/>
                <a:ext cx="752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984240" y="5925960"/>
            <a:ext cx="755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RTCUT 2: DEVELOP EFFICIENT TOOLS TO DETERMINE THE PHASOR 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GIVEN THE INPUT PHASOR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3520" y="1523880"/>
                <a:ext cx="1015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76720" y="2133720"/>
                <a:ext cx="990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2120" y="2476440"/>
                <a:ext cx="2603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3429000"/>
                <a:ext cx="28447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erms of phasors one has</m:t>
                        </m:r>
                      </m:e>
                      <m:e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1960" y="4800600"/>
            <a:ext cx="358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can be obtained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00" y="5562720"/>
            <a:ext cx="444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a phasor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ircuit that will eliminate th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writing the differenti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6160" y="58680"/>
            <a:ext cx="4010400" cy="1722240"/>
            <a:chOff x="4646160" y="58680"/>
            <a:chExt cx="4010400" cy="1722240"/>
          </a:xfrm>
        </p:grpSpPr>
        <p:grpSp>
          <p:nvGrpSpPr>
            <p:cNvPr id="235" name=""/>
            <p:cNvGrpSpPr/>
            <p:nvPr/>
          </p:nvGrpSpPr>
          <p:grpSpPr>
            <a:xfrm>
              <a:off x="4646160" y="533520"/>
              <a:ext cx="4010400" cy="1247400"/>
              <a:chOff x="4646160" y="533520"/>
              <a:chExt cx="4010400" cy="124740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5273280" y="1160280"/>
                    <a:ext cx="275580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</m:e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7" name=""/>
              <p:cNvSpPr/>
              <p:nvPr/>
            </p:nvSpPr>
            <p:spPr>
              <a:xfrm>
                <a:off x="4646160" y="533520"/>
                <a:ext cx="40104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t is essential to be able to move fr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nusoids to phasor represen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755960" y="58680"/>
              <a:ext cx="22305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1905120"/>
                <a:ext cx="2666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315200" y="1905120"/>
                <a:ext cx="1054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495680" y="2209680"/>
                <a:ext cx="2705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13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315200" y="2209680"/>
                <a:ext cx="1104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724280" y="2819520"/>
                <a:ext cx="1702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°↔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00800" y="313848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724280" y="3443400"/>
                <a:ext cx="1676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00800" y="342900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79000" y="3944880"/>
            <a:ext cx="375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can be combined us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ules of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334120" y="457200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638680" y="49528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334120" y="149400"/>
            <a:ext cx="2209680" cy="1898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6120" y="76320"/>
            <a:ext cx="5100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RELATIONSHIP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" y="838080"/>
            <a:ext cx="125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47920" y="838080"/>
                <a:ext cx="2374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0" y="1523880"/>
            <a:ext cx="4559400" cy="686520"/>
            <a:chOff x="0" y="1523880"/>
            <a:chExt cx="4559400" cy="68652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0" y="1523880"/>
                  <a:ext cx="15336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745560" y="1873080"/>
              <a:ext cx="381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representation for a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410080" y="1743120"/>
            <a:ext cx="2133720" cy="1798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7120" y="2514600"/>
            <a:ext cx="4551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mplex numbers.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 has a geometric 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1542960" cy="1952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18440" y="3429000"/>
            <a:ext cx="261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nd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9400" y="4737240"/>
            <a:ext cx="407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the sinusoidal signal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ometric representation impli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sinusoids are “in pha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3520" y="272880"/>
            <a:ext cx="138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2286000" cy="210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152280"/>
                <a:ext cx="2806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895480" y="685800"/>
                <a:ext cx="1575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09480" y="2514600"/>
                <a:ext cx="939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2362320" cy="2106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839240" y="345744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2286000" cy="21938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1919880" y="4097160"/>
            <a:ext cx="2521440" cy="957600"/>
            <a:chOff x="1919880" y="4097160"/>
            <a:chExt cx="2521440" cy="9576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2514600" y="4724280"/>
                  <a:ext cx="1574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1919880" y="4097160"/>
              <a:ext cx="2521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ometric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he 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666880" y="518148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18960" y="6172200"/>
            <a:ext cx="4173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eads 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lags the 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14600" y="1219320"/>
                <a:ext cx="1816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3" name=""/>
          <p:cNvGrpSpPr/>
          <p:nvPr/>
        </p:nvGrpSpPr>
        <p:grpSpPr>
          <a:xfrm>
            <a:off x="5105520" y="210960"/>
            <a:ext cx="3721320" cy="2887920"/>
            <a:chOff x="5105520" y="210960"/>
            <a:chExt cx="3721320" cy="2887920"/>
          </a:xfrm>
        </p:grpSpPr>
        <p:sp>
          <p:nvSpPr>
            <p:cNvPr id="284" name=""/>
            <p:cNvSpPr/>
            <p:nvPr/>
          </p:nvSpPr>
          <p:spPr>
            <a:xfrm>
              <a:off x="5386320" y="210960"/>
              <a:ext cx="3440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5105520" y="685800"/>
              <a:ext cx="3657600" cy="24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4699080" y="3182760"/>
            <a:ext cx="4292640" cy="689040"/>
            <a:chOff x="4699080" y="3182760"/>
            <a:chExt cx="4292640" cy="689040"/>
          </a:xfrm>
        </p:grpSpPr>
        <p:sp>
          <p:nvSpPr>
            <p:cNvPr id="287" name=""/>
            <p:cNvSpPr/>
            <p:nvPr/>
          </p:nvSpPr>
          <p:spPr>
            <a:xfrm>
              <a:off x="4834440" y="318276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4699080" y="3581280"/>
                  <a:ext cx="4292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7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724280" y="4038480"/>
                <a:ext cx="11304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994360" y="4191120"/>
                <a:ext cx="1536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ωL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994360" y="4800600"/>
                <a:ext cx="2781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5537160"/>
                <a:ext cx="3365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2438280" cy="1906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49480" y="135000"/>
            <a:ext cx="145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6320" y="609480"/>
            <a:ext cx="2590560" cy="210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822320" y="50760"/>
                <a:ext cx="2832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43200" y="7621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5800" y="24382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715400" y="379260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124080" y="1752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64280" y="4495680"/>
            <a:ext cx="1962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capaci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ad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5080" y="5468760"/>
            <a:ext cx="2347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029200" y="58680"/>
            <a:ext cx="3581280" cy="2654280"/>
            <a:chOff x="5029200" y="58680"/>
            <a:chExt cx="3581280" cy="2654280"/>
          </a:xfrm>
        </p:grpSpPr>
        <p:pic>
          <p:nvPicPr>
            <p:cNvPr id="308" name="" descr=""/>
            <p:cNvPicPr/>
            <p:nvPr/>
          </p:nvPicPr>
          <p:blipFill>
            <a:blip r:embed="rId4"/>
            <a:stretch/>
          </p:blipFill>
          <p:spPr>
            <a:xfrm>
              <a:off x="5029200" y="457200"/>
              <a:ext cx="35812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5151600" y="58680"/>
              <a:ext cx="3387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572000" y="3048120"/>
            <a:ext cx="4457880" cy="671400"/>
            <a:chOff x="4572000" y="3048120"/>
            <a:chExt cx="4457880" cy="671400"/>
          </a:xfrm>
        </p:grpSpPr>
        <p:sp>
          <p:nvSpPr>
            <p:cNvPr id="311" name=""/>
            <p:cNvSpPr/>
            <p:nvPr/>
          </p:nvSpPr>
          <p:spPr>
            <a:xfrm>
              <a:off x="4910760" y="304812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572000" y="3429000"/>
                  <a:ext cx="4457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14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3886200"/>
                <a:ext cx="1219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4267080"/>
                <a:ext cx="2425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C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92560" y="4857840"/>
                <a:ext cx="3225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10080" y="5410080"/>
                <a:ext cx="283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540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8440" y="598320"/>
                <a:ext cx="3619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4920" y="1219320"/>
                <a:ext cx="1574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523880"/>
                <a:ext cx="939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33520" y="1905120"/>
                <a:ext cx="320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295280" y="2209680"/>
                <a:ext cx="1270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38080" y="2743200"/>
                <a:ext cx="2463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876920" y="22860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952880" y="990720"/>
                <a:ext cx="1575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371600"/>
                <a:ext cx="2158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205740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943600" y="2666880"/>
                <a:ext cx="1625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57800" y="3429000"/>
                <a:ext cx="2679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8680" y="3487680"/>
            <a:ext cx="34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n example with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960" y="76320"/>
            <a:ext cx="3289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560" y="515880"/>
            <a:ext cx="84956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of the passive components the relationship between the voltage phas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he current phasor is algebraic. We now generalize for an arbitrary 2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2280" y="1459080"/>
            <a:ext cx="4191120" cy="196992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22120" y="3809880"/>
            <a:ext cx="4013280" cy="1497960"/>
            <a:chOff x="222120" y="3809880"/>
            <a:chExt cx="4013280" cy="149796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222120" y="4267080"/>
                  <a:ext cx="4013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∠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326160" y="3809880"/>
              <a:ext cx="2221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NPUT)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6240" y="497052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DRIVING POINT IMPED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4240" y="541008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impedance are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00600" y="4114800"/>
                <a:ext cx="398772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mpedance</m:t>
                          </m:r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70560" y="5791320"/>
            <a:ext cx="4673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s NOT a phasor but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that can be written in polar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tesian form. In general its value dep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1447920"/>
                <a:ext cx="2781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ive componen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ctive compon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791320" y="2451240"/>
                <a:ext cx="14983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2760" y="166680"/>
            <a:ext cx="6105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VL AND KCL HOLD FOR PHASO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38080" y="609480"/>
          <a:ext cx="7772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777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04920" y="3544920"/>
                <a:ext cx="408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09480" y="4038480"/>
                <a:ext cx="3073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990720" y="44197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hasors!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8" name=""/>
          <p:cNvGraphicFramePr/>
          <p:nvPr/>
        </p:nvGraphicFramePr>
        <p:xfrm>
          <a:off x="1676520" y="4648320"/>
          <a:ext cx="602928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48320"/>
                    <a:ext cx="60292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410080" y="457200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56040" y="6124680"/>
            <a:ext cx="820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mponents will be represented by their impedances and the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be entirely algebraic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64000" y="3411360"/>
            <a:ext cx="318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similar way, one show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03480" y="152280"/>
            <a:ext cx="712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CIAL APPLIC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CAN BE COMBINED USING THE SAME RULES DEVELO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09520" y="1295280"/>
          <a:ext cx="4362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295280"/>
                    <a:ext cx="4362480" cy="8766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724280" y="990720"/>
          <a:ext cx="4245120" cy="13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990720"/>
                    <a:ext cx="4245120" cy="13158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460520" y="2209680"/>
                <a:ext cx="11685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286680" y="2338560"/>
                <a:ext cx="1257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0" y="2971800"/>
            <a:ext cx="6858000" cy="3657600"/>
            <a:chOff x="0" y="2971800"/>
            <a:chExt cx="6858000" cy="3657600"/>
          </a:xfrm>
        </p:grpSpPr>
        <p:pic>
          <p:nvPicPr>
            <p:cNvPr id="374" name="" descr=""/>
            <p:cNvPicPr/>
            <p:nvPr/>
          </p:nvPicPr>
          <p:blipFill>
            <a:blip r:embed="rId5"/>
            <a:stretch/>
          </p:blipFill>
          <p:spPr>
            <a:xfrm>
              <a:off x="0" y="3643200"/>
              <a:ext cx="4267080" cy="29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"/>
            <p:cNvGrpSpPr/>
            <p:nvPr/>
          </p:nvGrpSpPr>
          <p:grpSpPr>
            <a:xfrm>
              <a:off x="106200" y="2971800"/>
              <a:ext cx="6751800" cy="620640"/>
              <a:chOff x="106200" y="2971800"/>
              <a:chExt cx="6751800" cy="620640"/>
            </a:xfrm>
          </p:grpSpPr>
          <p:sp>
            <p:nvSpPr>
              <p:cNvPr id="376" name=""/>
              <p:cNvSpPr/>
              <p:nvPr/>
            </p:nvSpPr>
            <p:spPr>
              <a:xfrm>
                <a:off x="106200" y="304812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7" name=""/>
                  <p:cNvSpPr txBox="1"/>
                  <p:nvPr/>
                </p:nvSpPr>
                <p:spPr>
                  <a:xfrm>
                    <a:off x="2438280" y="2971800"/>
                    <a:ext cx="44197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equivalent impedance and curr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419720" y="3657600"/>
                <a:ext cx="4546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10080" y="464832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423040" y="5043600"/>
                <a:ext cx="326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72000" y="5410080"/>
                <a:ext cx="2311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858000" y="5410080"/>
                <a:ext cx="2070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803760" y="6197760"/>
                <a:ext cx="533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158920" y="42670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057400" y="5257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905120" y="5791320"/>
                <a:ext cx="102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4267080" cy="2651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342900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52280" y="609480"/>
            <a:ext cx="3505320" cy="233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96640" y="76320"/>
            <a:ext cx="1445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52480" y="60948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8600" y="3429000"/>
                <a:ext cx="377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mplitude  or maximum  value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ngular  frequenc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s/se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rgumen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856080" y="2801880"/>
            <a:ext cx="2026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imensional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5800" y="2725560"/>
            <a:ext cx="216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" y="4572000"/>
                <a:ext cx="3632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Period 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228600" y="5257800"/>
            <a:ext cx="4343400" cy="888840"/>
            <a:chOff x="228600" y="5257800"/>
            <a:chExt cx="4343400" cy="88884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28600" y="5257800"/>
                  <a:ext cx="4343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frequency in Hertz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ycle/se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228600" y="5867280"/>
                  <a:ext cx="8888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" name=""/>
          <p:cNvGrpSpPr/>
          <p:nvPr/>
        </p:nvGrpSpPr>
        <p:grpSpPr>
          <a:xfrm>
            <a:off x="5334120" y="3809880"/>
            <a:ext cx="1536120" cy="609480"/>
            <a:chOff x="5334120" y="3809880"/>
            <a:chExt cx="1536120" cy="60948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562360" y="3809880"/>
                  <a:ext cx="1307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ead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 flipH="1">
              <a:off x="5334120" y="4038480"/>
              <a:ext cx="22824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20120" y="5486040"/>
            <a:ext cx="1193760" cy="584640"/>
            <a:chOff x="7620120" y="5486040"/>
            <a:chExt cx="1193760" cy="5846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620120" y="5791320"/>
                  <a:ext cx="1193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ag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 flipH="1" flipV="1">
              <a:off x="7772400" y="548604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230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666880" y="7632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04920" y="8380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0" y="21337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572000" y="121932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603680" y="1944720"/>
                <a:ext cx="2997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362320"/>
                <a:ext cx="2895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1219320" y="2111400"/>
            <a:ext cx="2006640" cy="1314360"/>
            <a:chOff x="1219320" y="2111400"/>
            <a:chExt cx="2006640" cy="1314360"/>
          </a:xfrm>
        </p:grpSpPr>
        <p:sp>
          <p:nvSpPr>
            <p:cNvPr id="399" name=""/>
            <p:cNvSpPr/>
            <p:nvPr/>
          </p:nvSpPr>
          <p:spPr>
            <a:xfrm>
              <a:off x="2065320" y="2111400"/>
              <a:ext cx="458640" cy="1314360"/>
            </a:xfrm>
            <a:custGeom>
              <a:avLst/>
              <a:gdLst/>
              <a:ahLst/>
              <a:rect l="l" t="t" r="r" b="b"/>
              <a:pathLst>
                <a:path w="289" h="828">
                  <a:moveTo>
                    <a:pt x="0" y="828"/>
                  </a:moveTo>
                  <a:cubicBezTo>
                    <a:pt x="10" y="546"/>
                    <a:pt x="0" y="307"/>
                    <a:pt x="0" y="9"/>
                  </a:cubicBezTo>
                  <a:cubicBezTo>
                    <a:pt x="190" y="0"/>
                    <a:pt x="94" y="2"/>
                    <a:pt x="289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1219320" y="304812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152960" y="31240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16</m:t>
                    </m:r>
                    <m:r>
                      <m:rPr>
                        <m:lit/>
                        <m:nor/>
                      </m:rPr>
                      <m:t xml:space="preserve"> + j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∠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266920" y="3809880"/>
                <a:ext cx="4533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934920" y="1522440"/>
            <a:ext cx="1101960" cy="952560"/>
          </a:xfrm>
          <a:custGeom>
            <a:avLst/>
            <a:gdLst/>
            <a:ahLst/>
            <a:rect l="l" t="t" r="r" b="b"/>
            <a:pathLst>
              <a:path w="694" h="600">
                <a:moveTo>
                  <a:pt x="198" y="7"/>
                </a:moveTo>
                <a:cubicBezTo>
                  <a:pt x="187" y="70"/>
                  <a:pt x="198" y="130"/>
                  <a:pt x="128" y="148"/>
                </a:cubicBezTo>
                <a:cubicBezTo>
                  <a:pt x="82" y="140"/>
                  <a:pt x="44" y="129"/>
                  <a:pt x="3" y="109"/>
                </a:cubicBezTo>
                <a:cubicBezTo>
                  <a:pt x="8" y="83"/>
                  <a:pt x="0" y="50"/>
                  <a:pt x="19" y="31"/>
                </a:cubicBezTo>
                <a:cubicBezTo>
                  <a:pt x="44" y="6"/>
                  <a:pt x="91" y="19"/>
                  <a:pt x="120" y="0"/>
                </a:cubicBezTo>
                <a:cubicBezTo>
                  <a:pt x="183" y="14"/>
                  <a:pt x="232" y="25"/>
                  <a:pt x="299" y="31"/>
                </a:cubicBezTo>
                <a:cubicBezTo>
                  <a:pt x="373" y="50"/>
                  <a:pt x="440" y="50"/>
                  <a:pt x="518" y="70"/>
                </a:cubicBezTo>
                <a:cubicBezTo>
                  <a:pt x="550" y="78"/>
                  <a:pt x="611" y="101"/>
                  <a:pt x="611" y="101"/>
                </a:cubicBezTo>
                <a:cubicBezTo>
                  <a:pt x="633" y="184"/>
                  <a:pt x="655" y="264"/>
                  <a:pt x="666" y="350"/>
                </a:cubicBezTo>
                <a:cubicBezTo>
                  <a:pt x="652" y="525"/>
                  <a:pt x="694" y="564"/>
                  <a:pt x="549" y="592"/>
                </a:cubicBezTo>
                <a:cubicBezTo>
                  <a:pt x="528" y="596"/>
                  <a:pt x="507" y="597"/>
                  <a:pt x="486" y="600"/>
                </a:cubicBezTo>
                <a:cubicBezTo>
                  <a:pt x="445" y="597"/>
                  <a:pt x="403" y="600"/>
                  <a:pt x="362" y="592"/>
                </a:cubicBezTo>
                <a:cubicBezTo>
                  <a:pt x="338" y="587"/>
                  <a:pt x="305" y="543"/>
                  <a:pt x="284" y="529"/>
                </a:cubicBezTo>
                <a:cubicBezTo>
                  <a:pt x="281" y="501"/>
                  <a:pt x="276" y="472"/>
                  <a:pt x="276" y="444"/>
                </a:cubicBezTo>
                <a:cubicBezTo>
                  <a:pt x="276" y="267"/>
                  <a:pt x="488" y="358"/>
                  <a:pt x="634" y="35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24440" y="287280"/>
            <a:ext cx="268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COMPLEX)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85800" y="679320"/>
                <a:ext cx="266688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emen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nductance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uceptan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213372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76520" y="2133720"/>
                <a:ext cx="191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219320" y="2895480"/>
                <a:ext cx="1244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6320" y="4343400"/>
                <a:ext cx="5645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mpedance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mittance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L</m:t>
                                      </m:r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L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C</m:t>
                                          </m:r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C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876920" y="304920"/>
                <a:ext cx="3644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 Combination of Admittances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181480" y="2514600"/>
                <a:ext cx="3543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 Combination of Admittances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714320" cy="8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876920" y="1219320"/>
                <a:ext cx="93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53080" y="114300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6705720" y="1828800"/>
                <a:ext cx="151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1600200" cy="146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7467480" y="3733920"/>
                <a:ext cx="1575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019920" y="5003640"/>
                <a:ext cx="26542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24480" y="3886200"/>
                <a:ext cx="470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095880" y="4419720"/>
                <a:ext cx="749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62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809880" cy="150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38280" y="76320"/>
                <a:ext cx="1562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6320" y="2724120"/>
                <a:ext cx="1130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19320" y="27367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20560" y="3486240"/>
                <a:ext cx="3391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96880" y="4230720"/>
                <a:ext cx="323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206360" y="4764240"/>
                <a:ext cx="2095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3809880" y="0"/>
            <a:ext cx="5305680" cy="1523880"/>
            <a:chOff x="3809880" y="0"/>
            <a:chExt cx="5305680" cy="1523880"/>
          </a:xfrm>
        </p:grpSpPr>
        <p:pic>
          <p:nvPicPr>
            <p:cNvPr id="436" name="" descr=""/>
            <p:cNvPicPr/>
            <p:nvPr/>
          </p:nvPicPr>
          <p:blipFill>
            <a:blip r:embed="rId2"/>
            <a:stretch/>
          </p:blipFill>
          <p:spPr>
            <a:xfrm>
              <a:off x="3809880" y="276120"/>
              <a:ext cx="530568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577480" y="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851360" y="1828800"/>
                <a:ext cx="3924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784840" y="2286000"/>
                <a:ext cx="2222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304812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143000" y="199548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59240" y="58680"/>
            <a:ext cx="327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-PARALLEL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96040" cy="377496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2666880" y="609480"/>
            <a:ext cx="1524240" cy="914400"/>
            <a:chOff x="2666880" y="609480"/>
            <a:chExt cx="1524240" cy="914400"/>
          </a:xfrm>
        </p:grpSpPr>
        <p:sp>
          <p:nvSpPr>
            <p:cNvPr id="449" name=""/>
            <p:cNvSpPr/>
            <p:nvPr/>
          </p:nvSpPr>
          <p:spPr>
            <a:xfrm>
              <a:off x="2666880" y="609480"/>
              <a:ext cx="152424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2743200" y="609480"/>
                  <a:ext cx="1079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927680" y="1828800"/>
                <a:ext cx="2463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3352680" y="1828800"/>
            <a:ext cx="4038840" cy="1600200"/>
            <a:chOff x="3352680" y="1828800"/>
            <a:chExt cx="4038840" cy="1600200"/>
          </a:xfrm>
        </p:grpSpPr>
        <p:sp>
          <p:nvSpPr>
            <p:cNvPr id="453" name=""/>
            <p:cNvSpPr/>
            <p:nvPr/>
          </p:nvSpPr>
          <p:spPr>
            <a:xfrm>
              <a:off x="3352680" y="1828800"/>
              <a:ext cx="403884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5410080" y="2832120"/>
                  <a:ext cx="1968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"/>
          <p:cNvSpPr/>
          <p:nvPr/>
        </p:nvSpPr>
        <p:spPr>
          <a:xfrm>
            <a:off x="2286000" y="1066680"/>
            <a:ext cx="457200" cy="3429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736720" y="420516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990720" y="457200"/>
            <a:ext cx="1307880" cy="2819520"/>
            <a:chOff x="990720" y="457200"/>
            <a:chExt cx="1307880" cy="2819520"/>
          </a:xfrm>
        </p:grpSpPr>
        <p:sp>
          <p:nvSpPr>
            <p:cNvPr id="458" name=""/>
            <p:cNvSpPr/>
            <p:nvPr/>
          </p:nvSpPr>
          <p:spPr>
            <a:xfrm>
              <a:off x="990720" y="457200"/>
              <a:ext cx="129528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990720" y="26668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990720" y="32767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33520" y="4883040"/>
            <a:ext cx="3066840" cy="1974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62320" y="4572000"/>
            <a:ext cx="190476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4267080" y="4572000"/>
                <a:ext cx="1155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67080" y="5334120"/>
                <a:ext cx="1511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867280" y="5486400"/>
                <a:ext cx="711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248520" y="3505320"/>
                <a:ext cx="18158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533520" y="3962520"/>
                <a:ext cx="1714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733920" y="6095880"/>
                <a:ext cx="4241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7</m:t>
                    </m:r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324480" y="228600"/>
                <a:ext cx="2273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324480" y="838080"/>
                <a:ext cx="193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791320" y="4572000"/>
                <a:ext cx="330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190760" cy="2394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590920" y="90360"/>
                <a:ext cx="276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IMPEDANCE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2743200" y="420840"/>
            <a:ext cx="1989000" cy="3933720"/>
          </a:xfrm>
          <a:custGeom>
            <a:avLst/>
            <a:gdLst/>
            <a:ahLst/>
            <a:rect l="l" t="t" r="r" b="b"/>
            <a:pathLst>
              <a:path w="1253" h="2478">
                <a:moveTo>
                  <a:pt x="52" y="0"/>
                </a:moveTo>
                <a:cubicBezTo>
                  <a:pt x="36" y="64"/>
                  <a:pt x="37" y="50"/>
                  <a:pt x="37" y="156"/>
                </a:cubicBezTo>
                <a:cubicBezTo>
                  <a:pt x="37" y="248"/>
                  <a:pt x="0" y="553"/>
                  <a:pt x="169" y="584"/>
                </a:cubicBezTo>
                <a:cubicBezTo>
                  <a:pt x="223" y="594"/>
                  <a:pt x="278" y="596"/>
                  <a:pt x="333" y="600"/>
                </a:cubicBezTo>
                <a:cubicBezTo>
                  <a:pt x="377" y="604"/>
                  <a:pt x="421" y="605"/>
                  <a:pt x="465" y="608"/>
                </a:cubicBezTo>
                <a:cubicBezTo>
                  <a:pt x="483" y="748"/>
                  <a:pt x="490" y="889"/>
                  <a:pt x="496" y="1029"/>
                </a:cubicBezTo>
                <a:cubicBezTo>
                  <a:pt x="499" y="1299"/>
                  <a:pt x="333" y="1630"/>
                  <a:pt x="504" y="1839"/>
                </a:cubicBezTo>
                <a:cubicBezTo>
                  <a:pt x="1026" y="2478"/>
                  <a:pt x="1118" y="1812"/>
                  <a:pt x="1151" y="1621"/>
                </a:cubicBezTo>
                <a:cubicBezTo>
                  <a:pt x="1165" y="1460"/>
                  <a:pt x="1182" y="1300"/>
                  <a:pt x="1190" y="1138"/>
                </a:cubicBezTo>
                <a:cubicBezTo>
                  <a:pt x="1183" y="439"/>
                  <a:pt x="1253" y="565"/>
                  <a:pt x="1135" y="226"/>
                </a:cubicBezTo>
                <a:cubicBezTo>
                  <a:pt x="1133" y="210"/>
                  <a:pt x="1132" y="194"/>
                  <a:pt x="1128" y="179"/>
                </a:cubicBezTo>
                <a:cubicBezTo>
                  <a:pt x="1122" y="155"/>
                  <a:pt x="1112" y="132"/>
                  <a:pt x="1104" y="109"/>
                </a:cubicBezTo>
                <a:cubicBezTo>
                  <a:pt x="1091" y="71"/>
                  <a:pt x="1025" y="97"/>
                  <a:pt x="987" y="86"/>
                </a:cubicBezTo>
                <a:cubicBezTo>
                  <a:pt x="490" y="90"/>
                  <a:pt x="363" y="101"/>
                  <a:pt x="44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114800" y="609480"/>
                <a:ext cx="1486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0" name=""/>
          <p:cNvGrpSpPr/>
          <p:nvPr/>
        </p:nvGrpSpPr>
        <p:grpSpPr>
          <a:xfrm>
            <a:off x="2273400" y="990720"/>
            <a:ext cx="1079280" cy="2819160"/>
            <a:chOff x="2273400" y="990720"/>
            <a:chExt cx="1079280" cy="2819160"/>
          </a:xfrm>
        </p:grpSpPr>
        <p:sp>
          <p:nvSpPr>
            <p:cNvPr id="481" name=""/>
            <p:cNvSpPr/>
            <p:nvPr/>
          </p:nvSpPr>
          <p:spPr>
            <a:xfrm>
              <a:off x="2349360" y="990720"/>
              <a:ext cx="761760" cy="2819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2273400" y="34290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15000" y="990720"/>
                <a:ext cx="273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791320" y="12952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97320" y="344340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429000" y="374796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715000" y="160020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359160" y="4038480"/>
                <a:ext cx="2641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292800" y="2819520"/>
                <a:ext cx="2489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32520" y="312408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477120" y="3429000"/>
                <a:ext cx="196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222960" y="373392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520" y="4952880"/>
                <a:ext cx="2273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105520" y="434340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7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33520" y="4343400"/>
                <a:ext cx="22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55627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"/>
          <p:cNvGrpSpPr/>
          <p:nvPr/>
        </p:nvGrpSpPr>
        <p:grpSpPr>
          <a:xfrm>
            <a:off x="990720" y="1731960"/>
            <a:ext cx="1309680" cy="2344680"/>
            <a:chOff x="990720" y="1731960"/>
            <a:chExt cx="1309680" cy="2344680"/>
          </a:xfrm>
        </p:grpSpPr>
        <p:sp>
          <p:nvSpPr>
            <p:cNvPr id="498" name=""/>
            <p:cNvSpPr/>
            <p:nvPr/>
          </p:nvSpPr>
          <p:spPr>
            <a:xfrm>
              <a:off x="1347840" y="1731960"/>
              <a:ext cx="952560" cy="1546200"/>
            </a:xfrm>
            <a:custGeom>
              <a:avLst/>
              <a:gdLst/>
              <a:ahLst/>
              <a:rect l="l" t="t" r="r" b="b"/>
              <a:pathLst>
                <a:path w="600" h="974">
                  <a:moveTo>
                    <a:pt x="24" y="974"/>
                  </a:moveTo>
                  <a:cubicBezTo>
                    <a:pt x="17" y="649"/>
                    <a:pt x="0" y="325"/>
                    <a:pt x="0" y="0"/>
                  </a:cubicBezTo>
                  <a:cubicBezTo>
                    <a:pt x="212" y="11"/>
                    <a:pt x="377" y="31"/>
                    <a:pt x="60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990720" y="3124080"/>
                  <a:ext cx="11300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3480" y="76320"/>
            <a:ext cx="2408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800" y="533520"/>
            <a:ext cx="610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all relevant phasors on a common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24880" y="914400"/>
            <a:ext cx="635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y useful to visualize phase relationships among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pecially if some variable, like the frequency, ca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1320" y="1676520"/>
            <a:ext cx="7554240" cy="2445840"/>
            <a:chOff x="31320" y="1676520"/>
            <a:chExt cx="7554240" cy="244584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76320" y="2151000"/>
              <a:ext cx="383832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31320" y="16765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2800" y="1693800"/>
              <a:ext cx="5072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KETCH THE PHASOR DIAGRAM FOR TH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254840" y="2085840"/>
            <a:ext cx="4725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one variable can be chosen as re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case select the voltage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807080" y="2832120"/>
                <a:ext cx="27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ω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2362320" y="4191120"/>
            <a:ext cx="2099520" cy="2515320"/>
            <a:chOff x="2362320" y="4191120"/>
            <a:chExt cx="2099520" cy="2515320"/>
          </a:xfrm>
        </p:grpSpPr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2362320" y="4343400"/>
              <a:ext cx="2057400" cy="2209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304812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2616840" y="6369120"/>
              <a:ext cx="184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4191120"/>
            <a:ext cx="2201400" cy="2453400"/>
            <a:chOff x="4572000" y="4191120"/>
            <a:chExt cx="2201400" cy="2453400"/>
          </a:xfrm>
        </p:grpSpPr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4572000" y="4419720"/>
              <a:ext cx="2028960" cy="2114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18148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l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9" name=""/>
            <p:cNvSpPr/>
            <p:nvPr/>
          </p:nvSpPr>
          <p:spPr>
            <a:xfrm>
              <a:off x="4858200" y="6307200"/>
              <a:ext cx="191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553080" y="3809880"/>
            <a:ext cx="2210040" cy="2602080"/>
            <a:chOff x="6553080" y="3809880"/>
            <a:chExt cx="2210040" cy="2602080"/>
          </a:xfrm>
        </p:grpSpPr>
        <p:pic>
          <p:nvPicPr>
            <p:cNvPr id="521" name="" descr=""/>
            <p:cNvPicPr/>
            <p:nvPr/>
          </p:nvPicPr>
          <p:blipFill>
            <a:blip r:embed="rId4"/>
            <a:stretch/>
          </p:blipFill>
          <p:spPr>
            <a:xfrm>
              <a:off x="6858000" y="4038480"/>
              <a:ext cx="1876320" cy="2295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6553080" y="3809880"/>
                  <a:ext cx="1575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apaci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7086600" y="6095880"/>
                  <a:ext cx="15238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nduc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8686800" y="55627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8763120" y="38098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6320" y="4343400"/>
            <a:ext cx="1952640" cy="2295360"/>
            <a:chOff x="76320" y="4343400"/>
            <a:chExt cx="1952640" cy="2295360"/>
          </a:xfrm>
        </p:grpSpPr>
        <p:pic>
          <p:nvPicPr>
            <p:cNvPr id="527" name="" descr=""/>
            <p:cNvPicPr/>
            <p:nvPr/>
          </p:nvPicPr>
          <p:blipFill>
            <a:blip r:embed="rId5"/>
            <a:stretch/>
          </p:blipFill>
          <p:spPr>
            <a:xfrm>
              <a:off x="76320" y="4343400"/>
              <a:ext cx="1952640" cy="2295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635040" y="487692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838080" y="5943600"/>
                  <a:ext cx="8766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0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4916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 THE PHASOR DIAGRAM FOR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80880" y="533520"/>
          <a:ext cx="3519720" cy="23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351972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1680" y="2959200"/>
                <a:ext cx="16765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1789920" y="3457440"/>
            <a:ext cx="266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convenient to 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7480" y="4616280"/>
            <a:ext cx="28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RAW ALL TH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905120" y="4229280"/>
            <a:ext cx="2552760" cy="2628720"/>
            <a:chOff x="1905120" y="4229280"/>
            <a:chExt cx="2552760" cy="2628720"/>
          </a:xfrm>
        </p:grpSpPr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2819520" y="4229280"/>
              <a:ext cx="1638360" cy="2628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1905120" y="5486400"/>
                  <a:ext cx="977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819520" y="4572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637160" y="425520"/>
            <a:ext cx="377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PUT KNOWN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4724280" y="838080"/>
            <a:ext cx="2210040" cy="266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705720" y="1066680"/>
                <a:ext cx="143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4610160" y="3251160"/>
            <a:ext cx="4381560" cy="2987640"/>
            <a:chOff x="4610160" y="3251160"/>
            <a:chExt cx="4381560" cy="2987640"/>
          </a:xfrm>
        </p:grpSpPr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4610160" y="3251160"/>
                  <a:ext cx="43815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IAGRAM WITH REFERENC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9" name="" descr=""/>
            <p:cNvPicPr/>
            <p:nvPr/>
          </p:nvPicPr>
          <p:blipFill>
            <a:blip r:embed="rId5"/>
            <a:stretch/>
          </p:blipFill>
          <p:spPr>
            <a:xfrm>
              <a:off x="5029200" y="3809880"/>
              <a:ext cx="2038320" cy="24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7026480" y="3639960"/>
            <a:ext cx="193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d value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agra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061040" y="4560840"/>
                <a:ext cx="1549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ythagora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7086600" y="4267080"/>
                <a:ext cx="1498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934320" y="550080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622760" y="3747960"/>
                <a:ext cx="1625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5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3" dur="indefinite" restart="never" nodeType="tmRoot">
          <p:childTnLst>
            <p:seq>
              <p:cTn id="1744" dur="indefinite" nodeType="mainSeq">
                <p:childTnLst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276720" cy="23954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06200" y="13500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28800" y="135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819520" y="152280"/>
                <a:ext cx="4762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FREQUENCY AT WHICH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 IN PH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523880" y="1523880"/>
                <a:ext cx="3924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124080" y="762120"/>
                <a:ext cx="4140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the phasors for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re co-line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038480" y="1066680"/>
                <a:ext cx="224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133720" y="1295280"/>
                <a:ext cx="214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438280" y="182880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905120" y="236232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8" name=""/>
          <p:cNvGrpSpPr/>
          <p:nvPr/>
        </p:nvGrpSpPr>
        <p:grpSpPr>
          <a:xfrm>
            <a:off x="3733920" y="2089080"/>
            <a:ext cx="4006800" cy="2102040"/>
            <a:chOff x="3733920" y="2089080"/>
            <a:chExt cx="4006800" cy="2102040"/>
          </a:xfrm>
        </p:grpSpPr>
        <p:graphicFrame>
          <p:nvGraphicFramePr>
            <p:cNvPr id="569" name=""/>
            <p:cNvGraphicFramePr/>
            <p:nvPr/>
          </p:nvGraphicFramePr>
          <p:xfrm>
            <a:off x="3733920" y="2411280"/>
            <a:ext cx="4006800" cy="177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2411280"/>
                      <a:ext cx="4006800" cy="17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>
              <a:off x="4739400" y="2089080"/>
              <a:ext cx="204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590920" y="4419720"/>
                <a:ext cx="3886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are co-lineal iff 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553080" y="4419720"/>
                <a:ext cx="115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590920" y="5029200"/>
                <a:ext cx="448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92360" y="5715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6968520" y="1811160"/>
            <a:ext cx="220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that I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osen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3475080" y="3809880"/>
          <a:ext cx="566892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3809880"/>
                    <a:ext cx="566892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9480" y="58680"/>
            <a:ext cx="6305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 phasor diagram illustrating all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320" y="506520"/>
          <a:ext cx="6215040" cy="23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06520"/>
                    <a:ext cx="62150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52280" y="2666880"/>
                <a:ext cx="367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52280" y="3290760"/>
                <a:ext cx="215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3953520" y="2695680"/>
            <a:ext cx="96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14480" y="3657600"/>
                <a:ext cx="3695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4343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209680" y="434340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er tha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280" y="4800600"/>
                <a:ext cx="2667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7640" y="5316480"/>
            <a:ext cx="316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PHASORS. ALL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. NO NEED TO SEL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38600" y="34920"/>
            <a:ext cx="508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BASIC ANALYSIS USING KIRCHHOFF’S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6880" y="592200"/>
            <a:ext cx="3178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 SOLVING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2320" y="973080"/>
            <a:ext cx="3455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latively simple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2320" y="1523880"/>
                <a:ext cx="39114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 for AC analysis;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ules for combining 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CL AND KV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rrent and voltage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915840" y="2954160"/>
            <a:ext cx="3213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ore complex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362320" y="3505320"/>
                <a:ext cx="35049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posi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venin's and Norton's theore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SP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200" y="44280"/>
            <a:ext cx="247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RIGON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6320" y="2133720"/>
                <a:ext cx="374652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ME  DERIVED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360" y="406440"/>
                <a:ext cx="336564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SENTIAL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33520" y="4495680"/>
                <a:ext cx="209556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PLICA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198108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PTED  EE  CONVEN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5222880" y="210960"/>
            <a:ext cx="2778120" cy="1376640"/>
            <a:chOff x="5222880" y="210960"/>
            <a:chExt cx="2778120" cy="1376640"/>
          </a:xfrm>
        </p:grpSpPr>
        <p:sp>
          <p:nvSpPr>
            <p:cNvPr id="84" name=""/>
            <p:cNvSpPr/>
            <p:nvPr/>
          </p:nvSpPr>
          <p:spPr>
            <a:xfrm>
              <a:off x="5222880" y="210960"/>
              <a:ext cx="2539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ADIANS AND DEGRE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257800" y="685800"/>
                  <a:ext cx="27432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radians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360 degrees</m:t>
                          </m:r>
                        </m:e>
                        <m:e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degree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15480" y="58680"/>
            <a:ext cx="474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THE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533520"/>
          <a:ext cx="485460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8546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0" name=""/>
          <p:cNvGrpSpPr/>
          <p:nvPr/>
        </p:nvGrpSpPr>
        <p:grpSpPr>
          <a:xfrm>
            <a:off x="1752480" y="1828800"/>
            <a:ext cx="2006640" cy="968400"/>
            <a:chOff x="1752480" y="1828800"/>
            <a:chExt cx="2006640" cy="968400"/>
          </a:xfrm>
        </p:grpSpPr>
        <p:sp>
          <p:nvSpPr>
            <p:cNvPr id="611" name=""/>
            <p:cNvSpPr/>
            <p:nvPr/>
          </p:nvSpPr>
          <p:spPr>
            <a:xfrm>
              <a:off x="1768320" y="1828800"/>
              <a:ext cx="495360" cy="608040"/>
            </a:xfrm>
            <a:custGeom>
              <a:avLst/>
              <a:gdLst/>
              <a:ahLst/>
              <a:rect l="l" t="t" r="r" b="b"/>
              <a:pathLst>
                <a:path w="312" h="383">
                  <a:moveTo>
                    <a:pt x="16" y="383"/>
                  </a:moveTo>
                  <a:cubicBezTo>
                    <a:pt x="27" y="284"/>
                    <a:pt x="13" y="193"/>
                    <a:pt x="0" y="95"/>
                  </a:cubicBezTo>
                  <a:cubicBezTo>
                    <a:pt x="26" y="66"/>
                    <a:pt x="45" y="29"/>
                    <a:pt x="78" y="9"/>
                  </a:cubicBezTo>
                  <a:cubicBezTo>
                    <a:pt x="94" y="0"/>
                    <a:pt x="115" y="16"/>
                    <a:pt x="133" y="17"/>
                  </a:cubicBezTo>
                  <a:cubicBezTo>
                    <a:pt x="246" y="25"/>
                    <a:pt x="247" y="25"/>
                    <a:pt x="312" y="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1752480" y="246708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-25560" y="2895480"/>
                <a:ext cx="360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-25560" y="3581280"/>
                <a:ext cx="4978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-25560" y="4191120"/>
                <a:ext cx="441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-25560" y="4876920"/>
                <a:ext cx="444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-25560" y="5486400"/>
                <a:ext cx="486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257800" y="2324160"/>
                <a:ext cx="3137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867040" cy="22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6320" y="6172200"/>
                <a:ext cx="556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867280" y="270504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105520" y="762120"/>
                <a:ext cx="279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se current divider for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m's law for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23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178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590920" y="15228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,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4952880" y="1143000"/>
                <a:ext cx="1536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 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4951800" y="668160"/>
            <a:ext cx="134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LA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374760" y="2579760"/>
                <a:ext cx="227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74760" y="3124080"/>
                <a:ext cx="334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74760" y="350532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74760" y="3886200"/>
                <a:ext cx="372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760" y="457200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74760" y="4952880"/>
                <a:ext cx="325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74760" y="533412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673520" y="350532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467320" y="396252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8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86400" y="44197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9" dur="indefinite" restart="never" nodeType="tmRoot">
          <p:childTnLst>
            <p:seq>
              <p:cTn id="2030" dur="indefinite" nodeType="mainSeq">
                <p:childTnLst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32120" y="76320"/>
            <a:ext cx="282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5640" y="515880"/>
            <a:ext cx="81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RPOSE: TO REVIEW ALL CIRCUIT ANALYSIS TOOLS DEVELOPED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IVE CIRCUITS; I.E., NODE AND LOOP ANALYSIS, SOURCE SUPERPOSI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, THEVENIN’S AND NORTON’S THEOR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28600" y="1523880"/>
            <a:ext cx="4232160" cy="2566800"/>
            <a:chOff x="228600" y="1523880"/>
            <a:chExt cx="4232160" cy="2566800"/>
          </a:xfrm>
        </p:grpSpPr>
        <p:graphicFrame>
          <p:nvGraphicFramePr>
            <p:cNvPr id="647" name=""/>
            <p:cNvGraphicFramePr/>
            <p:nvPr/>
          </p:nvGraphicFramePr>
          <p:xfrm>
            <a:off x="228600" y="1828440"/>
            <a:ext cx="4232160" cy="22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440"/>
                      <a:ext cx="42321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1412640" y="1523880"/>
                  <a:ext cx="127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OMPUTE 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0" name=""/>
          <p:cNvSpPr/>
          <p:nvPr/>
        </p:nvSpPr>
        <p:spPr>
          <a:xfrm>
            <a:off x="402120" y="4173480"/>
            <a:ext cx="203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14400" y="1828800"/>
            <a:ext cx="2971800" cy="1295280"/>
            <a:chOff x="914400" y="1828800"/>
            <a:chExt cx="2971800" cy="1295280"/>
          </a:xfrm>
        </p:grpSpPr>
        <p:sp>
          <p:nvSpPr>
            <p:cNvPr id="652" name=""/>
            <p:cNvSpPr/>
            <p:nvPr/>
          </p:nvSpPr>
          <p:spPr>
            <a:xfrm flipH="1">
              <a:off x="914400" y="2514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71600" y="2590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1600" y="1828800"/>
              <a:ext cx="1828800" cy="8380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4080" y="251460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76720" y="25146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324000" y="4648320"/>
                <a:ext cx="2730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0880" y="541008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93244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5200560" y="1600200"/>
                <a:ext cx="3149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276880" y="2286000"/>
                <a:ext cx="2984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552920" y="3124080"/>
                <a:ext cx="454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172200" y="380988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095880" y="4484520"/>
                <a:ext cx="166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4822200" y="5925960"/>
            <a:ext cx="2428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105520" y="5257800"/>
            <a:ext cx="3682800" cy="596880"/>
            <a:chOff x="5105520" y="5257800"/>
            <a:chExt cx="3682800" cy="596880"/>
          </a:xfrm>
        </p:grpSpPr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5105520" y="5257800"/>
                  <a:ext cx="1638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6934320" y="5410080"/>
                  <a:ext cx="1854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9" dur="indefinite" restart="never" nodeType="tmRoot">
          <p:childTnLst>
            <p:seq>
              <p:cTn id="2110" dur="indefinite" nodeType="mainSeq">
                <p:childTnLst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2560" y="135000"/>
            <a:ext cx="201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0" y="609480"/>
          <a:ext cx="4778280" cy="22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778280" cy="22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315000" y="2819520"/>
            <a:ext cx="364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IS NOT SHARED AND Io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D BY ONE LOOP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139680" y="3505320"/>
                <a:ext cx="199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1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33200" y="3962520"/>
                <a:ext cx="480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2: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19320" y="47242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FIND  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51160" y="3352680"/>
                <a:ext cx="78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280" y="434340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3: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1" name=""/>
          <p:cNvGrpSpPr/>
          <p:nvPr/>
        </p:nvGrpSpPr>
        <p:grpSpPr>
          <a:xfrm>
            <a:off x="76320" y="3962520"/>
            <a:ext cx="3101760" cy="1476360"/>
            <a:chOff x="76320" y="3962520"/>
            <a:chExt cx="3101760" cy="14763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358920" y="5148360"/>
                  <a:ext cx="281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3" name=""/>
            <p:cNvSpPr/>
            <p:nvPr/>
          </p:nvSpPr>
          <p:spPr>
            <a:xfrm>
              <a:off x="76320" y="3962520"/>
              <a:ext cx="234720" cy="1361880"/>
            </a:xfrm>
            <a:custGeom>
              <a:avLst/>
              <a:gdLst/>
              <a:ahLst/>
              <a:rect l="l" t="t" r="r" b="b"/>
              <a:pathLst>
                <a:path w="148" h="858">
                  <a:moveTo>
                    <a:pt x="0" y="0"/>
                  </a:moveTo>
                  <a:cubicBezTo>
                    <a:pt x="3" y="229"/>
                    <a:pt x="3" y="457"/>
                    <a:pt x="8" y="686"/>
                  </a:cubicBezTo>
                  <a:cubicBezTo>
                    <a:pt x="9" y="728"/>
                    <a:pt x="12" y="769"/>
                    <a:pt x="16" y="811"/>
                  </a:cubicBezTo>
                  <a:cubicBezTo>
                    <a:pt x="17" y="822"/>
                    <a:pt x="14" y="838"/>
                    <a:pt x="24" y="842"/>
                  </a:cubicBezTo>
                  <a:cubicBezTo>
                    <a:pt x="62" y="858"/>
                    <a:pt x="107" y="857"/>
                    <a:pt x="148" y="85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838080" y="4576680"/>
            <a:ext cx="2613240" cy="1276560"/>
            <a:chOff x="838080" y="4576680"/>
            <a:chExt cx="2613240" cy="1276560"/>
          </a:xfrm>
        </p:grpSpPr>
        <p:sp>
          <p:nvSpPr>
            <p:cNvPr id="685" name=""/>
            <p:cNvSpPr/>
            <p:nvPr/>
          </p:nvSpPr>
          <p:spPr>
            <a:xfrm>
              <a:off x="3252960" y="4576680"/>
              <a:ext cx="198360" cy="1203480"/>
            </a:xfrm>
            <a:custGeom>
              <a:avLst/>
              <a:gdLst/>
              <a:ahLst/>
              <a:rect l="l" t="t" r="r" b="b"/>
              <a:pathLst>
                <a:path w="125" h="758">
                  <a:moveTo>
                    <a:pt x="32" y="0"/>
                  </a:moveTo>
                  <a:cubicBezTo>
                    <a:pt x="120" y="8"/>
                    <a:pt x="89" y="8"/>
                    <a:pt x="125" y="8"/>
                  </a:cubicBezTo>
                  <a:cubicBezTo>
                    <a:pt x="111" y="141"/>
                    <a:pt x="93" y="273"/>
                    <a:pt x="78" y="406"/>
                  </a:cubicBezTo>
                  <a:cubicBezTo>
                    <a:pt x="76" y="515"/>
                    <a:pt x="88" y="625"/>
                    <a:pt x="71" y="733"/>
                  </a:cubicBezTo>
                  <a:cubicBezTo>
                    <a:pt x="67" y="758"/>
                    <a:pt x="0" y="756"/>
                    <a:pt x="0" y="7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838080" y="5562720"/>
                  <a:ext cx="2146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505320" y="5181480"/>
                <a:ext cx="799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93840" y="5867280"/>
                <a:ext cx="3403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25520" y="627372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209680" y="6248520"/>
                <a:ext cx="1587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4824360" y="762120"/>
            <a:ext cx="4149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ALSO USE THE 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343400" y="2057400"/>
            <a:ext cx="4778280" cy="2236680"/>
            <a:chOff x="4343400" y="2057400"/>
            <a:chExt cx="4778280" cy="2236680"/>
          </a:xfrm>
        </p:grpSpPr>
        <p:graphicFrame>
          <p:nvGraphicFramePr>
            <p:cNvPr id="693" name=""/>
            <p:cNvGraphicFramePr/>
            <p:nvPr/>
          </p:nvGraphicFramePr>
          <p:xfrm>
            <a:off x="4343400" y="2057400"/>
            <a:ext cx="4778280" cy="223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057400"/>
                      <a:ext cx="4778280" cy="223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"/>
            <p:cNvSpPr/>
            <p:nvPr/>
          </p:nvSpPr>
          <p:spPr>
            <a:xfrm>
              <a:off x="6159600" y="2968560"/>
              <a:ext cx="657000" cy="85428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8" y="258"/>
                  </a:moveTo>
                  <a:cubicBezTo>
                    <a:pt x="0" y="52"/>
                    <a:pt x="1" y="138"/>
                    <a:pt x="1" y="0"/>
                  </a:cubicBezTo>
                  <a:cubicBezTo>
                    <a:pt x="115" y="5"/>
                    <a:pt x="223" y="15"/>
                    <a:pt x="336" y="24"/>
                  </a:cubicBezTo>
                  <a:cubicBezTo>
                    <a:pt x="377" y="35"/>
                    <a:pt x="356" y="32"/>
                    <a:pt x="398" y="32"/>
                  </a:cubicBezTo>
                  <a:cubicBezTo>
                    <a:pt x="403" y="131"/>
                    <a:pt x="414" y="229"/>
                    <a:pt x="414" y="328"/>
                  </a:cubicBezTo>
                  <a:cubicBezTo>
                    <a:pt x="414" y="399"/>
                    <a:pt x="398" y="468"/>
                    <a:pt x="398" y="538"/>
                  </a:cubicBezTo>
                  <a:cubicBezTo>
                    <a:pt x="237" y="522"/>
                    <a:pt x="346" y="530"/>
                    <a:pt x="71" y="5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6553080" y="3048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718160" y="4343400"/>
                <a:ext cx="41907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: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MESH: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SH 3: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638680" y="54100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845240" y="5925960"/>
            <a:ext cx="3321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704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9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710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2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717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8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724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7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7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9" dur="indefinite" restart="never" nodeType="tmRoot">
          <p:childTnLst>
            <p:seq>
              <p:cTn id="2300" dur="indefinite" nodeType="mainSeq">
                <p:childTnLst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0" y="4633920"/>
          <a:ext cx="41688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33920"/>
                    <a:ext cx="41688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77480" y="58680"/>
            <a:ext cx="290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52280" y="45720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5720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2666880"/>
          <a:ext cx="4245120" cy="205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66880"/>
                    <a:ext cx="424512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3124080" y="2590920"/>
            <a:ext cx="1067040" cy="19810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514600"/>
            <a:ext cx="1066680" cy="2133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40" idx="0"/>
          </p:cNvCxnSpPr>
          <p:nvPr/>
        </p:nvCxnSpPr>
        <p:spPr>
          <a:xfrm>
            <a:off x="533160" y="2502000"/>
            <a:ext cx="2580120" cy="31788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4114800" y="76320"/>
            <a:ext cx="3887640" cy="3200400"/>
            <a:chOff x="4114800" y="76320"/>
            <a:chExt cx="3887640" cy="3200400"/>
          </a:xfrm>
        </p:grpSpPr>
        <p:graphicFrame>
          <p:nvGraphicFramePr>
            <p:cNvPr id="743" name=""/>
            <p:cNvGraphicFramePr/>
            <p:nvPr/>
          </p:nvGraphicFramePr>
          <p:xfrm>
            <a:off x="4952880" y="76320"/>
            <a:ext cx="3049560" cy="1790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76320"/>
                      <a:ext cx="3049560" cy="17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"/>
            <p:cNvSpPr/>
            <p:nvPr/>
          </p:nvSpPr>
          <p:spPr>
            <a:xfrm>
              <a:off x="4114800" y="381240"/>
              <a:ext cx="838080" cy="2895480"/>
            </a:xfrm>
            <a:custGeom>
              <a:avLst/>
              <a:gdLst/>
              <a:ahLst/>
              <a:rect l="l" t="t" r="r" b="b"/>
              <a:pathLst>
                <a:path w="528" h="1824">
                  <a:moveTo>
                    <a:pt x="0" y="1824"/>
                  </a:moveTo>
                  <a:cubicBezTo>
                    <a:pt x="220" y="1064"/>
                    <a:pt x="440" y="304"/>
                    <a:pt x="528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05520" y="1841400"/>
                <a:ext cx="3568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7848720" y="1143000"/>
                <a:ext cx="1257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914400" y="4876920"/>
            <a:ext cx="3657600" cy="1752480"/>
            <a:chOff x="914400" y="4876920"/>
            <a:chExt cx="3657600" cy="1752480"/>
          </a:xfrm>
        </p:grpSpPr>
        <p:sp>
          <p:nvSpPr>
            <p:cNvPr id="749" name=""/>
            <p:cNvSpPr/>
            <p:nvPr/>
          </p:nvSpPr>
          <p:spPr>
            <a:xfrm>
              <a:off x="2209680" y="4876920"/>
              <a:ext cx="236232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914400" y="5943600"/>
                  <a:ext cx="1270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=1 \lline  \lline  \( 1 - j \) 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406760" y="350532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V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718320" y="3505320"/>
                <a:ext cx="219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A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08640" y="4343400"/>
                <a:ext cx="2044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 {  {1 - j}  over  {2 - j} } }  over  { {  {1 - j}  over  {2 - j} } +1+j} } 6`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6705720" y="4343400"/>
                <a:ext cx="181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1 - j}  over  { \( 1 - j \) +3+j} } 6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6781680" y="5029200"/>
                <a:ext cx="1422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6}  over  {4} }  -  {  {6}  over  {4} } j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5257800" y="55627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left ( {  {5}  over  {2} }  -  {  {3}  over  {2} } j right )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4867920" y="624852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419720" y="4292640"/>
            <a:ext cx="1485720" cy="536400"/>
            <a:chOff x="4419720" y="4292640"/>
            <a:chExt cx="1485720" cy="536400"/>
          </a:xfrm>
        </p:grpSpPr>
        <p:sp>
          <p:nvSpPr>
            <p:cNvPr id="759" name=""/>
            <p:cNvSpPr/>
            <p:nvPr/>
          </p:nvSpPr>
          <p:spPr>
            <a:xfrm>
              <a:off x="4478400" y="4292640"/>
              <a:ext cx="1427040" cy="536400"/>
            </a:xfrm>
            <a:custGeom>
              <a:avLst/>
              <a:gdLst/>
              <a:ahLst/>
              <a:rect l="l" t="t" r="r" b="b"/>
              <a:pathLst>
                <a:path w="899" h="338">
                  <a:moveTo>
                    <a:pt x="873" y="335"/>
                  </a:moveTo>
                  <a:cubicBezTo>
                    <a:pt x="875" y="327"/>
                    <a:pt x="899" y="247"/>
                    <a:pt x="896" y="234"/>
                  </a:cubicBezTo>
                  <a:cubicBezTo>
                    <a:pt x="882" y="177"/>
                    <a:pt x="869" y="117"/>
                    <a:pt x="834" y="70"/>
                  </a:cubicBezTo>
                  <a:cubicBezTo>
                    <a:pt x="816" y="46"/>
                    <a:pt x="776" y="50"/>
                    <a:pt x="748" y="39"/>
                  </a:cubicBezTo>
                  <a:cubicBezTo>
                    <a:pt x="668" y="8"/>
                    <a:pt x="577" y="6"/>
                    <a:pt x="491" y="0"/>
                  </a:cubicBezTo>
                  <a:cubicBezTo>
                    <a:pt x="434" y="38"/>
                    <a:pt x="434" y="96"/>
                    <a:pt x="413" y="156"/>
                  </a:cubicBezTo>
                  <a:cubicBezTo>
                    <a:pt x="416" y="211"/>
                    <a:pt x="403" y="268"/>
                    <a:pt x="421" y="320"/>
                  </a:cubicBezTo>
                  <a:cubicBezTo>
                    <a:pt x="427" y="338"/>
                    <a:pt x="494" y="335"/>
                    <a:pt x="475" y="335"/>
                  </a:cubicBezTo>
                  <a:cubicBezTo>
                    <a:pt x="454" y="335"/>
                    <a:pt x="434" y="325"/>
                    <a:pt x="413" y="320"/>
                  </a:cubicBezTo>
                  <a:cubicBezTo>
                    <a:pt x="362" y="278"/>
                    <a:pt x="265" y="198"/>
                    <a:pt x="203" y="172"/>
                  </a:cubicBezTo>
                  <a:cubicBezTo>
                    <a:pt x="161" y="154"/>
                    <a:pt x="70" y="140"/>
                    <a:pt x="70" y="140"/>
                  </a:cubicBezTo>
                  <a:cubicBezTo>
                    <a:pt x="45" y="124"/>
                    <a:pt x="30" y="117"/>
                    <a:pt x="0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4419720" y="4343400"/>
                  <a:ext cx="2905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4800600" y="25909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ULD USE SOURCE TRANSFORMATION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 COMPUTE  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2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3" dur="indefinite" restart="never" nodeType="tmRoot">
          <p:childTnLst>
            <p:seq>
              <p:cTn id="2344" dur="indefinite" nodeType="mainSeq">
                <p:childTnLst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768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7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838080" y="2286000"/>
            <a:ext cx="838440" cy="762120"/>
            <a:chOff x="838080" y="2286000"/>
            <a:chExt cx="838440" cy="762120"/>
          </a:xfrm>
        </p:grpSpPr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838080" y="22860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0" name=""/>
            <p:cNvSpPr/>
            <p:nvPr/>
          </p:nvSpPr>
          <p:spPr>
            <a:xfrm>
              <a:off x="914400" y="2590920"/>
              <a:ext cx="76212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200400" y="2362320"/>
            <a:ext cx="290520" cy="914400"/>
            <a:chOff x="3200400" y="2362320"/>
            <a:chExt cx="290520" cy="914400"/>
          </a:xfrm>
        </p:grpSpPr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3200400" y="2362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3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552920" y="3006720"/>
            <a:ext cx="2603160" cy="689040"/>
            <a:chOff x="4552920" y="3006720"/>
            <a:chExt cx="2603160" cy="689040"/>
          </a:xfrm>
        </p:grpSpPr>
        <mc:AlternateContent>
          <mc:Choice xmlns:a14="http://schemas.microsoft.com/office/drawing/2010/main" Requires="a14">
            <p:sp>
              <p:nvSpPr>
                <p:cNvPr id="785" name=""/>
                <p:cNvSpPr txBox="1"/>
                <p:nvPr/>
              </p:nvSpPr>
              <p:spPr>
                <a:xfrm>
                  <a:off x="6324120" y="3048120"/>
                  <a:ext cx="831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86" name=""/>
            <p:cNvSpPr/>
            <p:nvPr/>
          </p:nvSpPr>
          <p:spPr>
            <a:xfrm>
              <a:off x="4552920" y="3006720"/>
              <a:ext cx="1731960" cy="619200"/>
            </a:xfrm>
            <a:custGeom>
              <a:avLst/>
              <a:gdLst/>
              <a:ahLst/>
              <a:rect l="l" t="t" r="r" b="b"/>
              <a:pathLst>
                <a:path w="1091" h="390">
                  <a:moveTo>
                    <a:pt x="0" y="0"/>
                  </a:moveTo>
                  <a:cubicBezTo>
                    <a:pt x="34" y="16"/>
                    <a:pt x="49" y="32"/>
                    <a:pt x="70" y="62"/>
                  </a:cubicBezTo>
                  <a:cubicBezTo>
                    <a:pt x="93" y="145"/>
                    <a:pt x="116" y="224"/>
                    <a:pt x="148" y="304"/>
                  </a:cubicBezTo>
                  <a:cubicBezTo>
                    <a:pt x="167" y="353"/>
                    <a:pt x="163" y="366"/>
                    <a:pt x="210" y="389"/>
                  </a:cubicBezTo>
                  <a:cubicBezTo>
                    <a:pt x="252" y="387"/>
                    <a:pt x="294" y="390"/>
                    <a:pt x="335" y="382"/>
                  </a:cubicBezTo>
                  <a:cubicBezTo>
                    <a:pt x="367" y="376"/>
                    <a:pt x="374" y="334"/>
                    <a:pt x="389" y="311"/>
                  </a:cubicBezTo>
                  <a:cubicBezTo>
                    <a:pt x="413" y="274"/>
                    <a:pt x="456" y="223"/>
                    <a:pt x="467" y="179"/>
                  </a:cubicBezTo>
                  <a:cubicBezTo>
                    <a:pt x="474" y="153"/>
                    <a:pt x="472" y="125"/>
                    <a:pt x="483" y="101"/>
                  </a:cubicBezTo>
                  <a:cubicBezTo>
                    <a:pt x="495" y="73"/>
                    <a:pt x="536" y="62"/>
                    <a:pt x="561" y="54"/>
                  </a:cubicBezTo>
                  <a:cubicBezTo>
                    <a:pt x="587" y="57"/>
                    <a:pt x="619" y="45"/>
                    <a:pt x="639" y="62"/>
                  </a:cubicBezTo>
                  <a:cubicBezTo>
                    <a:pt x="655" y="75"/>
                    <a:pt x="643" y="103"/>
                    <a:pt x="646" y="124"/>
                  </a:cubicBezTo>
                  <a:cubicBezTo>
                    <a:pt x="662" y="235"/>
                    <a:pt x="655" y="248"/>
                    <a:pt x="763" y="272"/>
                  </a:cubicBezTo>
                  <a:cubicBezTo>
                    <a:pt x="841" y="270"/>
                    <a:pt x="919" y="271"/>
                    <a:pt x="997" y="265"/>
                  </a:cubicBezTo>
                  <a:cubicBezTo>
                    <a:pt x="1033" y="262"/>
                    <a:pt x="1055" y="241"/>
                    <a:pt x="1091" y="2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9" dur="indefinite" restart="never" nodeType="tmRoot">
          <p:childTnLst>
            <p:seq>
              <p:cTn id="2460" dur="indefinite" nodeType="mainSeq">
                <p:childTnLst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200160" y="135000"/>
            <a:ext cx="3192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52280" y="53352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0" y="685800"/>
            <a:ext cx="190512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7920" y="2690640"/>
          <a:ext cx="59356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2690640"/>
                    <a:ext cx="59356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6480" y="3154320"/>
            <a:ext cx="1670040" cy="854280"/>
          </a:xfrm>
          <a:custGeom>
            <a:avLst/>
            <a:gdLst/>
            <a:ahLst/>
            <a:rect l="l" t="t" r="r" b="b"/>
            <a:pathLst>
              <a:path w="1052" h="538">
                <a:moveTo>
                  <a:pt x="19" y="0"/>
                </a:moveTo>
                <a:cubicBezTo>
                  <a:pt x="216" y="131"/>
                  <a:pt x="502" y="96"/>
                  <a:pt x="721" y="102"/>
                </a:cubicBezTo>
                <a:cubicBezTo>
                  <a:pt x="806" y="112"/>
                  <a:pt x="863" y="143"/>
                  <a:pt x="939" y="156"/>
                </a:cubicBezTo>
                <a:cubicBezTo>
                  <a:pt x="989" y="206"/>
                  <a:pt x="1012" y="178"/>
                  <a:pt x="1048" y="250"/>
                </a:cubicBezTo>
                <a:cubicBezTo>
                  <a:pt x="1045" y="284"/>
                  <a:pt x="1052" y="319"/>
                  <a:pt x="1040" y="351"/>
                </a:cubicBezTo>
                <a:cubicBezTo>
                  <a:pt x="1023" y="397"/>
                  <a:pt x="956" y="422"/>
                  <a:pt x="916" y="429"/>
                </a:cubicBezTo>
                <a:cubicBezTo>
                  <a:pt x="758" y="487"/>
                  <a:pt x="597" y="510"/>
                  <a:pt x="432" y="538"/>
                </a:cubicBezTo>
                <a:cubicBezTo>
                  <a:pt x="297" y="535"/>
                  <a:pt x="162" y="537"/>
                  <a:pt x="27" y="530"/>
                </a:cubicBezTo>
                <a:cubicBezTo>
                  <a:pt x="0" y="529"/>
                  <a:pt x="4" y="515"/>
                  <a:pt x="4" y="49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676520" y="2573280"/>
            <a:ext cx="2117520" cy="1425600"/>
            <a:chOff x="1676520" y="2573280"/>
            <a:chExt cx="2117520" cy="1425600"/>
          </a:xfrm>
        </p:grpSpPr>
        <p:sp>
          <p:nvSpPr>
            <p:cNvPr id="795" name=""/>
            <p:cNvSpPr/>
            <p:nvPr/>
          </p:nvSpPr>
          <p:spPr>
            <a:xfrm>
              <a:off x="1731960" y="2573280"/>
              <a:ext cx="2062080" cy="1125720"/>
            </a:xfrm>
            <a:custGeom>
              <a:avLst/>
              <a:gdLst/>
              <a:ahLst/>
              <a:rect l="l" t="t" r="r" b="b"/>
              <a:pathLst>
                <a:path w="1299" h="709">
                  <a:moveTo>
                    <a:pt x="693" y="483"/>
                  </a:moveTo>
                  <a:cubicBezTo>
                    <a:pt x="700" y="640"/>
                    <a:pt x="656" y="684"/>
                    <a:pt x="779" y="709"/>
                  </a:cubicBezTo>
                  <a:cubicBezTo>
                    <a:pt x="937" y="704"/>
                    <a:pt x="990" y="704"/>
                    <a:pt x="1114" y="686"/>
                  </a:cubicBezTo>
                  <a:cubicBezTo>
                    <a:pt x="1124" y="681"/>
                    <a:pt x="1134" y="673"/>
                    <a:pt x="1145" y="670"/>
                  </a:cubicBezTo>
                  <a:cubicBezTo>
                    <a:pt x="1160" y="665"/>
                    <a:pt x="1178" y="670"/>
                    <a:pt x="1192" y="662"/>
                  </a:cubicBezTo>
                  <a:cubicBezTo>
                    <a:pt x="1214" y="650"/>
                    <a:pt x="1236" y="598"/>
                    <a:pt x="1247" y="577"/>
                  </a:cubicBezTo>
                  <a:cubicBezTo>
                    <a:pt x="1277" y="453"/>
                    <a:pt x="1299" y="312"/>
                    <a:pt x="1239" y="195"/>
                  </a:cubicBezTo>
                  <a:cubicBezTo>
                    <a:pt x="1231" y="147"/>
                    <a:pt x="1237" y="41"/>
                    <a:pt x="1177" y="16"/>
                  </a:cubicBezTo>
                  <a:cubicBezTo>
                    <a:pt x="1159" y="9"/>
                    <a:pt x="1140" y="6"/>
                    <a:pt x="1122" y="0"/>
                  </a:cubicBezTo>
                  <a:cubicBezTo>
                    <a:pt x="1078" y="3"/>
                    <a:pt x="1034" y="4"/>
                    <a:pt x="990" y="8"/>
                  </a:cubicBezTo>
                  <a:cubicBezTo>
                    <a:pt x="943" y="12"/>
                    <a:pt x="849" y="23"/>
                    <a:pt x="849" y="23"/>
                  </a:cubicBezTo>
                  <a:cubicBezTo>
                    <a:pt x="785" y="45"/>
                    <a:pt x="719" y="56"/>
                    <a:pt x="655" y="78"/>
                  </a:cubicBezTo>
                  <a:cubicBezTo>
                    <a:pt x="586" y="145"/>
                    <a:pt x="617" y="164"/>
                    <a:pt x="608" y="288"/>
                  </a:cubicBezTo>
                  <a:cubicBezTo>
                    <a:pt x="604" y="347"/>
                    <a:pt x="581" y="403"/>
                    <a:pt x="569" y="460"/>
                  </a:cubicBezTo>
                  <a:cubicBezTo>
                    <a:pt x="555" y="527"/>
                    <a:pt x="546" y="573"/>
                    <a:pt x="475" y="600"/>
                  </a:cubicBezTo>
                  <a:cubicBezTo>
                    <a:pt x="419" y="622"/>
                    <a:pt x="347" y="623"/>
                    <a:pt x="288" y="631"/>
                  </a:cubicBezTo>
                  <a:cubicBezTo>
                    <a:pt x="222" y="648"/>
                    <a:pt x="153" y="644"/>
                    <a:pt x="86" y="662"/>
                  </a:cubicBezTo>
                  <a:cubicBezTo>
                    <a:pt x="52" y="671"/>
                    <a:pt x="31" y="693"/>
                    <a:pt x="0" y="67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676520" y="3733920"/>
                  <a:ext cx="977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97" name=""/>
          <p:cNvGraphicFramePr/>
          <p:nvPr/>
        </p:nvGraphicFramePr>
        <p:xfrm>
          <a:off x="4648320" y="76320"/>
          <a:ext cx="4473360" cy="26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76320"/>
                    <a:ext cx="44733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016600" y="1371600"/>
                <a:ext cx="1079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0" name=""/>
          <p:cNvGrpSpPr/>
          <p:nvPr/>
        </p:nvGrpSpPr>
        <p:grpSpPr>
          <a:xfrm>
            <a:off x="5867280" y="-95400"/>
            <a:ext cx="3225960" cy="3238560"/>
            <a:chOff x="5867280" y="-95400"/>
            <a:chExt cx="3225960" cy="3238560"/>
          </a:xfrm>
        </p:grpSpPr>
        <p:sp>
          <p:nvSpPr>
            <p:cNvPr id="801" name=""/>
            <p:cNvSpPr/>
            <p:nvPr/>
          </p:nvSpPr>
          <p:spPr>
            <a:xfrm>
              <a:off x="5867280" y="0"/>
              <a:ext cx="990720" cy="2666880"/>
            </a:xfrm>
            <a:custGeom>
              <a:avLst/>
              <a:gdLst/>
              <a:ahLst/>
              <a:rect l="l" t="t" r="r" b="b"/>
              <a:pathLst>
                <a:path w="624" h="1680">
                  <a:moveTo>
                    <a:pt x="48" y="768"/>
                  </a:moveTo>
                  <a:lnTo>
                    <a:pt x="96" y="0"/>
                  </a:lnTo>
                  <a:lnTo>
                    <a:pt x="576" y="48"/>
                  </a:lnTo>
                  <a:lnTo>
                    <a:pt x="624" y="1632"/>
                  </a:lnTo>
                  <a:lnTo>
                    <a:pt x="0" y="1680"/>
                  </a:lnTo>
                  <a:lnTo>
                    <a:pt x="0" y="15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66080" y="-95400"/>
              <a:ext cx="1127160" cy="2743200"/>
            </a:xfrm>
            <a:custGeom>
              <a:avLst/>
              <a:gdLst/>
              <a:ahLst/>
              <a:rect l="l" t="t" r="r" b="b"/>
              <a:pathLst>
                <a:path w="710" h="1728">
                  <a:moveTo>
                    <a:pt x="678" y="107"/>
                  </a:moveTo>
                  <a:cubicBezTo>
                    <a:pt x="618" y="65"/>
                    <a:pt x="530" y="67"/>
                    <a:pt x="460" y="60"/>
                  </a:cubicBezTo>
                  <a:cubicBezTo>
                    <a:pt x="324" y="64"/>
                    <a:pt x="196" y="0"/>
                    <a:pt x="125" y="107"/>
                  </a:cubicBezTo>
                  <a:cubicBezTo>
                    <a:pt x="67" y="289"/>
                    <a:pt x="79" y="488"/>
                    <a:pt x="47" y="676"/>
                  </a:cubicBezTo>
                  <a:cubicBezTo>
                    <a:pt x="39" y="837"/>
                    <a:pt x="26" y="998"/>
                    <a:pt x="16" y="1159"/>
                  </a:cubicBezTo>
                  <a:cubicBezTo>
                    <a:pt x="10" y="1342"/>
                    <a:pt x="0" y="1498"/>
                    <a:pt x="16" y="1681"/>
                  </a:cubicBezTo>
                  <a:cubicBezTo>
                    <a:pt x="20" y="1725"/>
                    <a:pt x="141" y="1728"/>
                    <a:pt x="141" y="1728"/>
                  </a:cubicBezTo>
                  <a:cubicBezTo>
                    <a:pt x="443" y="1722"/>
                    <a:pt x="423" y="1725"/>
                    <a:pt x="608" y="1697"/>
                  </a:cubicBezTo>
                  <a:cubicBezTo>
                    <a:pt x="636" y="1655"/>
                    <a:pt x="617" y="1680"/>
                    <a:pt x="671" y="1626"/>
                  </a:cubicBezTo>
                  <a:cubicBezTo>
                    <a:pt x="704" y="1593"/>
                    <a:pt x="710" y="1538"/>
                    <a:pt x="710" y="149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93040" y="2585880"/>
              <a:ext cx="1757160" cy="557280"/>
            </a:xfrm>
            <a:custGeom>
              <a:avLst/>
              <a:gdLst/>
              <a:ahLst/>
              <a:rect l="l" t="t" r="r" b="b"/>
              <a:pathLst>
                <a:path w="1107" h="351">
                  <a:moveTo>
                    <a:pt x="0" y="0"/>
                  </a:moveTo>
                  <a:cubicBezTo>
                    <a:pt x="17" y="97"/>
                    <a:pt x="119" y="150"/>
                    <a:pt x="203" y="187"/>
                  </a:cubicBezTo>
                  <a:cubicBezTo>
                    <a:pt x="262" y="213"/>
                    <a:pt x="312" y="262"/>
                    <a:pt x="374" y="280"/>
                  </a:cubicBezTo>
                  <a:cubicBezTo>
                    <a:pt x="423" y="294"/>
                    <a:pt x="552" y="310"/>
                    <a:pt x="624" y="319"/>
                  </a:cubicBezTo>
                  <a:cubicBezTo>
                    <a:pt x="715" y="351"/>
                    <a:pt x="814" y="321"/>
                    <a:pt x="904" y="296"/>
                  </a:cubicBezTo>
                  <a:cubicBezTo>
                    <a:pt x="915" y="288"/>
                    <a:pt x="924" y="278"/>
                    <a:pt x="936" y="273"/>
                  </a:cubicBezTo>
                  <a:cubicBezTo>
                    <a:pt x="953" y="265"/>
                    <a:pt x="974" y="266"/>
                    <a:pt x="990" y="257"/>
                  </a:cubicBezTo>
                  <a:cubicBezTo>
                    <a:pt x="998" y="252"/>
                    <a:pt x="1000" y="241"/>
                    <a:pt x="1006" y="234"/>
                  </a:cubicBezTo>
                  <a:cubicBezTo>
                    <a:pt x="1098" y="131"/>
                    <a:pt x="1017" y="232"/>
                    <a:pt x="1076" y="156"/>
                  </a:cubicBezTo>
                  <a:cubicBezTo>
                    <a:pt x="1090" y="115"/>
                    <a:pt x="1107" y="85"/>
                    <a:pt x="1107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267600" y="3137040"/>
                <a:ext cx="2184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5486400" y="5943600"/>
                <a:ext cx="160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193680" y="4692600"/>
            <a:ext cx="4327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 voltage to current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7086600" y="594360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08" name=""/>
          <p:cNvGraphicFramePr/>
          <p:nvPr/>
        </p:nvGraphicFramePr>
        <p:xfrm>
          <a:off x="5029200" y="4267080"/>
          <a:ext cx="40417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267080"/>
                    <a:ext cx="4041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925560" y="5392800"/>
            <a:ext cx="18601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5" dur="indefinite" restart="never" nodeType="tmRoot">
          <p:childTnLst>
            <p:seq>
              <p:cTn id="2486" dur="indefinite" nodeType="mainSeq">
                <p:childTnLst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46483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821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6134040"/>
                <a:ext cx="387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25" name=""/>
          <p:cNvGrpSpPr/>
          <p:nvPr/>
        </p:nvGrpSpPr>
        <p:grpSpPr>
          <a:xfrm>
            <a:off x="228600" y="3276720"/>
            <a:ext cx="5638680" cy="3554280"/>
            <a:chOff x="228600" y="3276720"/>
            <a:chExt cx="5638680" cy="3554280"/>
          </a:xfrm>
        </p:grpSpPr>
        <p:grpSp>
          <p:nvGrpSpPr>
            <p:cNvPr id="826" name=""/>
            <p:cNvGrpSpPr/>
            <p:nvPr/>
          </p:nvGrpSpPr>
          <p:grpSpPr>
            <a:xfrm>
              <a:off x="3048120" y="6095880"/>
              <a:ext cx="2819160" cy="609840"/>
              <a:chOff x="3048120" y="6095880"/>
              <a:chExt cx="2819160" cy="60984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3048120" y="6172200"/>
                <a:ext cx="167616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8" name=""/>
                  <p:cNvSpPr txBox="1"/>
                  <p:nvPr/>
                </p:nvSpPr>
                <p:spPr>
                  <a:xfrm>
                    <a:off x="4699080" y="6095880"/>
                    <a:ext cx="11682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pedance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29" name=""/>
            <p:cNvGrpSpPr/>
            <p:nvPr/>
          </p:nvGrpSpPr>
          <p:grpSpPr>
            <a:xfrm>
              <a:off x="228600" y="3276720"/>
              <a:ext cx="2685960" cy="3554280"/>
              <a:chOff x="228600" y="3276720"/>
              <a:chExt cx="2685960" cy="3554280"/>
            </a:xfrm>
          </p:grpSpPr>
          <p:grpSp>
            <p:nvGrpSpPr>
              <p:cNvPr id="830" name=""/>
              <p:cNvGrpSpPr/>
              <p:nvPr/>
            </p:nvGrpSpPr>
            <p:grpSpPr>
              <a:xfrm>
                <a:off x="1390680" y="3276720"/>
                <a:ext cx="1523880" cy="290520"/>
                <a:chOff x="1390680" y="3276720"/>
                <a:chExt cx="1523880" cy="290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1" name=""/>
                    <p:cNvSpPr txBox="1"/>
                    <p:nvPr/>
                  </p:nvSpPr>
                  <p:spPr>
                    <a:xfrm>
                      <a:off x="1390680" y="3276720"/>
                      <a:ext cx="4302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32" name=""/>
                <p:cNvSpPr/>
                <p:nvPr/>
              </p:nvSpPr>
              <p:spPr>
                <a:xfrm>
                  <a:off x="1847880" y="3352680"/>
                  <a:ext cx="1066680" cy="177840"/>
                </a:xfrm>
                <a:custGeom>
                  <a:avLst/>
                  <a:gdLst/>
                  <a:ahLst/>
                  <a:rect l="l" t="t" r="r" b="b"/>
                  <a:pathLst>
                    <a:path w="672" h="112">
                      <a:moveTo>
                        <a:pt x="672" y="48"/>
                      </a:moveTo>
                      <a:cubicBezTo>
                        <a:pt x="484" y="68"/>
                        <a:pt x="296" y="88"/>
                        <a:pt x="192" y="96"/>
                      </a:cubicBezTo>
                      <a:cubicBezTo>
                        <a:pt x="88" y="104"/>
                        <a:pt x="80" y="112"/>
                        <a:pt x="48" y="96"/>
                      </a:cubicBezTo>
                      <a:cubicBezTo>
                        <a:pt x="16" y="80"/>
                        <a:pt x="8" y="4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228600" y="3378240"/>
                <a:ext cx="1138320" cy="3452760"/>
              </a:xfrm>
              <a:custGeom>
                <a:avLst/>
                <a:gdLst/>
                <a:ahLst/>
                <a:rect l="l" t="t" r="r" b="b"/>
                <a:pathLst>
                  <a:path w="717" h="2175">
                    <a:moveTo>
                      <a:pt x="304" y="2034"/>
                    </a:moveTo>
                    <a:cubicBezTo>
                      <a:pt x="282" y="1960"/>
                      <a:pt x="132" y="1956"/>
                      <a:pt x="71" y="1948"/>
                    </a:cubicBezTo>
                    <a:cubicBezTo>
                      <a:pt x="50" y="1953"/>
                      <a:pt x="27" y="1953"/>
                      <a:pt x="8" y="1963"/>
                    </a:cubicBezTo>
                    <a:cubicBezTo>
                      <a:pt x="1" y="1967"/>
                      <a:pt x="0" y="1979"/>
                      <a:pt x="0" y="1987"/>
                    </a:cubicBezTo>
                    <a:cubicBezTo>
                      <a:pt x="0" y="2016"/>
                      <a:pt x="2" y="2045"/>
                      <a:pt x="8" y="2073"/>
                    </a:cubicBezTo>
                    <a:cubicBezTo>
                      <a:pt x="18" y="2120"/>
                      <a:pt x="90" y="2135"/>
                      <a:pt x="125" y="2158"/>
                    </a:cubicBezTo>
                    <a:cubicBezTo>
                      <a:pt x="234" y="2152"/>
                      <a:pt x="272" y="2175"/>
                      <a:pt x="336" y="2111"/>
                    </a:cubicBezTo>
                    <a:cubicBezTo>
                      <a:pt x="340" y="2086"/>
                      <a:pt x="344" y="2039"/>
                      <a:pt x="359" y="2018"/>
                    </a:cubicBezTo>
                    <a:cubicBezTo>
                      <a:pt x="375" y="1995"/>
                      <a:pt x="380" y="1991"/>
                      <a:pt x="390" y="1963"/>
                    </a:cubicBezTo>
                    <a:cubicBezTo>
                      <a:pt x="414" y="1898"/>
                      <a:pt x="421" y="1830"/>
                      <a:pt x="429" y="1761"/>
                    </a:cubicBezTo>
                    <a:cubicBezTo>
                      <a:pt x="432" y="1680"/>
                      <a:pt x="421" y="1561"/>
                      <a:pt x="460" y="1480"/>
                    </a:cubicBezTo>
                    <a:cubicBezTo>
                      <a:pt x="466" y="1445"/>
                      <a:pt x="472" y="1413"/>
                      <a:pt x="484" y="1379"/>
                    </a:cubicBezTo>
                    <a:cubicBezTo>
                      <a:pt x="515" y="1108"/>
                      <a:pt x="503" y="885"/>
                      <a:pt x="507" y="584"/>
                    </a:cubicBezTo>
                    <a:cubicBezTo>
                      <a:pt x="509" y="410"/>
                      <a:pt x="450" y="223"/>
                      <a:pt x="515" y="62"/>
                    </a:cubicBezTo>
                    <a:cubicBezTo>
                      <a:pt x="540" y="0"/>
                      <a:pt x="650" y="62"/>
                      <a:pt x="717" y="6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46080" y="828720"/>
            <a:ext cx="4335480" cy="5678280"/>
            <a:chOff x="46080" y="828720"/>
            <a:chExt cx="4335480" cy="5678280"/>
          </a:xfrm>
        </p:grpSpPr>
        <p:grpSp>
          <p:nvGrpSpPr>
            <p:cNvPr id="835" name=""/>
            <p:cNvGrpSpPr/>
            <p:nvPr/>
          </p:nvGrpSpPr>
          <p:grpSpPr>
            <a:xfrm>
              <a:off x="76320" y="5562720"/>
              <a:ext cx="723960" cy="944280"/>
              <a:chOff x="76320" y="5562720"/>
              <a:chExt cx="723960" cy="944280"/>
            </a:xfrm>
          </p:grpSpPr>
          <p:sp>
            <p:nvSpPr>
              <p:cNvPr id="836" name=""/>
              <p:cNvSpPr/>
              <p:nvPr/>
            </p:nvSpPr>
            <p:spPr>
              <a:xfrm>
                <a:off x="76320" y="5864400"/>
                <a:ext cx="615960" cy="642600"/>
              </a:xfrm>
              <a:custGeom>
                <a:avLst/>
                <a:gdLst/>
                <a:ahLst/>
                <a:rect l="l" t="t" r="r" b="b"/>
                <a:pathLst>
                  <a:path w="388" h="405">
                    <a:moveTo>
                      <a:pt x="0" y="0"/>
                    </a:moveTo>
                    <a:cubicBezTo>
                      <a:pt x="8" y="93"/>
                      <a:pt x="25" y="169"/>
                      <a:pt x="54" y="257"/>
                    </a:cubicBezTo>
                    <a:cubicBezTo>
                      <a:pt x="55" y="260"/>
                      <a:pt x="71" y="319"/>
                      <a:pt x="85" y="327"/>
                    </a:cubicBezTo>
                    <a:cubicBezTo>
                      <a:pt x="102" y="336"/>
                      <a:pt x="122" y="338"/>
                      <a:pt x="140" y="343"/>
                    </a:cubicBezTo>
                    <a:cubicBezTo>
                      <a:pt x="161" y="359"/>
                      <a:pt x="178" y="380"/>
                      <a:pt x="202" y="390"/>
                    </a:cubicBezTo>
                    <a:cubicBezTo>
                      <a:pt x="229" y="402"/>
                      <a:pt x="261" y="395"/>
                      <a:pt x="288" y="405"/>
                    </a:cubicBezTo>
                    <a:cubicBezTo>
                      <a:pt x="388" y="392"/>
                      <a:pt x="357" y="381"/>
                      <a:pt x="366" y="265"/>
                    </a:cubicBezTo>
                    <a:cubicBezTo>
                      <a:pt x="363" y="218"/>
                      <a:pt x="367" y="171"/>
                      <a:pt x="358" y="125"/>
                    </a:cubicBezTo>
                    <a:cubicBezTo>
                      <a:pt x="354" y="105"/>
                      <a:pt x="290" y="101"/>
                      <a:pt x="288" y="101"/>
                    </a:cubicBezTo>
                    <a:cubicBezTo>
                      <a:pt x="228" y="85"/>
                      <a:pt x="169" y="64"/>
                      <a:pt x="109" y="47"/>
                    </a:cubicBezTo>
                    <a:cubicBezTo>
                      <a:pt x="71" y="17"/>
                      <a:pt x="48" y="14"/>
                      <a:pt x="0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7" name=""/>
                  <p:cNvSpPr txBox="1"/>
                  <p:nvPr/>
                </p:nvSpPr>
                <p:spPr>
                  <a:xfrm>
                    <a:off x="78120" y="5562720"/>
                    <a:ext cx="72216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Phaso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38" name=""/>
            <p:cNvSpPr/>
            <p:nvPr/>
          </p:nvSpPr>
          <p:spPr>
            <a:xfrm>
              <a:off x="3733920" y="1447920"/>
              <a:ext cx="4572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33920" y="3962520"/>
              <a:ext cx="38088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86280" y="2127240"/>
              <a:ext cx="158760" cy="1893960"/>
            </a:xfrm>
            <a:custGeom>
              <a:avLst/>
              <a:gdLst/>
              <a:ahLst/>
              <a:rect l="l" t="t" r="r" b="b"/>
              <a:pathLst>
                <a:path w="100" h="1193">
                  <a:moveTo>
                    <a:pt x="100" y="0"/>
                  </a:moveTo>
                  <a:cubicBezTo>
                    <a:pt x="94" y="133"/>
                    <a:pt x="82" y="300"/>
                    <a:pt x="37" y="429"/>
                  </a:cubicBezTo>
                  <a:cubicBezTo>
                    <a:pt x="29" y="494"/>
                    <a:pt x="25" y="559"/>
                    <a:pt x="14" y="624"/>
                  </a:cubicBezTo>
                  <a:cubicBezTo>
                    <a:pt x="15" y="657"/>
                    <a:pt x="0" y="961"/>
                    <a:pt x="37" y="1068"/>
                  </a:cubicBezTo>
                  <a:cubicBezTo>
                    <a:pt x="40" y="1084"/>
                    <a:pt x="37" y="1101"/>
                    <a:pt x="45" y="1115"/>
                  </a:cubicBezTo>
                  <a:cubicBezTo>
                    <a:pt x="49" y="1122"/>
                    <a:pt x="65" y="1115"/>
                    <a:pt x="68" y="1123"/>
                  </a:cubicBezTo>
                  <a:cubicBezTo>
                    <a:pt x="72" y="1133"/>
                    <a:pt x="55" y="1145"/>
                    <a:pt x="61" y="1154"/>
                  </a:cubicBezTo>
                  <a:cubicBezTo>
                    <a:pt x="88" y="1193"/>
                    <a:pt x="84" y="1132"/>
                    <a:pt x="84" y="11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080" y="2817720"/>
              <a:ext cx="3986280" cy="2779920"/>
            </a:xfrm>
            <a:custGeom>
              <a:avLst/>
              <a:gdLst/>
              <a:ahLst/>
              <a:rect l="l" t="t" r="r" b="b"/>
              <a:pathLst>
                <a:path w="2511" h="1751">
                  <a:moveTo>
                    <a:pt x="2511" y="127"/>
                  </a:moveTo>
                  <a:cubicBezTo>
                    <a:pt x="2222" y="96"/>
                    <a:pt x="1930" y="97"/>
                    <a:pt x="1639" y="88"/>
                  </a:cubicBezTo>
                  <a:cubicBezTo>
                    <a:pt x="1368" y="80"/>
                    <a:pt x="1098" y="61"/>
                    <a:pt x="828" y="49"/>
                  </a:cubicBezTo>
                  <a:cubicBezTo>
                    <a:pt x="336" y="69"/>
                    <a:pt x="574" y="0"/>
                    <a:pt x="337" y="173"/>
                  </a:cubicBezTo>
                  <a:cubicBezTo>
                    <a:pt x="303" y="279"/>
                    <a:pt x="205" y="333"/>
                    <a:pt x="166" y="423"/>
                  </a:cubicBezTo>
                  <a:cubicBezTo>
                    <a:pt x="121" y="528"/>
                    <a:pt x="70" y="629"/>
                    <a:pt x="26" y="734"/>
                  </a:cubicBezTo>
                  <a:cubicBezTo>
                    <a:pt x="8" y="947"/>
                    <a:pt x="0" y="1158"/>
                    <a:pt x="26" y="1373"/>
                  </a:cubicBezTo>
                  <a:cubicBezTo>
                    <a:pt x="37" y="1467"/>
                    <a:pt x="59" y="1562"/>
                    <a:pt x="80" y="1654"/>
                  </a:cubicBezTo>
                  <a:cubicBezTo>
                    <a:pt x="100" y="1740"/>
                    <a:pt x="84" y="1751"/>
                    <a:pt x="111" y="17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06800" y="828720"/>
              <a:ext cx="374760" cy="396720"/>
            </a:xfrm>
            <a:custGeom>
              <a:avLst/>
              <a:gdLst/>
              <a:ahLst/>
              <a:rect l="l" t="t" r="r" b="b"/>
              <a:pathLst>
                <a:path w="236" h="250">
                  <a:moveTo>
                    <a:pt x="203" y="31"/>
                  </a:moveTo>
                  <a:cubicBezTo>
                    <a:pt x="157" y="24"/>
                    <a:pt x="79" y="0"/>
                    <a:pt x="32" y="31"/>
                  </a:cubicBezTo>
                  <a:cubicBezTo>
                    <a:pt x="20" y="39"/>
                    <a:pt x="5" y="116"/>
                    <a:pt x="1" y="133"/>
                  </a:cubicBezTo>
                  <a:cubicBezTo>
                    <a:pt x="4" y="159"/>
                    <a:pt x="0" y="186"/>
                    <a:pt x="9" y="211"/>
                  </a:cubicBezTo>
                  <a:cubicBezTo>
                    <a:pt x="12" y="219"/>
                    <a:pt x="25" y="214"/>
                    <a:pt x="32" y="218"/>
                  </a:cubicBezTo>
                  <a:cubicBezTo>
                    <a:pt x="76" y="240"/>
                    <a:pt x="96" y="243"/>
                    <a:pt x="149" y="250"/>
                  </a:cubicBezTo>
                  <a:cubicBezTo>
                    <a:pt x="236" y="163"/>
                    <a:pt x="211" y="188"/>
                    <a:pt x="203" y="3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97360" y="3303720"/>
              <a:ext cx="407880" cy="498240"/>
            </a:xfrm>
            <a:custGeom>
              <a:avLst/>
              <a:gdLst/>
              <a:ahLst/>
              <a:rect l="l" t="t" r="r" b="b"/>
              <a:pathLst>
                <a:path w="257" h="314">
                  <a:moveTo>
                    <a:pt x="257" y="47"/>
                  </a:moveTo>
                  <a:cubicBezTo>
                    <a:pt x="233" y="23"/>
                    <a:pt x="214" y="18"/>
                    <a:pt x="187" y="0"/>
                  </a:cubicBezTo>
                  <a:cubicBezTo>
                    <a:pt x="164" y="5"/>
                    <a:pt x="139" y="5"/>
                    <a:pt x="117" y="15"/>
                  </a:cubicBezTo>
                  <a:cubicBezTo>
                    <a:pt x="108" y="19"/>
                    <a:pt x="107" y="31"/>
                    <a:pt x="101" y="39"/>
                  </a:cubicBezTo>
                  <a:cubicBezTo>
                    <a:pt x="75" y="76"/>
                    <a:pt x="50" y="115"/>
                    <a:pt x="31" y="156"/>
                  </a:cubicBezTo>
                  <a:cubicBezTo>
                    <a:pt x="23" y="204"/>
                    <a:pt x="0" y="255"/>
                    <a:pt x="23" y="304"/>
                  </a:cubicBezTo>
                  <a:cubicBezTo>
                    <a:pt x="27" y="314"/>
                    <a:pt x="44" y="309"/>
                    <a:pt x="54" y="311"/>
                  </a:cubicBezTo>
                  <a:cubicBezTo>
                    <a:pt x="80" y="309"/>
                    <a:pt x="106" y="308"/>
                    <a:pt x="132" y="304"/>
                  </a:cubicBezTo>
                  <a:cubicBezTo>
                    <a:pt x="180" y="297"/>
                    <a:pt x="197" y="250"/>
                    <a:pt x="233" y="226"/>
                  </a:cubicBezTo>
                  <a:cubicBezTo>
                    <a:pt x="257" y="156"/>
                    <a:pt x="257" y="132"/>
                    <a:pt x="257" y="4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1" dur="indefinite" restart="never" nodeType="tmRoot">
          <p:childTnLst>
            <p:seq>
              <p:cTn id="2572" dur="indefinite" nodeType="mainSeq">
                <p:childTnLst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76760" y="58680"/>
            <a:ext cx="2486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5. THEVENI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0" y="2514600"/>
          <a:ext cx="5172120" cy="21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517212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2819520"/>
            <a:ext cx="2133720" cy="1752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0" y="4722840"/>
            <a:ext cx="6100920" cy="2135160"/>
            <a:chOff x="0" y="4722840"/>
            <a:chExt cx="6100920" cy="2135160"/>
          </a:xfrm>
        </p:grpSpPr>
        <p:graphicFrame>
          <p:nvGraphicFramePr>
            <p:cNvPr id="852" name=""/>
            <p:cNvGraphicFramePr/>
            <p:nvPr/>
          </p:nvGraphicFramePr>
          <p:xfrm>
            <a:off x="76320" y="4722840"/>
            <a:ext cx="6024600" cy="213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4722840"/>
                      <a:ext cx="602460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0" y="4876920"/>
              <a:ext cx="251460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467480" y="393840"/>
                <a:ext cx="711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800600" y="1371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371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730920" y="28954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9" name=""/>
          <p:cNvGraphicFramePr/>
          <p:nvPr/>
        </p:nvGraphicFramePr>
        <p:xfrm>
          <a:off x="5410080" y="3505320"/>
          <a:ext cx="3443400" cy="18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3505320"/>
                    <a:ext cx="34434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238880" y="5410080"/>
                <a:ext cx="1371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2" name=""/>
          <p:cNvGrpSpPr/>
          <p:nvPr/>
        </p:nvGrpSpPr>
        <p:grpSpPr>
          <a:xfrm>
            <a:off x="4559400" y="58680"/>
            <a:ext cx="2870280" cy="932040"/>
            <a:chOff x="4559400" y="58680"/>
            <a:chExt cx="2870280" cy="932040"/>
          </a:xfrm>
        </p:grpSpPr>
        <mc:AlternateContent>
          <mc:Choice xmlns:a14="http://schemas.microsoft.com/office/drawing/2010/main" Requires="a14">
            <p:sp>
              <p:nvSpPr>
                <p:cNvPr id="863" name=""/>
                <p:cNvSpPr txBox="1"/>
                <p:nvPr/>
              </p:nvSpPr>
              <p:spPr>
                <a:xfrm>
                  <a:off x="4559400" y="393840"/>
                  <a:ext cx="2870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4" name=""/>
            <p:cNvSpPr/>
            <p:nvPr/>
          </p:nvSpPr>
          <p:spPr>
            <a:xfrm>
              <a:off x="4602960" y="58680"/>
              <a:ext cx="174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1280" y="4638600"/>
            <a:ext cx="3826080" cy="1603440"/>
            <a:chOff x="71280" y="4638600"/>
            <a:chExt cx="3826080" cy="1603440"/>
          </a:xfrm>
        </p:grpSpPr>
        <p:sp>
          <p:nvSpPr>
            <p:cNvPr id="866" name=""/>
            <p:cNvSpPr/>
            <p:nvPr/>
          </p:nvSpPr>
          <p:spPr>
            <a:xfrm>
              <a:off x="71280" y="4638600"/>
              <a:ext cx="3826080" cy="1603440"/>
            </a:xfrm>
            <a:custGeom>
              <a:avLst/>
              <a:gdLst/>
              <a:ahLst/>
              <a:rect l="l" t="t" r="r" b="b"/>
              <a:pathLst>
                <a:path w="2410" h="1010">
                  <a:moveTo>
                    <a:pt x="1810" y="437"/>
                  </a:moveTo>
                  <a:cubicBezTo>
                    <a:pt x="1812" y="471"/>
                    <a:pt x="1804" y="507"/>
                    <a:pt x="1817" y="538"/>
                  </a:cubicBezTo>
                  <a:cubicBezTo>
                    <a:pt x="1824" y="555"/>
                    <a:pt x="1848" y="559"/>
                    <a:pt x="1864" y="569"/>
                  </a:cubicBezTo>
                  <a:cubicBezTo>
                    <a:pt x="1913" y="602"/>
                    <a:pt x="1978" y="606"/>
                    <a:pt x="2036" y="616"/>
                  </a:cubicBezTo>
                  <a:cubicBezTo>
                    <a:pt x="2124" y="613"/>
                    <a:pt x="2215" y="629"/>
                    <a:pt x="2301" y="608"/>
                  </a:cubicBezTo>
                  <a:cubicBezTo>
                    <a:pt x="2307" y="606"/>
                    <a:pt x="2317" y="509"/>
                    <a:pt x="2340" y="476"/>
                  </a:cubicBezTo>
                  <a:cubicBezTo>
                    <a:pt x="2354" y="427"/>
                    <a:pt x="2368" y="397"/>
                    <a:pt x="2378" y="343"/>
                  </a:cubicBezTo>
                  <a:cubicBezTo>
                    <a:pt x="2385" y="258"/>
                    <a:pt x="2396" y="178"/>
                    <a:pt x="2410" y="94"/>
                  </a:cubicBezTo>
                  <a:cubicBezTo>
                    <a:pt x="2342" y="14"/>
                    <a:pt x="2337" y="11"/>
                    <a:pt x="2230" y="0"/>
                  </a:cubicBezTo>
                  <a:cubicBezTo>
                    <a:pt x="2096" y="6"/>
                    <a:pt x="1985" y="20"/>
                    <a:pt x="1856" y="39"/>
                  </a:cubicBezTo>
                  <a:cubicBezTo>
                    <a:pt x="1805" y="99"/>
                    <a:pt x="1782" y="123"/>
                    <a:pt x="1755" y="195"/>
                  </a:cubicBezTo>
                  <a:cubicBezTo>
                    <a:pt x="1746" y="265"/>
                    <a:pt x="1725" y="327"/>
                    <a:pt x="1716" y="398"/>
                  </a:cubicBezTo>
                  <a:cubicBezTo>
                    <a:pt x="1713" y="419"/>
                    <a:pt x="1720" y="443"/>
                    <a:pt x="1708" y="460"/>
                  </a:cubicBezTo>
                  <a:cubicBezTo>
                    <a:pt x="1684" y="493"/>
                    <a:pt x="1645" y="511"/>
                    <a:pt x="1615" y="538"/>
                  </a:cubicBezTo>
                  <a:cubicBezTo>
                    <a:pt x="1528" y="616"/>
                    <a:pt x="1587" y="590"/>
                    <a:pt x="1506" y="616"/>
                  </a:cubicBezTo>
                  <a:cubicBezTo>
                    <a:pt x="1465" y="655"/>
                    <a:pt x="1423" y="701"/>
                    <a:pt x="1373" y="725"/>
                  </a:cubicBezTo>
                  <a:cubicBezTo>
                    <a:pt x="1235" y="863"/>
                    <a:pt x="1036" y="893"/>
                    <a:pt x="851" y="920"/>
                  </a:cubicBezTo>
                  <a:cubicBezTo>
                    <a:pt x="751" y="935"/>
                    <a:pt x="655" y="962"/>
                    <a:pt x="555" y="975"/>
                  </a:cubicBezTo>
                  <a:cubicBezTo>
                    <a:pt x="486" y="996"/>
                    <a:pt x="417" y="1000"/>
                    <a:pt x="345" y="1006"/>
                  </a:cubicBezTo>
                  <a:cubicBezTo>
                    <a:pt x="246" y="1001"/>
                    <a:pt x="146" y="1010"/>
                    <a:pt x="49" y="990"/>
                  </a:cubicBezTo>
                  <a:cubicBezTo>
                    <a:pt x="33" y="987"/>
                    <a:pt x="38" y="959"/>
                    <a:pt x="33" y="943"/>
                  </a:cubicBezTo>
                  <a:cubicBezTo>
                    <a:pt x="17" y="889"/>
                    <a:pt x="11" y="836"/>
                    <a:pt x="2" y="780"/>
                  </a:cubicBezTo>
                  <a:cubicBezTo>
                    <a:pt x="5" y="744"/>
                    <a:pt x="0" y="706"/>
                    <a:pt x="10" y="671"/>
                  </a:cubicBezTo>
                  <a:cubicBezTo>
                    <a:pt x="20" y="636"/>
                    <a:pt x="103" y="627"/>
                    <a:pt x="126" y="624"/>
                  </a:cubicBezTo>
                  <a:cubicBezTo>
                    <a:pt x="318" y="627"/>
                    <a:pt x="511" y="627"/>
                    <a:pt x="703" y="632"/>
                  </a:cubicBezTo>
                  <a:cubicBezTo>
                    <a:pt x="728" y="633"/>
                    <a:pt x="816" y="653"/>
                    <a:pt x="828" y="655"/>
                  </a:cubicBezTo>
                  <a:cubicBezTo>
                    <a:pt x="929" y="671"/>
                    <a:pt x="1038" y="675"/>
                    <a:pt x="1139" y="694"/>
                  </a:cubicBezTo>
                  <a:cubicBezTo>
                    <a:pt x="1202" y="706"/>
                    <a:pt x="1254" y="733"/>
                    <a:pt x="1319" y="7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2743200" y="5638680"/>
                  <a:ext cx="582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8" name=""/>
          <p:cNvSpPr/>
          <p:nvPr/>
        </p:nvSpPr>
        <p:spPr>
          <a:xfrm>
            <a:off x="6181200" y="6078600"/>
            <a:ext cx="17262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1" dur="indefinite" restart="never" nodeType="tmRoot">
          <p:childTnLst>
            <p:seq>
              <p:cTn id="2592" dur="indefinite" nodeType="mainSeq">
                <p:childTnLst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71800" y="4743360"/>
            <a:ext cx="5486400" cy="2114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533412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971800" y="152280"/>
            <a:ext cx="5486400" cy="2210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760" y="135000"/>
            <a:ext cx="222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43828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756320" y="304920"/>
                <a:ext cx="772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022280" y="2116080"/>
            <a:ext cx="221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45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85800" y="4343400"/>
                <a:ext cx="1460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4648320"/>
                <a:ext cx="1726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050080" y="4325760"/>
            <a:ext cx="289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225 or lags by 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274320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586920" y="1963800"/>
            <a:ext cx="134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s by 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79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80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2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47600" y="954000"/>
            <a:ext cx="4348080" cy="5483160"/>
            <a:chOff x="147600" y="954000"/>
            <a:chExt cx="4348080" cy="5483160"/>
          </a:xfrm>
        </p:grpSpPr>
        <p:sp>
          <p:nvSpPr>
            <p:cNvPr id="884" name=""/>
            <p:cNvSpPr/>
            <p:nvPr/>
          </p:nvSpPr>
          <p:spPr>
            <a:xfrm>
              <a:off x="3951360" y="954000"/>
              <a:ext cx="54432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7600" y="1523880"/>
              <a:ext cx="54468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57600" y="39625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86200" y="32767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43000" y="41148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2280" y="59436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304920" y="2971800"/>
                  <a:ext cx="825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1" name=""/>
            <p:cNvSpPr/>
            <p:nvPr/>
          </p:nvSpPr>
          <p:spPr>
            <a:xfrm>
              <a:off x="291960" y="3276720"/>
              <a:ext cx="1067040" cy="2793960"/>
            </a:xfrm>
            <a:custGeom>
              <a:avLst/>
              <a:gdLst/>
              <a:ahLst/>
              <a:rect l="l" t="t" r="r" b="b"/>
              <a:pathLst>
                <a:path w="672" h="1760">
                  <a:moveTo>
                    <a:pt x="248" y="0"/>
                  </a:moveTo>
                  <a:cubicBezTo>
                    <a:pt x="124" y="752"/>
                    <a:pt x="0" y="1504"/>
                    <a:pt x="56" y="1632"/>
                  </a:cubicBezTo>
                  <a:cubicBezTo>
                    <a:pt x="112" y="1760"/>
                    <a:pt x="496" y="936"/>
                    <a:pt x="584" y="768"/>
                  </a:cubicBezTo>
                  <a:cubicBezTo>
                    <a:pt x="672" y="600"/>
                    <a:pt x="628" y="612"/>
                    <a:pt x="584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114800" y="1386000"/>
              <a:ext cx="347760" cy="1890720"/>
            </a:xfrm>
            <a:custGeom>
              <a:avLst/>
              <a:gdLst/>
              <a:ahLst/>
              <a:rect l="l" t="t" r="r" b="b"/>
              <a:pathLst>
                <a:path w="232" h="358">
                  <a:moveTo>
                    <a:pt x="226" y="0"/>
                  </a:moveTo>
                  <a:cubicBezTo>
                    <a:pt x="224" y="65"/>
                    <a:pt x="232" y="131"/>
                    <a:pt x="219" y="195"/>
                  </a:cubicBezTo>
                  <a:cubicBezTo>
                    <a:pt x="215" y="215"/>
                    <a:pt x="111" y="325"/>
                    <a:pt x="102" y="327"/>
                  </a:cubicBezTo>
                  <a:cubicBezTo>
                    <a:pt x="9" y="344"/>
                    <a:pt x="37" y="323"/>
                    <a:pt x="0" y="35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70280" y="1992240"/>
              <a:ext cx="228600" cy="2090880"/>
            </a:xfrm>
            <a:custGeom>
              <a:avLst/>
              <a:gdLst/>
              <a:ahLst/>
              <a:rect l="l" t="t" r="r" b="b"/>
              <a:pathLst>
                <a:path w="144" h="1317">
                  <a:moveTo>
                    <a:pt x="103" y="0"/>
                  </a:moveTo>
                  <a:cubicBezTo>
                    <a:pt x="118" y="148"/>
                    <a:pt x="109" y="15"/>
                    <a:pt x="103" y="233"/>
                  </a:cubicBezTo>
                  <a:cubicBezTo>
                    <a:pt x="90" y="740"/>
                    <a:pt x="144" y="556"/>
                    <a:pt x="80" y="756"/>
                  </a:cubicBezTo>
                  <a:cubicBezTo>
                    <a:pt x="68" y="848"/>
                    <a:pt x="53" y="946"/>
                    <a:pt x="33" y="1036"/>
                  </a:cubicBezTo>
                  <a:cubicBezTo>
                    <a:pt x="23" y="1080"/>
                    <a:pt x="4" y="1123"/>
                    <a:pt x="2" y="1169"/>
                  </a:cubicBezTo>
                  <a:cubicBezTo>
                    <a:pt x="0" y="1218"/>
                    <a:pt x="2" y="1268"/>
                    <a:pt x="2" y="13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7600" y="2778120"/>
              <a:ext cx="4181400" cy="549360"/>
            </a:xfrm>
            <a:custGeom>
              <a:avLst/>
              <a:gdLst/>
              <a:ahLst/>
              <a:rect l="l" t="t" r="r" b="b"/>
              <a:pathLst>
                <a:path w="2634" h="346">
                  <a:moveTo>
                    <a:pt x="2634" y="120"/>
                  </a:moveTo>
                  <a:cubicBezTo>
                    <a:pt x="2508" y="127"/>
                    <a:pt x="2387" y="138"/>
                    <a:pt x="2260" y="144"/>
                  </a:cubicBezTo>
                  <a:cubicBezTo>
                    <a:pt x="1839" y="141"/>
                    <a:pt x="1419" y="141"/>
                    <a:pt x="998" y="136"/>
                  </a:cubicBezTo>
                  <a:cubicBezTo>
                    <a:pt x="908" y="135"/>
                    <a:pt x="827" y="109"/>
                    <a:pt x="741" y="89"/>
                  </a:cubicBezTo>
                  <a:cubicBezTo>
                    <a:pt x="583" y="52"/>
                    <a:pt x="419" y="20"/>
                    <a:pt x="258" y="3"/>
                  </a:cubicBezTo>
                  <a:cubicBezTo>
                    <a:pt x="188" y="8"/>
                    <a:pt x="115" y="0"/>
                    <a:pt x="47" y="19"/>
                  </a:cubicBezTo>
                  <a:cubicBezTo>
                    <a:pt x="31" y="23"/>
                    <a:pt x="39" y="51"/>
                    <a:pt x="32" y="66"/>
                  </a:cubicBezTo>
                  <a:cubicBezTo>
                    <a:pt x="24" y="85"/>
                    <a:pt x="10" y="101"/>
                    <a:pt x="1" y="120"/>
                  </a:cubicBezTo>
                  <a:cubicBezTo>
                    <a:pt x="3" y="151"/>
                    <a:pt x="0" y="184"/>
                    <a:pt x="8" y="214"/>
                  </a:cubicBezTo>
                  <a:cubicBezTo>
                    <a:pt x="15" y="240"/>
                    <a:pt x="38" y="235"/>
                    <a:pt x="55" y="245"/>
                  </a:cubicBezTo>
                  <a:cubicBezTo>
                    <a:pt x="84" y="262"/>
                    <a:pt x="110" y="287"/>
                    <a:pt x="141" y="300"/>
                  </a:cubicBezTo>
                  <a:cubicBezTo>
                    <a:pt x="160" y="308"/>
                    <a:pt x="182" y="304"/>
                    <a:pt x="203" y="307"/>
                  </a:cubicBezTo>
                  <a:cubicBezTo>
                    <a:pt x="292" y="321"/>
                    <a:pt x="339" y="330"/>
                    <a:pt x="421" y="346"/>
                  </a:cubicBezTo>
                  <a:cubicBezTo>
                    <a:pt x="577" y="341"/>
                    <a:pt x="642" y="337"/>
                    <a:pt x="772" y="315"/>
                  </a:cubicBezTo>
                  <a:cubicBezTo>
                    <a:pt x="784" y="280"/>
                    <a:pt x="799" y="248"/>
                    <a:pt x="811" y="214"/>
                  </a:cubicBezTo>
                  <a:cubicBezTo>
                    <a:pt x="814" y="191"/>
                    <a:pt x="819" y="144"/>
                    <a:pt x="819" y="1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971800" y="6095880"/>
            <a:ext cx="2768760" cy="609840"/>
            <a:chOff x="2971800" y="6095880"/>
            <a:chExt cx="2768760" cy="609840"/>
          </a:xfrm>
        </p:grpSpPr>
        <p:sp>
          <p:nvSpPr>
            <p:cNvPr id="896" name=""/>
            <p:cNvSpPr/>
            <p:nvPr/>
          </p:nvSpPr>
          <p:spPr>
            <a:xfrm flipV="1">
              <a:off x="2971800" y="6248520"/>
              <a:ext cx="160020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4572000" y="6095880"/>
                  <a:ext cx="1168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pedanc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8" name=""/>
          <p:cNvGrpSpPr/>
          <p:nvPr/>
        </p:nvGrpSpPr>
        <p:grpSpPr>
          <a:xfrm>
            <a:off x="0" y="3886200"/>
            <a:ext cx="3402000" cy="2895120"/>
            <a:chOff x="0" y="3886200"/>
            <a:chExt cx="3402000" cy="2895120"/>
          </a:xfrm>
        </p:grpSpPr>
        <p:grpSp>
          <p:nvGrpSpPr>
            <p:cNvPr id="899" name=""/>
            <p:cNvGrpSpPr/>
            <p:nvPr/>
          </p:nvGrpSpPr>
          <p:grpSpPr>
            <a:xfrm>
              <a:off x="2819520" y="3886200"/>
              <a:ext cx="582480" cy="762120"/>
              <a:chOff x="2819520" y="3886200"/>
              <a:chExt cx="582480" cy="762120"/>
            </a:xfrm>
          </p:grpSpPr>
          <mc:AlternateContent>
            <mc:Choice xmlns:a14="http://schemas.microsoft.com/office/drawing/2010/main" Requires="a14">
              <p:sp>
                <p:nvSpPr>
                  <p:cNvPr id="900" name=""/>
                  <p:cNvSpPr txBox="1"/>
                  <p:nvPr/>
                </p:nvSpPr>
                <p:spPr>
                  <a:xfrm>
                    <a:off x="3048120" y="38862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1" name=""/>
              <p:cNvSpPr/>
              <p:nvPr/>
            </p:nvSpPr>
            <p:spPr>
              <a:xfrm flipV="1">
                <a:off x="2819520" y="4114800"/>
                <a:ext cx="22860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6400800"/>
              <a:ext cx="887400" cy="380520"/>
              <a:chOff x="0" y="6400800"/>
              <a:chExt cx="887400" cy="380520"/>
            </a:xfrm>
          </p:grpSpPr>
          <mc:AlternateContent>
            <mc:Choice xmlns:a14="http://schemas.microsoft.com/office/drawing/2010/main" Requires="a14">
              <p:sp>
                <p:nvSpPr>
                  <p:cNvPr id="903" name=""/>
                  <p:cNvSpPr txBox="1"/>
                  <p:nvPr/>
                </p:nvSpPr>
                <p:spPr>
                  <a:xfrm>
                    <a:off x="533520" y="64008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4" name=""/>
              <p:cNvSpPr/>
              <p:nvPr/>
            </p:nvSpPr>
            <p:spPr>
              <a:xfrm flipV="1">
                <a:off x="0" y="6552720"/>
                <a:ext cx="53352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1" dur="indefinite" restart="never" nodeType="tmRoot">
          <p:childTnLst>
            <p:seq>
              <p:cTn id="2672" dur="indefinite" nodeType="mainSeq">
                <p:childTnLst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4114800" y="4444920"/>
          <a:ext cx="48909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444920"/>
                    <a:ext cx="489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98280" y="5868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6. NORTO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0" y="2743200"/>
          <a:ext cx="517212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43200"/>
                    <a:ext cx="517212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4920" y="5613480"/>
                <a:ext cx="29718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PERPOSTION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151200" y="4935600"/>
            <a:ext cx="3620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sible techniques: loops,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ation,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4800600" y="228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28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6400800" y="205740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915080" y="2819520"/>
                <a:ext cx="171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629400" y="281952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0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146480" y="1695600"/>
            <a:ext cx="628560" cy="4341600"/>
          </a:xfrm>
          <a:custGeom>
            <a:avLst/>
            <a:gdLst/>
            <a:ahLst/>
            <a:rect l="l" t="t" r="r" b="b"/>
            <a:pathLst>
              <a:path w="396" h="2735">
                <a:moveTo>
                  <a:pt x="357" y="0"/>
                </a:moveTo>
                <a:cubicBezTo>
                  <a:pt x="257" y="158"/>
                  <a:pt x="160" y="316"/>
                  <a:pt x="76" y="483"/>
                </a:cubicBezTo>
                <a:cubicBezTo>
                  <a:pt x="66" y="618"/>
                  <a:pt x="36" y="752"/>
                  <a:pt x="22" y="888"/>
                </a:cubicBezTo>
                <a:cubicBezTo>
                  <a:pt x="19" y="1288"/>
                  <a:pt x="14" y="1688"/>
                  <a:pt x="14" y="2088"/>
                </a:cubicBezTo>
                <a:cubicBezTo>
                  <a:pt x="14" y="2249"/>
                  <a:pt x="0" y="2412"/>
                  <a:pt x="22" y="2571"/>
                </a:cubicBezTo>
                <a:cubicBezTo>
                  <a:pt x="25" y="2592"/>
                  <a:pt x="84" y="2587"/>
                  <a:pt x="84" y="2587"/>
                </a:cubicBezTo>
                <a:cubicBezTo>
                  <a:pt x="131" y="2632"/>
                  <a:pt x="91" y="2584"/>
                  <a:pt x="115" y="2673"/>
                </a:cubicBezTo>
                <a:cubicBezTo>
                  <a:pt x="122" y="2699"/>
                  <a:pt x="154" y="2716"/>
                  <a:pt x="178" y="2719"/>
                </a:cubicBezTo>
                <a:cubicBezTo>
                  <a:pt x="249" y="2729"/>
                  <a:pt x="325" y="2735"/>
                  <a:pt x="396" y="273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8800" y="6521400"/>
            <a:ext cx="2593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choice of 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152280" y="3200400"/>
          <a:ext cx="397836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00400"/>
                    <a:ext cx="397836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76320" y="533520"/>
          <a:ext cx="3978000" cy="26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33520"/>
                    <a:ext cx="397800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386080" y="76320"/>
                <a:ext cx="531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NODES, LOOPS, THEVENIN, NORT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3484800" y="380880"/>
            <a:ext cx="544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SKIP SUPERPOSITION AND TRANSFORM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3259080"/>
            <a:ext cx="88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4724280" y="914400"/>
                <a:ext cx="382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49840" y="1295280"/>
                <a:ext cx="4089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@ Supernode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2362320"/>
                <a:ext cx="2451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838080" y="4190760"/>
            <a:ext cx="685800" cy="1756080"/>
            <a:chOff x="838080" y="4190760"/>
            <a:chExt cx="685800" cy="1756080"/>
          </a:xfrm>
        </p:grpSpPr>
        <p:sp>
          <p:nvSpPr>
            <p:cNvPr id="937" name=""/>
            <p:cNvSpPr/>
            <p:nvPr/>
          </p:nvSpPr>
          <p:spPr>
            <a:xfrm>
              <a:off x="1068480" y="533700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914400" y="419076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8080" y="518148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724280" y="3429000"/>
                <a:ext cx="2197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 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41" name=""/>
          <p:cNvGrpSpPr/>
          <p:nvPr/>
        </p:nvGrpSpPr>
        <p:grpSpPr>
          <a:xfrm>
            <a:off x="2971440" y="4571640"/>
            <a:ext cx="611640" cy="1527480"/>
            <a:chOff x="2971440" y="4571640"/>
            <a:chExt cx="611640" cy="1527480"/>
          </a:xfrm>
        </p:grpSpPr>
        <p:sp>
          <p:nvSpPr>
            <p:cNvPr id="942" name=""/>
            <p:cNvSpPr/>
            <p:nvPr/>
          </p:nvSpPr>
          <p:spPr>
            <a:xfrm>
              <a:off x="3583080" y="5108400"/>
              <a:ext cx="0" cy="990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2971440" y="5105520"/>
              <a:ext cx="6094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581280" y="4571640"/>
              <a:ext cx="0" cy="6094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4724280" y="4495680"/>
                <a:ext cx="198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010280" y="380988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7" name=""/>
          <p:cNvGrpSpPr/>
          <p:nvPr/>
        </p:nvGrpSpPr>
        <p:grpSpPr>
          <a:xfrm>
            <a:off x="7238880" y="1077840"/>
            <a:ext cx="1762200" cy="3989520"/>
            <a:chOff x="7238880" y="1077840"/>
            <a:chExt cx="1762200" cy="3989520"/>
          </a:xfrm>
        </p:grpSpPr>
        <p:sp>
          <p:nvSpPr>
            <p:cNvPr id="948" name=""/>
            <p:cNvSpPr/>
            <p:nvPr/>
          </p:nvSpPr>
          <p:spPr>
            <a:xfrm>
              <a:off x="8481960" y="1077840"/>
              <a:ext cx="519120" cy="3640320"/>
            </a:xfrm>
            <a:custGeom>
              <a:avLst/>
              <a:gdLst/>
              <a:ahLst/>
              <a:rect l="l" t="t" r="r" b="b"/>
              <a:pathLst>
                <a:path w="327" h="2293">
                  <a:moveTo>
                    <a:pt x="62" y="0"/>
                  </a:moveTo>
                  <a:cubicBezTo>
                    <a:pt x="88" y="5"/>
                    <a:pt x="116" y="5"/>
                    <a:pt x="140" y="16"/>
                  </a:cubicBezTo>
                  <a:cubicBezTo>
                    <a:pt x="216" y="50"/>
                    <a:pt x="249" y="140"/>
                    <a:pt x="296" y="203"/>
                  </a:cubicBezTo>
                  <a:cubicBezTo>
                    <a:pt x="319" y="294"/>
                    <a:pt x="321" y="390"/>
                    <a:pt x="327" y="483"/>
                  </a:cubicBezTo>
                  <a:cubicBezTo>
                    <a:pt x="319" y="944"/>
                    <a:pt x="305" y="1410"/>
                    <a:pt x="265" y="1870"/>
                  </a:cubicBezTo>
                  <a:cubicBezTo>
                    <a:pt x="256" y="1969"/>
                    <a:pt x="252" y="2068"/>
                    <a:pt x="233" y="2166"/>
                  </a:cubicBezTo>
                  <a:cubicBezTo>
                    <a:pt x="227" y="2195"/>
                    <a:pt x="234" y="2235"/>
                    <a:pt x="210" y="2252"/>
                  </a:cubicBezTo>
                  <a:cubicBezTo>
                    <a:pt x="152" y="2293"/>
                    <a:pt x="0" y="2283"/>
                    <a:pt x="0" y="228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9" name=""/>
                <p:cNvSpPr txBox="1"/>
                <p:nvPr/>
              </p:nvSpPr>
              <p:spPr>
                <a:xfrm>
                  <a:off x="7238880" y="4419720"/>
                  <a:ext cx="1206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0" name=""/>
          <p:cNvGrpSpPr/>
          <p:nvPr/>
        </p:nvGrpSpPr>
        <p:grpSpPr>
          <a:xfrm>
            <a:off x="6994440" y="4119480"/>
            <a:ext cx="1768680" cy="1352520"/>
            <a:chOff x="6994440" y="4119480"/>
            <a:chExt cx="1768680" cy="1352520"/>
          </a:xfrm>
        </p:grpSpPr>
        <p:sp>
          <p:nvSpPr>
            <p:cNvPr id="951" name=""/>
            <p:cNvSpPr/>
            <p:nvPr/>
          </p:nvSpPr>
          <p:spPr>
            <a:xfrm>
              <a:off x="6994440" y="4119480"/>
              <a:ext cx="341280" cy="1274760"/>
            </a:xfrm>
            <a:custGeom>
              <a:avLst/>
              <a:gdLst/>
              <a:ahLst/>
              <a:rect l="l" t="t" r="r" b="b"/>
              <a:pathLst>
                <a:path w="215" h="803">
                  <a:moveTo>
                    <a:pt x="28" y="0"/>
                  </a:moveTo>
                  <a:cubicBezTo>
                    <a:pt x="16" y="267"/>
                    <a:pt x="0" y="536"/>
                    <a:pt x="20" y="803"/>
                  </a:cubicBezTo>
                  <a:cubicBezTo>
                    <a:pt x="204" y="795"/>
                    <a:pt x="139" y="795"/>
                    <a:pt x="215" y="795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2" name=""/>
                <p:cNvSpPr txBox="1"/>
                <p:nvPr/>
              </p:nvSpPr>
              <p:spPr>
                <a:xfrm>
                  <a:off x="7315200" y="5181480"/>
                  <a:ext cx="1447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3" name=""/>
          <p:cNvSpPr/>
          <p:nvPr/>
        </p:nvSpPr>
        <p:spPr>
          <a:xfrm>
            <a:off x="4462560" y="2808360"/>
            <a:ext cx="498240" cy="2841480"/>
          </a:xfrm>
          <a:custGeom>
            <a:avLst/>
            <a:gdLst/>
            <a:ahLst/>
            <a:rect l="l" t="t" r="r" b="b"/>
            <a:pathLst>
              <a:path w="314" h="1790">
                <a:moveTo>
                  <a:pt x="158" y="0"/>
                </a:moveTo>
                <a:cubicBezTo>
                  <a:pt x="153" y="31"/>
                  <a:pt x="148" y="63"/>
                  <a:pt x="142" y="94"/>
                </a:cubicBezTo>
                <a:cubicBezTo>
                  <a:pt x="135" y="125"/>
                  <a:pt x="119" y="187"/>
                  <a:pt x="119" y="187"/>
                </a:cubicBezTo>
                <a:cubicBezTo>
                  <a:pt x="111" y="437"/>
                  <a:pt x="107" y="706"/>
                  <a:pt x="49" y="951"/>
                </a:cubicBezTo>
                <a:cubicBezTo>
                  <a:pt x="38" y="1081"/>
                  <a:pt x="27" y="1211"/>
                  <a:pt x="10" y="1340"/>
                </a:cubicBezTo>
                <a:cubicBezTo>
                  <a:pt x="15" y="1483"/>
                  <a:pt x="0" y="1628"/>
                  <a:pt x="25" y="1769"/>
                </a:cubicBezTo>
                <a:cubicBezTo>
                  <a:pt x="29" y="1790"/>
                  <a:pt x="67" y="1774"/>
                  <a:pt x="88" y="1777"/>
                </a:cubicBezTo>
                <a:cubicBezTo>
                  <a:pt x="106" y="1779"/>
                  <a:pt x="124" y="1784"/>
                  <a:pt x="142" y="1785"/>
                </a:cubicBezTo>
                <a:cubicBezTo>
                  <a:pt x="199" y="1787"/>
                  <a:pt x="257" y="1785"/>
                  <a:pt x="314" y="17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794120" y="5500800"/>
                <a:ext cx="430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3676680" y="5867280"/>
                <a:ext cx="550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6" name=""/>
          <p:cNvGrpSpPr/>
          <p:nvPr/>
        </p:nvGrpSpPr>
        <p:grpSpPr>
          <a:xfrm>
            <a:off x="914400" y="3809880"/>
            <a:ext cx="2209680" cy="2210040"/>
            <a:chOff x="914400" y="3809880"/>
            <a:chExt cx="2209680" cy="2210040"/>
          </a:xfrm>
        </p:grpSpPr>
        <p:grpSp>
          <p:nvGrpSpPr>
            <p:cNvPr id="957" name=""/>
            <p:cNvGrpSpPr/>
            <p:nvPr/>
          </p:nvGrpSpPr>
          <p:grpSpPr>
            <a:xfrm>
              <a:off x="914400" y="3809880"/>
              <a:ext cx="2209680" cy="1371600"/>
              <a:chOff x="914400" y="3809880"/>
              <a:chExt cx="2209680" cy="1371600"/>
            </a:xfrm>
          </p:grpSpPr>
          <p:sp>
            <p:nvSpPr>
              <p:cNvPr id="958" name=""/>
              <p:cNvSpPr/>
              <p:nvPr/>
            </p:nvSpPr>
            <p:spPr>
              <a:xfrm>
                <a:off x="2590920" y="38862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286000" y="518148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1218960" y="510552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914400" y="38098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1828800" y="51814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5410080" y="61722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4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9" dur="indefinite" restart="never" nodeType="tmRoot">
          <p:childTnLst>
            <p:seq>
              <p:cTn id="2760" dur="indefinite" nodeType="mainSeq">
                <p:childTnLst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4240" y="58680"/>
            <a:ext cx="178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457200"/>
          <a:ext cx="39783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39783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228600" y="3733920"/>
          <a:ext cx="3978360" cy="26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3392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5867280" y="380880"/>
                <a:ext cx="1092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4524480" y="58680"/>
            <a:ext cx="452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DETERMINED BY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029200" y="1066680"/>
                <a:ext cx="2641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1:  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5029200" y="1752480"/>
                <a:ext cx="30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4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016600" y="2438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5029200" y="281952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ABLE OF INTERES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8" name=""/>
          <p:cNvGrpSpPr/>
          <p:nvPr/>
        </p:nvGrpSpPr>
        <p:grpSpPr>
          <a:xfrm>
            <a:off x="4687920" y="1992240"/>
            <a:ext cx="3452760" cy="1665360"/>
            <a:chOff x="4687920" y="1992240"/>
            <a:chExt cx="3452760" cy="1665360"/>
          </a:xfrm>
        </p:grpSpPr>
        <p:sp>
          <p:nvSpPr>
            <p:cNvPr id="979" name=""/>
            <p:cNvSpPr/>
            <p:nvPr/>
          </p:nvSpPr>
          <p:spPr>
            <a:xfrm>
              <a:off x="4687920" y="1992240"/>
              <a:ext cx="334800" cy="1595520"/>
            </a:xfrm>
            <a:custGeom>
              <a:avLst/>
              <a:gdLst/>
              <a:ahLst/>
              <a:rect l="l" t="t" r="r" b="b"/>
              <a:pathLst>
                <a:path w="211" h="1005">
                  <a:moveTo>
                    <a:pt x="211" y="0"/>
                  </a:moveTo>
                  <a:cubicBezTo>
                    <a:pt x="125" y="60"/>
                    <a:pt x="127" y="50"/>
                    <a:pt x="94" y="140"/>
                  </a:cubicBezTo>
                  <a:cubicBezTo>
                    <a:pt x="73" y="265"/>
                    <a:pt x="50" y="389"/>
                    <a:pt x="32" y="514"/>
                  </a:cubicBezTo>
                  <a:cubicBezTo>
                    <a:pt x="27" y="545"/>
                    <a:pt x="20" y="576"/>
                    <a:pt x="16" y="608"/>
                  </a:cubicBezTo>
                  <a:cubicBezTo>
                    <a:pt x="11" y="649"/>
                    <a:pt x="0" y="732"/>
                    <a:pt x="0" y="732"/>
                  </a:cubicBezTo>
                  <a:cubicBezTo>
                    <a:pt x="21" y="776"/>
                    <a:pt x="43" y="820"/>
                    <a:pt x="63" y="865"/>
                  </a:cubicBezTo>
                  <a:cubicBezTo>
                    <a:pt x="78" y="898"/>
                    <a:pt x="82" y="947"/>
                    <a:pt x="109" y="974"/>
                  </a:cubicBezTo>
                  <a:cubicBezTo>
                    <a:pt x="116" y="981"/>
                    <a:pt x="168" y="998"/>
                    <a:pt x="187" y="1005"/>
                  </a:cubicBezTo>
                  <a:cubicBezTo>
                    <a:pt x="195" y="1000"/>
                    <a:pt x="211" y="989"/>
                    <a:pt x="211" y="9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5105520" y="3367080"/>
                  <a:ext cx="3035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7010280" y="609480"/>
            <a:ext cx="1776600" cy="1814760"/>
            <a:chOff x="7010280" y="609480"/>
            <a:chExt cx="1776600" cy="1814760"/>
          </a:xfrm>
        </p:grpSpPr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7010280" y="609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3" name=""/>
            <p:cNvSpPr/>
            <p:nvPr/>
          </p:nvSpPr>
          <p:spPr>
            <a:xfrm>
              <a:off x="8213760" y="961920"/>
              <a:ext cx="573120" cy="1462320"/>
            </a:xfrm>
            <a:custGeom>
              <a:avLst/>
              <a:gdLst/>
              <a:ahLst/>
              <a:rect l="l" t="t" r="r" b="b"/>
              <a:pathLst>
                <a:path w="361" h="921">
                  <a:moveTo>
                    <a:pt x="351" y="921"/>
                  </a:moveTo>
                  <a:cubicBezTo>
                    <a:pt x="346" y="770"/>
                    <a:pt x="361" y="495"/>
                    <a:pt x="289" y="345"/>
                  </a:cubicBezTo>
                  <a:cubicBezTo>
                    <a:pt x="286" y="324"/>
                    <a:pt x="288" y="302"/>
                    <a:pt x="281" y="282"/>
                  </a:cubicBezTo>
                  <a:cubicBezTo>
                    <a:pt x="277" y="270"/>
                    <a:pt x="262" y="263"/>
                    <a:pt x="257" y="251"/>
                  </a:cubicBezTo>
                  <a:cubicBezTo>
                    <a:pt x="251" y="236"/>
                    <a:pt x="256" y="219"/>
                    <a:pt x="250" y="204"/>
                  </a:cubicBezTo>
                  <a:cubicBezTo>
                    <a:pt x="245" y="192"/>
                    <a:pt x="233" y="184"/>
                    <a:pt x="226" y="173"/>
                  </a:cubicBezTo>
                  <a:cubicBezTo>
                    <a:pt x="177" y="96"/>
                    <a:pt x="133" y="51"/>
                    <a:pt x="47" y="17"/>
                  </a:cubicBezTo>
                  <a:cubicBezTo>
                    <a:pt x="3" y="0"/>
                    <a:pt x="31" y="2"/>
                    <a:pt x="0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952880" y="3809880"/>
                <a:ext cx="3365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8381880" y="3809880"/>
                <a:ext cx="33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6172200" y="457200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321120" y="3106800"/>
            <a:ext cx="3669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 ARE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7" dur="indefinite" restart="never" nodeType="tmRoot">
          <p:childTnLst>
            <p:seq>
              <p:cTn id="2888" dur="indefinite" nodeType="mainSeq">
                <p:childTnLst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150120" y="135000"/>
            <a:ext cx="121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76320" y="3259080"/>
            <a:ext cx="4194000" cy="3003480"/>
            <a:chOff x="76320" y="3259080"/>
            <a:chExt cx="4194000" cy="3003480"/>
          </a:xfrm>
        </p:grpSpPr>
        <p:graphicFrame>
          <p:nvGraphicFramePr>
            <p:cNvPr id="996" name=""/>
            <p:cNvGraphicFramePr/>
            <p:nvPr/>
          </p:nvGraphicFramePr>
          <p:xfrm>
            <a:off x="76320" y="3581280"/>
            <a:ext cx="4194000" cy="26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581280"/>
                      <a:ext cx="419400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135360" y="3259080"/>
              <a:ext cx="306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OPEN 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581280" y="4648320"/>
                <a:ext cx="99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0" name=""/>
          <p:cNvGrpSpPr/>
          <p:nvPr/>
        </p:nvGrpSpPr>
        <p:grpSpPr>
          <a:xfrm>
            <a:off x="1295280" y="5029200"/>
            <a:ext cx="609840" cy="901800"/>
            <a:chOff x="1295280" y="5029200"/>
            <a:chExt cx="609840" cy="901800"/>
          </a:xfrm>
        </p:grpSpPr>
        <mc:AlternateContent>
          <mc:Choice xmlns:a14="http://schemas.microsoft.com/office/drawing/2010/main" Requires="a14">
            <p:sp>
              <p:nvSpPr>
                <p:cNvPr id="1001" name=""/>
                <p:cNvSpPr txBox="1"/>
                <p:nvPr/>
              </p:nvSpPr>
              <p:spPr>
                <a:xfrm>
                  <a:off x="1295280" y="5334120"/>
                  <a:ext cx="52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t xml:space="preserve">8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2" name=""/>
            <p:cNvSpPr/>
            <p:nvPr/>
          </p:nvSpPr>
          <p:spPr>
            <a:xfrm>
              <a:off x="1905120" y="5029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286000" y="5113440"/>
            <a:ext cx="1625760" cy="1425600"/>
            <a:chOff x="2286000" y="5113440"/>
            <a:chExt cx="1625760" cy="1425600"/>
          </a:xfrm>
        </p:grpSpPr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286000" y="6248520"/>
                  <a:ext cx="162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5" name=""/>
            <p:cNvSpPr/>
            <p:nvPr/>
          </p:nvSpPr>
          <p:spPr>
            <a:xfrm>
              <a:off x="2597040" y="5113440"/>
              <a:ext cx="655920" cy="911160"/>
            </a:xfrm>
            <a:custGeom>
              <a:avLst/>
              <a:gdLst/>
              <a:ahLst/>
              <a:rect l="l" t="t" r="r" b="b"/>
              <a:pathLst>
                <a:path w="413" h="574">
                  <a:moveTo>
                    <a:pt x="398" y="13"/>
                  </a:moveTo>
                  <a:cubicBezTo>
                    <a:pt x="273" y="4"/>
                    <a:pt x="175" y="0"/>
                    <a:pt x="47" y="5"/>
                  </a:cubicBezTo>
                  <a:cubicBezTo>
                    <a:pt x="21" y="14"/>
                    <a:pt x="24" y="5"/>
                    <a:pt x="24" y="21"/>
                  </a:cubicBezTo>
                  <a:cubicBezTo>
                    <a:pt x="13" y="205"/>
                    <a:pt x="0" y="389"/>
                    <a:pt x="0" y="574"/>
                  </a:cubicBezTo>
                  <a:cubicBezTo>
                    <a:pt x="99" y="569"/>
                    <a:pt x="198" y="566"/>
                    <a:pt x="297" y="559"/>
                  </a:cubicBezTo>
                  <a:cubicBezTo>
                    <a:pt x="336" y="556"/>
                    <a:pt x="372" y="543"/>
                    <a:pt x="413" y="5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6" name=""/>
          <p:cNvGraphicFramePr/>
          <p:nvPr/>
        </p:nvGraphicFramePr>
        <p:xfrm>
          <a:off x="4724280" y="1066680"/>
          <a:ext cx="4029120" cy="263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066680"/>
                    <a:ext cx="402912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8" name=""/>
          <p:cNvSpPr/>
          <p:nvPr/>
        </p:nvSpPr>
        <p:spPr>
          <a:xfrm>
            <a:off x="4325760" y="0"/>
            <a:ext cx="4624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procedure to comput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Set to zero al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238880" y="1143000"/>
                <a:ext cx="1219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} } {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0" name=""/>
          <p:cNvGrpSpPr/>
          <p:nvPr/>
        </p:nvGrpSpPr>
        <p:grpSpPr>
          <a:xfrm>
            <a:off x="6248520" y="2590920"/>
            <a:ext cx="304560" cy="914400"/>
            <a:chOff x="6248520" y="2590920"/>
            <a:chExt cx="304560" cy="914400"/>
          </a:xfrm>
        </p:grpSpPr>
        <p:sp>
          <p:nvSpPr>
            <p:cNvPr id="1011" name=""/>
            <p:cNvSpPr/>
            <p:nvPr/>
          </p:nvSpPr>
          <p:spPr>
            <a:xfrm>
              <a:off x="6553080" y="259092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6248520" y="3164040"/>
                  <a:ext cx="252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"/>
          <p:cNvGrpSpPr/>
          <p:nvPr/>
        </p:nvGrpSpPr>
        <p:grpSpPr>
          <a:xfrm>
            <a:off x="6691320" y="2616120"/>
            <a:ext cx="1203480" cy="822240"/>
            <a:chOff x="6691320" y="2616120"/>
            <a:chExt cx="1203480" cy="822240"/>
          </a:xfrm>
        </p:grpSpPr>
        <p:sp>
          <p:nvSpPr>
            <p:cNvPr id="1014" name=""/>
            <p:cNvSpPr/>
            <p:nvPr/>
          </p:nvSpPr>
          <p:spPr>
            <a:xfrm>
              <a:off x="6691320" y="2616120"/>
              <a:ext cx="1203480" cy="822240"/>
            </a:xfrm>
            <a:custGeom>
              <a:avLst/>
              <a:gdLst/>
              <a:ahLst/>
              <a:rect l="l" t="t" r="r" b="b"/>
              <a:pathLst>
                <a:path w="758" h="518">
                  <a:moveTo>
                    <a:pt x="757" y="425"/>
                  </a:moveTo>
                  <a:cubicBezTo>
                    <a:pt x="752" y="350"/>
                    <a:pt x="758" y="287"/>
                    <a:pt x="725" y="222"/>
                  </a:cubicBezTo>
                  <a:cubicBezTo>
                    <a:pt x="720" y="192"/>
                    <a:pt x="684" y="56"/>
                    <a:pt x="671" y="51"/>
                  </a:cubicBezTo>
                  <a:cubicBezTo>
                    <a:pt x="541" y="0"/>
                    <a:pt x="200" y="21"/>
                    <a:pt x="164" y="20"/>
                  </a:cubicBezTo>
                  <a:cubicBezTo>
                    <a:pt x="0" y="39"/>
                    <a:pt x="66" y="22"/>
                    <a:pt x="79" y="285"/>
                  </a:cubicBezTo>
                  <a:cubicBezTo>
                    <a:pt x="80" y="302"/>
                    <a:pt x="99" y="433"/>
                    <a:pt x="110" y="441"/>
                  </a:cubicBezTo>
                  <a:cubicBezTo>
                    <a:pt x="133" y="457"/>
                    <a:pt x="196" y="460"/>
                    <a:pt x="219" y="464"/>
                  </a:cubicBezTo>
                  <a:cubicBezTo>
                    <a:pt x="364" y="489"/>
                    <a:pt x="488" y="498"/>
                    <a:pt x="640" y="503"/>
                  </a:cubicBezTo>
                  <a:cubicBezTo>
                    <a:pt x="679" y="517"/>
                    <a:pt x="716" y="518"/>
                    <a:pt x="757" y="5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65160" y="299088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5327640" y="3733920"/>
                <a:ext cx="3213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 ital </m:t>
                        </m:r>
                        <m:r>
                          <m:t xml:space="preserve">jI</m:t>
                        </m:r>
                        <m:r>
                          <m:rPr>
                            <m:lit/>
                            <m:nor/>
                          </m:rPr>
                          <m:t xml:space="preserve"> rSub { size 8{x} }  rSup { size 8{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7" name=""/>
          <p:cNvGrpSpPr/>
          <p:nvPr/>
        </p:nvGrpSpPr>
        <p:grpSpPr>
          <a:xfrm>
            <a:off x="4648320" y="4114800"/>
            <a:ext cx="4419360" cy="1622520"/>
            <a:chOff x="4648320" y="4114800"/>
            <a:chExt cx="4419360" cy="1622520"/>
          </a:xfrm>
        </p:grpSpPr>
        <p:graphicFrame>
          <p:nvGraphicFramePr>
            <p:cNvPr id="1018" name=""/>
            <p:cNvGraphicFramePr/>
            <p:nvPr/>
          </p:nvGraphicFramePr>
          <p:xfrm>
            <a:off x="4648320" y="4343400"/>
            <a:ext cx="4419360" cy="13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4343400"/>
                      <a:ext cx="4419360" cy="13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791320" y="4114800"/>
              <a:ext cx="167616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6095880" y="495288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5029200" y="5791320"/>
                <a:ext cx="212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3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3" dur="indefinite" restart="never" nodeType="tmRoot">
          <p:childTnLst>
            <p:seq>
              <p:cTn id="2974" dur="indefinite" nodeType="mainSeq">
                <p:childTnLst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5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48320" y="135000"/>
            <a:ext cx="10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52280" y="3505320"/>
          <a:ext cx="4232520" cy="32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05320"/>
                    <a:ext cx="423252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2" name=""/>
          <p:cNvGrpSpPr/>
          <p:nvPr/>
        </p:nvGrpSpPr>
        <p:grpSpPr>
          <a:xfrm>
            <a:off x="2514600" y="1828800"/>
            <a:ext cx="749160" cy="1509840"/>
            <a:chOff x="2514600" y="1828800"/>
            <a:chExt cx="749160" cy="1509840"/>
          </a:xfrm>
        </p:grpSpPr>
        <p:sp>
          <p:nvSpPr>
            <p:cNvPr id="1033" name=""/>
            <p:cNvSpPr/>
            <p:nvPr/>
          </p:nvSpPr>
          <p:spPr>
            <a:xfrm>
              <a:off x="2514600" y="1828800"/>
              <a:ext cx="609480" cy="1219320"/>
            </a:xfrm>
            <a:custGeom>
              <a:avLst/>
              <a:gdLst/>
              <a:ahLst/>
              <a:rect l="l" t="t" r="r" b="b"/>
              <a:pathLst>
                <a:path w="384" h="768">
                  <a:moveTo>
                    <a:pt x="384" y="0"/>
                  </a:moveTo>
                  <a:cubicBezTo>
                    <a:pt x="192" y="80"/>
                    <a:pt x="0" y="160"/>
                    <a:pt x="0" y="288"/>
                  </a:cubicBezTo>
                  <a:cubicBezTo>
                    <a:pt x="0" y="416"/>
                    <a:pt x="192" y="592"/>
                    <a:pt x="384" y="7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2895480" y="304812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505320" y="6019920"/>
                <a:ext cx="1155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505320" y="495288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690640" y="6521400"/>
            <a:ext cx="1311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4572000" y="763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node constrain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9" name=""/>
          <p:cNvGrpSpPr/>
          <p:nvPr/>
        </p:nvGrpSpPr>
        <p:grpSpPr>
          <a:xfrm>
            <a:off x="1066320" y="4114800"/>
            <a:ext cx="2210400" cy="2057400"/>
            <a:chOff x="1066320" y="4114800"/>
            <a:chExt cx="2210400" cy="2057400"/>
          </a:xfrm>
        </p:grpSpPr>
        <p:sp>
          <p:nvSpPr>
            <p:cNvPr id="1040" name=""/>
            <p:cNvSpPr/>
            <p:nvPr/>
          </p:nvSpPr>
          <p:spPr>
            <a:xfrm>
              <a:off x="1981080" y="53341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38280" y="54864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4114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066320" y="411480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1218960" y="49528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572000" y="762120"/>
                <a:ext cx="3492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 Supernod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4572000" y="1828800"/>
                <a:ext cx="3746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990720" y="4723920"/>
            <a:ext cx="457200" cy="1296000"/>
            <a:chOff x="990720" y="4723920"/>
            <a:chExt cx="457200" cy="1296000"/>
          </a:xfrm>
        </p:grpSpPr>
        <p:sp>
          <p:nvSpPr>
            <p:cNvPr id="1048" name=""/>
            <p:cNvSpPr/>
            <p:nvPr/>
          </p:nvSpPr>
          <p:spPr>
            <a:xfrm>
              <a:off x="1141560" y="54100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52578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990720" y="4723920"/>
              <a:ext cx="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4572000" y="2438280"/>
                <a:ext cx="290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6629400" y="3808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3" name=""/>
          <p:cNvGrpSpPr/>
          <p:nvPr/>
        </p:nvGrpSpPr>
        <p:grpSpPr>
          <a:xfrm>
            <a:off x="8077320" y="1981080"/>
            <a:ext cx="914400" cy="1676520"/>
            <a:chOff x="8077320" y="1981080"/>
            <a:chExt cx="914400" cy="1676520"/>
          </a:xfrm>
        </p:grpSpPr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8319960" y="1981080"/>
                  <a:ext cx="6717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5" name=""/>
            <p:cNvSpPr/>
            <p:nvPr/>
          </p:nvSpPr>
          <p:spPr>
            <a:xfrm>
              <a:off x="8077320" y="2057400"/>
              <a:ext cx="761760" cy="160020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448" y="360"/>
                    <a:pt x="416" y="720"/>
                    <a:pt x="336" y="864"/>
                  </a:cubicBezTo>
                  <a:cubicBezTo>
                    <a:pt x="256" y="1008"/>
                    <a:pt x="128" y="936"/>
                    <a:pt x="0" y="8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4730760" y="3276720"/>
                <a:ext cx="337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4952880" y="35812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8" name=""/>
          <p:cNvGrpSpPr/>
          <p:nvPr/>
        </p:nvGrpSpPr>
        <p:grpSpPr>
          <a:xfrm>
            <a:off x="8153280" y="1219320"/>
            <a:ext cx="900360" cy="3011400"/>
            <a:chOff x="8153280" y="1219320"/>
            <a:chExt cx="900360" cy="3011400"/>
          </a:xfrm>
        </p:grpSpPr>
        <p:sp>
          <p:nvSpPr>
            <p:cNvPr id="1059" name=""/>
            <p:cNvSpPr/>
            <p:nvPr/>
          </p:nvSpPr>
          <p:spPr>
            <a:xfrm>
              <a:off x="8497800" y="1298520"/>
              <a:ext cx="555840" cy="2932200"/>
            </a:xfrm>
            <a:custGeom>
              <a:avLst/>
              <a:gdLst/>
              <a:ahLst/>
              <a:rect l="l" t="t" r="r" b="b"/>
              <a:pathLst>
                <a:path w="350" h="1847">
                  <a:moveTo>
                    <a:pt x="0" y="24"/>
                  </a:moveTo>
                  <a:cubicBezTo>
                    <a:pt x="113" y="15"/>
                    <a:pt x="230" y="0"/>
                    <a:pt x="343" y="0"/>
                  </a:cubicBezTo>
                  <a:cubicBezTo>
                    <a:pt x="350" y="427"/>
                    <a:pt x="345" y="851"/>
                    <a:pt x="328" y="1278"/>
                  </a:cubicBezTo>
                  <a:cubicBezTo>
                    <a:pt x="325" y="1452"/>
                    <a:pt x="330" y="1626"/>
                    <a:pt x="320" y="1800"/>
                  </a:cubicBezTo>
                  <a:cubicBezTo>
                    <a:pt x="318" y="1831"/>
                    <a:pt x="156" y="1847"/>
                    <a:pt x="141" y="184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8153280" y="1219320"/>
                  <a:ext cx="38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4876920" y="3886200"/>
                <a:ext cx="379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4629240" y="3649680"/>
            <a:ext cx="2685960" cy="1519200"/>
            <a:chOff x="4629240" y="3649680"/>
            <a:chExt cx="2685960" cy="1519200"/>
          </a:xfrm>
        </p:grpSpPr>
        <p:sp>
          <p:nvSpPr>
            <p:cNvPr id="1063" name=""/>
            <p:cNvSpPr/>
            <p:nvPr/>
          </p:nvSpPr>
          <p:spPr>
            <a:xfrm>
              <a:off x="4629240" y="3649680"/>
              <a:ext cx="355680" cy="1274760"/>
            </a:xfrm>
            <a:custGeom>
              <a:avLst/>
              <a:gdLst/>
              <a:ahLst/>
              <a:rect l="l" t="t" r="r" b="b"/>
              <a:pathLst>
                <a:path w="224" h="803">
                  <a:moveTo>
                    <a:pt x="217" y="0"/>
                  </a:moveTo>
                  <a:cubicBezTo>
                    <a:pt x="59" y="48"/>
                    <a:pt x="58" y="15"/>
                    <a:pt x="37" y="140"/>
                  </a:cubicBezTo>
                  <a:cubicBezTo>
                    <a:pt x="31" y="243"/>
                    <a:pt x="20" y="325"/>
                    <a:pt x="14" y="429"/>
                  </a:cubicBezTo>
                  <a:cubicBezTo>
                    <a:pt x="42" y="457"/>
                    <a:pt x="55" y="457"/>
                    <a:pt x="92" y="468"/>
                  </a:cubicBezTo>
                  <a:cubicBezTo>
                    <a:pt x="108" y="473"/>
                    <a:pt x="139" y="483"/>
                    <a:pt x="139" y="483"/>
                  </a:cubicBezTo>
                  <a:cubicBezTo>
                    <a:pt x="83" y="502"/>
                    <a:pt x="106" y="490"/>
                    <a:pt x="69" y="514"/>
                  </a:cubicBezTo>
                  <a:cubicBezTo>
                    <a:pt x="64" y="522"/>
                    <a:pt x="53" y="528"/>
                    <a:pt x="53" y="538"/>
                  </a:cubicBezTo>
                  <a:cubicBezTo>
                    <a:pt x="45" y="782"/>
                    <a:pt x="0" y="769"/>
                    <a:pt x="154" y="787"/>
                  </a:cubicBezTo>
                  <a:cubicBezTo>
                    <a:pt x="177" y="795"/>
                    <a:pt x="224" y="803"/>
                    <a:pt x="224" y="80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4876920" y="4572000"/>
                  <a:ext cx="2438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j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7315200" y="4572000"/>
                <a:ext cx="161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5638680" y="5257800"/>
                <a:ext cx="2527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5362560" y="5867280"/>
            <a:ext cx="314640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we can draw the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3" dur="indefinite" restart="never" nodeType="tmRoot">
          <p:childTnLst>
            <p:seq>
              <p:cTn id="3054" dur="indefinite" nodeType="mainSeq">
                <p:childTnLst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1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9" fill="hold">
                      <p:stCondLst>
                        <p:cond delay="indefinite"/>
                      </p:stCondLst>
                      <p:childTnLst>
                        <p:par>
                          <p:cTn id="3110" fill="hold">
                            <p:stCondLst>
                              <p:cond delay="0"/>
                            </p:stCondLst>
                            <p:childTnLst>
                              <p:par>
                                <p:cTn id="3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3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fill="hold">
                      <p:stCondLst>
                        <p:cond delay="indefinite"/>
                      </p:stCondLst>
                      <p:childTnLst>
                        <p:par>
                          <p:cTn id="3152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5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1" name=""/>
          <p:cNvGraphicFramePr/>
          <p:nvPr/>
        </p:nvGraphicFramePr>
        <p:xfrm>
          <a:off x="152280" y="380880"/>
          <a:ext cx="546588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546588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2287440" y="684360"/>
            <a:ext cx="1219320" cy="19810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2819520" y="1600200"/>
                <a:ext cx="43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457200" y="2057400"/>
                <a:ext cx="368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990720" y="3200400"/>
            <a:ext cx="5115960" cy="647640"/>
            <a:chOff x="990720" y="3200400"/>
            <a:chExt cx="5115960" cy="647640"/>
          </a:xfrm>
        </p:grpSpPr>
        <mc:AlternateContent>
          <mc:Choice xmlns:a14="http://schemas.microsoft.com/office/drawing/2010/main" Requires="a14">
            <p:sp>
              <p:nvSpPr>
                <p:cNvPr id="1077" name=""/>
                <p:cNvSpPr txBox="1"/>
                <p:nvPr/>
              </p:nvSpPr>
              <p:spPr>
                <a:xfrm>
                  <a:off x="990720" y="3200400"/>
                  <a:ext cx="3238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8" name=""/>
            <p:cNvSpPr/>
            <p:nvPr/>
          </p:nvSpPr>
          <p:spPr>
            <a:xfrm>
              <a:off x="4356360" y="3352680"/>
              <a:ext cx="17503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4800600" y="5334120"/>
            <a:ext cx="383760" cy="993600"/>
            <a:chOff x="4800600" y="5334120"/>
            <a:chExt cx="383760" cy="993600"/>
          </a:xfrm>
        </p:grpSpPr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4854240" y="5334120"/>
                  <a:ext cx="330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81" name=""/>
            <p:cNvSpPr/>
            <p:nvPr/>
          </p:nvSpPr>
          <p:spPr>
            <a:xfrm>
              <a:off x="4800600" y="5956560"/>
              <a:ext cx="280800" cy="371160"/>
            </a:xfrm>
            <a:custGeom>
              <a:avLst/>
              <a:gdLst/>
              <a:ahLst/>
              <a:rect l="l" t="t" r="r" b="b"/>
              <a:pathLst>
                <a:path w="177" h="234">
                  <a:moveTo>
                    <a:pt x="163" y="0"/>
                  </a:moveTo>
                  <a:cubicBezTo>
                    <a:pt x="177" y="124"/>
                    <a:pt x="171" y="131"/>
                    <a:pt x="86" y="226"/>
                  </a:cubicBezTo>
                  <a:cubicBezTo>
                    <a:pt x="79" y="234"/>
                    <a:pt x="17" y="233"/>
                    <a:pt x="0" y="2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4952880" y="464832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3" name=""/>
          <p:cNvGrpSpPr/>
          <p:nvPr/>
        </p:nvGrpSpPr>
        <p:grpSpPr>
          <a:xfrm>
            <a:off x="185400" y="4114800"/>
            <a:ext cx="4704120" cy="2502000"/>
            <a:chOff x="185400" y="4114800"/>
            <a:chExt cx="4704120" cy="2502000"/>
          </a:xfrm>
        </p:grpSpPr>
        <p:grpSp>
          <p:nvGrpSpPr>
            <p:cNvPr id="1084" name=""/>
            <p:cNvGrpSpPr/>
            <p:nvPr/>
          </p:nvGrpSpPr>
          <p:grpSpPr>
            <a:xfrm>
              <a:off x="185400" y="4648320"/>
              <a:ext cx="4704120" cy="1968480"/>
              <a:chOff x="185400" y="4648320"/>
              <a:chExt cx="4704120" cy="1968480"/>
            </a:xfrm>
          </p:grpSpPr>
          <mc:AlternateContent>
            <mc:Choice xmlns:a14="http://schemas.microsoft.com/office/drawing/2010/main" Requires="a14">
              <p:sp>
                <p:nvSpPr>
                  <p:cNvPr id="1085" name=""/>
                  <p:cNvSpPr txBox="1"/>
                  <p:nvPr/>
                </p:nvSpPr>
                <p:spPr>
                  <a:xfrm>
                    <a:off x="3581280" y="4648320"/>
                    <a:ext cx="130824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6" name=""/>
                  <p:cNvSpPr txBox="1"/>
                  <p:nvPr/>
                </p:nvSpPr>
                <p:spPr>
                  <a:xfrm>
                    <a:off x="3581280" y="6019920"/>
                    <a:ext cx="120636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7" name=""/>
                  <p:cNvSpPr txBox="1"/>
                  <p:nvPr/>
                </p:nvSpPr>
                <p:spPr>
                  <a:xfrm>
                    <a:off x="3581280" y="5346720"/>
                    <a:ext cx="121932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8" name=""/>
              <p:cNvSpPr/>
              <p:nvPr/>
            </p:nvSpPr>
            <p:spPr>
              <a:xfrm>
                <a:off x="185400" y="4724280"/>
                <a:ext cx="253080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rton’s metho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95120" y="5486400"/>
                <a:ext cx="189072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Thevenin’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09160" y="6095880"/>
                <a:ext cx="327888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de and Loop metho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279360" y="4114800"/>
              <a:ext cx="31478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CE OF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45320" y="44280"/>
            <a:ext cx="3457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’S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7" dur="indefinite" restart="never" nodeType="tmRoot">
          <p:childTnLst>
            <p:seq>
              <p:cTn id="3188" dur="indefinite" nodeType="mainSeq">
                <p:childTnLst>
                  <p:par>
                    <p:cTn id="3189" fill="hold">
                      <p:stCondLst>
                        <p:cond delay="indefinite"/>
                      </p:stCondLst>
                      <p:childTnLst>
                        <p:par>
                          <p:cTn id="3190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1" fill="hold">
                      <p:stCondLst>
                        <p:cond delay="indefinite"/>
                      </p:stCondLst>
                      <p:childTnLst>
                        <p:par>
                          <p:cTn id="3202" fill="hold">
                            <p:stCondLst>
                              <p:cond delay="0"/>
                            </p:stCondLst>
                            <p:childTnLst>
                              <p:par>
                                <p:cTn id="3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5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7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4400640" cy="13622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115920" y="457200"/>
            <a:ext cx="238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AL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819520" y="9036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00" name=""/>
          <p:cNvGrpSpPr/>
          <p:nvPr/>
        </p:nvGrpSpPr>
        <p:grpSpPr>
          <a:xfrm>
            <a:off x="2133720" y="762120"/>
            <a:ext cx="457200" cy="380880"/>
            <a:chOff x="2133720" y="762120"/>
            <a:chExt cx="457200" cy="380880"/>
          </a:xfrm>
        </p:grpSpPr>
        <p:sp>
          <p:nvSpPr>
            <p:cNvPr id="1101" name=""/>
            <p:cNvSpPr/>
            <p:nvPr/>
          </p:nvSpPr>
          <p:spPr>
            <a:xfrm>
              <a:off x="2133720" y="1066680"/>
              <a:ext cx="457200" cy="763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2" name=""/>
                <p:cNvSpPr txBox="1"/>
                <p:nvPr/>
              </p:nvSpPr>
              <p:spPr>
                <a:xfrm>
                  <a:off x="2362320" y="7621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457200" y="220968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4" name=""/>
          <p:cNvGrpSpPr/>
          <p:nvPr/>
        </p:nvGrpSpPr>
        <p:grpSpPr>
          <a:xfrm>
            <a:off x="1371600" y="1219320"/>
            <a:ext cx="1828800" cy="380880"/>
            <a:chOff x="1371600" y="1219320"/>
            <a:chExt cx="1828800" cy="380880"/>
          </a:xfrm>
        </p:grpSpPr>
        <p:sp>
          <p:nvSpPr>
            <p:cNvPr id="1105" name=""/>
            <p:cNvSpPr/>
            <p:nvPr/>
          </p:nvSpPr>
          <p:spPr>
            <a:xfrm flipH="1">
              <a:off x="1371600" y="12193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05120" y="12193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90920" y="12952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3352320" y="1219320"/>
            <a:ext cx="532440" cy="382320"/>
            <a:chOff x="3352320" y="1219320"/>
            <a:chExt cx="532440" cy="382320"/>
          </a:xfrm>
        </p:grpSpPr>
        <p:sp>
          <p:nvSpPr>
            <p:cNvPr id="1110" name=""/>
            <p:cNvSpPr/>
            <p:nvPr/>
          </p:nvSpPr>
          <p:spPr>
            <a:xfrm>
              <a:off x="3884760" y="1297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352320" y="12193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33520" y="290844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2057400" y="3048120"/>
                <a:ext cx="1486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68280" y="3581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5" name=""/>
          <p:cNvGrpSpPr/>
          <p:nvPr/>
        </p:nvGrpSpPr>
        <p:grpSpPr>
          <a:xfrm>
            <a:off x="3733920" y="2362320"/>
            <a:ext cx="507960" cy="1253880"/>
            <a:chOff x="3733920" y="2362320"/>
            <a:chExt cx="507960" cy="1253880"/>
          </a:xfrm>
        </p:grpSpPr>
        <mc:AlternateContent>
          <mc:Choice xmlns:a14="http://schemas.microsoft.com/office/drawing/2010/main" Requires="a14">
            <p:sp>
              <p:nvSpPr>
                <p:cNvPr id="1116" name=""/>
                <p:cNvSpPr txBox="1"/>
                <p:nvPr/>
              </p:nvSpPr>
              <p:spPr>
                <a:xfrm>
                  <a:off x="3733920" y="236232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"/>
            <p:cNvSpPr/>
            <p:nvPr/>
          </p:nvSpPr>
          <p:spPr>
            <a:xfrm>
              <a:off x="3921120" y="2635200"/>
              <a:ext cx="125280" cy="981000"/>
            </a:xfrm>
            <a:custGeom>
              <a:avLst/>
              <a:gdLst/>
              <a:ahLst/>
              <a:rect l="l" t="t" r="r" b="b"/>
              <a:pathLst>
                <a:path w="79" h="618">
                  <a:moveTo>
                    <a:pt x="78" y="0"/>
                  </a:moveTo>
                  <a:cubicBezTo>
                    <a:pt x="61" y="167"/>
                    <a:pt x="79" y="338"/>
                    <a:pt x="70" y="506"/>
                  </a:cubicBezTo>
                  <a:cubicBezTo>
                    <a:pt x="69" y="518"/>
                    <a:pt x="52" y="581"/>
                    <a:pt x="47" y="584"/>
                  </a:cubicBezTo>
                  <a:cubicBezTo>
                    <a:pt x="24" y="600"/>
                    <a:pt x="0" y="618"/>
                    <a:pt x="0" y="608"/>
                  </a:cubicBezTo>
                  <a:cubicBezTo>
                    <a:pt x="0" y="598"/>
                    <a:pt x="24" y="592"/>
                    <a:pt x="24" y="59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330120" y="3962520"/>
                <a:ext cx="370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4920" y="42670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380880" y="45720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1676520" y="4572000"/>
                <a:ext cx="2577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2" name=""/>
          <p:cNvSpPr/>
          <p:nvPr/>
        </p:nvSpPr>
        <p:spPr>
          <a:xfrm>
            <a:off x="4808880" y="135000"/>
            <a:ext cx="164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93960" y="482760"/>
            <a:ext cx="2006640" cy="1731960"/>
          </a:xfrm>
          <a:custGeom>
            <a:avLst/>
            <a:gdLst/>
            <a:ahLst/>
            <a:rect l="l" t="t" r="r" b="b"/>
            <a:pathLst>
              <a:path w="1264" h="1091">
                <a:moveTo>
                  <a:pt x="1182" y="475"/>
                </a:moveTo>
                <a:cubicBezTo>
                  <a:pt x="1179" y="441"/>
                  <a:pt x="1185" y="406"/>
                  <a:pt x="1174" y="374"/>
                </a:cubicBezTo>
                <a:cubicBezTo>
                  <a:pt x="1164" y="347"/>
                  <a:pt x="1102" y="270"/>
                  <a:pt x="1080" y="234"/>
                </a:cubicBezTo>
                <a:cubicBezTo>
                  <a:pt x="1075" y="226"/>
                  <a:pt x="1072" y="216"/>
                  <a:pt x="1065" y="210"/>
                </a:cubicBezTo>
                <a:cubicBezTo>
                  <a:pt x="916" y="95"/>
                  <a:pt x="624" y="51"/>
                  <a:pt x="442" y="39"/>
                </a:cubicBezTo>
                <a:cubicBezTo>
                  <a:pt x="240" y="44"/>
                  <a:pt x="193" y="0"/>
                  <a:pt x="75" y="78"/>
                </a:cubicBezTo>
                <a:cubicBezTo>
                  <a:pt x="72" y="88"/>
                  <a:pt x="70" y="99"/>
                  <a:pt x="67" y="109"/>
                </a:cubicBezTo>
                <a:cubicBezTo>
                  <a:pt x="62" y="125"/>
                  <a:pt x="52" y="156"/>
                  <a:pt x="52" y="156"/>
                </a:cubicBezTo>
                <a:cubicBezTo>
                  <a:pt x="43" y="257"/>
                  <a:pt x="30" y="347"/>
                  <a:pt x="5" y="444"/>
                </a:cubicBezTo>
                <a:cubicBezTo>
                  <a:pt x="8" y="475"/>
                  <a:pt x="0" y="509"/>
                  <a:pt x="13" y="538"/>
                </a:cubicBezTo>
                <a:cubicBezTo>
                  <a:pt x="21" y="555"/>
                  <a:pt x="43" y="561"/>
                  <a:pt x="60" y="569"/>
                </a:cubicBezTo>
                <a:cubicBezTo>
                  <a:pt x="110" y="593"/>
                  <a:pt x="162" y="607"/>
                  <a:pt x="216" y="623"/>
                </a:cubicBezTo>
                <a:cubicBezTo>
                  <a:pt x="238" y="699"/>
                  <a:pt x="249" y="771"/>
                  <a:pt x="262" y="849"/>
                </a:cubicBezTo>
                <a:cubicBezTo>
                  <a:pt x="266" y="873"/>
                  <a:pt x="270" y="929"/>
                  <a:pt x="293" y="943"/>
                </a:cubicBezTo>
                <a:cubicBezTo>
                  <a:pt x="329" y="964"/>
                  <a:pt x="364" y="967"/>
                  <a:pt x="403" y="974"/>
                </a:cubicBezTo>
                <a:cubicBezTo>
                  <a:pt x="446" y="989"/>
                  <a:pt x="490" y="992"/>
                  <a:pt x="535" y="997"/>
                </a:cubicBezTo>
                <a:cubicBezTo>
                  <a:pt x="592" y="1012"/>
                  <a:pt x="648" y="1019"/>
                  <a:pt x="706" y="1029"/>
                </a:cubicBezTo>
                <a:cubicBezTo>
                  <a:pt x="796" y="1071"/>
                  <a:pt x="905" y="1079"/>
                  <a:pt x="1003" y="1091"/>
                </a:cubicBezTo>
                <a:cubicBezTo>
                  <a:pt x="1044" y="1086"/>
                  <a:pt x="1086" y="1081"/>
                  <a:pt x="1127" y="1075"/>
                </a:cubicBezTo>
                <a:cubicBezTo>
                  <a:pt x="1143" y="1073"/>
                  <a:pt x="1163" y="1079"/>
                  <a:pt x="1174" y="1068"/>
                </a:cubicBezTo>
                <a:cubicBezTo>
                  <a:pt x="1190" y="1052"/>
                  <a:pt x="1189" y="1026"/>
                  <a:pt x="1197" y="1005"/>
                </a:cubicBezTo>
                <a:cubicBezTo>
                  <a:pt x="1200" y="989"/>
                  <a:pt x="1203" y="974"/>
                  <a:pt x="1205" y="958"/>
                </a:cubicBezTo>
                <a:cubicBezTo>
                  <a:pt x="1208" y="937"/>
                  <a:pt x="1210" y="917"/>
                  <a:pt x="1213" y="896"/>
                </a:cubicBezTo>
                <a:cubicBezTo>
                  <a:pt x="1218" y="865"/>
                  <a:pt x="1229" y="803"/>
                  <a:pt x="1229" y="803"/>
                </a:cubicBezTo>
                <a:cubicBezTo>
                  <a:pt x="1237" y="701"/>
                  <a:pt x="1264" y="573"/>
                  <a:pt x="1229" y="475"/>
                </a:cubicBezTo>
                <a:cubicBezTo>
                  <a:pt x="1224" y="460"/>
                  <a:pt x="1198" y="475"/>
                  <a:pt x="1182" y="475"/>
                </a:cubicBezTo>
                <a:close/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4800600" y="533520"/>
                <a:ext cx="2387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162920" y="698400"/>
                <a:ext cx="79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648320" y="1447920"/>
                <a:ext cx="2324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934320" y="144792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7924680" y="6858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648320" y="205740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30" name=""/>
          <p:cNvGraphicFramePr/>
          <p:nvPr/>
        </p:nvGraphicFramePr>
        <p:xfrm>
          <a:off x="5257800" y="2971800"/>
          <a:ext cx="3352680" cy="16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971800"/>
                    <a:ext cx="33526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6095880" y="4724280"/>
                <a:ext cx="1892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33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9" dur="indefinite" restart="never" nodeType="tmRoot">
          <p:childTnLst>
            <p:seq>
              <p:cTn id="3220" dur="indefinite" nodeType="mainSeq">
                <p:childTnLst>
                  <p:par>
                    <p:cTn id="3221" fill="hold">
                      <p:stCondLst>
                        <p:cond delay="indefinite"/>
                      </p:stCondLst>
                      <p:childTnLst>
                        <p:par>
                          <p:cTn id="3222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6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2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8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5" fill="hold">
                      <p:stCondLst>
                        <p:cond delay="indefinite"/>
                      </p:stCondLst>
                      <p:childTnLst>
                        <p:par>
                          <p:cTn id="3246" fill="hold">
                            <p:stCondLst>
                              <p:cond delay="0"/>
                            </p:stCondLst>
                            <p:childTnLst>
                              <p:par>
                                <p:cTn id="3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fill="hold">
                      <p:stCondLst>
                        <p:cond delay="indefinite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8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9" fill="hold">
                      <p:stCondLst>
                        <p:cond delay="indefinite"/>
                      </p:stCondLst>
                      <p:childTnLst>
                        <p:par>
                          <p:cTn id="3270" fill="hold">
                            <p:stCondLst>
                              <p:cond delay="0"/>
                            </p:stCondLst>
                            <p:childTnLst>
                              <p:par>
                                <p:cTn id="3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0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6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7" fill="hold">
                      <p:stCondLst>
                        <p:cond delay="indefinite"/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fill="hold">
                      <p:stCondLst>
                        <p:cond delay="indefinite"/>
                      </p:stCondLst>
                      <p:childTnLst>
                        <p:par>
                          <p:cTn id="3300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3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fill="hold">
                      <p:stCondLst>
                        <p:cond delay="indefinite"/>
                      </p:stCondLst>
                      <p:childTnLst>
                        <p:par>
                          <p:cTn id="3336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7" fill="hold">
                      <p:stCondLst>
                        <p:cond delay="indefinite"/>
                      </p:stCondLst>
                      <p:childTnLst>
                        <p:par>
                          <p:cTn id="3348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9" fill="hold">
                      <p:stCondLst>
                        <p:cond delay="indefinite"/>
                      </p:stCondLst>
                      <p:childTnLst>
                        <p:par>
                          <p:cTn id="3360" fill="hold">
                            <p:stCondLst>
                              <p:cond delay="0"/>
                            </p:stCondLst>
                            <p:childTnLst>
                              <p:par>
                                <p:cTn id="3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76320" y="743040"/>
            <a:ext cx="3362040" cy="22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2590920" y="76320"/>
                <a:ext cx="407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MESH 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304920" y="3124080"/>
                <a:ext cx="1638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0" name=""/>
          <p:cNvSpPr/>
          <p:nvPr/>
        </p:nvSpPr>
        <p:spPr>
          <a:xfrm>
            <a:off x="1076400" y="1311120"/>
            <a:ext cx="1673280" cy="1398600"/>
          </a:xfrm>
          <a:custGeom>
            <a:avLst/>
            <a:gdLst/>
            <a:ahLst/>
            <a:rect l="l" t="t" r="r" b="b"/>
            <a:pathLst>
              <a:path w="1054" h="881">
                <a:moveTo>
                  <a:pt x="0" y="834"/>
                </a:moveTo>
                <a:cubicBezTo>
                  <a:pt x="9" y="556"/>
                  <a:pt x="23" y="279"/>
                  <a:pt x="23" y="0"/>
                </a:cubicBezTo>
                <a:cubicBezTo>
                  <a:pt x="362" y="10"/>
                  <a:pt x="561" y="19"/>
                  <a:pt x="943" y="23"/>
                </a:cubicBezTo>
                <a:cubicBezTo>
                  <a:pt x="964" y="26"/>
                  <a:pt x="1005" y="31"/>
                  <a:pt x="1005" y="31"/>
                </a:cubicBezTo>
                <a:cubicBezTo>
                  <a:pt x="1011" y="220"/>
                  <a:pt x="1008" y="412"/>
                  <a:pt x="1036" y="600"/>
                </a:cubicBezTo>
                <a:cubicBezTo>
                  <a:pt x="1054" y="839"/>
                  <a:pt x="1052" y="745"/>
                  <a:pt x="1052" y="881"/>
                </a:cubicBezTo>
                <a:cubicBezTo>
                  <a:pt x="645" y="858"/>
                  <a:pt x="959" y="873"/>
                  <a:pt x="109" y="87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304920" y="3809880"/>
                <a:ext cx="283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MESH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2057400" y="342900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449568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2819520" y="449568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304920" y="4876920"/>
                <a:ext cx="486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"/>
          <p:cNvSpPr/>
          <p:nvPr/>
        </p:nvSpPr>
        <p:spPr>
          <a:xfrm>
            <a:off x="5176080" y="457200"/>
            <a:ext cx="1589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671480" y="531720"/>
            <a:ext cx="228600" cy="534960"/>
            <a:chOff x="1671480" y="531720"/>
            <a:chExt cx="228600" cy="534960"/>
          </a:xfrm>
        </p:grpSpPr>
        <p:sp>
          <p:nvSpPr>
            <p:cNvPr id="1148" name=""/>
            <p:cNvSpPr/>
            <p:nvPr/>
          </p:nvSpPr>
          <p:spPr>
            <a:xfrm>
              <a:off x="1671480" y="83808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9" name=""/>
                <p:cNvSpPr txBox="1"/>
                <p:nvPr/>
              </p:nvSpPr>
              <p:spPr>
                <a:xfrm>
                  <a:off x="1676520" y="5317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876920" y="855720"/>
                <a:ext cx="300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5486400" y="14652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86400" y="2971800"/>
                <a:ext cx="2095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4965840" y="2573280"/>
            <a:ext cx="338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486400" y="3733920"/>
                <a:ext cx="2044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6172200" y="4419720"/>
                <a:ext cx="1257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15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5" dur="indefinite" restart="never" nodeType="tmRoot">
          <p:childTnLst>
            <p:seq>
              <p:cTn id="3366" dur="indefinite" nodeType="mainSeq">
                <p:childTnLst>
                  <p:par>
                    <p:cTn id="3367" fill="hold">
                      <p:stCondLst>
                        <p:cond delay="indefinite"/>
                      </p:stCondLst>
                      <p:childTnLst>
                        <p:par>
                          <p:cTn id="3368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fill="hold">
                      <p:stCondLst>
                        <p:cond delay="indefinite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5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7" fill="hold">
                      <p:stCondLst>
                        <p:cond delay="indefinite"/>
                      </p:stCondLst>
                      <p:childTnLst>
                        <p:par>
                          <p:cTn id="3398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7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fill="hold">
                      <p:stCondLst>
                        <p:cond delay="indefinite"/>
                      </p:stCondLst>
                      <p:childTnLst>
                        <p:par>
                          <p:cTn id="3410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fill="hold">
                      <p:stCondLst>
                        <p:cond delay="indefinite"/>
                      </p:stCondLst>
                      <p:childTnLst>
                        <p:par>
                          <p:cTn id="3452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5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fill="hold">
                      <p:stCondLst>
                        <p:cond delay="indefinite"/>
                      </p:stCondLst>
                      <p:childTnLst>
                        <p:par>
                          <p:cTn id="3458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66880" y="1522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2" name=""/>
          <p:cNvSpPr/>
          <p:nvPr/>
        </p:nvSpPr>
        <p:spPr>
          <a:xfrm>
            <a:off x="151200" y="28782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USING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-52560" y="3505320"/>
            <a:ext cx="3633840" cy="3062160"/>
            <a:chOff x="-52560" y="3505320"/>
            <a:chExt cx="3633840" cy="3062160"/>
          </a:xfrm>
        </p:grpSpPr>
        <p:graphicFrame>
          <p:nvGraphicFramePr>
            <p:cNvPr id="1164" name=""/>
            <p:cNvGraphicFramePr/>
            <p:nvPr/>
          </p:nvGraphicFramePr>
          <p:xfrm>
            <a:off x="-52560" y="3505320"/>
            <a:ext cx="3633840" cy="306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52560" y="3505320"/>
                      <a:ext cx="363384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66" name=""/>
                <p:cNvSpPr txBox="1"/>
                <p:nvPr/>
              </p:nvSpPr>
              <p:spPr>
                <a:xfrm>
                  <a:off x="3224160" y="50292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7" name=""/>
          <p:cNvGrpSpPr/>
          <p:nvPr/>
        </p:nvGrpSpPr>
        <p:grpSpPr>
          <a:xfrm>
            <a:off x="4343400" y="0"/>
            <a:ext cx="4537080" cy="3062160"/>
            <a:chOff x="4343400" y="0"/>
            <a:chExt cx="4537080" cy="3062160"/>
          </a:xfrm>
        </p:grpSpPr>
        <p:graphicFrame>
          <p:nvGraphicFramePr>
            <p:cNvPr id="1168" name=""/>
            <p:cNvGraphicFramePr/>
            <p:nvPr/>
          </p:nvGraphicFramePr>
          <p:xfrm>
            <a:off x="4343400" y="0"/>
            <a:ext cx="4537080" cy="3062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43400" y="0"/>
                      <a:ext cx="453708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8534520" y="1447920"/>
                  <a:ext cx="2649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3809880" y="228600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72" name=""/>
          <p:cNvGrpSpPr/>
          <p:nvPr/>
        </p:nvGrpSpPr>
        <p:grpSpPr>
          <a:xfrm>
            <a:off x="1219320" y="3595680"/>
            <a:ext cx="4432320" cy="1192320"/>
            <a:chOff x="1219320" y="3595680"/>
            <a:chExt cx="4432320" cy="1192320"/>
          </a:xfrm>
        </p:grpSpPr>
        <mc:AlternateContent>
          <mc:Choice xmlns:a14="http://schemas.microsoft.com/office/drawing/2010/main" Requires="a14">
            <p:sp>
              <p:nvSpPr>
                <p:cNvPr id="1173" name=""/>
                <p:cNvSpPr txBox="1"/>
                <p:nvPr/>
              </p:nvSpPr>
              <p:spPr>
                <a:xfrm>
                  <a:off x="1219320" y="359568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4" name=""/>
                <p:cNvSpPr txBox="1"/>
                <p:nvPr/>
              </p:nvSpPr>
              <p:spPr>
                <a:xfrm>
                  <a:off x="2819520" y="4191120"/>
                  <a:ext cx="2832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3124080" y="54864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6" name=""/>
          <p:cNvGrpSpPr/>
          <p:nvPr/>
        </p:nvGrpSpPr>
        <p:grpSpPr>
          <a:xfrm>
            <a:off x="5638680" y="90360"/>
            <a:ext cx="2654280" cy="3706920"/>
            <a:chOff x="5638680" y="90360"/>
            <a:chExt cx="2654280" cy="3706920"/>
          </a:xfrm>
        </p:grpSpPr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553080" y="90360"/>
                  <a:ext cx="18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5638680" y="3200400"/>
                  <a:ext cx="2654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6781680" y="38862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2}  over  {2 - 2j} } V rSub { size 8{2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80" name=""/>
          <p:cNvGrpSpPr/>
          <p:nvPr/>
        </p:nvGrpSpPr>
        <p:grpSpPr>
          <a:xfrm>
            <a:off x="-133200" y="3429000"/>
            <a:ext cx="3313080" cy="3232080"/>
            <a:chOff x="-133200" y="3429000"/>
            <a:chExt cx="3313080" cy="3232080"/>
          </a:xfrm>
        </p:grpSpPr>
        <p:sp>
          <p:nvSpPr>
            <p:cNvPr id="1181" name=""/>
            <p:cNvSpPr/>
            <p:nvPr/>
          </p:nvSpPr>
          <p:spPr>
            <a:xfrm>
              <a:off x="-133200" y="3449520"/>
              <a:ext cx="3313080" cy="3211560"/>
            </a:xfrm>
            <a:custGeom>
              <a:avLst/>
              <a:gdLst/>
              <a:ahLst/>
              <a:rect l="l" t="t" r="r" b="b"/>
              <a:pathLst>
                <a:path w="2087" h="2023">
                  <a:moveTo>
                    <a:pt x="793" y="445"/>
                  </a:moveTo>
                  <a:cubicBezTo>
                    <a:pt x="786" y="359"/>
                    <a:pt x="797" y="236"/>
                    <a:pt x="770" y="157"/>
                  </a:cubicBezTo>
                  <a:cubicBezTo>
                    <a:pt x="760" y="129"/>
                    <a:pt x="715" y="124"/>
                    <a:pt x="692" y="118"/>
                  </a:cubicBezTo>
                  <a:cubicBezTo>
                    <a:pt x="540" y="122"/>
                    <a:pt x="398" y="107"/>
                    <a:pt x="255" y="149"/>
                  </a:cubicBezTo>
                  <a:cubicBezTo>
                    <a:pt x="230" y="166"/>
                    <a:pt x="218" y="197"/>
                    <a:pt x="193" y="212"/>
                  </a:cubicBezTo>
                  <a:cubicBezTo>
                    <a:pt x="138" y="244"/>
                    <a:pt x="130" y="242"/>
                    <a:pt x="76" y="251"/>
                  </a:cubicBezTo>
                  <a:cubicBezTo>
                    <a:pt x="0" y="459"/>
                    <a:pt x="40" y="681"/>
                    <a:pt x="68" y="897"/>
                  </a:cubicBezTo>
                  <a:cubicBezTo>
                    <a:pt x="71" y="1087"/>
                    <a:pt x="72" y="1276"/>
                    <a:pt x="76" y="1466"/>
                  </a:cubicBezTo>
                  <a:cubicBezTo>
                    <a:pt x="80" y="1679"/>
                    <a:pt x="53" y="1848"/>
                    <a:pt x="232" y="1973"/>
                  </a:cubicBezTo>
                  <a:cubicBezTo>
                    <a:pt x="258" y="1970"/>
                    <a:pt x="286" y="1976"/>
                    <a:pt x="310" y="1965"/>
                  </a:cubicBezTo>
                  <a:cubicBezTo>
                    <a:pt x="330" y="1956"/>
                    <a:pt x="357" y="1918"/>
                    <a:pt x="357" y="1918"/>
                  </a:cubicBezTo>
                  <a:cubicBezTo>
                    <a:pt x="367" y="1858"/>
                    <a:pt x="388" y="1808"/>
                    <a:pt x="396" y="1747"/>
                  </a:cubicBezTo>
                  <a:cubicBezTo>
                    <a:pt x="406" y="1594"/>
                    <a:pt x="429" y="1441"/>
                    <a:pt x="474" y="1295"/>
                  </a:cubicBezTo>
                  <a:cubicBezTo>
                    <a:pt x="484" y="1225"/>
                    <a:pt x="505" y="1161"/>
                    <a:pt x="520" y="1092"/>
                  </a:cubicBezTo>
                  <a:cubicBezTo>
                    <a:pt x="523" y="1077"/>
                    <a:pt x="522" y="1060"/>
                    <a:pt x="528" y="1046"/>
                  </a:cubicBezTo>
                  <a:cubicBezTo>
                    <a:pt x="540" y="1018"/>
                    <a:pt x="559" y="994"/>
                    <a:pt x="575" y="968"/>
                  </a:cubicBezTo>
                  <a:cubicBezTo>
                    <a:pt x="600" y="869"/>
                    <a:pt x="628" y="770"/>
                    <a:pt x="653" y="671"/>
                  </a:cubicBezTo>
                  <a:cubicBezTo>
                    <a:pt x="658" y="650"/>
                    <a:pt x="684" y="640"/>
                    <a:pt x="700" y="625"/>
                  </a:cubicBezTo>
                  <a:cubicBezTo>
                    <a:pt x="714" y="566"/>
                    <a:pt x="726" y="499"/>
                    <a:pt x="754" y="445"/>
                  </a:cubicBezTo>
                  <a:cubicBezTo>
                    <a:pt x="768" y="419"/>
                    <a:pt x="783" y="396"/>
                    <a:pt x="793" y="368"/>
                  </a:cubicBezTo>
                  <a:cubicBezTo>
                    <a:pt x="790" y="329"/>
                    <a:pt x="785" y="290"/>
                    <a:pt x="785" y="251"/>
                  </a:cubicBezTo>
                  <a:cubicBezTo>
                    <a:pt x="785" y="215"/>
                    <a:pt x="784" y="177"/>
                    <a:pt x="793" y="142"/>
                  </a:cubicBezTo>
                  <a:cubicBezTo>
                    <a:pt x="814" y="59"/>
                    <a:pt x="940" y="54"/>
                    <a:pt x="1004" y="48"/>
                  </a:cubicBezTo>
                  <a:cubicBezTo>
                    <a:pt x="1040" y="45"/>
                    <a:pt x="1077" y="43"/>
                    <a:pt x="1113" y="40"/>
                  </a:cubicBezTo>
                  <a:cubicBezTo>
                    <a:pt x="1342" y="0"/>
                    <a:pt x="1648" y="33"/>
                    <a:pt x="1861" y="40"/>
                  </a:cubicBezTo>
                  <a:cubicBezTo>
                    <a:pt x="1881" y="104"/>
                    <a:pt x="1903" y="106"/>
                    <a:pt x="1939" y="157"/>
                  </a:cubicBezTo>
                  <a:cubicBezTo>
                    <a:pt x="1958" y="222"/>
                    <a:pt x="1957" y="219"/>
                    <a:pt x="1946" y="313"/>
                  </a:cubicBezTo>
                  <a:cubicBezTo>
                    <a:pt x="1943" y="340"/>
                    <a:pt x="1907" y="383"/>
                    <a:pt x="1907" y="383"/>
                  </a:cubicBezTo>
                  <a:cubicBezTo>
                    <a:pt x="1888" y="466"/>
                    <a:pt x="1842" y="537"/>
                    <a:pt x="1814" y="617"/>
                  </a:cubicBezTo>
                  <a:cubicBezTo>
                    <a:pt x="1818" y="700"/>
                    <a:pt x="1807" y="828"/>
                    <a:pt x="1861" y="905"/>
                  </a:cubicBezTo>
                  <a:cubicBezTo>
                    <a:pt x="1877" y="959"/>
                    <a:pt x="1858" y="920"/>
                    <a:pt x="1954" y="952"/>
                  </a:cubicBezTo>
                  <a:cubicBezTo>
                    <a:pt x="1965" y="956"/>
                    <a:pt x="1974" y="964"/>
                    <a:pt x="1985" y="968"/>
                  </a:cubicBezTo>
                  <a:cubicBezTo>
                    <a:pt x="1993" y="971"/>
                    <a:pt x="2001" y="973"/>
                    <a:pt x="2009" y="975"/>
                  </a:cubicBezTo>
                  <a:cubicBezTo>
                    <a:pt x="2025" y="986"/>
                    <a:pt x="2055" y="1005"/>
                    <a:pt x="2063" y="1022"/>
                  </a:cubicBezTo>
                  <a:cubicBezTo>
                    <a:pt x="2071" y="1039"/>
                    <a:pt x="2066" y="1059"/>
                    <a:pt x="2071" y="1077"/>
                  </a:cubicBezTo>
                  <a:cubicBezTo>
                    <a:pt x="2074" y="1088"/>
                    <a:pt x="2082" y="1098"/>
                    <a:pt x="2087" y="1108"/>
                  </a:cubicBezTo>
                  <a:cubicBezTo>
                    <a:pt x="2080" y="1223"/>
                    <a:pt x="2087" y="1287"/>
                    <a:pt x="2009" y="1365"/>
                  </a:cubicBezTo>
                  <a:cubicBezTo>
                    <a:pt x="1951" y="1536"/>
                    <a:pt x="1997" y="1385"/>
                    <a:pt x="1985" y="1802"/>
                  </a:cubicBezTo>
                  <a:cubicBezTo>
                    <a:pt x="1980" y="1962"/>
                    <a:pt x="2009" y="1976"/>
                    <a:pt x="1876" y="2020"/>
                  </a:cubicBezTo>
                  <a:cubicBezTo>
                    <a:pt x="1809" y="2017"/>
                    <a:pt x="1740" y="2023"/>
                    <a:pt x="1674" y="2012"/>
                  </a:cubicBezTo>
                  <a:cubicBezTo>
                    <a:pt x="1653" y="2008"/>
                    <a:pt x="1628" y="1919"/>
                    <a:pt x="1611" y="1895"/>
                  </a:cubicBezTo>
                  <a:cubicBezTo>
                    <a:pt x="1599" y="1816"/>
                    <a:pt x="1580" y="1741"/>
                    <a:pt x="1572" y="1661"/>
                  </a:cubicBezTo>
                  <a:cubicBezTo>
                    <a:pt x="1576" y="1256"/>
                    <a:pt x="1575" y="898"/>
                    <a:pt x="1604" y="508"/>
                  </a:cubicBezTo>
                  <a:cubicBezTo>
                    <a:pt x="1565" y="432"/>
                    <a:pt x="1423" y="441"/>
                    <a:pt x="1354" y="438"/>
                  </a:cubicBezTo>
                  <a:cubicBezTo>
                    <a:pt x="1292" y="435"/>
                    <a:pt x="1229" y="433"/>
                    <a:pt x="1167" y="430"/>
                  </a:cubicBezTo>
                  <a:cubicBezTo>
                    <a:pt x="1111" y="410"/>
                    <a:pt x="1131" y="308"/>
                    <a:pt x="1128" y="266"/>
                  </a:cubicBezTo>
                  <a:cubicBezTo>
                    <a:pt x="1124" y="218"/>
                    <a:pt x="1105" y="159"/>
                    <a:pt x="1105" y="1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"/>
                <p:cNvSpPr txBox="1"/>
                <p:nvPr/>
              </p:nvSpPr>
              <p:spPr>
                <a:xfrm>
                  <a:off x="0" y="3429000"/>
                  <a:ext cx="1028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3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3" dur="indefinite" restart="never" nodeType="tmRoot">
          <p:childTnLst>
            <p:seq>
              <p:cTn id="3464" dur="indefinite" nodeType="mainSeq">
                <p:childTnLst>
                  <p:par>
                    <p:cTn id="3465" fill="hold">
                      <p:stCondLst>
                        <p:cond delay="indefinite"/>
                      </p:stCondLst>
                      <p:childTnLst>
                        <p:par>
                          <p:cTn id="3466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0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6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2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3" fill="hold">
                      <p:stCondLst>
                        <p:cond delay="indefinite"/>
                      </p:stCondLst>
                      <p:childTnLst>
                        <p:par>
                          <p:cTn id="3484" fill="hold">
                            <p:stCondLst>
                              <p:cond delay="0"/>
                            </p:stCondLst>
                            <p:childTnLst>
                              <p:par>
                                <p:cTn id="3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8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5" fill="hold">
                      <p:stCondLst>
                        <p:cond delay="indefinite"/>
                      </p:stCondLst>
                      <p:childTnLst>
                        <p:par>
                          <p:cTn id="3496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7" fill="hold">
                      <p:stCondLst>
                        <p:cond delay="indefinite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1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fill="hold">
                      <p:stCondLst>
                        <p:cond delay="indefinite"/>
                      </p:stCondLst>
                      <p:childTnLst>
                        <p:par>
                          <p:cTn id="3520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3240" y="533520"/>
                <a:ext cx="6453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 FREQUENCY  AND  PHASE  ANGLE  BETWEEN  VOLTAG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87280" y="1278000"/>
            <a:ext cx="68864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in radians per second  is the factor of the time 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91520" y="1295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1676520"/>
                <a:ext cx="2184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52280" y="2344680"/>
            <a:ext cx="7136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phase angle we must express both sinusoids using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unction; either sine or cosine with positive ampl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3657600"/>
                <a:ext cx="4317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43000" y="3149640"/>
                <a:ext cx="5538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ke  care  of  minus  sign  with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43000" y="4114800"/>
                <a:ext cx="5283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ange  sine  into  cosine  with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62320" y="4535640"/>
                <a:ext cx="4254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344960" y="4844880"/>
            <a:ext cx="6554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like to have the phase shifts less than 180 in absolut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55800" y="5221440"/>
                <a:ext cx="3568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5562720"/>
                <a:ext cx="2374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5562720"/>
                <a:ext cx="3276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10280" y="579132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94240" y="6019920"/>
                <a:ext cx="342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86600" y="6172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150480" y="76320"/>
            <a:ext cx="3623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2160" y="615960"/>
            <a:ext cx="1670040" cy="2674800"/>
          </a:xfrm>
          <a:custGeom>
            <a:avLst/>
            <a:gdLst/>
            <a:ahLst/>
            <a:rect l="l" t="t" r="r" b="b"/>
            <a:pathLst>
              <a:path w="1052" h="1685">
                <a:moveTo>
                  <a:pt x="20" y="25"/>
                </a:moveTo>
                <a:cubicBezTo>
                  <a:pt x="17" y="145"/>
                  <a:pt x="15" y="264"/>
                  <a:pt x="12" y="384"/>
                </a:cubicBezTo>
                <a:cubicBezTo>
                  <a:pt x="10" y="472"/>
                  <a:pt x="4" y="560"/>
                  <a:pt x="4" y="648"/>
                </a:cubicBezTo>
                <a:cubicBezTo>
                  <a:pt x="4" y="890"/>
                  <a:pt x="0" y="1139"/>
                  <a:pt x="36" y="1381"/>
                </a:cubicBezTo>
                <a:cubicBezTo>
                  <a:pt x="38" y="1392"/>
                  <a:pt x="58" y="1475"/>
                  <a:pt x="67" y="1490"/>
                </a:cubicBezTo>
                <a:cubicBezTo>
                  <a:pt x="142" y="1610"/>
                  <a:pt x="259" y="1671"/>
                  <a:pt x="394" y="1685"/>
                </a:cubicBezTo>
                <a:cubicBezTo>
                  <a:pt x="635" y="1642"/>
                  <a:pt x="644" y="1667"/>
                  <a:pt x="784" y="1529"/>
                </a:cubicBezTo>
                <a:cubicBezTo>
                  <a:pt x="806" y="1471"/>
                  <a:pt x="812" y="1419"/>
                  <a:pt x="823" y="1358"/>
                </a:cubicBezTo>
                <a:cubicBezTo>
                  <a:pt x="819" y="1208"/>
                  <a:pt x="825" y="1055"/>
                  <a:pt x="799" y="906"/>
                </a:cubicBezTo>
                <a:cubicBezTo>
                  <a:pt x="806" y="791"/>
                  <a:pt x="822" y="718"/>
                  <a:pt x="862" y="617"/>
                </a:cubicBezTo>
                <a:cubicBezTo>
                  <a:pt x="874" y="588"/>
                  <a:pt x="932" y="555"/>
                  <a:pt x="932" y="555"/>
                </a:cubicBezTo>
                <a:cubicBezTo>
                  <a:pt x="947" y="457"/>
                  <a:pt x="922" y="560"/>
                  <a:pt x="986" y="461"/>
                </a:cubicBezTo>
                <a:cubicBezTo>
                  <a:pt x="1025" y="401"/>
                  <a:pt x="1018" y="324"/>
                  <a:pt x="1041" y="259"/>
                </a:cubicBezTo>
                <a:cubicBezTo>
                  <a:pt x="1038" y="209"/>
                  <a:pt x="1052" y="152"/>
                  <a:pt x="1025" y="111"/>
                </a:cubicBezTo>
                <a:cubicBezTo>
                  <a:pt x="952" y="0"/>
                  <a:pt x="716" y="34"/>
                  <a:pt x="612" y="25"/>
                </a:cubicBezTo>
                <a:cubicBezTo>
                  <a:pt x="474" y="28"/>
                  <a:pt x="337" y="28"/>
                  <a:pt x="199" y="33"/>
                </a:cubicBezTo>
                <a:cubicBezTo>
                  <a:pt x="163" y="34"/>
                  <a:pt x="169" y="38"/>
                  <a:pt x="160" y="64"/>
                </a:cubicBezTo>
                <a:cubicBezTo>
                  <a:pt x="137" y="61"/>
                  <a:pt x="112" y="64"/>
                  <a:pt x="90" y="56"/>
                </a:cubicBezTo>
                <a:cubicBezTo>
                  <a:pt x="81" y="53"/>
                  <a:pt x="83" y="37"/>
                  <a:pt x="74" y="33"/>
                </a:cubicBezTo>
                <a:cubicBezTo>
                  <a:pt x="57" y="26"/>
                  <a:pt x="38" y="28"/>
                  <a:pt x="20" y="2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41440" y="692280"/>
            <a:ext cx="1268280" cy="2246040"/>
          </a:xfrm>
          <a:custGeom>
            <a:avLst/>
            <a:gdLst/>
            <a:ahLst/>
            <a:rect l="l" t="t" r="r" b="b"/>
            <a:pathLst>
              <a:path w="799" h="1415">
                <a:moveTo>
                  <a:pt x="612" y="367"/>
                </a:moveTo>
                <a:cubicBezTo>
                  <a:pt x="626" y="319"/>
                  <a:pt x="583" y="298"/>
                  <a:pt x="557" y="265"/>
                </a:cubicBezTo>
                <a:cubicBezTo>
                  <a:pt x="523" y="222"/>
                  <a:pt x="488" y="177"/>
                  <a:pt x="456" y="133"/>
                </a:cubicBezTo>
                <a:cubicBezTo>
                  <a:pt x="447" y="77"/>
                  <a:pt x="419" y="19"/>
                  <a:pt x="362" y="0"/>
                </a:cubicBezTo>
                <a:cubicBezTo>
                  <a:pt x="331" y="5"/>
                  <a:pt x="300" y="11"/>
                  <a:pt x="269" y="16"/>
                </a:cubicBezTo>
                <a:cubicBezTo>
                  <a:pt x="248" y="19"/>
                  <a:pt x="225" y="15"/>
                  <a:pt x="206" y="24"/>
                </a:cubicBezTo>
                <a:cubicBezTo>
                  <a:pt x="199" y="27"/>
                  <a:pt x="201" y="39"/>
                  <a:pt x="199" y="47"/>
                </a:cubicBezTo>
                <a:cubicBezTo>
                  <a:pt x="204" y="64"/>
                  <a:pt x="221" y="77"/>
                  <a:pt x="222" y="94"/>
                </a:cubicBezTo>
                <a:cubicBezTo>
                  <a:pt x="228" y="208"/>
                  <a:pt x="179" y="316"/>
                  <a:pt x="167" y="429"/>
                </a:cubicBezTo>
                <a:cubicBezTo>
                  <a:pt x="162" y="536"/>
                  <a:pt x="156" y="600"/>
                  <a:pt x="121" y="694"/>
                </a:cubicBezTo>
                <a:cubicBezTo>
                  <a:pt x="108" y="798"/>
                  <a:pt x="87" y="901"/>
                  <a:pt x="74" y="1006"/>
                </a:cubicBezTo>
                <a:cubicBezTo>
                  <a:pt x="81" y="1277"/>
                  <a:pt x="0" y="1392"/>
                  <a:pt x="261" y="1403"/>
                </a:cubicBezTo>
                <a:cubicBezTo>
                  <a:pt x="365" y="1407"/>
                  <a:pt x="469" y="1408"/>
                  <a:pt x="573" y="1411"/>
                </a:cubicBezTo>
                <a:cubicBezTo>
                  <a:pt x="687" y="1404"/>
                  <a:pt x="714" y="1415"/>
                  <a:pt x="775" y="1333"/>
                </a:cubicBezTo>
                <a:cubicBezTo>
                  <a:pt x="790" y="1243"/>
                  <a:pt x="794" y="1160"/>
                  <a:pt x="799" y="1068"/>
                </a:cubicBezTo>
                <a:cubicBezTo>
                  <a:pt x="796" y="977"/>
                  <a:pt x="796" y="886"/>
                  <a:pt x="791" y="795"/>
                </a:cubicBezTo>
                <a:cubicBezTo>
                  <a:pt x="784" y="664"/>
                  <a:pt x="735" y="439"/>
                  <a:pt x="612" y="36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76320" y="3276720"/>
          <a:ext cx="4343400" cy="165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3276720"/>
                    <a:ext cx="43434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"/>
          <p:cNvSpPr/>
          <p:nvPr/>
        </p:nvSpPr>
        <p:spPr>
          <a:xfrm>
            <a:off x="-7920" y="3373560"/>
            <a:ext cx="1797120" cy="1922400"/>
          </a:xfrm>
          <a:custGeom>
            <a:avLst/>
            <a:gdLst/>
            <a:ahLst/>
            <a:rect l="l" t="t" r="r" b="b"/>
            <a:pathLst>
              <a:path w="1132" h="1211">
                <a:moveTo>
                  <a:pt x="1119" y="345"/>
                </a:moveTo>
                <a:cubicBezTo>
                  <a:pt x="1132" y="260"/>
                  <a:pt x="1105" y="250"/>
                  <a:pt x="1057" y="182"/>
                </a:cubicBezTo>
                <a:cubicBezTo>
                  <a:pt x="1042" y="160"/>
                  <a:pt x="1034" y="133"/>
                  <a:pt x="1018" y="112"/>
                </a:cubicBezTo>
                <a:cubicBezTo>
                  <a:pt x="1001" y="90"/>
                  <a:pt x="978" y="86"/>
                  <a:pt x="956" y="73"/>
                </a:cubicBezTo>
                <a:cubicBezTo>
                  <a:pt x="881" y="31"/>
                  <a:pt x="860" y="40"/>
                  <a:pt x="761" y="34"/>
                </a:cubicBezTo>
                <a:cubicBezTo>
                  <a:pt x="636" y="36"/>
                  <a:pt x="420" y="0"/>
                  <a:pt x="293" y="96"/>
                </a:cubicBezTo>
                <a:cubicBezTo>
                  <a:pt x="271" y="113"/>
                  <a:pt x="253" y="134"/>
                  <a:pt x="231" y="151"/>
                </a:cubicBezTo>
                <a:cubicBezTo>
                  <a:pt x="220" y="173"/>
                  <a:pt x="201" y="190"/>
                  <a:pt x="192" y="213"/>
                </a:cubicBezTo>
                <a:cubicBezTo>
                  <a:pt x="174" y="258"/>
                  <a:pt x="174" y="303"/>
                  <a:pt x="145" y="345"/>
                </a:cubicBezTo>
                <a:cubicBezTo>
                  <a:pt x="135" y="375"/>
                  <a:pt x="106" y="431"/>
                  <a:pt x="106" y="431"/>
                </a:cubicBezTo>
                <a:cubicBezTo>
                  <a:pt x="72" y="580"/>
                  <a:pt x="44" y="731"/>
                  <a:pt x="28" y="883"/>
                </a:cubicBezTo>
                <a:cubicBezTo>
                  <a:pt x="35" y="1024"/>
                  <a:pt x="0" y="1041"/>
                  <a:pt x="106" y="1078"/>
                </a:cubicBezTo>
                <a:cubicBezTo>
                  <a:pt x="151" y="1111"/>
                  <a:pt x="194" y="1120"/>
                  <a:pt x="247" y="1133"/>
                </a:cubicBezTo>
                <a:cubicBezTo>
                  <a:pt x="263" y="1137"/>
                  <a:pt x="278" y="1142"/>
                  <a:pt x="293" y="1148"/>
                </a:cubicBezTo>
                <a:cubicBezTo>
                  <a:pt x="304" y="1152"/>
                  <a:pt x="313" y="1161"/>
                  <a:pt x="324" y="1164"/>
                </a:cubicBezTo>
                <a:cubicBezTo>
                  <a:pt x="452" y="1203"/>
                  <a:pt x="606" y="1203"/>
                  <a:pt x="738" y="1210"/>
                </a:cubicBezTo>
                <a:cubicBezTo>
                  <a:pt x="808" y="1208"/>
                  <a:pt x="878" y="1211"/>
                  <a:pt x="948" y="1203"/>
                </a:cubicBezTo>
                <a:cubicBezTo>
                  <a:pt x="973" y="1200"/>
                  <a:pt x="1018" y="1179"/>
                  <a:pt x="1018" y="1179"/>
                </a:cubicBezTo>
                <a:cubicBezTo>
                  <a:pt x="1031" y="1141"/>
                  <a:pt x="1043" y="1118"/>
                  <a:pt x="1065" y="1086"/>
                </a:cubicBezTo>
                <a:cubicBezTo>
                  <a:pt x="1084" y="1028"/>
                  <a:pt x="1059" y="1097"/>
                  <a:pt x="1088" y="1039"/>
                </a:cubicBezTo>
                <a:cubicBezTo>
                  <a:pt x="1115" y="985"/>
                  <a:pt x="1112" y="917"/>
                  <a:pt x="1112" y="86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676520" y="3438360"/>
            <a:ext cx="2174760" cy="1845000"/>
          </a:xfrm>
          <a:custGeom>
            <a:avLst/>
            <a:gdLst/>
            <a:ahLst/>
            <a:rect l="l" t="t" r="r" b="b"/>
            <a:pathLst>
              <a:path w="1370" h="1162">
                <a:moveTo>
                  <a:pt x="588" y="507"/>
                </a:moveTo>
                <a:cubicBezTo>
                  <a:pt x="577" y="489"/>
                  <a:pt x="570" y="469"/>
                  <a:pt x="557" y="452"/>
                </a:cubicBezTo>
                <a:cubicBezTo>
                  <a:pt x="548" y="440"/>
                  <a:pt x="536" y="432"/>
                  <a:pt x="526" y="421"/>
                </a:cubicBezTo>
                <a:cubicBezTo>
                  <a:pt x="520" y="414"/>
                  <a:pt x="515" y="406"/>
                  <a:pt x="510" y="398"/>
                </a:cubicBezTo>
                <a:cubicBezTo>
                  <a:pt x="494" y="234"/>
                  <a:pt x="465" y="60"/>
                  <a:pt x="284" y="0"/>
                </a:cubicBezTo>
                <a:cubicBezTo>
                  <a:pt x="279" y="1"/>
                  <a:pt x="47" y="26"/>
                  <a:pt x="35" y="32"/>
                </a:cubicBezTo>
                <a:cubicBezTo>
                  <a:pt x="18" y="41"/>
                  <a:pt x="20" y="68"/>
                  <a:pt x="12" y="86"/>
                </a:cubicBezTo>
                <a:cubicBezTo>
                  <a:pt x="21" y="118"/>
                  <a:pt x="35" y="122"/>
                  <a:pt x="66" y="133"/>
                </a:cubicBezTo>
                <a:cubicBezTo>
                  <a:pt x="71" y="154"/>
                  <a:pt x="80" y="174"/>
                  <a:pt x="82" y="195"/>
                </a:cubicBezTo>
                <a:cubicBezTo>
                  <a:pt x="84" y="215"/>
                  <a:pt x="55" y="287"/>
                  <a:pt x="51" y="312"/>
                </a:cubicBezTo>
                <a:cubicBezTo>
                  <a:pt x="45" y="481"/>
                  <a:pt x="0" y="799"/>
                  <a:pt x="74" y="943"/>
                </a:cubicBezTo>
                <a:cubicBezTo>
                  <a:pt x="77" y="974"/>
                  <a:pt x="77" y="1006"/>
                  <a:pt x="82" y="1037"/>
                </a:cubicBezTo>
                <a:cubicBezTo>
                  <a:pt x="102" y="1159"/>
                  <a:pt x="175" y="1149"/>
                  <a:pt x="277" y="1162"/>
                </a:cubicBezTo>
                <a:cubicBezTo>
                  <a:pt x="339" y="1157"/>
                  <a:pt x="409" y="1142"/>
                  <a:pt x="471" y="1138"/>
                </a:cubicBezTo>
                <a:cubicBezTo>
                  <a:pt x="578" y="1131"/>
                  <a:pt x="791" y="1123"/>
                  <a:pt x="791" y="1123"/>
                </a:cubicBezTo>
                <a:cubicBezTo>
                  <a:pt x="910" y="1111"/>
                  <a:pt x="1005" y="1047"/>
                  <a:pt x="1118" y="1006"/>
                </a:cubicBezTo>
                <a:cubicBezTo>
                  <a:pt x="1188" y="981"/>
                  <a:pt x="1271" y="968"/>
                  <a:pt x="1344" y="959"/>
                </a:cubicBezTo>
                <a:cubicBezTo>
                  <a:pt x="1352" y="954"/>
                  <a:pt x="1370" y="952"/>
                  <a:pt x="1367" y="943"/>
                </a:cubicBezTo>
                <a:cubicBezTo>
                  <a:pt x="1326" y="811"/>
                  <a:pt x="1292" y="830"/>
                  <a:pt x="1188" y="795"/>
                </a:cubicBezTo>
                <a:cubicBezTo>
                  <a:pt x="1152" y="767"/>
                  <a:pt x="1124" y="718"/>
                  <a:pt x="1079" y="710"/>
                </a:cubicBezTo>
                <a:cubicBezTo>
                  <a:pt x="1004" y="697"/>
                  <a:pt x="929" y="670"/>
                  <a:pt x="853" y="663"/>
                </a:cubicBezTo>
                <a:cubicBezTo>
                  <a:pt x="796" y="658"/>
                  <a:pt x="739" y="658"/>
                  <a:pt x="682" y="655"/>
                </a:cubicBezTo>
                <a:cubicBezTo>
                  <a:pt x="658" y="564"/>
                  <a:pt x="648" y="567"/>
                  <a:pt x="588" y="50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125360" y="3290760"/>
            <a:ext cx="1319400" cy="2536920"/>
            <a:chOff x="1125360" y="3290760"/>
            <a:chExt cx="1319400" cy="2536920"/>
          </a:xfrm>
        </p:grpSpPr>
        <p:sp>
          <p:nvSpPr>
            <p:cNvPr id="1195" name=""/>
            <p:cNvSpPr/>
            <p:nvPr/>
          </p:nvSpPr>
          <p:spPr>
            <a:xfrm>
              <a:off x="1125360" y="3290760"/>
              <a:ext cx="1319400" cy="2490840"/>
            </a:xfrm>
            <a:custGeom>
              <a:avLst/>
              <a:gdLst/>
              <a:ahLst/>
              <a:rect l="l" t="t" r="r" b="b"/>
              <a:pathLst>
                <a:path w="831" h="1569">
                  <a:moveTo>
                    <a:pt x="133" y="1488"/>
                  </a:moveTo>
                  <a:cubicBezTo>
                    <a:pt x="130" y="1460"/>
                    <a:pt x="122" y="1379"/>
                    <a:pt x="117" y="1348"/>
                  </a:cubicBezTo>
                  <a:cubicBezTo>
                    <a:pt x="104" y="1274"/>
                    <a:pt x="72" y="1203"/>
                    <a:pt x="55" y="1130"/>
                  </a:cubicBezTo>
                  <a:cubicBezTo>
                    <a:pt x="52" y="1091"/>
                    <a:pt x="55" y="1051"/>
                    <a:pt x="47" y="1013"/>
                  </a:cubicBezTo>
                  <a:cubicBezTo>
                    <a:pt x="43" y="995"/>
                    <a:pt x="22" y="984"/>
                    <a:pt x="16" y="966"/>
                  </a:cubicBezTo>
                  <a:cubicBezTo>
                    <a:pt x="31" y="907"/>
                    <a:pt x="0" y="826"/>
                    <a:pt x="55" y="787"/>
                  </a:cubicBezTo>
                  <a:cubicBezTo>
                    <a:pt x="73" y="774"/>
                    <a:pt x="97" y="774"/>
                    <a:pt x="117" y="764"/>
                  </a:cubicBezTo>
                  <a:cubicBezTo>
                    <a:pt x="151" y="713"/>
                    <a:pt x="141" y="650"/>
                    <a:pt x="156" y="592"/>
                  </a:cubicBezTo>
                  <a:cubicBezTo>
                    <a:pt x="161" y="423"/>
                    <a:pt x="160" y="337"/>
                    <a:pt x="172" y="187"/>
                  </a:cubicBezTo>
                  <a:cubicBezTo>
                    <a:pt x="175" y="150"/>
                    <a:pt x="163" y="106"/>
                    <a:pt x="187" y="78"/>
                  </a:cubicBezTo>
                  <a:cubicBezTo>
                    <a:pt x="198" y="66"/>
                    <a:pt x="234" y="62"/>
                    <a:pt x="234" y="62"/>
                  </a:cubicBezTo>
                  <a:cubicBezTo>
                    <a:pt x="256" y="40"/>
                    <a:pt x="270" y="18"/>
                    <a:pt x="296" y="0"/>
                  </a:cubicBezTo>
                  <a:cubicBezTo>
                    <a:pt x="358" y="3"/>
                    <a:pt x="421" y="3"/>
                    <a:pt x="483" y="8"/>
                  </a:cubicBezTo>
                  <a:cubicBezTo>
                    <a:pt x="502" y="9"/>
                    <a:pt x="520" y="18"/>
                    <a:pt x="538" y="23"/>
                  </a:cubicBezTo>
                  <a:cubicBezTo>
                    <a:pt x="554" y="28"/>
                    <a:pt x="585" y="39"/>
                    <a:pt x="585" y="39"/>
                  </a:cubicBezTo>
                  <a:cubicBezTo>
                    <a:pt x="625" y="99"/>
                    <a:pt x="613" y="68"/>
                    <a:pt x="624" y="132"/>
                  </a:cubicBezTo>
                  <a:cubicBezTo>
                    <a:pt x="619" y="202"/>
                    <a:pt x="615" y="273"/>
                    <a:pt x="608" y="343"/>
                  </a:cubicBezTo>
                  <a:cubicBezTo>
                    <a:pt x="607" y="351"/>
                    <a:pt x="602" y="358"/>
                    <a:pt x="600" y="366"/>
                  </a:cubicBezTo>
                  <a:cubicBezTo>
                    <a:pt x="592" y="397"/>
                    <a:pt x="585" y="429"/>
                    <a:pt x="577" y="460"/>
                  </a:cubicBezTo>
                  <a:cubicBezTo>
                    <a:pt x="574" y="470"/>
                    <a:pt x="569" y="491"/>
                    <a:pt x="569" y="491"/>
                  </a:cubicBezTo>
                  <a:cubicBezTo>
                    <a:pt x="572" y="592"/>
                    <a:pt x="567" y="694"/>
                    <a:pt x="577" y="795"/>
                  </a:cubicBezTo>
                  <a:cubicBezTo>
                    <a:pt x="579" y="820"/>
                    <a:pt x="622" y="825"/>
                    <a:pt x="647" y="826"/>
                  </a:cubicBezTo>
                  <a:cubicBezTo>
                    <a:pt x="696" y="829"/>
                    <a:pt x="746" y="831"/>
                    <a:pt x="795" y="834"/>
                  </a:cubicBezTo>
                  <a:cubicBezTo>
                    <a:pt x="831" y="938"/>
                    <a:pt x="791" y="1055"/>
                    <a:pt x="779" y="1161"/>
                  </a:cubicBezTo>
                  <a:cubicBezTo>
                    <a:pt x="773" y="1216"/>
                    <a:pt x="771" y="1271"/>
                    <a:pt x="764" y="1325"/>
                  </a:cubicBezTo>
                  <a:cubicBezTo>
                    <a:pt x="757" y="1381"/>
                    <a:pt x="744" y="1479"/>
                    <a:pt x="694" y="1520"/>
                  </a:cubicBezTo>
                  <a:cubicBezTo>
                    <a:pt x="673" y="1538"/>
                    <a:pt x="661" y="1532"/>
                    <a:pt x="639" y="1543"/>
                  </a:cubicBezTo>
                  <a:cubicBezTo>
                    <a:pt x="631" y="1547"/>
                    <a:pt x="625" y="1558"/>
                    <a:pt x="616" y="1559"/>
                  </a:cubicBezTo>
                  <a:cubicBezTo>
                    <a:pt x="518" y="1566"/>
                    <a:pt x="419" y="1564"/>
                    <a:pt x="320" y="1566"/>
                  </a:cubicBezTo>
                  <a:cubicBezTo>
                    <a:pt x="255" y="1564"/>
                    <a:pt x="189" y="1569"/>
                    <a:pt x="125" y="1559"/>
                  </a:cubicBezTo>
                  <a:cubicBezTo>
                    <a:pt x="117" y="1558"/>
                    <a:pt x="117" y="1535"/>
                    <a:pt x="117" y="153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6" name=""/>
                <p:cNvSpPr txBox="1"/>
                <p:nvPr/>
              </p:nvSpPr>
              <p:spPr>
                <a:xfrm>
                  <a:off x="1371600" y="5562720"/>
                  <a:ext cx="95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97" name=""/>
          <p:cNvGraphicFramePr/>
          <p:nvPr/>
        </p:nvGraphicFramePr>
        <p:xfrm>
          <a:off x="5257800" y="228600"/>
          <a:ext cx="2895480" cy="16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28600"/>
                    <a:ext cx="28954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5943600" y="237636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6553080" y="313848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257800" y="1981080"/>
                <a:ext cx="2997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2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5" dur="indefinite" restart="never" nodeType="tmRoot">
          <p:childTnLst>
            <p:seq>
              <p:cTn id="3526" dur="indefinite" nodeType="mainSeq">
                <p:childTnLst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2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9" fill="hold">
                      <p:stCondLst>
                        <p:cond delay="indefinite"/>
                      </p:stCondLst>
                      <p:childTnLst>
                        <p:par>
                          <p:cTn id="3540" fill="hold">
                            <p:stCondLst>
                              <p:cond delay="0"/>
                            </p:stCondLst>
                            <p:childTnLst>
                              <p:par>
                                <p:cTn id="3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fill="hold">
                      <p:stCondLst>
                        <p:cond delay="indefinite"/>
                      </p:stCondLst>
                      <p:childTnLst>
                        <p:par>
                          <p:cTn id="3552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2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fill="hold">
                      <p:stCondLst>
                        <p:cond delay="indefinite"/>
                      </p:stCondLst>
                      <p:childTnLst>
                        <p:par>
                          <p:cTn id="3576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6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71080" y="13500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117880" y="409680"/>
            <a:ext cx="2154240" cy="2874960"/>
          </a:xfrm>
          <a:custGeom>
            <a:avLst/>
            <a:gdLst/>
            <a:ahLst/>
            <a:rect l="l" t="t" r="r" b="b"/>
            <a:pathLst>
              <a:path w="1357" h="1811">
                <a:moveTo>
                  <a:pt x="1128" y="568"/>
                </a:moveTo>
                <a:cubicBezTo>
                  <a:pt x="1126" y="490"/>
                  <a:pt x="1128" y="412"/>
                  <a:pt x="1121" y="334"/>
                </a:cubicBezTo>
                <a:cubicBezTo>
                  <a:pt x="1117" y="287"/>
                  <a:pt x="1032" y="258"/>
                  <a:pt x="996" y="241"/>
                </a:cubicBezTo>
                <a:cubicBezTo>
                  <a:pt x="881" y="126"/>
                  <a:pt x="773" y="90"/>
                  <a:pt x="614" y="69"/>
                </a:cubicBezTo>
                <a:cubicBezTo>
                  <a:pt x="510" y="37"/>
                  <a:pt x="388" y="35"/>
                  <a:pt x="279" y="23"/>
                </a:cubicBezTo>
                <a:cubicBezTo>
                  <a:pt x="144" y="33"/>
                  <a:pt x="63" y="0"/>
                  <a:pt x="22" y="124"/>
                </a:cubicBezTo>
                <a:cubicBezTo>
                  <a:pt x="25" y="194"/>
                  <a:pt x="0" y="275"/>
                  <a:pt x="37" y="334"/>
                </a:cubicBezTo>
                <a:cubicBezTo>
                  <a:pt x="55" y="362"/>
                  <a:pt x="85" y="380"/>
                  <a:pt x="100" y="412"/>
                </a:cubicBezTo>
                <a:cubicBezTo>
                  <a:pt x="119" y="455"/>
                  <a:pt x="129" y="490"/>
                  <a:pt x="154" y="529"/>
                </a:cubicBezTo>
                <a:cubicBezTo>
                  <a:pt x="168" y="583"/>
                  <a:pt x="191" y="641"/>
                  <a:pt x="225" y="685"/>
                </a:cubicBezTo>
                <a:cubicBezTo>
                  <a:pt x="235" y="751"/>
                  <a:pt x="223" y="719"/>
                  <a:pt x="263" y="778"/>
                </a:cubicBezTo>
                <a:cubicBezTo>
                  <a:pt x="268" y="786"/>
                  <a:pt x="279" y="802"/>
                  <a:pt x="279" y="802"/>
                </a:cubicBezTo>
                <a:cubicBezTo>
                  <a:pt x="300" y="873"/>
                  <a:pt x="322" y="951"/>
                  <a:pt x="365" y="1012"/>
                </a:cubicBezTo>
                <a:cubicBezTo>
                  <a:pt x="375" y="1082"/>
                  <a:pt x="403" y="1146"/>
                  <a:pt x="419" y="1215"/>
                </a:cubicBezTo>
                <a:cubicBezTo>
                  <a:pt x="424" y="1294"/>
                  <a:pt x="412" y="1425"/>
                  <a:pt x="450" y="1503"/>
                </a:cubicBezTo>
                <a:cubicBezTo>
                  <a:pt x="454" y="1512"/>
                  <a:pt x="462" y="1518"/>
                  <a:pt x="466" y="1527"/>
                </a:cubicBezTo>
                <a:cubicBezTo>
                  <a:pt x="483" y="1563"/>
                  <a:pt x="497" y="1600"/>
                  <a:pt x="513" y="1636"/>
                </a:cubicBezTo>
                <a:cubicBezTo>
                  <a:pt x="533" y="1683"/>
                  <a:pt x="586" y="1709"/>
                  <a:pt x="622" y="1745"/>
                </a:cubicBezTo>
                <a:cubicBezTo>
                  <a:pt x="688" y="1811"/>
                  <a:pt x="647" y="1788"/>
                  <a:pt x="747" y="1807"/>
                </a:cubicBezTo>
                <a:cubicBezTo>
                  <a:pt x="883" y="1802"/>
                  <a:pt x="996" y="1803"/>
                  <a:pt x="1121" y="1760"/>
                </a:cubicBezTo>
                <a:cubicBezTo>
                  <a:pt x="1200" y="1681"/>
                  <a:pt x="1208" y="1523"/>
                  <a:pt x="1230" y="1418"/>
                </a:cubicBezTo>
                <a:cubicBezTo>
                  <a:pt x="1242" y="1303"/>
                  <a:pt x="1249" y="1188"/>
                  <a:pt x="1269" y="1075"/>
                </a:cubicBezTo>
                <a:cubicBezTo>
                  <a:pt x="1272" y="1018"/>
                  <a:pt x="1278" y="960"/>
                  <a:pt x="1277" y="903"/>
                </a:cubicBezTo>
                <a:cubicBezTo>
                  <a:pt x="1273" y="617"/>
                  <a:pt x="1357" y="564"/>
                  <a:pt x="1175" y="498"/>
                </a:cubicBezTo>
                <a:cubicBezTo>
                  <a:pt x="1150" y="464"/>
                  <a:pt x="1161" y="476"/>
                  <a:pt x="1144" y="45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600200" y="289548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09" name=""/>
          <p:cNvGraphicFramePr/>
          <p:nvPr/>
        </p:nvGraphicFramePr>
        <p:xfrm>
          <a:off x="685800" y="3505320"/>
          <a:ext cx="3697200" cy="29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05320"/>
                    <a:ext cx="369720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1" name=""/>
          <p:cNvGrpSpPr/>
          <p:nvPr/>
        </p:nvGrpSpPr>
        <p:grpSpPr>
          <a:xfrm>
            <a:off x="4203720" y="4572000"/>
            <a:ext cx="368280" cy="1128600"/>
            <a:chOff x="4203720" y="4572000"/>
            <a:chExt cx="368280" cy="1128600"/>
          </a:xfrm>
        </p:grpSpPr>
        <p:sp>
          <p:nvSpPr>
            <p:cNvPr id="1212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3" name=""/>
                <p:cNvSpPr txBox="1"/>
                <p:nvPr/>
              </p:nvSpPr>
              <p:spPr>
                <a:xfrm>
                  <a:off x="4203720" y="541008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1752480" y="4267080"/>
                <a:ext cx="621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5" name=""/>
          <p:cNvGrpSpPr/>
          <p:nvPr/>
        </p:nvGrpSpPr>
        <p:grpSpPr>
          <a:xfrm>
            <a:off x="1905120" y="4191120"/>
            <a:ext cx="761760" cy="609480"/>
            <a:chOff x="1905120" y="4191120"/>
            <a:chExt cx="761760" cy="609480"/>
          </a:xfrm>
        </p:grpSpPr>
        <p:sp>
          <p:nvSpPr>
            <p:cNvPr id="1216" name=""/>
            <p:cNvSpPr/>
            <p:nvPr/>
          </p:nvSpPr>
          <p:spPr>
            <a:xfrm>
              <a:off x="1905120" y="4191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666880" y="4343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1955880" y="4876920"/>
                <a:ext cx="1015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9" name=""/>
          <p:cNvGraphicFramePr/>
          <p:nvPr/>
        </p:nvGraphicFramePr>
        <p:xfrm>
          <a:off x="4572000" y="509760"/>
          <a:ext cx="3962520" cy="21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09760"/>
                    <a:ext cx="396252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"/>
          <p:cNvSpPr/>
          <p:nvPr/>
        </p:nvSpPr>
        <p:spPr>
          <a:xfrm>
            <a:off x="6551640" y="19080"/>
            <a:ext cx="2397240" cy="3009960"/>
          </a:xfrm>
          <a:custGeom>
            <a:avLst/>
            <a:gdLst/>
            <a:ahLst/>
            <a:rect l="l" t="t" r="r" b="b"/>
            <a:pathLst>
              <a:path w="1510" h="1896">
                <a:moveTo>
                  <a:pt x="1359" y="619"/>
                </a:moveTo>
                <a:cubicBezTo>
                  <a:pt x="1300" y="512"/>
                  <a:pt x="1230" y="459"/>
                  <a:pt x="1141" y="378"/>
                </a:cubicBezTo>
                <a:cubicBezTo>
                  <a:pt x="1043" y="289"/>
                  <a:pt x="949" y="167"/>
                  <a:pt x="813" y="152"/>
                </a:cubicBezTo>
                <a:cubicBezTo>
                  <a:pt x="752" y="131"/>
                  <a:pt x="783" y="139"/>
                  <a:pt x="720" y="128"/>
                </a:cubicBezTo>
                <a:cubicBezTo>
                  <a:pt x="0" y="138"/>
                  <a:pt x="290" y="0"/>
                  <a:pt x="89" y="269"/>
                </a:cubicBezTo>
                <a:cubicBezTo>
                  <a:pt x="86" y="290"/>
                  <a:pt x="85" y="311"/>
                  <a:pt x="81" y="331"/>
                </a:cubicBezTo>
                <a:cubicBezTo>
                  <a:pt x="77" y="347"/>
                  <a:pt x="68" y="362"/>
                  <a:pt x="65" y="378"/>
                </a:cubicBezTo>
                <a:cubicBezTo>
                  <a:pt x="47" y="477"/>
                  <a:pt x="42" y="582"/>
                  <a:pt x="34" y="682"/>
                </a:cubicBezTo>
                <a:cubicBezTo>
                  <a:pt x="37" y="760"/>
                  <a:pt x="37" y="837"/>
                  <a:pt x="42" y="915"/>
                </a:cubicBezTo>
                <a:cubicBezTo>
                  <a:pt x="44" y="956"/>
                  <a:pt x="62" y="980"/>
                  <a:pt x="81" y="1017"/>
                </a:cubicBezTo>
                <a:cubicBezTo>
                  <a:pt x="86" y="1027"/>
                  <a:pt x="97" y="1048"/>
                  <a:pt x="97" y="1048"/>
                </a:cubicBezTo>
                <a:cubicBezTo>
                  <a:pt x="124" y="1157"/>
                  <a:pt x="139" y="1267"/>
                  <a:pt x="167" y="1375"/>
                </a:cubicBezTo>
                <a:cubicBezTo>
                  <a:pt x="176" y="1472"/>
                  <a:pt x="199" y="1564"/>
                  <a:pt x="229" y="1656"/>
                </a:cubicBezTo>
                <a:cubicBezTo>
                  <a:pt x="239" y="1685"/>
                  <a:pt x="308" y="1711"/>
                  <a:pt x="323" y="1718"/>
                </a:cubicBezTo>
                <a:cubicBezTo>
                  <a:pt x="418" y="1815"/>
                  <a:pt x="310" y="1723"/>
                  <a:pt x="447" y="1780"/>
                </a:cubicBezTo>
                <a:cubicBezTo>
                  <a:pt x="486" y="1796"/>
                  <a:pt x="516" y="1829"/>
                  <a:pt x="556" y="1843"/>
                </a:cubicBezTo>
                <a:cubicBezTo>
                  <a:pt x="591" y="1855"/>
                  <a:pt x="629" y="1852"/>
                  <a:pt x="665" y="1858"/>
                </a:cubicBezTo>
                <a:cubicBezTo>
                  <a:pt x="912" y="1896"/>
                  <a:pt x="722" y="1871"/>
                  <a:pt x="868" y="1890"/>
                </a:cubicBezTo>
                <a:cubicBezTo>
                  <a:pt x="964" y="1883"/>
                  <a:pt x="1055" y="1869"/>
                  <a:pt x="1149" y="1851"/>
                </a:cubicBezTo>
                <a:cubicBezTo>
                  <a:pt x="1289" y="1707"/>
                  <a:pt x="1095" y="1889"/>
                  <a:pt x="1258" y="1788"/>
                </a:cubicBezTo>
                <a:cubicBezTo>
                  <a:pt x="1328" y="1744"/>
                  <a:pt x="1365" y="1650"/>
                  <a:pt x="1414" y="1586"/>
                </a:cubicBezTo>
                <a:cubicBezTo>
                  <a:pt x="1424" y="1476"/>
                  <a:pt x="1449" y="1368"/>
                  <a:pt x="1460" y="1258"/>
                </a:cubicBezTo>
                <a:cubicBezTo>
                  <a:pt x="1458" y="1145"/>
                  <a:pt x="1510" y="739"/>
                  <a:pt x="1359" y="619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19920" y="30481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705720" y="3886200"/>
                <a:ext cx="77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24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3" dur="indefinite" restart="never" nodeType="tmRoot">
          <p:childTnLst>
            <p:seq>
              <p:cTn id="3594" dur="indefinite" nodeType="mainSeq">
                <p:childTnLst>
                  <p:par>
                    <p:cTn id="3595" fill="hold">
                      <p:stCondLst>
                        <p:cond delay="indefinite"/>
                      </p:stCondLst>
                      <p:childTnLst>
                        <p:par>
                          <p:cTn id="3596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9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9" fill="hold">
                      <p:stCondLst>
                        <p:cond delay="indefinite"/>
                      </p:stCondLst>
                      <p:childTnLst>
                        <p:par>
                          <p:cTn id="3620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9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5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1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fill="hold">
                      <p:stCondLst>
                        <p:cond delay="indefinite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"/>
          <p:cNvGrpSpPr/>
          <p:nvPr/>
        </p:nvGrpSpPr>
        <p:grpSpPr>
          <a:xfrm>
            <a:off x="4648320" y="1981080"/>
            <a:ext cx="3638520" cy="1861560"/>
            <a:chOff x="4648320" y="1981080"/>
            <a:chExt cx="3638520" cy="1861560"/>
          </a:xfrm>
        </p:grpSpPr>
        <p:sp>
          <p:nvSpPr>
            <p:cNvPr id="1228" name=""/>
            <p:cNvSpPr/>
            <p:nvPr/>
          </p:nvSpPr>
          <p:spPr>
            <a:xfrm>
              <a:off x="6060600" y="350532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9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3638520" cy="15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0" name="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5105160" cy="150984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103680" y="604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478240" y="60480"/>
            <a:ext cx="371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i(t) in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769920" y="441360"/>
            <a:ext cx="5344200" cy="5806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ources have different frequenci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phasor analysis MUST use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0" y="1981080"/>
            <a:ext cx="3952800" cy="1861560"/>
            <a:chOff x="0" y="1981080"/>
            <a:chExt cx="3952800" cy="1861560"/>
          </a:xfrm>
        </p:grpSpPr>
        <p:pic>
          <p:nvPicPr>
            <p:cNvPr id="1235" name="" descr=""/>
            <p:cNvPicPr/>
            <p:nvPr/>
          </p:nvPicPr>
          <p:blipFill>
            <a:blip r:embed="rId3"/>
            <a:stretch/>
          </p:blipFill>
          <p:spPr>
            <a:xfrm>
              <a:off x="0" y="1981080"/>
              <a:ext cx="395280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6" name=""/>
            <p:cNvSpPr/>
            <p:nvPr/>
          </p:nvSpPr>
          <p:spPr>
            <a:xfrm>
              <a:off x="594000" y="3505320"/>
              <a:ext cx="3085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1: FREQUENCY 10 r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7" name="" descr=""/>
          <p:cNvPicPr/>
          <p:nvPr/>
        </p:nvPicPr>
        <p:blipFill>
          <a:blip r:embed="rId4"/>
          <a:stretch/>
        </p:blipFill>
        <p:spPr>
          <a:xfrm>
            <a:off x="5715000" y="2514600"/>
            <a:ext cx="2438280" cy="62712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5"/>
          <a:stretch/>
        </p:blipFill>
        <p:spPr>
          <a:xfrm>
            <a:off x="1295280" y="2971800"/>
            <a:ext cx="2514600" cy="355680"/>
          </a:xfrm>
          <a:prstGeom prst="rect">
            <a:avLst/>
          </a:prstGeom>
          <a:ln w="0">
            <a:noFill/>
          </a:ln>
        </p:spPr>
      </p:pic>
      <p:grpSp>
        <p:nvGrpSpPr>
          <p:cNvPr id="1239" name=""/>
          <p:cNvGrpSpPr/>
          <p:nvPr/>
        </p:nvGrpSpPr>
        <p:grpSpPr>
          <a:xfrm>
            <a:off x="228600" y="3886200"/>
            <a:ext cx="4419720" cy="1845360"/>
            <a:chOff x="228600" y="3886200"/>
            <a:chExt cx="4419720" cy="1845360"/>
          </a:xfrm>
        </p:grpSpPr>
        <p:pic>
          <p:nvPicPr>
            <p:cNvPr id="1240" name="" descr=""/>
            <p:cNvPicPr/>
            <p:nvPr/>
          </p:nvPicPr>
          <p:blipFill>
            <a:blip r:embed="rId6"/>
            <a:stretch/>
          </p:blipFill>
          <p:spPr>
            <a:xfrm>
              <a:off x="228600" y="3886200"/>
              <a:ext cx="441972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347400" y="5394240"/>
              <a:ext cx="3032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2: FREQUENCY 20r/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2" name="" descr=""/>
          <p:cNvPicPr/>
          <p:nvPr/>
        </p:nvPicPr>
        <p:blipFill>
          <a:blip r:embed="rId7"/>
          <a:stretch/>
        </p:blipFill>
        <p:spPr>
          <a:xfrm>
            <a:off x="5438880" y="3886200"/>
            <a:ext cx="3705120" cy="159084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/>
          <p:cNvPicPr/>
          <p:nvPr/>
        </p:nvPicPr>
        <p:blipFill>
          <a:blip r:embed="rId8"/>
          <a:stretch/>
        </p:blipFill>
        <p:spPr>
          <a:xfrm>
            <a:off x="5562720" y="4724280"/>
            <a:ext cx="2438280" cy="53352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9"/>
          <a:stretch/>
        </p:blipFill>
        <p:spPr>
          <a:xfrm>
            <a:off x="304920" y="4876920"/>
            <a:ext cx="2571480" cy="342720"/>
          </a:xfrm>
          <a:prstGeom prst="rect">
            <a:avLst/>
          </a:prstGeom>
          <a:ln w="0">
            <a:noFill/>
          </a:ln>
        </p:spPr>
      </p:pic>
      <p:grpSp>
        <p:nvGrpSpPr>
          <p:cNvPr id="1245" name=""/>
          <p:cNvGrpSpPr/>
          <p:nvPr/>
        </p:nvGrpSpPr>
        <p:grpSpPr>
          <a:xfrm>
            <a:off x="2590920" y="5791320"/>
            <a:ext cx="5162400" cy="626040"/>
            <a:chOff x="2590920" y="5791320"/>
            <a:chExt cx="5162400" cy="626040"/>
          </a:xfrm>
        </p:grpSpPr>
        <p:grpSp>
          <p:nvGrpSpPr>
            <p:cNvPr id="1246" name=""/>
            <p:cNvGrpSpPr/>
            <p:nvPr/>
          </p:nvGrpSpPr>
          <p:grpSpPr>
            <a:xfrm>
              <a:off x="2590920" y="5791320"/>
              <a:ext cx="5162400" cy="323640"/>
              <a:chOff x="2590920" y="5791320"/>
              <a:chExt cx="5162400" cy="323640"/>
            </a:xfrm>
          </p:grpSpPr>
          <p:pic>
            <p:nvPicPr>
              <p:cNvPr id="124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590920" y="5791320"/>
                <a:ext cx="3124080" cy="32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15000" y="5791320"/>
                <a:ext cx="20383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9" name=""/>
            <p:cNvSpPr/>
            <p:nvPr/>
          </p:nvSpPr>
          <p:spPr>
            <a:xfrm>
              <a:off x="3141360" y="6080040"/>
              <a:ext cx="2779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nciple of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0" name="" descr=""/>
          <p:cNvPicPr/>
          <p:nvPr/>
        </p:nvPicPr>
        <p:blipFill>
          <a:blip r:embed="rId1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7" dur="indefinite" restart="never" nodeType="tmRoot">
          <p:childTnLst>
            <p:seq>
              <p:cTn id="3668" dur="indefinite" nodeType="mainSeq">
                <p:childTnLst>
                  <p:par>
                    <p:cTn id="3669" fill="hold">
                      <p:stCondLst>
                        <p:cond delay="indefinite"/>
                      </p:stCondLst>
                      <p:childTnLst>
                        <p:par>
                          <p:cTn id="3670" fill="hold">
                            <p:stCondLst>
                              <p:cond delay="0"/>
                            </p:stCondLst>
                            <p:childTnLst>
                              <p:par>
                                <p:cTn id="3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4" fill="hold">
                      <p:stCondLst>
                        <p:cond delay="indefinite"/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4" fill="hold">
                      <p:stCondLst>
                        <p:cond delay="indefinite"/>
                      </p:stCondLst>
                      <p:childTnLst>
                        <p:par>
                          <p:cTn id="3685" fill="hold">
                            <p:stCondLst>
                              <p:cond delay="0"/>
                            </p:stCondLst>
                            <p:childTnLst>
                              <p:par>
                                <p:cTn id="3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8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fill="hold">
                      <p:stCondLst>
                        <p:cond delay="indefinite"/>
                      </p:stCondLst>
                      <p:childTnLst>
                        <p:par>
                          <p:cTn id="3695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3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8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4" fill="hold">
                      <p:stCondLst>
                        <p:cond delay="indefinite"/>
                      </p:stCondLst>
                      <p:childTnLst>
                        <p:par>
                          <p:cTn id="3715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8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02960" y="76320"/>
            <a:ext cx="172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45160" y="1400040"/>
            <a:ext cx="406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less previously re-defined,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cognizes “i” or “j” as imaginary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08400" y="2027160"/>
            <a:ext cx="220752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2=3+4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2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000 + 4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1=4+6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1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.0000 + 6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3360" y="4541760"/>
            <a:ext cx="423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its output MATLAB always uses “i”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aginary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32560" y="501480"/>
            <a:ext cx="4024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recognizes complex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rectangular representation. It d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 recogniz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487760" y="380880"/>
            <a:ext cx="466128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=45; % angle in degr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=a*pi/180, %convert degrees to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=10; %defin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x=m*cos(ar); %real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y=m*sin(ar); %imaginary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=x+i*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 + 7.0711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4572000" y="152280"/>
            <a:ext cx="3670200" cy="279360"/>
            <a:chOff x="4572000" y="152280"/>
            <a:chExt cx="3670200" cy="279360"/>
          </a:xfrm>
        </p:grpSpPr>
        <mc:AlternateContent>
          <mc:Choice xmlns:a14="http://schemas.microsoft.com/office/drawing/2010/main" Requires="a14">
            <p:sp>
              <p:nvSpPr>
                <p:cNvPr id="1260" name=""/>
                <p:cNvSpPr txBox="1"/>
                <p:nvPr/>
              </p:nvSpPr>
              <p:spPr>
                <a:xfrm>
                  <a:off x="7162920" y="152280"/>
                  <a:ext cx="10792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1" name=""/>
                <p:cNvSpPr txBox="1"/>
                <p:nvPr/>
              </p:nvSpPr>
              <p:spPr>
                <a:xfrm>
                  <a:off x="4572000" y="152280"/>
                  <a:ext cx="24382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Rectangula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2" name=""/>
          <p:cNvSpPr/>
          <p:nvPr/>
        </p:nvSpPr>
        <p:spPr>
          <a:xfrm>
            <a:off x="4491000" y="3429000"/>
            <a:ext cx="4554720" cy="350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  7.0711 + 7.0711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p=abs(z); %comput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p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r=angle(z); %compute angle in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deg=arr*180/pi; %convert to deg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eg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real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imag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7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5" dur="indefinite" restart="never" nodeType="tmRoot">
          <p:childTnLst>
            <p:seq>
              <p:cTn id="3726" dur="indefinite" nodeType="mainSeq">
                <p:childTnLst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1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7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fill="hold">
                      <p:stCondLst>
                        <p:cond delay="indefinite"/>
                      </p:stCondLst>
                      <p:childTnLst>
                        <p:par>
                          <p:cTn id="3740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0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6" name=""/>
          <p:cNvGraphicFramePr/>
          <p:nvPr/>
        </p:nvGraphicFramePr>
        <p:xfrm>
          <a:off x="0" y="598320"/>
          <a:ext cx="472428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98320"/>
                    <a:ext cx="472428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511720" y="58680"/>
            <a:ext cx="332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76320" y="34290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76320" y="3809880"/>
                <a:ext cx="278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72" name=""/>
          <p:cNvGrpSpPr/>
          <p:nvPr/>
        </p:nvGrpSpPr>
        <p:grpSpPr>
          <a:xfrm>
            <a:off x="2742840" y="990720"/>
            <a:ext cx="838440" cy="533160"/>
            <a:chOff x="2742840" y="990720"/>
            <a:chExt cx="838440" cy="533160"/>
          </a:xfrm>
        </p:grpSpPr>
        <p:sp>
          <p:nvSpPr>
            <p:cNvPr id="1273" name=""/>
            <p:cNvSpPr/>
            <p:nvPr/>
          </p:nvSpPr>
          <p:spPr>
            <a:xfrm flipH="1">
              <a:off x="2742840" y="99072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76720" y="9907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76720" y="106668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3811680" y="839880"/>
            <a:ext cx="608040" cy="608040"/>
            <a:chOff x="3811680" y="839880"/>
            <a:chExt cx="608040" cy="608040"/>
          </a:xfrm>
        </p:grpSpPr>
        <p:sp>
          <p:nvSpPr>
            <p:cNvPr id="1277" name=""/>
            <p:cNvSpPr/>
            <p:nvPr/>
          </p:nvSpPr>
          <p:spPr>
            <a:xfrm flipH="1">
              <a:off x="3811680" y="8398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3962520" y="1066680"/>
              <a:ext cx="30456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419720" y="99072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76320" y="4419720"/>
                <a:ext cx="2361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1" name=""/>
          <p:cNvGrpSpPr/>
          <p:nvPr/>
        </p:nvGrpSpPr>
        <p:grpSpPr>
          <a:xfrm>
            <a:off x="2128680" y="1599840"/>
            <a:ext cx="309600" cy="833760"/>
            <a:chOff x="2128680" y="1599840"/>
            <a:chExt cx="309600" cy="833760"/>
          </a:xfrm>
        </p:grpSpPr>
        <p:sp>
          <p:nvSpPr>
            <p:cNvPr id="1282" name=""/>
            <p:cNvSpPr/>
            <p:nvPr/>
          </p:nvSpPr>
          <p:spPr>
            <a:xfrm>
              <a:off x="2128680" y="212868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2133720" y="159984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33720" y="2133720"/>
              <a:ext cx="30456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76320" y="50292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6" name=""/>
          <p:cNvGrpSpPr/>
          <p:nvPr/>
        </p:nvGrpSpPr>
        <p:grpSpPr>
          <a:xfrm>
            <a:off x="2741760" y="1599840"/>
            <a:ext cx="839520" cy="991080"/>
            <a:chOff x="2741760" y="1599840"/>
            <a:chExt cx="839520" cy="991080"/>
          </a:xfrm>
        </p:grpSpPr>
        <p:sp>
          <p:nvSpPr>
            <p:cNvPr id="1287" name=""/>
            <p:cNvSpPr/>
            <p:nvPr/>
          </p:nvSpPr>
          <p:spPr>
            <a:xfrm flipH="1">
              <a:off x="2741760" y="2128680"/>
              <a:ext cx="3045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48120" y="2209680"/>
              <a:ext cx="0" cy="3812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352680" y="205740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3352680" y="175212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3276720" y="1599840"/>
              <a:ext cx="0" cy="304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76320" y="5638680"/>
                <a:ext cx="436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4800600" y="380880"/>
                <a:ext cx="370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4495680" y="990720"/>
                <a:ext cx="47116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3211560" y="3429000"/>
                <a:ext cx="593244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∠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6045120" y="522756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5943600" y="5638680"/>
                <a:ext cx="965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9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3" dur="indefinite" restart="never" nodeType="tmRoot">
          <p:childTnLst>
            <p:seq>
              <p:cTn id="3764" dur="indefinite" nodeType="mainSeq">
                <p:childTnLst>
                  <p:par>
                    <p:cTn id="3765" fill="hold">
                      <p:stCondLst>
                        <p:cond delay="indefinite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9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1" fill="hold">
                      <p:stCondLst>
                        <p:cond delay="indefinite"/>
                      </p:stCondLst>
                      <p:childTnLst>
                        <p:par>
                          <p:cTn id="3772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7" fill="hold">
                      <p:stCondLst>
                        <p:cond delay="indefinite"/>
                      </p:stCondLst>
                      <p:childTnLst>
                        <p:par>
                          <p:cTn id="3778" fill="hold">
                            <p:stCondLst>
                              <p:cond delay="0"/>
                            </p:stCondLst>
                            <p:childTnLst>
                              <p:par>
                                <p:cTn id="3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2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3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fill="hold">
                      <p:stCondLst>
                        <p:cond delay="indefinite"/>
                      </p:stCondLst>
                      <p:childTnLst>
                        <p:par>
                          <p:cTn id="3796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fill="hold">
                      <p:stCondLst>
                        <p:cond delay="indefinite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3" fill="hold">
                      <p:stCondLst>
                        <p:cond delay="indefinite"/>
                      </p:stCondLst>
                      <p:childTnLst>
                        <p:par>
                          <p:cTn id="3814" fill="hold">
                            <p:stCondLst>
                              <p:cond delay="0"/>
                            </p:stCondLst>
                            <p:childTnLst>
                              <p:par>
                                <p:cTn id="3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8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0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6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7" fill="hold">
                      <p:stCondLst>
                        <p:cond delay="indefinite"/>
                      </p:stCondLst>
                      <p:childTnLst>
                        <p:par>
                          <p:cTn id="3838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9" fill="hold">
                      <p:stCondLst>
                        <p:cond delay="indefinite"/>
                      </p:stCondLst>
                      <p:childTnLst>
                        <p:par>
                          <p:cTn id="3850" fill="hold">
                            <p:stCondLst>
                              <p:cond delay="0"/>
                            </p:stCondLst>
                            <p:childTnLst>
                              <p:par>
                                <p:cTn id="3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3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69480" y="152280"/>
            <a:ext cx="583488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8p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he RHS vect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=zeros(5,1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and define non zero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1)=12*cos(30*pi/180)+j*12*sin(30*pi/18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5)=2*cos(pi/4)+j*2*sin(pi/4),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cho the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define the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[1,0,0,0,0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,1+0.5j,-j,0,0.5j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-j,1.5+j,0,-0.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r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0.5,0,0,1.5+j,-1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ourth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0.5i,-0.5,-1,1.5+0.5i]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last row and do e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=y\ir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 equations and echo th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-1440" y="1228680"/>
            <a:ext cx="5667120" cy="2963520"/>
            <a:chOff x="-1440" y="1228680"/>
            <a:chExt cx="5667120" cy="2963520"/>
          </a:xfrm>
        </p:grpSpPr>
        <p:grpSp>
          <p:nvGrpSpPr>
            <p:cNvPr id="1303" name=""/>
            <p:cNvGrpSpPr/>
            <p:nvPr/>
          </p:nvGrpSpPr>
          <p:grpSpPr>
            <a:xfrm>
              <a:off x="-1440" y="2819520"/>
              <a:ext cx="3078360" cy="1372680"/>
              <a:chOff x="-1440" y="2819520"/>
              <a:chExt cx="3078360" cy="1372680"/>
            </a:xfrm>
          </p:grpSpPr>
          <p:sp>
            <p:nvSpPr>
              <p:cNvPr id="1304" name=""/>
              <p:cNvSpPr/>
              <p:nvPr/>
            </p:nvSpPr>
            <p:spPr>
              <a:xfrm>
                <a:off x="1712160" y="3429000"/>
                <a:ext cx="13647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RH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-1440" y="2819520"/>
                <a:ext cx="22078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ir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142 + 1.4142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>
              <a:off x="3141720" y="1228680"/>
              <a:ext cx="2523960" cy="2373480"/>
            </a:xfrm>
            <a:custGeom>
              <a:avLst/>
              <a:gdLst/>
              <a:ahLst/>
              <a:rect l="l" t="t" r="r" b="b"/>
              <a:pathLst>
                <a:path w="1590" h="1495">
                  <a:moveTo>
                    <a:pt x="343" y="13"/>
                  </a:moveTo>
                  <a:cubicBezTo>
                    <a:pt x="740" y="4"/>
                    <a:pt x="889" y="0"/>
                    <a:pt x="1325" y="5"/>
                  </a:cubicBezTo>
                  <a:cubicBezTo>
                    <a:pt x="1348" y="8"/>
                    <a:pt x="1372" y="10"/>
                    <a:pt x="1395" y="13"/>
                  </a:cubicBezTo>
                  <a:cubicBezTo>
                    <a:pt x="1411" y="15"/>
                    <a:pt x="1433" y="8"/>
                    <a:pt x="1442" y="21"/>
                  </a:cubicBezTo>
                  <a:cubicBezTo>
                    <a:pt x="1456" y="40"/>
                    <a:pt x="1447" y="68"/>
                    <a:pt x="1450" y="91"/>
                  </a:cubicBezTo>
                  <a:cubicBezTo>
                    <a:pt x="1458" y="153"/>
                    <a:pt x="1460" y="214"/>
                    <a:pt x="1489" y="270"/>
                  </a:cubicBezTo>
                  <a:cubicBezTo>
                    <a:pt x="1507" y="436"/>
                    <a:pt x="1482" y="246"/>
                    <a:pt x="1512" y="379"/>
                  </a:cubicBezTo>
                  <a:cubicBezTo>
                    <a:pt x="1526" y="439"/>
                    <a:pt x="1523" y="511"/>
                    <a:pt x="1551" y="566"/>
                  </a:cubicBezTo>
                  <a:cubicBezTo>
                    <a:pt x="1558" y="698"/>
                    <a:pt x="1577" y="825"/>
                    <a:pt x="1590" y="956"/>
                  </a:cubicBezTo>
                  <a:cubicBezTo>
                    <a:pt x="1584" y="1027"/>
                    <a:pt x="1585" y="1156"/>
                    <a:pt x="1528" y="1213"/>
                  </a:cubicBezTo>
                  <a:cubicBezTo>
                    <a:pt x="1516" y="1225"/>
                    <a:pt x="1497" y="1224"/>
                    <a:pt x="1481" y="1229"/>
                  </a:cubicBezTo>
                  <a:cubicBezTo>
                    <a:pt x="1387" y="1300"/>
                    <a:pt x="1344" y="1308"/>
                    <a:pt x="1232" y="1330"/>
                  </a:cubicBezTo>
                  <a:cubicBezTo>
                    <a:pt x="958" y="1495"/>
                    <a:pt x="428" y="1429"/>
                    <a:pt x="195" y="1431"/>
                  </a:cubicBezTo>
                  <a:cubicBezTo>
                    <a:pt x="128" y="1440"/>
                    <a:pt x="67" y="1470"/>
                    <a:pt x="0" y="147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104040" y="2548080"/>
            <a:ext cx="8373240" cy="4393080"/>
            <a:chOff x="104040" y="2548080"/>
            <a:chExt cx="8373240" cy="4393080"/>
          </a:xfrm>
        </p:grpSpPr>
        <p:grpSp>
          <p:nvGrpSpPr>
            <p:cNvPr id="1308" name=""/>
            <p:cNvGrpSpPr/>
            <p:nvPr/>
          </p:nvGrpSpPr>
          <p:grpSpPr>
            <a:xfrm>
              <a:off x="104040" y="4076640"/>
              <a:ext cx="8288640" cy="2864520"/>
              <a:chOff x="104040" y="4076640"/>
              <a:chExt cx="8288640" cy="2864520"/>
            </a:xfrm>
          </p:grpSpPr>
          <p:sp>
            <p:nvSpPr>
              <p:cNvPr id="1309" name=""/>
              <p:cNvSpPr/>
              <p:nvPr/>
            </p:nvSpPr>
            <p:spPr>
              <a:xfrm>
                <a:off x="104040" y="4076640"/>
                <a:ext cx="828864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y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s 1 through 4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0000                  0                  0          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   1.0000 + 0.5000i        0 -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- 1.0000i   1.5000 +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        0                  0             1.5000 + 1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+ 0.5000i  -0.5000            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 5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500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909880" y="5791320"/>
                <a:ext cx="16362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Matr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>
              <a:off x="2300400" y="2548080"/>
              <a:ext cx="6176880" cy="4206600"/>
            </a:xfrm>
            <a:custGeom>
              <a:avLst/>
              <a:gdLst/>
              <a:ahLst/>
              <a:rect l="l" t="t" r="r" b="b"/>
              <a:pathLst>
                <a:path w="3891" h="2650">
                  <a:moveTo>
                    <a:pt x="600" y="0"/>
                  </a:moveTo>
                  <a:cubicBezTo>
                    <a:pt x="840" y="20"/>
                    <a:pt x="962" y="13"/>
                    <a:pt x="1263" y="8"/>
                  </a:cubicBezTo>
                  <a:cubicBezTo>
                    <a:pt x="1455" y="11"/>
                    <a:pt x="1647" y="11"/>
                    <a:pt x="1839" y="16"/>
                  </a:cubicBezTo>
                  <a:cubicBezTo>
                    <a:pt x="1855" y="16"/>
                    <a:pt x="1883" y="8"/>
                    <a:pt x="1886" y="24"/>
                  </a:cubicBezTo>
                  <a:cubicBezTo>
                    <a:pt x="1898" y="101"/>
                    <a:pt x="1882" y="180"/>
                    <a:pt x="1878" y="258"/>
                  </a:cubicBezTo>
                  <a:cubicBezTo>
                    <a:pt x="1871" y="398"/>
                    <a:pt x="1845" y="558"/>
                    <a:pt x="1762" y="671"/>
                  </a:cubicBezTo>
                  <a:cubicBezTo>
                    <a:pt x="1727" y="773"/>
                    <a:pt x="1758" y="704"/>
                    <a:pt x="1621" y="842"/>
                  </a:cubicBezTo>
                  <a:cubicBezTo>
                    <a:pt x="1606" y="858"/>
                    <a:pt x="1575" y="889"/>
                    <a:pt x="1575" y="889"/>
                  </a:cubicBezTo>
                  <a:cubicBezTo>
                    <a:pt x="1557" y="941"/>
                    <a:pt x="1549" y="953"/>
                    <a:pt x="1497" y="967"/>
                  </a:cubicBezTo>
                  <a:cubicBezTo>
                    <a:pt x="1123" y="964"/>
                    <a:pt x="0" y="959"/>
                    <a:pt x="374" y="959"/>
                  </a:cubicBezTo>
                  <a:cubicBezTo>
                    <a:pt x="1179" y="959"/>
                    <a:pt x="1985" y="962"/>
                    <a:pt x="2790" y="967"/>
                  </a:cubicBezTo>
                  <a:cubicBezTo>
                    <a:pt x="2941" y="968"/>
                    <a:pt x="3091" y="978"/>
                    <a:pt x="3242" y="982"/>
                  </a:cubicBezTo>
                  <a:cubicBezTo>
                    <a:pt x="3360" y="989"/>
                    <a:pt x="3461" y="1009"/>
                    <a:pt x="3577" y="1029"/>
                  </a:cubicBezTo>
                  <a:cubicBezTo>
                    <a:pt x="3662" y="1060"/>
                    <a:pt x="3670" y="1086"/>
                    <a:pt x="3725" y="1146"/>
                  </a:cubicBezTo>
                  <a:cubicBezTo>
                    <a:pt x="3750" y="1173"/>
                    <a:pt x="3803" y="1224"/>
                    <a:pt x="3803" y="1224"/>
                  </a:cubicBezTo>
                  <a:cubicBezTo>
                    <a:pt x="3820" y="1273"/>
                    <a:pt x="3832" y="1323"/>
                    <a:pt x="3850" y="1372"/>
                  </a:cubicBezTo>
                  <a:cubicBezTo>
                    <a:pt x="3869" y="1537"/>
                    <a:pt x="3891" y="1705"/>
                    <a:pt x="3834" y="1863"/>
                  </a:cubicBezTo>
                  <a:cubicBezTo>
                    <a:pt x="3819" y="1905"/>
                    <a:pt x="3819" y="1929"/>
                    <a:pt x="3795" y="1964"/>
                  </a:cubicBezTo>
                  <a:cubicBezTo>
                    <a:pt x="3788" y="1989"/>
                    <a:pt x="3771" y="2048"/>
                    <a:pt x="3756" y="2066"/>
                  </a:cubicBezTo>
                  <a:cubicBezTo>
                    <a:pt x="3719" y="2111"/>
                    <a:pt x="3632" y="2190"/>
                    <a:pt x="3632" y="2190"/>
                  </a:cubicBezTo>
                  <a:cubicBezTo>
                    <a:pt x="3604" y="2273"/>
                    <a:pt x="3568" y="2261"/>
                    <a:pt x="3491" y="2292"/>
                  </a:cubicBezTo>
                  <a:cubicBezTo>
                    <a:pt x="3341" y="2352"/>
                    <a:pt x="3183" y="2359"/>
                    <a:pt x="3024" y="2385"/>
                  </a:cubicBezTo>
                  <a:cubicBezTo>
                    <a:pt x="2909" y="2454"/>
                    <a:pt x="2796" y="2466"/>
                    <a:pt x="2665" y="2479"/>
                  </a:cubicBezTo>
                  <a:cubicBezTo>
                    <a:pt x="2624" y="2489"/>
                    <a:pt x="2575" y="2485"/>
                    <a:pt x="2541" y="2510"/>
                  </a:cubicBezTo>
                  <a:cubicBezTo>
                    <a:pt x="2524" y="2522"/>
                    <a:pt x="2499" y="2544"/>
                    <a:pt x="2478" y="2549"/>
                  </a:cubicBezTo>
                  <a:cubicBezTo>
                    <a:pt x="2318" y="2589"/>
                    <a:pt x="2144" y="2602"/>
                    <a:pt x="1980" y="2619"/>
                  </a:cubicBezTo>
                  <a:cubicBezTo>
                    <a:pt x="1897" y="2627"/>
                    <a:pt x="1884" y="2630"/>
                    <a:pt x="1793" y="2634"/>
                  </a:cubicBezTo>
                  <a:cubicBezTo>
                    <a:pt x="1565" y="2644"/>
                    <a:pt x="1640" y="2609"/>
                    <a:pt x="1559" y="265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2746440" y="331920"/>
            <a:ext cx="6114960" cy="2427120"/>
            <a:chOff x="2746440" y="331920"/>
            <a:chExt cx="6114960" cy="2427120"/>
          </a:xfrm>
        </p:grpSpPr>
        <p:grpSp>
          <p:nvGrpSpPr>
            <p:cNvPr id="1313" name=""/>
            <p:cNvGrpSpPr/>
            <p:nvPr/>
          </p:nvGrpSpPr>
          <p:grpSpPr>
            <a:xfrm>
              <a:off x="6399360" y="457200"/>
              <a:ext cx="2207880" cy="1966680"/>
              <a:chOff x="6399360" y="457200"/>
              <a:chExt cx="2207880" cy="1966680"/>
            </a:xfrm>
          </p:grpSpPr>
          <p:sp>
            <p:nvSpPr>
              <p:cNvPr id="1314" name=""/>
              <p:cNvSpPr/>
              <p:nvPr/>
            </p:nvSpPr>
            <p:spPr>
              <a:xfrm>
                <a:off x="6399360" y="838080"/>
                <a:ext cx="220788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v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7.0766 + 2.158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038 + 2.556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7661 - 2.962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4151 - 3.677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617880" y="457200"/>
                <a:ext cx="17229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2746440" y="331920"/>
              <a:ext cx="6114960" cy="2427120"/>
            </a:xfrm>
            <a:custGeom>
              <a:avLst/>
              <a:gdLst/>
              <a:ahLst/>
              <a:rect l="l" t="t" r="r" b="b"/>
              <a:pathLst>
                <a:path w="3852" h="1529">
                  <a:moveTo>
                    <a:pt x="0" y="1529"/>
                  </a:moveTo>
                  <a:cubicBezTo>
                    <a:pt x="878" y="1521"/>
                    <a:pt x="1757" y="1518"/>
                    <a:pt x="2634" y="1490"/>
                  </a:cubicBezTo>
                  <a:cubicBezTo>
                    <a:pt x="2785" y="1479"/>
                    <a:pt x="2936" y="1479"/>
                    <a:pt x="3086" y="1467"/>
                  </a:cubicBezTo>
                  <a:cubicBezTo>
                    <a:pt x="3138" y="1463"/>
                    <a:pt x="3190" y="1456"/>
                    <a:pt x="3242" y="1451"/>
                  </a:cubicBezTo>
                  <a:cubicBezTo>
                    <a:pt x="3268" y="1448"/>
                    <a:pt x="3320" y="1443"/>
                    <a:pt x="3320" y="1443"/>
                  </a:cubicBezTo>
                  <a:cubicBezTo>
                    <a:pt x="3380" y="1429"/>
                    <a:pt x="3438" y="1420"/>
                    <a:pt x="3499" y="1412"/>
                  </a:cubicBezTo>
                  <a:cubicBezTo>
                    <a:pt x="3524" y="1399"/>
                    <a:pt x="3552" y="1394"/>
                    <a:pt x="3577" y="1381"/>
                  </a:cubicBezTo>
                  <a:cubicBezTo>
                    <a:pt x="3630" y="1353"/>
                    <a:pt x="3653" y="1311"/>
                    <a:pt x="3694" y="1272"/>
                  </a:cubicBezTo>
                  <a:cubicBezTo>
                    <a:pt x="3710" y="1166"/>
                    <a:pt x="3750" y="1070"/>
                    <a:pt x="3764" y="960"/>
                  </a:cubicBezTo>
                  <a:cubicBezTo>
                    <a:pt x="3784" y="804"/>
                    <a:pt x="3801" y="648"/>
                    <a:pt x="3818" y="492"/>
                  </a:cubicBezTo>
                  <a:cubicBezTo>
                    <a:pt x="3828" y="289"/>
                    <a:pt x="3852" y="262"/>
                    <a:pt x="3701" y="40"/>
                  </a:cubicBezTo>
                  <a:cubicBezTo>
                    <a:pt x="3687" y="19"/>
                    <a:pt x="3532" y="11"/>
                    <a:pt x="3514" y="9"/>
                  </a:cubicBezTo>
                  <a:cubicBezTo>
                    <a:pt x="3192" y="12"/>
                    <a:pt x="2870" y="0"/>
                    <a:pt x="2548" y="17"/>
                  </a:cubicBezTo>
                  <a:cubicBezTo>
                    <a:pt x="2513" y="19"/>
                    <a:pt x="2488" y="54"/>
                    <a:pt x="2455" y="64"/>
                  </a:cubicBezTo>
                  <a:cubicBezTo>
                    <a:pt x="2425" y="73"/>
                    <a:pt x="2392" y="69"/>
                    <a:pt x="2361" y="72"/>
                  </a:cubicBezTo>
                  <a:cubicBezTo>
                    <a:pt x="2351" y="82"/>
                    <a:pt x="2337" y="90"/>
                    <a:pt x="2330" y="103"/>
                  </a:cubicBezTo>
                  <a:cubicBezTo>
                    <a:pt x="2313" y="138"/>
                    <a:pt x="2291" y="212"/>
                    <a:pt x="2291" y="212"/>
                  </a:cubicBezTo>
                  <a:cubicBezTo>
                    <a:pt x="2274" y="311"/>
                    <a:pt x="2248" y="409"/>
                    <a:pt x="2229" y="508"/>
                  </a:cubicBezTo>
                  <a:cubicBezTo>
                    <a:pt x="2218" y="638"/>
                    <a:pt x="2202" y="768"/>
                    <a:pt x="2190" y="898"/>
                  </a:cubicBezTo>
                  <a:cubicBezTo>
                    <a:pt x="2192" y="1056"/>
                    <a:pt x="2197" y="1373"/>
                    <a:pt x="2197" y="1373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7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5" dur="indefinite" restart="never" nodeType="tmRoot">
          <p:childTnLst>
            <p:seq>
              <p:cTn id="3856" dur="indefinite" nodeType="mainSeq">
                <p:childTnLst>
                  <p:par>
                    <p:cTn id="3857" fill="hold">
                      <p:stCondLst>
                        <p:cond delay="indefinite"/>
                      </p:stCondLst>
                      <p:childTnLst>
                        <p:par>
                          <p:cTn id="3858" fill="hold">
                            <p:stCondLst>
                              <p:cond delay="0"/>
                            </p:stCondLst>
                            <p:childTnLst>
                              <p:par>
                                <p:cTn id="3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7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9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164160" y="13644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676600" y="136440"/>
            <a:ext cx="246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I_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419720" cy="231768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448160" cy="3114720"/>
          </a:xfrm>
          <a:prstGeom prst="rect">
            <a:avLst/>
          </a:prstGeom>
          <a:ln w="0">
            <a:noFill/>
          </a:ln>
        </p:spPr>
      </p:pic>
      <p:pic>
        <p:nvPicPr>
          <p:cNvPr id="1324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4191120" cy="2549520"/>
          </a:xfrm>
          <a:prstGeom prst="rect">
            <a:avLst/>
          </a:prstGeom>
          <a:ln w="0">
            <a:noFill/>
          </a:ln>
        </p:spPr>
      </p:pic>
      <p:sp>
        <p:nvSpPr>
          <p:cNvPr id="1325" name=""/>
          <p:cNvSpPr/>
          <p:nvPr/>
        </p:nvSpPr>
        <p:spPr>
          <a:xfrm>
            <a:off x="5165640" y="593640"/>
            <a:ext cx="3956040" cy="1067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6 meshes and two curr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5 non-reference nodes and two voltage sources… slight advantage for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698920" y="2757600"/>
            <a:ext cx="6100560" cy="750600"/>
          </a:xfrm>
          <a:custGeom>
            <a:avLst/>
            <a:gdLst/>
            <a:ahLst/>
            <a:rect l="l" t="t" r="r" b="b"/>
            <a:pathLst>
              <a:path w="3843" h="473">
                <a:moveTo>
                  <a:pt x="3399" y="435"/>
                </a:moveTo>
                <a:cubicBezTo>
                  <a:pt x="3527" y="399"/>
                  <a:pt x="3467" y="410"/>
                  <a:pt x="3578" y="397"/>
                </a:cubicBezTo>
                <a:cubicBezTo>
                  <a:pt x="3647" y="375"/>
                  <a:pt x="3728" y="393"/>
                  <a:pt x="3796" y="416"/>
                </a:cubicBezTo>
                <a:cubicBezTo>
                  <a:pt x="3805" y="413"/>
                  <a:pt x="3818" y="414"/>
                  <a:pt x="3824" y="406"/>
                </a:cubicBezTo>
                <a:cubicBezTo>
                  <a:pt x="3835" y="390"/>
                  <a:pt x="3843" y="350"/>
                  <a:pt x="3843" y="350"/>
                </a:cubicBezTo>
                <a:cubicBezTo>
                  <a:pt x="3840" y="322"/>
                  <a:pt x="3840" y="293"/>
                  <a:pt x="3833" y="265"/>
                </a:cubicBezTo>
                <a:cubicBezTo>
                  <a:pt x="3814" y="192"/>
                  <a:pt x="3616" y="183"/>
                  <a:pt x="3578" y="180"/>
                </a:cubicBezTo>
                <a:cubicBezTo>
                  <a:pt x="3336" y="128"/>
                  <a:pt x="3090" y="89"/>
                  <a:pt x="2842" y="76"/>
                </a:cubicBezTo>
                <a:cubicBezTo>
                  <a:pt x="2700" y="54"/>
                  <a:pt x="2560" y="37"/>
                  <a:pt x="2417" y="29"/>
                </a:cubicBezTo>
                <a:cubicBezTo>
                  <a:pt x="2307" y="0"/>
                  <a:pt x="2212" y="14"/>
                  <a:pt x="2096" y="19"/>
                </a:cubicBezTo>
                <a:cubicBezTo>
                  <a:pt x="2032" y="62"/>
                  <a:pt x="2011" y="108"/>
                  <a:pt x="1992" y="180"/>
                </a:cubicBezTo>
                <a:cubicBezTo>
                  <a:pt x="1980" y="425"/>
                  <a:pt x="2034" y="351"/>
                  <a:pt x="1888" y="331"/>
                </a:cubicBezTo>
                <a:cubicBezTo>
                  <a:pt x="1593" y="226"/>
                  <a:pt x="1272" y="211"/>
                  <a:pt x="963" y="199"/>
                </a:cubicBezTo>
                <a:cubicBezTo>
                  <a:pt x="803" y="178"/>
                  <a:pt x="642" y="178"/>
                  <a:pt x="481" y="161"/>
                </a:cubicBezTo>
                <a:cubicBezTo>
                  <a:pt x="267" y="166"/>
                  <a:pt x="197" y="141"/>
                  <a:pt x="47" y="189"/>
                </a:cubicBezTo>
                <a:cubicBezTo>
                  <a:pt x="4" y="254"/>
                  <a:pt x="16" y="224"/>
                  <a:pt x="0" y="274"/>
                </a:cubicBezTo>
                <a:cubicBezTo>
                  <a:pt x="19" y="394"/>
                  <a:pt x="91" y="435"/>
                  <a:pt x="198" y="473"/>
                </a:cubicBezTo>
                <a:cubicBezTo>
                  <a:pt x="211" y="470"/>
                  <a:pt x="226" y="472"/>
                  <a:pt x="236" y="463"/>
                </a:cubicBezTo>
                <a:cubicBezTo>
                  <a:pt x="253" y="448"/>
                  <a:pt x="274" y="406"/>
                  <a:pt x="274" y="406"/>
                </a:cubicBezTo>
                <a:cubicBezTo>
                  <a:pt x="291" y="334"/>
                  <a:pt x="302" y="362"/>
                  <a:pt x="302" y="27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743120" y="3913200"/>
            <a:ext cx="7093080" cy="1033560"/>
          </a:xfrm>
          <a:custGeom>
            <a:avLst/>
            <a:gdLst/>
            <a:ahLst/>
            <a:rect l="l" t="t" r="r" b="b"/>
            <a:pathLst>
              <a:path w="4468" h="651">
                <a:moveTo>
                  <a:pt x="800" y="198"/>
                </a:moveTo>
                <a:cubicBezTo>
                  <a:pt x="549" y="192"/>
                  <a:pt x="410" y="186"/>
                  <a:pt x="196" y="160"/>
                </a:cubicBezTo>
                <a:cubicBezTo>
                  <a:pt x="143" y="166"/>
                  <a:pt x="95" y="172"/>
                  <a:pt x="45" y="188"/>
                </a:cubicBezTo>
                <a:cubicBezTo>
                  <a:pt x="0" y="257"/>
                  <a:pt x="10" y="338"/>
                  <a:pt x="54" y="406"/>
                </a:cubicBezTo>
                <a:cubicBezTo>
                  <a:pt x="65" y="442"/>
                  <a:pt x="91" y="460"/>
                  <a:pt x="111" y="491"/>
                </a:cubicBezTo>
                <a:cubicBezTo>
                  <a:pt x="129" y="546"/>
                  <a:pt x="180" y="566"/>
                  <a:pt x="233" y="576"/>
                </a:cubicBezTo>
                <a:cubicBezTo>
                  <a:pt x="300" y="618"/>
                  <a:pt x="334" y="640"/>
                  <a:pt x="413" y="651"/>
                </a:cubicBezTo>
                <a:cubicBezTo>
                  <a:pt x="425" y="649"/>
                  <a:pt x="490" y="640"/>
                  <a:pt x="507" y="632"/>
                </a:cubicBezTo>
                <a:cubicBezTo>
                  <a:pt x="577" y="597"/>
                  <a:pt x="631" y="542"/>
                  <a:pt x="706" y="519"/>
                </a:cubicBezTo>
                <a:cubicBezTo>
                  <a:pt x="743" y="494"/>
                  <a:pt x="786" y="487"/>
                  <a:pt x="819" y="453"/>
                </a:cubicBezTo>
                <a:cubicBezTo>
                  <a:pt x="860" y="410"/>
                  <a:pt x="878" y="352"/>
                  <a:pt x="942" y="339"/>
                </a:cubicBezTo>
                <a:cubicBezTo>
                  <a:pt x="964" y="335"/>
                  <a:pt x="986" y="333"/>
                  <a:pt x="1008" y="330"/>
                </a:cubicBezTo>
                <a:cubicBezTo>
                  <a:pt x="1065" y="292"/>
                  <a:pt x="1130" y="291"/>
                  <a:pt x="1197" y="283"/>
                </a:cubicBezTo>
                <a:cubicBezTo>
                  <a:pt x="1216" y="277"/>
                  <a:pt x="1234" y="269"/>
                  <a:pt x="1253" y="264"/>
                </a:cubicBezTo>
                <a:cubicBezTo>
                  <a:pt x="1275" y="259"/>
                  <a:pt x="1298" y="260"/>
                  <a:pt x="1319" y="254"/>
                </a:cubicBezTo>
                <a:cubicBezTo>
                  <a:pt x="1330" y="251"/>
                  <a:pt x="1337" y="240"/>
                  <a:pt x="1348" y="236"/>
                </a:cubicBezTo>
                <a:cubicBezTo>
                  <a:pt x="1458" y="196"/>
                  <a:pt x="1582" y="188"/>
                  <a:pt x="1697" y="179"/>
                </a:cubicBezTo>
                <a:cubicBezTo>
                  <a:pt x="1776" y="151"/>
                  <a:pt x="1863" y="156"/>
                  <a:pt x="1943" y="132"/>
                </a:cubicBezTo>
                <a:cubicBezTo>
                  <a:pt x="2146" y="71"/>
                  <a:pt x="2364" y="25"/>
                  <a:pt x="2575" y="0"/>
                </a:cubicBezTo>
                <a:cubicBezTo>
                  <a:pt x="2876" y="13"/>
                  <a:pt x="3165" y="74"/>
                  <a:pt x="3463" y="113"/>
                </a:cubicBezTo>
                <a:cubicBezTo>
                  <a:pt x="3602" y="158"/>
                  <a:pt x="3811" y="138"/>
                  <a:pt x="3925" y="141"/>
                </a:cubicBezTo>
                <a:cubicBezTo>
                  <a:pt x="4084" y="160"/>
                  <a:pt x="4238" y="180"/>
                  <a:pt x="4398" y="188"/>
                </a:cubicBezTo>
                <a:cubicBezTo>
                  <a:pt x="4433" y="211"/>
                  <a:pt x="4450" y="252"/>
                  <a:pt x="4464" y="292"/>
                </a:cubicBezTo>
                <a:cubicBezTo>
                  <a:pt x="4461" y="339"/>
                  <a:pt x="4468" y="389"/>
                  <a:pt x="4454" y="434"/>
                </a:cubicBezTo>
                <a:cubicBezTo>
                  <a:pt x="4450" y="446"/>
                  <a:pt x="4429" y="441"/>
                  <a:pt x="4416" y="443"/>
                </a:cubicBezTo>
                <a:cubicBezTo>
                  <a:pt x="4353" y="452"/>
                  <a:pt x="4298" y="458"/>
                  <a:pt x="4237" y="472"/>
                </a:cubicBezTo>
                <a:cubicBezTo>
                  <a:pt x="4175" y="486"/>
                  <a:pt x="4048" y="500"/>
                  <a:pt x="4048" y="500"/>
                </a:cubicBezTo>
                <a:cubicBezTo>
                  <a:pt x="3954" y="530"/>
                  <a:pt x="3862" y="510"/>
                  <a:pt x="3765" y="500"/>
                </a:cubicBezTo>
                <a:cubicBezTo>
                  <a:pt x="3674" y="478"/>
                  <a:pt x="3782" y="500"/>
                  <a:pt x="3604" y="500"/>
                </a:cubicBezTo>
                <a:cubicBezTo>
                  <a:pt x="3481" y="500"/>
                  <a:pt x="3360" y="472"/>
                  <a:pt x="3236" y="472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1" dur="indefinite" restart="never" nodeType="tmRoot">
          <p:childTnLst>
            <p:seq>
              <p:cTn id="3882" dur="indefinite" nodeType="mainSeq">
                <p:childTnLst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2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7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7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8" fill="hold">
                      <p:stCondLst>
                        <p:cond delay="indefinite"/>
                      </p:stCondLst>
                      <p:childTnLst>
                        <p:par>
                          <p:cTn id="3909" fill="hold">
                            <p:stCondLst>
                              <p:cond delay="0"/>
                            </p:stCondLst>
                            <p:childTnLst>
                              <p:par>
                                <p:cTn id="3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2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3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4314960" cy="1505160"/>
          </a:xfrm>
          <a:prstGeom prst="rect">
            <a:avLst/>
          </a:prstGeom>
          <a:ln w="0">
            <a:noFill/>
          </a:ln>
        </p:spPr>
      </p:pic>
      <p:pic>
        <p:nvPicPr>
          <p:cNvPr id="1332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48160" cy="311472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1055160" y="822240"/>
            <a:ext cx="20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88840" y="974880"/>
            <a:ext cx="1628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4" dur="indefinite" restart="never" nodeType="tmRoot">
          <p:childTnLst>
            <p:seq>
              <p:cTn id="3915" dur="indefinite" nodeType="mainSeq">
                <p:childTnLst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429680" cy="6248520"/>
          </a:xfrm>
          <a:prstGeom prst="rect">
            <a:avLst/>
          </a:prstGeom>
          <a:ln w="0">
            <a:noFill/>
          </a:ln>
        </p:spPr>
      </p:pic>
      <p:pic>
        <p:nvPicPr>
          <p:cNvPr id="1339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4314960" cy="1504800"/>
          </a:xfrm>
          <a:prstGeom prst="rect">
            <a:avLst/>
          </a:prstGeom>
          <a:ln w="0">
            <a:noFill/>
          </a:ln>
        </p:spPr>
      </p:pic>
      <p:sp>
        <p:nvSpPr>
          <p:cNvPr id="1340" name=""/>
          <p:cNvSpPr/>
          <p:nvPr/>
        </p:nvSpPr>
        <p:spPr>
          <a:xfrm>
            <a:off x="4177440" y="66996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30680" y="2651040"/>
            <a:ext cx="20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5029200" y="4784760"/>
            <a:ext cx="1562040" cy="920880"/>
            <a:chOff x="5029200" y="4784760"/>
            <a:chExt cx="1562040" cy="920880"/>
          </a:xfrm>
        </p:grpSpPr>
        <p:pic>
          <p:nvPicPr>
            <p:cNvPr id="1343" name="" descr=""/>
            <p:cNvPicPr/>
            <p:nvPr/>
          </p:nvPicPr>
          <p:blipFill>
            <a:blip r:embed="rId3"/>
            <a:stretch/>
          </p:blipFill>
          <p:spPr>
            <a:xfrm>
              <a:off x="5029200" y="5029200"/>
              <a:ext cx="15620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5035320" y="4784760"/>
              <a:ext cx="104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5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2" dur="indefinite" restart="never" nodeType="tmRoot">
          <p:childTnLst>
            <p:seq>
              <p:cTn id="3923" dur="indefinite" nodeType="mainSeq">
                <p:childTnLst>
                  <p:par>
                    <p:cTn id="3924" fill="hold">
                      <p:stCondLst>
                        <p:cond delay="indefinite"/>
                      </p:stCondLst>
                      <p:childTnLst>
                        <p:par>
                          <p:cTn id="3925" fill="hold">
                            <p:stCondLst>
                              <p:cond delay="0"/>
                            </p:stCondLst>
                            <p:childTnLst>
                              <p:par>
                                <p:cTn id="3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8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31040" y="76320"/>
            <a:ext cx="223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PSPIC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495680" cy="1417680"/>
          </a:xfrm>
          <a:prstGeom prst="rect">
            <a:avLst/>
          </a:prstGeom>
          <a:ln w="0">
            <a:noFill/>
          </a:ln>
        </p:spPr>
      </p:pic>
      <p:grpSp>
        <p:nvGrpSpPr>
          <p:cNvPr id="1350" name=""/>
          <p:cNvGrpSpPr/>
          <p:nvPr/>
        </p:nvGrpSpPr>
        <p:grpSpPr>
          <a:xfrm>
            <a:off x="152280" y="2268360"/>
            <a:ext cx="3276720" cy="2227320"/>
            <a:chOff x="152280" y="2268360"/>
            <a:chExt cx="3276720" cy="2227320"/>
          </a:xfrm>
        </p:grpSpPr>
        <p:pic>
          <p:nvPicPr>
            <p:cNvPr id="1351" name="" descr=""/>
            <p:cNvPicPr/>
            <p:nvPr/>
          </p:nvPicPr>
          <p:blipFill>
            <a:blip r:embed="rId2"/>
            <a:stretch/>
          </p:blipFill>
          <p:spPr>
            <a:xfrm>
              <a:off x="152280" y="2604960"/>
              <a:ext cx="327672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"/>
            <p:cNvSpPr/>
            <p:nvPr/>
          </p:nvSpPr>
          <p:spPr>
            <a:xfrm>
              <a:off x="179640" y="226836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 and place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152280" y="4648320"/>
            <a:ext cx="3505320" cy="2135160"/>
            <a:chOff x="152280" y="4648320"/>
            <a:chExt cx="3505320" cy="2135160"/>
          </a:xfrm>
        </p:grpSpPr>
        <p:pic>
          <p:nvPicPr>
            <p:cNvPr id="1354" name="" descr=""/>
            <p:cNvPicPr/>
            <p:nvPr/>
          </p:nvPicPr>
          <p:blipFill>
            <a:blip r:embed="rId3"/>
            <a:stretch/>
          </p:blipFill>
          <p:spPr>
            <a:xfrm>
              <a:off x="152280" y="4989600"/>
              <a:ext cx="350532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5" name=""/>
            <p:cNvSpPr/>
            <p:nvPr/>
          </p:nvSpPr>
          <p:spPr>
            <a:xfrm>
              <a:off x="169200" y="4648320"/>
              <a:ext cx="330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re and set correc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4648320" y="196920"/>
            <a:ext cx="4267080" cy="3247200"/>
            <a:chOff x="4648320" y="196920"/>
            <a:chExt cx="4267080" cy="3247200"/>
          </a:xfrm>
        </p:grpSpPr>
        <p:pic>
          <p:nvPicPr>
            <p:cNvPr id="1357" name="" descr=""/>
            <p:cNvPicPr/>
            <p:nvPr/>
          </p:nvPicPr>
          <p:blipFill>
            <a:blip r:embed="rId4"/>
            <a:stretch/>
          </p:blipFill>
          <p:spPr>
            <a:xfrm>
              <a:off x="4648320" y="533520"/>
              <a:ext cx="42670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4753080" y="196920"/>
              <a:ext cx="312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ady to be simul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60360" y="3106800"/>
              <a:ext cx="308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 set, meters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522000" y="2649600"/>
            <a:ext cx="2372400" cy="1632600"/>
            <a:chOff x="522000" y="2649600"/>
            <a:chExt cx="2372400" cy="1632600"/>
          </a:xfrm>
        </p:grpSpPr>
        <p:sp>
          <p:nvSpPr>
            <p:cNvPr id="1361" name=""/>
            <p:cNvSpPr/>
            <p:nvPr/>
          </p:nvSpPr>
          <p:spPr>
            <a:xfrm>
              <a:off x="765000" y="3944880"/>
              <a:ext cx="58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22000" y="2725560"/>
              <a:ext cx="31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25680" y="2649600"/>
              <a:ext cx="29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584080" y="3792600"/>
              <a:ext cx="310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5" name=""/>
          <p:cNvSpPr/>
          <p:nvPr/>
        </p:nvSpPr>
        <p:spPr>
          <a:xfrm flipH="1">
            <a:off x="6019920" y="2362320"/>
            <a:ext cx="7617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5" dur="indefinite" restart="never" nodeType="tmRoot">
          <p:childTnLst>
            <p:seq>
              <p:cTn id="3936" dur="indefinite" nodeType="mainSeq">
                <p:childTnLst>
                  <p:par>
                    <p:cTn id="3937" fill="hold">
                      <p:stCondLst>
                        <p:cond delay="indefinite"/>
                      </p:stCondLst>
                      <p:childTnLst>
                        <p:par>
                          <p:cTn id="3938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7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8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5800" y="609480"/>
                <a:ext cx="25779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25909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2935440"/>
                <a:ext cx="412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25480" y="3276720"/>
                <a:ext cx="3137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581280" y="365760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5029200"/>
                <a:ext cx="201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14400" y="3962520"/>
                <a:ext cx="2044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4307040"/>
                <a:ext cx="4622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14400" y="4724280"/>
                <a:ext cx="3187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04920" y="79200"/>
            <a:ext cx="7924680" cy="66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VM($N_0003) VP($N_000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651E+00  -3.854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_x000c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05/20/01 09:03:41 *********** Evaluation PSpice (Nov 1999) 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C:\ECEWork\IrwinPPT\ACSteadyStateAnalysis\Sec7p9Demo.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IM(V_PRINT2)IP(V_PRINT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998E-03   5.146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848680" y="1049400"/>
            <a:ext cx="229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in 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2680" y="1525680"/>
            <a:ext cx="4190760" cy="1143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80880" y="5486400"/>
            <a:ext cx="4191120" cy="1219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3" dur="indefinite" restart="never" nodeType="tmRoot">
          <p:childTnLst>
            <p:seq>
              <p:cTn id="3974" dur="indefinite" nodeType="mainSeq">
                <p:childTnLst>
                  <p:par>
                    <p:cTn id="3975" fill="hold">
                      <p:stCondLst>
                        <p:cond delay="indefinite"/>
                      </p:stCondLst>
                      <p:childTnLst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9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0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137520" y="60480"/>
            <a:ext cx="26726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29920" y="60480"/>
            <a:ext cx="1942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RE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2438640" cy="141912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/>
          <p:nvPr/>
        </p:nvSpPr>
        <p:spPr>
          <a:xfrm>
            <a:off x="3074400" y="593640"/>
            <a:ext cx="5746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has much higher frequency (700kHz) than sig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 way to ‘block’ high frequ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304920" y="2270160"/>
            <a:ext cx="7937640" cy="1511280"/>
            <a:chOff x="304920" y="2270160"/>
            <a:chExt cx="7937640" cy="1511280"/>
          </a:xfrm>
        </p:grpSpPr>
        <p:pic>
          <p:nvPicPr>
            <p:cNvPr id="1381" name="" descr=""/>
            <p:cNvPicPr/>
            <p:nvPr/>
          </p:nvPicPr>
          <p:blipFill>
            <a:blip r:embed="rId2"/>
            <a:stretch/>
          </p:blipFill>
          <p:spPr>
            <a:xfrm>
              <a:off x="304920" y="2438280"/>
              <a:ext cx="246672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081240" y="2270160"/>
              <a:ext cx="516132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X should have low (zero) value at l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 and very high at noise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76320" y="4038480"/>
            <a:ext cx="4362480" cy="1695600"/>
            <a:chOff x="76320" y="4038480"/>
            <a:chExt cx="4362480" cy="1695600"/>
          </a:xfrm>
        </p:grpSpPr>
        <p:pic>
          <p:nvPicPr>
            <p:cNvPr id="1384" name="" descr=""/>
            <p:cNvPicPr/>
            <p:nvPr/>
          </p:nvPicPr>
          <p:blipFill>
            <a:blip r:embed="rId3"/>
            <a:stretch/>
          </p:blipFill>
          <p:spPr>
            <a:xfrm>
              <a:off x="76320" y="4038480"/>
              <a:ext cx="254304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4"/>
            <a:stretch/>
          </p:blipFill>
          <p:spPr>
            <a:xfrm>
              <a:off x="2819520" y="4191120"/>
              <a:ext cx="161928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5029200" y="3794040"/>
            <a:ext cx="3458520" cy="1568520"/>
            <a:chOff x="5029200" y="3794040"/>
            <a:chExt cx="3458520" cy="1568520"/>
          </a:xfrm>
        </p:grpSpPr>
        <p:grpSp>
          <p:nvGrpSpPr>
            <p:cNvPr id="1387" name=""/>
            <p:cNvGrpSpPr/>
            <p:nvPr/>
          </p:nvGrpSpPr>
          <p:grpSpPr>
            <a:xfrm>
              <a:off x="5029200" y="3794040"/>
              <a:ext cx="3458520" cy="939960"/>
              <a:chOff x="5029200" y="3794040"/>
              <a:chExt cx="3458520" cy="939960"/>
            </a:xfrm>
          </p:grpSpPr>
          <p:pic>
            <p:nvPicPr>
              <p:cNvPr id="13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029200" y="4191120"/>
                <a:ext cx="2867040" cy="54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9" name=""/>
              <p:cNvSpPr/>
              <p:nvPr/>
            </p:nvSpPr>
            <p:spPr>
              <a:xfrm>
                <a:off x="5037840" y="3794040"/>
                <a:ext cx="34498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duce amplitude of noise by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0" name="" descr=""/>
            <p:cNvPicPr/>
            <p:nvPr/>
          </p:nvPicPr>
          <p:blipFill>
            <a:blip r:embed="rId6"/>
            <a:stretch/>
          </p:blipFill>
          <p:spPr>
            <a:xfrm>
              <a:off x="5715000" y="4954680"/>
              <a:ext cx="1295280" cy="40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1" dur="indefinite" restart="never" nodeType="tmRoot">
          <p:childTnLst>
            <p:seq>
              <p:cTn id="3982" dur="indefinite" nodeType="mainSeq">
                <p:childTnLst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7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2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3" fill="hold">
                      <p:stCondLst>
                        <p:cond delay="indefinite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8" fill="hold">
                      <p:stCondLst>
                        <p:cond delay="indefinite"/>
                      </p:stCondLst>
                      <p:childTnLst>
                        <p:par>
                          <p:cTn id="3999" fill="hold">
                            <p:stCondLst>
                              <p:cond delay="0"/>
                            </p:stCondLst>
                            <p:childTnLst>
                              <p:par>
                                <p:cTn id="4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2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3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160920" y="60480"/>
            <a:ext cx="11149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673640" y="60480"/>
            <a:ext cx="435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ENERAL IMPEDANCE CONVERTER (G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3470040" cy="38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7" name=""/>
          <p:cNvGraphicFramePr/>
          <p:nvPr/>
        </p:nvGraphicFramePr>
        <p:xfrm>
          <a:off x="3657600" y="625320"/>
          <a:ext cx="3276720" cy="37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625320"/>
                    <a:ext cx="327672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9" name=""/>
          <p:cNvGrpSpPr/>
          <p:nvPr/>
        </p:nvGrpSpPr>
        <p:grpSpPr>
          <a:xfrm>
            <a:off x="3814200" y="990720"/>
            <a:ext cx="4024800" cy="637920"/>
            <a:chOff x="3814200" y="990720"/>
            <a:chExt cx="4024800" cy="637920"/>
          </a:xfrm>
        </p:grpSpPr>
        <p:grpSp>
          <p:nvGrpSpPr>
            <p:cNvPr id="1400" name=""/>
            <p:cNvGrpSpPr/>
            <p:nvPr/>
          </p:nvGrpSpPr>
          <p:grpSpPr>
            <a:xfrm>
              <a:off x="3814200" y="990720"/>
              <a:ext cx="1938960" cy="637920"/>
              <a:chOff x="3814200" y="990720"/>
              <a:chExt cx="1938960" cy="637920"/>
            </a:xfrm>
          </p:grpSpPr>
          <p:sp>
            <p:nvSpPr>
              <p:cNvPr id="1401" name=""/>
              <p:cNvSpPr/>
              <p:nvPr/>
            </p:nvSpPr>
            <p:spPr>
              <a:xfrm>
                <a:off x="3814200" y="1127160"/>
                <a:ext cx="61344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@A: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19720" y="990720"/>
                <a:ext cx="1333440" cy="63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3" name="" descr=""/>
            <p:cNvPicPr/>
            <p:nvPr/>
          </p:nvPicPr>
          <p:blipFill>
            <a:blip r:embed="rId5"/>
            <a:stretch/>
          </p:blipFill>
          <p:spPr>
            <a:xfrm>
              <a:off x="6324480" y="990720"/>
              <a:ext cx="15145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"/>
            <p:cNvSpPr/>
            <p:nvPr/>
          </p:nvSpPr>
          <p:spPr>
            <a:xfrm>
              <a:off x="5943600" y="114300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3817800" y="1638360"/>
            <a:ext cx="5126040" cy="647640"/>
            <a:chOff x="3817800" y="1638360"/>
            <a:chExt cx="5126040" cy="647640"/>
          </a:xfrm>
        </p:grpSpPr>
        <p:sp>
          <p:nvSpPr>
            <p:cNvPr id="1406" name=""/>
            <p:cNvSpPr/>
            <p:nvPr/>
          </p:nvSpPr>
          <p:spPr>
            <a:xfrm>
              <a:off x="3817800" y="1812960"/>
              <a:ext cx="54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@C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7" name="" descr=""/>
            <p:cNvPicPr/>
            <p:nvPr/>
          </p:nvPicPr>
          <p:blipFill>
            <a:blip r:embed="rId6"/>
            <a:stretch/>
          </p:blipFill>
          <p:spPr>
            <a:xfrm>
              <a:off x="4419720" y="1676520"/>
              <a:ext cx="172404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7"/>
            <a:stretch/>
          </p:blipFill>
          <p:spPr>
            <a:xfrm>
              <a:off x="6477120" y="1638360"/>
              <a:ext cx="246672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9" name=""/>
          <p:cNvGrpSpPr/>
          <p:nvPr/>
        </p:nvGrpSpPr>
        <p:grpSpPr>
          <a:xfrm>
            <a:off x="5181480" y="938160"/>
            <a:ext cx="3017880" cy="2148120"/>
            <a:chOff x="5181480" y="938160"/>
            <a:chExt cx="3017880" cy="2148120"/>
          </a:xfrm>
        </p:grpSpPr>
        <p:pic>
          <p:nvPicPr>
            <p:cNvPr id="1410" name="" descr=""/>
            <p:cNvPicPr/>
            <p:nvPr/>
          </p:nvPicPr>
          <p:blipFill>
            <a:blip r:embed="rId8"/>
            <a:stretch/>
          </p:blipFill>
          <p:spPr>
            <a:xfrm>
              <a:off x="5181480" y="2362320"/>
              <a:ext cx="198144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1" name=""/>
            <p:cNvSpPr/>
            <p:nvPr/>
          </p:nvSpPr>
          <p:spPr>
            <a:xfrm>
              <a:off x="6324480" y="938160"/>
              <a:ext cx="1874880" cy="768240"/>
            </a:xfrm>
            <a:custGeom>
              <a:avLst/>
              <a:gdLst/>
              <a:ahLst/>
              <a:rect l="l" t="t" r="r" b="b"/>
              <a:pathLst>
                <a:path w="1181" h="484">
                  <a:moveTo>
                    <a:pt x="38" y="43"/>
                  </a:moveTo>
                  <a:cubicBezTo>
                    <a:pt x="15" y="77"/>
                    <a:pt x="10" y="109"/>
                    <a:pt x="0" y="148"/>
                  </a:cubicBezTo>
                  <a:cubicBezTo>
                    <a:pt x="0" y="153"/>
                    <a:pt x="12" y="304"/>
                    <a:pt x="19" y="331"/>
                  </a:cubicBezTo>
                  <a:cubicBezTo>
                    <a:pt x="47" y="438"/>
                    <a:pt x="176" y="467"/>
                    <a:pt x="269" y="484"/>
                  </a:cubicBezTo>
                  <a:cubicBezTo>
                    <a:pt x="330" y="479"/>
                    <a:pt x="400" y="459"/>
                    <a:pt x="461" y="455"/>
                  </a:cubicBezTo>
                  <a:cubicBezTo>
                    <a:pt x="547" y="449"/>
                    <a:pt x="634" y="449"/>
                    <a:pt x="720" y="446"/>
                  </a:cubicBezTo>
                  <a:cubicBezTo>
                    <a:pt x="806" y="436"/>
                    <a:pt x="885" y="411"/>
                    <a:pt x="970" y="398"/>
                  </a:cubicBezTo>
                  <a:cubicBezTo>
                    <a:pt x="1042" y="369"/>
                    <a:pt x="1117" y="309"/>
                    <a:pt x="1162" y="244"/>
                  </a:cubicBezTo>
                  <a:cubicBezTo>
                    <a:pt x="1165" y="234"/>
                    <a:pt x="1181" y="184"/>
                    <a:pt x="1181" y="177"/>
                  </a:cubicBezTo>
                  <a:cubicBezTo>
                    <a:pt x="1181" y="142"/>
                    <a:pt x="1181" y="105"/>
                    <a:pt x="1171" y="71"/>
                  </a:cubicBezTo>
                  <a:cubicBezTo>
                    <a:pt x="1150" y="0"/>
                    <a:pt x="945" y="7"/>
                    <a:pt x="902" y="4"/>
                  </a:cubicBezTo>
                  <a:cubicBezTo>
                    <a:pt x="768" y="16"/>
                    <a:pt x="646" y="27"/>
                    <a:pt x="509" y="33"/>
                  </a:cubicBezTo>
                  <a:cubicBezTo>
                    <a:pt x="440" y="47"/>
                    <a:pt x="375" y="67"/>
                    <a:pt x="307" y="81"/>
                  </a:cubicBezTo>
                  <a:cubicBezTo>
                    <a:pt x="249" y="78"/>
                    <a:pt x="192" y="68"/>
                    <a:pt x="134" y="71"/>
                  </a:cubicBezTo>
                  <a:cubicBezTo>
                    <a:pt x="114" y="72"/>
                    <a:pt x="97" y="91"/>
                    <a:pt x="77" y="91"/>
                  </a:cubicBezTo>
                  <a:cubicBezTo>
                    <a:pt x="74" y="91"/>
                    <a:pt x="70" y="91"/>
                    <a:pt x="67" y="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3896640" y="3063960"/>
            <a:ext cx="1742040" cy="593640"/>
            <a:chOff x="3896640" y="3063960"/>
            <a:chExt cx="1742040" cy="593640"/>
          </a:xfrm>
        </p:grpSpPr>
        <p:sp>
          <p:nvSpPr>
            <p:cNvPr id="1413" name=""/>
            <p:cNvSpPr/>
            <p:nvPr/>
          </p:nvSpPr>
          <p:spPr>
            <a:xfrm>
              <a:off x="3896640" y="3200400"/>
              <a:ext cx="532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@E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4" name="" descr=""/>
            <p:cNvPicPr/>
            <p:nvPr/>
          </p:nvPicPr>
          <p:blipFill>
            <a:blip r:embed="rId9"/>
            <a:stretch/>
          </p:blipFill>
          <p:spPr>
            <a:xfrm>
              <a:off x="4419720" y="3063960"/>
              <a:ext cx="1218960" cy="59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5" name=""/>
          <p:cNvGrpSpPr/>
          <p:nvPr/>
        </p:nvGrpSpPr>
        <p:grpSpPr>
          <a:xfrm>
            <a:off x="4983120" y="2209680"/>
            <a:ext cx="3355920" cy="1630440"/>
            <a:chOff x="4983120" y="2209680"/>
            <a:chExt cx="3355920" cy="1630440"/>
          </a:xfrm>
        </p:grpSpPr>
        <p:pic>
          <p:nvPicPr>
            <p:cNvPr id="1416" name="" descr=""/>
            <p:cNvPicPr/>
            <p:nvPr/>
          </p:nvPicPr>
          <p:blipFill>
            <a:blip r:embed="rId10"/>
            <a:stretch/>
          </p:blipFill>
          <p:spPr>
            <a:xfrm>
              <a:off x="6553080" y="3048120"/>
              <a:ext cx="164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7" name=""/>
            <p:cNvSpPr/>
            <p:nvPr/>
          </p:nvSpPr>
          <p:spPr>
            <a:xfrm>
              <a:off x="4983120" y="2209680"/>
              <a:ext cx="3355920" cy="1630440"/>
            </a:xfrm>
            <a:custGeom>
              <a:avLst/>
              <a:gdLst/>
              <a:ahLst/>
              <a:rect l="l" t="t" r="r" b="b"/>
              <a:pathLst>
                <a:path w="2114" h="1027">
                  <a:moveTo>
                    <a:pt x="1469" y="365"/>
                  </a:moveTo>
                  <a:cubicBezTo>
                    <a:pt x="1480" y="334"/>
                    <a:pt x="1497" y="310"/>
                    <a:pt x="1507" y="278"/>
                  </a:cubicBezTo>
                  <a:cubicBezTo>
                    <a:pt x="1504" y="253"/>
                    <a:pt x="1507" y="226"/>
                    <a:pt x="1498" y="202"/>
                  </a:cubicBezTo>
                  <a:cubicBezTo>
                    <a:pt x="1490" y="180"/>
                    <a:pt x="1472" y="163"/>
                    <a:pt x="1459" y="144"/>
                  </a:cubicBezTo>
                  <a:cubicBezTo>
                    <a:pt x="1371" y="13"/>
                    <a:pt x="1195" y="9"/>
                    <a:pt x="1056" y="0"/>
                  </a:cubicBezTo>
                  <a:cubicBezTo>
                    <a:pt x="766" y="22"/>
                    <a:pt x="474" y="28"/>
                    <a:pt x="183" y="38"/>
                  </a:cubicBezTo>
                  <a:cubicBezTo>
                    <a:pt x="130" y="52"/>
                    <a:pt x="86" y="66"/>
                    <a:pt x="48" y="106"/>
                  </a:cubicBezTo>
                  <a:cubicBezTo>
                    <a:pt x="45" y="115"/>
                    <a:pt x="43" y="125"/>
                    <a:pt x="39" y="134"/>
                  </a:cubicBezTo>
                  <a:cubicBezTo>
                    <a:pt x="33" y="147"/>
                    <a:pt x="24" y="159"/>
                    <a:pt x="19" y="173"/>
                  </a:cubicBezTo>
                  <a:cubicBezTo>
                    <a:pt x="14" y="188"/>
                    <a:pt x="1" y="282"/>
                    <a:pt x="0" y="288"/>
                  </a:cubicBezTo>
                  <a:cubicBezTo>
                    <a:pt x="12" y="334"/>
                    <a:pt x="12" y="396"/>
                    <a:pt x="48" y="432"/>
                  </a:cubicBezTo>
                  <a:cubicBezTo>
                    <a:pt x="113" y="497"/>
                    <a:pt x="277" y="535"/>
                    <a:pt x="355" y="557"/>
                  </a:cubicBezTo>
                  <a:cubicBezTo>
                    <a:pt x="513" y="602"/>
                    <a:pt x="674" y="625"/>
                    <a:pt x="835" y="653"/>
                  </a:cubicBezTo>
                  <a:cubicBezTo>
                    <a:pt x="906" y="650"/>
                    <a:pt x="976" y="648"/>
                    <a:pt x="1047" y="643"/>
                  </a:cubicBezTo>
                  <a:cubicBezTo>
                    <a:pt x="1060" y="642"/>
                    <a:pt x="1072" y="636"/>
                    <a:pt x="1085" y="634"/>
                  </a:cubicBezTo>
                  <a:cubicBezTo>
                    <a:pt x="1123" y="627"/>
                    <a:pt x="1200" y="614"/>
                    <a:pt x="1200" y="614"/>
                  </a:cubicBezTo>
                  <a:cubicBezTo>
                    <a:pt x="1275" y="570"/>
                    <a:pt x="1263" y="563"/>
                    <a:pt x="1354" y="547"/>
                  </a:cubicBezTo>
                  <a:cubicBezTo>
                    <a:pt x="1419" y="514"/>
                    <a:pt x="1484" y="499"/>
                    <a:pt x="1555" y="480"/>
                  </a:cubicBezTo>
                  <a:cubicBezTo>
                    <a:pt x="1728" y="489"/>
                    <a:pt x="1747" y="491"/>
                    <a:pt x="1882" y="538"/>
                  </a:cubicBezTo>
                  <a:cubicBezTo>
                    <a:pt x="1960" y="616"/>
                    <a:pt x="1906" y="558"/>
                    <a:pt x="1987" y="662"/>
                  </a:cubicBezTo>
                  <a:cubicBezTo>
                    <a:pt x="2000" y="678"/>
                    <a:pt x="2026" y="710"/>
                    <a:pt x="2026" y="710"/>
                  </a:cubicBezTo>
                  <a:cubicBezTo>
                    <a:pt x="2029" y="720"/>
                    <a:pt x="2030" y="730"/>
                    <a:pt x="2035" y="739"/>
                  </a:cubicBezTo>
                  <a:cubicBezTo>
                    <a:pt x="2046" y="759"/>
                    <a:pt x="2074" y="797"/>
                    <a:pt x="2074" y="797"/>
                  </a:cubicBezTo>
                  <a:cubicBezTo>
                    <a:pt x="2085" y="833"/>
                    <a:pt x="2101" y="866"/>
                    <a:pt x="2112" y="902"/>
                  </a:cubicBezTo>
                  <a:cubicBezTo>
                    <a:pt x="2109" y="931"/>
                    <a:pt x="2114" y="962"/>
                    <a:pt x="2103" y="989"/>
                  </a:cubicBezTo>
                  <a:cubicBezTo>
                    <a:pt x="2099" y="998"/>
                    <a:pt x="2084" y="995"/>
                    <a:pt x="2074" y="998"/>
                  </a:cubicBezTo>
                  <a:cubicBezTo>
                    <a:pt x="2039" y="1009"/>
                    <a:pt x="2003" y="1016"/>
                    <a:pt x="1968" y="1027"/>
                  </a:cubicBezTo>
                  <a:cubicBezTo>
                    <a:pt x="1810" y="1018"/>
                    <a:pt x="1695" y="990"/>
                    <a:pt x="1546" y="970"/>
                  </a:cubicBezTo>
                  <a:cubicBezTo>
                    <a:pt x="1489" y="950"/>
                    <a:pt x="1443" y="940"/>
                    <a:pt x="1383" y="931"/>
                  </a:cubicBezTo>
                  <a:cubicBezTo>
                    <a:pt x="1375" y="929"/>
                    <a:pt x="1332" y="916"/>
                    <a:pt x="1325" y="912"/>
                  </a:cubicBezTo>
                  <a:cubicBezTo>
                    <a:pt x="1315" y="907"/>
                    <a:pt x="1307" y="897"/>
                    <a:pt x="1296" y="893"/>
                  </a:cubicBezTo>
                  <a:cubicBezTo>
                    <a:pt x="1265" y="883"/>
                    <a:pt x="1232" y="881"/>
                    <a:pt x="1200" y="874"/>
                  </a:cubicBezTo>
                  <a:cubicBezTo>
                    <a:pt x="1151" y="848"/>
                    <a:pt x="1132" y="835"/>
                    <a:pt x="1075" y="826"/>
                  </a:cubicBezTo>
                  <a:cubicBezTo>
                    <a:pt x="1051" y="801"/>
                    <a:pt x="1026" y="800"/>
                    <a:pt x="999" y="778"/>
                  </a:cubicBezTo>
                  <a:cubicBezTo>
                    <a:pt x="973" y="757"/>
                    <a:pt x="947" y="721"/>
                    <a:pt x="931" y="6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2590920" y="3886200"/>
            <a:ext cx="6678000" cy="847800"/>
            <a:chOff x="2590920" y="3886200"/>
            <a:chExt cx="6678000" cy="847800"/>
          </a:xfrm>
        </p:grpSpPr>
        <p:pic>
          <p:nvPicPr>
            <p:cNvPr id="1419" name="" descr=""/>
            <p:cNvPicPr/>
            <p:nvPr/>
          </p:nvPicPr>
          <p:blipFill>
            <a:blip r:embed="rId11"/>
            <a:stretch/>
          </p:blipFill>
          <p:spPr>
            <a:xfrm>
              <a:off x="2590920" y="3886200"/>
              <a:ext cx="2609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"/>
            <p:cNvSpPr/>
            <p:nvPr/>
          </p:nvSpPr>
          <p:spPr>
            <a:xfrm>
              <a:off x="5064840" y="4022640"/>
              <a:ext cx="420408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itable choices of imped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ermit to create any desired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762120" y="4876920"/>
            <a:ext cx="7905600" cy="1007280"/>
            <a:chOff x="762120" y="4876920"/>
            <a:chExt cx="7905600" cy="1007280"/>
          </a:xfrm>
        </p:grpSpPr>
        <p:grpSp>
          <p:nvGrpSpPr>
            <p:cNvPr id="1422" name=""/>
            <p:cNvGrpSpPr/>
            <p:nvPr/>
          </p:nvGrpSpPr>
          <p:grpSpPr>
            <a:xfrm>
              <a:off x="762120" y="4876920"/>
              <a:ext cx="7905600" cy="552240"/>
              <a:chOff x="762120" y="4876920"/>
              <a:chExt cx="7905600" cy="552240"/>
            </a:xfrm>
          </p:grpSpPr>
          <p:pic>
            <p:nvPicPr>
              <p:cNvPr id="142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62120" y="4876920"/>
                <a:ext cx="4505040" cy="5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4" name=""/>
              <p:cNvSpPr/>
              <p:nvPr/>
            </p:nvSpPr>
            <p:spPr>
              <a:xfrm>
                <a:off x="5562720" y="5029200"/>
                <a:ext cx="533160" cy="380880"/>
              </a:xfrm>
              <a:prstGeom prst="rightArrow">
                <a:avLst>
                  <a:gd name="adj1" fmla="val 50000"/>
                  <a:gd name="adj2" fmla="val 34995"/>
                </a:avLst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48520" y="4981680"/>
                <a:ext cx="2419200" cy="428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6" name=""/>
            <p:cNvSpPr/>
            <p:nvPr/>
          </p:nvSpPr>
          <p:spPr>
            <a:xfrm>
              <a:off x="1098000" y="5546880"/>
              <a:ext cx="581940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1kOhm resistor coverts to 1 H equivalent inductance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7" name="" descr=""/>
          <p:cNvPicPr/>
          <p:nvPr/>
        </p:nvPicPr>
        <p:blipFill>
          <a:blip r:embed="rId1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4" dur="indefinite" restart="never" nodeType="tmRoot">
          <p:childTnLst>
            <p:seq>
              <p:cTn id="4005" dur="indefinite" nodeType="mainSeq">
                <p:childTnLst>
                  <p:par>
                    <p:cTn id="4006" fill="hold">
                      <p:stCondLst>
                        <p:cond delay="indefinite"/>
                      </p:stCondLst>
                      <p:childTnLst>
                        <p:par>
                          <p:cTn id="4007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fill="hold">
                      <p:stCondLst>
                        <p:cond delay="indefinite"/>
                      </p:stCondLst>
                      <p:childTnLst>
                        <p:par>
                          <p:cTn id="4012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5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fill="hold">
                      <p:stCondLst>
                        <p:cond delay="indefinite"/>
                      </p:stCondLst>
                      <p:childTnLst>
                        <p:par>
                          <p:cTn id="4017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0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5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6" fill="hold">
                      <p:stCondLst>
                        <p:cond delay="indefinite"/>
                      </p:stCondLst>
                      <p:childTnLst>
                        <p:par>
                          <p:cTn id="4027" fill="hold">
                            <p:stCondLst>
                              <p:cond delay="0"/>
                            </p:stCondLst>
                            <p:childTnLst>
                              <p:par>
                                <p:cTn id="4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0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1" fill="hold">
                      <p:stCondLst>
                        <p:cond delay="indefinite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5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6" fill="hold">
                      <p:stCondLst>
                        <p:cond delay="indefinite"/>
                      </p:stCondLst>
                      <p:childTnLst>
                        <p:par>
                          <p:cTn id="4037" fill="hold">
                            <p:stCondLst>
                              <p:cond delay="0"/>
                            </p:stCondLst>
                            <p:childTnLst>
                              <p:par>
                                <p:cTn id="40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0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5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6" fill="hold">
                      <p:stCondLst>
                        <p:cond delay="indefinite"/>
                      </p:stCondLst>
                      <p:childTnLst>
                        <p:par>
                          <p:cTn id="4047" fill="hold">
                            <p:stCondLst>
                              <p:cond delay="0"/>
                            </p:stCondLst>
                            <p:childTnLst>
                              <p:par>
                                <p:cTn id="4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1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159840" y="136440"/>
            <a:ext cx="23691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6248520" cy="173196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2036520" y="457200"/>
            <a:ext cx="6984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PASSIVE COMPONENTS TO CREATE GAINS LARG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720120" y="974880"/>
            <a:ext cx="2324880" cy="5806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E A GAIN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KhZ WHEN R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4" name="" descr=""/>
          <p:cNvPicPr/>
          <p:nvPr/>
        </p:nvPicPr>
        <p:blipFill>
          <a:blip r:embed="rId2"/>
          <a:stretch/>
        </p:blipFill>
        <p:spPr>
          <a:xfrm>
            <a:off x="76320" y="2743200"/>
            <a:ext cx="3038400" cy="1600200"/>
          </a:xfrm>
          <a:prstGeom prst="rect">
            <a:avLst/>
          </a:prstGeom>
          <a:ln w="0">
            <a:noFill/>
          </a:ln>
        </p:spPr>
      </p:pic>
      <p:pic>
        <p:nvPicPr>
          <p:cNvPr id="1435" name="" descr=""/>
          <p:cNvPicPr/>
          <p:nvPr/>
        </p:nvPicPr>
        <p:blipFill>
          <a:blip r:embed="rId3"/>
          <a:stretch/>
        </p:blipFill>
        <p:spPr>
          <a:xfrm>
            <a:off x="3200400" y="2514600"/>
            <a:ext cx="2257560" cy="2066760"/>
          </a:xfrm>
          <a:prstGeom prst="rect">
            <a:avLst/>
          </a:prstGeom>
          <a:ln w="0">
            <a:noFill/>
          </a:ln>
        </p:spPr>
      </p:pic>
      <p:pic>
        <p:nvPicPr>
          <p:cNvPr id="1436" name="" descr=""/>
          <p:cNvPicPr/>
          <p:nvPr/>
        </p:nvPicPr>
        <p:blipFill>
          <a:blip r:embed="rId4"/>
          <a:stretch/>
        </p:blipFill>
        <p:spPr>
          <a:xfrm>
            <a:off x="5810400" y="2933640"/>
            <a:ext cx="333360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437" name=""/>
          <p:cNvGrpSpPr/>
          <p:nvPr/>
        </p:nvGrpSpPr>
        <p:grpSpPr>
          <a:xfrm>
            <a:off x="990720" y="4648320"/>
            <a:ext cx="3419280" cy="771480"/>
            <a:chOff x="990720" y="4648320"/>
            <a:chExt cx="3419280" cy="771480"/>
          </a:xfrm>
        </p:grpSpPr>
        <p:graphicFrame>
          <p:nvGraphicFramePr>
            <p:cNvPr id="1438" name=""/>
            <p:cNvGraphicFramePr/>
            <p:nvPr/>
          </p:nvGraphicFramePr>
          <p:xfrm>
            <a:off x="990720" y="4876920"/>
            <a:ext cx="1828800" cy="387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4876920"/>
                      <a:ext cx="182880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40" name="" descr=""/>
            <p:cNvPicPr/>
            <p:nvPr/>
          </p:nvPicPr>
          <p:blipFill>
            <a:blip r:embed="rId7"/>
            <a:stretch/>
          </p:blipFill>
          <p:spPr>
            <a:xfrm>
              <a:off x="2971800" y="4648320"/>
              <a:ext cx="1438200" cy="77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1" name=""/>
          <p:cNvGrpSpPr/>
          <p:nvPr/>
        </p:nvGrpSpPr>
        <p:grpSpPr>
          <a:xfrm>
            <a:off x="4724280" y="838080"/>
            <a:ext cx="4392720" cy="4330800"/>
            <a:chOff x="4724280" y="838080"/>
            <a:chExt cx="4392720" cy="4330800"/>
          </a:xfrm>
        </p:grpSpPr>
        <p:sp>
          <p:nvSpPr>
            <p:cNvPr id="1442" name=""/>
            <p:cNvSpPr/>
            <p:nvPr/>
          </p:nvSpPr>
          <p:spPr>
            <a:xfrm>
              <a:off x="6532560" y="838080"/>
              <a:ext cx="2584440" cy="990720"/>
            </a:xfrm>
            <a:custGeom>
              <a:avLst/>
              <a:gdLst/>
              <a:ahLst/>
              <a:rect l="l" t="t" r="r" b="b"/>
              <a:pathLst>
                <a:path w="1628" h="624">
                  <a:moveTo>
                    <a:pt x="503" y="278"/>
                  </a:moveTo>
                  <a:cubicBezTo>
                    <a:pt x="447" y="224"/>
                    <a:pt x="447" y="241"/>
                    <a:pt x="349" y="250"/>
                  </a:cubicBezTo>
                  <a:cubicBezTo>
                    <a:pt x="248" y="281"/>
                    <a:pt x="177" y="282"/>
                    <a:pt x="61" y="288"/>
                  </a:cubicBezTo>
                  <a:cubicBezTo>
                    <a:pt x="41" y="303"/>
                    <a:pt x="5" y="311"/>
                    <a:pt x="3" y="336"/>
                  </a:cubicBezTo>
                  <a:cubicBezTo>
                    <a:pt x="0" y="371"/>
                    <a:pt x="3" y="408"/>
                    <a:pt x="13" y="442"/>
                  </a:cubicBezTo>
                  <a:cubicBezTo>
                    <a:pt x="16" y="452"/>
                    <a:pt x="61" y="486"/>
                    <a:pt x="71" y="490"/>
                  </a:cubicBezTo>
                  <a:cubicBezTo>
                    <a:pt x="154" y="528"/>
                    <a:pt x="252" y="532"/>
                    <a:pt x="339" y="557"/>
                  </a:cubicBezTo>
                  <a:cubicBezTo>
                    <a:pt x="395" y="594"/>
                    <a:pt x="466" y="587"/>
                    <a:pt x="531" y="595"/>
                  </a:cubicBezTo>
                  <a:cubicBezTo>
                    <a:pt x="627" y="607"/>
                    <a:pt x="722" y="617"/>
                    <a:pt x="819" y="624"/>
                  </a:cubicBezTo>
                  <a:cubicBezTo>
                    <a:pt x="909" y="621"/>
                    <a:pt x="998" y="620"/>
                    <a:pt x="1088" y="614"/>
                  </a:cubicBezTo>
                  <a:cubicBezTo>
                    <a:pt x="1141" y="611"/>
                    <a:pt x="1193" y="583"/>
                    <a:pt x="1242" y="566"/>
                  </a:cubicBezTo>
                  <a:cubicBezTo>
                    <a:pt x="1293" y="549"/>
                    <a:pt x="1375" y="550"/>
                    <a:pt x="1415" y="547"/>
                  </a:cubicBezTo>
                  <a:cubicBezTo>
                    <a:pt x="1462" y="518"/>
                    <a:pt x="1506" y="502"/>
                    <a:pt x="1559" y="490"/>
                  </a:cubicBezTo>
                  <a:cubicBezTo>
                    <a:pt x="1622" y="427"/>
                    <a:pt x="1599" y="452"/>
                    <a:pt x="1626" y="374"/>
                  </a:cubicBezTo>
                  <a:cubicBezTo>
                    <a:pt x="1623" y="352"/>
                    <a:pt x="1628" y="326"/>
                    <a:pt x="1616" y="307"/>
                  </a:cubicBezTo>
                  <a:cubicBezTo>
                    <a:pt x="1604" y="288"/>
                    <a:pt x="1559" y="269"/>
                    <a:pt x="1559" y="269"/>
                  </a:cubicBezTo>
                  <a:cubicBezTo>
                    <a:pt x="1535" y="200"/>
                    <a:pt x="1550" y="228"/>
                    <a:pt x="1520" y="182"/>
                  </a:cubicBezTo>
                  <a:cubicBezTo>
                    <a:pt x="1507" y="143"/>
                    <a:pt x="1471" y="59"/>
                    <a:pt x="1424" y="48"/>
                  </a:cubicBezTo>
                  <a:cubicBezTo>
                    <a:pt x="1374" y="36"/>
                    <a:pt x="1322" y="37"/>
                    <a:pt x="1271" y="29"/>
                  </a:cubicBezTo>
                  <a:cubicBezTo>
                    <a:pt x="1194" y="4"/>
                    <a:pt x="1233" y="13"/>
                    <a:pt x="1155" y="0"/>
                  </a:cubicBezTo>
                  <a:cubicBezTo>
                    <a:pt x="1120" y="3"/>
                    <a:pt x="1084" y="0"/>
                    <a:pt x="1050" y="10"/>
                  </a:cubicBezTo>
                  <a:cubicBezTo>
                    <a:pt x="1028" y="17"/>
                    <a:pt x="992" y="48"/>
                    <a:pt x="992" y="48"/>
                  </a:cubicBezTo>
                  <a:cubicBezTo>
                    <a:pt x="985" y="70"/>
                    <a:pt x="971" y="135"/>
                    <a:pt x="954" y="15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3" name=""/>
            <p:cNvGraphicFramePr/>
            <p:nvPr/>
          </p:nvGraphicFramePr>
          <p:xfrm>
            <a:off x="4724280" y="4800600"/>
            <a:ext cx="1981440" cy="368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4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24280" y="4800600"/>
                      <a:ext cx="19814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45" name=""/>
          <p:cNvGrpSpPr/>
          <p:nvPr/>
        </p:nvGrpSpPr>
        <p:grpSpPr>
          <a:xfrm>
            <a:off x="911160" y="4341960"/>
            <a:ext cx="2289240" cy="1563480"/>
            <a:chOff x="911160" y="4341960"/>
            <a:chExt cx="2289240" cy="1563480"/>
          </a:xfrm>
        </p:grpSpPr>
        <p:sp>
          <p:nvSpPr>
            <p:cNvPr id="1446" name=""/>
            <p:cNvSpPr/>
            <p:nvPr/>
          </p:nvSpPr>
          <p:spPr>
            <a:xfrm>
              <a:off x="911160" y="4341960"/>
              <a:ext cx="1527120" cy="1373040"/>
            </a:xfrm>
            <a:custGeom>
              <a:avLst/>
              <a:gdLst/>
              <a:ahLst/>
              <a:rect l="l" t="t" r="r" b="b"/>
              <a:pathLst>
                <a:path w="962" h="865">
                  <a:moveTo>
                    <a:pt x="933" y="385"/>
                  </a:moveTo>
                  <a:cubicBezTo>
                    <a:pt x="962" y="300"/>
                    <a:pt x="896" y="233"/>
                    <a:pt x="847" y="174"/>
                  </a:cubicBezTo>
                  <a:cubicBezTo>
                    <a:pt x="832" y="156"/>
                    <a:pt x="825" y="132"/>
                    <a:pt x="808" y="116"/>
                  </a:cubicBezTo>
                  <a:cubicBezTo>
                    <a:pt x="709" y="25"/>
                    <a:pt x="600" y="13"/>
                    <a:pt x="472" y="1"/>
                  </a:cubicBezTo>
                  <a:cubicBezTo>
                    <a:pt x="392" y="4"/>
                    <a:pt x="311" y="0"/>
                    <a:pt x="232" y="11"/>
                  </a:cubicBezTo>
                  <a:cubicBezTo>
                    <a:pt x="219" y="13"/>
                    <a:pt x="214" y="30"/>
                    <a:pt x="204" y="39"/>
                  </a:cubicBezTo>
                  <a:cubicBezTo>
                    <a:pt x="195" y="47"/>
                    <a:pt x="184" y="51"/>
                    <a:pt x="175" y="59"/>
                  </a:cubicBezTo>
                  <a:cubicBezTo>
                    <a:pt x="110" y="116"/>
                    <a:pt x="50" y="198"/>
                    <a:pt x="21" y="279"/>
                  </a:cubicBezTo>
                  <a:cubicBezTo>
                    <a:pt x="11" y="363"/>
                    <a:pt x="0" y="458"/>
                    <a:pt x="31" y="539"/>
                  </a:cubicBezTo>
                  <a:cubicBezTo>
                    <a:pt x="49" y="587"/>
                    <a:pt x="93" y="628"/>
                    <a:pt x="127" y="663"/>
                  </a:cubicBezTo>
                  <a:cubicBezTo>
                    <a:pt x="228" y="766"/>
                    <a:pt x="356" y="843"/>
                    <a:pt x="501" y="865"/>
                  </a:cubicBezTo>
                  <a:cubicBezTo>
                    <a:pt x="525" y="861"/>
                    <a:pt x="680" y="839"/>
                    <a:pt x="732" y="817"/>
                  </a:cubicBezTo>
                  <a:cubicBezTo>
                    <a:pt x="854" y="767"/>
                    <a:pt x="943" y="641"/>
                    <a:pt x="943" y="5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7" name=""/>
            <p:cNvGraphicFramePr/>
            <p:nvPr/>
          </p:nvGraphicFramePr>
          <p:xfrm>
            <a:off x="1447920" y="5638680"/>
            <a:ext cx="1752480" cy="266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4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447920" y="5638680"/>
                      <a:ext cx="17524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449" name="" descr=""/>
          <p:cNvPicPr/>
          <p:nvPr/>
        </p:nvPicPr>
        <p:blipFill>
          <a:blip r:embed="rId1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2" dur="indefinite" restart="never" nodeType="tmRoot">
          <p:childTnLst>
            <p:seq>
              <p:cTn id="4053" dur="indefinite" nodeType="mainSeq">
                <p:childTnLst>
                  <p:par>
                    <p:cTn id="4054" fill="hold">
                      <p:stCondLst>
                        <p:cond delay="indefinite"/>
                      </p:stCondLst>
                      <p:childTnLst>
                        <p:par>
                          <p:cTn id="4055" fill="hold">
                            <p:stCondLst>
                              <p:cond delay="0"/>
                            </p:stCondLst>
                            <p:childTnLst>
                              <p:par>
                                <p:cTn id="4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3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4" fill="hold">
                      <p:stCondLst>
                        <p:cond delay="indefinite"/>
                      </p:stCondLst>
                      <p:childTnLst>
                        <p:par>
                          <p:cTn id="4065" fill="hold">
                            <p:stCondLst>
                              <p:cond delay="0"/>
                            </p:stCondLst>
                            <p:childTnLst>
                              <p:par>
                                <p:cTn id="4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8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9" fill="hold">
                      <p:stCondLst>
                        <p:cond delay="indefinite"/>
                      </p:stCondLst>
                      <p:childTnLst>
                        <p:par>
                          <p:cTn id="4070" fill="hold">
                            <p:stCondLst>
                              <p:cond delay="0"/>
                            </p:stCondLst>
                            <p:childTnLst>
                              <p:par>
                                <p:cTn id="40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3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fill="hold">
                      <p:stCondLst>
                        <p:cond delay="indefinite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8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9" fill="hold">
                      <p:stCondLst>
                        <p:cond delay="indefinite"/>
                      </p:stCondLst>
                      <p:childTnLst>
                        <p:par>
                          <p:cTn id="4080" fill="hold">
                            <p:stCondLst>
                              <p:cond delay="0"/>
                            </p:stCondLst>
                            <p:childTnLst>
                              <p:par>
                                <p:cTn id="40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8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9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"/>
          <p:cNvGrpSpPr/>
          <p:nvPr/>
        </p:nvGrpSpPr>
        <p:grpSpPr>
          <a:xfrm>
            <a:off x="76320" y="1066680"/>
            <a:ext cx="2609640" cy="2819520"/>
            <a:chOff x="76320" y="1066680"/>
            <a:chExt cx="2609640" cy="2819520"/>
          </a:xfrm>
        </p:grpSpPr>
        <p:pic>
          <p:nvPicPr>
            <p:cNvPr id="1453" name="" descr=""/>
            <p:cNvPicPr/>
            <p:nvPr/>
          </p:nvPicPr>
          <p:blipFill>
            <a:blip r:embed="rId1"/>
            <a:stretch/>
          </p:blipFill>
          <p:spPr>
            <a:xfrm>
              <a:off x="76320" y="1066680"/>
              <a:ext cx="260964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4" name=""/>
            <p:cNvSpPr/>
            <p:nvPr/>
          </p:nvSpPr>
          <p:spPr>
            <a:xfrm>
              <a:off x="109440" y="1584360"/>
              <a:ext cx="1267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159840" y="136440"/>
            <a:ext cx="23691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924640" y="136440"/>
            <a:ext cx="484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SUMMING CIRCUIT - BIAS T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7" name=""/>
          <p:cNvGraphicFramePr/>
          <p:nvPr/>
        </p:nvGraphicFramePr>
        <p:xfrm>
          <a:off x="2743200" y="533520"/>
          <a:ext cx="533412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3520"/>
                    <a:ext cx="533412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9" name=""/>
          <p:cNvGrpSpPr/>
          <p:nvPr/>
        </p:nvGrpSpPr>
        <p:grpSpPr>
          <a:xfrm>
            <a:off x="1320840" y="490680"/>
            <a:ext cx="7726320" cy="1126080"/>
            <a:chOff x="1320840" y="490680"/>
            <a:chExt cx="7726320" cy="1126080"/>
          </a:xfrm>
        </p:grpSpPr>
        <p:sp>
          <p:nvSpPr>
            <p:cNvPr id="1460" name=""/>
            <p:cNvSpPr/>
            <p:nvPr/>
          </p:nvSpPr>
          <p:spPr>
            <a:xfrm>
              <a:off x="1320840" y="490680"/>
              <a:ext cx="2757600" cy="1103040"/>
            </a:xfrm>
            <a:custGeom>
              <a:avLst/>
              <a:gdLst/>
              <a:ahLst/>
              <a:rect l="l" t="t" r="r" b="b"/>
              <a:pathLst>
                <a:path w="1737" h="695">
                  <a:moveTo>
                    <a:pt x="367" y="503"/>
                  </a:moveTo>
                  <a:cubicBezTo>
                    <a:pt x="362" y="475"/>
                    <a:pt x="335" y="390"/>
                    <a:pt x="311" y="371"/>
                  </a:cubicBezTo>
                  <a:cubicBezTo>
                    <a:pt x="264" y="333"/>
                    <a:pt x="231" y="321"/>
                    <a:pt x="178" y="305"/>
                  </a:cubicBezTo>
                  <a:cubicBezTo>
                    <a:pt x="132" y="320"/>
                    <a:pt x="99" y="346"/>
                    <a:pt x="65" y="380"/>
                  </a:cubicBezTo>
                  <a:cubicBezTo>
                    <a:pt x="0" y="590"/>
                    <a:pt x="274" y="669"/>
                    <a:pt x="424" y="692"/>
                  </a:cubicBezTo>
                  <a:cubicBezTo>
                    <a:pt x="509" y="687"/>
                    <a:pt x="597" y="695"/>
                    <a:pt x="679" y="673"/>
                  </a:cubicBezTo>
                  <a:cubicBezTo>
                    <a:pt x="705" y="666"/>
                    <a:pt x="728" y="653"/>
                    <a:pt x="754" y="645"/>
                  </a:cubicBezTo>
                  <a:cubicBezTo>
                    <a:pt x="773" y="639"/>
                    <a:pt x="811" y="626"/>
                    <a:pt x="811" y="626"/>
                  </a:cubicBezTo>
                  <a:cubicBezTo>
                    <a:pt x="884" y="577"/>
                    <a:pt x="846" y="595"/>
                    <a:pt x="924" y="569"/>
                  </a:cubicBezTo>
                  <a:cubicBezTo>
                    <a:pt x="959" y="543"/>
                    <a:pt x="991" y="533"/>
                    <a:pt x="1028" y="513"/>
                  </a:cubicBezTo>
                  <a:cubicBezTo>
                    <a:pt x="1067" y="492"/>
                    <a:pt x="1100" y="459"/>
                    <a:pt x="1142" y="446"/>
                  </a:cubicBezTo>
                  <a:cubicBezTo>
                    <a:pt x="1223" y="420"/>
                    <a:pt x="1307" y="401"/>
                    <a:pt x="1387" y="371"/>
                  </a:cubicBezTo>
                  <a:cubicBezTo>
                    <a:pt x="1446" y="349"/>
                    <a:pt x="1505" y="340"/>
                    <a:pt x="1566" y="324"/>
                  </a:cubicBezTo>
                  <a:cubicBezTo>
                    <a:pt x="1579" y="321"/>
                    <a:pt x="1591" y="317"/>
                    <a:pt x="1604" y="314"/>
                  </a:cubicBezTo>
                  <a:cubicBezTo>
                    <a:pt x="1617" y="311"/>
                    <a:pt x="1642" y="305"/>
                    <a:pt x="1642" y="305"/>
                  </a:cubicBezTo>
                  <a:cubicBezTo>
                    <a:pt x="1665" y="290"/>
                    <a:pt x="1682" y="281"/>
                    <a:pt x="1699" y="258"/>
                  </a:cubicBezTo>
                  <a:cubicBezTo>
                    <a:pt x="1713" y="240"/>
                    <a:pt x="1736" y="201"/>
                    <a:pt x="1736" y="201"/>
                  </a:cubicBezTo>
                  <a:cubicBezTo>
                    <a:pt x="1730" y="138"/>
                    <a:pt x="1737" y="57"/>
                    <a:pt x="1661" y="31"/>
                  </a:cubicBezTo>
                  <a:cubicBezTo>
                    <a:pt x="1643" y="25"/>
                    <a:pt x="1623" y="24"/>
                    <a:pt x="1604" y="21"/>
                  </a:cubicBezTo>
                  <a:cubicBezTo>
                    <a:pt x="1541" y="25"/>
                    <a:pt x="1446" y="0"/>
                    <a:pt x="1425" y="69"/>
                  </a:cubicBezTo>
                  <a:cubicBezTo>
                    <a:pt x="1432" y="148"/>
                    <a:pt x="1425" y="172"/>
                    <a:pt x="1463" y="229"/>
                  </a:cubicBezTo>
                  <a:cubicBezTo>
                    <a:pt x="1466" y="242"/>
                    <a:pt x="1472" y="267"/>
                    <a:pt x="1472" y="2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327040" y="1279440"/>
              <a:ext cx="672012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 should have zero impedance for DC and block high 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566640" y="406440"/>
            <a:ext cx="7662600" cy="2827440"/>
            <a:chOff x="566640" y="406440"/>
            <a:chExt cx="7662600" cy="2827440"/>
          </a:xfrm>
        </p:grpSpPr>
        <p:grpSp>
          <p:nvGrpSpPr>
            <p:cNvPr id="1463" name=""/>
            <p:cNvGrpSpPr/>
            <p:nvPr/>
          </p:nvGrpSpPr>
          <p:grpSpPr>
            <a:xfrm>
              <a:off x="566640" y="406440"/>
              <a:ext cx="4969080" cy="2827440"/>
              <a:chOff x="566640" y="406440"/>
              <a:chExt cx="4969080" cy="2827440"/>
            </a:xfrm>
          </p:grpSpPr>
          <p:sp>
            <p:nvSpPr>
              <p:cNvPr id="1464" name=""/>
              <p:cNvSpPr/>
              <p:nvPr/>
            </p:nvSpPr>
            <p:spPr>
              <a:xfrm>
                <a:off x="566640" y="2467080"/>
                <a:ext cx="754200" cy="766800"/>
              </a:xfrm>
              <a:custGeom>
                <a:avLst/>
                <a:gdLst/>
                <a:ahLst/>
                <a:rect l="l" t="t" r="r" b="b"/>
                <a:pathLst>
                  <a:path w="475" h="483">
                    <a:moveTo>
                      <a:pt x="463" y="473"/>
                    </a:moveTo>
                    <a:cubicBezTo>
                      <a:pt x="475" y="374"/>
                      <a:pt x="472" y="275"/>
                      <a:pt x="415" y="190"/>
                    </a:cubicBezTo>
                    <a:cubicBezTo>
                      <a:pt x="394" y="124"/>
                      <a:pt x="359" y="99"/>
                      <a:pt x="311" y="58"/>
                    </a:cubicBezTo>
                    <a:cubicBezTo>
                      <a:pt x="298" y="46"/>
                      <a:pt x="288" y="30"/>
                      <a:pt x="274" y="20"/>
                    </a:cubicBezTo>
                    <a:cubicBezTo>
                      <a:pt x="261" y="11"/>
                      <a:pt x="206" y="3"/>
                      <a:pt x="198" y="1"/>
                    </a:cubicBezTo>
                    <a:cubicBezTo>
                      <a:pt x="110" y="9"/>
                      <a:pt x="84" y="0"/>
                      <a:pt x="28" y="58"/>
                    </a:cubicBezTo>
                    <a:cubicBezTo>
                      <a:pt x="9" y="138"/>
                      <a:pt x="0" y="222"/>
                      <a:pt x="47" y="294"/>
                    </a:cubicBezTo>
                    <a:cubicBezTo>
                      <a:pt x="63" y="343"/>
                      <a:pt x="45" y="304"/>
                      <a:pt x="85" y="350"/>
                    </a:cubicBezTo>
                    <a:cubicBezTo>
                      <a:pt x="95" y="362"/>
                      <a:pt x="101" y="378"/>
                      <a:pt x="113" y="388"/>
                    </a:cubicBezTo>
                    <a:cubicBezTo>
                      <a:pt x="175" y="443"/>
                      <a:pt x="271" y="466"/>
                      <a:pt x="349" y="483"/>
                    </a:cubicBezTo>
                    <a:cubicBezTo>
                      <a:pt x="431" y="471"/>
                      <a:pt x="393" y="473"/>
                      <a:pt x="463" y="473"/>
                    </a:cubicBez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60960" y="406440"/>
                <a:ext cx="1274760" cy="598320"/>
              </a:xfrm>
              <a:custGeom>
                <a:avLst/>
                <a:gdLst/>
                <a:ahLst/>
                <a:rect l="l" t="t" r="r" b="b"/>
                <a:pathLst>
                  <a:path w="803" h="377">
                    <a:moveTo>
                      <a:pt x="404" y="56"/>
                    </a:moveTo>
                    <a:cubicBezTo>
                      <a:pt x="319" y="0"/>
                      <a:pt x="216" y="36"/>
                      <a:pt x="120" y="46"/>
                    </a:cubicBezTo>
                    <a:cubicBezTo>
                      <a:pt x="21" y="113"/>
                      <a:pt x="87" y="52"/>
                      <a:pt x="54" y="112"/>
                    </a:cubicBezTo>
                    <a:cubicBezTo>
                      <a:pt x="0" y="209"/>
                      <a:pt x="30" y="134"/>
                      <a:pt x="7" y="197"/>
                    </a:cubicBezTo>
                    <a:cubicBezTo>
                      <a:pt x="12" y="236"/>
                      <a:pt x="0" y="294"/>
                      <a:pt x="35" y="311"/>
                    </a:cubicBezTo>
                    <a:cubicBezTo>
                      <a:pt x="58" y="323"/>
                      <a:pt x="86" y="323"/>
                      <a:pt x="111" y="329"/>
                    </a:cubicBezTo>
                    <a:cubicBezTo>
                      <a:pt x="120" y="331"/>
                      <a:pt x="171" y="355"/>
                      <a:pt x="187" y="358"/>
                    </a:cubicBezTo>
                    <a:cubicBezTo>
                      <a:pt x="212" y="363"/>
                      <a:pt x="237" y="363"/>
                      <a:pt x="262" y="367"/>
                    </a:cubicBezTo>
                    <a:cubicBezTo>
                      <a:pt x="278" y="369"/>
                      <a:pt x="293" y="374"/>
                      <a:pt x="309" y="377"/>
                    </a:cubicBezTo>
                    <a:cubicBezTo>
                      <a:pt x="440" y="370"/>
                      <a:pt x="566" y="362"/>
                      <a:pt x="696" y="348"/>
                    </a:cubicBezTo>
                    <a:cubicBezTo>
                      <a:pt x="728" y="338"/>
                      <a:pt x="753" y="329"/>
                      <a:pt x="781" y="311"/>
                    </a:cubicBezTo>
                    <a:cubicBezTo>
                      <a:pt x="787" y="301"/>
                      <a:pt x="799" y="294"/>
                      <a:pt x="800" y="282"/>
                    </a:cubicBezTo>
                    <a:cubicBezTo>
                      <a:pt x="803" y="241"/>
                      <a:pt x="801" y="199"/>
                      <a:pt x="791" y="159"/>
                    </a:cubicBezTo>
                    <a:cubicBezTo>
                      <a:pt x="774" y="91"/>
                      <a:pt x="578" y="95"/>
                      <a:pt x="555" y="93"/>
                    </a:cubicBezTo>
                    <a:cubicBezTo>
                      <a:pt x="506" y="84"/>
                      <a:pt x="450" y="56"/>
                      <a:pt x="404" y="56"/>
                    </a:cubicBez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2348640" y="1660680"/>
              <a:ext cx="588060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should block DC and have very low impedance at 1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0" y="2193840"/>
            <a:ext cx="8982360" cy="4206960"/>
            <a:chOff x="0" y="2193840"/>
            <a:chExt cx="8982360" cy="4206960"/>
          </a:xfrm>
        </p:grpSpPr>
        <p:pic>
          <p:nvPicPr>
            <p:cNvPr id="1468" name="" descr=""/>
            <p:cNvPicPr/>
            <p:nvPr/>
          </p:nvPicPr>
          <p:blipFill>
            <a:blip r:embed="rId4"/>
            <a:stretch/>
          </p:blipFill>
          <p:spPr>
            <a:xfrm>
              <a:off x="0" y="3581280"/>
              <a:ext cx="26496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9" name=""/>
            <p:cNvSpPr/>
            <p:nvPr/>
          </p:nvSpPr>
          <p:spPr>
            <a:xfrm>
              <a:off x="3185640" y="2193840"/>
              <a:ext cx="5796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 DC THE CAPACITOR IS ALWAYS OPEN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AT 1GHz ONE WOULD NEED INFINITE INDUCTA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3386520" y="2879640"/>
            <a:ext cx="5010840" cy="1406520"/>
            <a:chOff x="3386520" y="2879640"/>
            <a:chExt cx="5010840" cy="1406520"/>
          </a:xfrm>
        </p:grpSpPr>
        <p:grpSp>
          <p:nvGrpSpPr>
            <p:cNvPr id="1471" name=""/>
            <p:cNvGrpSpPr/>
            <p:nvPr/>
          </p:nvGrpSpPr>
          <p:grpSpPr>
            <a:xfrm>
              <a:off x="3444480" y="3505320"/>
              <a:ext cx="4952880" cy="780840"/>
              <a:chOff x="3444480" y="3505320"/>
              <a:chExt cx="4952880" cy="780840"/>
            </a:xfrm>
          </p:grpSpPr>
          <p:graphicFrame>
            <p:nvGraphicFramePr>
              <p:cNvPr id="1472" name=""/>
              <p:cNvGraphicFramePr/>
              <p:nvPr/>
            </p:nvGraphicFramePr>
            <p:xfrm>
              <a:off x="3444480" y="3825720"/>
              <a:ext cx="4952880" cy="460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47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444480" y="3825720"/>
                        <a:ext cx="4952880" cy="46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74" name=""/>
              <p:cNvSpPr/>
              <p:nvPr/>
            </p:nvSpPr>
            <p:spPr>
              <a:xfrm>
                <a:off x="3463560" y="3505320"/>
                <a:ext cx="1118160" cy="3373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ROPO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3386520" y="2879640"/>
              <a:ext cx="477576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JUST MAKE THE IMPEDANCES VERY DIFFE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3809880" y="4343400"/>
            <a:ext cx="4114800" cy="2201760"/>
            <a:chOff x="3809880" y="4343400"/>
            <a:chExt cx="4114800" cy="2201760"/>
          </a:xfrm>
        </p:grpSpPr>
        <p:graphicFrame>
          <p:nvGraphicFramePr>
            <p:cNvPr id="1477" name=""/>
            <p:cNvGraphicFramePr/>
            <p:nvPr/>
          </p:nvGraphicFramePr>
          <p:xfrm>
            <a:off x="3809880" y="6095880"/>
            <a:ext cx="4114800" cy="449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9880" y="6095880"/>
                      <a:ext cx="4114800" cy="4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9" name="" descr=""/>
            <p:cNvPicPr/>
            <p:nvPr/>
          </p:nvPicPr>
          <p:blipFill>
            <a:blip r:embed="rId9"/>
            <a:stretch/>
          </p:blipFill>
          <p:spPr>
            <a:xfrm>
              <a:off x="4267080" y="4343400"/>
              <a:ext cx="3495960" cy="167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0" name="" descr=""/>
          <p:cNvPicPr/>
          <p:nvPr/>
        </p:nvPicPr>
        <p:blipFill>
          <a:blip r:embed="rId10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0" dur="indefinite" restart="never" nodeType="tmRoot">
          <p:childTnLst>
            <p:seq>
              <p:cTn id="4091" dur="indefinite" nodeType="mainSeq">
                <p:childTnLst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6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7" fill="hold">
                      <p:stCondLst>
                        <p:cond delay="indefinite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1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6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fill="hold">
                      <p:stCondLst>
                        <p:cond delay="indefinite"/>
                      </p:stCondLst>
                      <p:childTnLst>
                        <p:par>
                          <p:cTn id="4108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1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2" fill="hold">
                      <p:stCondLst>
                        <p:cond delay="indefinite"/>
                      </p:stCondLst>
                      <p:childTnLst>
                        <p:par>
                          <p:cTn id="4113" fill="hold">
                            <p:stCondLst>
                              <p:cond delay="0"/>
                            </p:stCondLst>
                            <p:childTnLst>
                              <p:par>
                                <p:cTn id="4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7" fill="hold">
                      <p:stCondLst>
                        <p:cond delay="indefinite"/>
                      </p:stCondLst>
                      <p:childTnLst>
                        <p:par>
                          <p:cTn id="4118" fill="hold">
                            <p:stCondLst>
                              <p:cond delay="0"/>
                            </p:stCondLst>
                            <p:childTnLst>
                              <p:par>
                                <p:cTn id="4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2" fill="hold">
                      <p:stCondLst>
                        <p:cond delay="indefinite"/>
                      </p:stCondLst>
                      <p:childTnLst>
                        <p:par>
                          <p:cTn id="4123" fill="hold">
                            <p:stCondLst>
                              <p:cond delay="0"/>
                            </p:stCondLst>
                            <p:childTnLst>
                              <p:par>
                                <p:cTn id="4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895480" cy="259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86840" y="152280"/>
            <a:ext cx="5205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640" y="3429000"/>
            <a:ext cx="429264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ndependent sources are 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ame frequency then for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linear circuit th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response will be sinusoidal and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28600" y="4876920"/>
                <a:ext cx="411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1360" y="5238720"/>
                <a:ext cx="4292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 determine the steady state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only need to determine the paramet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5410080" y="579600"/>
            <a:ext cx="3657600" cy="2239920"/>
            <a:chOff x="5410080" y="579600"/>
            <a:chExt cx="3657600" cy="22399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5410080" y="71460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504400" y="57960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20574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99080" y="2819520"/>
                <a:ext cx="37209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o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8153280" y="3200400"/>
            <a:ext cx="443160" cy="685800"/>
            <a:chOff x="8153280" y="3200400"/>
            <a:chExt cx="443160" cy="6858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8153280" y="3200400"/>
                  <a:ext cx="4431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8153280" y="365760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97560" y="4114800"/>
                <a:ext cx="4330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572000" y="4800600"/>
            <a:ext cx="3780000" cy="647640"/>
            <a:chOff x="4572000" y="4800600"/>
            <a:chExt cx="3780000" cy="6476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572000" y="4800600"/>
                  <a:ext cx="16765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6322680" y="4800600"/>
              <a:ext cx="202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gebraic 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72000" y="548640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574880" y="6095880"/>
            <a:ext cx="447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steady state solution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accomplished with only algebraic tool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410680" y="6567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6680" y="58680"/>
            <a:ext cx="402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RTHER ANALYSIS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63560" y="457200"/>
                <a:ext cx="5803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olution is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pplied voltage is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comparison purposes one can wri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971800" y="21337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00600" y="1523880"/>
                <a:ext cx="256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11480" y="2819520"/>
                <a:ext cx="283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35053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86000" y="4191120"/>
                <a:ext cx="4648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the current ALWAYS lags th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648320"/>
                <a:ext cx="5919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ure inducto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the current lags the voltage by 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120" y="152280"/>
            <a:ext cx="665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ING A SIMPLE ONE LOOP CIRCUIT CAN BE VERY LABOR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ONE USES SINUSOIDAL EXC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35160" y="914400"/>
            <a:ext cx="67276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MAKE ANALYSIS SIMPLER ONE RELATES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LEX NUMBERS. THE ANALYSIS OF STEADY STATE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ED TO SOLVING SYSTEMS OF ALGEBRAIC EQUATION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3360" y="181440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OMPLEX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2666880"/>
            <a:ext cx="2743200" cy="2438640"/>
            <a:chOff x="228600" y="2666880"/>
            <a:chExt cx="2743200" cy="2438640"/>
          </a:xfrm>
        </p:grpSpPr>
        <p:graphicFrame>
          <p:nvGraphicFramePr>
            <p:cNvPr id="172" name=""/>
            <p:cNvGraphicFramePr/>
            <p:nvPr/>
          </p:nvGraphicFramePr>
          <p:xfrm>
            <a:off x="228600" y="2666880"/>
            <a:ext cx="2743200" cy="24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666880"/>
                      <a:ext cx="2743200" cy="24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956600" y="3765240"/>
                  <a:ext cx="389880" cy="23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3048120"/>
                <a:ext cx="372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25760" y="2209680"/>
                <a:ext cx="5906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SENTIAL  IDENTITY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ler identit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33920" y="388620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238880" y="342900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ad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038480" y="518148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376800" y="4343400"/>
            <a:ext cx="5181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everybody knows the frequency of the sinus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n one can skip the term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xp(jw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9:31:13Z</dcterms:created>
  <dc:creator>Jorge Aravena</dc:creator>
  <dc:description/>
  <dc:language>en-US</dc:language>
  <cp:lastModifiedBy>Jorge Aravena</cp:lastModifiedBy>
  <dcterms:modified xsi:type="dcterms:W3CDTF">2004-08-21T17:33:05Z</dcterms:modified>
  <cp:revision>35</cp:revision>
  <dc:subject/>
  <dc:title>No Slide Title</dc:title>
</cp:coreProperties>
</file>