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57.png" ContentType="image/png"/>
  <Override PartName="/ppt/media/image56.png" ContentType="image/png"/>
  <Override PartName="/ppt/media/image53.png" ContentType="image/png"/>
  <Override PartName="/ppt/media/image51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55.wmf" ContentType="image/x-wmf"/>
  <Override PartName="/ppt/media/image32.png" ContentType="image/png"/>
  <Override PartName="/ppt/media/image2.png" ContentType="image/png"/>
  <Override PartName="/ppt/media/image14.png" ContentType="image/png"/>
  <Override PartName="/ppt/media/image54.wmf" ContentType="image/x-wmf"/>
  <Override PartName="/ppt/media/image31.png" ContentType="image/png"/>
  <Override PartName="/ppt/media/image25.png" ContentType="image/png"/>
  <Override PartName="/ppt/media/image62.png" ContentType="image/png"/>
  <Override PartName="/ppt/media/image23.wmf" ContentType="image/x-wmf"/>
  <Override PartName="/ppt/media/image60.png" ContentType="image/png"/>
  <Override PartName="/ppt/media/image61.png" ContentType="image/png"/>
  <Override PartName="/ppt/media/image2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22.wmf" ContentType="image/x-wmf"/>
  <Override PartName="/ppt/media/image65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7.png" ContentType="image/png"/>
  <Override PartName="/ppt/media/image21.wmf" ContentType="image/x-wmf"/>
  <Override PartName="/ppt/media/image64.png" ContentType="image/png"/>
  <Override PartName="/ppt/media/image26.png" ContentType="image/png"/>
  <Override PartName="/ppt/media/image20.wmf" ContentType="image/x-wmf"/>
  <Override PartName="/ppt/media/image63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12.png" ContentType="image/png"/>
  <Override PartName="/ppt/media/image49.png" ContentType="image/png"/>
  <Override PartName="/ppt/media/image52.wmf" ContentType="image/x-wmf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39.png" ContentType="image/png"/>
  <Override PartName="/ppt/media/image30.png" ContentType="image/png"/>
  <Override PartName="/ppt/media/image37.wmf" ContentType="image/x-wmf"/>
  <Override PartName="/ppt/media/image40.png" ContentType="image/png"/>
  <Override PartName="/ppt/media/image41.png" ContentType="image/png"/>
  <Override PartName="/ppt/media/image42.png" ContentType="image/png"/>
  <Override PartName="/ppt/media/image9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media/image5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A548-9405-41DF-8DCA-5BFA44347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052F-4DF6-43E5-B878-B57A27E3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86F3-DEFD-4A77-AC2D-DC8F97BD4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923E-91A0-40E9-8AEC-1CDC884B7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2899-D4D3-47A9-920F-118362CD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1A5D-48EA-4EFE-A2C8-F6C29390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E11B-461F-4D34-A599-C5242905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5DDA-9E63-4EB2-98E0-59B7EA98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FA0F-2CA2-4FBC-B74E-2EA50693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8FD5-10E8-4F50-A243-2C6CEE1E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06BB-A9F0-4137-9AA3-76C3A330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8589-79E3-4D42-9D46-DED3D0F0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5CB5-146C-4E69-80E0-1EF210624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png"/><Relationship Id="rId7" Type="http://schemas.openxmlformats.org/officeDocument/2006/relationships/image" Target="../media/image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png"/><Relationship Id="rId13" Type="http://schemas.openxmlformats.org/officeDocument/2006/relationships/image" Target="../media/image1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9.png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image" Target="../media/image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5.wmf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5.wmf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3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4.png"/><Relationship Id="rId19" Type="http://schemas.openxmlformats.org/officeDocument/2006/relationships/image" Target="../media/image65.png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png"/><Relationship Id="rId13" Type="http://schemas.openxmlformats.org/officeDocument/2006/relationships/image" Target="../media/image1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3040" y="152280"/>
            <a:ext cx="758592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DDITIONAL ANALYSIS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1880" y="6472080"/>
            <a:ext cx="76068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4648320" y="655308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27840" y="990720"/>
            <a:ext cx="1963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54760" y="1704960"/>
            <a:ext cx="4737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VIEW LINE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property has two equivalent definition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show and application of homogene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08400" y="2587680"/>
            <a:ext cx="64731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LY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discuss some implications of the superposition property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ar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13440" y="3457440"/>
            <a:ext cx="69868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VELOP THEVENIN’S AND NORTON’S THEOR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se are two very powerful analysis tools that allow u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cus on parts of a circuit and hide away unnecessary complexit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35760" y="4753080"/>
            <a:ext cx="7133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XIMUM POWER TRANS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is a very useful application of Thevenin’s and Norton’s theor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600200" y="609480"/>
            <a:ext cx="5181480" cy="7621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Source Super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27560" y="2247840"/>
            <a:ext cx="5843880" cy="8254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is technique is a direct application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inear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83160" y="3311640"/>
            <a:ext cx="7133040" cy="8254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t is normally useful when the circuit ha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a few 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4749840" y="149400"/>
          <a:ext cx="3098880" cy="396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9840" y="149400"/>
                    <a:ext cx="3098880" cy="39654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05" name=""/>
          <p:cNvGrpSpPr/>
          <p:nvPr/>
        </p:nvGrpSpPr>
        <p:grpSpPr>
          <a:xfrm>
            <a:off x="1084680" y="1863720"/>
            <a:ext cx="2632680" cy="1035000"/>
            <a:chOff x="1084680" y="1863720"/>
            <a:chExt cx="2632680" cy="1035000"/>
          </a:xfrm>
        </p:grpSpPr>
        <p:sp>
          <p:nvSpPr>
            <p:cNvPr id="206" name=""/>
            <p:cNvSpPr/>
            <p:nvPr/>
          </p:nvSpPr>
          <p:spPr>
            <a:xfrm>
              <a:off x="1084680" y="1863720"/>
              <a:ext cx="2632680" cy="459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Due to Linear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7" name=""/>
            <p:cNvGraphicFramePr/>
            <p:nvPr/>
          </p:nvGraphicFramePr>
          <p:xfrm>
            <a:off x="1219320" y="2438280"/>
            <a:ext cx="2286000" cy="460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19320" y="2438280"/>
                      <a:ext cx="2286000" cy="46044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209" name=""/>
          <p:cNvGrpSpPr/>
          <p:nvPr/>
        </p:nvGrpSpPr>
        <p:grpSpPr>
          <a:xfrm>
            <a:off x="228600" y="4572000"/>
            <a:ext cx="7193160" cy="860400"/>
            <a:chOff x="228600" y="4572000"/>
            <a:chExt cx="7193160" cy="860400"/>
          </a:xfrm>
        </p:grpSpPr>
        <p:graphicFrame>
          <p:nvGraphicFramePr>
            <p:cNvPr id="210" name=""/>
            <p:cNvGraphicFramePr/>
            <p:nvPr/>
          </p:nvGraphicFramePr>
          <p:xfrm>
            <a:off x="228600" y="4572000"/>
            <a:ext cx="762120" cy="608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" y="4572000"/>
                      <a:ext cx="762120" cy="608040"/>
                    </a:xfrm>
                    <a:prstGeom prst="rect">
                      <a:avLst/>
                    </a:prstGeom>
                    <a:ln w="25560">
                      <a:solidFill>
                        <a:srgbClr val="00cc99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12" name=""/>
            <p:cNvSpPr/>
            <p:nvPr/>
          </p:nvSpPr>
          <p:spPr>
            <a:xfrm>
              <a:off x="1163160" y="4606920"/>
              <a:ext cx="6258600" cy="8254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Can be computed by setting the curr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source to zero and solving the circu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28600" y="5445000"/>
            <a:ext cx="7201800" cy="825480"/>
            <a:chOff x="228600" y="5445000"/>
            <a:chExt cx="7201800" cy="825480"/>
          </a:xfrm>
        </p:grpSpPr>
        <p:graphicFrame>
          <p:nvGraphicFramePr>
            <p:cNvPr id="214" name=""/>
            <p:cNvGraphicFramePr/>
            <p:nvPr/>
          </p:nvGraphicFramePr>
          <p:xfrm>
            <a:off x="228600" y="5486040"/>
            <a:ext cx="762120" cy="579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8600" y="5486040"/>
                      <a:ext cx="762120" cy="579600"/>
                    </a:xfrm>
                    <a:prstGeom prst="rect">
                      <a:avLst/>
                    </a:prstGeom>
                    <a:ln w="25560">
                      <a:solidFill>
                        <a:srgbClr val="00cc99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1171800" y="5445000"/>
              <a:ext cx="6258600" cy="8254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Can be computed by setting the volt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source to zero and solving the circu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7" name="" descr=""/>
          <p:cNvPicPr/>
          <p:nvPr/>
        </p:nvPicPr>
        <p:blipFill>
          <a:blip r:embed="rId9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218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65760" y="228600"/>
            <a:ext cx="3221280" cy="52020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OR CLARITY WE SHOW A CIRCUI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WITH ONLY TWO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6320" y="2362320"/>
            <a:ext cx="2514600" cy="1560240"/>
            <a:chOff x="76320" y="2362320"/>
            <a:chExt cx="2514600" cy="1560240"/>
          </a:xfrm>
        </p:grpSpPr>
        <p:grpSp>
          <p:nvGrpSpPr>
            <p:cNvPr id="222" name=""/>
            <p:cNvGrpSpPr/>
            <p:nvPr/>
          </p:nvGrpSpPr>
          <p:grpSpPr>
            <a:xfrm>
              <a:off x="76320" y="2362320"/>
              <a:ext cx="2514600" cy="1218960"/>
              <a:chOff x="76320" y="2362320"/>
              <a:chExt cx="2514600" cy="1218960"/>
            </a:xfrm>
          </p:grpSpPr>
          <p:sp>
            <p:nvSpPr>
              <p:cNvPr id="223" name=""/>
              <p:cNvSpPr/>
              <p:nvPr/>
            </p:nvSpPr>
            <p:spPr>
              <a:xfrm>
                <a:off x="1905120" y="2362320"/>
                <a:ext cx="685800" cy="914400"/>
              </a:xfrm>
              <a:prstGeom prst="downArrowCallout">
                <a:avLst>
                  <a:gd name="adj1" fmla="val 25002"/>
                  <a:gd name="adj2" fmla="val 25000"/>
                  <a:gd name="adj3" fmla="val 22222"/>
                  <a:gd name="adj4" fmla="val 66667"/>
                </a:avLst>
              </a:prstGeom>
              <a:noFill/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4" name=""/>
                  <p:cNvSpPr txBox="1"/>
                  <p:nvPr/>
                </p:nvSpPr>
                <p:spPr>
                  <a:xfrm>
                    <a:off x="76320" y="3290760"/>
                    <a:ext cx="2273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CONTRIBUTION BY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838080" y="3581280"/>
                  <a:ext cx="2653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6" name=""/>
          <p:cNvGrpSpPr/>
          <p:nvPr/>
        </p:nvGrpSpPr>
        <p:grpSpPr>
          <a:xfrm>
            <a:off x="2311560" y="2362320"/>
            <a:ext cx="2260440" cy="1712880"/>
            <a:chOff x="2311560" y="2362320"/>
            <a:chExt cx="2260440" cy="1712880"/>
          </a:xfrm>
        </p:grpSpPr>
        <p:sp>
          <p:nvSpPr>
            <p:cNvPr id="227" name=""/>
            <p:cNvSpPr/>
            <p:nvPr/>
          </p:nvSpPr>
          <p:spPr>
            <a:xfrm>
              <a:off x="2819520" y="2362320"/>
              <a:ext cx="685800" cy="1066680"/>
            </a:xfrm>
            <a:prstGeom prst="downArrowCallout">
              <a:avLst>
                <a:gd name="adj1" fmla="val 25002"/>
                <a:gd name="adj2" fmla="val 25000"/>
                <a:gd name="adj3" fmla="val 25923"/>
                <a:gd name="adj4" fmla="val 66667"/>
              </a:avLst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2311560" y="3429000"/>
                  <a:ext cx="2260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NTRIBUTION BY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3200400" y="3733920"/>
                  <a:ext cx="290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2990520" y="762120"/>
            <a:ext cx="2800800" cy="3498120"/>
            <a:chOff x="2990520" y="762120"/>
            <a:chExt cx="2800800" cy="3498120"/>
          </a:xfrm>
        </p:grpSpPr>
        <p:graphicFrame>
          <p:nvGraphicFramePr>
            <p:cNvPr id="231" name=""/>
            <p:cNvGraphicFramePr/>
            <p:nvPr/>
          </p:nvGraphicFramePr>
          <p:xfrm>
            <a:off x="3048120" y="762120"/>
            <a:ext cx="2638440" cy="2971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8120" y="762120"/>
                      <a:ext cx="2638440" cy="297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3" name=""/>
            <p:cNvSpPr/>
            <p:nvPr/>
          </p:nvSpPr>
          <p:spPr>
            <a:xfrm>
              <a:off x="2990520" y="3740040"/>
              <a:ext cx="237240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ircuit with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 set to zero(OPE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4724280" y="1371600"/>
                  <a:ext cx="30024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5442120" y="2057400"/>
                  <a:ext cx="3492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6" name=""/>
          <p:cNvGrpSpPr/>
          <p:nvPr/>
        </p:nvGrpSpPr>
        <p:grpSpPr>
          <a:xfrm>
            <a:off x="6111720" y="82440"/>
            <a:ext cx="3043440" cy="4203720"/>
            <a:chOff x="6111720" y="82440"/>
            <a:chExt cx="3043440" cy="4203720"/>
          </a:xfrm>
        </p:grpSpPr>
        <p:graphicFrame>
          <p:nvGraphicFramePr>
            <p:cNvPr id="237" name=""/>
            <p:cNvGraphicFramePr/>
            <p:nvPr/>
          </p:nvGraphicFramePr>
          <p:xfrm>
            <a:off x="6111720" y="609480"/>
            <a:ext cx="3032280" cy="367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11720" y="609480"/>
                      <a:ext cx="3032280" cy="367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9" name=""/>
            <p:cNvSpPr/>
            <p:nvPr/>
          </p:nvSpPr>
          <p:spPr>
            <a:xfrm>
              <a:off x="6705720" y="838080"/>
              <a:ext cx="990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63560" y="82440"/>
              <a:ext cx="288108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ircuit with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et to zero (SHORT CIRCUITE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1" name=""/>
                <p:cNvSpPr txBox="1"/>
                <p:nvPr/>
              </p:nvSpPr>
              <p:spPr>
                <a:xfrm>
                  <a:off x="8142120" y="1219320"/>
                  <a:ext cx="3240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8785080" y="1981080"/>
                  <a:ext cx="370080" cy="4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3" name=""/>
          <p:cNvGrpSpPr/>
          <p:nvPr/>
        </p:nvGrpSpPr>
        <p:grpSpPr>
          <a:xfrm>
            <a:off x="152280" y="235080"/>
            <a:ext cx="3261960" cy="3727440"/>
            <a:chOff x="152280" y="235080"/>
            <a:chExt cx="3261960" cy="3727440"/>
          </a:xfrm>
        </p:grpSpPr>
        <p:sp>
          <p:nvSpPr>
            <p:cNvPr id="244" name=""/>
            <p:cNvSpPr/>
            <p:nvPr/>
          </p:nvSpPr>
          <p:spPr>
            <a:xfrm>
              <a:off x="1040400" y="235080"/>
              <a:ext cx="237384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 SUPER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5" name=""/>
            <p:cNvGraphicFramePr/>
            <p:nvPr/>
          </p:nvGraphicFramePr>
          <p:xfrm>
            <a:off x="152280" y="762120"/>
            <a:ext cx="2562480" cy="320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2280" y="762120"/>
                      <a:ext cx="2562480" cy="32004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47" name=""/>
            <p:cNvSpPr/>
            <p:nvPr/>
          </p:nvSpPr>
          <p:spPr>
            <a:xfrm>
              <a:off x="2759760" y="1987560"/>
              <a:ext cx="326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5906520" y="1905120"/>
            <a:ext cx="3546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99320" y="5492880"/>
            <a:ext cx="8222760" cy="52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approach will be useful if solving the two circuits is simpler, or more convenient, th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ving a circuit with two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299600" y="4502160"/>
            <a:ext cx="6949440" cy="708120"/>
            <a:chOff x="1299600" y="4502160"/>
            <a:chExt cx="6949440" cy="708120"/>
          </a:xfrm>
        </p:grpSpPr>
        <p:sp>
          <p:nvSpPr>
            <p:cNvPr id="251" name=""/>
            <p:cNvSpPr/>
            <p:nvPr/>
          </p:nvSpPr>
          <p:spPr>
            <a:xfrm>
              <a:off x="1299600" y="4502160"/>
              <a:ext cx="44647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ue to the linearity of the models we must ha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1752480" y="4800600"/>
              <a:ext cx="6496560" cy="409680"/>
              <a:chOff x="1752480" y="4800600"/>
              <a:chExt cx="6496560" cy="409680"/>
            </a:xfrm>
          </p:grpSpPr>
          <mc:AlternateContent>
            <mc:Choice xmlns:a14="http://schemas.microsoft.com/office/drawing/2010/main" Requires="a14">
              <p:sp>
                <p:nvSpPr>
                  <p:cNvPr id="253" name=""/>
                  <p:cNvSpPr txBox="1"/>
                  <p:nvPr/>
                </p:nvSpPr>
                <p:spPr>
                  <a:xfrm>
                    <a:off x="1752480" y="4800600"/>
                    <a:ext cx="3276720" cy="409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54" name=""/>
              <p:cNvSpPr/>
              <p:nvPr/>
            </p:nvSpPr>
            <p:spPr>
              <a:xfrm>
                <a:off x="5128560" y="4867200"/>
                <a:ext cx="3120480" cy="3070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Principle of Source Superposi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5" name=""/>
          <p:cNvSpPr/>
          <p:nvPr/>
        </p:nvSpPr>
        <p:spPr>
          <a:xfrm>
            <a:off x="421200" y="6086520"/>
            <a:ext cx="82821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e can have any combination of sources. And we can partition any way we find conven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7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6324480" y="404640"/>
          <a:ext cx="2971800" cy="16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404640"/>
                    <a:ext cx="2971800" cy="16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3352680" y="487440"/>
          <a:ext cx="2895840" cy="156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487440"/>
                    <a:ext cx="289584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101520" y="55440"/>
            <a:ext cx="22244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6400800" y="0"/>
                <a:ext cx="4572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65" name=""/>
          <p:cNvGraphicFramePr/>
          <p:nvPr/>
        </p:nvGraphicFramePr>
        <p:xfrm>
          <a:off x="-76320" y="380880"/>
          <a:ext cx="3405240" cy="1492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76320" y="380880"/>
                    <a:ext cx="3405240" cy="14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838080" y="990720"/>
            <a:ext cx="3812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34720" y="1066680"/>
            <a:ext cx="3546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943440" y="1295280"/>
            <a:ext cx="2400120" cy="1216080"/>
            <a:chOff x="3943440" y="1295280"/>
            <a:chExt cx="2400120" cy="1216080"/>
          </a:xfrm>
        </p:grpSpPr>
        <p:sp>
          <p:nvSpPr>
            <p:cNvPr id="270" name=""/>
            <p:cNvSpPr/>
            <p:nvPr/>
          </p:nvSpPr>
          <p:spPr>
            <a:xfrm>
              <a:off x="4533840" y="1295280"/>
              <a:ext cx="266760" cy="711360"/>
            </a:xfrm>
            <a:custGeom>
              <a:avLst/>
              <a:gdLst/>
              <a:ahLst/>
              <a:rect l="l" t="t" r="r" b="b"/>
              <a:pathLst>
                <a:path w="168" h="448">
                  <a:moveTo>
                    <a:pt x="24" y="448"/>
                  </a:moveTo>
                  <a:cubicBezTo>
                    <a:pt x="12" y="288"/>
                    <a:pt x="0" y="128"/>
                    <a:pt x="24" y="64"/>
                  </a:cubicBezTo>
                  <a:cubicBezTo>
                    <a:pt x="48" y="0"/>
                    <a:pt x="144" y="64"/>
                    <a:pt x="168" y="6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3943440" y="2014560"/>
                  <a:ext cx="2400120" cy="49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6</m:t>
                      </m:r>
                      <m:r>
                        <m:t xml:space="preserve"> </m:t>
                      </m:r>
                      <m:r>
                        <m:t xml:space="preserve">[</m:t>
                      </m:r>
                      <m:r>
                        <m:t xml:space="preserve">k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2" name=""/>
          <p:cNvGrpSpPr/>
          <p:nvPr/>
        </p:nvGrpSpPr>
        <p:grpSpPr>
          <a:xfrm>
            <a:off x="6477120" y="1511280"/>
            <a:ext cx="2504880" cy="2082960"/>
            <a:chOff x="6477120" y="1511280"/>
            <a:chExt cx="2504880" cy="2082960"/>
          </a:xfrm>
        </p:grpSpPr>
        <p:sp>
          <p:nvSpPr>
            <p:cNvPr id="273" name=""/>
            <p:cNvSpPr/>
            <p:nvPr/>
          </p:nvSpPr>
          <p:spPr>
            <a:xfrm>
              <a:off x="7924680" y="1511280"/>
              <a:ext cx="343080" cy="622440"/>
            </a:xfrm>
            <a:custGeom>
              <a:avLst/>
              <a:gdLst/>
              <a:ahLst/>
              <a:rect l="l" t="t" r="r" b="b"/>
              <a:pathLst>
                <a:path w="216" h="392">
                  <a:moveTo>
                    <a:pt x="144" y="392"/>
                  </a:moveTo>
                  <a:cubicBezTo>
                    <a:pt x="180" y="252"/>
                    <a:pt x="216" y="112"/>
                    <a:pt x="192" y="56"/>
                  </a:cubicBezTo>
                  <a:cubicBezTo>
                    <a:pt x="168" y="0"/>
                    <a:pt x="32" y="56"/>
                    <a:pt x="0" y="5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6477120" y="2133720"/>
                  <a:ext cx="2504880" cy="14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eq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3</m:t>
                          </m:r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[</m:t>
                          </m:r>
                          <m:r>
                            <m:t xml:space="preserve">k</m:t>
                          </m:r>
                          <m:r>
                            <m:t xml:space="preserve">]</m:t>
                          </m:r>
                        </m:e>
                        <m:e>
                          <m:sSubSup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} } = {  {v rSub { size 8{2} } }  over  {R rSub { size 8{ ital </m:t>
                              </m:r>
                              <m:r>
                                <m:t xml:space="preserve">eq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} } } }  {} 
} } {</m:t>
                              </m:r>
                            </m:sup>
                          </m:sSubSup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75" name="" descr=""/>
          <p:cNvPicPr/>
          <p:nvPr/>
        </p:nvPicPr>
        <p:blipFill>
          <a:blip r:embed="rId7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276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9640" y="1143000"/>
            <a:ext cx="4334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52280" y="1981080"/>
            <a:ext cx="2657520" cy="1153440"/>
            <a:chOff x="152280" y="1981080"/>
            <a:chExt cx="2657520" cy="1153440"/>
          </a:xfrm>
        </p:grpSpPr>
        <p:graphicFrame>
          <p:nvGraphicFramePr>
            <p:cNvPr id="280" name=""/>
            <p:cNvGraphicFramePr/>
            <p:nvPr/>
          </p:nvGraphicFramePr>
          <p:xfrm>
            <a:off x="152280" y="1981080"/>
            <a:ext cx="2657520" cy="9194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52280" y="1981080"/>
                      <a:ext cx="2657520" cy="91944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82" name=""/>
            <p:cNvSpPr/>
            <p:nvPr/>
          </p:nvSpPr>
          <p:spPr>
            <a:xfrm>
              <a:off x="187200" y="2827440"/>
              <a:ext cx="15508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Loop equ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505320" y="2666880"/>
            <a:ext cx="2738160" cy="2220120"/>
            <a:chOff x="3505320" y="2666880"/>
            <a:chExt cx="2738160" cy="2220120"/>
          </a:xfrm>
        </p:grpSpPr>
        <p:graphicFrame>
          <p:nvGraphicFramePr>
            <p:cNvPr id="284" name=""/>
            <p:cNvGraphicFramePr/>
            <p:nvPr/>
          </p:nvGraphicFramePr>
          <p:xfrm>
            <a:off x="3505320" y="2666880"/>
            <a:ext cx="2738160" cy="19130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8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505320" y="2666880"/>
                      <a:ext cx="2738160" cy="19130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86" name=""/>
            <p:cNvSpPr/>
            <p:nvPr/>
          </p:nvSpPr>
          <p:spPr>
            <a:xfrm>
              <a:off x="3764880" y="4579920"/>
              <a:ext cx="17992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ontribution of v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324480" y="4191120"/>
            <a:ext cx="2890800" cy="1830960"/>
            <a:chOff x="6324480" y="4191120"/>
            <a:chExt cx="2890800" cy="1830960"/>
          </a:xfrm>
        </p:grpSpPr>
        <p:graphicFrame>
          <p:nvGraphicFramePr>
            <p:cNvPr id="288" name=""/>
            <p:cNvGraphicFramePr/>
            <p:nvPr/>
          </p:nvGraphicFramePr>
          <p:xfrm>
            <a:off x="6324480" y="4191120"/>
            <a:ext cx="2890800" cy="15030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6324480" y="4191120"/>
                      <a:ext cx="2890800" cy="15030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90" name=""/>
            <p:cNvSpPr/>
            <p:nvPr/>
          </p:nvSpPr>
          <p:spPr>
            <a:xfrm>
              <a:off x="6784200" y="5715000"/>
              <a:ext cx="17992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ontribution of v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895480" y="76320"/>
            <a:ext cx="34513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E WISH TO COMPUTE THE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4960" y="5410080"/>
            <a:ext cx="3591360" cy="1078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we know the “partial circuit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need to be able to solve them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efficient m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4408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04920" y="2209680"/>
            <a:ext cx="3786120" cy="1887480"/>
            <a:chOff x="304920" y="2209680"/>
            <a:chExt cx="3786120" cy="1887480"/>
          </a:xfrm>
        </p:grpSpPr>
        <p:graphicFrame>
          <p:nvGraphicFramePr>
            <p:cNvPr id="295" name=""/>
            <p:cNvGraphicFramePr/>
            <p:nvPr/>
          </p:nvGraphicFramePr>
          <p:xfrm>
            <a:off x="304920" y="2514600"/>
            <a:ext cx="3786120" cy="158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514600"/>
                      <a:ext cx="3786120" cy="158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7" name=""/>
            <p:cNvSpPr/>
            <p:nvPr/>
          </p:nvSpPr>
          <p:spPr>
            <a:xfrm>
              <a:off x="333720" y="2209680"/>
              <a:ext cx="313740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e set to zero the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4343400" y="2666880"/>
            <a:ext cx="4688640" cy="757080"/>
            <a:chOff x="4343400" y="2666880"/>
            <a:chExt cx="4688640" cy="757080"/>
          </a:xfrm>
        </p:grpSpPr>
        <p:graphicFrame>
          <p:nvGraphicFramePr>
            <p:cNvPr id="299" name=""/>
            <p:cNvGraphicFramePr/>
            <p:nvPr/>
          </p:nvGraphicFramePr>
          <p:xfrm>
            <a:off x="4343400" y="2666880"/>
            <a:ext cx="3036600" cy="757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43400" y="2666880"/>
                      <a:ext cx="3036600" cy="75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1" name=""/>
            <p:cNvSpPr/>
            <p:nvPr/>
          </p:nvSpPr>
          <p:spPr>
            <a:xfrm>
              <a:off x="7417080" y="2758320"/>
              <a:ext cx="161496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urrent divi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343400" y="3429000"/>
            <a:ext cx="4002120" cy="685440"/>
            <a:chOff x="4343400" y="3429000"/>
            <a:chExt cx="4002120" cy="685440"/>
          </a:xfrm>
        </p:grpSpPr>
        <p:graphicFrame>
          <p:nvGraphicFramePr>
            <p:cNvPr id="303" name=""/>
            <p:cNvGraphicFramePr/>
            <p:nvPr/>
          </p:nvGraphicFramePr>
          <p:xfrm>
            <a:off x="4343400" y="3429000"/>
            <a:ext cx="1937880" cy="685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343400" y="3429000"/>
                      <a:ext cx="1937880" cy="68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5" name=""/>
            <p:cNvSpPr/>
            <p:nvPr/>
          </p:nvSpPr>
          <p:spPr>
            <a:xfrm>
              <a:off x="7242840" y="3440520"/>
              <a:ext cx="110268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hm’s l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04920" y="4197240"/>
            <a:ext cx="3814560" cy="2024280"/>
            <a:chOff x="304920" y="4197240"/>
            <a:chExt cx="3814560" cy="2024280"/>
          </a:xfrm>
        </p:grpSpPr>
        <p:graphicFrame>
          <p:nvGraphicFramePr>
            <p:cNvPr id="307" name=""/>
            <p:cNvGraphicFramePr/>
            <p:nvPr/>
          </p:nvGraphicFramePr>
          <p:xfrm>
            <a:off x="304920" y="4648320"/>
            <a:ext cx="3814560" cy="1573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4920" y="4648320"/>
                      <a:ext cx="3814560" cy="15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9" name=""/>
            <p:cNvSpPr/>
            <p:nvPr/>
          </p:nvSpPr>
          <p:spPr>
            <a:xfrm>
              <a:off x="467640" y="4197240"/>
              <a:ext cx="35701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Now we set to zero the current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962520" y="4343400"/>
            <a:ext cx="2361960" cy="2316240"/>
            <a:chOff x="3962520" y="4343400"/>
            <a:chExt cx="2361960" cy="2316240"/>
          </a:xfrm>
        </p:grpSpPr>
        <p:sp>
          <p:nvSpPr>
            <p:cNvPr id="311" name=""/>
            <p:cNvSpPr/>
            <p:nvPr/>
          </p:nvSpPr>
          <p:spPr>
            <a:xfrm>
              <a:off x="4275360" y="4343400"/>
              <a:ext cx="1553760" cy="307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Voltage Div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12" name=""/>
            <p:cNvGraphicFramePr/>
            <p:nvPr/>
          </p:nvGraphicFramePr>
          <p:xfrm>
            <a:off x="3962520" y="4648320"/>
            <a:ext cx="2361960" cy="2011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1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962520" y="4648320"/>
                      <a:ext cx="2361960" cy="201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6477120" y="5486400"/>
                <a:ext cx="23619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6 \[ V \]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315" name=""/>
          <p:cNvGrpSpPr/>
          <p:nvPr/>
        </p:nvGrpSpPr>
        <p:grpSpPr>
          <a:xfrm>
            <a:off x="6248520" y="4572000"/>
            <a:ext cx="2654280" cy="615960"/>
            <a:chOff x="6248520" y="4572000"/>
            <a:chExt cx="2654280" cy="615960"/>
          </a:xfrm>
        </p:grpSpPr>
        <p:graphicFrame>
          <p:nvGraphicFramePr>
            <p:cNvPr id="316" name=""/>
            <p:cNvGraphicFramePr/>
            <p:nvPr/>
          </p:nvGraphicFramePr>
          <p:xfrm>
            <a:off x="6248520" y="4572000"/>
            <a:ext cx="1957320" cy="615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1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248520" y="4572000"/>
                      <a:ext cx="1957320" cy="61596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18" name=""/>
                <p:cNvSpPr txBox="1"/>
                <p:nvPr/>
              </p:nvSpPr>
              <p:spPr>
                <a:xfrm>
                  <a:off x="8153280" y="4678200"/>
                  <a:ext cx="749520" cy="35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19" name="" descr=""/>
          <p:cNvPicPr/>
          <p:nvPr/>
        </p:nvPicPr>
        <p:blipFill>
          <a:blip r:embed="rId1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320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228600" y="533520"/>
          <a:ext cx="4114800" cy="1620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28600" y="533520"/>
                    <a:ext cx="4114800" cy="16207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819520" y="166680"/>
                <a:ext cx="4216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 source  superpositio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0" y="304920"/>
          <a:ext cx="3352680" cy="18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335268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49680" y="-50760"/>
            <a:ext cx="2487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0" y="4191120"/>
            <a:ext cx="3398760" cy="2372760"/>
            <a:chOff x="0" y="4191120"/>
            <a:chExt cx="3398760" cy="2372760"/>
          </a:xfrm>
        </p:grpSpPr>
        <p:sp>
          <p:nvSpPr>
            <p:cNvPr id="329" name=""/>
            <p:cNvSpPr/>
            <p:nvPr/>
          </p:nvSpPr>
          <p:spPr>
            <a:xfrm>
              <a:off x="542520" y="4191120"/>
              <a:ext cx="24775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et to zero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0" name=""/>
            <p:cNvGraphicFramePr/>
            <p:nvPr/>
          </p:nvGraphicFramePr>
          <p:xfrm>
            <a:off x="0" y="4495680"/>
            <a:ext cx="3398760" cy="2068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4495680"/>
                      <a:ext cx="3398760" cy="20682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332" name=""/>
          <p:cNvSpPr/>
          <p:nvPr/>
        </p:nvSpPr>
        <p:spPr>
          <a:xfrm>
            <a:off x="3992400" y="387360"/>
            <a:ext cx="432756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e must be able to solve each circuit in a ve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fficient manner!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304920" y="2384280"/>
          <a:ext cx="2971800" cy="180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2384280"/>
                    <a:ext cx="2971800" cy="180684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539280" y="2124000"/>
            <a:ext cx="24775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et to zero current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990720" y="2438280"/>
                <a:ext cx="2984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3554280" y="1447920"/>
            <a:ext cx="530748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f V1 is known then V’o is obtained using a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13600" y="1835280"/>
            <a:ext cx="53899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1 can be obtained by series parallel reduction and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981080" y="4267080"/>
            <a:ext cx="6471360" cy="1060200"/>
            <a:chOff x="1981080" y="4267080"/>
            <a:chExt cx="6471360" cy="1060200"/>
          </a:xfrm>
        </p:grpSpPr>
        <p:grpSp>
          <p:nvGrpSpPr>
            <p:cNvPr id="340" name=""/>
            <p:cNvGrpSpPr/>
            <p:nvPr/>
          </p:nvGrpSpPr>
          <p:grpSpPr>
            <a:xfrm>
              <a:off x="1981080" y="4794120"/>
              <a:ext cx="303480" cy="533160"/>
              <a:chOff x="1981080" y="4794120"/>
              <a:chExt cx="303480" cy="533160"/>
            </a:xfrm>
          </p:grpSpPr>
          <p:sp>
            <p:nvSpPr>
              <p:cNvPr id="341" name=""/>
              <p:cNvSpPr/>
              <p:nvPr/>
            </p:nvSpPr>
            <p:spPr>
              <a:xfrm>
                <a:off x="2284560" y="4870080"/>
                <a:ext cx="0" cy="457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2" name=""/>
                  <p:cNvSpPr txBox="1"/>
                  <p:nvPr/>
                </p:nvSpPr>
                <p:spPr>
                  <a:xfrm>
                    <a:off x="1981080" y="4794120"/>
                    <a:ext cx="279360" cy="366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43" name=""/>
            <p:cNvSpPr/>
            <p:nvPr/>
          </p:nvSpPr>
          <p:spPr>
            <a:xfrm>
              <a:off x="3465000" y="4267080"/>
              <a:ext cx="4987440" cy="520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 current I2 can be obtained using a current div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nd V”o using Ohm’s l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44" name=""/>
          <p:cNvGraphicFramePr/>
          <p:nvPr/>
        </p:nvGraphicFramePr>
        <p:xfrm>
          <a:off x="3657600" y="4800600"/>
          <a:ext cx="2666880" cy="196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7600" y="4800600"/>
                    <a:ext cx="2666880" cy="19638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46" name="" descr=""/>
          <p:cNvPicPr/>
          <p:nvPr/>
        </p:nvPicPr>
        <p:blipFill>
          <a:blip r:embed="rId9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347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516480" y="2209680"/>
            <a:ext cx="2858760" cy="1549440"/>
            <a:chOff x="3516480" y="2209680"/>
            <a:chExt cx="2858760" cy="1549440"/>
          </a:xfrm>
        </p:grpSpPr>
        <p:graphicFrame>
          <p:nvGraphicFramePr>
            <p:cNvPr id="350" name=""/>
            <p:cNvGraphicFramePr/>
            <p:nvPr/>
          </p:nvGraphicFramePr>
          <p:xfrm>
            <a:off x="3516480" y="2209680"/>
            <a:ext cx="2033280" cy="15066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5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516480" y="2209680"/>
                      <a:ext cx="2033280" cy="15066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52" name=""/>
                <p:cNvSpPr txBox="1"/>
                <p:nvPr/>
              </p:nvSpPr>
              <p:spPr>
                <a:xfrm>
                  <a:off x="4952880" y="3200400"/>
                  <a:ext cx="14223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den>
                      </m:f>
                      <m:r>
                        <m:t xml:space="preserve">(</m:t>
                      </m:r>
                      <m:r>
                        <m:t xml:space="preserve">6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3" name=""/>
          <p:cNvGrpSpPr/>
          <p:nvPr/>
        </p:nvGrpSpPr>
        <p:grpSpPr>
          <a:xfrm>
            <a:off x="6553080" y="2133720"/>
            <a:ext cx="2248200" cy="2082600"/>
            <a:chOff x="6553080" y="2133720"/>
            <a:chExt cx="2248200" cy="2082600"/>
          </a:xfrm>
        </p:grpSpPr>
        <p:graphicFrame>
          <p:nvGraphicFramePr>
            <p:cNvPr id="354" name=""/>
            <p:cNvGraphicFramePr/>
            <p:nvPr/>
          </p:nvGraphicFramePr>
          <p:xfrm>
            <a:off x="6553080" y="2133720"/>
            <a:ext cx="1905120" cy="14698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355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6553080" y="2133720"/>
                      <a:ext cx="1905120" cy="146988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56" name=""/>
                <p:cNvSpPr txBox="1"/>
                <p:nvPr/>
              </p:nvSpPr>
              <p:spPr>
                <a:xfrm>
                  <a:off x="6553080" y="3657600"/>
                  <a:ext cx="22482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6</m:t>
                          </m:r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6</m:t>
                          </m:r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k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7" name=""/>
          <p:cNvGrpSpPr/>
          <p:nvPr/>
        </p:nvGrpSpPr>
        <p:grpSpPr>
          <a:xfrm>
            <a:off x="333360" y="4386240"/>
            <a:ext cx="2686320" cy="2448720"/>
            <a:chOff x="333360" y="4386240"/>
            <a:chExt cx="2686320" cy="2448720"/>
          </a:xfrm>
        </p:grpSpPr>
        <p:sp>
          <p:nvSpPr>
            <p:cNvPr id="358" name=""/>
            <p:cNvSpPr/>
            <p:nvPr/>
          </p:nvSpPr>
          <p:spPr>
            <a:xfrm>
              <a:off x="380880" y="4386240"/>
              <a:ext cx="2413080" cy="1409760"/>
            </a:xfrm>
            <a:custGeom>
              <a:avLst/>
              <a:gdLst/>
              <a:ahLst/>
              <a:rect l="l" t="t" r="r" b="b"/>
              <a:pathLst>
                <a:path w="1520" h="888">
                  <a:moveTo>
                    <a:pt x="288" y="776"/>
                  </a:moveTo>
                  <a:cubicBezTo>
                    <a:pt x="280" y="872"/>
                    <a:pt x="208" y="888"/>
                    <a:pt x="192" y="776"/>
                  </a:cubicBezTo>
                  <a:cubicBezTo>
                    <a:pt x="176" y="664"/>
                    <a:pt x="0" y="208"/>
                    <a:pt x="192" y="104"/>
                  </a:cubicBezTo>
                  <a:cubicBezTo>
                    <a:pt x="384" y="0"/>
                    <a:pt x="1168" y="128"/>
                    <a:pt x="1344" y="152"/>
                  </a:cubicBezTo>
                  <a:cubicBezTo>
                    <a:pt x="1520" y="176"/>
                    <a:pt x="1432" y="240"/>
                    <a:pt x="1248" y="248"/>
                  </a:cubicBezTo>
                  <a:cubicBezTo>
                    <a:pt x="1064" y="256"/>
                    <a:pt x="400" y="112"/>
                    <a:pt x="240" y="200"/>
                  </a:cubicBezTo>
                  <a:cubicBezTo>
                    <a:pt x="80" y="288"/>
                    <a:pt x="296" y="680"/>
                    <a:pt x="288" y="776"/>
                  </a:cubicBezTo>
                  <a:close/>
                </a:path>
              </a:pathLst>
            </a:custGeom>
            <a:solidFill>
              <a:srgbClr val="ccecff"/>
            </a:solidFill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3360" y="6527880"/>
              <a:ext cx="268632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WHEN IN DOUBT… REDRAW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6261120" y="4876920"/>
                <a:ext cx="2882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4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4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6559560" y="5526000"/>
                <a:ext cx="123192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=6 ital </m:t>
                            </m:r>
                            <m:r>
                              <m:t xml:space="preserve">k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rSub { size 8{2} } }  {} # 
V rSub { size 8{O} } =V rSub { size 8{O} }  rSup { size 8{'} } +V rSub { size 8{O} }  rSup { size 8{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124080" y="14400"/>
                <a:ext cx="4216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 source  superpositio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31840" y="31680"/>
            <a:ext cx="20430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54080" y="611280"/>
          <a:ext cx="3427200" cy="27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080" y="611280"/>
                    <a:ext cx="3427200" cy="27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/>
          <p:nvPr/>
        </p:nvSpPr>
        <p:spPr>
          <a:xfrm>
            <a:off x="3820320" y="768240"/>
            <a:ext cx="3292560" cy="307080"/>
          </a:xfrm>
          <a:prstGeom prst="rect">
            <a:avLst/>
          </a:prstGeom>
          <a:solidFill>
            <a:srgbClr val="ccecff">
              <a:alpha val="50000"/>
            </a:srgbClr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Consider only the voltage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3505320" y="1155600"/>
          <a:ext cx="3047760" cy="189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155600"/>
                    <a:ext cx="3047760" cy="1892520"/>
                  </a:xfrm>
                  <a:prstGeom prst="rect">
                    <a:avLst/>
                  </a:prstGeom>
                  <a:ln w="1260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6477120" y="1752480"/>
                <a:ext cx="16002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43560" y="3581280"/>
            <a:ext cx="3022920" cy="307080"/>
          </a:xfrm>
          <a:prstGeom prst="rect">
            <a:avLst/>
          </a:prstGeom>
          <a:solidFill>
            <a:srgbClr val="ccecff">
              <a:alpha val="50000"/>
            </a:srgbClr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. Consider only the 4mA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76320" y="3962520"/>
          <a:ext cx="2665440" cy="216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20" y="3962520"/>
                    <a:ext cx="2665440" cy="2162160"/>
                  </a:xfrm>
                  <a:prstGeom prst="rect">
                    <a:avLst/>
                  </a:prstGeom>
                  <a:ln w="1260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3303720" y="3124080"/>
            <a:ext cx="2384280" cy="52020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. Consider only the 3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5856120" y="3027240"/>
          <a:ext cx="3103560" cy="1992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56120" y="3027240"/>
                    <a:ext cx="3103560" cy="1992600"/>
                  </a:xfrm>
                  <a:prstGeom prst="rect">
                    <a:avLst/>
                  </a:prstGeom>
                  <a:ln w="1260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376" name=""/>
          <p:cNvGrpSpPr/>
          <p:nvPr/>
        </p:nvGrpSpPr>
        <p:grpSpPr>
          <a:xfrm>
            <a:off x="4116960" y="3657600"/>
            <a:ext cx="1543320" cy="770040"/>
            <a:chOff x="4116960" y="3657600"/>
            <a:chExt cx="1543320" cy="770040"/>
          </a:xfrm>
        </p:grpSpPr>
        <p:sp>
          <p:nvSpPr>
            <p:cNvPr id="377" name=""/>
            <p:cNvSpPr/>
            <p:nvPr/>
          </p:nvSpPr>
          <p:spPr>
            <a:xfrm>
              <a:off x="4116960" y="3657600"/>
              <a:ext cx="15433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urrent div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8" name=""/>
                <p:cNvSpPr txBox="1"/>
                <p:nvPr/>
              </p:nvSpPr>
              <p:spPr>
                <a:xfrm>
                  <a:off x="4191120" y="4038480"/>
                  <a:ext cx="1447560" cy="38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80880" y="5249880"/>
                <a:ext cx="9003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0" name=""/>
          <p:cNvGrpSpPr/>
          <p:nvPr/>
        </p:nvGrpSpPr>
        <p:grpSpPr>
          <a:xfrm>
            <a:off x="4183560" y="5492880"/>
            <a:ext cx="3436560" cy="893520"/>
            <a:chOff x="4183560" y="5492880"/>
            <a:chExt cx="3436560" cy="893520"/>
          </a:xfrm>
        </p:grpSpPr>
        <mc:AlternateContent>
          <mc:Choice xmlns:a14="http://schemas.microsoft.com/office/drawing/2010/main" Requires="a14">
            <p:sp>
              <p:nvSpPr>
                <p:cNvPr id="381" name=""/>
                <p:cNvSpPr txBox="1"/>
                <p:nvPr/>
              </p:nvSpPr>
              <p:spPr>
                <a:xfrm>
                  <a:off x="4191120" y="5867280"/>
                  <a:ext cx="3429000" cy="5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2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2" name=""/>
            <p:cNvSpPr/>
            <p:nvPr/>
          </p:nvSpPr>
          <p:spPr>
            <a:xfrm>
              <a:off x="4183560" y="5492880"/>
              <a:ext cx="2602440" cy="30708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Using source super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3" name="" descr=""/>
          <p:cNvPicPr/>
          <p:nvPr/>
        </p:nvPicPr>
        <p:blipFill>
          <a:blip r:embed="rId9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384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0" y="609480"/>
            <a:ext cx="2286000" cy="2438640"/>
            <a:chOff x="0" y="609480"/>
            <a:chExt cx="2286000" cy="2438640"/>
          </a:xfrm>
        </p:grpSpPr>
        <p:sp>
          <p:nvSpPr>
            <p:cNvPr id="387" name=""/>
            <p:cNvSpPr/>
            <p:nvPr/>
          </p:nvSpPr>
          <p:spPr>
            <a:xfrm>
              <a:off x="1371600" y="609480"/>
              <a:ext cx="914400" cy="106704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0" y="2057400"/>
              <a:ext cx="1371600" cy="9907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1371600" y="609480"/>
            <a:ext cx="1727280" cy="1295640"/>
            <a:chOff x="1371600" y="609480"/>
            <a:chExt cx="1727280" cy="1295640"/>
          </a:xfrm>
        </p:grpSpPr>
        <p:sp>
          <p:nvSpPr>
            <p:cNvPr id="390" name=""/>
            <p:cNvSpPr/>
            <p:nvPr/>
          </p:nvSpPr>
          <p:spPr>
            <a:xfrm>
              <a:off x="1828800" y="1371600"/>
              <a:ext cx="1270080" cy="533520"/>
            </a:xfrm>
            <a:custGeom>
              <a:avLst/>
              <a:gdLst/>
              <a:ahLst/>
              <a:rect l="l" t="t" r="r" b="b"/>
              <a:pathLst>
                <a:path w="800" h="336">
                  <a:moveTo>
                    <a:pt x="768" y="336"/>
                  </a:moveTo>
                  <a:cubicBezTo>
                    <a:pt x="784" y="168"/>
                    <a:pt x="800" y="0"/>
                    <a:pt x="672" y="0"/>
                  </a:cubicBezTo>
                  <a:cubicBezTo>
                    <a:pt x="544" y="0"/>
                    <a:pt x="112" y="280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371600" y="609480"/>
              <a:ext cx="990720" cy="10670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2286000" y="76320"/>
                <a:ext cx="5041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 SOURCE  SUPERPOSITION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76320" y="380880"/>
          <a:ext cx="2822400" cy="218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80880"/>
                    <a:ext cx="282240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56160" y="0"/>
            <a:ext cx="550728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SUPERPOSITION APPLIED TO OP-AMP CIRC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4280" y="441360"/>
            <a:ext cx="7716600" cy="1762200"/>
            <a:chOff x="44280" y="441360"/>
            <a:chExt cx="7716600" cy="1762200"/>
          </a:xfrm>
        </p:grpSpPr>
        <p:sp>
          <p:nvSpPr>
            <p:cNvPr id="397" name=""/>
            <p:cNvSpPr/>
            <p:nvPr/>
          </p:nvSpPr>
          <p:spPr>
            <a:xfrm>
              <a:off x="3197160" y="441360"/>
              <a:ext cx="4563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WO SOURCES. WE ANALYZE ONE AT A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03440" y="1425600"/>
              <a:ext cx="876240" cy="723960"/>
            </a:xfrm>
            <a:custGeom>
              <a:avLst/>
              <a:gdLst/>
              <a:ahLst/>
              <a:rect l="l" t="t" r="r" b="b"/>
              <a:pathLst>
                <a:path w="552" h="456">
                  <a:moveTo>
                    <a:pt x="490" y="378"/>
                  </a:moveTo>
                  <a:cubicBezTo>
                    <a:pt x="552" y="283"/>
                    <a:pt x="497" y="187"/>
                    <a:pt x="443" y="104"/>
                  </a:cubicBezTo>
                  <a:cubicBezTo>
                    <a:pt x="426" y="78"/>
                    <a:pt x="406" y="35"/>
                    <a:pt x="377" y="19"/>
                  </a:cubicBezTo>
                  <a:cubicBezTo>
                    <a:pt x="357" y="7"/>
                    <a:pt x="332" y="7"/>
                    <a:pt x="310" y="0"/>
                  </a:cubicBezTo>
                  <a:cubicBezTo>
                    <a:pt x="206" y="11"/>
                    <a:pt x="251" y="0"/>
                    <a:pt x="169" y="28"/>
                  </a:cubicBezTo>
                  <a:cubicBezTo>
                    <a:pt x="150" y="34"/>
                    <a:pt x="112" y="47"/>
                    <a:pt x="112" y="47"/>
                  </a:cubicBezTo>
                  <a:cubicBezTo>
                    <a:pt x="93" y="60"/>
                    <a:pt x="67" y="66"/>
                    <a:pt x="55" y="85"/>
                  </a:cubicBezTo>
                  <a:cubicBezTo>
                    <a:pt x="43" y="104"/>
                    <a:pt x="18" y="142"/>
                    <a:pt x="18" y="142"/>
                  </a:cubicBezTo>
                  <a:cubicBezTo>
                    <a:pt x="0" y="210"/>
                    <a:pt x="5" y="315"/>
                    <a:pt x="46" y="378"/>
                  </a:cubicBezTo>
                  <a:cubicBezTo>
                    <a:pt x="65" y="407"/>
                    <a:pt x="99" y="425"/>
                    <a:pt x="131" y="434"/>
                  </a:cubicBezTo>
                  <a:cubicBezTo>
                    <a:pt x="156" y="441"/>
                    <a:pt x="207" y="453"/>
                    <a:pt x="207" y="453"/>
                  </a:cubicBezTo>
                  <a:cubicBezTo>
                    <a:pt x="334" y="447"/>
                    <a:pt x="382" y="456"/>
                    <a:pt x="480" y="425"/>
                  </a:cubicBezTo>
                  <a:cubicBezTo>
                    <a:pt x="492" y="391"/>
                    <a:pt x="490" y="407"/>
                    <a:pt x="490" y="378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4280" y="1409760"/>
              <a:ext cx="609840" cy="793800"/>
            </a:xfrm>
            <a:custGeom>
              <a:avLst/>
              <a:gdLst/>
              <a:ahLst/>
              <a:rect l="l" t="t" r="r" b="b"/>
              <a:pathLst>
                <a:path w="384" h="500">
                  <a:moveTo>
                    <a:pt x="350" y="368"/>
                  </a:moveTo>
                  <a:cubicBezTo>
                    <a:pt x="375" y="290"/>
                    <a:pt x="373" y="215"/>
                    <a:pt x="378" y="132"/>
                  </a:cubicBezTo>
                  <a:cubicBezTo>
                    <a:pt x="375" y="113"/>
                    <a:pt x="373" y="94"/>
                    <a:pt x="369" y="75"/>
                  </a:cubicBezTo>
                  <a:cubicBezTo>
                    <a:pt x="353" y="3"/>
                    <a:pt x="287" y="7"/>
                    <a:pt x="227" y="0"/>
                  </a:cubicBezTo>
                  <a:cubicBezTo>
                    <a:pt x="214" y="2"/>
                    <a:pt x="147" y="4"/>
                    <a:pt x="123" y="18"/>
                  </a:cubicBezTo>
                  <a:cubicBezTo>
                    <a:pt x="103" y="29"/>
                    <a:pt x="66" y="56"/>
                    <a:pt x="66" y="56"/>
                  </a:cubicBezTo>
                  <a:cubicBezTo>
                    <a:pt x="33" y="107"/>
                    <a:pt x="20" y="142"/>
                    <a:pt x="0" y="198"/>
                  </a:cubicBezTo>
                  <a:cubicBezTo>
                    <a:pt x="5" y="262"/>
                    <a:pt x="3" y="391"/>
                    <a:pt x="66" y="434"/>
                  </a:cubicBezTo>
                  <a:cubicBezTo>
                    <a:pt x="104" y="489"/>
                    <a:pt x="162" y="493"/>
                    <a:pt x="227" y="500"/>
                  </a:cubicBezTo>
                  <a:cubicBezTo>
                    <a:pt x="255" y="497"/>
                    <a:pt x="285" y="500"/>
                    <a:pt x="312" y="491"/>
                  </a:cubicBezTo>
                  <a:cubicBezTo>
                    <a:pt x="334" y="484"/>
                    <a:pt x="369" y="453"/>
                    <a:pt x="369" y="453"/>
                  </a:cubicBezTo>
                  <a:cubicBezTo>
                    <a:pt x="384" y="405"/>
                    <a:pt x="382" y="434"/>
                    <a:pt x="350" y="368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76320" y="2422440"/>
            <a:ext cx="5941800" cy="2414520"/>
            <a:chOff x="76320" y="2422440"/>
            <a:chExt cx="5941800" cy="2414520"/>
          </a:xfrm>
        </p:grpSpPr>
        <p:graphicFrame>
          <p:nvGraphicFramePr>
            <p:cNvPr id="401" name=""/>
            <p:cNvGraphicFramePr/>
            <p:nvPr/>
          </p:nvGraphicFramePr>
          <p:xfrm>
            <a:off x="76320" y="2612880"/>
            <a:ext cx="3276360" cy="2224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2612880"/>
                      <a:ext cx="3276360" cy="22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3" name=""/>
            <p:cNvSpPr/>
            <p:nvPr/>
          </p:nvSpPr>
          <p:spPr>
            <a:xfrm>
              <a:off x="3554280" y="2422440"/>
              <a:ext cx="2463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TRIBUTION OF V1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inverter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04" name=""/>
          <p:cNvGraphicFramePr/>
          <p:nvPr/>
        </p:nvGraphicFramePr>
        <p:xfrm>
          <a:off x="6172200" y="2362320"/>
          <a:ext cx="1447920" cy="77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2362320"/>
                    <a:ext cx="144792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6" name=""/>
          <p:cNvGrpSpPr/>
          <p:nvPr/>
        </p:nvGrpSpPr>
        <p:grpSpPr>
          <a:xfrm>
            <a:off x="380880" y="4648320"/>
            <a:ext cx="6172920" cy="1923840"/>
            <a:chOff x="380880" y="4648320"/>
            <a:chExt cx="6172920" cy="1923840"/>
          </a:xfrm>
        </p:grpSpPr>
        <p:graphicFrame>
          <p:nvGraphicFramePr>
            <p:cNvPr id="407" name=""/>
            <p:cNvGraphicFramePr/>
            <p:nvPr/>
          </p:nvGraphicFramePr>
          <p:xfrm>
            <a:off x="380880" y="4648320"/>
            <a:ext cx="2879640" cy="1923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80880" y="4648320"/>
                      <a:ext cx="2879640" cy="192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9" name=""/>
            <p:cNvSpPr/>
            <p:nvPr/>
          </p:nvSpPr>
          <p:spPr>
            <a:xfrm>
              <a:off x="3418920" y="4708440"/>
              <a:ext cx="31280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TRIBUTION OF V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non-inverting amplifi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578040" y="5334120"/>
              <a:ext cx="2975760" cy="580680"/>
            </a:xfrm>
            <a:prstGeom prst="rect">
              <a:avLst/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tice redrawing for add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lar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11" name=""/>
          <p:cNvGraphicFramePr/>
          <p:nvPr/>
        </p:nvGraphicFramePr>
        <p:xfrm>
          <a:off x="6629400" y="4772160"/>
          <a:ext cx="1905120" cy="823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29400" y="4772160"/>
                    <a:ext cx="1905120" cy="82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3" name=""/>
          <p:cNvGrpSpPr/>
          <p:nvPr/>
        </p:nvGrpSpPr>
        <p:grpSpPr>
          <a:xfrm>
            <a:off x="3843000" y="3336840"/>
            <a:ext cx="4005720" cy="1158840"/>
            <a:chOff x="3843000" y="3336840"/>
            <a:chExt cx="4005720" cy="1158840"/>
          </a:xfrm>
        </p:grpSpPr>
        <p:sp>
          <p:nvSpPr>
            <p:cNvPr id="414" name=""/>
            <p:cNvSpPr/>
            <p:nvPr/>
          </p:nvSpPr>
          <p:spPr>
            <a:xfrm>
              <a:off x="3843000" y="3336840"/>
              <a:ext cx="2779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inciple of superpo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15" name=""/>
            <p:cNvGraphicFramePr/>
            <p:nvPr/>
          </p:nvGraphicFramePr>
          <p:xfrm>
            <a:off x="3886200" y="3692520"/>
            <a:ext cx="3962520" cy="803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1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886200" y="3692520"/>
                      <a:ext cx="3962520" cy="80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17" name="" descr=""/>
          <p:cNvPicPr/>
          <p:nvPr/>
        </p:nvPicPr>
        <p:blipFill>
          <a:blip r:embed="rId1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418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"/>
          <p:cNvGraphicFramePr/>
          <p:nvPr/>
        </p:nvGraphicFramePr>
        <p:xfrm>
          <a:off x="0" y="0"/>
          <a:ext cx="4336920" cy="25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33692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3809880" y="304920"/>
          <a:ext cx="3730680" cy="286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304920"/>
                    <a:ext cx="3730680" cy="28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4" name=""/>
          <p:cNvGrpSpPr/>
          <p:nvPr/>
        </p:nvGrpSpPr>
        <p:grpSpPr>
          <a:xfrm>
            <a:off x="4572000" y="1111320"/>
            <a:ext cx="685800" cy="412560"/>
            <a:chOff x="4572000" y="1111320"/>
            <a:chExt cx="685800" cy="412560"/>
          </a:xfrm>
        </p:grpSpPr>
        <p:sp>
          <p:nvSpPr>
            <p:cNvPr id="425" name=""/>
            <p:cNvSpPr/>
            <p:nvPr/>
          </p:nvSpPr>
          <p:spPr>
            <a:xfrm>
              <a:off x="4572000" y="11430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6" name=""/>
                <p:cNvSpPr txBox="1"/>
                <p:nvPr/>
              </p:nvSpPr>
              <p:spPr>
                <a:xfrm>
                  <a:off x="4648320" y="1111320"/>
                  <a:ext cx="26820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27" name=""/>
          <p:cNvGraphicFramePr/>
          <p:nvPr/>
        </p:nvGraphicFramePr>
        <p:xfrm>
          <a:off x="7315200" y="1066680"/>
          <a:ext cx="1519200" cy="69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15200" y="1066680"/>
                    <a:ext cx="1519200" cy="69228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228600" y="3095640"/>
          <a:ext cx="2743200" cy="231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3095640"/>
                    <a:ext cx="27432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0" y="2895480"/>
          <a:ext cx="3220920" cy="387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2895480"/>
                    <a:ext cx="3220920" cy="38736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3809880" y="3733920"/>
          <a:ext cx="3883320" cy="1589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9880" y="3733920"/>
                    <a:ext cx="3883320" cy="15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5" name=""/>
          <p:cNvGrpSpPr/>
          <p:nvPr/>
        </p:nvGrpSpPr>
        <p:grpSpPr>
          <a:xfrm>
            <a:off x="1226160" y="3962520"/>
            <a:ext cx="297720" cy="380880"/>
            <a:chOff x="1226160" y="3962520"/>
            <a:chExt cx="297720" cy="380880"/>
          </a:xfrm>
        </p:grpSpPr>
        <p:sp>
          <p:nvSpPr>
            <p:cNvPr id="436" name=""/>
            <p:cNvSpPr/>
            <p:nvPr/>
          </p:nvSpPr>
          <p:spPr>
            <a:xfrm>
              <a:off x="1371600" y="41911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26160" y="39625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3816720" y="4724280"/>
            <a:ext cx="450360" cy="307080"/>
            <a:chOff x="3816720" y="4724280"/>
            <a:chExt cx="450360" cy="307080"/>
          </a:xfrm>
        </p:grpSpPr>
        <p:sp>
          <p:nvSpPr>
            <p:cNvPr id="439" name=""/>
            <p:cNvSpPr/>
            <p:nvPr/>
          </p:nvSpPr>
          <p:spPr>
            <a:xfrm>
              <a:off x="3816720" y="47242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14800" y="48006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91080" y="3968640"/>
            <a:ext cx="289800" cy="374760"/>
            <a:chOff x="91080" y="3968640"/>
            <a:chExt cx="289800" cy="374760"/>
          </a:xfrm>
        </p:grpSpPr>
        <p:sp>
          <p:nvSpPr>
            <p:cNvPr id="442" name=""/>
            <p:cNvSpPr/>
            <p:nvPr/>
          </p:nvSpPr>
          <p:spPr>
            <a:xfrm>
              <a:off x="228600" y="41911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91080" y="3968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3800880" y="3664080"/>
            <a:ext cx="390240" cy="307080"/>
            <a:chOff x="3800880" y="3664080"/>
            <a:chExt cx="390240" cy="307080"/>
          </a:xfrm>
        </p:grpSpPr>
        <p:sp>
          <p:nvSpPr>
            <p:cNvPr id="445" name=""/>
            <p:cNvSpPr/>
            <p:nvPr/>
          </p:nvSpPr>
          <p:spPr>
            <a:xfrm>
              <a:off x="4038480" y="3733920"/>
              <a:ext cx="15264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00880" y="36640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2438280" y="4044960"/>
            <a:ext cx="426600" cy="307080"/>
            <a:chOff x="2438280" y="4044960"/>
            <a:chExt cx="426600" cy="307080"/>
          </a:xfrm>
        </p:grpSpPr>
        <p:sp>
          <p:nvSpPr>
            <p:cNvPr id="448" name=""/>
            <p:cNvSpPr/>
            <p:nvPr/>
          </p:nvSpPr>
          <p:spPr>
            <a:xfrm>
              <a:off x="2438280" y="4191120"/>
              <a:ext cx="15264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581920" y="40449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315480" y="4800600"/>
            <a:ext cx="282960" cy="465840"/>
            <a:chOff x="6315480" y="4800600"/>
            <a:chExt cx="282960" cy="465840"/>
          </a:xfrm>
        </p:grpSpPr>
        <p:sp>
          <p:nvSpPr>
            <p:cNvPr id="451" name=""/>
            <p:cNvSpPr/>
            <p:nvPr/>
          </p:nvSpPr>
          <p:spPr>
            <a:xfrm>
              <a:off x="6324480" y="48006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315480" y="49593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53" name=""/>
          <p:cNvGraphicFramePr/>
          <p:nvPr/>
        </p:nvGraphicFramePr>
        <p:xfrm>
          <a:off x="2895480" y="5257800"/>
          <a:ext cx="2484720" cy="1415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95480" y="5257800"/>
                    <a:ext cx="2484720" cy="141588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5943600" y="5334120"/>
          <a:ext cx="1779480" cy="1306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334120"/>
                    <a:ext cx="1779480" cy="130644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7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3886200" y="3124080"/>
          <a:ext cx="4008600" cy="439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86200" y="3124080"/>
                    <a:ext cx="4008600" cy="43992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7848720" y="1905120"/>
                <a:ext cx="8762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62" name=""/>
          <p:cNvGrpSpPr/>
          <p:nvPr/>
        </p:nvGrpSpPr>
        <p:grpSpPr>
          <a:xfrm>
            <a:off x="7701840" y="5774760"/>
            <a:ext cx="1415160" cy="1078560"/>
            <a:chOff x="7701840" y="5774760"/>
            <a:chExt cx="1415160" cy="1078560"/>
          </a:xfrm>
        </p:grpSpPr>
        <p:pic>
          <p:nvPicPr>
            <p:cNvPr id="463" name="" descr=""/>
            <p:cNvPicPr/>
            <p:nvPr/>
          </p:nvPicPr>
          <p:blipFill>
            <a:blip r:embed="rId19"/>
            <a:stretch/>
          </p:blipFill>
          <p:spPr>
            <a:xfrm>
              <a:off x="827064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7701840" y="5774760"/>
              <a:ext cx="141516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80"/>
                  </a:solidFill>
                  <a:latin typeface="Lucida Console"/>
                </a:rPr>
                <a:t>Linea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609480" y="1658880"/>
            <a:ext cx="10134360" cy="1770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echniques developed in chapter 2; i.e., combination series/parallel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voltage divider and current divider are special techniques that are mo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efficient than the general methods, but have a limited applicabilit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It is to our advantage to keep them in our repertoire and use them w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ey are more effici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23840" y="3733920"/>
            <a:ext cx="7229160" cy="119124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In this section we develop additional techniques that simpl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e analysis of some circui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In fact these techniques expand on concepts that we ha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already introduced: linearity and circuit equival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0880" y="820800"/>
            <a:ext cx="7919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ETHODS OF NODE AND LOOP ANALYSIS PROVIDE POWERFUL TOOL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BEHAVIOR OF EVERY COMPONENT IN A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1880" y="6462720"/>
            <a:ext cx="760680" cy="38088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472428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>
            <a:off x="41148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828800" y="-38160"/>
          <a:ext cx="5432400" cy="681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-38160"/>
                    <a:ext cx="5432400" cy="68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61080" y="465120"/>
            <a:ext cx="2736360" cy="52020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ME EQUIVALENT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READY U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8381880" y="6467400"/>
            <a:ext cx="760680" cy="38124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31480" y="34920"/>
            <a:ext cx="15217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NE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9640" y="455760"/>
            <a:ext cx="4057920" cy="73332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MODELS USED ARE ALL LINE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ATHEMATICALLY THIS IMPLIES THAT TH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ATISFY THE PRINCIPLE OF SUPER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82680" y="1371600"/>
                <a:ext cx="3483000" cy="13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MODEL 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u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 LINEAR IFF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all possible input  pairs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all possible scalars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7" name=""/>
          <p:cNvGrpSpPr/>
          <p:nvPr/>
        </p:nvGrpSpPr>
        <p:grpSpPr>
          <a:xfrm>
            <a:off x="0" y="2825640"/>
            <a:ext cx="4660920" cy="1886040"/>
            <a:chOff x="0" y="2825640"/>
            <a:chExt cx="4660920" cy="1886040"/>
          </a:xfrm>
        </p:grpSpPr>
        <p:sp>
          <p:nvSpPr>
            <p:cNvPr id="68" name=""/>
            <p:cNvSpPr/>
            <p:nvPr/>
          </p:nvSpPr>
          <p:spPr>
            <a:xfrm>
              <a:off x="321840" y="2825640"/>
              <a:ext cx="3542760" cy="733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N ALTERNATIVE, AND EQUIVALENT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FINITION OF LINEARITY SPLITS 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UPERPOSITION PRINCIPLE IN TWO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0" y="3733920"/>
                  <a:ext cx="4660920" cy="97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THE MODEL 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Tu</m:t>
                          </m:r>
                          <m:r>
                            <m:rPr>
                              <m:lit/>
                              <m:nor/>
                            </m:rPr>
                            <m:t xml:space="preserve"> IS LINEAR IFF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∀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  additivity</m:t>
                          </m:r>
                        </m:e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T</m:t>
                          </m:r>
                          <m:r>
                            <m:t xml:space="preserve">(</m:t>
                          </m:r>
                          <m:r>
                            <m:t xml:space="preserve">αu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α</m:t>
                          </m:r>
                          <m:r>
                            <m:rPr>
                              <m:lit/>
                              <m:nor/>
                            </m:rPr>
                            <m:t xml:space="preserve">Tu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∀</m:t>
                          </m:r>
                          <m:r>
                            <m:t xml:space="preserve">α</m:t>
                          </m:r>
                          <m:r>
                            <m:t xml:space="preserve">,</m:t>
                          </m:r>
                          <m:r>
                            <m:t xml:space="preserve">∀</m:t>
                          </m:r>
                          <m:r>
                            <m:t xml:space="preserve">u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         homogeneity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0" name=""/>
          <p:cNvSpPr/>
          <p:nvPr/>
        </p:nvSpPr>
        <p:spPr>
          <a:xfrm>
            <a:off x="129600" y="4848120"/>
            <a:ext cx="4385520" cy="13726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TICE THAT, TECHNICALLY, LINEARITY C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EVER BE VERIFIED EMPIRICALLY ON A SYSTE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UT IT COULD BE DISPROVED BY A SING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UNTER EXAMP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T CAN BE VERIFIED MATHEMATICALLY FOR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DELS US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856400" y="463680"/>
            <a:ext cx="4080600" cy="2958480"/>
            <a:chOff x="4856400" y="463680"/>
            <a:chExt cx="4080600" cy="2958480"/>
          </a:xfrm>
        </p:grpSpPr>
        <p:grpSp>
          <p:nvGrpSpPr>
            <p:cNvPr id="72" name=""/>
            <p:cNvGrpSpPr/>
            <p:nvPr/>
          </p:nvGrpSpPr>
          <p:grpSpPr>
            <a:xfrm>
              <a:off x="4943160" y="463680"/>
              <a:ext cx="3740760" cy="733320"/>
              <a:chOff x="4943160" y="463680"/>
              <a:chExt cx="3740760" cy="733320"/>
            </a:xfrm>
          </p:grpSpPr>
          <p:sp>
            <p:nvSpPr>
              <p:cNvPr id="73" name=""/>
              <p:cNvSpPr/>
              <p:nvPr/>
            </p:nvSpPr>
            <p:spPr>
              <a:xfrm>
                <a:off x="4943160" y="463680"/>
                <a:ext cx="3740760" cy="7333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USING NODE ANALYSIS FOR RESISTIV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CIRCUITS ONE OBTAINS MODELS OF TH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FOR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4" name=""/>
                  <p:cNvSpPr txBox="1"/>
                  <p:nvPr/>
                </p:nvSpPr>
                <p:spPr>
                  <a:xfrm>
                    <a:off x="5562720" y="914400"/>
                    <a:ext cx="72216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5" name=""/>
            <p:cNvSpPr/>
            <p:nvPr/>
          </p:nvSpPr>
          <p:spPr>
            <a:xfrm>
              <a:off x="4879800" y="1301760"/>
              <a:ext cx="3949560" cy="1159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IS A VECTOR CONTAINING ALL THE 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VOLTAGES AND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 IS A VECTOR DEPEN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NLY  ON THE INDEPENDENT SOURCES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 FACT THE MODEL CAN BE MADE M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TAILED AS FOLLOW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6400800" y="2514600"/>
                  <a:ext cx="8110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v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B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7" name=""/>
            <p:cNvSpPr/>
            <p:nvPr/>
          </p:nvSpPr>
          <p:spPr>
            <a:xfrm>
              <a:off x="4856400" y="2901960"/>
              <a:ext cx="4080600" cy="520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HERE,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A,B,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ARE MATRICES AND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IS A VE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F ALL INDEPENDENT 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5120640" y="3664080"/>
            <a:ext cx="3733200" cy="7333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 CIRCUIT ANALYSIS WE CAN USE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INEARITY ASSUMPTION TO DEVEL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PECIAL ANALYSIS TECHN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45560" y="4726080"/>
            <a:ext cx="328500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IRST WE REVIEW THE TECHN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URRENTLY AVAIL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28840" y="109440"/>
            <a:ext cx="52632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 CASE STUDY TO REVIEW PAST TECHN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572000" y="598320"/>
            <a:ext cx="4419720" cy="3745080"/>
            <a:chOff x="4572000" y="598320"/>
            <a:chExt cx="4419720" cy="3745080"/>
          </a:xfrm>
        </p:grpSpPr>
        <p:graphicFrame>
          <p:nvGraphicFramePr>
            <p:cNvPr id="86" name=""/>
            <p:cNvGraphicFramePr/>
            <p:nvPr/>
          </p:nvGraphicFramePr>
          <p:xfrm>
            <a:off x="4572000" y="1284120"/>
            <a:ext cx="4419720" cy="3059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572000" y="1284120"/>
                      <a:ext cx="4419720" cy="305928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8" name=""/>
            <p:cNvSpPr/>
            <p:nvPr/>
          </p:nvSpPr>
          <p:spPr>
            <a:xfrm>
              <a:off x="5120280" y="598320"/>
              <a:ext cx="3221280" cy="520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Redrawing the circuit may help 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 recognizing special ca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04920" y="746280"/>
            <a:ext cx="3733560" cy="3666240"/>
            <a:chOff x="304920" y="746280"/>
            <a:chExt cx="3733560" cy="3666240"/>
          </a:xfrm>
        </p:grpSpPr>
        <p:grpSp>
          <p:nvGrpSpPr>
            <p:cNvPr id="90" name=""/>
            <p:cNvGrpSpPr/>
            <p:nvPr/>
          </p:nvGrpSpPr>
          <p:grpSpPr>
            <a:xfrm>
              <a:off x="304920" y="746280"/>
              <a:ext cx="3733560" cy="3241800"/>
              <a:chOff x="304920" y="746280"/>
              <a:chExt cx="3733560" cy="3241800"/>
            </a:xfrm>
          </p:grpSpPr>
          <p:graphicFrame>
            <p:nvGraphicFramePr>
              <p:cNvPr id="91" name=""/>
              <p:cNvGraphicFramePr/>
              <p:nvPr/>
            </p:nvGraphicFramePr>
            <p:xfrm>
              <a:off x="304920" y="898560"/>
              <a:ext cx="3733560" cy="308952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92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304920" y="898560"/>
                        <a:ext cx="3733560" cy="3089520"/>
                      </a:xfrm>
                      <a:prstGeom prst="rect">
                        <a:avLst/>
                      </a:prstGeom>
                      <a:ln w="9360">
                        <a:solidFill>
                          <a:srgbClr val="99ccff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mc:AlternateContent>
            <mc:Choice xmlns:a14="http://schemas.microsoft.com/office/drawing/2010/main" Requires="a14">
              <p:sp>
                <p:nvSpPr>
                  <p:cNvPr id="93" name=""/>
                  <p:cNvSpPr txBox="1"/>
                  <p:nvPr/>
                </p:nvSpPr>
                <p:spPr>
                  <a:xfrm>
                    <a:off x="1066680" y="746280"/>
                    <a:ext cx="1625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TERMINE  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94" name=""/>
            <p:cNvSpPr/>
            <p:nvPr/>
          </p:nvSpPr>
          <p:spPr>
            <a:xfrm>
              <a:off x="377280" y="4105440"/>
              <a:ext cx="34999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LUTION TECHNIQUES AVAILABLE?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0"/>
          <a:ext cx="4648320" cy="28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64832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7" name=""/>
          <p:cNvGrpSpPr/>
          <p:nvPr/>
        </p:nvGrpSpPr>
        <p:grpSpPr>
          <a:xfrm>
            <a:off x="4648320" y="0"/>
            <a:ext cx="4344840" cy="2076480"/>
            <a:chOff x="4648320" y="0"/>
            <a:chExt cx="4344840" cy="2076480"/>
          </a:xfrm>
        </p:grpSpPr>
        <p:graphicFrame>
          <p:nvGraphicFramePr>
            <p:cNvPr id="98" name=""/>
            <p:cNvGraphicFramePr/>
            <p:nvPr/>
          </p:nvGraphicFramePr>
          <p:xfrm>
            <a:off x="4648320" y="0"/>
            <a:ext cx="2547720" cy="2076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48320" y="0"/>
                      <a:ext cx="2547720" cy="207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"/>
            <p:cNvGraphicFramePr/>
            <p:nvPr/>
          </p:nvGraphicFramePr>
          <p:xfrm>
            <a:off x="7086600" y="152280"/>
            <a:ext cx="1906560" cy="1341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6600" y="152280"/>
                      <a:ext cx="1906560" cy="134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2" name=""/>
          <p:cNvGrpSpPr/>
          <p:nvPr/>
        </p:nvGrpSpPr>
        <p:grpSpPr>
          <a:xfrm>
            <a:off x="609480" y="2895480"/>
            <a:ext cx="6181920" cy="3351240"/>
            <a:chOff x="609480" y="2895480"/>
            <a:chExt cx="6181920" cy="3351240"/>
          </a:xfrm>
        </p:grpSpPr>
        <p:graphicFrame>
          <p:nvGraphicFramePr>
            <p:cNvPr id="103" name=""/>
            <p:cNvGraphicFramePr/>
            <p:nvPr/>
          </p:nvGraphicFramePr>
          <p:xfrm>
            <a:off x="1371600" y="5867280"/>
            <a:ext cx="1905120" cy="379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371600" y="5867280"/>
                      <a:ext cx="1905120" cy="37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609480" y="2895480"/>
            <a:ext cx="3048120" cy="2978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09480" y="2895480"/>
                      <a:ext cx="3048120" cy="297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"/>
            <p:cNvGraphicFramePr/>
            <p:nvPr/>
          </p:nvGraphicFramePr>
          <p:xfrm>
            <a:off x="4038480" y="3657600"/>
            <a:ext cx="2752920" cy="1357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038480" y="3657600"/>
                      <a:ext cx="2752920" cy="13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09" name="" descr=""/>
          <p:cNvPicPr/>
          <p:nvPr/>
        </p:nvPicPr>
        <p:blipFill>
          <a:blip r:embed="rId1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0"/>
          <a:ext cx="2057400" cy="1674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0" y="0"/>
                    <a:ext cx="2057400" cy="16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04920" y="380880"/>
          <a:ext cx="3352680" cy="24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80880"/>
                    <a:ext cx="335268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354960" y="65160"/>
            <a:ext cx="27043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SING HOMOGENE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680" y="2901960"/>
            <a:ext cx="397692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ssume that the answer is known. Can w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ute the input in a very easy way ?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209680" y="838080"/>
                <a:ext cx="26856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43200" y="3429000"/>
            <a:ext cx="366444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f Vo is given then V1 can be compu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using an inverse voltage divid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371600" y="4038480"/>
                <a:ext cx="14479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85320" y="4800600"/>
            <a:ext cx="37285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d Vs using a second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6320" y="5154480"/>
                <a:ext cx="434340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484920" y="6172200"/>
            <a:ext cx="276984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ve now for the variable 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16200" y="0"/>
            <a:ext cx="44694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procedure can be made entirely algorithm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40080" y="380880"/>
            <a:ext cx="417528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 Give to Vo any arbitrary value (e.g., V’o =1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95440" y="696960"/>
            <a:ext cx="48427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. Compute the resulting source value and call it V’_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158720" y="1012680"/>
            <a:ext cx="4597920" cy="438120"/>
            <a:chOff x="4158720" y="1012680"/>
            <a:chExt cx="4597920" cy="438120"/>
          </a:xfrm>
        </p:grpSpPr>
        <p:sp>
          <p:nvSpPr>
            <p:cNvPr id="128" name=""/>
            <p:cNvSpPr/>
            <p:nvPr/>
          </p:nvSpPr>
          <p:spPr>
            <a:xfrm>
              <a:off x="4158720" y="1069920"/>
              <a:ext cx="155844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3. </a:t>
              </a:r>
              <a:r>
                <a:rPr b="1" lang="es-CL" sz="1400" spc="-1" strike="noStrike">
                  <a:solidFill>
                    <a:srgbClr val="000000"/>
                  </a:solidFill>
                  <a:latin typeface="Tahoma"/>
                </a:rPr>
                <a:t>Use linearity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5715000" y="1012680"/>
                  <a:ext cx="3041640" cy="4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→</m:t>
                      </m:r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⇒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k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→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k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,</m:t>
                      </m:r>
                      <m:r>
                        <m:t xml:space="preserve">∀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0" name=""/>
          <p:cNvGrpSpPr/>
          <p:nvPr/>
        </p:nvGrpSpPr>
        <p:grpSpPr>
          <a:xfrm>
            <a:off x="4221720" y="1454040"/>
            <a:ext cx="3475440" cy="1016280"/>
            <a:chOff x="4221720" y="1454040"/>
            <a:chExt cx="3475440" cy="1016280"/>
          </a:xfrm>
        </p:grpSpPr>
        <p:sp>
          <p:nvSpPr>
            <p:cNvPr id="131" name=""/>
            <p:cNvSpPr/>
            <p:nvPr/>
          </p:nvSpPr>
          <p:spPr>
            <a:xfrm>
              <a:off x="4221720" y="1454040"/>
              <a:ext cx="3475440" cy="520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4. The given value of the source (V_s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orresponds to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" name=""/>
                <p:cNvSpPr txBox="1"/>
                <p:nvPr/>
              </p:nvSpPr>
              <p:spPr>
                <a:xfrm>
                  <a:off x="5654880" y="1752480"/>
                  <a:ext cx="762120" cy="71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3" name=""/>
          <p:cNvGrpSpPr/>
          <p:nvPr/>
        </p:nvGrpSpPr>
        <p:grpSpPr>
          <a:xfrm>
            <a:off x="4216680" y="2749680"/>
            <a:ext cx="3215160" cy="1247760"/>
            <a:chOff x="4216680" y="2749680"/>
            <a:chExt cx="3215160" cy="1247760"/>
          </a:xfrm>
        </p:grpSpPr>
        <p:sp>
          <p:nvSpPr>
            <p:cNvPr id="134" name=""/>
            <p:cNvSpPr/>
            <p:nvPr/>
          </p:nvSpPr>
          <p:spPr>
            <a:xfrm>
              <a:off x="4216680" y="2749680"/>
              <a:ext cx="321516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Hence the desired output value i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4902120" y="3191040"/>
                  <a:ext cx="190512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k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</m:den>
                      </m:f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6" name=""/>
          <p:cNvSpPr/>
          <p:nvPr/>
        </p:nvSpPr>
        <p:spPr>
          <a:xfrm>
            <a:off x="5579280" y="4267080"/>
            <a:ext cx="2270160" cy="17989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is is a nice little 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 special proble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rmally when there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nly one source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hen in our jud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ving the probl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ackwards is actua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as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141560" y="1752480"/>
            <a:ext cx="723600" cy="515880"/>
            <a:chOff x="1141560" y="1752480"/>
            <a:chExt cx="723600" cy="515880"/>
          </a:xfrm>
        </p:grpSpPr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295280" y="1752480"/>
                  <a:ext cx="569880" cy="51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42" name=""/>
            <p:cNvSpPr/>
            <p:nvPr/>
          </p:nvSpPr>
          <p:spPr>
            <a:xfrm>
              <a:off x="1141560" y="221148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209680" y="457200"/>
          <a:ext cx="6156360" cy="25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457200"/>
                    <a:ext cx="6156360" cy="25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2600" y="58680"/>
            <a:ext cx="31021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VE USING HOMOGENE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6705720" y="1295280"/>
                <a:ext cx="2425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SUM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0" name=""/>
          <p:cNvGrpSpPr/>
          <p:nvPr/>
        </p:nvGrpSpPr>
        <p:grpSpPr>
          <a:xfrm>
            <a:off x="4952880" y="2819520"/>
            <a:ext cx="1981440" cy="639720"/>
            <a:chOff x="4952880" y="2819520"/>
            <a:chExt cx="1981440" cy="639720"/>
          </a:xfrm>
        </p:grpSpPr>
        <p:graphicFrame>
          <p:nvGraphicFramePr>
            <p:cNvPr id="151" name=""/>
            <p:cNvGraphicFramePr/>
            <p:nvPr/>
          </p:nvGraphicFramePr>
          <p:xfrm>
            <a:off x="4952880" y="2819520"/>
            <a:ext cx="1752840" cy="639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952880" y="2819520"/>
                      <a:ext cx="1752840" cy="63972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53" name=""/>
            <p:cNvSpPr/>
            <p:nvPr/>
          </p:nvSpPr>
          <p:spPr>
            <a:xfrm>
              <a:off x="6705720" y="3048120"/>
              <a:ext cx="228600" cy="228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7010280" y="2773440"/>
            <a:ext cx="1752840" cy="708120"/>
            <a:chOff x="7010280" y="2773440"/>
            <a:chExt cx="1752840" cy="708120"/>
          </a:xfrm>
        </p:grpSpPr>
        <p:graphicFrame>
          <p:nvGraphicFramePr>
            <p:cNvPr id="155" name=""/>
            <p:cNvGraphicFramePr/>
            <p:nvPr/>
          </p:nvGraphicFramePr>
          <p:xfrm>
            <a:off x="7010280" y="2773440"/>
            <a:ext cx="1543320" cy="708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010280" y="2773440"/>
                      <a:ext cx="1543320" cy="70812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57" name=""/>
            <p:cNvSpPr/>
            <p:nvPr/>
          </p:nvSpPr>
          <p:spPr>
            <a:xfrm>
              <a:off x="8534520" y="3002040"/>
              <a:ext cx="228600" cy="228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8839080" y="3002040"/>
                <a:ext cx="201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59" name=""/>
          <p:cNvGrpSpPr/>
          <p:nvPr/>
        </p:nvGrpSpPr>
        <p:grpSpPr>
          <a:xfrm>
            <a:off x="2133720" y="3429000"/>
            <a:ext cx="1752120" cy="635040"/>
            <a:chOff x="2133720" y="3429000"/>
            <a:chExt cx="1752120" cy="635040"/>
          </a:xfrm>
        </p:grpSpPr>
        <p:graphicFrame>
          <p:nvGraphicFramePr>
            <p:cNvPr id="160" name=""/>
            <p:cNvGraphicFramePr/>
            <p:nvPr/>
          </p:nvGraphicFramePr>
          <p:xfrm>
            <a:off x="2133720" y="3429000"/>
            <a:ext cx="1523880" cy="6350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133720" y="3429000"/>
                      <a:ext cx="1523880" cy="6350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>
              <a:off x="3657600" y="3657600"/>
              <a:ext cx="228240" cy="228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886200" y="3581280"/>
            <a:ext cx="2361960" cy="405000"/>
            <a:chOff x="3886200" y="3581280"/>
            <a:chExt cx="2361960" cy="405000"/>
          </a:xfrm>
        </p:grpSpPr>
        <p:graphicFrame>
          <p:nvGraphicFramePr>
            <p:cNvPr id="164" name=""/>
            <p:cNvGraphicFramePr/>
            <p:nvPr/>
          </p:nvGraphicFramePr>
          <p:xfrm>
            <a:off x="3886200" y="3581280"/>
            <a:ext cx="2133360" cy="405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886200" y="3581280"/>
                      <a:ext cx="2133360" cy="4050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66" name=""/>
            <p:cNvSpPr/>
            <p:nvPr/>
          </p:nvSpPr>
          <p:spPr>
            <a:xfrm>
              <a:off x="6019560" y="3657600"/>
              <a:ext cx="228600" cy="228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6273720" y="365760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68" name=""/>
          <p:cNvGraphicFramePr/>
          <p:nvPr/>
        </p:nvGraphicFramePr>
        <p:xfrm>
          <a:off x="3962520" y="4114800"/>
          <a:ext cx="1981080" cy="866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962520" y="4114800"/>
                    <a:ext cx="1981080" cy="8668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70" name=""/>
          <p:cNvGrpSpPr/>
          <p:nvPr/>
        </p:nvGrpSpPr>
        <p:grpSpPr>
          <a:xfrm>
            <a:off x="3809880" y="5029200"/>
            <a:ext cx="2447280" cy="1020240"/>
            <a:chOff x="3809880" y="5029200"/>
            <a:chExt cx="2447280" cy="1020240"/>
          </a:xfrm>
        </p:grpSpPr>
        <p:sp>
          <p:nvSpPr>
            <p:cNvPr id="171" name=""/>
            <p:cNvSpPr/>
            <p:nvPr/>
          </p:nvSpPr>
          <p:spPr>
            <a:xfrm>
              <a:off x="3845160" y="5029200"/>
              <a:ext cx="24120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NOW USE HOMOGENE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3809880" y="5401800"/>
                  <a:ext cx="23497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  <m:r>
                            <m:t xml:space="preserve">[</m:t>
                          </m:r>
                          <m:r>
                            <m:t xml:space="preserve">V</m:t>
                          </m:r>
                          <m:r>
                            <m:t xml:space="preserve">]</m:t>
                          </m:r>
                          <m:r>
                            <m:t xml:space="preserve">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ut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[</m:t>
                          </m:r>
                          <m:r>
                            <m:t xml:space="preserve">V</m:t>
                          </m:r>
                          <m:r>
                            <m:t xml:space="preserve">]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[</m:t>
                          </m:r>
                          <m:r>
                            <m:t xml:space="preserve">V</m:t>
                          </m:r>
                          <m:r>
                            <m:t xml:space="preserve">]</m:t>
                          </m:r>
                          <m:r>
                            <m:t xml:space="preserve">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ut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[</m:t>
                          </m:r>
                          <m:r>
                            <m:t xml:space="preserve">V</m:t>
                          </m:r>
                          <m:r>
                            <m:t xml:space="preserve">]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1219320" y="1866960"/>
          <a:ext cx="5605200" cy="179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66960"/>
                    <a:ext cx="560520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8188200" y="636732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472284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previousslide"/>
          </p:cNvPr>
          <p:cNvSpPr/>
          <p:nvPr/>
        </p:nvSpPr>
        <p:spPr>
          <a:xfrm>
            <a:off x="411336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6781680" y="3086280"/>
                <a:ext cx="1879560" cy="29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SSUME  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453360" y="1866960"/>
                <a:ext cx="861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0" name=""/>
          <p:cNvGrpSpPr/>
          <p:nvPr/>
        </p:nvGrpSpPr>
        <p:grpSpPr>
          <a:xfrm>
            <a:off x="3733920" y="2552760"/>
            <a:ext cx="799920" cy="798480"/>
            <a:chOff x="3733920" y="2552760"/>
            <a:chExt cx="799920" cy="798480"/>
          </a:xfrm>
        </p:grpSpPr>
        <p:sp>
          <p:nvSpPr>
            <p:cNvPr id="181" name=""/>
            <p:cNvSpPr/>
            <p:nvPr/>
          </p:nvSpPr>
          <p:spPr>
            <a:xfrm>
              <a:off x="4343400" y="2552760"/>
              <a:ext cx="0" cy="533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3733920" y="3086280"/>
                  <a:ext cx="7999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3" name=""/>
          <p:cNvGrpSpPr/>
          <p:nvPr/>
        </p:nvGrpSpPr>
        <p:grpSpPr>
          <a:xfrm>
            <a:off x="3352680" y="1486080"/>
            <a:ext cx="849240" cy="341280"/>
            <a:chOff x="3352680" y="1486080"/>
            <a:chExt cx="849240" cy="341280"/>
          </a:xfrm>
        </p:grpSpPr>
        <p:sp>
          <p:nvSpPr>
            <p:cNvPr id="184" name=""/>
            <p:cNvSpPr/>
            <p:nvPr/>
          </p:nvSpPr>
          <p:spPr>
            <a:xfrm>
              <a:off x="3363840" y="1827360"/>
              <a:ext cx="838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3352680" y="1486080"/>
                  <a:ext cx="7732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819520" y="156204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819520" y="1104840"/>
                <a:ext cx="2882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]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8" name=""/>
          <p:cNvGrpSpPr/>
          <p:nvPr/>
        </p:nvGrpSpPr>
        <p:grpSpPr>
          <a:xfrm>
            <a:off x="1447920" y="2476440"/>
            <a:ext cx="838080" cy="838080"/>
            <a:chOff x="1447920" y="2476440"/>
            <a:chExt cx="838080" cy="838080"/>
          </a:xfrm>
        </p:grpSpPr>
        <p:sp>
          <p:nvSpPr>
            <p:cNvPr id="189" name=""/>
            <p:cNvSpPr/>
            <p:nvPr/>
          </p:nvSpPr>
          <p:spPr>
            <a:xfrm>
              <a:off x="1447920" y="247644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1486080" y="3009960"/>
                  <a:ext cx="7999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1" name=""/>
          <p:cNvGrpSpPr/>
          <p:nvPr/>
        </p:nvGrpSpPr>
        <p:grpSpPr>
          <a:xfrm>
            <a:off x="2438280" y="2095200"/>
            <a:ext cx="493560" cy="1410120"/>
            <a:chOff x="2438280" y="2095200"/>
            <a:chExt cx="493560" cy="1410120"/>
          </a:xfrm>
        </p:grpSpPr>
        <p:sp>
          <p:nvSpPr>
            <p:cNvPr id="192" name=""/>
            <p:cNvSpPr/>
            <p:nvPr/>
          </p:nvSpPr>
          <p:spPr>
            <a:xfrm flipV="1">
              <a:off x="2819160" y="2095200"/>
              <a:ext cx="0" cy="106668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2438280" y="3238560"/>
                  <a:ext cx="4935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809880" y="3962520"/>
                <a:ext cx="23623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E  HOMOGENEITY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048120" y="685800"/>
                <a:ext cx="541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 HOMOGENEITY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USE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260640" y="152280"/>
            <a:ext cx="27424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4T17:35:40Z</dcterms:created>
  <dc:creator>Jorge L. Aravena</dc:creator>
  <dc:description/>
  <dc:language>en-US</dc:language>
  <cp:lastModifiedBy>Jorge Aravena</cp:lastModifiedBy>
  <cp:lastPrinted>2000-10-06T09:36:18Z</cp:lastPrinted>
  <dcterms:modified xsi:type="dcterms:W3CDTF">2004-08-18T01:37:25Z</dcterms:modified>
  <cp:revision>24</cp:revision>
  <dc:subject/>
  <dc:title>No Slide Title</dc:title>
</cp:coreProperties>
</file>