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AB4-7190-4997-AAC6-8811BC87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C68-E83E-4AB0-A4F2-8694D454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2C5-1772-4CF2-8D1C-9C79F5E6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3AB-1099-4E27-8FD4-3CAE1869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451A-0A8A-4181-ADAC-D30ED593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C9CA-AE4C-4CA2-9146-8ECE6BFA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A635-6625-4B6E-A03B-324B1856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45CE-4B33-4C5C-8D8D-84FD4420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0DCC-3601-45C3-B42A-81123DAA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1B4B-A2EA-46AA-BBA6-30314B6F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1E65-E367-44F8-8FFE-311DC41E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3FF-E6FD-40F9-80E7-292208FC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4543-7356-4C52-A930-6083132B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1247-190B-4BFC-A2C0-1B346824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A1DE-3F23-4E78-A683-E609E501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0B08-A7DC-4E3B-B332-8A9A2ACE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D5CB-BF08-447C-A068-69CB3DEC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C49-8B1B-4114-9A2A-71177DAA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B8C-3C14-4C5E-81ED-E2A8442B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BF6-29FF-46B8-B4E1-E06E488B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FB7-2E48-45EA-93B5-12219BE9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F01-90A6-44F0-9FFD-5C241673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A5F-652C-4C07-94C9-4F720EE3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740-EEBD-4D45-85F9-89F53FD5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115D-5B43-4BDF-9C34-AAA8171FC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EE9F-41B2-44A9-AC8D-51E7F587670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440" y="349200"/>
            <a:ext cx="753588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 is to estimate the error probability of the designed classification 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rror Counting Techn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class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data points in class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or tes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umber 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 poi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probability error for clas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classifier is assumed to have been designed using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other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independent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ata 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that the feature vectors in the test data set ar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dependent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babilit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ctors from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ing in error i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908000" y="2708280"/>
                <a:ext cx="12258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03280" y="5300640"/>
                <a:ext cx="71359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rongly classified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2242440" y="115920"/>
            <a:ext cx="461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YSTEM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788000" y="2276640"/>
                <a:ext cx="325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08000" y="2276640"/>
                <a:ext cx="34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908000" y="1989000"/>
                <a:ext cx="3286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13D6-6C2A-4BF9-8235-A214C31663D6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246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’s are not known, estima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maximizing the above binomial distribution. It turns out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us, count the errors and divide by the total number of test points in 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tal probability of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4000" y="1557360"/>
                <a:ext cx="11509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66920" y="4581360"/>
                <a:ext cx="19465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283C-D532-46F1-AB2E-6A05BFEF7CBC}" type="slidenum">
              <a:t>2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440" y="-387720"/>
            <a:ext cx="80629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stical Proper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us the estimator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s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unbiase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but only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symptotically consistent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Hence for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small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, may not be rel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heoretically derived estimate of a sufficient numb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test data set i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25800" y="681120"/>
                <a:ext cx="15062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050920" y="1311120"/>
                <a:ext cx="338472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us, </m:t>
                    </m:r>
                    <m:r>
                      <m:t xml:space="preserve">E</m:t>
                    </m:r>
                    <m:r>
                      <m:t xml:space="preserve">[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050920" y="2212920"/>
                <a:ext cx="20876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50920" y="2781360"/>
                <a:ext cx="30243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780000" y="5445000"/>
                <a:ext cx="1152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23880" y="6308640"/>
                <a:ext cx="6096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us, for </m:t>
                    </m:r>
                    <m:r>
                      <m:t xml:space="preserve">P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For </m:t>
                    </m:r>
                    <m:r>
                      <m:t xml:space="preserve">P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C005-E534-4E5A-9C3B-6E1A39779570}" type="slidenum">
              <a:t>3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31880" y="333000"/>
            <a:ext cx="7439040" cy="61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iting the finite size of the data s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substitution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same data for training and testing.  It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underestimates the error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The estimate improves for larg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large       rati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oldou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Giv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it in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training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test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=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 Less data both for training and tes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284720" y="2205000"/>
                <a:ext cx="333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0D73-C442-40A5-A3EB-BCCB399CCD2F}" type="slidenum">
              <a:t>4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31880" y="641520"/>
            <a:ext cx="7439040" cy="61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eave-one-out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ep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one sample out of the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classifier using the remaining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-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amples.  Test the classifier using the selected sample.  Count an error if it is misclassif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the above by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xcluding a 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ample each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the error probability by averaging the counted erro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2420-CC63-4ED3-A3C1-0C57BD07D286}" type="slidenum">
              <a:t>5</a:t>
            </a:fld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31880" y="568440"/>
            <a:ext cx="7439040" cy="61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all data for testing and tra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res independence between test and training samp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ity in computations hig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nts of it exclu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 each time, to reduce complex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F656-A8DE-4B00-AD46-AF95E1EB8D88}" type="slidenum">
              <a:t>6</a:t>
            </a:fld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9:08:49Z</dcterms:created>
  <dc:creator>tyiannak</dc:creator>
  <dc:description/>
  <dc:language>en-US</dc:language>
  <cp:lastModifiedBy>ST</cp:lastModifiedBy>
  <dcterms:modified xsi:type="dcterms:W3CDTF">2006-08-31T12:45:48Z</dcterms:modified>
  <cp:revision>13</cp:revision>
  <dc:subject/>
  <dc:title>Slide 1</dc:title>
</cp:coreProperties>
</file>