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B65-7A95-4253-839F-62071B8F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8C4-9F1C-4161-B293-7798556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4D5-2AE9-461C-89CB-363B4922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559-70F1-4BF9-A5C9-9590557D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E71-8AAE-4156-AC61-F5406D0C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0C5-A356-45F7-91E1-B885DCA5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DEA-FC76-4569-A5A1-29F03DDC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9C8-7F09-4436-9024-B6557F5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A18-785B-40E8-8B4A-7F5C79B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2D3-EAC2-43D4-8645-6708B02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B4C-3BFF-4192-B981-9DDBD2E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AFC-3B8E-4F0B-B692-D87F824B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3C8-F928-4ECB-B5B2-0CCA99C513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NTEXT DEPENDENT CLASS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683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 Baye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: The class to which a feature ve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ongs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ts own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values of the othe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 existing relation among the various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60680" y="1916280"/>
                <a:ext cx="29430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A88-9A93-4EB8-B2E8-30948F4C922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93320" y="59976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nnel Eq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87520" y="2255760"/>
                <a:ext cx="3745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2997360"/>
                <a:ext cx="3203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3600" y="3789360"/>
                <a:ext cx="1943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00240" y="470376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equalizer  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035160" y="4802040"/>
            <a:ext cx="122400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B05-5DE1-4962-8F1A-B9ACD5984096}" type="slidenum">
              <a:t>10</a:t>
            </a:fld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1248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ee input symbols are involv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494000"/>
                <a:ext cx="295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24000" y="2382840"/>
                <a:ext cx="2376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485-FAC0-42CE-B996-A474127C3E95}" type="slidenum">
              <a:t>11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3665520"/>
            <a:ext cx="590400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56000" y="44280"/>
          <a:ext cx="3784320" cy="355752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1800"/>
                <a:gridCol w="630360"/>
                <a:gridCol w="630000"/>
                <a:gridCol w="6318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82B-C2A7-4D26-902B-062F89B3E734}" type="slidenum">
              <a:t>12</a:t>
            </a:fld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t 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itions are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6560" y="1197000"/>
            <a:ext cx="6625440" cy="4392000"/>
            <a:chOff x="1906560" y="1197000"/>
            <a:chExt cx="6625440" cy="439200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06560" y="1197000"/>
                  <a:ext cx="2876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30760" y="2773080"/>
                  <a:ext cx="2078640" cy="5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57000" y="2333160"/>
                  <a:ext cx="8740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5157000" y="3389400"/>
                  <a:ext cx="874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4404240" y="25682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4240" y="30398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124720" y="4450680"/>
                  <a:ext cx="471240" cy="47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86240" y="3976920"/>
                  <a:ext cx="418680" cy="4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62760" y="5035320"/>
                  <a:ext cx="410760" cy="46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V="1">
              <a:off x="2758680" y="4434480"/>
              <a:ext cx="50112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58680" y="4906080"/>
              <a:ext cx="5011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759920" y="4564440"/>
                  <a:ext cx="15217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7136640" y="4188600"/>
                  <a:ext cx="1312200" cy="37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136640" y="5245200"/>
                  <a:ext cx="1395360" cy="34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otherwis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6384600" y="4424760"/>
              <a:ext cx="57312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84600" y="4895640"/>
              <a:ext cx="5731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0B5-ADA4-4260-B7DB-7DB07B7DBE9C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ontext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related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iven the current state and the transmitted bi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we determine the next stat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state dependence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i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ll allowable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81160" y="3873600"/>
                <a:ext cx="2814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653000"/>
                <a:ext cx="1800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02040" y="4508640"/>
                <a:ext cx="3427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E85-5824-4359-8D03-F654F1439F90}" type="slidenum">
              <a:t>14</a:t>
            </a:fld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ise white and Gauss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hannel impulse response    estimate to b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tates are determined by the values of the binary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,…,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n+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will b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981000"/>
                <a:ext cx="339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08000" y="2035080"/>
                <a:ext cx="3311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16000" y="2720880"/>
                <a:ext cx="49482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9F1-1DF4-4EBD-8B94-C44BD59A96A7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71400"/>
            <a:ext cx="72468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dden Markov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hannel equalization problem, the states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“learned” during the training peri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we shall assume that stat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re no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only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err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train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ech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usic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C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ind Eq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89F-62C2-4C08-9369-60EEFD35D49B}" type="slidenum">
              <a:t>16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437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HMM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finite state automat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at generates the observation sequence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ssume that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observation sequence is produced as a result of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uccessiv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transitions between states, upon arrival at a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3457440"/>
            <a:ext cx="3600720" cy="18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DB6-16AF-4A2D-8ED3-0770CC7364D4}" type="slidenum">
              <a:t>17</a:t>
            </a:fld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ype of modeling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nstationary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proc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undergo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stin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itions among a set of different stationary proce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705636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75A-A1B8-4100-BA45-A4541CBD8E8A}" type="slidenum">
              <a:t>18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HM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ingle coin case: Assume a coin that is tossed behind a curtain. All it is available to us is the outcome,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ssume the two states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n example of a random experiment with observable states. The model is characterized by a single parameter, e.g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t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= 1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4753080" cy="25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0BB-ACD1-4DEB-8F2B-135051A5D3AD}" type="slidenum">
              <a:t>19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507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nterrelatio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ma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classification to be performed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avail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we will assume that the training ve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occur i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e after the 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e will refer to them a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03400" y="2894040"/>
                <a:ext cx="1727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1EC-6E94-4E9F-AE0B-96E7C45D3490}" type="slidenum">
              <a:t>2</a:t>
            </a:fld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wo-coins case: For this case, we observe a seque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have no access to know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ich coin was tos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dentify one state for each coin. This is an example whe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es are not 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mitted from either state. The model depends 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11280" y="3473280"/>
            <a:ext cx="5400720" cy="29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AD8-D71A-4666-A9C4-339C26237EDA}" type="slidenum">
              <a:t>20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366480"/>
            <a:ext cx="8134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hree-coins case example is shown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in all previous examples, specifying the model is equivalent to kn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ability of each obser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be emitted from each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ition probabilities among stat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374364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E87-C854-4C47-BC8A-F36CD4C47726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general HMM model is characterized by the following set of parame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mber of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3573360"/>
                <a:ext cx="25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24200" y="2852640"/>
                <a:ext cx="26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22400" y="4414680"/>
                <a:ext cx="6524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nitial state probabilities,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042920" y="2205000"/>
            <a:ext cx="7850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989000"/>
            <a:ext cx="770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2133720"/>
            <a:ext cx="71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6F8-C56E-4DC3-9D66-F23D877F7360}" type="slidenum">
              <a:t>22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31520" y="76176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problem in Pattern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ence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described by an HMM, find the paramete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or each of the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trai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n unknown pattern, find to which on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known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ches be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recogni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6880" y="1351080"/>
                <a:ext cx="3213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200-6427-4431-B055-15E83987BE2F}" type="slidenum">
              <a:t>23</a:t>
            </a:fld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1520" y="18864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gnition:  Any path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 to be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quence of observa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observations to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is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pon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ri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successive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ide in favor of the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from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vailable) according to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ayes r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quiprobable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184560" y="3889440"/>
                <a:ext cx="2773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86000" y="5516640"/>
                <a:ext cx="2773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31E-67F2-498A-A91E-B80667EE095E}" type="slidenum">
              <a:t>24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31880" y="549360"/>
            <a:ext cx="73915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mode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is more than one possible sets of successive state transition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with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efficient computation of the above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98720" y="1871640"/>
                <a:ext cx="28083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4508640"/>
                <a:ext cx="38876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5157720"/>
                <a:ext cx="4176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916360" y="5013360"/>
            <a:ext cx="1224000" cy="936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86080" y="5072040"/>
            <a:ext cx="2808360" cy="719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2560" y="6130800"/>
            <a:ext cx="11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7560" y="5989680"/>
            <a:ext cx="185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cal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37000" y="602100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86480" y="587664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1600" y="119700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77D-C528-4268-B085-57ACFF446342}" type="slidenum">
              <a:t>25</a:t>
            </a:fld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4000" y="5445000"/>
                <a:ext cx="2232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1440" y="5445000"/>
            <a:ext cx="21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ute this for eac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E68-8416-4925-BE0D-BF785347CD1C}" type="slidenum">
              <a:t>26</a:t>
            </a:fld>
          </a:p>
        </p:txBody>
      </p:sp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88704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ore quant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55800" y="2111400"/>
                <a:ext cx="4637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70200" y="3695760"/>
                <a:ext cx="3314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DB7-E5D7-4240-8C67-5F3E67EF57B4}" type="slidenum">
              <a:t>27</a:t>
            </a:fld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raining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to belong to the specific mod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timate the unknown paramete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o that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odel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o be max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 ML estimation problem with miss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08000" y="2925720"/>
                <a:ext cx="223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CAC-8087-4883-9488-BA188DF02F83}" type="slidenum">
              <a:t>28</a:t>
            </a:fld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76464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ption:  Dat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cre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84360" y="1341360"/>
                <a:ext cx="410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49560" y="2925720"/>
                <a:ext cx="5997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8320" y="4187880"/>
                <a:ext cx="3071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BF7-C352-4657-9A54-F92B7388F554}" type="slidenum">
              <a:t>29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ext Dependent Bayesian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a sequence of classes, that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o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the Bayesian rule can equivalently be sta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rkov Chain Models (for class depende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24000" y="952560"/>
                <a:ext cx="22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1623960"/>
                <a:ext cx="2016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92240" y="2262240"/>
                <a:ext cx="384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24000" y="2655720"/>
                <a:ext cx="23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8640" y="4672080"/>
                <a:ext cx="6318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60600" y="5967360"/>
                <a:ext cx="4870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085-3AD2-46FD-A015-2016B29456E9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itial conditions for all the unknown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1:  From the current estimates of the model paramete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new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70200" y="1112760"/>
                <a:ext cx="27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4160" y="2513160"/>
                <a:ext cx="24415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49840" y="2833560"/>
                <a:ext cx="3627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of transition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 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transitions 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90880" y="4078440"/>
                <a:ext cx="287316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sSub>
                          <m:e/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4475160"/>
                <a:ext cx="288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 state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being at state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72080" y="5950080"/>
                <a:ext cx="169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D9B-7E24-46D0-AA10-252459FAFB75}" type="slidenum">
              <a:t>30</a:t>
            </a:fld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923400"/>
            <a:ext cx="7535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3:  Comp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step 2.  Otherwise st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ter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mod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nverge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maximum (local or glob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an implementation of the EM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38560" y="939960"/>
                <a:ext cx="38894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|</m:t>
                        </m:r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76480"/>
                <a:ext cx="237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F12-6C4B-4A12-BE87-AC0F9CB6F2F3}" type="slidenum">
              <a:t>31</a:t>
            </a:fld>
          </a:p>
        </p:txBody>
      </p:sp>
    </p:spTree>
  </p:cSld>
  <p:transition>
    <p:random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rememb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ly mutually independ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df in one class independent of the other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97000" y="620640"/>
                <a:ext cx="4189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2863800"/>
                <a:ext cx="38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547640" y="4483080"/>
                <a:ext cx="365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8080" y="5661000"/>
                <a:ext cx="30398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394-A5AF-4B3A-A803-BC288100E37C}" type="slidenum">
              <a:t>4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-2433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above, the Bayes rule is readily seen to be equivalent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it rest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nd the above maximum in brute-force task we nee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Ν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197000"/>
                <a:ext cx="4105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3357720"/>
                <a:ext cx="41767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167-FADA-446A-812C-CEBAB21AEC1F}" type="slidenum">
              <a:t>5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Viterbi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274760"/>
            <a:ext cx="806436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7F4-86DC-4A42-B332-939B72F20B4C}" type="slidenum">
              <a:t>6</a:t>
            </a:fld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31520" y="4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ea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rresponds to one path through the trellis diagram.  One of them is the optimum (e.g., black)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es along the optimal path determine the classes to whi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re assig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ach transition corresponds a cost.  For our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06800" y="2637000"/>
                <a:ext cx="29286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09960" y="3825720"/>
                <a:ext cx="3313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00320" y="4894200"/>
                <a:ext cx="4340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6A1-5AD9-4D3F-83E6-A1313C084BFA}" type="slidenum">
              <a:t>7</a:t>
            </a:fld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31520" y="31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quivale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cost up to a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k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33440" y="1177920"/>
                <a:ext cx="3814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03360" y="2475000"/>
                <a:ext cx="3400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56000" y="4059360"/>
                <a:ext cx="3311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C62-235B-4961-A5CE-B52A54F14B64}" type="slidenum">
              <a:t>8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836280"/>
            <a:ext cx="6862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llman’s princi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w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path terminates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55800" y="1413000"/>
                <a:ext cx="5432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77880" y="2708280"/>
                <a:ext cx="195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3573360"/>
                <a:ext cx="792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/>
                    </m:sSubSup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84440" y="4292640"/>
                <a:ext cx="383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1D7-D86E-4BD6-A29E-4E494880BDE4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8-31T07:21:24Z</dcterms:modified>
  <cp:revision>601</cp:revision>
  <dc:subject/>
  <dc:title>PowerPoint Presentation</dc:title>
</cp:coreProperties>
</file>