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EB3-B6AA-4A49-BE40-464CB6D1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E6C-EA5F-4DDF-BF15-2E77D661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E31-B7E1-4A90-B7A0-FA2FCDD7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404-9D78-42A6-B243-0DA360AC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1D9-80BC-44BC-AECA-B7A61C92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E84-17E8-410B-87AB-87991A53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869-0848-4305-998D-250D866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FA5-13F0-4B3D-AA9B-8FFC425E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831-E631-45B5-A319-5CDADA44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D70-C75B-4BAB-B1E4-19B4DCFC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B50-887A-424A-A341-C82AE5AC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A3C-E0FD-413F-B282-7872CC85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904-442E-4859-950F-DDB4B3C5CBB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040" y="188640"/>
            <a:ext cx="7772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Optimal Feature Gene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 generation is a problem-dependent task. However, there are a few general directions common in a number of applications. We focus on three such altern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timized features based on Scatter matric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(Fisher’s linear discriminatio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Given an original se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, by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near transfor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cattering matrix criterion involv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maximized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19280" y="3573360"/>
                <a:ext cx="863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80000" y="3573360"/>
                <a:ext cx="839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24360" y="4149720"/>
                <a:ext cx="1297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52920" y="5402160"/>
                <a:ext cx="542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rPr>
                        <m:lit/>
                        <m:nor/>
                      </m:rPr>
                      <m:t xml:space="preserve">x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0A7-2E7E-48A1-8B5D-699D744E3CDB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Classification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llowing the idea of projecting in a subspace, the subspace classificat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if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 unknown      to the class whos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is closer 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teps are in ord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 class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stimate the autocorrelation matrix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comput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st eigenval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For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y using respective eigenvectors as colum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ify      to the clas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which the norm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projection is maximu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ording to Pythagoras theorem, this correspond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sub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which    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os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608200" y="101268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001000" y="1004760"/>
                <a:ext cx="2541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92520" y="3660840"/>
                <a:ext cx="255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21240" y="541332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594240" y="4437000"/>
                <a:ext cx="2877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&gt;</m:t>
                    </m:r>
                    <m:d>
                      <m:dPr>
                        <m:begChr m:val="‖"/>
                        <m:endChr m:val="‖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828-E58E-4B92-8C33-F0CC3627D708}" type="slidenum">
              <a:t>10</a:t>
            </a:fld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dependent Component Analysis (I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ontrast to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CA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the goal was to produc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ncorrela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s, the goal i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o produc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istically indepen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s. This i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uch stron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quirement, involving higher to second order statistics. In this way, one may overcome the problems of PCA, as exposed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: Given      , compu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that the components of  are statistically independent. In order  the problem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have a solution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follow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vali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    is indeed generated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 linear combin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562200" y="29829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537160" y="2967120"/>
                <a:ext cx="839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84640" y="3371760"/>
                <a:ext cx="120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r>
                      <m:t xml:space="preserve">W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867280" y="3789360"/>
                <a:ext cx="298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79920" y="4989600"/>
                <a:ext cx="271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170240" y="5757840"/>
                <a:ext cx="11462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Φ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D40-1D4F-4113-A0AB-2A9C5A25D3A9}" type="slidenum">
              <a:t>11</a:t>
            </a:fld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known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x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emix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invertible or of full column ran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dentifiability condi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dependent component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n-Gaussi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us, in contrast to PCA that can always be performed, ICA is meaningful for non-Gaussian variabl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 the above assumption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’s can be uniquely estimated, within a scalar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BD9-727E-43AC-AE36-6ADBFB4365F5}" type="slidenum">
              <a:t>12</a:t>
            </a:fld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mon’s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iven   , and under the previously stated assumptions, the following steps are adop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erform PCA on    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ompute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i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,   , so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urth order cross-cummula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transform v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e zer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is is equivalent to searching for an     that makes the squares of the auto-cummulants maximu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is the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der auto-cumul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189000"/>
                <a:ext cx="338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729320" y="1270080"/>
                <a:ext cx="255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211640" y="1700280"/>
                <a:ext cx="1297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940360" y="2349360"/>
                <a:ext cx="2923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65560" y="3213000"/>
                <a:ext cx="1297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67640" y="3784680"/>
                <a:ext cx="2919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30720" y="4508640"/>
                <a:ext cx="33462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lim>
                    </m:limLow>
                    <m:r>
                      <m:t xml:space="preserve">Ψ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71720" y="5589720"/>
                <a:ext cx="735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294-BD1A-4645-93B9-6013180A4B10}" type="slidenum">
              <a:t>13</a:t>
            </a:fld>
          </a:p>
        </p:txBody>
      </p:sp>
    </p:spTree>
  </p:cSld>
  <p:transition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ierarchy of components: whi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? In PCA one chooses the principal ones. In ICA one can choose the ones with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least resemblance to the Gaussian pd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16280" y="174600"/>
                <a:ext cx="132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037-7CE8-4FE9-A343-9BD961CE6325}" type="slidenum">
              <a:t>14</a:t>
            </a:fld>
          </a:p>
        </p:txBody>
      </p:sp>
    </p:spTree>
  </p:cSld>
  <p:transition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3933720"/>
            <a:ext cx="889344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incipal component is    , thus according to PCA one chooses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projection of      into      . According to ICA, one chooses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jection on     . This is the least Gaussian. Inde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-1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 0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e that across     , the statistics is </a:t>
            </a: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bimod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That is, no resemblance to Gauss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Example</a:t>
            </a:r>
            <a:r>
              <a:rPr b="0" lang="el-GR" sz="24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71760" y="44280"/>
            <a:ext cx="561672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96000" y="4437000"/>
                <a:ext cx="411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788000" y="422100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56000" y="3933720"/>
                <a:ext cx="379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796000" y="4149720"/>
                <a:ext cx="384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5877000"/>
                <a:ext cx="409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F76-5936-4094-83FB-1489FC6D5EF0}" type="slidenum">
              <a:t>15</a:t>
            </a:fld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ic steps in the 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race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{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maxim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olution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matrix that diagonaliz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ultaneous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c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i.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I , B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a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987-F5AC-450D-A523-D673DC13FB16}" type="slidenum">
              <a:t>2</a:t>
            </a:fld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AB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ximiz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genvalue-eigenve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blem. For a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problem,   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 of rank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hoo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consi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eigenvectors, corresponding to the non-zero eigenval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above guarantees maxim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value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is ca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two-class problem, this results to the well know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isher’s linear discrimin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Gaussian classes, this is the optimal Bayesian classifier, with a difference of a threshold value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84720" y="779400"/>
                <a:ext cx="2158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b</m:t>
                            </m:r>
                          </m:sub>
                        </m:sSub>
                      </m:e>
                    </m:d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048280" y="1844640"/>
                <a:ext cx="865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49720" y="3070080"/>
                <a:ext cx="1236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067280" y="5013360"/>
                <a:ext cx="2465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sub>
                        </m:sSub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328-B263-44CE-919D-F5EAD0D8CFDD}" type="slidenum">
              <a:t>3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&lt;M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hoos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vectors corresponding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st eigen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is there is loss of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eometric interpre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vector   i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oj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onto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spann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gen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278840" y="2003400"/>
                <a:ext cx="291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92600" y="2360520"/>
                <a:ext cx="264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110120" y="2679840"/>
                <a:ext cx="865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15F-AD62-4861-BEBE-FCC8BE8D3E47}" type="slidenum">
              <a:t>4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cipal Compon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Karhunen – Loève transform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Given an original se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rtho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the elements of    a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ptimally mutually uncorrela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ketch of the 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8172360" y="1125360"/>
                <a:ext cx="9716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43280" y="1557360"/>
                <a:ext cx="839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187880" y="2060640"/>
                <a:ext cx="1033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740720" y="2781360"/>
                <a:ext cx="2649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81400" y="4205160"/>
                <a:ext cx="28400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110040" y="5343480"/>
                <a:ext cx="4991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C81-8591-4E28-A03C-CC1A188D59FC}" type="slidenum">
              <a:t>5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hosen so that its columns     are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rthogonal eigen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a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elements the respectiv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igenvalue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at this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ffic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dition but no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cess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t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impo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pecific ortho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ructure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perties of the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an Square Error approxim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e to the orthogona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93080" y="320760"/>
                <a:ext cx="331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078440" y="1073160"/>
                <a:ext cx="22809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132000" y="4896000"/>
                <a:ext cx="37702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D68-4BA4-4F00-B354-A2A466956844}" type="slidenum">
              <a:t>6</a:t>
            </a:fld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SzPct val="10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SzPct val="10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Karhunen – Loève transform minimizes the square err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rror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also shown that this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nimum mean square error compared to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other representation of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by an </a:t>
            </a:r>
            <a:r>
              <a:rPr b="0" i="1" lang="en-US" sz="2200" spc="-1" strike="noStrike">
                <a:solidFill>
                  <a:srgbClr val="ff0000"/>
                </a:solidFill>
                <a:latin typeface="Tahoma"/>
              </a:rPr>
              <a:t>ℓ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dimensional ve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449600" y="476280"/>
                <a:ext cx="1670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708360" y="2133720"/>
                <a:ext cx="3537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ℓ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78240" y="3328920"/>
                <a:ext cx="25257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ℓ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A63-E3BD-4D96-9D8D-F5A0176BBF03}" type="slidenum">
              <a:t>7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other words,     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j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into the subspace spanned by the principa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genvectors. However, for Pattern Recognition this is not the always the best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716360" y="3333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667640" y="3333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532764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4D2-D820-4062-B52E-FBED346381BA}" type="slidenum">
              <a:t>8</a:t>
            </a:fld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variance: It is easily seen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 Karhunen – Loève transform makes the total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    to be a zero mean multivariat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aussian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the K-L transfor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izes the entrop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resulting     proc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635280" y="836640"/>
                <a:ext cx="2737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695760" y="2682720"/>
                <a:ext cx="280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140360" y="4556160"/>
                <a:ext cx="280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63880" y="3860640"/>
                <a:ext cx="22748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B56-9528-4E46-A831-F19AED377036}" type="slidenum">
              <a:t>9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6:33:24Z</dcterms:created>
  <dc:creator>Theodore</dc:creator>
  <dc:description/>
  <dc:language>en-US</dc:language>
  <cp:lastModifiedBy>ST</cp:lastModifiedBy>
  <dcterms:modified xsi:type="dcterms:W3CDTF">2006-08-31T07:14:19Z</dcterms:modified>
  <cp:revision>159</cp:revision>
  <dc:subject/>
  <dc:title>Feature Generation</dc:title>
</cp:coreProperties>
</file>