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9B6-4986-4460-84C1-60068814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A9F-F9AC-4AE1-A1B4-71A476BC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3F4-586E-4BA6-801C-CDDFDA88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25F-92BD-4B64-B135-E95A3D52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C21-124E-444D-A0BA-76DA7C3A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83A-F0EE-41B9-8807-8A925108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CEC-62CE-4029-B369-C0D29C5D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5BA-6C33-443E-89F6-B9E05E67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C0D-A736-4F12-90C0-F243A738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7BE-197A-46AF-8B35-E502C56A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105-5379-4381-87CB-6DF7272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B1F-E3F3-469E-940B-8A18237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B2AB-68F3-4412-90EB-D2B75C2C22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512280"/>
            <a:ext cx="7535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 two class task wit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63640" y="1614600"/>
                <a:ext cx="2737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835280" y="2997360"/>
                <a:ext cx="432108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n the decision hyperplane: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075040" y="243000"/>
            <a:ext cx="49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INEAR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724-3D23-41C7-B61E-0EFB78C80A3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52600" y="603360"/>
            <a:ext cx="6143760" cy="30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4760" y="115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484360" y="3700440"/>
                <a:ext cx="4211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   synapses or synaptic weight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threshol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644480" y="540396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rning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ear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 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ia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9520" y="5022720"/>
            <a:ext cx="620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twork is calle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or neu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C2B-CF4A-47BE-B6EE-3B74E25A2480}" type="slidenum">
              <a:t>10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-387360"/>
            <a:ext cx="75358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some sta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erceptron algorithm results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rresponding hyperplane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2536920"/>
            <a:ext cx="5834160" cy="312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386160" y="880920"/>
                <a:ext cx="3092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48000" y="1289160"/>
                <a:ext cx="2232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24000" y="5748480"/>
                <a:ext cx="54039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02000" y="3218040"/>
            <a:ext cx="1539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402-6172-4BE7-B836-51283B348E97}" type="slidenum">
              <a:t>11</a:t>
            </a:fld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43920"/>
            <a:ext cx="8051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east Squares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asses are linearly separable, the perceptron output results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asses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inearly separable, we shall compute the we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actual output of the classifier,          ,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esired outputs, e.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700360" y="89532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87640" y="1760400"/>
                <a:ext cx="1584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29160" y="2706840"/>
                <a:ext cx="8568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00720" y="2746440"/>
                <a:ext cx="576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340000" y="3789360"/>
                <a:ext cx="1297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8DF-C724-4CF0-AE4A-596BFC009E8D}" type="slidenum">
              <a:t>12</a:t>
            </a:fld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755640"/>
            <a:ext cx="8051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ean squa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rror sense, means to choose        so that the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29160" y="3417840"/>
                <a:ext cx="856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432640" y="1116000"/>
                <a:ext cx="355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19280" y="2268360"/>
                <a:ext cx="475128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is minimum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lim>
                        </m:limLow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the corresponding desired respon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270-0C24-48FF-B325-B4FCBFF3A89B}" type="slidenum">
              <a:t>13</a:t>
            </a:fld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813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utocorrelatio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rosscorrel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06680" y="476280"/>
                <a:ext cx="535608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results in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]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y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y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924360" y="2975040"/>
            <a:ext cx="1871640" cy="35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4005360"/>
                <a:ext cx="52560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95640" y="5316480"/>
                <a:ext cx="2089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y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B10-1504-45FF-A2EA-4B0C09074738}" type="slidenum">
              <a:t>14</a:t>
            </a:fld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-class gener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near discriminant func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ording to the M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pt as desired respons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0920" y="930240"/>
                <a:ext cx="1944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321000" y="2674800"/>
                <a:ext cx="23162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if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102120" y="4149720"/>
                <a:ext cx="2579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57480" y="5337000"/>
                <a:ext cx="2685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E6D-C089-4EFE-B173-348CA5CDC1C4}" type="slidenum">
              <a:t>15</a:t>
            </a:fld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compute   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is equivalent to a nu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MSE minimization problems. That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ign each    so that its desired output is 1 for           and 0 for any other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Remark: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SE criterion belongs to a more general class of cost function with the follow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value of          is a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stimate, in the MSE sense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steri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ty              ,  provided that the desired responses used during training are                    and 0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54160" y="549360"/>
                <a:ext cx="74469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2781360"/>
                <a:ext cx="330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04000" y="2781360"/>
                <a:ext cx="731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43280" y="4797360"/>
                <a:ext cx="682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95640" y="5084640"/>
                <a:ext cx="10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64000" y="5373720"/>
                <a:ext cx="143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067280" y="18900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4AC-5FE5-4C51-870B-DD880DD0A60C}" type="slidenum">
              <a:t>16</a:t>
            </a:fld>
          </a:p>
        </p:txBody>
      </p:sp>
    </p:spTree>
  </p:cSld>
  <p:transition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an square error reg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t          ,           be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stributed random vectors with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iv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value of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stim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value of    . In the pattern recognition framework, given      one wants to estimate the respective label    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SE estimate     of      given       is defined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turns out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known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gress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 given     and it is, in general, a non-linear function of      . If            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aussi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SE regressor is lin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65680" y="146160"/>
                <a:ext cx="982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684840" y="152280"/>
                <a:ext cx="8575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740720" y="517680"/>
                <a:ext cx="933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03640" y="836640"/>
                <a:ext cx="2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132760" y="915840"/>
                <a:ext cx="247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948360" y="1125360"/>
                <a:ext cx="308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08360" y="2243160"/>
                <a:ext cx="250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7640" y="2227320"/>
                <a:ext cx="250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51640" y="2189160"/>
                <a:ext cx="3506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25680" y="2643120"/>
                <a:ext cx="2711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acc>
                          <m:accPr>
                            <m:chr m:val="~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14640" y="3675240"/>
                <a:ext cx="325908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580080" y="4836960"/>
                <a:ext cx="233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759800" y="4813200"/>
                <a:ext cx="260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453360" y="5140440"/>
                <a:ext cx="2458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292880" y="5140440"/>
                <a:ext cx="933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62560" y="1541520"/>
                <a:ext cx="760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3BF-D7B1-48DD-93C4-DB7DC4B60D40}" type="slidenum">
              <a:t>17</a:t>
            </a:fld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m of err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quares sense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input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respond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label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(±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20720" y="1819440"/>
                <a:ext cx="3095640" cy="13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116800" y="2755800"/>
            <a:ext cx="28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raining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1640" y="3614760"/>
                <a:ext cx="4133880" cy="20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476360" y="4768920"/>
            <a:ext cx="265428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20000" y="3100320"/>
                <a:ext cx="3222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A17-9B88-42D9-ACCF-A4E4C1875DF0}" type="slidenum">
              <a:t>18</a:t>
            </a:fld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-243000"/>
            <a:ext cx="7772400" cy="58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eudoinverse 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35280" y="766800"/>
                <a:ext cx="4824360" cy="34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 </m:t>
                        </m:r>
                        <m:r>
                          <m:rPr>
                            <m:lit/>
                            <m:nor/>
                          </m:rPr>
                          <m:t xml:space="preserve">Nxl</m:t>
                        </m:r>
                        <m:r>
                          <m:rPr>
                            <m:lit/>
                            <m:nor/>
                          </m:rPr>
                          <m:t xml:space="preserve"> matrix</m:t>
                        </m:r>
                        <m:r>
                          <m:t xml:space="preserve">)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corresponding desired respon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930320" y="4437000"/>
                <a:ext cx="470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 </m:t>
                    </m:r>
                    <m:r>
                      <m:rPr>
                        <m:lit/>
                        <m:nor/>
                      </m:rPr>
                      <m:t xml:space="preserve">lxN</m:t>
                    </m:r>
                    <m:r>
                      <m:rPr>
                        <m:lit/>
                        <m:nor/>
                      </m:rPr>
                      <m:t xml:space="preserve"> matri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5051520"/>
                <a:ext cx="2089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835280" y="5862600"/>
                <a:ext cx="20160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3E4-3127-42AD-9DD2-36DE500C4FB7}" type="slidenum">
              <a:t>19</a:t>
            </a:fld>
          </a:p>
        </p:txBody>
      </p:sp>
    </p:spTree>
  </p:cSld>
  <p:transition>
    <p:random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60280"/>
            <a:ext cx="66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76360" y="907920"/>
                <a:ext cx="4148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on the hyperplan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73120" y="1308240"/>
                <a:ext cx="4137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9920" y="1989000"/>
            <a:ext cx="4960800" cy="32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95640" y="5445000"/>
                <a:ext cx="33130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388-04B8-4684-8F7E-23A0B6CFFCEC}" type="slidenum">
              <a:t>2</a:t>
            </a:fld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263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quare and invertible. 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73280" y="403200"/>
                <a:ext cx="24130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⇒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54200" y="2786040"/>
                <a:ext cx="2127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962520" y="2754360"/>
            <a:ext cx="26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seudoinverse of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35240" y="4435560"/>
                <a:ext cx="46720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195640" y="5299200"/>
            <a:ext cx="129672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276720" y="3828960"/>
                <a:ext cx="396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7B6-766B-4CBC-9673-25FA3603CE05}" type="slidenum">
              <a:t>20</a:t>
            </a:fld>
          </a:p>
        </p:txBody>
      </p:sp>
    </p:spTree>
  </p:cSld>
  <p:transition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&gt;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hen, in general, there is no solution to satisfy all equations simultaneousl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“solution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corresponds to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um sum of squares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1413000"/>
                <a:ext cx="590544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equations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l </m:t>
                    </m:r>
                    <m:r>
                      <m:rPr>
                        <m:lit/>
                        <m:nor/>
                      </m:rPr>
                      <m:t xml:space="preserve">unknow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987640" y="4330800"/>
                <a:ext cx="1152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872-5FBB-4A14-BF70-67114FF70D5B}" type="slidenum">
              <a:t>21</a:t>
            </a:fld>
          </a:p>
        </p:txBody>
      </p:sp>
    </p:spTree>
  </p:cSld>
  <p:transition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535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87640" y="160200"/>
                <a:ext cx="33116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56360" y="2133720"/>
                <a:ext cx="290196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5688000" cy="327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7FC-3570-43F2-80FA-56F93B384CB4}" type="slidenum">
              <a:t>22</a:t>
            </a:fld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53588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19280" y="1317600"/>
                <a:ext cx="4510080" cy="28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D0C-6075-4F59-AA30-1315827F9CAA}" type="slidenum">
              <a:t>23</a:t>
            </a:fld>
          </a:p>
        </p:txBody>
      </p:sp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8051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Bias – Variance Dilem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ifier       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rning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trie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edi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lass lab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   . In practice,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ata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used for its training. Let us write           . Observe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raining sets,                                    ,  the training may result to good estimates,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 oth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result may be wor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verage performance of the classifier can be tested against the MSE optimal value, in the mean squares sense, that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an over all possible data sets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36840" y="533520"/>
                <a:ext cx="655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51320" y="852480"/>
                <a:ext cx="247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92800" y="119700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6000" y="2013120"/>
                <a:ext cx="316728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6720" y="4653000"/>
                <a:ext cx="3255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526-4DDE-4E83-BE4C-B10618538463}" type="slidenum">
              <a:t>24</a:t>
            </a:fld>
          </a:p>
        </p:txBody>
      </p:sp>
    </p:spTree>
  </p:cSld>
  <p:transition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8051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written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above,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the contribution of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second term is the contribution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fini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re is a trade-off between the two terms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creasing bias it reduces variance and vice ver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is is known a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bias-variance dilemma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 results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ow-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s one changes from one training set to another. Using a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 results in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high 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low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46640" y="549360"/>
                <a:ext cx="3533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71520" y="1197000"/>
                <a:ext cx="73486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]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r>
                                      <m:t xml:space="preserve">;</m:t>
                                    </m:r>
                                    <m:r>
                                      <m:t xml:space="preserve">D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9E0-4A58-4347-8173-BAE93519514C}" type="slidenum">
              <a:t>25</a:t>
            </a:fld>
          </a:p>
        </p:txBody>
      </p:sp>
    </p:spTree>
  </p:cSld>
  <p:transition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an   -class task,                  . In logistic discrimination, the logarithm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kelihood ratio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modeled vi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nea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ctions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ing into account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easily shown that the above is equivalent with modeling posterior probabilities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87680" y="379440"/>
            <a:ext cx="44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ISTIC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95640" y="1989000"/>
                <a:ext cx="51130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M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06720" y="3645000"/>
                <a:ext cx="1744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68640" y="868320"/>
                <a:ext cx="1584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68360" y="907920"/>
                <a:ext cx="42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45F-1535-4FFF-96E1-E8F1A8687283}" type="slidenum">
              <a:t>26</a:t>
            </a:fld>
          </a:p>
        </p:txBody>
      </p:sp>
    </p:spTree>
  </p:cSld>
  <p:transition>
    <p:random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0881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two-class case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48080" y="169920"/>
                <a:ext cx="39686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06400" y="1413000"/>
                <a:ext cx="55245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ι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24360" y="3789360"/>
                <a:ext cx="334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4826160"/>
                <a:ext cx="33242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948-5644-4FFB-9B3F-32DE40F2E341}" type="slidenum">
              <a:t>27</a:t>
            </a:fld>
          </a:p>
        </p:txBody>
      </p:sp>
    </p:spTree>
  </p:cSld>
  <p:transition>
    <p:random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0881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nknown parameters                                     are usually estimated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um likelih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gu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stic discrimination is a useful tool, since it allows linear modeling and at the same tim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ns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terior probabiliti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 add to 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424400" y="419040"/>
                <a:ext cx="2914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M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E2E-1EB4-4663-A92F-9161D2DC49A7}" type="slidenum">
              <a:t>28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 Given two linearly separable classes, design the classifie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leave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um 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both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330720" y="1557360"/>
                <a:ext cx="2579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6408720" cy="3481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7480" y="37944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3AA-C379-4778-BD55-0D428048E979}" type="slidenum">
              <a:t>29</a:t>
            </a:fld>
          </a:p>
        </p:txBody>
      </p:sp>
    </p:spTree>
  </p:cSld>
  <p:transition>
    <p:random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1444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erceptr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linearly separable classes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as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lls under the above formulation, si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60720" y="1781280"/>
                <a:ext cx="2879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*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38520" y="3181320"/>
                <a:ext cx="1295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sSup>
                          <m:e/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24000" y="4221000"/>
                <a:ext cx="2303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'</m:t>
                    </m:r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w</m:t>
                                  </m:r>
                                </m:e>
                              </m:bar>
                              <m:r>
                                <m:t xml:space="preserve">∗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/>
                              </m:sSubSup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0920" y="5589720"/>
                <a:ext cx="28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  <m:sup/>
                    </m:sSub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F0F-C5C6-4728-912D-CF4837A307B4}" type="slidenum">
              <a:t>3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Each hyperplane is characterized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direction in space, i.e.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position in spac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rection,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the hyperplane tha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ves the SAME 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ar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from each clas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rgin is twice this dist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219640" y="206064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148360" y="2852640"/>
                <a:ext cx="419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356000" y="3700440"/>
                <a:ext cx="30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EBE-E46B-4176-91DF-7E4453C6B0BA}" type="slidenum">
              <a:t>30</a:t>
            </a:fld>
          </a:p>
        </p:txBody>
      </p:sp>
    </p:spTree>
  </p:cSld>
  <p:transition>
    <p:random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43920"/>
            <a:ext cx="7342200" cy="46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istance of a point  from a hyperpla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given b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le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so that 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arest poi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each class the discriminant function is ±1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given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, the following is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3640" y="47520"/>
                <a:ext cx="255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14440" y="1830240"/>
                <a:ext cx="889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59240" y="692280"/>
                <a:ext cx="13590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ba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36720" y="2637000"/>
                <a:ext cx="590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rPr>
                            <m:lit/>
                            <m:nor/>
                          </m:rPr>
                          <m:t xml:space="preserve">1 for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706920" y="3789360"/>
                <a:ext cx="1873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5516640"/>
                <a:ext cx="2952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B4C-9B7B-4FF1-A75E-22EB133B81FD}" type="slidenum">
              <a:t>31</a:t>
            </a:fld>
          </a:p>
        </p:txBody>
      </p:sp>
    </p:spTree>
  </p:cSld>
  <p:transition>
    <p:random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000" y="253800"/>
            <a:ext cx="714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-22860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VM (linear) classifi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justified since by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 maximi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868480" y="736560"/>
                <a:ext cx="2013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98640" y="1665360"/>
                <a:ext cx="1817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3538440"/>
                <a:ext cx="2303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567160" y="2962440"/>
                <a:ext cx="3649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77080" y="4941720"/>
                <a:ext cx="452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03640" y="5445000"/>
                <a:ext cx="495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28F-97DA-45BA-8945-682BCF6B3F81}" type="slidenum">
              <a:t>32</a:t>
            </a:fld>
          </a:p>
        </p:txBody>
      </p:sp>
    </p:spTree>
  </p:cSld>
  <p:transition>
    <p:random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adratic optimization task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ject to a set of linear inequality constraints. 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Karush-Kuhh-Tuck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ditio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tisfi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i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grangi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411280" y="1776240"/>
                <a:ext cx="2160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rPr>
                        <m:lit/>
                        <m:nor/>
                      </m:rPr>
                      <m:t xml:space="preserve"> 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24240" y="2565360"/>
                <a:ext cx="2278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556000" y="3573360"/>
                <a:ext cx="2447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627280" y="4292640"/>
                <a:ext cx="4332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843280" y="5229360"/>
                <a:ext cx="8650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⋅</m:t>
                    </m:r>
                    <m:r>
                      <m:t xml:space="preserve">,</m:t>
                    </m:r>
                    <m:r>
                      <m:t xml:space="preserve">⋅</m:t>
                    </m:r>
                    <m:r>
                      <m:t xml:space="preserve">,</m:t>
                    </m:r>
                    <m:r>
                      <m:t xml:space="preserve">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340000" y="5589720"/>
                <a:ext cx="5289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EDB-7801-4CAF-83A8-63F2A3F245EA}" type="slidenum">
              <a:t>33</a:t>
            </a:fld>
          </a:p>
        </p:txBody>
      </p:sp>
    </p:spTree>
  </p:cSld>
  <p:transition>
    <p:random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33320" y="1152000"/>
            <a:ext cx="772632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olution:  from the above,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171880" y="2160720"/>
                <a:ext cx="1944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71880" y="335916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0FF-6700-458B-83C5-C021694638CC}" type="slidenum">
              <a:t>34</a:t>
            </a:fld>
          </a:p>
        </p:txBody>
      </p:sp>
    </p:spTree>
  </p:cSld>
  <p:transition>
    <p:random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155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 algn="just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grange multipli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eithe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zero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hus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, corresponding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agrange multipli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constraint (4) abov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ectors contributing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84360" y="1413000"/>
                <a:ext cx="17272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20920" y="2508120"/>
                <a:ext cx="1008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25640" y="4076640"/>
                <a:ext cx="4643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24360" y="5373720"/>
                <a:ext cx="216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29400" y="4756320"/>
                <a:ext cx="35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725440" y="4802040"/>
            <a:ext cx="170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A24-46E5-4A9E-87C3-450E2175E362}" type="slidenum">
              <a:t>35</a:t>
            </a:fld>
          </a:p>
        </p:txBody>
      </p:sp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7203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vectors 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UPPORT VECTORS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are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losest 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from each class, to the classifi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 is computed,  is determined from conditions (4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timal hyperplane classifier of a support vector machine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I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hough the solution is uniqu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resulting Lagrange multipliers a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iqu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6160" y="240516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8624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737-4BA4-4075-9616-274443C33A1C}" type="slidenum">
              <a:t>36</a:t>
            </a:fld>
          </a:p>
        </p:txBody>
      </p:sp>
    </p:spTree>
  </p:cSld>
  <p:transition>
    <p:random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6948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al Problem Formu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VM formulation is a convex programming problem, wi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vex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vex region of feasible solu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its solution can be achieved by its dual problem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741840" y="3173400"/>
                <a:ext cx="138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21120" y="4292640"/>
                <a:ext cx="169524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λ</m:t>
                            </m:r>
                          </m:e>
                        </m:bar>
                        <m:r>
                          <m:t xml:space="preserve">≥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556000" y="342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834-54AF-4442-95AE-E57B76E6867D}" type="slidenum">
              <a:t>37</a:t>
            </a:fld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6948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e the above to obt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052640"/>
                <a:ext cx="367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203640" y="2997360"/>
                <a:ext cx="122400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λ</m:t>
                            </m:r>
                          </m:e>
                        </m:bar>
                        <m:r>
                          <m:t xml:space="preserve">≥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332000" y="15192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FF7-276B-4CA9-8534-8AACFD7731F0}" type="slidenum">
              <a:t>38</a:t>
            </a:fld>
          </a:p>
        </p:txBody>
      </p:sp>
    </p:spTree>
  </p:cSld>
  <p:transition>
    <p:random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7823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</a:t>
            </a:r>
            <a:r>
              <a:rPr b="0" lang="el-GR" sz="22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vectors enter vi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ner produ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Separabl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89840" y="365760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971640" y="2579760"/>
            <a:ext cx="7489800" cy="32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684-4297-4EE0-A092-BE005287D8B2}" type="slidenum">
              <a:t>39</a:t>
            </a:fld>
          </a:p>
        </p:txBody>
      </p:sp>
    </p:spTree>
  </p:cSld>
  <p:transition>
    <p:random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865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goal:  Compute a solution, i.e., a hyperplan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cost function to be minimiz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an algorithm to minimize the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nimum corresponds to a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056040" y="1843200"/>
                <a:ext cx="346068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5078520" y="2130120"/>
            <a:ext cx="9334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91120" y="2328840"/>
            <a:ext cx="9936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06B-C368-48BD-A617-0FFECF18DC00}" type="slidenum">
              <a:t>4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7823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is case, there is no hyperplane such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all that the margin is defined as twice the distance between the following two hyperpla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916360" y="2205000"/>
                <a:ext cx="3141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189840" y="365760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132000" y="4213080"/>
                <a:ext cx="2808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9EF-327A-4A62-837A-2EDFDC840031}" type="slidenum">
              <a:t>40</a:t>
            </a:fld>
          </a:p>
        </p:txBody>
      </p:sp>
    </p:spTree>
  </p:cSld>
  <p:transition>
    <p:random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2775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08480" indent="-283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raining vectors belong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th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sible catego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8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band which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rrect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classified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band, an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rre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ified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sclassifi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48080" y="2193840"/>
                <a:ext cx="2173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189840" y="3139920"/>
                <a:ext cx="7506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20960" y="3849840"/>
                <a:ext cx="3284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09800" y="5146560"/>
                <a:ext cx="3237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24C-8B53-4D4B-A224-CD3DFCC7BA1F}" type="slidenum">
              <a:t>41</a:t>
            </a:fld>
          </a:p>
        </p:txBody>
      </p:sp>
    </p:spTree>
  </p:cSld>
  <p:transition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792000"/>
            <a:ext cx="7726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-304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three cases above can be represent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lack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189840" y="365436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881440" y="1268280"/>
                <a:ext cx="258588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68360" y="1955880"/>
                <a:ext cx="14400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63640" y="357192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618-DB78-45DA-BEA7-DFC4D7B654D6}" type="slidenum">
              <a:t>42</a:t>
            </a:fld>
          </a:p>
        </p:txBody>
      </p:sp>
    </p:spTree>
  </p:cSld>
  <p:transition>
    <p:random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-243000"/>
            <a:ext cx="763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of the optimization is now two-fo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ximize mar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e the number of patterns with           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way to achieve this goal is via the co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nstant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.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differentiable.  In practice, we use an approxi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llowing a similar procedure as before we obt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659640" y="993600"/>
                <a:ext cx="7207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736720" y="1773360"/>
                <a:ext cx="3667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ξ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348000" y="2997360"/>
                <a:ext cx="237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44720" y="4869000"/>
                <a:ext cx="333684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ξ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075-823D-4F7F-9A05-80E038D00C8C}" type="slidenum">
              <a:t>43</a:t>
            </a:fld>
          </a:p>
        </p:txBody>
      </p:sp>
    </p:spTree>
  </p:cSld>
  <p:transition>
    <p:random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2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387000"/>
            <a:ext cx="77263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KT cond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85920" y="1330200"/>
                <a:ext cx="5058000" cy="32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EE3-BE9B-4D5B-A98B-5958B4C58A98}" type="slidenum">
              <a:t>44</a:t>
            </a:fld>
          </a:p>
        </p:txBody>
      </p:sp>
    </p:spTree>
  </p:cSld>
  <p:transition>
    <p:random/>
  </p:transition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7263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ssociated dual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c99"/>
                </a:solidFill>
                <a:uFillTx/>
                <a:latin typeface="Tahoma"/>
              </a:rPr>
              <a:t>Remarks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nly difference with the separabl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case is the existence of     in th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19320" y="1071720"/>
                <a:ext cx="332100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771640" y="2565360"/>
                <a:ext cx="2664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124760" y="4844880"/>
                <a:ext cx="301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9EC-E541-4089-91CF-82838B5C137A}" type="slidenum">
              <a:t>45</a:t>
            </a:fld>
          </a:p>
        </p:txBody>
      </p:sp>
    </p:spTree>
  </p:cSld>
  <p:transition>
    <p:random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7263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ining the SV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jor problem is the high computational cost. To this end, decomposition techniques are used. The rationale behind them consists of the foll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n arbitrary data subset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working 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an fit in the memory. Perform optimization, via a general purpose optimiz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ing support vector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ma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working set, while others are replaced by new ones (outside the set) that violate severely the KKT cond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e proced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procedure guarantees that the cost function de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t’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MO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ooses a working set of two samples, thu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alytic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ization solution can be obta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8FF-EF9C-4241-BBAF-19F882440F54}" type="slidenum">
              <a:t>46</a:t>
            </a:fld>
          </a:p>
        </p:txBody>
      </p:sp>
    </p:spTree>
  </p:cSld>
  <p:transition>
    <p:random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91856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-class gener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hough theoretical generalizations exist, the most popular in practice is to look at the problem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wo-class problems (one against al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e effect of different valu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ase of non-separabl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6264000" cy="275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B1E-4C73-4D25-943B-3629F83E71A0}" type="slidenum">
              <a:t>47</a:t>
            </a:fld>
          </a:p>
        </p:txBody>
      </p:sp>
    </p:spTree>
  </p:cSld>
  <p:transition>
    <p:random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263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st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set of the 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rong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ified by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W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(empty set) a solution is achieved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89200" y="836640"/>
                <a:ext cx="2325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54240" y="3213000"/>
                <a:ext cx="144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50920" y="4108320"/>
                <a:ext cx="3240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124000" y="5300640"/>
                <a:ext cx="1660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39E-A443-4CAE-8DC2-4D5458577174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9800" y="907920"/>
            <a:ext cx="7054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iecewise linear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hilosophy of the gradient descent is adop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1596960"/>
            <a:ext cx="5329440" cy="21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E53-D0C8-454C-B2ED-53B32EAF6C59}" type="slidenum">
              <a:t>6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631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herever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celebrate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362240" y="3068640"/>
                <a:ext cx="27399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e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78200" y="4719600"/>
                <a:ext cx="3819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</m:e>
                    </m:nary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95640" y="5805360"/>
                <a:ext cx="2520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3840" y="115920"/>
            <a:ext cx="655632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94440" y="2917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FD0-3220-4B50-9310-89A3AA1FF69E}" type="slidenum">
              <a:t>7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631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An example</a:t>
            </a:r>
            <a:r>
              <a:rPr b="0" lang="el-GR" sz="24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rceptron algorithm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verg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 of iteration steps to a solution 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41760" y="3463920"/>
                <a:ext cx="3752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82560" y="5181480"/>
                <a:ext cx="59421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: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68560" y="566640"/>
            <a:ext cx="5006880" cy="28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8B1-FFFC-4248-9119-ACF219C0D35D}" type="slidenum">
              <a:t>8</a:t>
            </a:fld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312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useful variant of the perceptr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ward and punish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type of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06800" y="1285920"/>
                <a:ext cx="4464000" cy="22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 </m:t>
                        </m:r>
                        <m:m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</m:t>
                        </m:r>
                        <m:m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556000" y="4653000"/>
            <a:ext cx="3240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1DE-30FA-4C1E-9399-94478BACE552}" type="slidenum">
              <a:t>9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9-01T12:56:11Z</dcterms:modified>
  <cp:revision>733</cp:revision>
  <dc:subject/>
  <dc:title>PowerPoint Presentation</dc:title>
</cp:coreProperties>
</file>