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147-3382-4B9B-9352-8ABD02FD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C47-A6AB-41F9-8720-390C2E64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4630-7B0C-4878-AFB2-AF7E6375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057-0EB2-4A08-9C42-53797E82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6FAD-F66F-4C28-BE6F-02A755AD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437B-D005-4C93-9B29-31185392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5237-E604-42D9-8D6F-CB3F0C03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198E-D6B3-4D26-82F3-9BB1FE49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48C5-CDB3-43D9-B90D-487B531F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A38-DB87-4490-9C96-B49C897F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6F7E-25F1-498A-9DFA-A96CF209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1D89-E9F1-49E1-A469-C42B6C5B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029E-840A-48BF-9670-090D20B978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725040"/>
            <a:ext cx="791856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lect the “optimum” numbe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fea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lect the “best”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ea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a three-fold dis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computational dem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w generalization perform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or error estim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053080" y="401760"/>
            <a:ext cx="443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FEATURE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434-2117-46DD-804D-AD9F836D1695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440" y="-243000"/>
            <a:ext cx="7535880" cy="58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decision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e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i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,…,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e significance level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fro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abl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[-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l-GR" sz="2200" spc="-1" strike="noStrike" baseline="-25000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l-GR" sz="2200" spc="-1" strike="noStrike" baseline="-25000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 algn="just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An exampl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A random variabl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variance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(0.23)</a:t>
            </a:r>
            <a:r>
              <a:rPr b="0" lang="el-GR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Ν=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surements are obtained giving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significance level is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0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</a:t>
            </a:r>
            <a:br>
              <a:rPr sz="2200"/>
            </a:b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st the hypothes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908000" y="3284640"/>
                <a:ext cx="25196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r>
                          <m:t xml:space="preserve">q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accep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r>
                          <m:t xml:space="preserve">q</m:t>
                        </m:r>
                        <m:r>
                          <m:t xml:space="preserve">∈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476360" y="4776840"/>
                <a:ext cx="936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547640" y="5878440"/>
                <a:ext cx="1835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μ</m:t>
                        </m:r>
                        <m:r>
                          <m:t xml:space="preserve">≠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979640" y="1701720"/>
            <a:ext cx="4392720" cy="1440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831920" y="1701720"/>
            <a:ext cx="12340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1-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016A-4551-4D51-97C2-E6867D6F5D9B}" type="slidenum">
              <a:t>10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287280"/>
            <a:ext cx="74376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known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     i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able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e obtain the values with acceptance interval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-x</a:t>
            </a:r>
            <a:r>
              <a:rPr b="0" i="1" lang="el-GR" sz="2200" spc="-1" strike="noStrike" baseline="-25000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l-GR" sz="2200" spc="-1" strike="noStrike" baseline="-25000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norma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51280" y="108000"/>
                <a:ext cx="1081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476360" y="3645000"/>
                <a:ext cx="4464000" cy="26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b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7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7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b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</m:t>
                            </m:r>
                            <m:r>
                              <m:t xml:space="preserve">&lt;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b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&lt;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476360" y="5877000"/>
            <a:ext cx="352728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258920" y="1628640"/>
          <a:ext cx="7056360" cy="851040"/>
        </p:xfrm>
        <a:graphic>
          <a:graphicData uri="http://schemas.openxmlformats.org/drawingml/2006/table">
            <a:tbl>
              <a:tblPr/>
              <a:tblGrid>
                <a:gridCol w="673200"/>
                <a:gridCol w="695160"/>
                <a:gridCol w="865080"/>
                <a:gridCol w="792360"/>
                <a:gridCol w="718920"/>
                <a:gridCol w="720720"/>
                <a:gridCol w="792360"/>
                <a:gridCol w="863640"/>
                <a:gridCol w="9349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-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9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9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l-GR" sz="2200" spc="-1" strike="noStrike" baseline="-25000">
                          <a:solidFill>
                            <a:srgbClr val="00cc99"/>
                          </a:solidFill>
                          <a:latin typeface="Times New Roman"/>
                        </a:rPr>
                        <a:t>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9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4C47-EBE6-41DC-B2A7-ABDDAE60EB59}" type="slidenum">
              <a:t>11</a:t>
            </a:fld>
          </a:p>
        </p:txBody>
      </p:sp>
    </p:spTree>
  </p:cSld>
  <p:transition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782640"/>
            <a:ext cx="74376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li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in the abov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accep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erval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e accept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interval [1.237, 1.463] is also known as confidence interval at the </a:t>
            </a:r>
            <a:r>
              <a:rPr b="0" i="1" lang="el-GR" sz="2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i="1" lang="el-GR" sz="2200" spc="-1" strike="noStrike">
                <a:solidFill>
                  <a:srgbClr val="ff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95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leve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:  There is n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vid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the 5% level that the mean value is not equal to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268360" y="1197000"/>
                <a:ext cx="1079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635280" y="1979640"/>
                <a:ext cx="1224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940360" y="391176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998-C5E2-400C-B645-2C171633889F}" type="slidenum">
              <a:t>12</a:t>
            </a:fld>
          </a:p>
        </p:txBody>
      </p:sp>
    </p:spTree>
  </p:cSld>
  <p:transition>
    <p:random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563400"/>
            <a:ext cx="7437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nknown Variance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stimate the variance.  The estim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unbias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the test statist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547640" y="1844640"/>
                <a:ext cx="25927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476360" y="3284640"/>
                <a:ext cx="1368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547640" y="4437000"/>
                <a:ext cx="15130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BAA-A8A5-4D58-875D-E08B8CEF75FC}" type="slidenum">
              <a:t>13</a:t>
            </a:fld>
          </a:p>
        </p:txBody>
      </p:sp>
    </p:spTree>
  </p:cSld>
  <p:transition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43760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no longer Gaussian.  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Gaussian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follows 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-distribution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, with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-1 degrees of freedo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An 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96880" y="3398760"/>
                <a:ext cx="6912000" cy="19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is Gaussian,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obtained from measurements, </m:t>
                        </m:r>
                      </m:e>
                      <m:e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d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Test the hypothesis</m:t>
                        </m:r>
                      </m:e>
                    </m:eqAr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t the significance level </m:t>
                    </m:r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3612-B1BD-4016-A854-86250909F79F}" type="slidenum">
              <a:t>14</a:t>
            </a:fld>
          </a:p>
        </p:txBody>
      </p:sp>
    </p:spTree>
  </p:cSld>
  <p:transition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71499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ble of acceptance intervals for t-distrib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824120" y="4869000"/>
                <a:ext cx="340812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b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num>
                              <m:den>
                                <m:f>
                                  <m:fPr>
                                    <m:type m:val="lin"/>
                                  </m:fPr>
                                  <m:num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acc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</m:d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7</m:t>
                        </m:r>
                        <m:r>
                          <m:t xml:space="preserve">&lt;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,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is accept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0" name=""/>
          <p:cNvGraphicFramePr/>
          <p:nvPr/>
        </p:nvGraphicFramePr>
        <p:xfrm>
          <a:off x="755640" y="1254240"/>
          <a:ext cx="7561440" cy="3470040"/>
        </p:xfrm>
        <a:graphic>
          <a:graphicData uri="http://schemas.openxmlformats.org/drawingml/2006/table">
            <a:tbl>
              <a:tblPr/>
              <a:tblGrid>
                <a:gridCol w="1262160"/>
                <a:gridCol w="1006560"/>
                <a:gridCol w="1514160"/>
                <a:gridCol w="1257480"/>
                <a:gridCol w="1262160"/>
                <a:gridCol w="125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grees of Free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CFF9-69C5-4BA6-B016-75A4B910F0D3}" type="slidenum">
              <a:t>15</a:t>
            </a:fld>
          </a:p>
        </p:txBody>
      </p:sp>
    </p:spTree>
  </p:cSld>
  <p:transition>
    <p:random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77680" y="-171720"/>
            <a:ext cx="71499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pplication in Feature Se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 here is to test against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zer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iffer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-μ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the respective means in </a:t>
            </a:r>
            <a:br>
              <a:rPr sz="2200"/>
            </a:b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, ω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a single fe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i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…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 of a feature in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i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…,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f the s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eature in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in both class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nknown or no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test beco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668840" y="3789360"/>
                <a:ext cx="17287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92360" y="5219640"/>
                <a:ext cx="30240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μ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μ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A78-10DE-43A4-8AFE-AEF555375974}" type="slidenum">
              <a:t>16</a:t>
            </a:fld>
          </a:p>
        </p:txBody>
      </p:sp>
    </p:spTree>
  </p:cSld>
  <p:transition>
    <p:random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-27360"/>
            <a:ext cx="7918560" cy="53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=x-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vious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-μ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the aver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Known Varianc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Def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one follows the procedure as bef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547640" y="2840040"/>
                <a:ext cx="31687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619280" y="4437000"/>
                <a:ext cx="23050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E9E-4373-41B8-8A2A-BABE78F5FD8B}" type="slidenum">
              <a:t>17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6312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lvl="1" marL="542160" indent="-2084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known Variance Cas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the test statist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4120" indent="-16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-distribution with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grees of freedom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4120" indent="-166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apply appropriate tables as bef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4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-2084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The values of a feature in two classes a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5, 3.7, 3.9, 4.1, 3.4, 3.5, 4.1, 3.8, 3.6, 3.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2, 3.6, 3.1, 3.4, 3.0, 3.4, 2.8, 3.1, 3.3, 3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st if the mean values in the two classes differ significantly, at the significance level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636560" y="811080"/>
                <a:ext cx="4932360" cy="22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FE2A-CE72-4A34-AF32-871B2A44B903}" type="slidenum">
              <a:t>18</a:t>
            </a:fld>
          </a:p>
        </p:txBody>
      </p:sp>
    </p:spTree>
  </p:cSld>
  <p:transition>
    <p:random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918560" cy="54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ha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he table of the t-distribution with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18 degrees of freedom and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05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e obtain   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10,2.10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si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2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utsi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ccepted an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feature is selec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849320" y="493560"/>
                <a:ext cx="29955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01</m:t>
                        </m:r>
                      </m:e>
                    </m:eqAr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sSubSup>
                      <m:e/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585800" y="2133720"/>
                <a:ext cx="213372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476360" y="4365720"/>
            <a:ext cx="1224000" cy="360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4F9-EA02-45D6-9619-747382163FED}" type="slidenum">
              <a:t>19</a:t>
            </a:fld>
          </a:p>
        </p:txBody>
      </p:sp>
    </p:spTree>
  </p:cSld>
  <p:transition>
    <p:random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640" y="367920"/>
            <a:ext cx="835344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iven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arge enoug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lear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makes class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ffer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makes patterns in the same clas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mil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mall enough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learn what makes patterns of the same clas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ffer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practice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has been reported to be a sensible choice for a number of ca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been decided, choose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st informative fea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st: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Large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between class distance, 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Small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within class vari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 algn="just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276720" y="3141720"/>
                <a:ext cx="863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&lt;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Ν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B89D-B81A-44C7-8372-A905248C6A85}" type="slidenum">
              <a:t>2</a:t>
            </a:fld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ass Separability Meas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mphasis so far was on individually considered features. However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ch an approach cannot take into account existing correlations among the features. That is,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wo features may be rich in information, but if they are high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orrelated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w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eed not consider both of the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To this end, in order to search for possible correlations, we consider featur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join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elements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ve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o this en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card poor in information features, by means of a statistical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e the maximum number,   , of features to be used. This is dictated by the specific problem (e.g., the number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available training patterns and the type of the classifier to be adopted)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003640" y="4221000"/>
                <a:ext cx="2304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2D03-BE0D-4FAD-814D-DF8B8ECE7C8A}" type="slidenum">
              <a:t>20</a:t>
            </a:fld>
          </a:p>
        </p:txBody>
      </p:sp>
    </p:spTree>
  </p:cSld>
  <p:transition>
    <p:random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e remaining features to search for the “best”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mbin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o this en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different feature combinations to form the feature vector. Train the classifier, and choose the combination resulting in the best classifier perform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aj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sadvant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is approach is the high complexity. Also, local minima,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give misleading resu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opt a class separability measure and choose the best feature combination against this c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FDE-9E63-44B4-B021-7356361B4C46}" type="slidenum">
              <a:t>21</a:t>
            </a:fld>
          </a:p>
        </p:txBody>
      </p:sp>
    </p:spTree>
  </p:cSld>
  <p:transition>
    <p:random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601560" indent="-23148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ass separability measure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et     be the current feature combination ve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-18504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verg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o see the rationale behind this cost, consider the two – class case. Obviously, if on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ver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 algn="just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ue of                 is close to zero, then    should be 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 algn="just"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or feature combination. Defin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-1850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-1850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-1850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known a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iverg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an be used as a class separability meas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91000" y="158760"/>
                <a:ext cx="289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556320" y="1716120"/>
                <a:ext cx="289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595600" y="1616040"/>
                <a:ext cx="13748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103480" y="2781360"/>
                <a:ext cx="39290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t xml:space="preserve">d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089080" y="3979800"/>
                <a:ext cx="39560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t xml:space="preserve">d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52720" y="5059440"/>
                <a:ext cx="19000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5FEE-E3B6-4175-80A1-F2A1B5E7F8AB}" type="slidenum">
              <a:t>22</a:t>
            </a:fld>
          </a:p>
        </p:txBody>
      </p:sp>
    </p:spTree>
  </p:cSld>
  <p:transition>
    <p:random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3" marL="153612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multi-class case, defin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every pair of classes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verage diverg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defined 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proper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 algn="just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indicative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o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eature combin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535200" y="1011240"/>
                <a:ext cx="331344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951360" y="2565360"/>
                <a:ext cx="194292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5C3C-715C-4A31-AD3A-72890BC33CA8}" type="slidenum">
              <a:t>23</a:t>
            </a:fld>
          </a:p>
        </p:txBody>
      </p:sp>
    </p:spTree>
  </p:cSld>
  <p:transition>
    <p:random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catter Matrices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se are used as a measure of the way data are scattered in the respective feature sp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ithin-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catter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umber of training samples in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ce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} is a measure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verage vari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featur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808440" y="1268280"/>
                <a:ext cx="17287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059280" y="2620800"/>
                <a:ext cx="3230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532320" y="3594240"/>
                <a:ext cx="21603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6995-7B2D-4ED8-BAAF-DF7D9C340423}" type="slidenum">
              <a:t>24</a:t>
            </a:fld>
          </a:p>
        </p:txBody>
      </p:sp>
    </p:spTree>
  </p:cSld>
  <p:transition>
    <p:random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2" marL="982800" indent="-19656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Between-cl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catter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ce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} is a measure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verage dis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mean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ach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the respectiv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lobal o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xture scat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turns out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703600" y="738360"/>
                <a:ext cx="393696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695760" y="1820880"/>
                <a:ext cx="18414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492360" y="4653000"/>
                <a:ext cx="35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Τ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81C9-6E24-4014-81AB-76530F78E943}" type="slidenum">
              <a:t>25</a:t>
            </a:fld>
          </a:p>
        </p:txBody>
      </p:sp>
    </p:spTree>
  </p:cSld>
  <p:transition>
    <p:random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easures based on Scatter Matri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criteria are also possible, by using various combination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riteria  take high values for the cases whe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are clustered together within each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ans of the various classes are f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619280" y="620640"/>
                <a:ext cx="21160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rac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rac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609560" y="1751040"/>
                <a:ext cx="26164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620720" y="3141720"/>
                <a:ext cx="25876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ace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F917-7FA9-4BF2-89B8-86C48AB8ACDE}" type="slidenum">
              <a:t>26</a:t>
            </a:fld>
          </a:p>
        </p:txBody>
      </p:sp>
    </p:spTree>
  </p:cSld>
  <p:transition>
    <p:random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490160" cy="352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E21-677D-4F54-AE06-0023BBF7A201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sher’s discriminant rati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I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mension and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w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quiprobable classes the determinants becom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ischer’s rati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838680" y="1052640"/>
                <a:ext cx="1900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d>
                    <m:r>
                      <m:t xml:space="preserve">∝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863880" y="1622520"/>
                <a:ext cx="2090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∝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836880" y="2492280"/>
                <a:ext cx="21607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166-08E6-42A3-A1D6-D67B4677D130}" type="slidenum">
              <a:t>28</a:t>
            </a:fld>
          </a:p>
        </p:txBody>
      </p:sp>
    </p:spTree>
  </p:cSld>
  <p:transition>
    <p:random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ays to combine featu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ing to form all possible combinations of     features from an original set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lected features is a computationally hard task. Thus, a number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optim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arching techniques have been deri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equential forward se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available features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 The procedure consists of the following step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opt a class separability criterion (could also be the error rate of the respective classifier). Compute its value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eatures considere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join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iminate one feature and for each of the possible resulting combinations, that is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compute the class reparability criterion valu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Select the best combination, say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227640" y="649440"/>
                <a:ext cx="2304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960-92C3-4401-BB51-9A1D1B46A637}" type="slidenum">
              <a:t>29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0"/>
            <a:ext cx="6007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8CD-DDF0-4CF7-833A-BAB7C9029460}" type="slidenum">
              <a:t>3</a:t>
            </a:fld>
          </a:p>
        </p:txBody>
      </p:sp>
    </p:spTree>
  </p:cSld>
  <p:transition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he above selected feature vector eliminate one feature and for each of the resulting combinations,           ,            ,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ute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select the best combin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selection procedure shows how one can start from   features and end up with the “best”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s. Obviously, the choice i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uboptim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e number of required calculations 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contrast,  a full search  requi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508720" y="2381400"/>
                <a:ext cx="2300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84720" y="3032280"/>
                <a:ext cx="27716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ℓ</m:t>
                        </m:r>
                        <m:r>
                          <m:t xml:space="preserve">(</m:t>
                        </m:r>
                        <m:r>
                          <m:t xml:space="preserve">ℓ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273480" y="4294080"/>
                <a:ext cx="20890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894800" y="511200"/>
                <a:ext cx="10508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p>
                          <m:e/>
                          <m:sup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62120" y="812880"/>
                <a:ext cx="10526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p>
                          <m:e/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749680" y="793800"/>
                <a:ext cx="10015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987800" y="955800"/>
                <a:ext cx="2444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8748720" y="2060640"/>
                <a:ext cx="395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82E-FED3-4209-B451-4D878A57988E}" type="slidenum">
              <a:t>30</a:t>
            </a:fld>
          </a:p>
        </p:txBody>
      </p:sp>
    </p:spTree>
  </p:cSld>
  <p:transition>
    <p:random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equential backward se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Here the reverse procedure is follow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feature. Select the “best” one, sa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ll possib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bination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.e.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ute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choose the best, say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ll possib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binations of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.g.,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tc., compute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choose the best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procedure is repeated till the “best” vector wit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eatures has been formed. This is also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optim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chnique, requir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8459640" y="4076640"/>
                <a:ext cx="2304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635280" y="5013360"/>
                <a:ext cx="16876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m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ℓ</m:t>
                        </m:r>
                        <m:r>
                          <m:t xml:space="preserve">(</m:t>
                        </m:r>
                        <m:r>
                          <m:t xml:space="preserve">ℓ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C474-58F3-493A-B329-90A975C4C1A3}" type="slidenum">
              <a:t>31</a:t>
            </a:fld>
          </a:p>
        </p:txBody>
      </p:sp>
    </p:spTree>
  </p:cSld>
  <p:transition>
    <p:random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loating Search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two procedures suffer from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esting eff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Once a bad choice has been done, there is no way to reconsider it in the following ste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floating search methods one is given the opportunity i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considering a previously discarded feature or to discard a feature that was previously chos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is still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optim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however it leads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mprov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erformance, at the expense of complexi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8BB-A1D3-4A09-9AD5-4C7BBED6F0AA}" type="slidenum">
              <a:t>32</a:t>
            </a:fld>
          </a:p>
        </p:txBody>
      </p:sp>
    </p:spTree>
  </p:cSld>
  <p:transition>
    <p:random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just">
              <a:spcBef>
                <a:spcPts val="550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Tahoma"/>
              </a:rPr>
              <a:t>Remark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sides suboptimal techniques, some optimal searching techniques can also be used, provided that the optimizing cost has certain properties, e.g., monotoni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using a class separability measure (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lter techniqu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or using directly the classifier (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rapper techniqu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 ca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odif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cost function of the classifier appropriately, so that to perform feature selection and classifier design in a single step (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mbedd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choice of the separability measure a multiplicity of costs have been proposed, including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formation theore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s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6721-933B-4DA8-BABD-C8B692425BA2}" type="slidenum">
              <a:t>33</a:t>
            </a:fld>
          </a:p>
        </p:txBody>
      </p:sp>
    </p:spTree>
  </p:cSld>
  <p:transition>
    <p:random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nts from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eneralization Theor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ization theory aims at providing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ener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ounds that relate the error performance of a classifier with the number of training points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 one hand, and som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assifier dependent paramet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on the other. Up to now, the classifier dependent parameters that we considered were the number of it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ree paramet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mensiona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  , of the subspace, in which the classifier operates. (  also affects the number of free parameter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the classifier be a binary one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en-US" sz="2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e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all function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can be realized by the adopted classifier (e.g., changing the synapses of a given neural network different functions are implemented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148360" y="2317680"/>
                <a:ext cx="230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067280" y="2637000"/>
                <a:ext cx="2300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635280" y="4508640"/>
                <a:ext cx="20462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ℓ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65D-A66A-4C72-B8A8-DA2AE007B5B8}" type="slidenum">
              <a:t>34</a:t>
            </a:fld>
          </a:p>
        </p:txBody>
      </p:sp>
    </p:spTree>
  </p:cSld>
  <p:transition>
    <p:random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hatter coefficien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,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clas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defined as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maximum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number of dichotomie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oints that can be formed by the functions in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imum possi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 of dichotomies is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However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NOT ALL dichotomi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realized by the set of functions in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Vapnik – Chernovenkis (VC) dimension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a class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argest integ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whic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,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,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C dimension 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infin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VC is the integer for which the class of function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achiev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sible dichotomies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easily seen that the VC dimension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ngle perceptr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operating in the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ℓ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-dimensio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pace, is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ℓ+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8244000" y="3213000"/>
                <a:ext cx="4935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N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5FB6-C782-4E39-838F-690694B6BB95}" type="slidenum">
              <a:t>35</a:t>
            </a:fld>
          </a:p>
        </p:txBody>
      </p:sp>
    </p:spTree>
  </p:cSld>
  <p:transition>
    <p:random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8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3" marL="1440000" indent="-20556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can be shown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VC dimension of the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the shatter coefficient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ither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the maximum possible number of dichotomies) 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t is upper bounded, as suggested by the above inequa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words, for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inite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large enoug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shatter coefficient is bounded by a polynomial grow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 that in order to have a polynomial growth of the shatter coefficient,</a:t>
            </a: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ust be larger than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mens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 algn="just">
              <a:spcBef>
                <a:spcPts val="550"/>
              </a:spcBef>
              <a:buClr>
                <a:srgbClr val="ff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dimension can be considered as an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intrinsic capacity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of the classifier, and, as we will soon see, only if the number of training vectors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exceeds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this number sufficiently, we can expect good generalization perform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708360" y="549360"/>
                <a:ext cx="2521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A728-4C5A-4D3A-A1F2-A50253CBAB97}" type="slidenum">
              <a:t>36</a:t>
            </a:fld>
          </a:p>
        </p:txBody>
      </p:sp>
    </p:spTree>
  </p:cSld>
  <p:transition>
    <p:random/>
  </p:transition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4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9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   dimensio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y or may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related to the dimension    and the number of free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ceptr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layer perceptron with hard limiting activation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     is the total number of hidden layer nodes,    the total number of nodes, and      the total number of weigh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be  a training data sample  and assume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240000" y="2111400"/>
                <a:ext cx="37432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h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ℓ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797200" y="3257640"/>
                <a:ext cx="336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h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59640" y="3284640"/>
                <a:ext cx="330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867280" y="3645000"/>
                <a:ext cx="355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136600" y="203040"/>
                <a:ext cx="3445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475080" y="922320"/>
                <a:ext cx="1216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ℓ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98640" y="565200"/>
                <a:ext cx="2383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398680" y="4697280"/>
                <a:ext cx="3841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635280" y="5445000"/>
                <a:ext cx="23274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40D-761E-4B5F-86E3-4DA1D1923135}" type="slidenum">
              <a:t>37</a:t>
            </a:fld>
          </a:p>
        </p:txBody>
      </p:sp>
    </p:spTree>
  </p:cSld>
  <p:transition>
    <p:random/>
  </p:transition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8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5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also a hyperplane such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.e.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constraints we met in the SVM formulation). The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by controlling the constan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     of the linear classifier can be less than   .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n other words,    can be controlled independently of the dimension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, by minimizing       in the SVM, one attempts to keep      as small as possible.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oreover, one can achieve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finite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    dimension,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even for infinite dimensional spaces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is is an explanation of the potential for good generalization performance of the SVM’s, as this is readily deduced from the following boun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427640" y="620640"/>
                <a:ext cx="9745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067280" y="1341360"/>
                <a:ext cx="168408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211640" y="2492280"/>
                <a:ext cx="1390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≤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ℓ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093080" y="2955960"/>
                <a:ext cx="320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900760" y="3300480"/>
                <a:ext cx="241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237520" y="3316320"/>
                <a:ext cx="311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00720" y="3933720"/>
                <a:ext cx="5284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627280" y="4397400"/>
                <a:ext cx="311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780000" y="4724280"/>
                <a:ext cx="311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51B-C393-412A-B31D-B82C7D84BC39}" type="slidenum">
              <a:t>38</a:t>
            </a:fld>
          </a:p>
        </p:txBody>
      </p:sp>
    </p:spTree>
  </p:cSld>
  <p:transition>
    <p:random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4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3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1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eneralization Perform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    be the error rate of classifie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ased on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raining poi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lso 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empirical 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  be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rue error proba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lso 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eneralization 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wh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confronted with dat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ut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finite training se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be the minimum error probability that can be attained over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ALL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nctions in the set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908000" y="620640"/>
                <a:ext cx="863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925640" y="1716120"/>
                <a:ext cx="8571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052720" y="3228840"/>
                <a:ext cx="4633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A04B-F6F3-447A-AB08-FF3D9630ABFE}" type="slidenum">
              <a:t>39</a:t>
            </a:fld>
          </a:p>
        </p:txBody>
      </p:sp>
    </p:spTree>
  </p:cSld>
  <p:transition>
    <p:random/>
  </p:transition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4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280360" cy="53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asic philosop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card individual features with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o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formation cont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maining information rich features are examine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join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vect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eature Selection based on statistical Hypothesis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:  For each individual feature, find whether the values, which the feature takes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different classes,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iffer significantl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answ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 differ significant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 do not differ significant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f they do not differ significantly reject feature from subsequent sta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ypothesis Testing Bas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692360" y="4005360"/>
                <a:ext cx="13683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782F-E7ED-412B-8809-911226A7155C}" type="slidenum">
              <a:t>4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be the function resulting by minimizing the empirical (over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inite train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t) error func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can be shown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king into account that for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in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dimension,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rowth of              is only polynomi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 above bounds tell us that for 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arg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close to</a:t>
            </a: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ith high probabil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close to      , with high probabil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987560" y="1874880"/>
                <a:ext cx="66657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f</m:t>
                            </m:r>
                            <m:r>
                              <m:t xml:space="preserve">∈</m:t>
                            </m:r>
                            <m:r>
                              <m:t xml:space="preserve">F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≤</m:t>
                    </m:r>
                    <m:r>
                      <m:t xml:space="preserve">8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N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481120" y="2681280"/>
                <a:ext cx="5581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≤</m:t>
                    </m:r>
                    <m:r>
                      <m:t xml:space="preserve">8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N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279520" y="4813200"/>
                <a:ext cx="8445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338720" y="4797360"/>
                <a:ext cx="7999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448160" y="5157720"/>
                <a:ext cx="4334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340000" y="5157720"/>
                <a:ext cx="8874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516720" y="3757680"/>
                <a:ext cx="311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521160" y="4116240"/>
                <a:ext cx="11332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924200" y="204840"/>
                <a:ext cx="3254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E30-AB3F-4F5C-A37D-B10E0A75EC0C}" type="slidenum">
              <a:t>40</a:t>
            </a:fld>
          </a:p>
        </p:txBody>
      </p:sp>
    </p:spTree>
  </p:cSld>
  <p:transition>
    <p:random/>
  </p:transition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0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3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1" dur="5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2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3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47560" y="4052880"/>
            <a:ext cx="75088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,               constants.  In word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                 the performance of the classifier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uaranteed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gh probability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be close to the optimal classifier in the clas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            is known a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ample complex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ome more useful bou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inimum number of points,          , that guarantees, with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gh probability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good generalization error performance is given b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012000" y="476280"/>
                <a:ext cx="7920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56000" y="1557360"/>
                <a:ext cx="47005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924360" y="2708280"/>
                <a:ext cx="14637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203640" y="3357720"/>
                <a:ext cx="2854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≤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132000" y="4076640"/>
                <a:ext cx="935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076720" y="4846680"/>
                <a:ext cx="960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308720" y="4037040"/>
                <a:ext cx="1360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867-D851-4843-AA54-329CC1947785}" type="slidenum">
              <a:t>41</a:t>
            </a:fld>
          </a:p>
        </p:txBody>
      </p:sp>
    </p:spTree>
  </p:cSld>
  <p:transition>
    <p:random/>
  </p:transition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2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5" dur="500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3" marL="1504080" indent="-214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a probability of at least          the following bound hold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Rema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bserve that all the bounds given so far a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mension fr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tribution fr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45080" y="236520"/>
                <a:ext cx="650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597120" y="932040"/>
                <a:ext cx="31021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≤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e</m:t>
                            </m:r>
                          </m:sub>
                        </m:sSub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768760" y="2179800"/>
                <a:ext cx="4614840" cy="15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N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ρ</m:t>
                                        </m:r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62A0-8BE7-42E7-9A75-FAC7E00D9C42}" type="slidenum">
              <a:t>42</a:t>
            </a:fld>
          </a:p>
        </p:txBody>
      </p:sp>
    </p:spTree>
  </p:cSld>
  <p:transition>
    <p:random/>
  </p:transition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5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3" dur="50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6" dur="50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9" dur="50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3640" y="169560"/>
            <a:ext cx="85690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odel Complexity vs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sue has already been touched in the form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verfit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neural networks modeling and in the form of bias-variance dilemma. A different perspective of the issue is dealt bel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ructural Risk Minimization (SR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be he Bayesian error probability for a given tas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 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 the true (generalization) error of an optimally design classifier   , from class     , given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n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raining se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e minimum error attainable i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class      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m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n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r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rm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xp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b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m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lang="en-US" sz="2200" spc="-1" strike="noStrike">
                <a:solidFill>
                  <a:srgbClr val="33cc33"/>
                </a:solidFill>
                <a:latin typeface="Tahoma"/>
              </a:rPr>
              <a:t>seco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rm is </a:t>
            </a:r>
            <a:r>
              <a:rPr b="0" lang="en-US" sz="2200" spc="-1" strike="noStrike">
                <a:solidFill>
                  <a:srgbClr val="33cc33"/>
                </a:solidFill>
                <a:latin typeface="Tahoma"/>
              </a:rPr>
              <a:t>exp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be </a:t>
            </a:r>
            <a:r>
              <a:rPr b="0" lang="en-US" sz="2200" spc="-1" strike="noStrike">
                <a:solidFill>
                  <a:srgbClr val="33cc33"/>
                </a:solidFill>
                <a:latin typeface="Tahoma"/>
              </a:rPr>
              <a:t>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e opposite is true when the class    is lar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979640" y="2652840"/>
                <a:ext cx="3492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035080" y="3044880"/>
                <a:ext cx="8384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675320" y="3349800"/>
                <a:ext cx="4046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516720" y="343692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19280" y="4076640"/>
                <a:ext cx="4191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524480"/>
                <a:ext cx="3016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219800" y="5645160"/>
                <a:ext cx="2858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532320" y="498168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308640" y="4572000"/>
                <a:ext cx="289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0A1E-8CE7-44FB-A201-B0FCD36D3E6B}" type="slidenum">
              <a:t>43</a:t>
            </a:fld>
          </a:p>
        </p:txBody>
      </p:sp>
    </p:spTree>
  </p:cSld>
  <p:transition>
    <p:random/>
  </p:transition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1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9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3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6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0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             be a sequence of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nes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increasing, yet finite     dimens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, le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lass of function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1, 2, …, compute the optimu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,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ith respect to the empirical error. Then from all these classifiers choose the one than minimizes, over al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 upper bound i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81080" y="399960"/>
                <a:ext cx="15591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567240" y="793800"/>
                <a:ext cx="20001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⊂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6360" y="1268280"/>
                <a:ext cx="281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89200" y="1660680"/>
                <a:ext cx="21812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349800" y="2376360"/>
                <a:ext cx="27349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e>
                      <m:lim>
                        <m:r>
                          <m:t xml:space="preserve">f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p>
                      </m:lim>
                    </m:limLow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916360" y="4545000"/>
                <a:ext cx="3962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Ν</m:t>
                        </m:r>
                        <m:r>
                          <m:t xml:space="preserve">,</m:t>
                        </m:r>
                        <m:r>
                          <m:t xml:space="preserve">ι</m:t>
                        </m:r>
                      </m:sub>
                      <m:sup/>
                    </m:sSubSup>
                    <m:r>
                      <m:t xml:space="preserve">)</m:t>
                    </m:r>
                    <m:r>
                      <m:t xml:space="preserve">≤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e</m:t>
                            </m:r>
                          </m:sub>
                        </m:sSub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Ν</m:t>
                        </m:r>
                        <m:r>
                          <m:t xml:space="preserve">,</m:t>
                        </m:r>
                        <m:r>
                          <m:t xml:space="preserve">ι</m:t>
                        </m:r>
                      </m:sub>
                      <m:sup/>
                    </m:sSub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556000" y="5589720"/>
                <a:ext cx="458784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i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Ν</m:t>
                            </m:r>
                            <m:r>
                              <m:t xml:space="preserve">,</m:t>
                            </m:r>
                            <m:r>
                              <m:t xml:space="preserve">ι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78B2-BA39-41F2-BC88-37FA1A3C3EE0}" type="slidenum">
              <a:t>44</a:t>
            </a:fld>
          </a:p>
        </p:txBody>
      </p:sp>
    </p:spTree>
  </p:cSld>
  <p:transition>
    <p:random/>
  </p:transition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3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1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9" dur="50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2" marL="994320" indent="-19872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, a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 algn="ctr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ter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minimized bound is  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omplexity penalty te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If the classifier model i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mp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penalty term i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ut the empirical error term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b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ppos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rue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mple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del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RM criterion aims at achieving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best trade-of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erformance and complex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708280" y="506520"/>
                <a:ext cx="82404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780000" y="907920"/>
                <a:ext cx="1881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140360" y="1773360"/>
                <a:ext cx="11649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429080" y="4076640"/>
                <a:ext cx="1079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e</m:t>
                            </m:r>
                          </m:sub>
                        </m:sSub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Ν</m:t>
                        </m:r>
                        <m:r>
                          <m:t xml:space="preserve">,</m:t>
                        </m:r>
                        <m:r>
                          <m:t xml:space="preserve">ι</m:t>
                        </m:r>
                      </m:sub>
                      <m:sup/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FCCA-2217-4E4A-925C-774845BAF13E}" type="slidenum">
              <a:t>45</a:t>
            </a:fld>
          </a:p>
        </p:txBody>
      </p:sp>
    </p:spTree>
  </p:cSld>
  <p:transition>
    <p:random/>
  </p:transition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9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2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8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1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6" dur="500"/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23640" y="169560"/>
            <a:ext cx="85690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yesian Information Criterion (B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   the size of the training set,     th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e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unknown parameters of the classifier,  th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imensiona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    , and    runs over all possibl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ode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IC criterion chooses the model by minimiz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e log-likelihood computed at the ML estimate      , and it is the performance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e model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omplexity te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kaike Information Criter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635120" y="636480"/>
                <a:ext cx="3222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940360" y="620640"/>
                <a:ext cx="390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724880" y="923760"/>
                <a:ext cx="4125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708360" y="1268280"/>
                <a:ext cx="390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229360" y="1309680"/>
                <a:ext cx="3585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059280" y="2708280"/>
                <a:ext cx="37447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</m:ba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124000" y="3348000"/>
                <a:ext cx="7016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</m:ba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195720" y="3716280"/>
                <a:ext cx="365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124080" y="5430960"/>
                <a:ext cx="3237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I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</m:ba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050920" y="4076640"/>
                <a:ext cx="1079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AA99-D606-4700-B720-C5FBE10F84AB}" type="slidenum">
              <a:t>46</a:t>
            </a:fld>
          </a:p>
        </p:txBody>
      </p:sp>
    </p:spTree>
  </p:cSld>
  <p:transition>
    <p:random/>
  </p:transition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8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8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8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1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5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31520" y="115560"/>
            <a:ext cx="7296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79240" indent="-222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ep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asuremen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know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a function of the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est statistic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tha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easily parameterized in terms of </a:t>
            </a:r>
            <a:r>
              <a:rPr b="0" i="1" lang="el-GR" sz="2200" spc="-1" strike="noStrike">
                <a:solidFill>
                  <a:srgbClr val="ff0000"/>
                </a:solidFill>
                <a:latin typeface="Times New Roman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an interval, where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gh probability to lie under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H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, i.e.,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he-IL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׀</a:t>
            </a:r>
            <a:r>
              <a:rPr b="0" i="1" lang="el-GR" sz="2200" spc="-1" strike="noStrike">
                <a:solidFill>
                  <a:srgbClr val="3333cc"/>
                </a:solidFill>
                <a:latin typeface="Times New Roman"/>
              </a:rPr>
              <a:t>θ</a:t>
            </a:r>
            <a:r>
              <a:rPr b="0" i="1" lang="el-GR" sz="2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D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 the complement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ance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val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itical Interv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esulting from </a:t>
            </a:r>
            <a:br>
              <a:rPr sz="2200"/>
            </a:b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ies in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e accept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otherwise we rejec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221000" y="547560"/>
                <a:ext cx="156852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462040" y="1989000"/>
                <a:ext cx="2489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046320" y="2589120"/>
                <a:ext cx="1106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;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3059280" y="2660760"/>
            <a:ext cx="115236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4581360"/>
            <a:ext cx="216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54072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5229360"/>
            <a:ext cx="19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5084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414680" y="5784840"/>
                <a:ext cx="15368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2F5-70A7-44EF-9F6A-D300CB27A8A7}" type="slidenum">
              <a:t>5</a:t>
            </a:fld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31880" y="404640"/>
            <a:ext cx="7918560" cy="626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ability of an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preselected and it is known a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ignificance leve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146400" y="981000"/>
                <a:ext cx="25639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∈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|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076480" y="1905120"/>
            <a:ext cx="5591160" cy="2531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27760" y="3500280"/>
            <a:ext cx="7682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1-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818-56DB-4682-9B66-0628BFB41666}" type="slidenum">
              <a:t>6</a:t>
            </a:fld>
          </a:p>
        </p:txBody>
      </p:sp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31880" y="115560"/>
            <a:ext cx="791856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:  The known variance c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a random variable and the experimental samples,                 , are assumed mutually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depend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Also l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the sample mean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lso a random variable with mean value</a:t>
            </a:r>
            <a:br>
              <a:rPr sz="2200"/>
            </a:br>
            <a:br>
              <a:rPr sz="2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it is a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Unbiased Estima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651040" y="1141560"/>
                <a:ext cx="1490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92360" y="1989000"/>
                <a:ext cx="20876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835280" y="3429000"/>
                <a:ext cx="151272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763640" y="4653000"/>
                <a:ext cx="30243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870-417F-4C8A-904D-08612B9A42CB}" type="slidenum">
              <a:t>7</a:t>
            </a:fld>
          </a:p>
        </p:txBody>
      </p:sp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69480"/>
            <a:ext cx="71499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ri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e to in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it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symptotically Effici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ypothesis te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st Statistic: Define the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51160" y="38160"/>
                <a:ext cx="461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547640" y="722160"/>
                <a:ext cx="705672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]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547640" y="2781360"/>
                <a:ext cx="12240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547640" y="4653000"/>
                <a:ext cx="1513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≠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547640" y="6002280"/>
                <a:ext cx="13687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3780000" y="0"/>
            <a:ext cx="52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449-FF27-4E7E-B924-41BFCADF06F7}" type="slidenum">
              <a:t>8</a:t>
            </a:fld>
          </a:p>
        </p:txBody>
      </p:sp>
    </p:spTree>
  </p:cSld>
  <p:transition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071720"/>
            <a:ext cx="7535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entral limit theorem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under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us, under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23960" y="1535040"/>
                <a:ext cx="38484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484360" y="3017880"/>
                <a:ext cx="38894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q</m:t>
                    </m:r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421D-D0D5-4585-8602-FAFDE46C2EA2}" type="slidenum">
              <a:t>9</a:t>
            </a:fld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09-01T15:48:50Z</dcterms:modified>
  <cp:revision>901</cp:revision>
  <dc:subject/>
  <dc:title>PowerPoint Presentation</dc:title>
</cp:coreProperties>
</file>