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CBF-3694-4B50-8431-DF08F85E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99E-8FC9-4935-91E7-90F7D4C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EC8-B8F5-4166-9FEE-B8786CCD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C9A-9501-4632-BFAF-6854451C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D8C-E0CF-4ACF-8B2B-5372A78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84D-71FC-4AA0-9B35-198468F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977-8853-465B-813C-340BAFA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8DE-66C2-4B4C-960E-A9451432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5BB-6D15-42AB-B126-DEA9A562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86D-84B5-4766-AF18-0844F006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52E-A075-4B8B-9D2F-1C99EE73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52B-C402-4621-8142-7412E7B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F3C-CAB9-4BFD-856F-58F01A05AF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24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ing tend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cc99"/>
                </a:solidFill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lustering algorithm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mpo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clustering structure to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ha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not possess a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we apply any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t must first be verified tha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ssesses a clustering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tendenc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tendency is heavily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ally, it is based on testing the randomness (null) hypothesi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and the clustering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ndomness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randomly distributed, according to the uniform distribution in the sampling window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ompact convex support set for the underlying distribution of the vectors of the data s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gularity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regularly spaced (that is they are not too close to each other) in the sampling window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m cluster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AE0-01FD-468B-A847-324EB61CF363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ied Hubert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nn and Dunn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es-Bouldin (DB) and DB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clusters with point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coefficient (P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entropy coefficient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e-Beni (XB)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kuyama-Sugeno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hypervolu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2F2-219D-41CE-A5B1-B0CE264754E3}" type="slidenum">
              <a:t>10</a:t>
            </a:fld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shell-shaped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ell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average shell thick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4BD-CC80-48AB-9B85-F5DB9F74B3DB}" type="slidenum">
              <a:t>11</a:t>
            </a:fld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stimated via Monte Carlo sim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ests for spatial randomness, when the input space dimensionality greater than or equal to 2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uctural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st that utilizes the idea of the minimum spanning tree (M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arest neighbor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Hopkin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Cox-Lewi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hod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arse decompos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29A-3850-4ECA-A110-E896CA314C1A}" type="slidenum">
              <a:t>2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mportant no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ing algorithms should be applied 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only if the randomness and the regularity hypotheses are rejected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, methods different than clustering must be used to describe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st studies in clustering tendency focus on the detection of compact clusters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ic steps of the clustering tendency philosophy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of a test statist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itable for the detection of clustering tend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the pdf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der the nul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are necessary for measuring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w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probability of making a correct decision whe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s reje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and the clustering tendency hypothes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data set at ha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xamination whether it lies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corresponds to a predetermin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vel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831-EE65-4A7E-81D0-4EE8B11FC16C}" type="slidenum">
              <a:t>3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quel it is assumed that the clustering tendency procedure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d the existence of a clustering structur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a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appropri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s of the involved parameters, poor results may be obtained.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 the need f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rther evalu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clustering results is appar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 task that evaluat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result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ing structur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an algorithm may be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erarchy of clusterings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ngle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CC7-BF8B-4803-9E94-7DDE05E1DC26}" type="slidenum">
              <a:t>4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approached 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ree possible dire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a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dependently drawn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mposed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ies that involve the vectors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emselv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.g., proximity matrix)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by comparing it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ther clustering structure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application of the same clustering algorithm but with different parameter values, or other clustering algorithms,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Criteria of this kind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lative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FB4-0EB9-4BBE-8295-4AC6DEE58039}" type="slidenum">
              <a:t>5</a:t>
            </a:fld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external and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a statement of randomness concerning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eneration of a reference data population under the random hypothesis takes 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 statistic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ose values are indicative of the structure of a data set, is defined.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from our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ared against the values obtained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the elements of the reference (random) population are consid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ys for generating reference populations under the null hypothesis (ea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e used in different situation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position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graph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label hypothesi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9EE-BDB1-4CEA-861F-064171E01B10}" type="slidenum">
              <a:t>6</a:t>
            </a:fld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ex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e comparison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n independently drawn partitio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ccar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wlkes-Mallow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bert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ssessing the agreement betwee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proxim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hierarchy of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henetic correlat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PC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udall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individual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D9A-ED18-479B-B4E5-BA42B3A8A93A}" type="slidenum">
              <a:t>7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set of parameter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ement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mong the clusterings produced by a specific clustering algorithm, for different values of the parameters i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oose the one that best fits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 consider two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no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for a wide range of values of its parame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number of cluster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ersus the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widest range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e values of the parameters i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at lie in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ddl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of this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61C-C138-4062-B0CC-A6405A953131}" type="slidenum">
              <a:t>8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b)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 suitable performance inde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best clustering is identified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using different sets of values for the other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ach time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clustering that corresponds to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bes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senc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the number of clusters underl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a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uch a knee indic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ssess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807-5269-4AC0-9738-2052E332F299}" type="slidenum">
              <a:t>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44:24Z</dcterms:modified>
  <cp:revision>937</cp:revision>
  <dc:subject/>
  <dc:title>PowerPoint Presentation</dc:title>
</cp:coreProperties>
</file>