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BC0-0592-49A7-9BB1-9D47FD1B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EDA-57BB-44C6-BBD0-FF7E302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B1B-B3B2-4061-8FCA-8465DED1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AA1-35A0-493A-8FF8-895271D0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F3F-7588-45ED-9DFD-97F8158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492-F794-48BC-8DB7-04EC707F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C09-3635-40C3-893C-A80F6E3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E0E-90CC-4AE8-92D9-D590E7B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DB3-0F0B-488E-A91B-1D20259B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04C-12A6-4D39-BE4A-53D68CF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1D9-0AC7-45C6-8D5A-7395C47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279-30D1-42C9-AEB2-E5F477D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E04-03C5-487B-827A-69ABEFE2F8F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lustering or unsupervised learning no training data, with class labeling, are available.  The goal becomes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roup the data into a number of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ensibl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usters (groups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is unravels similarities and differences among the availabl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cial Sci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nd Web M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erform clustering of a data set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clustering criterion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first be adopted.  Different clustering criteria lead, in general, to different clus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937-1473-4B40-A628-14518C36FD0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93960" y="4379760"/>
            <a:ext cx="6999120" cy="2001960"/>
            <a:chOff x="1893960" y="4379760"/>
            <a:chExt cx="6999120" cy="200196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909800" y="4379760"/>
                  <a:ext cx="698328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ℜ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&lt;+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93960" y="5797440"/>
                  <a:ext cx="40608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893960" y="5110200"/>
                  <a:ext cx="3270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MEAS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4152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tween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-199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00360" y="2913120"/>
                <a:ext cx="3024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7AD-94D0-47FE-8F0F-2206B6A9CFB4}" type="slidenum">
              <a:t>10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918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 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08000" y="1085760"/>
            <a:ext cx="5472360" cy="1190880"/>
            <a:chOff x="1908000" y="1085760"/>
            <a:chExt cx="5472360" cy="119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908000" y="1085760"/>
                  <a:ext cx="4608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rPr>
                          <m:lit/>
                          <m:nor/>
                        </m:rPr>
                        <m:t xml:space="preserve">and</m:t>
                      </m:r>
                      <m:r>
                        <m:rPr>
                          <m:lit/>
                          <m:nor/>
                        </m:rPr>
                        <m:t xml:space="preserve">only</m:t>
                      </m:r>
                      <m:r>
                        <m:rPr>
                          <m:lit/>
                          <m:nor/>
                        </m:rPr>
                        <m:t xml:space="preserve">if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08000" y="1703520"/>
                  <a:ext cx="5472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86A-E183-4A4F-938B-BFD0DE85E925}" type="slidenum">
              <a:t>11</a:t>
            </a:fld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41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95320" y="2492280"/>
                <a:ext cx="6824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ℜ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+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33840" y="1052640"/>
                <a:ext cx="3028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795320" y="3860640"/>
                <a:ext cx="3943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57240" y="3141720"/>
                <a:ext cx="3146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750-E520-413E-9121-2F75D3D399D5}" type="slidenum">
              <a:t>12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8207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imilar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ween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xim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to satisfy the relations of dissimilarity measure between vectors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</a:rPr>
              <a:t> ‘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used in place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imilarly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89280" y="1052640"/>
                <a:ext cx="412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only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6560" y="1704960"/>
                <a:ext cx="6381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00360" y="4149720"/>
                <a:ext cx="2519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U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BBE-E519-456D-941F-80191E8432C6}" type="slidenum">
              <a:t>13</a:t>
            </a:fld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ahoma"/>
              </a:rPr>
              <a:t>PROXIMITY MEASURES BETWEEN VECTOR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7846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similarity measures (D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Weight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metric D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ing instances are obtaine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Manhatt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Euclid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2637000"/>
                <a:ext cx="3743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942-D094-4A46-9CB9-19A8634FDA08}" type="slidenum">
              <a:t>14</a:t>
            </a:fld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9898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 maximum and the minimum values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, among 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pendence on the current data 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612720"/>
                <a:ext cx="417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882880"/>
                <a:ext cx="31669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426-F521-4FFB-B3A2-FF0FAC43AFCD}" type="slidenum">
              <a:t>15</a:t>
            </a:fld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Inner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41600" y="1413000"/>
                <a:ext cx="38466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ne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47920" y="2817720"/>
                <a:ext cx="40384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40000" y="4048200"/>
                <a:ext cx="3240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0E6-D021-44BF-A056-6893584B4152}" type="slidenum">
              <a:t>16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a set of symbols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=[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veral proximity measures can be expressed as combinations of the elements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similarity meas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mming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ff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1700280"/>
                <a:ext cx="12952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4437000"/>
                <a:ext cx="26636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0000" y="5724360"/>
                <a:ext cx="2663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B66-8CF5-4843-BD22-BE1BCC44603C}" type="slidenum">
              <a:t>17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ex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in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51280" y="533520"/>
                <a:ext cx="2952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192420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14880" y="191772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3040200"/>
                <a:ext cx="8636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6000" y="3040200"/>
                <a:ext cx="144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16360" y="4178160"/>
                <a:ext cx="774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CE1-19D7-445D-BC77-71523F296849}" type="slidenum">
              <a:t>18</a:t>
            </a:fld>
          </a:p>
        </p:txBody>
      </p:sp>
    </p:spTree>
  </p:cSld>
  <p:transition>
    <p:random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coordinates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vector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rest 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scre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thods for measuring the proximity between two su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 proximity measure (PM) suitable for real-valued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 the real-valued features to discrete ones and employ a discrete P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general case of mixed-valued vec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minal, ordinal, interval-scaled, ratio-scaled features are treated separat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D12-0B68-4FA2-9B4D-CC35230493CB}" type="slidenum">
              <a:t>19</a:t>
            </a:fld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00" y="2008080"/>
            <a:ext cx="8623080" cy="3990600"/>
            <a:chOff x="324000" y="2008080"/>
            <a:chExt cx="8623080" cy="3990600"/>
          </a:xfrm>
        </p:grpSpPr>
        <p:sp>
          <p:nvSpPr>
            <p:cNvPr id="44" name=""/>
            <p:cNvSpPr/>
            <p:nvPr/>
          </p:nvSpPr>
          <p:spPr>
            <a:xfrm>
              <a:off x="32400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988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02880" y="2138400"/>
              <a:ext cx="143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ue shark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ca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1440" y="213372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sparrow, viper, seagull, gold fish, frog, red mul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37040" y="2092320"/>
              <a:ext cx="3093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How mammals bear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their proge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7988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1040" y="4626000"/>
              <a:ext cx="168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ld fish, red mullet, blue sh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13600" y="4508640"/>
              <a:ext cx="204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sparrow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, cat, seagull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frog, vi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29200" y="4564080"/>
              <a:ext cx="3017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Existence of lung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880-406E-416A-A642-ADFDC04169AC}" type="slidenum">
              <a:t>2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milarity function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above defin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at least on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ndefined or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equal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Otherwi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binar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nominal or ordinal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interval or ratio scaled-valu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nterval whe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the vectors of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59280" y="4365720"/>
                <a:ext cx="381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627280" y="549360"/>
                <a:ext cx="33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629-7C6A-4FB3-BD68-B89179FE5A7D}" type="slidenum">
              <a:t>20</a:t>
            </a:fld>
          </a:p>
        </p:txBody>
      </p:sp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8569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re the valu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oordinate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e outcome of a measuring devi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r the coordin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the more likely th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oes not possess)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haracteris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certainty about the possession or not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feature fr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ossible similarity measure that can quantify the above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4113360"/>
                <a:ext cx="504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92360" y="4941720"/>
                <a:ext cx="29509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26920" y="40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13D-E7EF-41E8-8088-A6EEB31E90D9}" type="slidenum">
              <a:t>21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s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some vectors of the data se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some features values are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ys to face the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vectors with missing values (not recommended for small data s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mean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avail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over that data set and substitute the mis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. Th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PM  between two scala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average proxim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all featur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g all components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bo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25600" y="3602160"/>
                <a:ext cx="3254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76720" y="5513400"/>
                <a:ext cx="2016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02C-1FBB-45C2-8363-DAA42250B160}" type="slidenum">
              <a:t>22</a:t>
            </a:fld>
          </a:p>
        </p:txBody>
      </p:sp>
    </p:spTree>
  </p:cSld>
  <p:transition>
    <p:random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A VECTOR AND A S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89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 point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050920" y="3141720"/>
                <a:ext cx="3241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2720" y="4357800"/>
                <a:ext cx="30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22560" y="5589720"/>
                <a:ext cx="2881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℘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292720" y="573408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34A-FCC8-4529-B7D4-4342A612C7AF}" type="slidenum">
              <a:t>23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 representative(s)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s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: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representative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ve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di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ther representatives (e.g., hyperplanes, hyperspheres) ar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in certain applications (e.g., object identification us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techniqu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8000" y="2100240"/>
                <a:ext cx="1727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35120" y="3533760"/>
                <a:ext cx="45925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28640" y="4724280"/>
                <a:ext cx="7947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00720" y="2205000"/>
            <a:ext cx="46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843280"/>
            <a:ext cx="223200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: a dissimilarity mea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88000" y="3213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32000" y="2852640"/>
            <a:ext cx="360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280" y="3645000"/>
            <a:ext cx="381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11640" y="3645000"/>
            <a:ext cx="1081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DF1-5142-4935-AE64-8B22D692C40A}" type="slidenum">
              <a:t>24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SE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of each set contribute to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dis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measure, even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08000" y="3057480"/>
                <a:ext cx="3888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8000" y="4624560"/>
                <a:ext cx="374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79640" y="5805360"/>
                <a:ext cx="3887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℘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80A-9EC4-4F93-840B-A752F6C251A1}" type="slidenum">
              <a:t>25</a:t>
            </a:fld>
          </a:p>
        </p:txBody>
      </p:sp>
    </p:spTree>
  </p:cSld>
  <p:transition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represented by its representativ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 proximity function (it is a measure provided tha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measure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ximity functions between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derived from the above functions if w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50920" y="2495520"/>
                <a:ext cx="2737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51080" y="3273480"/>
                <a:ext cx="3384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D50-978E-4127-AB3C-956A48116F6F}" type="slidenum">
              <a:t>26</a:t>
            </a:fld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72072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oices of proximity functions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measures between vectors in the same proximity function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nly way to achieve a proper clustering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y trial and err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aking into account the opinion of an expert in the field of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D8C-D87A-4A73-829C-0158573D5026}" type="slidenum">
              <a:t>27</a:t>
            </a:fld>
          </a:p>
        </p:txBody>
      </p:sp>
    </p:spTree>
  </p:cSld>
  <p:transition>
    <p:random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ing task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 Selection: Information rich features-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simon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ximity Measure:  This quantifies the term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 or dissimil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Criterion:  This consists of a cost function or some type of ru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Algorithm:  This consists of the set of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e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ed to reveal the structure, based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the adopt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iter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B92-9FEB-43E6-A0E2-D7EFB9BB7788}" type="slidenum">
              <a:t>3</a:t>
            </a:fld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pending on the similarity measure, the clustering criterion and the clustering algorithm different clusters may result. 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ubjectiv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is a reality to live with from now 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example:  How many clusters?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47640" y="3068640"/>
            <a:ext cx="5567040" cy="1349280"/>
            <a:chOff x="1547640" y="3068640"/>
            <a:chExt cx="5567040" cy="1349280"/>
          </a:xfrm>
        </p:grpSpPr>
        <p:sp>
          <p:nvSpPr>
            <p:cNvPr id="57" name=""/>
            <p:cNvSpPr/>
            <p:nvPr/>
          </p:nvSpPr>
          <p:spPr>
            <a:xfrm>
              <a:off x="1547640" y="3068640"/>
              <a:ext cx="2590560" cy="1349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23760" y="3123000"/>
              <a:ext cx="2590920" cy="129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68360" y="3141720"/>
            <a:ext cx="4222080" cy="1242720"/>
            <a:chOff x="2268360" y="3141720"/>
            <a:chExt cx="4222080" cy="1242720"/>
          </a:xfrm>
        </p:grpSpPr>
        <p:sp>
          <p:nvSpPr>
            <p:cNvPr id="60" name=""/>
            <p:cNvSpPr/>
            <p:nvPr/>
          </p:nvSpPr>
          <p:spPr>
            <a:xfrm>
              <a:off x="2268360" y="314172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836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412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44120" y="3196440"/>
              <a:ext cx="1246320" cy="54036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380360" y="35733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 or 4 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54F-AA4D-49B0-B517-784E1CBBB29A}" type="slidenum">
              <a:t>4</a:t>
            </a:fld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application areas for clust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reduction. All data vectors within a cluster are substituted (represented) by the corresponding cluster represent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gen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test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ion based on grou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ED5-6791-4832-9633-F0CAF273F844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-27360"/>
            <a:ext cx="734220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ach point belongs to a single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cluste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t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s (clusters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additio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each other an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ss 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the data in the rest of the clusters.  Quantifying the terms similar-dissimilar depends on the types of clusters tha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nderlie the struc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84360" y="690480"/>
                <a:ext cx="2509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56000" y="2646360"/>
                <a:ext cx="2592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3282840"/>
                <a:ext cx="12952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U</m:t>
                            </m:r>
                          </m:e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63840" y="4221000"/>
                <a:ext cx="5367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168-16D9-4D78-8E8A-AB9FA8F2F0C0}" type="slidenum">
              <a:t>6</a:t>
            </a:fld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Each point belongs to all clusters up to som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uzzy cluster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 is characterized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50920" y="2435400"/>
                <a:ext cx="3600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0920" y="2881440"/>
                <a:ext cx="31608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24000" y="3699000"/>
                <a:ext cx="360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171-69A7-472C-A41B-6EEEA6C2130C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79640" y="2997360"/>
                <a:ext cx="476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high grade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mbership of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cluster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22480" y="4076640"/>
                <a:ext cx="3875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0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grade of membershi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619280" y="2708280"/>
            <a:ext cx="53290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56000" y="1844640"/>
                <a:ext cx="3136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116000" y="596880"/>
            <a:ext cx="66247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mbership func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each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longs to any cluster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p to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ome degre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”, depending on the 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D53-C796-401E-B357-3B5248A1FB84}" type="slidenum">
              <a:t>8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YPES OF FEAT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tinuou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continuous subse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cre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finite discrete s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ina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chotomous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domain consists of two possible valu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ve significance of the values they 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code states, e.g., the sex of an individua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are meaningfully ordered, e.g., the rating of the services of a hotel (poor, good, very good, excellent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terval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difference of two values is meaningful but their ratio is meaningless, e.g., temperatur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atio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ratio of two values is meaningful, e.g., weigh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68C-B13D-4E79-951D-0678F1BFEEC4}" type="slidenum">
              <a:t>9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28:50Z</dcterms:modified>
  <cp:revision>695</cp:revision>
  <dc:subject/>
  <dc:title>PowerPoint Presentation</dc:title>
</cp:coreProperties>
</file>