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B05-B34B-4D5C-AEF1-051121D0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7B1-A39C-4585-A9BE-46B9F94D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3B7-3D01-4F5C-8245-F3AAA649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045-D0FC-4D50-9F20-4DD2C7AF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573-8485-4DC1-AA32-31B40824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4B2-2966-4C70-9D4C-DB3CED78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430-03D6-4E31-BDC3-990448CC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4F7-56A2-46C8-AD36-63A15379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61A-1264-464A-B23E-70C414F0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C1A-BBA8-42AC-92B1-6A49103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EA5-4DF9-4568-B43C-1E56785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BF5-D014-4298-A607-C855888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D914-2A5B-432E-B3F6-36C1C1B8D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02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ossible cluste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: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how many way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can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igned into m group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s</a:t>
            </a:r>
            <a:r>
              <a:rPr b="0" lang="el-GR" sz="22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95640" y="3205080"/>
                <a:ext cx="4176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06560" y="4870440"/>
                <a:ext cx="2665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908000" y="5300640"/>
                <a:ext cx="33847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232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rPr>
                        <m:lit/>
                        <m:nor/>
                      </m:rPr>
                      <m:t xml:space="preserve">9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06560" y="5713560"/>
                <a:ext cx="28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!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E7F-0C3E-4D83-809C-9B918BEDB213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BSAS, a modification of B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BSAS a decision for a data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ached prior to the final cluster formation, which is determined after all vectors have been presented to the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deals with the above drawback,  at the cost of presenting the data twice to the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BS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 determination pha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pass on the data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is the same as BSAS with the exception that no vector is assigned to an already formed cluster. At the end of this phase, each cluster consists of a single ele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ttern classification pha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pass on the data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each one of the unassigned vector is assigned to its closest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BSAS, a decision for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ring the pattern classification phase is reached taking into account al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is  sensitive to the order of presentation of the 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requires two passes on the data. Its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2C3-27FD-49FE-A08F-0CCD5371CACF}" type="slidenum">
              <a:t>10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maxmi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set of all points that have been chosen to form clusters up to the current iteration step.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mation of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max</a:t>
            </a:r>
            <a:r>
              <a:rPr b="0" i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a prespecified threshold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vector forms a new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uster determination phase of the algorithm termin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the formation of the clusters, each unassigned vector is assigned to its closest clu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6D4-F7D5-4FB7-B512-D9C9514AFC3C}" type="slidenum">
              <a:t>11</a:t>
            </a:fld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903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axmin algorithm is more computationally demanding than MB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t is expected to produce better clustering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29A-04BF-46DF-9682-1B472F1C27A0}" type="slidenum">
              <a:t>12</a:t>
            </a:fld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finement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seness of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all the above algorithms it may happen that two formed clusters lie very close to each 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imple merging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,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≠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 \{ </a:t>
            </a:r>
            <a:r>
              <a:rPr b="0" i="1" lang="en-US" sz="2000" spc="-1" strike="noStrike">
                <a:solidFill>
                  <a:srgbClr val="cccc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cccc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cccc00"/>
                </a:solidFill>
                <a:latin typeface="Tahoma"/>
              </a:rPr>
              <a:t> is a user-defined threshol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\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limin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update the cluster represent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name the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=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DFF-7519-43AE-9428-BBE539055D48}" type="slidenum">
              <a:t>13</a:t>
            </a:fld>
          </a:p>
        </p:txBody>
      </p:sp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nsitivity to the order of data presen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may have been assigned to a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t the current stage but another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may be formed at a later stage that lies closer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imple reassignment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\{ </a:t>
            </a:r>
            <a:r>
              <a:rPr b="0" i="1" lang="en-US" sz="1800" spc="-1" strike="noStrike">
                <a:solidFill>
                  <a:srgbClr val="cccc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cccc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cccc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cccc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cccc00"/>
                </a:solidFill>
                <a:latin typeface="Tahoma"/>
              </a:rPr>
              <a:t> is the index of the cluster that lies closet to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cccc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\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: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update represent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EFF-A2AE-43DA-AE72-DE5725BDA5CD}" type="slidenum">
              <a:t>14</a:t>
            </a:fld>
          </a:p>
        </p:txBody>
      </p:sp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two-threshold sequential scheme (TTS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rmation of the clusters, as well as the assignment of vectors to clusters, is carried out concurrently (like BSAS and unlike MBSA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threshol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mplo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its closest clust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greater than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w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form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ssigne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cision is postponed to a later s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nassigned vectors are presented iteratively to the algorithm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until all of them are classif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645-1F67-4AFD-B13A-CEF37547BD9D}" type="slidenum">
              <a:t>15</a:t>
            </a:fld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practice, a few pass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of the data set are requir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TSAS is less sensitive to the order of data presentation, compared to B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812-19FF-4E5A-91D8-50AD71EFA8E3}" type="slidenum">
              <a:t>16</a:t>
            </a:fld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only a small fraction of clustering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select a “sensible” clustering among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 1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ich fraction of clusterings is consider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 2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at “sensible” mea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nswer depends on the specific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lustering algorith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specific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riteria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adop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E02-E068-41CC-BD08-637370D69C8F}" type="slidenum">
              <a:t>2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MAJOR CATEGORIES OF 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quential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ngle clustering is produced. One or few sequential passes on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ierarchical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sequence of (nested) clusterings is produc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gglomera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trix the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aph the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ions of the abov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Chameleon algorithm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C6A-F045-4EFB-92E9-54F30DFAA0F5}" type="slidenum">
              <a:t>3</a:t>
            </a:fld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st function optimization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most of the cases a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is obtai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ard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ach point belongs exclusively to a single clus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hard clustering algorithms (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ea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edoids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ture decomposi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anch and b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stic anne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undary de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 see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 cluster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ach point belongs to more than one clusters simultaneousl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is based on th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ossi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point to belong to a clust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8B1-5A1B-445C-ACFC-412F5CE8928A}" type="slidenum">
              <a:t>4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ther schem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gorithms based on graph the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Minimum Spanning Tree, regions of influence, directed tre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ve learning algorithms (basic competitive learning scheme, Kohonen self organizing map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pace clustering algorith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morphology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C32-0640-4430-8807-ED02D94DDCB1}" type="slidenum">
              <a:t>5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0840" y="1341360"/>
            <a:ext cx="75358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mon traits shared by  these algorithms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or very few passes on the data are requi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is not known a-priori, except (possibly) an upper boun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usters are defined with the aid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ropriately defined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point from a clu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hreshol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ociated with the d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EQUENTIAL 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68A-DD12-4231-8F7A-8A9C9C27E467}" type="slidenum">
              <a:t>6</a:t>
            </a:fld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sic Sequential Clustering Algorithm (BS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\{</a:t>
            </a:r>
            <a:r>
              <a:rPr b="0" lang="en-US" sz="1800" spc="-1" strike="noStrike">
                <a:solidFill>
                  <a:srgbClr val="cccc00"/>
                </a:solidFill>
                <a:latin typeface="Tahoma"/>
              </a:rPr>
              <a:t>number of clust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\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necessary, update representatives (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*) When the mean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 as representative of the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the updating in the light of a new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22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A5C-7AA6-4B2E-A19A-A685FB7ADEC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der of presentation of the 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algorithm plays important role in the clustering results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order of presentation may lead to totally different clustering resul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n terms of the number of clusters as well as the clusters themsel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BSAS the decision for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ached prior to the final cluster form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AS perform a single pass on the data. Its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lusters are represented by point representatives, compact clusters are favo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BD5-85AD-4225-BC30-B2B27643C009}" type="slidenum">
              <a:t>8</a:t>
            </a:fld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497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stimating the number of clusters in the data se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 when the dissimilarity threshold i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ep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ach time presenting the data in a different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s the most frequent number resulting from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identify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one corresponding to the widest flat region in the above grap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44720" y="3933720"/>
          <a:ext cx="6983280" cy="26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3933720"/>
                    <a:ext cx="698328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523280" y="64468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507-202C-481D-8DD6-3A284638AA4F}" type="slidenum">
              <a:t>9</a:t>
            </a:fld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1T16:31:41Z</dcterms:modified>
  <cp:revision>629</cp:revision>
  <dc:subject/>
  <dc:title>PowerPoint Presentation</dc:title>
</cp:coreProperties>
</file>