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7B6-22E1-41BB-B95F-980C26D7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894-FE62-479A-9831-82D37E53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5A6C-2204-4F6C-BF30-66F868FC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A102-A847-4096-87D4-83F1E1BB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AFE-242B-4BD7-859F-9A9E1C63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553-A1E6-45A6-B27B-5A60E90A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FA4E-AC6B-4A3F-915A-45B54DAE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583-AAF6-42E2-9A69-8EC30E85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BBF-3335-438D-B53F-F226E515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6C5B-57AC-4AA5-A83A-CFD93A31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F0A6-4E5D-467D-A26E-42144582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357-261D-4C6D-9915-C6C66A0D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CC19-5AB5-42F0-9162-562C3FE838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LUSTERING ALGORITHMS VIA FUNCTION OPTIMIZATION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8544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is context th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lusters are assumed to be described by a parametric  specific model whose parameters are unknow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all parameters are included in a vector denoted by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act cluster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ach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epresented by a poin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imensional space. Thus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ing-shaped cluster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ach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modeled by a hypersp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its center and its radius, respectively. Thu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defined as a function of the data vector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Optimization o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ff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ults in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l-GR" sz="2000" spc="-1" strike="noStrike" u="sng">
                <a:solidFill>
                  <a:srgbClr val="ff0000"/>
                </a:solidFill>
                <a:uFillTx/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that characterizes optimally the clusters underlying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priori known in most of the c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01D-811B-439F-A80D-0D5024F5CA6C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7640" y="44280"/>
            <a:ext cx="8785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) The same as (a) but now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1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clusters are clos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789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usion matri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916360" y="4005360"/>
          <a:ext cx="5113080" cy="1944720"/>
        </p:xfrm>
        <a:graphic>
          <a:graphicData uri="http://schemas.openxmlformats.org/drawingml/2006/table">
            <a:tbl>
              <a:tblPr/>
              <a:tblGrid>
                <a:gridCol w="1728360"/>
                <a:gridCol w="1079640"/>
                <a:gridCol w="1152360"/>
                <a:gridCol w="115272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s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r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-171720" y="6021360"/>
            <a:ext cx="85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algorithm reveals the underlying structure less accurate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2360" y="765000"/>
            <a:ext cx="6048360" cy="2702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132000" y="414972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3398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data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429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s of GM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BA4F-2114-4105-B374-254574A918EF}" type="slidenum">
              <a:t>10</a:t>
            </a:fld>
          </a:p>
        </p:txBody>
      </p:sp>
    </p:spTree>
  </p:cSld>
  <p:transition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9600" y="404280"/>
            <a:ext cx="89251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vect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belongs simultaneously to more than one clust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-clustering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s defined by a set of func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{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ard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-clustering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produc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gree of membershi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It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ssumed to be know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prior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CDD-4299-4FDC-86BC-BB7A2C600965}" type="slidenum">
              <a:t>11</a:t>
            </a:fld>
          </a:p>
        </p:txBody>
      </p:sp>
    </p:spTree>
  </p:cSld>
  <p:transition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st function defin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 the representative vector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=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 the dissimilarity between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a parameter call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ifi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2687-1F15-4A25-9DD4-8928B5166877}" type="slidenum">
              <a:t>12</a:t>
            </a:fld>
          </a:p>
        </p:txBody>
      </p:sp>
    </p:spTree>
  </p:cSld>
  <p:transition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71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fuzzy clustering schemes result from the minimization of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 to the constrain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  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N,  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340000" y="1366920"/>
                <a:ext cx="30240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354560" y="2125800"/>
                <a:ext cx="26654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Sup>
                          <m:e/>
                          <m:sub/>
                          <m:sup/>
                        </m:sSub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627280" y="4341960"/>
                <a:ext cx="3168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&lt;</m:t>
                    </m:r>
                    <m:r>
                      <m:t xml:space="preserve">N</m:t>
                    </m:r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F0CD-4D97-4E9C-8D90-A328CC1E1F17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egree of membership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uster is related to the grade of membership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r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no fuzzy clustering is better than the best hard clustering in term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re are fuzzy clusterings with lower values of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n the best hard cluste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D6F-5ECF-4298-B88A-4E5EECEE4A7A}" type="slidenum">
              <a:t>14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inimizing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3333cc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a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ubject to the constraints leads to the following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Lagrangian function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obt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ting the gradien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qual to zero we obtain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ast two equations ar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upl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us, no closed form solutions are expected. Therefore,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inimization is carried out iterative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124000" y="1603440"/>
                <a:ext cx="41036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an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ι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m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905120" y="2852640"/>
                <a:ext cx="47545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bar>
                                              <m:barPr>
                                                <m:pos m:val="bot"/>
                                              </m:bar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ba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bar>
                                              <m:barPr>
                                                <m:pos m:val="bot"/>
                                              </m:barPr>
                                              <m:e>
                                                <m:r>
                                                  <m:t xml:space="preserve">θ</m:t>
                                                </m:r>
                                              </m:e>
                                            </m:ba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r>
                                          <m:t xml:space="preserve">d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bar>
                                              <m:barPr>
                                                <m:pos m:val="bot"/>
                                              </m:bar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ba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bar>
                                              <m:barPr>
                                                <m:pos m:val="bot"/>
                                              </m:barPr>
                                              <m:e>
                                                <m:r>
                                                  <m:t xml:space="preserve">θ</m:t>
                                                </m:r>
                                              </m:e>
                                            </m:ba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q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</m:den>
                    </m:f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124000" y="4797360"/>
                <a:ext cx="41036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9770-3ADF-41A6-AEFF-B31D48E06462}" type="slidenum">
              <a:t>15</a:t>
            </a:fld>
          </a:p>
        </p:txBody>
      </p:sp>
    </p:spTree>
  </p:cSld>
  <p:transition>
    <p:random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08000" y="73080"/>
            <a:ext cx="885672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eneralized Fuzzy Algorithmic Scheme (GF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initial estimate for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 updatin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ol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set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is 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il a termination criterion is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414520" y="2060640"/>
                <a:ext cx="31654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d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556000" y="4724280"/>
                <a:ext cx="2736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4BC-9479-4C0E-9F14-42D485C868FB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andidate termination condition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||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ny vector norm a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user-defined const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FAS may also be initialized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ead of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start iterations with computing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r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 poin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incides with one or more representatives, then it is shared arbitrarily among the clusters whose representatives coincide with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ubject to the constraint that the summation of the degree of membership over all clusters sums 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938-72EB-45F5-8A2B-767412851D36}" type="slidenum">
              <a:t>17</a:t>
            </a:fld>
          </a:p>
        </p:txBody>
      </p:sp>
    </p:spTree>
  </p:cSld>
  <p:transition>
    <p:random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0320" y="0"/>
            <a:ext cx="8923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Point Represent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 representatives are used in the case of compact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ist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arame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dissimilarity meas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tween two points can be u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on choice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symmetric and positive definite matrix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is cas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2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the updating equation (B) in GFAS beco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FAS with the above distance is also known a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-Means (FCM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k-Mea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CM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nverg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a stationary point of the cost function or it has at least one subsequence that converges to a stationary point. This point may be a local (or global) minimum or a saddle poi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835280" y="4167360"/>
                <a:ext cx="3816360" cy="48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/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F11-BC22-4AC3-A123-A7CF4A52B977}" type="slidenum">
              <a:t>18</a:t>
            </a:fld>
          </a:p>
        </p:txBody>
      </p:sp>
    </p:spTree>
  </p:cSld>
  <p:transition>
    <p:random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Point representatives 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inkowsk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positive integer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n and fini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differentiability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guaranteed. 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ase the updating equation (B) of GFAS giv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ystem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onlinear equations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FAS algorithms with the Minkowski distance are also known a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pFC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gorith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050920" y="3284640"/>
                <a:ext cx="4033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r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r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|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k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jk</m:t>
                                            </m:r>
                                          </m:sub>
                                        </m:sSub>
                                        <m:sSup>
                                          <m:e>
                                            <m:r>
                                              <m:t xml:space="preserve">|</m:t>
                                            </m:r>
                                          </m:e>
                                          <m:sup>
                                            <m:r>
                                              <m:t xml:space="preserve">p</m:t>
                                            </m:r>
                                          </m:sup>
                                        </m:sSup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/>
                          <m:sub/>
                          <m:sup/>
                        </m:sSubSup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340000" y="907920"/>
                <a:ext cx="259236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  <m:e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k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AD8-EE8A-432B-8413-5D019A9C31A6}" type="slidenum">
              <a:t>19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optimization clustering algorithms considered in the sequ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ture decomposition sche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zzy clustering algorith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stic clustering algorith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035E-3EC2-4C69-A166-8F3177020BEA}" type="slidenum">
              <a:t>2</a:t>
            </a:fld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Point representatives 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2(a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setup of example 1(a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GFAS with dist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38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ing the identity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38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38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i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it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38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38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ii) The Minkowski distance wit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2(b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setup of example 1(b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GFAS with the distances considered in example 2(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91280" y="2276640"/>
                <a:ext cx="151272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99A-927A-4BB7-9C69-4C1B6C945FBB}" type="slidenum">
              <a:t>20</a:t>
            </a:fld>
          </a:p>
        </p:txBody>
      </p:sp>
    </p:spTree>
  </p:cSld>
  <p:transition>
    <p:random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040" y="189000"/>
            <a:ext cx="89233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rresponding confusion matrices for example 2(a) and 2(b) are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re a vector is assigned to the cluster for whic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has the maximum value.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the example 2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the example 2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example 2(a)) almost all vectors from the same distribution are assigned to the same clus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loser the clusters are, the worse the performance of all the algorithm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hoice of matrix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lays an important role to the performance of the algorith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826920" y="2828880"/>
                <a:ext cx="648180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</m:mr>
                      <m:mr>
                        <m:e>
                          <m:r>
                            <m:t xml:space="preserve">A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6</m:t>
                                    </m:r>
                                  </m:e>
                                  <m:e>
                                    <m:r>
                                      <m:t xml:space="preserve">3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7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9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3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7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r>
                            <m:t xml:space="preserve">A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9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9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8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8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r>
                            <m:t xml:space="preserve">A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i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1</m:t>
                                    </m:r>
                                  </m:e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6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7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2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3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33400" y="1212840"/>
                <a:ext cx="647532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8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4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9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3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6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5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5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9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8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i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6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4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9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5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  <m:mr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560-0881-4D43-BAA1-E8872EA848EE}" type="slidenum">
              <a:t>21</a:t>
            </a:fld>
          </a:p>
        </p:txBody>
      </p:sp>
    </p:spTree>
  </p:cSld>
  <p:transition>
    <p:random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re the representatives ar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quadric surfa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hyperellipsoids,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perparaboloid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420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eneral form of an equation describing a quadric surfac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4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x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ymmetric matrix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cto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calar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various choices of these quantities we obtain hyperellipses, hyperparabolas and so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)/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4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4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above representation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equival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B495-0B04-42E9-94F3-E2871C4B6060}" type="slidenum">
              <a:t>22</a:t>
            </a:fld>
          </a:p>
        </p:txBody>
      </p:sp>
    </p:spTree>
  </p:cSld>
  <p:transition>
    <p:random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2320" y="115560"/>
            <a:ext cx="88520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irst concer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Definition of the distance of a poi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to a quadric surfa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ypes of dist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quared)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lgebraic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q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erpendicular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 to the constra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words,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Q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s the distance between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and the closest to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point that lies i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C9BE-92A0-4AE9-8D1A-7F2E5DD23755}" type="slidenum">
              <a:t>23</a:t>
            </a:fld>
          </a:p>
        </p:txBody>
      </p:sp>
    </p:spTree>
  </p:cSld>
  <p:transition>
    <p:random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adial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only 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hyperellipsoidal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yperellipsoidal, the representative equation can beco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center of the ellipse and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positive definite symmetric matrix defining major axis, minor axis and ori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the following is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||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 to the constra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In wor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ntersection poin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tween the line segmen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determ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quared Euclidean distance between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ompu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F62-9920-4F44-B0F1-3C784F224A20}" type="slidenum">
              <a:t>24</a:t>
            </a:fld>
          </a:p>
        </p:txBody>
      </p:sp>
    </p:spTree>
  </p:cSld>
  <p:transition>
    <p:random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quared)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rmalized radial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only 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hyperellipsoidal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((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ahoma"/>
              </a:rPr>
              <a:t>Example 3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sider two ellipses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centered at </a:t>
            </a: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=[0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0]</a:t>
            </a:r>
            <a:r>
              <a:rPr b="0" i="1" lang="en-US" sz="19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with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diag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.25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=diag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1/16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¼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respectively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be a point in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moving from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0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-4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0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with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03280" y="2935440"/>
            <a:ext cx="6048360" cy="33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BC7-CB1D-4D80-A8BC-0ADB572FE700}" type="slidenum">
              <a:t>25</a:t>
            </a:fld>
          </a:p>
        </p:txBody>
      </p:sp>
    </p:spTree>
  </p:cSld>
  <p:transition>
    <p:random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4581360"/>
            <a:ext cx="885672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53000" indent="-27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 not vary 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v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53000" indent="-27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be used as an approxim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hyperellipsoi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47640" y="1117440"/>
            <a:ext cx="4319640" cy="3360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9280" y="54936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CE9-6AD0-4293-B1D7-DAE25A1E9D31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uzzy Shell Cluster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daptive Fuzzy C-Shells (AFCS)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recovers hyperellipsoidal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the result of the minimization of the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’s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CS stems from GFAS, with the “parameter updating” being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meter updat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171880" indent="-34308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ve with respec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following equ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68360" y="2436840"/>
                <a:ext cx="3024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r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16360" y="5038560"/>
                <a:ext cx="31683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556000" y="5857920"/>
                <a:ext cx="39607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O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C7F2-FE9A-4975-9A28-591CDAFF6BD4}" type="slidenum">
              <a:t>27</a:t>
            </a:fld>
          </a:p>
        </p:txBody>
      </p:sp>
    </p:spTree>
  </p:cSld>
  <p:transition>
    <p:random/>
  </p:transition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e resulting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hick dots represent the points of the data set. Thin dots represent (a) the initial estimates and (b) the final estimates of the ellip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74880" y="569880"/>
                <a:ext cx="37767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857240" y="1000080"/>
                <a:ext cx="3219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87280" y="3397320"/>
            <a:ext cx="7561440" cy="296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6D9-6B7E-44E4-87BA-72D268EE8F50}" type="slidenum">
              <a:t>28</a:t>
            </a:fld>
          </a:p>
        </p:txBody>
      </p:sp>
    </p:spTree>
  </p:cSld>
  <p:transition>
    <p:random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 Ellipsoidal Shells (FCES)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recovers hyperellipsoidal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the result of the minimization of the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CES stems from GFAS. Setting the derivativ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 equal to zero, the “parameter updating” part of the algorithm follow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 Quadric Shells (FCQS)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recovers general hyperquadric shap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the result of the minimization of the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 to constraints such 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124000" y="1989000"/>
                <a:ext cx="33116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403280" y="5276880"/>
                <a:ext cx="64087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sSub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p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p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6943-527A-472B-9B4E-0114BCBF3231}" type="slidenum">
              <a:t>29</a:t>
            </a:fld>
          </a:p>
        </p:txBody>
      </p:sp>
    </p:spTree>
  </p:cSld>
  <p:transition>
    <p:random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885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ixture Decomposition (MD) sche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re, each vect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belongs to a single clu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a certain prob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D schemes rely on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Bayesian framewo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ppointed to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luster labeling information is available for the data ve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 priori cluster probabilit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also unkn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olution: Adoption of th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M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-st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l-GR" sz="2000" spc="-1" strike="noStrike" baseline="30000">
                <a:solidFill>
                  <a:srgbClr val="000000"/>
                </a:solidFill>
                <a:latin typeface="Times New Roman"/>
              </a:rPr>
              <a:t>Τ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parameter vector corresponding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a priori probability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258920" y="4475160"/>
                <a:ext cx="59770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;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76E-F742-4537-A60D-D9BE0E3C25D2}" type="slidenum">
              <a:t>3</a:t>
            </a:fld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63960" indent="-363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ii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v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7936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CQS stems from GFAS. Setting the derivativ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equal to zero and taking into account the constraints,  the “parameter updating” part of the algorithm follow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323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ified Fuzzy C Quadric Shells (MFCQS)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7936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recovers hyperquadric shap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7936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results from the GFAS scheme 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2720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rade of membership of 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a cluster is determined using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erpendicular dist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2720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pdating of the parameters of the representatives is carried out using the parameter updating part of FCQS (where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lgebraic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use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348000" y="765000"/>
                <a:ext cx="1295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716360" y="1413000"/>
                <a:ext cx="331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|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CC2-05C4-467B-A201-D5B2FEB40964}" type="slidenum">
              <a:t>30</a:t>
            </a:fld>
          </a:p>
        </p:txBody>
      </p:sp>
    </p:spTree>
  </p:cSld>
  <p:transition>
    <p:random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Hyperplanes as represent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gorithms that recover hyperplanar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-varieties (FCV)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based on the minimization of the distances of the vector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hyperpla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Disadvantag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t tends to recover very long clusters and, thus,  collinear distinct clusters may be merged to a single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ustafson-Kessel (GK)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planar cluster is represented by a cente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a covariance matrix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.e., 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istance between a poin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luster is defined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G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|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/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K algorithm is derived via the minimization of the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050920" y="5877000"/>
                <a:ext cx="31687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K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37C-7F91-4D17-A85B-23E327E51B50}" type="slidenum">
              <a:t>31</a:t>
            </a:fld>
          </a:p>
        </p:txBody>
      </p:sp>
    </p:spTree>
  </p:cSld>
  <p:transition>
    <p:random/>
  </p:transition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Hyperplan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K algorithm stems from GFAS. Setting the derivativ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G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equal to zero, the “parameter updating” part of the algorithm becom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5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411280" y="1628640"/>
                <a:ext cx="18734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340000" y="2792520"/>
                <a:ext cx="39607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c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c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08000" y="4146480"/>
            <a:ext cx="5185080" cy="26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5D54-A247-410C-B650-4E2F4152B574}" type="slidenum">
              <a:t>32</a:t>
            </a:fld>
          </a:p>
        </p:txBody>
      </p:sp>
    </p:spTree>
  </p:cSld>
  <p:transition>
    <p:random/>
  </p:transition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first case, the clusters are well separated and the GK-algorithm recovers them correct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second case, the clusters are not well separated and the GK-algorithm fails to recover them correct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906560" y="519120"/>
            <a:ext cx="511344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9F5A-6713-44BC-9D4D-ECEF8F0E70F4}" type="slidenum">
              <a:t>33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ssibilistic Clus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like fuzzy clustering, the constraints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[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,…,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stic clustering algorithms result from the optimization of cost functions li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suitably chosen positive constants (see below).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term is inserted in order to avoid the trivial zero solution for th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’ 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other choices for the second term of the cost function are also possible (see below)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ting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e obtai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403280" y="1916280"/>
                <a:ext cx="273708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403280" y="3213000"/>
                <a:ext cx="43210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q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932360" y="5229360"/>
                <a:ext cx="2519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8F24-6831-4AB0-B3D8-55A522D405D7}" type="slidenum">
              <a:t>34</a:t>
            </a:fld>
          </a:p>
        </p:txBody>
      </p:sp>
    </p:spTree>
  </p:cSld>
  <p:transition>
    <p:random/>
  </p:transition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ssibilistic clustering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eneralized Possibilistic Algorithmic Scheme (GPA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the initial estimates of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98920" y="3616200"/>
                <a:ext cx="30970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7E8-E0C6-486A-92B9-4275530A0642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ssibilistic clustering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Generalized Possibilistic Algorithmic Scheme (GPAS) (co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 updatin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ol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set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e computed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il a termination criterion is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||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be employed as a termination condi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GPAS, a possibilistic algorithm can be derived, for each fuzzy clustering algorithm derived previous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627280" y="1773360"/>
                <a:ext cx="30243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C34-08EA-493C-BA41-8AF8230AA63F}" type="slidenum">
              <a:t>36</a:t>
            </a:fld>
          </a:p>
        </p:txBody>
      </p:sp>
    </p:spTree>
  </p:cSld>
  <p:transition>
    <p:random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55960" indent="-25596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ssibilistic clustering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1720" indent="-1933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wo observ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15696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composition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3333cc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Since for each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independent from each oth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be written a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rresponds to a different cluster and minimiz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can be carried out separately for 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15696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bout </a:t>
            </a:r>
            <a:r>
              <a:rPr b="0" i="1" lang="el-GR" sz="2000" spc="-1" strike="noStrike">
                <a:solidFill>
                  <a:srgbClr val="3333cc"/>
                </a:solidFill>
                <a:latin typeface="Times New Roman"/>
              </a:rPr>
              <a:t>η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’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42440" indent="-2192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determine the relative significance of the two term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42440" indent="-2192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are related to the size and the “shape”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42440" indent="-2192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determined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734120" indent="-2192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the GFAS algorithm and after its convergence estimat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7341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734120" indent="-2192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the GPAS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6720" y="1332000"/>
                <a:ext cx="1511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338560" y="1995480"/>
                <a:ext cx="35287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q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556000" y="5403960"/>
                <a:ext cx="21603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869080" y="5432400"/>
                <a:ext cx="18716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1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7EF-375F-433D-AF5E-8AB20678BDA4}" type="slidenum">
              <a:t>37</a:t>
            </a:fld>
          </a:p>
        </p:txBody>
      </p:sp>
    </p:spTree>
  </p:cSld>
  <p:transition>
    <p:random/>
  </p:transition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8000" y="43920"/>
            <a:ext cx="8856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ssibilistic clustering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value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ossibilistic cluste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mply almost equal contributions of all vectors to all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luste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mply increased sharing of the vectors among all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mode-seeking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like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MD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F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ich ar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rtition algorith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y terminate with the predetermined number of clusters no matter how many clusters are naturally formed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P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ode-seeking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it searches for dense regions of vector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tage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number of clusters need not be a priori know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number of clusters in GPA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s greater than the tru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ome representatives will coincide with others.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and not all) of the clusters will be captu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D9AF-315D-4992-81B7-09B23C9993B5}" type="slidenum">
              <a:t>38</a:t>
            </a:fld>
          </a:p>
        </p:txBody>
      </p:sp>
    </p:spTree>
  </p:cSld>
  <p:transition>
    <p:random/>
  </p:transition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vector belong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xclusive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a single cluster. This implies tha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t is, it can be seen as an extreme special case of the fuzzy algorithmic sche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now,  the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ot differentiab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pite that, the two-step optimization procedure (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and 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) adopted in GFAS is applied also here, taking into account that, for fixed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,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that minimiz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chose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187280" y="1609560"/>
                <a:ext cx="136872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268360" y="3429000"/>
                <a:ext cx="23036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763640" y="5538960"/>
                <a:ext cx="583416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m</m:t>
                                  </m:r>
                                </m:sub>
                              </m:sSub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</m:e>
                          </m:mr>
                        </m:m>
                        <m:r>
                          <m:t xml:space="preserve">,</m:t>
                        </m:r>
                        <m:sSubSup>
                          <m:e/>
                          <m:sub/>
                          <m:sup/>
                        </m:sSub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8C1-D50D-4F32-B7E2-DA90374E6D7A}" type="slidenum">
              <a:t>39</a:t>
            </a:fld>
          </a:p>
        </p:txBody>
      </p:sp>
    </p:spTree>
  </p:cSld>
  <p:transition>
    <p:random/>
  </p:transition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-st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l-GR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specifically, the M-step results i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 </a:t>
            </a:r>
            <a:r>
              <a:rPr b="0" i="1" lang="el-GR" sz="2000" spc="-1" strike="noStrike" u="sng">
                <a:solidFill>
                  <a:srgbClr val="3333cc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’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*) Provided that all pairs o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re functionally independe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’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**) Taking into account the constraint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+…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, the EM algorithm for this case may be stated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741320" y="2620800"/>
                <a:ext cx="441504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629080" y="4459320"/>
                <a:ext cx="2663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*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CA63-500B-4B77-BC04-99A2048A20FE}" type="slidenum">
              <a:t>4</a:t>
            </a:fld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Generalized Hard Algorithmic Scheme (GH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initial estimates for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termination of the parti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411280" y="3138480"/>
                <a:ext cx="633744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m</m:t>
                                  </m:r>
                                </m:sub>
                              </m:sSub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</m:e>
                          </m:mr>
                        </m:m>
                        <m:r>
                          <m:t xml:space="preserve">,</m:t>
                        </m:r>
                        <m:sSubSup>
                          <m:e/>
                          <m:sub/>
                          <m:sup/>
                        </m:sSub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C825-E66F-4CB0-93CB-0CD97ECC7E8B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Generalized Hard Algorithmic Scheme (GHAS) (con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 updatin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ol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set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e computed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il a termination criterion is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update of each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only the vector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whi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u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HAS may terminate when ei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||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mains unchanged for two successive iter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411280" y="1589040"/>
                <a:ext cx="2808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00AA-57C3-4494-9E74-AE75449DBE05}" type="slidenum">
              <a:t>41</a:t>
            </a:fld>
          </a:p>
        </p:txBody>
      </p:sp>
    </p:spTree>
  </p:cSld>
  <p:transition>
    <p:random/>
  </p:transition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More 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 each hard clustering algorithm there exists a corresponding fuzzy clustering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 updating equations for the parameter vectors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hard clustering algorithms are obtained from their fuzzy counterpart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 clustering algorithms are not as robust as the fuzzy clustering algorithms when other than point representatives are u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wo-step optimization procedure in GHA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oes not necessarily lead to a local 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EED-F28F-4C34-8E85-D252A16645C5}" type="slidenum">
              <a:t>42</a:t>
            </a:fld>
          </a:p>
        </p:txBody>
      </p:sp>
    </p:spTree>
  </p:cSld>
  <p:transition>
    <p:random/>
  </p:transition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8000" y="-2700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Isodata or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-Means or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-Means algorith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eneral com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a special case of GHAS 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 representatives are u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quared Euclidean distance is employ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st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comes n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ing GHAS in this case, it turns out that it converges to a minimum of the cost fun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data recovers clusters that are as compact as poss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other choices of the distance (including the Euclidean), the algorithm converges but not necessarily to a minimum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050920" y="2637000"/>
                <a:ext cx="3600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13C-8AD0-46D4-A258-CA48D7606CBA}" type="slidenum">
              <a:t>43</a:t>
            </a:fld>
          </a:p>
        </p:txBody>
      </p:sp>
    </p:spTree>
  </p:cSld>
  <p:transition>
    <p:random/>
  </p:transition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4120" y="73080"/>
            <a:ext cx="877860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e Isodata 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-Means 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-Means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arbitrary initial estimates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the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 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the closest representative, say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f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 updatin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termine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the mean of the vector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(i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il no change in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 s occurs between two successive it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6(a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he k-means algorithm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dentifies successfully the clusters in the data set of example 1(a). The confusion matrix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348000" y="5516640"/>
                <a:ext cx="19447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D21B-6F38-44BB-BEAF-63FC6FAF0637}" type="slidenum">
              <a:t>44</a:t>
            </a:fld>
          </a:p>
        </p:txBody>
      </p:sp>
    </p:spTree>
  </p:cSld>
  <p:transition>
    <p:random/>
  </p:transition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885672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– k-mean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6(b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i) Consider tw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imensional Gaussian distributio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Σ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Σ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8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.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(ii) Gener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ints from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ribution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ints from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ribution. (iii)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initialize randomly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convergence the large group has been split into two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right part has been assigned to the same cluster with the points of the small group (see figure below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ndicates that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k-means cannot deal accurately with clusters having significantly different siz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547640" y="4221000"/>
            <a:ext cx="5834160" cy="25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1BD-2940-40B1-9FC8-3811911241F3}" type="slidenum">
              <a:t>45</a:t>
            </a:fld>
          </a:p>
        </p:txBody>
      </p:sp>
    </p:spTree>
  </p:cSld>
  <p:transition>
    <p:random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– k-mean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-means recovers compact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quential vers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k-means, where the updating of the representatives takes place immediately after the identification of the representative that lies closer to the current input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have also been prop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variant of the k-means results if the number of vectors in each cluster is constrain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prior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putational complexity of the k-means is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Nmq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number of iterations required for convergence. In practic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significantly less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us,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k-means becomes eligible for processing large data se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Further 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drawbacks of the original k-means accompanied with the variants of the k-means that deal with them are discussed nex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94C-9BBB-400D-919E-3B532DA32303}" type="slidenum">
              <a:t>46</a:t>
            </a:fld>
          </a:p>
        </p:txBody>
      </p:sp>
    </p:spTree>
  </p:cSld>
  <p:transition>
    <p:random/>
  </p:transition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0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8000" y="73080"/>
            <a:ext cx="885672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– k-mean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rawback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ifferent initial partitions may lead k-means to produ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ifferent final clusterings, each one corresponding to a different local minim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ategies for facing drawback 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run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a sequential algorithm (discussed previously) to produce initial estimates for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randomly the data set in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sets and use their means as initial estimates for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 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run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different partition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run k-means for each one of them and select the best resul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 the representatives iteratively, one at a time, by running k-mea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imes. It is claimed that convergence is independent of the initial estimates of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 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ilization of tools from stochastic optimization techniques (simulated annealing, genetic algorithms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0D2C-6726-452F-ACB6-3A5D824850D2}" type="slidenum">
              <a:t>47</a:t>
            </a:fld>
          </a:p>
        </p:txBody>
      </p:sp>
    </p:spTree>
  </p:cSld>
  <p:transition>
    <p:random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– k - mean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rawback 2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nowledge of 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is required a prior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ategies for facing drawback 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loy splitting, merging and discarding operations of the clusters resulting from k-mea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a sequential algorithm many times for different thresholds of dissimilarity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o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rsus the number of clusters and identify the largest plateau in the graph and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e value that corresponds to this plateau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8D5-6F2D-4543-8187-14297166DF9E}" type="slidenum">
              <a:t>48</a:t>
            </a:fld>
          </a:p>
        </p:txBody>
      </p:sp>
    </p:spTree>
  </p:cSld>
  <p:transition>
    <p:random/>
  </p:transition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– k - mean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rawback 3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-means is sensitive to outliers and nois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ategies for facing drawback 3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ard all “small” clusters (they are likely to be formed by outlier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a k-medoids algorithm (see below), where a cluster is represented by one of its poi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rawback 4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-means is not suitable for data with nominal (categorical) coordinat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ategies for facing drawback 4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a k-medoids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5AA8-8024-4961-959A-4075E4C52F2F}" type="slidenum">
              <a:t>49</a:t>
            </a:fld>
          </a:p>
        </p:txBody>
      </p:sp>
    </p:spTree>
  </p:cSld>
  <p:transition>
    <p:random/>
  </p:transition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4480" y="188640"/>
            <a:ext cx="88502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eneralized Mixture Decomposition Algorithmic Scheme (GMDA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initial estimates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N,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 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e solution of the equ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                     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il convergence, 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s achiev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47640" y="2276640"/>
                <a:ext cx="424836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124000" y="3724200"/>
                <a:ext cx="4319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87640" y="5237280"/>
                <a:ext cx="30607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813-7EDF-404B-8C73-DF9E9CB30895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k-Medoids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cluster is represented by a vector select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mo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lement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edoi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uster conta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medo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vector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th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not used as medoids in other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e closer to its medoid than the medoids representing other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 the set of medoids of all clusters,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set of indices of the poin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constitut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-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set of indices of the points that are not medoi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taining the set of medoid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best represents the data se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equivalent to minimizing the following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0B1-4B05-43BE-BEE3-64F90459F4ED}" type="slidenum">
              <a:t>50</a:t>
            </a:fld>
          </a:p>
        </p:txBody>
      </p:sp>
    </p:spTree>
  </p:cSld>
  <p:transition>
    <p:random/>
  </p:transition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0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-Medoids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195640" y="1066680"/>
                <a:ext cx="2808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Θ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476360" y="2100240"/>
                <a:ext cx="52563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</m:e>
                                <m:sub>
                                  <m:r>
                                    <m:t xml:space="preserve">q</m:t>
                                  </m:r>
                                  <m:r>
                                    <m:t xml:space="preserve">∈</m:t>
                                  </m:r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q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</m:e>
                          </m:mr>
                        </m:m>
                        <m:r>
                          <m:t xml:space="preserve">,</m:t>
                        </m:r>
                        <m:sSubSup>
                          <m:e/>
                          <m:sub/>
                          <m:sup/>
                        </m:sSub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F6B-9FCE-4110-A428-C2EF4B1336FB}" type="slidenum">
              <a:t>51</a:t>
            </a:fld>
          </a:p>
        </p:txBody>
      </p:sp>
    </p:spTree>
  </p:cSld>
  <p:transition>
    <p:random/>
  </p:transition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ing clusters with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ean</a:t>
            </a:r>
            <a:r>
              <a:rPr b="0" lang="el-GR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alu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presenting clusters with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edoi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908000" y="1341360"/>
          <a:ext cx="4608360" cy="5076720"/>
        </p:xfrm>
        <a:graphic>
          <a:graphicData uri="http://schemas.openxmlformats.org/drawingml/2006/table">
            <a:tbl>
              <a:tblPr/>
              <a:tblGrid>
                <a:gridCol w="2160720"/>
                <a:gridCol w="24476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an Val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do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uited only for continuous dom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uited for either cont. or discrete dom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gorithms using means are sensitive to out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gorithms using medoids  are less sensitive to out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3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he mean possess a clear geometrical and statistical 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3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he medoid has not a clear geometrical 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4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gorithms using means are not computationally dem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4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gorithms using medoids are more computationally dem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4C4-6DCA-47C7-AB34-4EC817A6E32B}" type="slidenum">
              <a:t>52</a:t>
            </a:fld>
          </a:p>
        </p:txBody>
      </p:sp>
    </p:spTree>
  </p:cSld>
  <p:transition>
    <p:random/>
  </p:transition>
  <p:timing>
    <p:tnLst>
      <p:par>
        <p:cTn id="1775" dur="indefinite" restart="never" nodeType="tmRoot">
          <p:childTnLst>
            <p:seq>
              <p:cTn id="1776" dur="indefinite" nodeType="mainSeq">
                <p:childTnLst>
                  <p:par>
                    <p:cTn id="1777" fill="hold">
                      <p:stCondLst>
                        <p:cond delay="0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546200" y="3846600"/>
            <a:ext cx="6121440" cy="2606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08000" y="115920"/>
            <a:ext cx="88567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-Medoids Algorithms 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It illustrates the first two points in the above compari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) The five-point two-dimensional set stems from the discrete doma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{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Its medoid is the circled point an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ts m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 point, which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oes not belong to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)  In the six-point two-dimensional set , the poi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9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be considered as an outlier. Whil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e outlier affects significantly the m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set,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t does not affect its medoi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351-D992-48D1-BA79-4C72B90817A2}" type="slidenum">
              <a:t>53</a:t>
            </a:fld>
          </a:p>
        </p:txBody>
      </p:sp>
    </p:spTree>
  </p:cSld>
  <p:transition>
    <p:random/>
  </p:transition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8000" y="115920"/>
            <a:ext cx="88567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lgorithms to be consi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M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tion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oi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uster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L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lic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NS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uster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g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lications base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R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miz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r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PAM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equir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prior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finitions-prelimin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sets of medoid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ach one consisting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are call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eighbo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 the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ha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medoids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 can hav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eighb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 the neighbor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results i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-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place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1A49-6559-45BC-9340-6FE7CD2EED65}" type="slidenum">
              <a:t>54</a:t>
            </a:fld>
          </a:p>
        </p:txBody>
      </p:sp>
    </p:spTree>
  </p:cSld>
  <p:transition>
    <p:random/>
  </p:transition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8856720" cy="67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PAM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termination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that best represents th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te a s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doids, randomly selected ou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) Determine the neighb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-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mong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-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eighbors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which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m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000" spc="-1" strike="noStrike" baseline="-44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, 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44000">
                <a:solidFill>
                  <a:srgbClr val="000000"/>
                </a:solidFill>
                <a:latin typeface="Times New Roman"/>
              </a:rPr>
              <a:t>X-</a:t>
            </a:r>
            <a:r>
              <a:rPr b="0" i="1" lang="el-GR" sz="2000" spc="-1" strike="noStrike" baseline="-44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negative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128320" indent="-33588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y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128320" indent="-33588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 to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ssignment of points to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 each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-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the cluster represented by the closes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doi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utation of </a:t>
            </a:r>
            <a:r>
              <a:rPr b="0" i="1" lang="el-GR" sz="2000" spc="-1" strike="noStrike">
                <a:solidFill>
                  <a:srgbClr val="3333cc"/>
                </a:solidFill>
                <a:latin typeface="Times New Roman"/>
              </a:rPr>
              <a:t>Δ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It is defined 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difference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ulting from the (possible) assignment of the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cluster it currently belongs to another, as a consequence of the replacement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219640" y="4784760"/>
                <a:ext cx="18003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77F-04E2-4179-BBFC-42AD890ADFD3}" type="slidenum">
              <a:t>55</a:t>
            </a:fld>
          </a:p>
        </p:txBody>
      </p:sp>
    </p:spTree>
  </p:cSld>
  <p:transition>
    <p:random/>
  </p:transition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8000" y="217080"/>
            <a:ext cx="903600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PAM algorithm (co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utation of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u="sng" baseline="-25000">
                <a:solidFill>
                  <a:srgbClr val="3333cc"/>
                </a:solidFill>
                <a:uFillTx/>
                <a:latin typeface="Times New Roman"/>
              </a:rPr>
              <a:t>h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longs to the cluster represented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second closes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presentative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i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longs to the cluster represented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second closes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presentative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i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(&gt;&lt;)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24360" y="4653000"/>
          <a:ext cx="2174760" cy="17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4653000"/>
                    <a:ext cx="217476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659480" y="2133720"/>
          <a:ext cx="1712880" cy="167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59480" y="2133720"/>
                    <a:ext cx="171288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732720" y="4863960"/>
          <a:ext cx="2084400" cy="1013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32720" y="4863960"/>
                    <a:ext cx="20844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D51B-54F4-4013-8DCA-E307F01769D6}" type="slidenum">
              <a:t>56</a:t>
            </a:fld>
          </a:p>
        </p:txBody>
      </p:sp>
    </p:spTree>
  </p:cSld>
  <p:transition>
    <p:random/>
  </p:transition>
  <p:timing>
    <p:tnLst>
      <p:par>
        <p:cTn id="1911" dur="indefinite" restart="never" nodeType="tmRoot">
          <p:childTnLst>
            <p:seq>
              <p:cTn id="1912" dur="indefinite" nodeType="mainSeq">
                <p:childTnLst>
                  <p:par>
                    <p:cTn id="1913" fill="hold">
                      <p:stCondLst>
                        <p:cond delay="0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480" y="189000"/>
            <a:ext cx="885024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PAM algorithm (c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utation of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u="sng" baseline="-25000">
                <a:solidFill>
                  <a:srgbClr val="3333cc"/>
                </a:solidFill>
                <a:uFillTx/>
                <a:latin typeface="Times New Roman"/>
              </a:rPr>
              <a:t>h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cont.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represented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closes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doid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represented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closes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doid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i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97320" y="1844640"/>
          <a:ext cx="121140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97320" y="1844640"/>
                    <a:ext cx="12114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805280" y="4608360"/>
          <a:ext cx="2503440" cy="191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5280" y="4608360"/>
                    <a:ext cx="25034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42BB-1B90-4415-A088-09934FB87936}" type="slidenum">
              <a:t>57</a:t>
            </a:fld>
          </a:p>
        </p:txBody>
      </p:sp>
    </p:spTree>
  </p:cSld>
  <p:transition>
    <p:random/>
  </p:transition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fill="hold">
                      <p:stCondLst>
                        <p:cond delay="0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8000" y="404640"/>
            <a:ext cx="88567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PAM algorithm (co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mental results show the PAM work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atisfactorily with small data se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computational complexity per iteration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-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nsuitable for large data se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9B8-6DE7-4B20-9333-8CB6C53B7771}" type="slidenum">
              <a:t>58</a:t>
            </a:fld>
          </a:p>
        </p:txBody>
      </p:sp>
    </p:spTree>
  </p:cSld>
  <p:transition>
    <p:random/>
  </p:transition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0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43920"/>
            <a:ext cx="8856720" cy="681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e CLARA algorith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more suitable for large data se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trate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randomly a samp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siz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entire data s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the PAM algorithm to determine 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best represen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place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represent the entir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ration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ing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been selected in a way representative of the statistical distribution of the data poin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ll be a good approximation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ich would have been produced if PAM were run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ample subsets of siz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deno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ypical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+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PAM on each one of them and identify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,…,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the s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minimiz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the entir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340000" y="5877000"/>
                <a:ext cx="3600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'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CF6-FB60-49AB-844F-248A0477202A}" type="slidenum">
              <a:t>59</a:t>
            </a:fld>
          </a:p>
        </p:txBody>
      </p:sp>
    </p:spTree>
  </p:cSld>
  <p:transition>
    <p:random/>
  </p:transition>
  <p:timing>
    <p:tnLst>
      <p:par>
        <p:cTn id="1999" dur="indefinite" restart="never" nodeType="tmRoot">
          <p:childTnLst>
            <p:seq>
              <p:cTn id="2000" dur="indefinite" nodeType="mainSeq">
                <p:childTnLst>
                  <p:par>
                    <p:cTn id="2001" fill="hold">
                      <p:stCondLst>
                        <p:cond delay="0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termination condition for GMDAS i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)-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|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n appropriate vector norm a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small user-defined const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bove scheme is guaranteed 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nverge to a global or a local maximum of the loglikelihood fun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ce the algorithm has converged,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’s are assigned to clusters according to the Bayes ru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83DF-3FC4-415E-BFB3-7150F84469F4}" type="slidenum">
              <a:t>6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885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he CLARANS algorith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is more suitable for large data set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follows the philosophy of PAM with the difference that only a fractio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&lt;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-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f the neighbors of the current set of medoids is consider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performs several runs 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starting from different initial conditions fo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The algorith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ize randomly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) Select randoml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neighbors of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* If the present neighbor of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s better than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in terms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th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- Set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 to its neighb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- Go to (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* End I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F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Fo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the best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ed on this set of medoids assign each vector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luster whose representative is closest to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D24-7320-4CBE-A076-4A9B97BBD7D1}" type="slidenum">
              <a:t>60</a:t>
            </a:fld>
          </a:p>
        </p:txBody>
      </p:sp>
    </p:spTree>
  </p:cSld>
  <p:transition>
    <p:random/>
  </p:transition>
  <p:timing>
    <p:tnLst>
      <p:par>
        <p:cTn id="2063" dur="indefinite" restart="never" nodeType="tmRoot">
          <p:childTnLst>
            <p:seq>
              <p:cTn id="2064" dur="indefinite" nodeType="mainSeq">
                <p:childTnLst>
                  <p:par>
                    <p:cTn id="2065" fill="hold">
                      <p:stCondLst>
                        <p:cond delay="0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1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1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1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1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1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1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1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1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1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1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18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18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2320" y="475920"/>
            <a:ext cx="90313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396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CLARANS algorithm (co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3960" indent="-18900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NS depends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ypically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max(0.12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-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pproach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-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RANS approaches PAM and the complexity incre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NS can also be described in terms of graph theory concep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NS unravels better quality clusters than CLA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some cases, CLARA is significantly faster than CLARA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NS retains its quadratic computational nature and thus it is not appropriate for very large data se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252E-DCAB-4915-A512-AD44BE60D1C6}" type="slidenum">
              <a:t>61</a:t>
            </a:fld>
          </a:p>
        </p:txBody>
      </p:sp>
    </p:spTree>
  </p:cSld>
  <p:transition>
    <p:random/>
  </p:transition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fill="hold">
                      <p:stCondLst>
                        <p:cond delay="0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7640" y="115560"/>
            <a:ext cx="8785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act and Hyperellipsoidal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is cas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ach cluster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is modeled by a normal distributio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ff0000"/>
                </a:solidFill>
                <a:uFillTx/>
                <a:latin typeface="Times New Roman"/>
              </a:rPr>
              <a:t>μ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l-GR" sz="2000" spc="-1" strike="noStrike">
                <a:solidFill>
                  <a:srgbClr val="ff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ists of the parameters of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he (independent) parameters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this cas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. (1) in GMDAS is replaced 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. (2) in GMDAS is replaced by the equ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63640" y="2179800"/>
                <a:ext cx="41767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16000" y="3770280"/>
                <a:ext cx="57610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;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004760" y="5530680"/>
                <a:ext cx="23432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708360" y="5543640"/>
                <a:ext cx="38880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CBE-D751-466F-9D0B-B2F6F241A57A}" type="slidenum">
              <a:t>7</a:t>
            </a:fld>
          </a:p>
        </p:txBody>
      </p:sp>
    </p:spTree>
  </p:cSld>
  <p:transition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2080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2868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bove schem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mputationally very demand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ince it requires the inversion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variance matrices at each iteration step. Two ways to deal with this problem ar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2868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se of 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ngle covariance matrix for all clust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2868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se of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ifferent diagonal covariance matr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a) Consider three two-dimensional normal distributions with mean valu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1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covariance matr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ective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ctors stem from each distribution. These form th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476360" y="4149720"/>
                <a:ext cx="62643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C91-190A-497C-9A85-FA131856D764}" type="slidenum">
              <a:t>8</a:t>
            </a:fld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800" y="333360"/>
            <a:ext cx="7270920" cy="3247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38955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usion matri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700360" y="4076640"/>
          <a:ext cx="5687640" cy="1726920"/>
        </p:xfrm>
        <a:graphic>
          <a:graphicData uri="http://schemas.openxmlformats.org/drawingml/2006/table">
            <a:tbl>
              <a:tblPr/>
              <a:tblGrid>
                <a:gridCol w="1990440"/>
                <a:gridCol w="1208880"/>
                <a:gridCol w="1244160"/>
                <a:gridCol w="1244160"/>
              </a:tblGrid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s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d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rd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181800" y="5985000"/>
            <a:ext cx="78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algorithm reveals accurately the underlying stru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84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data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45080" y="327816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s of GM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DF8-21D3-4EB2-9C3D-0AA8D171122A}" type="slidenum">
              <a:t>9</a:t>
            </a:fld>
          </a:p>
        </p:txBody>
      </p:sp>
    </p:spTree>
  </p:cSld>
  <p:transition>
    <p:random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12-22T11:29:34Z</dcterms:modified>
  <cp:revision>859</cp:revision>
  <dc:subject/>
  <dc:title>PowerPoint Presentation</dc:title>
</cp:coreProperties>
</file>