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0F4E-5979-46F4-BF8E-E1320CF9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4320-4930-4246-9224-6E4B3D91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4C8D-D604-4456-9057-3F8838AA1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C2C0-98CD-48E0-8FA8-C2D92804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DF07-C608-40FE-8C98-591BA606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AA87-7516-4055-969D-BC47976E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C673-F803-4389-9F77-C0E5E1E1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5514-F0CE-4419-9127-B28A40F0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89EA-1CE1-43E3-8ADE-3E8D0AF8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36B8-C14D-445C-865D-09B49F61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66CD-9A22-45D8-A069-85825A3C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66EA-E6DE-4E87-AF33-7C87A033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0736-6D3C-4539-99B7-21A57B4EA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AFDesign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iroslav Lutovac, Dejan Tosic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Attenuation plot: passband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95280" y="1390680"/>
            <a:ext cx="6553440" cy="5391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52280" y="2514600"/>
            <a:ext cx="2057400" cy="1371600"/>
          </a:xfrm>
          <a:prstGeom prst="wedgeRectCallout">
            <a:avLst>
              <a:gd name="adj1" fmla="val 94907"/>
              <a:gd name="adj2" fmla="val 236689"/>
            </a:avLst>
          </a:prstGeom>
          <a:solidFill>
            <a:srgbClr val="cc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chang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5410080"/>
            <a:ext cx="114300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Edit specification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47840" y="2038320"/>
            <a:ext cx="4648320" cy="4438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895480" y="3733920"/>
            <a:ext cx="19051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19920" y="2438280"/>
            <a:ext cx="99036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Redesign: Click D1, Click Pass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95280" y="1314360"/>
            <a:ext cx="6553440" cy="5391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80880" y="617220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7848360" y="5486400"/>
            <a:ext cx="99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52880" y="1600200"/>
            <a:ext cx="76212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2743200"/>
            <a:ext cx="76176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4648320"/>
            <a:ext cx="2971800" cy="914400"/>
          </a:xfrm>
          <a:prstGeom prst="wedgeRoundRectCallout">
            <a:avLst>
              <a:gd name="adj1" fmla="val 57532"/>
              <a:gd name="adj2" fmla="val 148787"/>
              <a:gd name="adj3" fmla="val 16667"/>
            </a:avLst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zoom the p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Zoom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 zooms attenuation plo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95280" y="1390680"/>
            <a:ext cx="6553440" cy="5391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4876920"/>
            <a:ext cx="2971800" cy="609480"/>
          </a:xfrm>
          <a:prstGeom prst="wedgeRoundRectCallout">
            <a:avLst>
              <a:gd name="adj1" fmla="val 57532"/>
              <a:gd name="adj2" fmla="val 210675"/>
              <a:gd name="adj3" fmla="val 16667"/>
            </a:avLst>
          </a:prstGeom>
          <a:solidFill>
            <a:srgbClr val="cc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frequency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4343400"/>
            <a:ext cx="2666880" cy="914400"/>
          </a:xfrm>
          <a:prstGeom prst="wedgeRoundRectCallout">
            <a:avLst>
              <a:gd name="adj1" fmla="val 69819"/>
              <a:gd name="adj2" fmla="val 157120"/>
              <a:gd name="adj3" fmla="val 16667"/>
            </a:avLst>
          </a:prstGeom>
          <a:solidFill>
            <a:srgbClr val="cc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number of plot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hoose the AFDesign folder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471680" y="2638440"/>
          <a:ext cx="6200640" cy="15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1680" y="2638440"/>
                    <a:ext cx="620064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811680" y="2819520"/>
            <a:ext cx="3500280" cy="758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Run AFDesign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86080" y="2057400"/>
          <a:ext cx="2505240" cy="33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080" y="2057400"/>
                    <a:ext cx="2505240" cy="33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895480" y="4495680"/>
            <a:ext cx="27432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lick ANALOG design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461960" y="1971720"/>
          <a:ext cx="6220080" cy="29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960" y="1971720"/>
                    <a:ext cx="622008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4952880" y="4038480"/>
            <a:ext cx="236232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View example specification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553440" cy="5391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4876920"/>
            <a:ext cx="2206800" cy="1527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Example AFDesign specification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553440" cy="5391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523880" y="2666880"/>
            <a:ext cx="2286000" cy="1752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2590920"/>
            <a:ext cx="3809880" cy="1828800"/>
          </a:xfrm>
          <a:prstGeom prst="wedgeRoundRectCallout">
            <a:avLst>
              <a:gd name="adj1" fmla="val -135583"/>
              <a:gd name="adj2" fmla="val 148351"/>
              <a:gd name="adj3" fmla="val 16667"/>
            </a:avLst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desig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a design butt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clic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ign alternative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MATLAB Command window shows the design summary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828800" y="1749600"/>
          <a:ext cx="5475240" cy="48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749600"/>
                    <a:ext cx="5475240" cy="48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numD, denD are transfer function numerator and denominator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2048040"/>
          <a:ext cx="8218440" cy="41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48040"/>
                    <a:ext cx="8218440" cy="41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228600" y="2057400"/>
            <a:ext cx="152388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3962520"/>
            <a:ext cx="152388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1752480"/>
            <a:ext cx="5410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use variables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p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or further calc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Attenuation plot 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after you click design button D1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553440" cy="5391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438280" y="3884760"/>
            <a:ext cx="4341960" cy="987120"/>
          </a:xfrm>
          <a:prstGeom prst="wedgeRoundRectCallout">
            <a:avLst>
              <a:gd name="adj1" fmla="val 61518"/>
              <a:gd name="adj2" fmla="val 125402"/>
              <a:gd name="adj3" fmla="val 16667"/>
            </a:avLst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see passband, transition, stop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9:56:34Z</dcterms:created>
  <dc:creator>Dejan Tosic</dc:creator>
  <dc:description/>
  <dc:language>en-US</dc:language>
  <cp:lastModifiedBy>Dejan Tosic</cp:lastModifiedBy>
  <dcterms:modified xsi:type="dcterms:W3CDTF">2005-02-28T22:27:14Z</dcterms:modified>
  <cp:revision>27</cp:revision>
  <dc:subject/>
  <dc:title>AFDesign</dc:title>
</cp:coreProperties>
</file>