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F41-1FA4-4FF5-B92C-FB331534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8D8E-D9F3-4C97-ADCC-D627A5E9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3B7-E4A0-4DF9-ADA7-8396D153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292-C2F7-4A99-B7F9-13355CF6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614-285D-4347-918E-B2A3E75E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356-2B23-4909-A07F-450494DF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0C9-ACC1-48F1-B4D8-4C76E177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6EA-4BA3-4817-BF50-39D96000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587-B67E-48A1-965D-9E5F47C2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64E-316E-4932-A276-F2BE1287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371-2A87-4D84-A119-8BA29361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948-5869-4B25-8869-A7917F6B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68B0-A056-4737-8A8C-FEBFC9454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DrawFil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iroslav Lutovac, Dejan Tosic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450040" y="5391000"/>
          <a:ext cx="351468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50040" y="5391000"/>
                    <a:ext cx="351468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965920" y="1844640"/>
          <a:ext cx="134280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65920" y="1844640"/>
                    <a:ext cx="1342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Let’s draw inpu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43927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I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button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91120" indent="-59112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int and click wher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put node should appea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91120" indent="-59112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ew element appears on the schematic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67280" y="2349360"/>
            <a:ext cx="2305080" cy="35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435640" y="3429000"/>
          <a:ext cx="3591000" cy="120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3429000"/>
                    <a:ext cx="359100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4572000" y="3429000"/>
            <a:ext cx="230508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5445000"/>
            <a:ext cx="194328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xample RLC schematic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68360" y="1851120"/>
          <a:ext cx="1554120" cy="200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51120"/>
                    <a:ext cx="1554120" cy="20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666880" y="1844640"/>
            <a:ext cx="3810240" cy="936720"/>
          </a:xfrm>
          <a:prstGeom prst="wedgeRoundRectCallout">
            <a:avLst>
              <a:gd name="adj1" fmla="val -68375"/>
              <a:gd name="adj2" fmla="val 115930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utton to start a new sch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262400" y="3500280"/>
          <a:ext cx="3981600" cy="27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2400" y="3500280"/>
                    <a:ext cx="39816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50920" y="4941720"/>
            <a:ext cx="3673440" cy="1727280"/>
          </a:xfrm>
          <a:prstGeom prst="wedgeRoundRectCallout">
            <a:avLst>
              <a:gd name="adj1" fmla="val 131287"/>
              <a:gd name="adj2" fmla="val -72611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raw the schematic;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se the buttons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RND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V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and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6732720" y="2852640"/>
          <a:ext cx="218124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2852640"/>
                    <a:ext cx="21812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24000" y="1809720"/>
          <a:ext cx="1180800" cy="16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809720"/>
                    <a:ext cx="118080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Delete the OUT elemen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1844640"/>
            <a:ext cx="3810240" cy="936720"/>
          </a:xfrm>
          <a:prstGeom prst="wedgeRoundRectCallout">
            <a:avLst>
              <a:gd name="adj1" fmla="val -79833"/>
              <a:gd name="adj2" fmla="val 18305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LET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utton to delete 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789360"/>
            <a:ext cx="4321080" cy="1368360"/>
          </a:xfrm>
          <a:prstGeom prst="wedgeRoundRectCallout">
            <a:avLst>
              <a:gd name="adj1" fmla="val 113263"/>
              <a:gd name="adj2" fmla="val -56263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near the node of the element you want to delete. The element appears in g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397400" y="5608800"/>
          <a:ext cx="4638600" cy="113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7400" y="5608800"/>
                    <a:ext cx="463860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08000" y="5734080"/>
            <a:ext cx="3024000" cy="936720"/>
          </a:xfrm>
          <a:prstGeom prst="wedgeRoundRectCallout">
            <a:avLst>
              <a:gd name="adj1" fmla="val 89578"/>
              <a:gd name="adj2" fmla="val 13560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left mouse button to 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364000" y="4098960"/>
          <a:ext cx="3695760" cy="27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4098960"/>
                    <a:ext cx="369576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724800" y="2060640"/>
          <a:ext cx="2095200" cy="14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24800" y="2060640"/>
                    <a:ext cx="209520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dit C1 elemen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1844640"/>
            <a:ext cx="3810240" cy="936720"/>
          </a:xfrm>
          <a:prstGeom prst="wedgeRoundRectCallout">
            <a:avLst>
              <a:gd name="adj1" fmla="val -81583"/>
              <a:gd name="adj2" fmla="val -18643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DI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utton to change element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3213000"/>
            <a:ext cx="4321440" cy="1368360"/>
          </a:xfrm>
          <a:prstGeom prst="wedgeRoundRectCallout">
            <a:avLst>
              <a:gd name="adj1" fmla="val 123069"/>
              <a:gd name="adj2" fmla="val -94777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near the node of the element you want to edit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element appears in g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5661000"/>
            <a:ext cx="3024360" cy="936720"/>
          </a:xfrm>
          <a:prstGeom prst="wedgeRoundRectCallout">
            <a:avLst>
              <a:gd name="adj1" fmla="val 130893"/>
              <a:gd name="adj2" fmla="val 39662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yp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\it C}_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to change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66"/>
                </a:solidFill>
                <a:latin typeface="Courier New"/>
              </a:rPr>
              <a:t>C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4000" y="1874880"/>
          <a:ext cx="933480" cy="126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1874880"/>
                    <a:ext cx="93348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55640" y="4797360"/>
            <a:ext cx="3384720" cy="576360"/>
          </a:xfrm>
          <a:prstGeom prst="wedgeRoundRectCallout">
            <a:avLst>
              <a:gd name="adj1" fmla="val 83115"/>
              <a:gd name="adj2" fmla="val 13634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hange the color to ‘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24360" y="1628640"/>
            <a:ext cx="4057560" cy="258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8028000" y="4200480"/>
          <a:ext cx="942840" cy="265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28000" y="4200480"/>
                    <a:ext cx="94284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09440" y="476280"/>
          <a:ext cx="933480" cy="26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9440" y="476280"/>
                    <a:ext cx="93348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1640" y="6091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ave the schematic to file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429000"/>
            <a:ext cx="3817800" cy="936720"/>
          </a:xfrm>
          <a:prstGeom prst="wedgeRoundRectCallout">
            <a:avLst>
              <a:gd name="adj1" fmla="val -31703"/>
              <a:gd name="adj2" fmla="val -100509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ave a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utton to save schematic to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157720"/>
            <a:ext cx="4321080" cy="647640"/>
          </a:xfrm>
          <a:prstGeom prst="wedgeRoundRectCallout">
            <a:avLst>
              <a:gd name="adj1" fmla="val 59222"/>
              <a:gd name="adj2" fmla="val -247305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ype the name of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5921280"/>
            <a:ext cx="4824360" cy="936720"/>
          </a:xfrm>
          <a:prstGeom prst="wedgeRoundRectCallout">
            <a:avLst>
              <a:gd name="adj1" fmla="val 62865"/>
              <a:gd name="adj2" fmla="val -19324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PE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utton to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pen existing schematic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8000" y="1916280"/>
            <a:ext cx="5410080" cy="47815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Combine schematic with other plots</a:t>
            </a: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19640" y="2349360"/>
            <a:ext cx="3816360" cy="863640"/>
          </a:xfrm>
          <a:prstGeom prst="wedgeRectCallout">
            <a:avLst>
              <a:gd name="adj1" fmla="val -53245"/>
              <a:gd name="adj2" fmla="val 119300"/>
            </a:avLst>
          </a:prstGeom>
          <a:solidFill>
            <a:srgbClr val="dfffff"/>
          </a:solidFill>
          <a:ln w="38160">
            <a:solidFill>
              <a:srgbClr val="000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subplot(2,1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dfirtdfa(0,0,4,5,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What is DrawFilt?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DrawFil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s a MATLAB toolbox for creating schematics of filters and system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y mouse point-and-click you draw schematics in MATLAB figure window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chematics are saved as M-files that can be called as standalone MATLAB func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e these functions in your MATLAB scripts to illustrate or document the filter realization on which you work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How to install DrawFilt?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rawFil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s distributed in compressed form as the file DF28.zip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compress DF28.zip with path names;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r example, if you decompres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rawFil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n the folder C:\afd, you obtai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Courier New"/>
              </a:rPr>
              <a:t>C:\afd\DrawFil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Courier New"/>
              </a:rPr>
              <a:t>C:\afd\DrawFilt\albu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Add DrawFilt to MATLAB path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rawFil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directory (folder) has to be appended to the MATLAB pat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r example, add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rawFil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to the MATLAB path with the comman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Courier New"/>
              </a:rPr>
              <a:t>path(path,'C:\afd\DrawFilt'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9280" y="2662200"/>
          <a:ext cx="8669520" cy="23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62200"/>
                    <a:ext cx="866952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hange to the working folder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3174840"/>
            <a:ext cx="4392360" cy="758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452600" y="2355840"/>
          <a:ext cx="621504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2355840"/>
                    <a:ext cx="621504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Run DrawFil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13160" y="3809880"/>
            <a:ext cx="27432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7960" y="42840"/>
            <a:ext cx="866808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Let’s draw resistor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482436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button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int and click wher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rst node should appea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int and click wher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node should appea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ou can draw only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rizontal or vertical elemen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537160" y="1700280"/>
          <a:ext cx="357192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7160" y="1700280"/>
                    <a:ext cx="35719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995640" y="2276640"/>
            <a:ext cx="16560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508720" y="3619440"/>
            <a:ext cx="3571920" cy="11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5445000" y="5459400"/>
          <a:ext cx="3591000" cy="12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45000" y="5459400"/>
                    <a:ext cx="359100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932360" y="3213000"/>
            <a:ext cx="208764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340000" y="3933720"/>
            <a:ext cx="547200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564000" y="1844640"/>
          <a:ext cx="551484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844640"/>
                    <a:ext cx="551484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635280" y="3716280"/>
          <a:ext cx="5372280" cy="12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3716280"/>
                    <a:ext cx="537228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835440" y="5573880"/>
          <a:ext cx="5200560" cy="109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35440" y="5573880"/>
                    <a:ext cx="52005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rompts tell you what to do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2268000"/>
            <a:ext cx="3168720" cy="41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a button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SISTOR 1st node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SISTOR 2nd nod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2637000"/>
            <a:ext cx="4103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3716280"/>
            <a:ext cx="4465440" cy="79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5300640"/>
            <a:ext cx="4464000" cy="1081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9:56:34Z</dcterms:created>
  <dc:creator>Miroslav Lutovac, Dejan Tosic</dc:creator>
  <dc:description/>
  <dc:language>en-US</dc:language>
  <cp:lastModifiedBy>nn</cp:lastModifiedBy>
  <dcterms:modified xsi:type="dcterms:W3CDTF">2005-03-05T03:18:54Z</dcterms:modified>
  <cp:revision>53</cp:revision>
  <dc:subject/>
  <dc:title>DrawFilt</dc:title>
</cp:coreProperties>
</file>