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C1E-A50B-43AA-B6C6-E47AF2B1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53E-AF2E-41DE-BBA1-2A121A59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D27-476F-44EA-B943-3555FF5D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ABB-0C00-447C-870F-5D583948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20F-C197-45C1-B9E3-76C6BAD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B54-B745-4998-AB04-99D110B6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5E9-2A7F-4D23-B108-C4691659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C3B-6F9D-4481-B305-3B940BE3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2E6-C6BD-4124-A7C0-4EE56660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E3F-56B3-4195-8E80-639A62E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214-3D74-4D34-B31A-AF283ECC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C20-6DDE-4B7C-9EC2-96CA0357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F4E1-8F4F-43CB-87B3-C1A8D98EA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ignal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4000" y="16257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 for sin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2060280"/>
            <a:ext cx="814680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step = 0.0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t1:tstep:t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Xs*sin(2*pi*fs*t+fi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lot(t, x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label('x_s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95640" y="130644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dvanced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co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56908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s  = 1.8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 = 10;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 = pi/3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1 = -0.1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2 = 0.2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 = inline('Xs*sin(2*pi*fs*t+fi)','t','Xs','fs','fi')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lot(x,t,2e-3,1,'-',Xs,fs,fi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label('t'); ylabel('x_s'); grid 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itle('x_s(t) = X_s sin(2 \pi f_s t + \phi_s)'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95640" y="2997360"/>
            <a:ext cx="5038920" cy="3778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08480" y="1574640"/>
                <a:ext cx="2268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79280" y="266076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Xe*exp(b*t)','t','Xe','b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= -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2e-3,1,'-',Xe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e(t) = X_e e^{b t}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ri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744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67000" y="1380960"/>
                <a:ext cx="26082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50920" y="2997360"/>
            <a:ext cx="36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t&gt;0', 't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ignal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24560" y="3000240"/>
            <a:ext cx="4411440" cy="3308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ulse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1413000"/>
                <a:ext cx="24400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t</m:t>
                            </m:r>
                            <m:r>
                              <m:t xml:space="preserve">≤</m:t>
                            </m:r>
                            <m:r>
                              <m:t xml:space="preserve">ε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0920" y="2646360"/>
            <a:ext cx="70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inline('(1/e)*((t&gt;0)&amp;(t&lt;=e))','t','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 = 1/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2 =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[t1, t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plot(x,t,1e-5,1000,'-',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(gca,'FontSize',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p_\epsilon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t -0.1 1.1/e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Pulse function, \epsilon = 1/100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ignal (Dirac delta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203640" y="2133720"/>
                <a:ext cx="26416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78160" y="3454560"/>
                <a:ext cx="249084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8680" y="4430880"/>
                <a:ext cx="196380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it is zero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&lt; 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usal signals are readily created by multiplying any continuous signal by the unit step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stant when the signal begins is called the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tarting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sually take the starting time to b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064040" y="220500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ignal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67040"/>
            <a:ext cx="410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0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 = 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f = 0.5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hi = 3*pi/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-5:0.05: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B^a*exp(-a*t).*sin(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2*pi*f*t+ph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u = x.*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t&gt;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,t,u,t,x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 (s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0,1.2,'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-4,-1.1,'x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ext(5,-.6,'x(t)*u(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t(1) t(end) -1.5 1.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ignal – Sequence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(discrete-time signal, discrete signal, data sequence, or sample set) is a collection of ordered s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practical applications we process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te-leng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eque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existing sequence is often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ed version of a continuous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49360" y="1346040"/>
                <a:ext cx="43862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k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70865"/>
              <a:gd name="adj4" fmla="val 272606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29578"/>
              <a:gd name="adj4" fmla="val -47842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645000"/>
            <a:ext cx="1728720" cy="431640"/>
          </a:xfrm>
          <a:prstGeom prst="borderCallout1">
            <a:avLst>
              <a:gd name="adj1" fmla="val 18750"/>
              <a:gd name="adj2" fmla="val -8333"/>
              <a:gd name="adj3" fmla="val -362500"/>
              <a:gd name="adj4" fmla="val -8787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ple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9080" y="296388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740720" y="4508640"/>
            <a:ext cx="1143000" cy="431640"/>
          </a:xfrm>
          <a:prstGeom prst="borderCallout1">
            <a:avLst>
              <a:gd name="adj1" fmla="val 18750"/>
              <a:gd name="adj2" fmla="val -8333"/>
              <a:gd name="adj3" fmla="val -494851"/>
              <a:gd name="adj4" fmla="val -216111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inuous or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rete-tim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analog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sic discrete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ized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git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l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dom sign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presentation of signals in 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LA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ponenti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02080" y="1555920"/>
                <a:ext cx="2079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79280" y="2660760"/>
            <a:ext cx="381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e  = 0.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= 0.75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e*a.^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x_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x_{e,k} = X_e a^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97440" y="2530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step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50920" y="299736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u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step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2746440"/>
            <a:ext cx="50385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067280" y="2819520"/>
            <a:ext cx="5038560" cy="3778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Unit impulse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03720" y="1380960"/>
                <a:ext cx="2533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50920" y="2997360"/>
            <a:ext cx="432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1 = -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2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k = k1:k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(k=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em(k,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label('\delta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itle('Unit impulse sequence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xis([k1 k2 -0.1 1.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that is nonzero only over a finite interval of indices is called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equence whose samples are zero-valued for negative indices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aus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Anti-causal seq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can hav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nzero samples only for negative ind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 sequences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55736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B = 0.94; a = 0.1; f = 0.3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-10:1: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(B.^k).*cos(2*pi*f*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 = (k&gt;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ux = x.*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,'b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ubplot(3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ux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 u_k','FontSize',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axis([k(1) k(end) -2 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5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Quantized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urpose of sampling a continuous signal is to transmit, store, or process a limited number of samples that are represented by a limited number of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y using fewer digits we attain faster transmission and smaller storage requirements for the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utilize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quantiz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samples rather than the true samples of infinite accurac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hoice of digits for quant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ice of digits for quantization should be done properly: in transmitting, storing, and processing we prefer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ss digi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 too small a number of digits we ca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formation from the original sign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opposing requirements must be satisfied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acilitat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signal transmission or storing, an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ximize number of digits t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ep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the quantization error as low as necessary in order to preserve the inform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2001960"/>
            <a:ext cx="43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 = 0: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0.2+2*sin(0.245*t+0.1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d = 0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q = d*round(x/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t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t,xq,'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(t), x_q(kT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t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analog signal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digital (quantized)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22720" y="1538280"/>
            <a:ext cx="49500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terministic and random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 be described by an explicit mathematical for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rministic signal can be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aperiod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iodic signal consists of a basic shape of finite duration that is replicated infinite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gnal that cannot be described in an explicit mathematical for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rando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also known a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nondeterminist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tochas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03600" y="2251080"/>
            <a:ext cx="5502240" cy="3870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[0 s m 1]; 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Uniform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ignal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: voice of my friend is a signal which causes me to perform certain actions or react in a particular wa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friend's voice is called an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excit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y action or reaction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5600" y="1822320"/>
            <a:ext cx="5613480" cy="43434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andom signal in M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TLAB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633680"/>
            <a:ext cx="54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k = 0:1:5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 = </a:t>
            </a:r>
            <a:r>
              <a:rPr b="1" lang="fr-FR" sz="1800" spc="-1" strike="noStrike">
                <a:solidFill>
                  <a:srgbClr val="800000"/>
                </a:solidFill>
                <a:latin typeface="Courier New"/>
              </a:rPr>
              <a:t>randn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(size(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m = mea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 = std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tem(k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plot(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m m],'r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k(1) k(end)]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[s s],'g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hold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xlabel('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label('x_k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legend('random seq'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'mean','st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ytick = sort([-2 s m 2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set(gca,'YTick',yt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urier New"/>
              </a:rPr>
              <a:t>title('Normally distributed samples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ignal process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conversion from excitation to response is called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typical reason for signal processing is to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liminate or redu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 undesirabl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ver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e original signal into a form that is suitable for further process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e fundamental representation of a signal is as a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t least one independent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waveform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variation of the signal value as a function of the independent variable is called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wavefor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dependent variable often represent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define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function of one independent variable that contains information about the behavior or nature of a phenomen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 or analog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ignal that exists at every instant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jargon of the trade, a continuous signal is often referred to as </a:t>
            </a:r>
            <a:br>
              <a:rPr sz="3200"/>
            </a:b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tinuous tim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independent variable is 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tinuou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tinuous signal can assum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y valu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ver a continuous range of numb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ignal defined only for discrete values of time is called 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screte-time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r simply a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iscrete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crete signal can be obtained by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mpl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n analog signal at discrete instan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Digital 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discrete-time signal whose values are represented by digi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sampling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capturing a signal at an instant in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ampling means takin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mplitude valu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the signal at certain time instan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Uniform sampl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ampling ever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units of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506760" y="4484520"/>
                <a:ext cx="529452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19640" y="5373720"/>
                <a:ext cx="12855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95360" y="5229360"/>
            <a:ext cx="1871640" cy="1152360"/>
          </a:xfrm>
          <a:prstGeom prst="wedgeRoundRectCallout">
            <a:avLst>
              <a:gd name="adj1" fmla="val 100722"/>
              <a:gd name="adj2" fmla="val 1239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equency o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ing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816520"/>
            <a:ext cx="2089080" cy="792360"/>
          </a:xfrm>
          <a:prstGeom prst="wedgeRoundRectCallout">
            <a:avLst>
              <a:gd name="adj1" fmla="val -86930"/>
              <a:gd name="adj2" fmla="val 4912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tep or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ample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38360" y="1631880"/>
                <a:ext cx="4008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7245360" y="4797360"/>
            <a:ext cx="1584360" cy="647640"/>
          </a:xfrm>
          <a:prstGeom prst="borderCallout1">
            <a:avLst>
              <a:gd name="adj1" fmla="val 18750"/>
              <a:gd name="adj2" fmla="val -8333"/>
              <a:gd name="adj3" fmla="val -393138"/>
              <a:gd name="adj4" fmla="val -11953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quency in Hertz (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15920" y="2938320"/>
            <a:ext cx="5038920" cy="3778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inusoidal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4600" y="2421000"/>
            <a:ext cx="1292400" cy="4032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289189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2349360"/>
            <a:ext cx="1728720" cy="719280"/>
          </a:xfrm>
          <a:prstGeom prst="borderCallout1">
            <a:avLst>
              <a:gd name="adj1" fmla="val 18750"/>
              <a:gd name="adj2" fmla="val -8333"/>
              <a:gd name="adj3" fmla="val -18324"/>
              <a:gd name="adj4" fmla="val -63453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in radian (r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3645000"/>
            <a:ext cx="1728720" cy="718920"/>
          </a:xfrm>
          <a:prstGeom prst="borderCallout1">
            <a:avLst>
              <a:gd name="adj1" fmla="val 18750"/>
              <a:gd name="adj2" fmla="val -8333"/>
              <a:gd name="adj3" fmla="val -200662"/>
              <a:gd name="adj4" fmla="val -95685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me in second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4-11-29T14:55:22Z</dcterms:modified>
  <cp:revision>73</cp:revision>
  <dc:subject>Analog and Digital  Filter Design</dc:subject>
  <dc:title>Rewiev signals</dc:title>
</cp:coreProperties>
</file>