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CCE-F3F8-4DD3-8683-8B07DE4F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D0A-AFAB-41CA-9797-22109572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A80-FAFB-4F5D-A2B5-A0B945A8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D3D-B2F5-4324-B42C-B4BABBA9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FEE-8EEB-451B-86D5-E38DCFB8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C6E-9EB9-4361-A3B4-A9551624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517-D49C-4710-ABF9-A745C841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1BA-49CD-48D1-92A2-A0144AAA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8A5-608B-4786-8704-90131CB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5E7-3BB7-46EB-8298-B251306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AD1-BE49-4B07-B68A-B774FEA3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3DE-837C-41C3-B174-5B811ABA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0251-0930-424E-947B-8F3AF96C5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nalysis and desig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investigation of the properties and the behavior (response)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sig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the choice and arrangement of systems components to perform a specific tas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ccomplished by modifying the characteristics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synthe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we define the form of the system directly from its specif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ock diagra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 pictorial representation of a system that provides a method for characterizing the relationships among the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gle block with one input and one output is the simplest form of the block diagr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ior of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ctang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ing the block contains (a) component name,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b) component description, o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c) the symbol for the mathematical operation to be performed on input to yiel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row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 th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rection of signal 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41840" y="5516640"/>
          <a:ext cx="299088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1840" y="5516640"/>
                    <a:ext cx="29908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s of 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90560" y="1432080"/>
          <a:ext cx="576288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1432080"/>
                    <a:ext cx="57628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39640" y="2860560"/>
            <a:ext cx="3876840" cy="2800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37120" y="3533760"/>
            <a:ext cx="3638520" cy="1190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8000" y="5950080"/>
            <a:ext cx="2089080" cy="431640"/>
          </a:xfrm>
          <a:prstGeom prst="wedgeRoundRectCallout">
            <a:avLst>
              <a:gd name="adj1" fmla="val 41032"/>
              <a:gd name="adj2" fmla="val -31654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umm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6560" y="5950080"/>
            <a:ext cx="2089080" cy="431640"/>
          </a:xfrm>
          <a:prstGeom prst="wedgeRoundRectCallout">
            <a:avLst>
              <a:gd name="adj1" fmla="val -39439"/>
              <a:gd name="adj2" fmla="val -319851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akeoff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8280" cy="857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nterconnections of block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413000"/>
            <a:ext cx="2449440" cy="64908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8000" y="4622760"/>
            <a:ext cx="537192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5638680" cy="2152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200" y="3141720"/>
            <a:ext cx="2449800" cy="649080"/>
          </a:xfrm>
          <a:prstGeom prst="wedgeRoundRectCallout">
            <a:avLst>
              <a:gd name="adj1" fmla="val 102430"/>
              <a:gd name="adj2" fmla="val 18949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5587920"/>
            <a:ext cx="2449440" cy="64944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t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some systems, the output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epends not only on the input appli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but also on the input applied befor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stat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information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at, together with in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determines uniquely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ynamical equ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set of equations that describes unique relations between the input, output, and 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laxed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concept of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pplicable, the system is said to be relax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no energy is stored in the system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-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ity and stabil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yste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the output depends only on the present and past values of the in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uitively,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one that will remain at rest unless excited by an external source and will return to rest if all excitations are remov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BIBO stab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bounded-input bounded-output) if every bounded input produces a bounde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-invariant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time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a time shift in the input signal causes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ime shift in the output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case of discrete-time digital systems, we often use the term 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hift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nstead of time-invaria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racteristics and parameters of a time-invariant system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 not chan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with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ider a relaxed system in which there is one independent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linear 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ystem which has the property that i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an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arbitrary constan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inciple of superpos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respons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 linear system due to several inpu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…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cting simultaneously is equal to the sum of the responses of each input acting alo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response due to the 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87640" y="4724280"/>
                <a:ext cx="311328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finition of a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 propert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time-invariant (LTI)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ponse of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volution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exercis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near time-invariant (LTI)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5240" y="2616120"/>
            <a:ext cx="4133520" cy="153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90840" y="5157720"/>
            <a:ext cx="5962320" cy="1419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inuous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ord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coefficien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tia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292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crete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constant coefficient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sponse of an LTI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re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inpu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input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orced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state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otal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e sum of the free response and the forced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tal response can be viewed, also, as the sum of the steady-state response and transient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Steady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does not approach zero as time approaches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ransien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approaches zero as time goes to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rocedure for analyzing a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equations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each system compon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oose a model for representing the system (e.g., block diagram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mulate the system model by appropriately connected the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system characteristic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continuous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08280" y="4773600"/>
                <a:ext cx="547200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ient system specific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ep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of an LTI system to a unit step input when the state is zer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vershoo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lay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ise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ettling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746520"/>
            <a:ext cx="3762360" cy="24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88000" y="3765600"/>
            <a:ext cx="37814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discrete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909800" y="4848120"/>
                <a:ext cx="52704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ν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1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628640"/>
            <a:ext cx="4392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inline('exp(-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inline('sin(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 = inline('exp(-(t-tau)).*(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t-tau)&gt;0).*sin(tau).*(tau&gt;0)', 'tau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=inline('0.5*(exp(-t)-cos(t)+sin(t)).*(t&gt;0)',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 = 0; t2 = 6; TR = [t1, t2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plot(h, TR, 2e-3, 1, ':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x, TR, 2e-3, 1, '-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ff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impulse response', 'input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 = t1:0.2:t2; y = [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 i = 1:length(ti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[y, quad(u,0,ti(i),1e-8,0,ti(i))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d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2); plot(ti, y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t'); ylabel('forced response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r, TR, 2e-2, 1, 'o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numerical', 'exac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745160" y="1700280"/>
          <a:ext cx="4219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5160" y="1700280"/>
                    <a:ext cx="4219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5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7445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 = 0:15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((0.7).^k).*(k&gt;=0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&gt;=0) - (k&gt;=4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= conv(h,x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c(1:length(x)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h,'g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h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b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x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r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y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3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8480" y="1341360"/>
            <a:ext cx="4457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91880"/>
            <a:ext cx="8496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rawing systems in MATLAB with DrawFil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2240" y="936720"/>
            <a:ext cx="7524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ystem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s take one or more signals as input, perform operations on the signals, and produce one or more signals as out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group of related parts working together, or an ordered set of ideas, methods, or ways of work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 of a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point-of-view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n arrangement of physical components connected or related in such a manner as to form and/or act as an entire uni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gnal processing perspecti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an be viewed as any process that results in the transformation of signals, in which systems act on signals in prescribed way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thematic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mapping of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put signals onto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utput signals; the mapping carries out a transformation on the input signals according to a set of ru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definition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ngle-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S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one input and only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Multi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IM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re than one input or more than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Input-output relationship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external description) is an equation that describes the relation between the input and the output of a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ack box concep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the knowledge of the internal structure of a system is unavailable; the only access to the system is by means of the input ports and the output por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One-dimensional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required for processing a signal that is a function of the single independent vari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signal as a function of time, following the application of a set of prescribed input signals, under specified operating condi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760" y="1685880"/>
            <a:ext cx="8286480" cy="3486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486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the input and output signals are continuou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54864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as discrete-time input and outpu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8120" y="1766880"/>
            <a:ext cx="8267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screte-time syste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igit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es on discrete-time signals whose amplitudes are quantiz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z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ps each continuou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itude level into a nu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gital system employs digital hard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licitly in the form of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gic circui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mplicitly when the operations on the signals are executed by writing a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 progr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16T23:56:01Z</dcterms:modified>
  <cp:revision>135</cp:revision>
  <dc:subject>Analog and Digital  Filter Design</dc:subject>
  <dc:title>Review Systems</dc:title>
</cp:coreProperties>
</file>