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8D4-C5A7-49F0-AF2A-C909F72F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0F1A-672C-4FB8-B841-1A792A99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3798-7694-4913-9BE5-1F83A391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3FDA-EA6C-4CCD-A3E8-3622017A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416F-1028-48C2-90A3-F4551FAC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B394-B05E-4436-8269-AA09F193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1D13-3095-46D2-9495-C90ADD44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3903-C870-4095-87DF-8B6389DF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831B-7328-4468-BA94-54460C66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CAE2-83E1-49B1-8FD0-FCDC564B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CDA7-26A7-45F9-B899-BF86E874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597D-D1B8-4753-ABE4-43DFBE46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E27F-0408-41D1-978A-F34024230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Fourier series, transform, and FF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ibbs phenomen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484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hen a sudden change of amplitude occurs in a signal and the attempt is made to represent it by a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t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number of terms in a Fourier series, the overshoot at the corners (at the points of abrupt change) is always found. As the number of terms is increased, the overshoot is still found; this is called the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Gibbs phenomeno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39640" y="3573360"/>
          <a:ext cx="289584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573360"/>
                    <a:ext cx="289584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508720" y="3552840"/>
          <a:ext cx="2867040" cy="23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3552840"/>
                    <a:ext cx="286704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851280" y="4437000"/>
            <a:ext cx="1368360" cy="503280"/>
          </a:xfrm>
          <a:prstGeom prst="rightArrow">
            <a:avLst>
              <a:gd name="adj1" fmla="val 50000"/>
              <a:gd name="adj2" fmla="val 67972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88000" y="5157720"/>
            <a:ext cx="289080" cy="358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36000" y="5157720"/>
            <a:ext cx="288720" cy="358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78560" y="3933720"/>
            <a:ext cx="289080" cy="358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54920" y="3933720"/>
            <a:ext cx="289080" cy="358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43640" y="3933720"/>
            <a:ext cx="289080" cy="358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3933720"/>
            <a:ext cx="289080" cy="358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mplitude, phase, power spectrum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15573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graphical representation of a periodic signal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produced by drawing a series of vertical lines at intervals on a horizontal axis, where the intervals represent an increase of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35640" y="31338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mplitude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4214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ase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4360" y="3040200"/>
          <a:ext cx="412416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040200"/>
                    <a:ext cx="41241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684360" y="4181400"/>
          <a:ext cx="382896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181400"/>
                    <a:ext cx="38289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73120" y="5111640"/>
          <a:ext cx="6446880" cy="98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3120" y="5111640"/>
                    <a:ext cx="644688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7162920" y="544500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ower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ample spectru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8200" y="1841400"/>
          <a:ext cx="394344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1841400"/>
                    <a:ext cx="394344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422600" y="1393920"/>
          <a:ext cx="4686480" cy="541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2600" y="1393920"/>
                    <a:ext cx="4686480" cy="54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ourier transfor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8360" y="1844640"/>
          <a:ext cx="516240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5162400" cy="95256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66560" y="3341520"/>
          <a:ext cx="6250320" cy="10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560" y="3341520"/>
                    <a:ext cx="6250320" cy="109548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044720" y="5734080"/>
          <a:ext cx="3305160" cy="97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4720" y="5734080"/>
                    <a:ext cx="330516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6156360" y="1989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urier trans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35082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verse Fourier trans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5080" y="60580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fficient existence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47640" y="493380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variable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s called a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continuous frequenc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pectrum of </a:t>
            </a: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360" y="1341360"/>
            <a:ext cx="882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lots of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j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|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rg(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j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versus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re called the </a:t>
            </a:r>
            <a:br>
              <a:rPr sz="2400"/>
            </a:b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amplitude spectru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phase spectru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resp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85720" y="2276640"/>
          <a:ext cx="797400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20" y="2276640"/>
                    <a:ext cx="79740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operti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7874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iqu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29480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omogene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43639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566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fferen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28480" y="6064200"/>
                <a:ext cx="1090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36" name=""/>
          <p:cNvGraphicFramePr/>
          <p:nvPr/>
        </p:nvGraphicFramePr>
        <p:xfrm>
          <a:off x="2843280" y="1650960"/>
          <a:ext cx="473400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650960"/>
                    <a:ext cx="4734000" cy="5144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059280" y="2587680"/>
          <a:ext cx="433368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2587680"/>
                    <a:ext cx="4333680" cy="10573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547640" y="4017960"/>
          <a:ext cx="741852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4017960"/>
                    <a:ext cx="7418520" cy="106668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408400" y="5386320"/>
          <a:ext cx="5619600" cy="10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08400" y="5386320"/>
                    <a:ext cx="5619600" cy="10670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Parseval's theorem and energy spectral density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348000" y="4365720"/>
          <a:ext cx="241956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4365720"/>
                    <a:ext cx="2419560" cy="56196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835280" y="2506680"/>
          <a:ext cx="546732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2506680"/>
                    <a:ext cx="5467320" cy="106668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79280" y="5589720"/>
            <a:ext cx="2016360" cy="503280"/>
          </a:xfrm>
          <a:prstGeom prst="wedgeRoundRectCallout">
            <a:avLst>
              <a:gd name="adj1" fmla="val 43305"/>
              <a:gd name="adj2" fmla="val -515300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otal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08720" y="6094440"/>
            <a:ext cx="3311280" cy="503280"/>
          </a:xfrm>
          <a:prstGeom prst="wedgeRoundRectCallout">
            <a:avLst>
              <a:gd name="adj1" fmla="val -106041"/>
              <a:gd name="adj2" fmla="val -296055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nergy spectral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247920" y="4581360"/>
                <a:ext cx="261936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Frequency response of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continuous-time system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2133720"/>
            <a:ext cx="1008360" cy="647640"/>
          </a:xfrm>
          <a:prstGeom prst="rect">
            <a:avLst/>
          </a:prstGeom>
          <a:solidFill>
            <a:srgbClr val="808080"/>
          </a:solidFill>
          <a:ln w="3816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2920" y="2421000"/>
            <a:ext cx="50472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4200" y="2421000"/>
            <a:ext cx="5050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68360" y="2205000"/>
                <a:ext cx="4795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203640" y="2205000"/>
                <a:ext cx="5047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24000" y="29242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Relaxe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LTI system described by linear constant-coefficients differential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6164280"/>
            <a:ext cx="50472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4200" y="6164280"/>
            <a:ext cx="5050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36520" y="5948280"/>
                <a:ext cx="781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103560" y="5948280"/>
                <a:ext cx="7063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1547640" y="5805360"/>
            <a:ext cx="1008360" cy="648000"/>
          </a:xfrm>
          <a:prstGeom prst="rect">
            <a:avLst/>
          </a:prstGeom>
          <a:solidFill>
            <a:srgbClr val="808080"/>
          </a:solidFill>
          <a:ln w="3816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(j</a:t>
            </a:r>
            <a:r>
              <a:rPr b="1" lang="en-US" sz="1800" spc="-1" strike="noStrike">
                <a:solidFill>
                  <a:srgbClr val="ffffcc"/>
                </a:solidFill>
                <a:latin typeface="Symbol"/>
                <a:ea typeface="Symbol"/>
              </a:rPr>
              <a:t>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00720" y="5229360"/>
            <a:ext cx="38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6093000"/>
            <a:ext cx="3780000" cy="574560"/>
          </a:xfrm>
          <a:prstGeom prst="wedgeRoundRectCallout">
            <a:avLst>
              <a:gd name="adj1" fmla="val -91453"/>
              <a:gd name="adj2" fmla="val -150828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Frequency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890960" y="1773360"/>
          <a:ext cx="321012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90960" y="1773360"/>
                    <a:ext cx="321012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555920" y="3357720"/>
          <a:ext cx="6040440" cy="113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55920" y="3357720"/>
                    <a:ext cx="60404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screte Fourier transform (DFT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nd FF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ier seri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ier transfor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F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ff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freq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916360" y="1700280"/>
          <a:ext cx="586728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700280"/>
                    <a:ext cx="58672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403280" y="5589720"/>
          <a:ext cx="633564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5589720"/>
                    <a:ext cx="63356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3132000" y="3284640"/>
          <a:ext cx="2819520" cy="104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3284640"/>
                    <a:ext cx="2819520" cy="10476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6877080" y="2649600"/>
          <a:ext cx="1485720" cy="923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77080" y="2649600"/>
                    <a:ext cx="148572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179280" y="2565360"/>
            <a:ext cx="1944720" cy="720720"/>
          </a:xfrm>
          <a:prstGeom prst="wedgeRoundRectCallout">
            <a:avLst>
              <a:gd name="adj1" fmla="val 104449"/>
              <a:gd name="adj2" fmla="val -90087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te-length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7440" y="4581360"/>
            <a:ext cx="1079640" cy="576360"/>
          </a:xfrm>
          <a:prstGeom prst="wedgeRoundRectCallout">
            <a:avLst>
              <a:gd name="adj1" fmla="val -243824"/>
              <a:gd name="adj2" fmla="val 124930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D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4653000"/>
            <a:ext cx="2160720" cy="431640"/>
          </a:xfrm>
          <a:prstGeom prst="wedgeRoundRectCallout">
            <a:avLst>
              <a:gd name="adj1" fmla="val 81152"/>
              <a:gd name="adj2" fmla="val -200000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2971800" y="4289400"/>
          <a:ext cx="320040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289400"/>
                    <a:ext cx="320040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Inverse discrete Fourier transform (IDFT)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005280" y="2324160"/>
          <a:ext cx="313344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05280" y="2324160"/>
                    <a:ext cx="3133440" cy="11048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179280" y="5084640"/>
            <a:ext cx="2089080" cy="720720"/>
          </a:xfrm>
          <a:prstGeom prst="wedgeRoundRectCallout">
            <a:avLst>
              <a:gd name="adj1" fmla="val 93768"/>
              <a:gd name="adj2" fmla="val -90087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crete Fourier transform 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F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919080" y="1463760"/>
          <a:ext cx="730728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9080" y="1463760"/>
                    <a:ext cx="730728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arseval's identity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714760" y="3184560"/>
          <a:ext cx="3714480" cy="12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3184560"/>
                    <a:ext cx="3714480" cy="12096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Frequency response of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discrete-time system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47640" y="2133720"/>
            <a:ext cx="1008360" cy="647640"/>
          </a:xfrm>
          <a:prstGeom prst="rect">
            <a:avLst/>
          </a:prstGeom>
          <a:solidFill>
            <a:srgbClr val="808080"/>
          </a:solidFill>
          <a:ln w="3816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2421000"/>
            <a:ext cx="50472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54200" y="2421000"/>
            <a:ext cx="5050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68280" y="2179800"/>
                <a:ext cx="6811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103560" y="2179800"/>
                <a:ext cx="7063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324000" y="29242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Relaxe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LTI system described by linear constant-coefficients difference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00720" y="5229360"/>
            <a:ext cx="38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40360" y="5445000"/>
            <a:ext cx="4859280" cy="1008360"/>
          </a:xfrm>
          <a:prstGeom prst="wedgeRoundRectCallout">
            <a:avLst>
              <a:gd name="adj1" fmla="val -65287"/>
              <a:gd name="adj2" fmla="val -52518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system transforms the input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y multiplying each member of the input DFT with the factor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1800" spc="-1" strike="noStrike" baseline="-25000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799160" y="1662120"/>
          <a:ext cx="3733560" cy="11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9160" y="1662120"/>
                    <a:ext cx="373356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792600" y="3429000"/>
          <a:ext cx="517212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92600" y="3429000"/>
                    <a:ext cx="51721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539640" y="3749760"/>
          <a:ext cx="2762280" cy="220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749760"/>
                    <a:ext cx="2762280" cy="22003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5364000" y="4881600"/>
          <a:ext cx="223848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64000" y="4881600"/>
                    <a:ext cx="22384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gital frequency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835280" y="1628640"/>
                <a:ext cx="16142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849320" y="2924280"/>
                <a:ext cx="142740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268280" y="5908680"/>
                <a:ext cx="33037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θ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5076720" y="1628640"/>
            <a:ext cx="3240360" cy="432000"/>
          </a:xfrm>
          <a:prstGeom prst="wedgeRoundRectCallout">
            <a:avLst>
              <a:gd name="adj1" fmla="val -91254"/>
              <a:gd name="adj2" fmla="val 83824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gital angular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59280" y="2852640"/>
            <a:ext cx="2233800" cy="432000"/>
          </a:xfrm>
          <a:prstGeom prst="wedgeRoundRectCallout">
            <a:avLst>
              <a:gd name="adj1" fmla="val -109842"/>
              <a:gd name="adj2" fmla="val 83824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gital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4720" y="5668920"/>
            <a:ext cx="2664000" cy="432000"/>
          </a:xfrm>
          <a:prstGeom prst="wedgeRoundRectCallout">
            <a:avLst>
              <a:gd name="adj1" fmla="val -100180"/>
              <a:gd name="adj2" fmla="val 83824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equency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890720" y="4308480"/>
                <a:ext cx="146376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4932360" y="4221000"/>
            <a:ext cx="2894040" cy="720720"/>
          </a:xfrm>
          <a:prstGeom prst="wedgeRoundRectCallout">
            <a:avLst>
              <a:gd name="adj1" fmla="val -96680"/>
              <a:gd name="adj2" fmla="val 32379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lized  frequency (MATL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freqz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120680" y="1488960"/>
          <a:ext cx="690408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0680" y="1488960"/>
                    <a:ext cx="690408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ourier seri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eriodic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onsinusoidal periodi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ignals play an important part in signal process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ory of nonsinusoidal periodic signals is based upon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solving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them into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nusoidal compon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ccording to the principle of superposition, we can find the steady-state response of an LTI system to an arbitrary periodic input by applying the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haso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ethod to harmonic compon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ectionally continuous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sider a real signal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real variabl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that satisfies the following condition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; that is, the signal is periodic having a period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defined in the interval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&lt;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&lt;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/d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re sectionally continuous in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&lt;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&lt;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940360" y="2792520"/>
          <a:ext cx="1486080" cy="92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2792520"/>
                    <a:ext cx="14860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finition of Fourier seri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2133720"/>
            <a:ext cx="28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16720" y="4148280"/>
            <a:ext cx="2016000" cy="718920"/>
          </a:xfrm>
          <a:prstGeom prst="wedgeRoundRectCallout">
            <a:avLst>
              <a:gd name="adj1" fmla="val -60078"/>
              <a:gd name="adj2" fmla="val -133884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fundamental angular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14520" y="1557360"/>
          <a:ext cx="615312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4520" y="1557360"/>
                    <a:ext cx="6153120" cy="11048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11120" y="3073320"/>
          <a:ext cx="4305240" cy="301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120" y="3073320"/>
                    <a:ext cx="4305240" cy="30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3274920" y="6093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process of resolving a signal into its Fourier series is called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pectral analysi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or harmonic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5229360"/>
            <a:ext cx="2016000" cy="718920"/>
          </a:xfrm>
          <a:prstGeom prst="wedgeRoundRectCallout">
            <a:avLst>
              <a:gd name="adj1" fmla="val -60865"/>
              <a:gd name="adj2" fmla="val -163907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Fourier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2997360"/>
            <a:ext cx="360360" cy="2736720"/>
          </a:xfrm>
          <a:custGeom>
            <a:avLst/>
            <a:gdLst>
              <a:gd name="textAreaLeft" fmla="*/ 0 w 360360"/>
              <a:gd name="textAreaRight" fmla="*/ 129960 w 36036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mplex Form of Fourier Seri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062160" y="1876320"/>
          <a:ext cx="3019680" cy="10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2160" y="1876320"/>
                    <a:ext cx="3019680" cy="104796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590920" y="3346560"/>
          <a:ext cx="396216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346560"/>
                    <a:ext cx="39621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395520" y="4724280"/>
          <a:ext cx="2352960" cy="198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95520" y="4724280"/>
                    <a:ext cx="23529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arseval's Identity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68240" y="2271600"/>
          <a:ext cx="760896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2271600"/>
                    <a:ext cx="7608960" cy="122868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500280" y="4149720"/>
          <a:ext cx="2143440" cy="13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0280" y="4149720"/>
                    <a:ext cx="214344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54200" y="5950080"/>
            <a:ext cx="76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the signal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represents an electric current or voltage across a resistor, the expression is proportional to the resistor average power over a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armonics of periodic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49400" y="1628640"/>
          <a:ext cx="70470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9400" y="1628640"/>
                    <a:ext cx="7047000" cy="11430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509920" y="3357720"/>
          <a:ext cx="4124160" cy="242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920" y="3357720"/>
                    <a:ext cx="4124160" cy="24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6804000" y="3141720"/>
            <a:ext cx="2016000" cy="503280"/>
          </a:xfrm>
          <a:prstGeom prst="wedgeRoundRectCallout">
            <a:avLst>
              <a:gd name="adj1" fmla="val -122361"/>
              <a:gd name="adj2" fmla="val 43375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dc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948360" y="5445000"/>
            <a:ext cx="2016360" cy="503280"/>
          </a:xfrm>
          <a:prstGeom prst="wedgeRoundRectCallout">
            <a:avLst>
              <a:gd name="adj1" fmla="val -66694"/>
              <a:gd name="adj2" fmla="val -249055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c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5950080"/>
            <a:ext cx="2016360" cy="503280"/>
          </a:xfrm>
          <a:prstGeom prst="wedgeRoundRectCallout">
            <a:avLst>
              <a:gd name="adj1" fmla="val 79527"/>
              <a:gd name="adj2" fmla="val -362620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h harmo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1-23T04:09:31Z</dcterms:modified>
  <cp:revision>261</cp:revision>
  <dc:subject>Analog and Digital  Filter Design</dc:subject>
  <dc:title>Fourier series, transform, and FFT</dc:title>
</cp:coreProperties>
</file>