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C3F-5075-45BA-AAF2-E67F8D28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FFB7-8948-47E6-B46D-EAB9BD80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203-3332-4EA0-A383-CD1082E9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C8B7-B66C-4A5E-A76F-6AE42DCB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E2D-28CC-462C-8E4A-9DE368D8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D2C-964E-4DE8-AD3C-2B273C39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A47-4B92-4979-BD72-082EF672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D0C-73F6-4E64-A9B7-540084CE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C56-B69A-43E7-BB5C-BEDE042A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3D9-582B-4B1A-AA03-3CC84F1D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2DD-4E9E-43E7-BBD4-40C7816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45A-E739-43E6-82B5-E94A722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A16A-CFA8-4368-9506-EE33E6BCF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esig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1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ep 4: Implementation (2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1: Approximation - Select Chebyshev Type 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2: Realization - Cascade of programmable biqua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3: Study of imperfections - Sensitivity analy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o design ste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1: Approxim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2: Realizatio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ep 3: Study of imperfectio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 4: Implement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TLAB script Lecture07design.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rt with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lect Chebyshev Type I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2: Realiz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ascade of programmable biquad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ep 3: Study of imperfections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ensitivity analysi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1: Approximation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crease order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do step 2: Realiz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Redo step 3: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Study of imperfection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66960" y="174312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2-03T22:57:43Z</dcterms:modified>
  <cp:revision>369</cp:revision>
  <dc:subject>Analog and Digital  Filter Design</dc:subject>
  <dc:title>Design of an analog filter</dc:title>
</cp:coreProperties>
</file>