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D0E-5FE5-4CC8-87C5-13C4FA34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05B-62FA-457A-AD6A-A5D12510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0CA-D177-44C4-8D38-4631EF0D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F33-C73F-44B5-B422-8A694DD2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F95-761A-4CAE-B3E3-56C14B3E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160-1B84-448F-B048-E71AE003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DC8-0BC8-46EB-A395-B4C1D394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DDA-C377-4057-8C15-15C44180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B9A-6F9F-4BA0-B1FF-3BE9781D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BEF-45FC-497B-94CB-A25EF235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87C-E5D8-4E45-80A1-043A02D2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CBB-0245-448D-B024-F238BD0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6B1D-70D4-4D70-87B8-77E8EB2A1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rogrammable analog ch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30800" y="69840"/>
            <a:ext cx="4705200" cy="443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403280" y="321300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p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iqua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iqua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157400" y="271440"/>
          <a:ext cx="6831000" cy="63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71440"/>
                    <a:ext cx="683100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with 3 biqu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41136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57360" y="2309760"/>
            <a:ext cx="4229280" cy="223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use Anadigm c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39760" y="266760"/>
          <a:ext cx="686592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66760"/>
                    <a:ext cx="68659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of one 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94160" y="44280"/>
            <a:ext cx="4714920" cy="481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080" y="4428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03280" y="325116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ss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94160" y="44280"/>
            <a:ext cx="4714920" cy="48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080" y="4428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03280" y="325116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p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er and gai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rat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95480" y="266760"/>
          <a:ext cx="69548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266760"/>
                    <a:ext cx="69548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with 2 biqu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7360" y="13320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30800" y="115920"/>
            <a:ext cx="4705200" cy="4438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15880" y="321300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ss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20:22:52Z</dcterms:created>
  <dc:creator>Miroslav Lutovac and Dejan Tosic</dc:creator>
  <dc:description/>
  <dc:language>en-US</dc:language>
  <cp:lastModifiedBy>nn</cp:lastModifiedBy>
  <dcterms:modified xsi:type="dcterms:W3CDTF">2005-02-03T23:23:58Z</dcterms:modified>
  <cp:revision>26</cp:revision>
  <dc:subject>Analog and Digital  Filter Design</dc:subject>
  <dc:title>Implementation of an analog filter</dc:title>
</cp:coreProperties>
</file>