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839-C3A3-4868-9C2A-33C56132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EF4-F9AC-4E6F-970D-5644667E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8C6-BBD9-4D01-BF38-F0769C41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B76-3FC3-4BF7-929D-5033A2CB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340-9247-47D6-A533-BA43974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5F4-C429-4A71-B7F4-82E48555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149-01F4-472C-A34E-99C505C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811-AB47-45EE-BD49-8A66A6DD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F37-A202-439E-A2C7-1C2E2A31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7F0-34EF-4CDD-B850-3BB0AA2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9226-64CD-4109-8107-00724286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3B6-7746-4059-BF1A-3CEB672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8B8-5DA6-4C75-878A-D87B1EE70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assical analog filter design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p amp and RLC realiz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biqua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69000" y="2924280"/>
                <a:ext cx="16272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00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476280"/>
            <a:ext cx="8713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iven a second-order lowpass transfer function we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 = 23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p = 2*pi*f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p = 1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K &lt;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  = 0.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0.1 &lt; P=R3/R1 &lt;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  = 3.386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hoose 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ano = 10^(-9); Cx = 3.3*nan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4 = C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Compute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2 = 2*Qp^2*Cx*(1+(1+P^2)/(2*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1 = 1/(wp*Cx*Qp*(1+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3 = P*R1; R11 = R1/K; R12 = R1/(1-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% Generate transfer function in terms of elem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 = R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 = [(C2*C4*R11*R12*R3) (C4*R11*R12+C4*R11*R3+C4*R12*R3) (R11+R12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 = 0:80:8000; w = i*2*pi*f; H = num./polyval(den,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1); drawlplq(0,0,4,5,10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plot(2,1,2); plot(f,abs(H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68400" y="1413000"/>
          <a:ext cx="72086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1413000"/>
                    <a:ext cx="72086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14640" y="5430960"/>
          <a:ext cx="491472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4640" y="5430960"/>
                    <a:ext cx="4914720" cy="1238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71640" y="1557360"/>
          <a:ext cx="72025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72025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45120" y="5229360"/>
          <a:ext cx="4790880" cy="15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5120" y="5229360"/>
                    <a:ext cx="4790880" cy="153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44640" y="1484280"/>
          <a:ext cx="72565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484280"/>
                    <a:ext cx="72565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20" y="5300640"/>
          <a:ext cx="4734000" cy="13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300640"/>
                    <a:ext cx="4734000" cy="1305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06560" y="1528920"/>
          <a:ext cx="713268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528920"/>
                    <a:ext cx="713268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66760" y="5035680"/>
          <a:ext cx="4809960" cy="15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760" y="5035680"/>
                    <a:ext cx="4809960" cy="1562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47880" y="1292400"/>
          <a:ext cx="72500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292400"/>
                    <a:ext cx="7250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50920" y="5297400"/>
          <a:ext cx="48006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297400"/>
                    <a:ext cx="4800600" cy="1371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349280"/>
          <a:ext cx="716436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49280"/>
                    <a:ext cx="716436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8040" y="5373720"/>
          <a:ext cx="481032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040" y="5373720"/>
                    <a:ext cx="4810320" cy="1200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81000" y="1268280"/>
          <a:ext cx="718344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268280"/>
                    <a:ext cx="718344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3840" y="5589720"/>
          <a:ext cx="358452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5589720"/>
                    <a:ext cx="3584520" cy="1158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25640" y="1484280"/>
          <a:ext cx="709452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484280"/>
                    <a:ext cx="7094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427640" y="5326200"/>
          <a:ext cx="448632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5326200"/>
                    <a:ext cx="4486320" cy="1342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fication of analog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ctive RC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w Q-, Medium Q-, High Q-factor fil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lbum of op amp RC biquad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 biquad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script Lecture08lplq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medium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20600" y="1484280"/>
          <a:ext cx="710424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484280"/>
                    <a:ext cx="710424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56000" y="5113440"/>
          <a:ext cx="4581720" cy="16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5113440"/>
                    <a:ext cx="4581720" cy="16286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owpass notch medium-Q-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09800" y="1197000"/>
          <a:ext cx="712620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7000"/>
                    <a:ext cx="712620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9520" y="5373720"/>
          <a:ext cx="486720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520" y="5373720"/>
                    <a:ext cx="486720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Highpass notch medium-Q facto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268280"/>
          <a:ext cx="716436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68280"/>
                    <a:ext cx="716436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000" y="5516640"/>
          <a:ext cx="492444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5516640"/>
                    <a:ext cx="4924440" cy="12477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62280" y="1413000"/>
          <a:ext cx="537372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1413000"/>
                    <a:ext cx="53737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327400" y="5418000"/>
          <a:ext cx="44766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7400" y="5418000"/>
                    <a:ext cx="4476600" cy="13240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1390680"/>
          <a:ext cx="5297760" cy="39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90680"/>
                    <a:ext cx="5297760" cy="39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305080" y="5427720"/>
          <a:ext cx="4533840" cy="13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5427720"/>
                    <a:ext cx="4533840" cy="13143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20960" y="1268280"/>
          <a:ext cx="5243400" cy="39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268280"/>
                    <a:ext cx="5243400" cy="39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338560" y="5157720"/>
          <a:ext cx="446688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157720"/>
                    <a:ext cx="4466880" cy="1600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8000" y="1341360"/>
          <a:ext cx="530892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530892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314440" y="5402160"/>
          <a:ext cx="451512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4440" y="5402160"/>
                    <a:ext cx="4515120" cy="1266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8000" y="1444680"/>
          <a:ext cx="52549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444680"/>
                    <a:ext cx="52549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271600" y="5340240"/>
          <a:ext cx="460080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71600" y="5340240"/>
                    <a:ext cx="4600800" cy="1257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notch high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79640" y="1531800"/>
          <a:ext cx="513864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31800"/>
                    <a:ext cx="513864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24080" y="5373720"/>
          <a:ext cx="4695840" cy="127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24080" y="5373720"/>
                    <a:ext cx="4695840" cy="12762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eneral-purpose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71640" y="1500120"/>
          <a:ext cx="72025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00120"/>
                    <a:ext cx="72025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692360" y="6021360"/>
            <a:ext cx="5688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HN filter (Kerwin-Huelsman-Newco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og filter realiz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ter having accomplished the approximation step, the filte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know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xt, the designer must choose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aliz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at is, an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ectric circui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alog filters can be classified on the basis of their constituent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assification of analog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ssive RL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perational amplifier R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ilter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p amp active RC filter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witched-capacitor (S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ional transconductance amplifi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OTA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t-conveyor (CC)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crowave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ctromechanic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ystal fil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ssive RL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sist of passive macrocomponents: resistors, capacitors, and inductors (coils and transform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 not require a power supp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rawbacks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Exhibit a significant passband loss, 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Inductors cannot be miniaturized</a:t>
            </a:r>
            <a:endParaRPr b="0" lang="en-US" sz="2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actical at frequencies up to a few hundred MHz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mportant in deriving realizations of some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ctive filters, such as active RC, OTA, and 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urrent-conveyor filter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be reduced in size and weight, especially when implemented as integrated circu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facturing can be automated with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production y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de out of resistors, capacitors, and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ional amplifi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quire a power suppl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Output signal can be distorted if the input signal is too larg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xtra noise is generated in active device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e over the frequency rage from 0.1 Hz to 500 kH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Arial"/>
              </a:rPr>
              <a:t>Op amp active RC fil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aliz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lassification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biquadratic realiza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Low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Q &lt; 2) exhib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oblems with tolerances, no need for tuning, minimal number of passive components, and 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edium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 &lt; Q &lt; 20) selected on the basis of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um gain-sensitivity product, simple tuning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nimal number of passive components, an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operational amplifi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High Q-fact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alizations (20 &lt; Q) requir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erational amplifiers, sensitivities are lower than the sensitivity of single-amplifier biqu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low-Q-facto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44640" y="1341360"/>
          <a:ext cx="7256520" cy="39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341360"/>
                    <a:ext cx="725652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76560" y="5408640"/>
          <a:ext cx="477180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5408640"/>
                    <a:ext cx="4771800" cy="1333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11T01:34:59Z</dcterms:modified>
  <cp:revision>404</cp:revision>
  <dc:subject>Analog and Digital  Filter Design</dc:subject>
  <dc:title>Classical analog filter design: Op Amp and RLC realization</dc:title>
</cp:coreProperties>
</file>