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B15-BD6C-4463-8C04-7B05380E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74F-26F1-4500-8EFB-3E203500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EE2-FA20-480A-BA20-1B9B6A50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FAC-CF2C-4A3E-8A98-1E92801F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753-9968-4C50-A48A-4719B3E4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2D4-56D0-45E0-A140-B6D7B3BA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AFB-FF6E-4E76-B0A5-93E0772F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5B0-3409-4CC9-81EA-3A6A507E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04F-56C0-47FC-9CBD-44C595C0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EE8-C882-4AA2-9B4B-26EAF317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1C2-1A58-41A6-A735-0EA4FE3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9E4-D539-43B6-81BF-ED093A46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3613-4302-4301-B686-841A0712C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pecificatio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gnitude-tolerance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90760" y="1566720"/>
          <a:ext cx="61642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566720"/>
                    <a:ext cx="61642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338560" y="5384880"/>
          <a:ext cx="446688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384880"/>
                    <a:ext cx="4466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ripple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5440" y="1504800"/>
          <a:ext cx="615312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504800"/>
                    <a:ext cx="615312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24120" y="5430960"/>
          <a:ext cx="3695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4120" y="5430960"/>
                    <a:ext cx="3695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38360" y="1438200"/>
          <a:ext cx="586728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38200"/>
                    <a:ext cx="586728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43120" y="5568840"/>
          <a:ext cx="385776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5568840"/>
                    <a:ext cx="3857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ai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90840" y="1457280"/>
          <a:ext cx="59623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457280"/>
                    <a:ext cx="59623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633760" y="5459400"/>
          <a:ext cx="38764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3760" y="5459400"/>
                    <a:ext cx="3876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haracteristic-function-limit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19280" y="1628640"/>
          <a:ext cx="590544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9054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509920" y="5416560"/>
          <a:ext cx="41241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5416560"/>
                    <a:ext cx="4124160" cy="676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We convert all specs into characteristic-function-limit spec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773360"/>
          <a:ext cx="246708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2467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03640" y="1484280"/>
          <a:ext cx="265752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484280"/>
                    <a:ext cx="265752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307200" y="1844640"/>
          <a:ext cx="265752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7200" y="1844640"/>
                    <a:ext cx="26575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8000" y="5013360"/>
          <a:ext cx="253368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5013360"/>
                    <a:ext cx="2533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516720" y="5084640"/>
          <a:ext cx="2523960" cy="165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084640"/>
                    <a:ext cx="25239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535120" y="3500280"/>
          <a:ext cx="3981600" cy="234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35120" y="3500280"/>
                    <a:ext cx="3981600" cy="234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258920" y="2637000"/>
            <a:ext cx="108108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58920" y="4797360"/>
            <a:ext cx="108108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805080" y="4797360"/>
            <a:ext cx="107964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04000" y="2637000"/>
            <a:ext cx="93672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21000"/>
            <a:ext cx="0" cy="1008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6093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e pp.247-248 for conversion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totype elliptic 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71480" y="1419120"/>
          <a:ext cx="58010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419120"/>
                    <a:ext cx="58010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95640" y="5641920"/>
          <a:ext cx="29527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5641920"/>
                    <a:ext cx="2952720" cy="6667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liptic design parame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elliptic rational function; it is a ratio of two polynomials in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selectivity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ripple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actual passband ed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95640" y="5589720"/>
            <a:ext cx="2952720" cy="66672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141" name=""/>
          <p:cNvGraphicFramePr/>
          <p:nvPr/>
        </p:nvGraphicFramePr>
        <p:xfrm>
          <a:off x="6732720" y="5516640"/>
          <a:ext cx="16002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5516640"/>
                    <a:ext cx="1600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2760" y="3495600"/>
          <a:ext cx="40384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3495600"/>
                    <a:ext cx="40384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433520" y="4241880"/>
          <a:ext cx="627696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4241880"/>
                    <a:ext cx="6276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55640" y="1989000"/>
          <a:ext cx="28764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989000"/>
                    <a:ext cx="28764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003640" y="2131920"/>
            <a:ext cx="3745080" cy="1152720"/>
          </a:xfrm>
          <a:prstGeom prst="wedgeRoundRectCallout">
            <a:avLst>
              <a:gd name="adj1" fmla="val -87305"/>
              <a:gd name="adj2" fmla="val -38152"/>
              <a:gd name="adj3" fmla="val 16667"/>
            </a:avLst>
          </a:prstGeom>
          <a:solidFill>
            <a:srgbClr val="ffffcc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t of all quadrupl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for a given specification, is called the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Design D5 alternati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ortance of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ays in presenting the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ic filter functions: frequency response, attenuation, gain, characteristic function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totype elliptic approxi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lliptic design parame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design example Lecture12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a lowpass filter that satisfies the following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0.2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40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real life, practical element values are significant to about 3 digits, temperature changes element values, etc., so we choose a more restrictive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0.0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trateg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ose RLC singly terminated ladder realization with complex zer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ore two design alternative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tlab default design D3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al Q-factor design D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 AFDesign to find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ute element values (see previous lectur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 element values to 3 digits of prec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idate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default design is D3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90880" y="1484280"/>
          <a:ext cx="316224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484280"/>
                    <a:ext cx="316224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5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violates 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51640" y="3213000"/>
            <a:ext cx="1584360" cy="1152720"/>
          </a:xfrm>
          <a:prstGeom prst="wedgeRectCallout">
            <a:avLst>
              <a:gd name="adj1" fmla="val -107814"/>
              <a:gd name="adj2" fmla="val 112532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3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red) violat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229360"/>
            <a:ext cx="1513080" cy="1152360"/>
          </a:xfrm>
          <a:prstGeom prst="wedgeRectCallout">
            <a:avLst>
              <a:gd name="adj1" fmla="val 187564"/>
              <a:gd name="adj2" fmla="val -128925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blue) satisfi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 val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879480" y="1341360"/>
          <a:ext cx="167652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9480" y="1341360"/>
                    <a:ext cx="1676520" cy="29527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20000" y="3141720"/>
          <a:ext cx="1790640" cy="36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141720"/>
                    <a:ext cx="1790640" cy="3600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ortance of filter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ually, the filter specification is giv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many cases the designer has to establish the specification by himsel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pecification is the most important prerequisite for the filter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specification is too restrictive (e.g., very low passband and stopband tolerances, narrow transition region), the filter may not be feasible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ow to choose specifica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roper selection of the specification must be done according to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nature of signals (i.e., frequency bands and the corresponding levels of the desired and undesired signals or noise)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available hardware (element tolerances, parasitic effects, etc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are several ways in presenting the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 and pha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0800" y="2084400"/>
          <a:ext cx="389592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2084400"/>
                    <a:ext cx="38959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8000" y="3627360"/>
            <a:ext cx="3313080" cy="505080"/>
          </a:xfrm>
          <a:prstGeom prst="wedgeRoundRectCallout">
            <a:avLst>
              <a:gd name="adj1" fmla="val 64662"/>
              <a:gd name="adj2" fmla="val 136162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068800"/>
            <a:ext cx="2594160" cy="505080"/>
          </a:xfrm>
          <a:prstGeom prst="wedgeRoundRectCallout">
            <a:avLst>
              <a:gd name="adj1" fmla="val 93208"/>
              <a:gd name="adj2" fmla="val 142138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8000" y="1536840"/>
          <a:ext cx="326700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536840"/>
                    <a:ext cx="3267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697360" y="1593720"/>
          <a:ext cx="326736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7360" y="1593720"/>
                    <a:ext cx="32673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95640" y="3916440"/>
                <a:ext cx="2484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95640" y="5716440"/>
                <a:ext cx="2529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−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81560" y="2060640"/>
                <a:ext cx="2170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1557360"/>
            <a:ext cx="2881440" cy="503280"/>
          </a:xfrm>
          <a:prstGeom prst="wedgeRoundRectCallout">
            <a:avLst>
              <a:gd name="adj1" fmla="val 65263"/>
              <a:gd name="adj2" fmla="val 15062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5734080"/>
                <a:ext cx="4125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79280" y="6237360"/>
            <a:ext cx="3313080" cy="504720"/>
          </a:xfrm>
          <a:prstGeom prst="wedgeRoundRectCallout">
            <a:avLst>
              <a:gd name="adj1" fmla="val 79708"/>
              <a:gd name="adj2" fmla="val -60064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quency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200" y="3429000"/>
            <a:ext cx="3313440" cy="504720"/>
          </a:xfrm>
          <a:prstGeom prst="wedgeRoundRectCallout">
            <a:avLst>
              <a:gd name="adj1" fmla="val -2421"/>
              <a:gd name="adj2" fmla="val 134907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84640"/>
            <a:ext cx="2593800" cy="504720"/>
          </a:xfrm>
          <a:prstGeom prst="wedgeRoundRectCallout">
            <a:avLst>
              <a:gd name="adj1" fmla="val -60833"/>
              <a:gd name="adj2" fmla="val 14811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4508640"/>
                <a:ext cx="30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48360" y="4564080"/>
                <a:ext cx="341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ss and characteristic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35440" y="2131920"/>
                <a:ext cx="32382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12880" y="4583160"/>
                <a:ext cx="39038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79280" y="3573360"/>
            <a:ext cx="2232000" cy="792360"/>
          </a:xfrm>
          <a:prstGeom prst="wedgeRoundRectCallout">
            <a:avLst>
              <a:gd name="adj1" fmla="val 56685"/>
              <a:gd name="adj2" fmla="val 15981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racteristic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 and gai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47840" y="2997360"/>
                <a:ext cx="461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79280" y="398628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59080" y="5138640"/>
                <a:ext cx="439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38360" y="1552680"/>
          <a:ext cx="586728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552680"/>
                    <a:ext cx="586728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3240" y="5492880"/>
          <a:ext cx="445752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5492880"/>
                    <a:ext cx="4457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04T02:51:52Z</dcterms:modified>
  <cp:revision>511</cp:revision>
  <dc:subject>Analog and Digital  Filter Design</dc:subject>
  <dc:title>Specification of an analog filter</dc:title>
</cp:coreProperties>
</file>