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556B3-DD49-4B57-9EB3-65F71B550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79EA5-470C-47CA-B367-9278EE9CF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8D02D-60C6-40BB-800B-6586AF971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4D2F7-2847-4742-9A98-749358699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25100-AAA2-4DDF-A2D9-FC630E72B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3863D-080E-426A-A6ED-FEC410645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D5FEA-AFF4-44D5-A442-BD048B33D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C8B9B-F0E7-4FDB-9A26-6B1227998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2F013-6047-4690-9F55-6605D347D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F725C-AC48-4132-84D9-3F8355E08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49B21-C330-4420-9261-341971033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D9195-4DA0-4108-92DC-0536C884D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54CD3-570C-4CED-9124-F9A8F75FF6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28280"/>
            <a:ext cx="777240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00"/>
                </a:solidFill>
                <a:latin typeface="Arial"/>
              </a:rPr>
              <a:t>Analog and Digital Filter Design </a:t>
            </a:r>
            <a:br>
              <a:rPr sz="4000"/>
            </a:br>
            <a:r>
              <a:rPr b="1" lang="en-US" sz="4000" spc="-1" strike="noStrike">
                <a:solidFill>
                  <a:srgbClr val="800000"/>
                </a:solidFill>
                <a:latin typeface="Arial"/>
              </a:rPr>
              <a:t>Digital filters</a:t>
            </a:r>
            <a:br>
              <a:rPr sz="4000"/>
            </a:br>
            <a:r>
              <a:rPr b="1" lang="en-US" sz="4000" spc="-1" strike="noStrike">
                <a:solidFill>
                  <a:srgbClr val="800000"/>
                </a:solidFill>
                <a:latin typeface="Arial"/>
              </a:rPr>
              <a:t>FIR and IIR structures</a:t>
            </a: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4221000"/>
            <a:ext cx="6440400" cy="6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Miroslav Lutovac and Dejan Tosic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MATLAB example 3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1838160"/>
            <a:ext cx="3024000" cy="45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N = 80; k = 0:(N-1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a = 0.97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B = [0 1]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A = [1 -a]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x = (k==0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y = filter(B,A,x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ubplot(3,1,1)</a:t>
            </a:r>
            <a:br>
              <a:rPr sz="1600"/>
            </a:b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draw1stIIR(0,0,4,5,10,'b'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ubplot(3,1,2)</a:t>
            </a:r>
            <a:br>
              <a:rPr sz="1600"/>
            </a:b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tem(k,x,'r')</a:t>
            </a:r>
            <a:br>
              <a:rPr sz="1600"/>
            </a:b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ylabel('input'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ubplot(3,1,3)</a:t>
            </a:r>
            <a:br>
              <a:rPr sz="1600"/>
            </a:b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tem(k,y,'b')</a:t>
            </a:r>
            <a:br>
              <a:rPr sz="1600"/>
            </a:b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ylabel('output'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50920" y="3645000"/>
            <a:ext cx="1944720" cy="4316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427640" y="1589040"/>
            <a:ext cx="4647960" cy="51530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3295800" y="2039760"/>
                <a:ext cx="264456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ay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6" name=""/>
          <p:cNvSpPr/>
          <p:nvPr/>
        </p:nvSpPr>
        <p:spPr>
          <a:xfrm>
            <a:off x="2411280" y="2565360"/>
            <a:ext cx="2952720" cy="1366920"/>
          </a:xfrm>
          <a:prstGeom prst="wedgeRoundRectCallout">
            <a:avLst>
              <a:gd name="adj1" fmla="val 130912"/>
              <a:gd name="adj2" fmla="val 194949"/>
              <a:gd name="adj3" fmla="val 16667"/>
            </a:avLst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he impulse response does not vanish after finite number of sam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Basic FIR structures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Direct form, Transposed form, Cascade form, Linear-phase, Symmetric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Direct form 2</a:t>
            </a:r>
            <a:r>
              <a:rPr b="0" lang="en-US" sz="4400" spc="-1" strike="noStrike" baseline="30000">
                <a:solidFill>
                  <a:srgbClr val="800000"/>
                </a:solidFill>
                <a:latin typeface="Arial"/>
              </a:rPr>
              <a:t>nd</a:t>
            </a: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 order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866960" y="1671480"/>
            <a:ext cx="5410080" cy="478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00"/>
                </a:solidFill>
                <a:latin typeface="Arial"/>
              </a:rPr>
              <a:t>Transposed direct form 2</a:t>
            </a:r>
            <a:r>
              <a:rPr b="0" lang="en-US" sz="4000" spc="-1" strike="noStrike" baseline="30000">
                <a:solidFill>
                  <a:srgbClr val="800000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800000"/>
                </a:solidFill>
                <a:latin typeface="Arial"/>
              </a:rPr>
              <a:t> order</a:t>
            </a: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866960" y="1671480"/>
            <a:ext cx="5410080" cy="478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Cascade direct form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866960" y="1671480"/>
            <a:ext cx="5410080" cy="478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Direct form (Tapped delay line)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866960" y="1671480"/>
            <a:ext cx="5410080" cy="478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Transposed direct form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866960" y="1671480"/>
            <a:ext cx="5410080" cy="478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Linear-phase type 1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866960" y="1671480"/>
            <a:ext cx="5410080" cy="478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Linear-phase type 2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866960" y="1671480"/>
            <a:ext cx="5410080" cy="478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Symmetric FIR type I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866960" y="1671480"/>
            <a:ext cx="5410080" cy="478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Review: Discrete-time system, Digital system, LTI system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Impulse response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Definition of FIR and IIR systems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R and IIR structures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MATLAB examples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DAtool design example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Symmetric FIR type II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866960" y="1671480"/>
            <a:ext cx="5410080" cy="478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Basic IIR structures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Direct form, Transposed form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Direct form I 2</a:t>
            </a:r>
            <a:r>
              <a:rPr b="0" lang="en-US" sz="4400" spc="-1" strike="noStrike" baseline="30000">
                <a:solidFill>
                  <a:srgbClr val="800000"/>
                </a:solidFill>
                <a:latin typeface="Arial"/>
              </a:rPr>
              <a:t>nd</a:t>
            </a: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 order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866960" y="1671480"/>
            <a:ext cx="5410080" cy="478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Direct form II 1</a:t>
            </a:r>
            <a:r>
              <a:rPr b="0" lang="en-US" sz="4400" spc="-1" strike="noStrike" baseline="30000">
                <a:solidFill>
                  <a:srgbClr val="800000"/>
                </a:solidFill>
                <a:latin typeface="Arial"/>
              </a:rPr>
              <a:t>st</a:t>
            </a: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 order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866960" y="1671480"/>
            <a:ext cx="5410080" cy="478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Direct form II 2</a:t>
            </a:r>
            <a:r>
              <a:rPr b="0" lang="en-US" sz="4400" spc="-1" strike="noStrike" baseline="30000">
                <a:solidFill>
                  <a:srgbClr val="800000"/>
                </a:solidFill>
                <a:latin typeface="Arial"/>
              </a:rPr>
              <a:t>nd</a:t>
            </a: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 order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866960" y="1671480"/>
            <a:ext cx="5410080" cy="478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Cascade direct form II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866960" y="1671480"/>
            <a:ext cx="5410080" cy="478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00"/>
                </a:solidFill>
                <a:latin typeface="Arial"/>
              </a:rPr>
              <a:t>Transposed direct form II 1</a:t>
            </a:r>
            <a:r>
              <a:rPr b="0" lang="en-US" sz="4000" spc="-1" strike="noStrike" baseline="30000">
                <a:solidFill>
                  <a:srgbClr val="800000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800000"/>
                </a:solidFill>
                <a:latin typeface="Arial"/>
              </a:rPr>
              <a:t> order</a:t>
            </a: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866960" y="1671480"/>
            <a:ext cx="5410080" cy="478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00"/>
                </a:solidFill>
                <a:latin typeface="Arial"/>
              </a:rPr>
              <a:t>Transposed direct form II 2</a:t>
            </a:r>
            <a:r>
              <a:rPr b="0" lang="en-US" sz="4000" spc="-1" strike="noStrike" baseline="30000">
                <a:solidFill>
                  <a:srgbClr val="800000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800000"/>
                </a:solidFill>
                <a:latin typeface="Arial"/>
              </a:rPr>
              <a:t> order</a:t>
            </a: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866960" y="1671480"/>
            <a:ext cx="5410080" cy="478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FIR design example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4</a:t>
            </a:r>
            <a:r>
              <a:rPr b="0" lang="en-US" sz="3200" spc="-1" strike="noStrike" baseline="30000">
                <a:solidFill>
                  <a:srgbClr val="000066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order linear-phase filter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FDAtool FIR design example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866880" y="423720"/>
            <a:ext cx="7410240" cy="601056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2987640" y="3933720"/>
            <a:ext cx="1440000" cy="432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714920" y="3933720"/>
            <a:ext cx="1657440" cy="3589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716360" y="4508640"/>
            <a:ext cx="1656000" cy="720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Review: Discrete-time system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763640" y="5486400"/>
            <a:ext cx="576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00000"/>
                </a:solidFill>
                <a:latin typeface="Arial"/>
              </a:rPr>
              <a:t>Discrete-time system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has discrete-time input and output sign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38120" y="1766880"/>
            <a:ext cx="8267760" cy="33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File, Export …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682560" y="1614600"/>
            <a:ext cx="3011400" cy="362556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611280" y="4726080"/>
            <a:ext cx="1150920" cy="4316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3902040" y="4562640"/>
          <a:ext cx="4991040" cy="1962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02040" y="4562640"/>
                    <a:ext cx="4991040" cy="196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Edit, Convert Structure …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611280" y="1773360"/>
            <a:ext cx="3544920" cy="3344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5" name=""/>
          <p:cNvGraphicFramePr/>
          <p:nvPr/>
        </p:nvGraphicFramePr>
        <p:xfrm>
          <a:off x="5867280" y="1782720"/>
          <a:ext cx="3159360" cy="4959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867280" y="1782720"/>
                    <a:ext cx="3159360" cy="495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" name=""/>
          <p:cNvSpPr/>
          <p:nvPr/>
        </p:nvSpPr>
        <p:spPr>
          <a:xfrm>
            <a:off x="3276720" y="3213000"/>
            <a:ext cx="3959280" cy="792360"/>
          </a:xfrm>
          <a:prstGeom prst="line">
            <a:avLst/>
          </a:prstGeom>
          <a:ln w="76320">
            <a:solidFill>
              <a:srgbClr val="ff99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788000" y="274680"/>
            <a:ext cx="389880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FIR example designs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47600" y="79200"/>
            <a:ext cx="4495680" cy="442944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3851280" y="2133720"/>
            <a:ext cx="5229360" cy="465768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149400" y="4797360"/>
            <a:ext cx="3990960" cy="1568520"/>
          </a:xfrm>
          <a:prstGeom prst="rect">
            <a:avLst/>
          </a:prstGeom>
          <a:ln w="0">
            <a:noFill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Further reading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828720" y="2565360"/>
            <a:ext cx="5688000" cy="26694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M. D. Lutovac, D. V. Tošić, B. L. Ev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Filter Design for Signal Processing </a:t>
            </a:r>
            <a:br>
              <a:rPr sz="2400"/>
            </a:b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Using MATLAB and Mathema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Prentice Hall</a:t>
            </a:r>
            <a:br>
              <a:rPr sz="2400"/>
            </a:b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Upper Saddle  River, New Jersey </a:t>
            </a:r>
            <a:br>
              <a:rPr sz="2400"/>
            </a:b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SBN 0-201-36130-2, (c) 20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6877080" y="2924280"/>
            <a:ext cx="1542960" cy="188568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1042920" y="5734080"/>
            <a:ext cx="532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http://kondor.etf.bg.ac.yu/~lutovac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Review: Digital system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A discrete-time system is </a:t>
            </a:r>
            <a:r>
              <a:rPr b="1" i="1" lang="en-US" sz="2800" spc="-1" strike="noStrike">
                <a:solidFill>
                  <a:srgbClr val="800000"/>
                </a:solidFill>
                <a:latin typeface="Arial"/>
              </a:rPr>
              <a:t>digital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if it </a:t>
            </a:r>
            <a:br>
              <a:rPr sz="2800"/>
            </a:b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operates on discrete-time signals whose amplitudes are quantized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zation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maps each continuous </a:t>
            </a:r>
            <a:br>
              <a:rPr sz="2800"/>
            </a:b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amplitude level into a number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e digital system employs digital hardware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33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explicitly in the form of 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logic circuit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33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implicitly when the operations on the signals are executed by writing a 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omputer program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00"/>
                </a:solidFill>
                <a:latin typeface="Arial"/>
              </a:rPr>
              <a:t>Linear time-invariant (LTI) system</a:t>
            </a: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590840" y="2997360"/>
            <a:ext cx="5962320" cy="14191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121400" y="1557360"/>
            <a:ext cx="683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iscrete-time system is </a:t>
            </a:r>
            <a:r>
              <a:rPr b="1" i="1" lang="en-US" sz="2400" spc="-1" strike="noStrike">
                <a:solidFill>
                  <a:srgbClr val="800000"/>
                </a:solidFill>
                <a:latin typeface="Arial"/>
              </a:rPr>
              <a:t>LTI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if its </a:t>
            </a:r>
            <a:br>
              <a:rPr sz="2400"/>
            </a:b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nput-output relationship can be described by the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linear constant coefficients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difference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eq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50880" y="4508640"/>
            <a:ext cx="7995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e output sample </a:t>
            </a:r>
            <a:r>
              <a:rPr b="0" i="1" lang="en-US" sz="2400" spc="-1" strike="noStrike">
                <a:solidFill>
                  <a:srgbClr val="000066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66"/>
                </a:solidFill>
                <a:latin typeface="Symbol"/>
                <a:ea typeface="Symbol"/>
              </a:rPr>
              <a:t>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might depend on all input samples</a:t>
            </a:r>
            <a:br>
              <a:rPr sz="2400"/>
            </a:b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at can be represented 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2940120" y="5568840"/>
                <a:ext cx="3262320" cy="76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ν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Φ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MATLAB example 1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71640" y="1413000"/>
            <a:ext cx="3024000" cy="51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N = 80; k = 0:(N-1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b0 = 1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b1 = -1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b2 = 1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B = [b0 b1 b2]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f = 1/8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x = sin(2*pi*f*k+pi/6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y = filter(B,1,x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ubplot(2,1,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ystemFIR(0,0,4,5,10,'b'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ubplot(2,1,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plot(k,x,'go', k,y,'bo',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k,x,'g-', k,y,'b-'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legend('input','output'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572000" y="1341360"/>
            <a:ext cx="4343400" cy="52866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3284640" y="3984480"/>
                <a:ext cx="387972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9" name=""/>
          <p:cNvSpPr/>
          <p:nvPr/>
        </p:nvSpPr>
        <p:spPr>
          <a:xfrm>
            <a:off x="755640" y="3933720"/>
            <a:ext cx="1944720" cy="432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059280" y="1484280"/>
            <a:ext cx="2303280" cy="1366920"/>
          </a:xfrm>
          <a:prstGeom prst="wedgeRoundRectCallout">
            <a:avLst>
              <a:gd name="adj1" fmla="val -109546"/>
              <a:gd name="adj2" fmla="val 123518"/>
              <a:gd name="adj3" fmla="val 16667"/>
            </a:avLst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MATLAB 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filter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command corresponds to the symbol </a:t>
            </a:r>
            <a:r>
              <a:rPr b="1" lang="en-US" sz="2000" spc="-1" strike="noStrike">
                <a:solidFill>
                  <a:srgbClr val="800000"/>
                </a:solidFill>
                <a:latin typeface="Symbol"/>
                <a:ea typeface="Symbol"/>
              </a:rPr>
              <a:t>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Impulse response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611000" y="2179800"/>
            <a:ext cx="5914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Response of a system to the </a:t>
            </a:r>
            <a:br>
              <a:rPr sz="3200"/>
            </a:b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unit impulse sequence is called </a:t>
            </a:r>
            <a:br>
              <a:rPr sz="3200"/>
            </a:b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e </a:t>
            </a:r>
            <a:r>
              <a:rPr b="1" i="1" lang="en-US" sz="3200" spc="-1" strike="noStrike">
                <a:solidFill>
                  <a:srgbClr val="000066"/>
                </a:solidFill>
                <a:latin typeface="Arial"/>
              </a:rPr>
              <a:t>unit impulse response 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or </a:t>
            </a:r>
            <a:br>
              <a:rPr sz="3200"/>
            </a:br>
            <a:r>
              <a:rPr b="1" i="1" lang="en-US" sz="3200" spc="-1" strike="noStrike">
                <a:solidFill>
                  <a:srgbClr val="800000"/>
                </a:solidFill>
                <a:latin typeface="Arial"/>
              </a:rPr>
              <a:t>impulse response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for sh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2911320" y="4829040"/>
                <a:ext cx="3264120" cy="76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Φ</m:t>
                    </m:r>
                    <m:r>
                      <m:t xml:space="preserve">(</m:t>
                    </m:r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MATLAB example 2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68360" y="1838160"/>
            <a:ext cx="3024000" cy="46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N = 16; k = 0:(N-1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b0 = 1;</a:t>
            </a:r>
            <a:br>
              <a:rPr sz="1600"/>
            </a:b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b1 = -1;</a:t>
            </a:r>
            <a:br>
              <a:rPr sz="1600"/>
            </a:b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b2 = 2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B = [b0 b1 b2]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x = (k==0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y = filter(B,1,x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ubplot(3,1,1)</a:t>
            </a:r>
            <a:br>
              <a:rPr sz="1600"/>
            </a:b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ystemFIR(0,0,4,5,10,'b'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ubplot(3,1,2)</a:t>
            </a:r>
            <a:br>
              <a:rPr sz="1600"/>
            </a:b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tem(k,x,'r')</a:t>
            </a:r>
            <a:br>
              <a:rPr sz="1600"/>
            </a:b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ylabel('input'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ubplot(3,1,3)</a:t>
            </a:r>
            <a:br>
              <a:rPr sz="1600"/>
            </a:b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tem(k,y,'b')</a:t>
            </a:r>
            <a:br>
              <a:rPr sz="1600"/>
            </a:b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ylabel('output'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08000" y="3429000"/>
            <a:ext cx="1944720" cy="360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146480" y="1374840"/>
            <a:ext cx="4962600" cy="54388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3284640" y="1968480"/>
                <a:ext cx="387972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What are FIR and IIR systems?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A discrete system is said to be an </a:t>
            </a:r>
            <a:br>
              <a:rPr sz="3200"/>
            </a:b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FIR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system if its impulse response has zero-valued samples for 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&gt; 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&gt; 0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Integer number 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is called the </a:t>
            </a:r>
            <a:br>
              <a:rPr sz="3200"/>
            </a:br>
            <a:r>
              <a:rPr b="1" i="1" lang="en-US" sz="3200" spc="-1" strike="noStrike">
                <a:solidFill>
                  <a:srgbClr val="000066"/>
                </a:solidFill>
                <a:latin typeface="Arial"/>
              </a:rPr>
              <a:t>length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of the impulse response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IIR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system is a discrete system with an infinite impulse response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R = Finite Impulse Response </a:t>
            </a:r>
            <a:br>
              <a:rPr sz="3200"/>
            </a:b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IIR = Infinite Impulse Response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7T22:06:30Z</dcterms:created>
  <dc:creator>Miroslav Lutovac and Dejan Tosic</dc:creator>
  <dc:description/>
  <dc:language>en-US</dc:language>
  <cp:lastModifiedBy>nn</cp:lastModifiedBy>
  <dcterms:modified xsi:type="dcterms:W3CDTF">2005-03-12T03:49:56Z</dcterms:modified>
  <cp:revision>179</cp:revision>
  <dc:subject>Analog and Digital  Filter Design</dc:subject>
  <dc:title>Digital filters, FIR and IIR structures</dc:title>
</cp:coreProperties>
</file>