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12A-11C8-4BB4-8B86-43880C85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D57-25F7-4E53-B0B0-86B5DCC9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CC1-A8D6-4C1B-AF8D-BDE46B23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203-24DE-4D7F-A2BA-5E7AF2A5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9B8-CBEE-458A-91E9-E7F0FEF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024-EF93-4491-949D-8EAA10C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DEB-E837-4E46-B746-B92543AE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904-39F2-4301-A98F-B35B7BD8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6A6-7CB3-4A42-AB9F-4DB4DC20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DC5-D76A-418F-89F8-1F895C8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0BD-1F01-4B39-9502-F07947C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3C0-2BC2-4055-8C3F-40C7785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7F96-24D2-49B0-982C-FB195C9A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nn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mm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lackma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quiripple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of FIR filters can be accomplished throug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tho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iterative method is known as the weighted-Chebyshev method; an error function is formulated in terms of linear combination of cosine functions and is then minimized by using a very efficient multivariable optimization algorithm known as the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Reme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hange algorit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onvergence is achieved, the error function becom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plitude of the error in different frequency bands is controlled by applyin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ight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error fun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80000" y="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65520" y="4413240"/>
          <a:ext cx="454356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4413240"/>
                    <a:ext cx="4543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6000" y="61326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me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signs a linear-phase FIR filter using th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rks-McClell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gorit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360" y="404280"/>
            <a:ext cx="1593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trained Equiripple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firceqri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52920" y="4467240"/>
          <a:ext cx="45910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2920" y="4467240"/>
                    <a:ext cx="45910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east squares and related techniqu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approach of minimizing, in some specified manner, the mean squared error between the transfer function of the filter and the frequency characteristics of a desired filter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 approaches exist: unweighted list squares, frequency sampling, weighted list squares, and eigen filter metho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0360" y="-360"/>
            <a:ext cx="1512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square linear-phase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562640" y="4457880"/>
          <a:ext cx="4581360" cy="24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2640" y="4457880"/>
                    <a:ext cx="45813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3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square linear-phase FIR filter design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920" y="13176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th-norm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495680" y="4476600"/>
          <a:ext cx="46483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476600"/>
                    <a:ext cx="46483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33920" y="5876640"/>
            <a:ext cx="2601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ximally fl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54000"/>
            <a:ext cx="7410600" cy="6039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FIR Butterworth filter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xfl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desig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Filter Design Toolbo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filt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is characterized by a unit sample response that has a finite du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 advantage of FIR filters compared to IIR counterparts is that FIR filters can be designed with exactly linear pha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hase is important for applications where phase distortion due to nonlinear phase can degrade performance (e.g., data transmissio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of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indow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quiripple 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ast squares and related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rogramming (LP) and mixed integer linear programming (MILP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ationally efficient FIR filters using periodic subfilters as building bloc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indowing techniq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of the earliest 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efficients can be obtained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is no need for solving complex optimization probl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st frequently used window functions are Bartlett, Hann, Hamming, Blackman, and Kais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17269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0"/>
          <a:ext cx="709308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709308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0" y="4365720"/>
            <a:ext cx="1368360" cy="2421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869000"/>
            <a:ext cx="165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ilter Design Toolbox window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89520" y="1052640"/>
          <a:ext cx="42195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052640"/>
                    <a:ext cx="42195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9280" y="177336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ain role of the window is to damp out the effects of the Gibbs phenomenon that results from truncation of an infinit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ais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rtlet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29T01:15:25Z</dcterms:modified>
  <cp:revision>217</cp:revision>
  <dc:subject>Analog and Digital  Filter Design</dc:subject>
  <dc:title>Digital filters, FIR filter design</dc:title>
</cp:coreProperties>
</file>