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2B6-A9F9-481B-B1E6-6531606F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B713-8175-4B27-9CBA-C16FE685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F38-B278-4C90-871F-A201717E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DC7-8BDD-45C3-99E4-279D15B2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AB51-58BD-4881-80BE-D18253C0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C742-A626-4654-9103-29EB3651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31A-E2A7-47FC-ADD8-794E0716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CB0-7E42-4499-BC64-8E13851C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B26D-A5F0-4AC4-8D50-425161C5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0C8-76B1-43BB-86E3-20F9A988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8CC-810F-41B8-B1CA-2AF5734E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038-764C-47C8-8EDB-EDBC887C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1957-A2C7-41FB-B2CD-8F72901B13D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AAC5-67AB-4916-B51E-4823EDE6D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: An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from a presentation in: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mission Systems for Commun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l Telephone Laboratories, 1970, 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A8D-8712-4D59-A549-54B7A26EA96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E171D-58F4-4186-8E68-B6B67219C4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Density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1304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ea under a portion of this curve is the probability that the voltage lies in that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DF is zero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38200" y="3645000"/>
          <a:ext cx="6870600" cy="245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8200" y="3645000"/>
                    <a:ext cx="687060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879800" y="1557360"/>
                <a:ext cx="26751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94320" y="2536920"/>
                <a:ext cx="28843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A20-A43C-411A-B372-3D83DF7593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A9965-597F-4BA1-BBE8-9181AF3379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6120"/>
            <a:ext cx="77724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Average of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emble”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e a large number of examples of the noise signal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e set of all examples is the “ensemble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any particular time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verage the set of values of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get the “Expected Value”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time and ensemble averages give the same valu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y usually do), the noise process is said to be “Ergod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495440" y="1833480"/>
                <a:ext cx="16336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n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463760" y="4081320"/>
                <a:ext cx="21096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882960" y="4113360"/>
                <a:ext cx="4178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for the infinite se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09CC-355E-40DF-BDAD-B543980C4C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9C4F8-AC9C-4960-A5A9-EA91204C28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0460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calculate the ensemble average of our sinusoidal “noise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s obviously zer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d symmetry, balance point, etc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t should since this noise the has no DC compone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365120" y="2563920"/>
                <a:ext cx="35337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65120" y="3416400"/>
                <a:ext cx="441648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BD2-B96A-467C-923C-AE153B71B9F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E0953-9CE0-4338-A599-BA62727674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[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is also known as the “First Moment” of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also calculate other important moments of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 The “Second Central Moment” or “Variance”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for our sinusoidal nois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577880" y="1911240"/>
                <a:ext cx="32036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339920" y="3579840"/>
                <a:ext cx="57531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409840" y="4843440"/>
                <a:ext cx="361800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9E2-8918-44D0-86E6-150A4651D6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C80EB-A089-43EA-85A5-D63B6F07C0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ng this requires “Integration by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719360" y="2637000"/>
                <a:ext cx="321948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719360" y="2049480"/>
                <a:ext cx="28270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V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9440" y="3643200"/>
                <a:ext cx="5176800" cy="16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     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n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23880" y="5305320"/>
                <a:ext cx="56721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2867040" y="5460840"/>
            <a:ext cx="839880" cy="85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519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945-B459-4C34-AFA6-9D421A7282F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D42A6-B88D-44DA-B8FC-54D040689C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orresponds to the power of our sine wav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without the “squared”) is called the “Standard Deviation”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oise and corresponds to the RMS value of th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370240" y="1482840"/>
                <a:ext cx="2789280" cy="33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84D2-0EEC-4EC1-9E25-6714429E8BC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C3884-DE64-44B9-BA70-5D02A70DEF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985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Probability Density Function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aussian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Limit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density function for a random variable that is the result of adding the effects of many small contributors tends to be Gaussian as the number of contributors gets la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746440" y="1436760"/>
                <a:ext cx="32446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1800360" y="2303640"/>
          <a:ext cx="5543280" cy="217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2303640"/>
                    <a:ext cx="554328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FD8-5EE9-4B9C-87F6-28BA31B4C46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4834E7-47EF-4D7C-A9AD-21464618DD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985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Probability Density Function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onential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naturally in discrete “Poison Process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between occurr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phone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135160" y="1741320"/>
                <a:ext cx="44686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v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for v 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 0 , 0 for v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5" name=""/>
          <p:cNvGraphicFramePr/>
          <p:nvPr/>
        </p:nvGraphicFramePr>
        <p:xfrm>
          <a:off x="1800360" y="2443320"/>
          <a:ext cx="5543280" cy="197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2443320"/>
                    <a:ext cx="5543280" cy="19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2651-3C98-4DA0-988B-C7F760955F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F7EE3-741E-41D2-BEA0-B2703B6554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Noise 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t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/f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e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4F30-0FF7-4E08-B44E-BC6CDA1D461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7E7D1-9811-424E-B776-0684F242C7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59000"/>
            <a:ext cx="77724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Brownian motion of electrons in a resistive mate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) = k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power spectr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1.3805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oltzmann’s constan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is the absolute temperature (°Kelv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“white” noise (“flat” spectr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 color ana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light has all colors at equal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distribution is Gauss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42B6-3A1D-48C6-822D-2BB26BE1D9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5D048-FC55-4064-BF93-432103A57C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ise: An 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noi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veforms with incomple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: ho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can we determi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sine waves of unknown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y Spectral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distribution function: P(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density function: p(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probability density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in the real-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and Power Spectral den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8E4-63C5-440D-A3E8-1D3CA99648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E4FD4-3E9D-47AE-894A-F5D80817A0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Nois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59000"/>
            <a:ext cx="77724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re accurate model (Quantum The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orrects for the high frequency roll of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bove 4000 GHz at room tempera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wer in the noise is sim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k*T*BW Watts 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74 + 10*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W) in dB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cibels relative to a milliwa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B = 10*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/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20*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/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73400" y="1887480"/>
                <a:ext cx="247464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  <m:r>
                          <m:t xml:space="preserve">∗</m:t>
                        </m:r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f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902-85A1-4A2A-9A66-8F531F9925F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4B0B9-7A88-4483-921D-D480D94309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492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t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irregular flow of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*q*I*f  wher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= 1.6 *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arge on an elect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noise is proportional to the signal lev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ot tempera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lso white (flat spectrum) and Gauss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78EC-8C38-49AF-88FE-FD92F119F0B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EF1D4-539C-4B2A-B743-84AC6A0381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f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ted b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egularities in semiconductor d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many naturally occurring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red silhouettes (Mountains, clouds, rocky walls, forest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) =A / f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(0.8 &lt;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lt; 1.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759-AE06-45A3-A6B8-5C1D25FA945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8F8B6-B139-41FA-B8C6-AC596D2780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pulse Noi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6680"/>
            <a:ext cx="77724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energy spikes, clicks and p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hicle igni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white noise, but NOT Gauss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multiple sources - more impulse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ception to the “Central Limit Theor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8BC-6B1C-4988-A2AD-CE4139C6121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760DC-5EBC-4797-8C20-7AF84FDF74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Measu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uman 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chl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ring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is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-Weigh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-Weigh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3FA-181E-43C2-A78F-C183876F752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E903B-2E2D-4399-8FCE-C731AECFC2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ing Performance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 average, good, ea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91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response is a function of sound le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dB here is the threshold of he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intensities yield flatter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Loudness" descr=""/>
          <p:cNvPicPr/>
          <p:nvPr/>
        </p:nvPicPr>
        <p:blipFill>
          <a:blip r:embed="rId1"/>
          <a:stretch/>
        </p:blipFill>
        <p:spPr>
          <a:xfrm>
            <a:off x="2846520" y="1981080"/>
            <a:ext cx="5611680" cy="382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FB75-4975-417F-BB11-DE2982EC8A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378A8-D195-4959-B93E-DD8912461A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chl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62040"/>
            <a:ext cx="3873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luid-filled spiral vibration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fil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frequencies travel the full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frequencies only affect the near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llia: hairs put out signals when 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ring damage occurs when these are inj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at the near end are easily damaged (high frequency hearing lo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ochlea" descr=""/>
          <p:cNvPicPr/>
          <p:nvPr/>
        </p:nvPicPr>
        <p:blipFill>
          <a:blip r:embed="rId1"/>
          <a:stretch/>
        </p:blipFill>
        <p:spPr>
          <a:xfrm>
            <a:off x="4730760" y="1752480"/>
            <a:ext cx="4000320" cy="31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C8B-D63F-4B9A-B606-2F32BDA4CF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7E33D-7A9E-4E80-9098-C7695FA1D2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Intensity Levels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- Weighted Fil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52318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the sensitivity of the ear at the threshold of hearing; used to specify OSHA safety levels (dB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A-Weight_Curve" descr=""/>
          <p:cNvPicPr/>
          <p:nvPr/>
        </p:nvPicPr>
        <p:blipFill>
          <a:blip r:embed="rId1"/>
          <a:stretch/>
        </p:blipFill>
        <p:spPr>
          <a:xfrm>
            <a:off x="914400" y="1776240"/>
            <a:ext cx="7315200" cy="33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0007-7364-4C20-B00B-0BF92AF2F94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E6201-ED41-45F0-8B5B-8CC028AE91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-Weighting Fi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ow is an active filter that will accurately perform A-Weighting for sound measurements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nks to: Rod Elliot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http://sound.westhost.com/project17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A-weight_schematic" descr=""/>
          <p:cNvPicPr/>
          <p:nvPr/>
        </p:nvPicPr>
        <p:blipFill>
          <a:blip r:embed="rId1"/>
          <a:stretch/>
        </p:blipFill>
        <p:spPr>
          <a:xfrm>
            <a:off x="947880" y="3627360"/>
            <a:ext cx="7246800" cy="24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CED-45EC-4349-AAEB-B257A98C05F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C7B16-7998-4FF0-8E73-C2C9D50ECB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Intensity Levels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- Weighted Fil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52318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the sensitivity of the ear at normal listening levels; used to specify noise in telephone systems (dB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-Weight_Curve" descr=""/>
          <p:cNvPicPr/>
          <p:nvPr/>
        </p:nvPicPr>
        <p:blipFill>
          <a:blip r:embed="rId1"/>
          <a:stretch/>
        </p:blipFill>
        <p:spPr>
          <a:xfrm>
            <a:off x="914400" y="1776240"/>
            <a:ext cx="7315200" cy="33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9653-7E27-4D92-AE35-4A6CD17E26C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D136D-37C3-4F67-9C70-E74D18EFE1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requency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Trans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AB21-8E67-4BAF-814C-1E72DB767A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B15C8-2467-4161-810D-60A86092CF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Spectral Density (ES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19120" y="1384200"/>
                <a:ext cx="8359920" cy="464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is the Energy in a time waveform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but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is the Inverse Fourier Transform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den>
                                </m:f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  <m:sSup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jωt</m:t>
                                        </m:r>
                                      </m:sup>
                                    </m:sSup>
                                    <m:r>
                                      <m:t xml:space="preserve">dω</m:t>
                                    </m:r>
                                  </m:e>
                                </m:nary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Substituting for one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  <m:sSup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jω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Interchanging the order of integ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the inner integral is almost the Fourier Transfor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xcept for the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but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the complex conjugate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so 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 the </m:t>
                        </m:r>
                        <m:r>
                          <m:t xml:space="preserve">Energy</m:t>
                        </m:r>
                        <m:r>
                          <m:t xml:space="preserve">Spectral</m:t>
                        </m:r>
                        <m:r>
                          <m:t xml:space="preserve">Density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173-BD26-4099-A5C5-AF67705B6D4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591C4-470B-40A2-99F5-2F91D31569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44240"/>
            <a:ext cx="777240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Spectral Density (ESD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Linear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475740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 the ESD of the output of a linear system is obtained by multiplying the ESD of the input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5160" y="208296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84680" y="1752480"/>
            <a:ext cx="1092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209556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35160" y="175896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175896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= X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H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2960" y="1927080"/>
            <a:ext cx="99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95360" y="2438280"/>
                <a:ext cx="8356680" cy="23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Y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changing to f eliminates the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H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  <m:r>
                                      <m:t xml:space="preserve">∗</m:t>
                                    </m:r>
                                    <m:r>
                                      <m:t xml:space="preserve">X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o if 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re uncorrelated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H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∗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680-2229-43E1-9897-EB6E98970D8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6222F-F380-4C1A-915A-FD5F4E143C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 Spectral Density (PS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34600"/>
            <a:ext cx="777240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that exist for all time have an infinite energy so we define power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982800" y="2590920"/>
                <a:ext cx="6700680" cy="36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this is energy/tim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fine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≡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for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nd zero elsewhere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which does exist and the Power is: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lim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t</m:t>
                                      </m:r>
                                      <m:r>
                                        <m:t xml:space="preserve">→</m:t>
                                      </m:r>
                                      <m:r>
                                        <m:t xml:space="preserve">∞</m:t>
                                      </m:r>
                                    </m:e>
                                  </m:mr>
                                </m: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p>
                                          <m:e>
                                            <m:d>
                                              <m:dPr>
                                                <m:begChr m:val="|"/>
                                                <m:endChr m:val="|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F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T</m:t>
                                                    </m:r>
                                                  </m:sub>
                                                </m:sSub>
                                                <m:d>
                                                  <m:dPr>
                                                    <m:begChr m:val="("/>
                                                    <m:endChr m:val=")"/>
                                                  </m:dPr>
                                                  <m:e>
                                                    <m:r>
                                                      <m:t xml:space="preserve">ω</m:t>
                                                    </m:r>
                                                  </m:e>
                                                </m:d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476D-A59C-493F-875C-BC38150B273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1DCB3-2084-471D-A72C-703C121031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 Spectral Density (PSD-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3496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efore, the function in the integral is a density.  This time it’s the 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the ESD and PSD functions are real and even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06400" y="2286000"/>
                <a:ext cx="32212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SD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</m:mr>
                      <m:mr>
                        <m:e>
                          <m:r>
                            <m:t xml:space="preserve">t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mr>
                    </m:m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B52-7839-44DE-94A4-3D5267317E6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01B5C-9E3E-4791-AABB-731E818CBA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undesired signal that interferes with the reproduction of a desired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: predictable, often periodic, noi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generated by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unpredictable noise, generated by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stochastic” process in nature or by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630-B8AC-440B-AC92-201078C47A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F15DD-36DA-433F-92E9-1FF36FD24F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dom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” of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spectrum: distribution of energ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s a function of frequenc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not know the details of the waveform only its “average”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551D-8560-4649-9131-DF85A55BA1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A91ED-9A19-4F56-83AB-26780AE5D9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ise analysis Introduc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ine wave of unknown 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frequency interfer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(t) = A sin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known, bu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not know its value at time “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828800" y="3276720"/>
            <a:ext cx="4676760" cy="2990880"/>
            <a:chOff x="1828800" y="3276720"/>
            <a:chExt cx="4676760" cy="2990880"/>
          </a:xfrm>
        </p:grpSpPr>
        <p:graphicFrame>
          <p:nvGraphicFramePr>
            <p:cNvPr id="54" name=""/>
            <p:cNvGraphicFramePr/>
            <p:nvPr/>
          </p:nvGraphicFramePr>
          <p:xfrm>
            <a:off x="1828800" y="3276720"/>
            <a:ext cx="4676760" cy="2990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3276720"/>
                      <a:ext cx="4676760" cy="299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/>
            <p:nvPr/>
          </p:nvSpPr>
          <p:spPr>
            <a:xfrm>
              <a:off x="3581280" y="3657600"/>
              <a:ext cx="0" cy="20574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DE2-5476-4345-A28C-076977722D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642C6-36CB-48C5-A596-7BB90232C8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 Spectral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the “Energy Spectral Density” is just the magnitude squared of the Fourier transform of n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all of the energy is concentrated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ach half of the energy is at ±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ce the Fourier transform is based on the complex exponential not sine and cos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3880" y="2438280"/>
                <a:ext cx="5715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1752480" y="4343400"/>
            <a:ext cx="5543640" cy="1971720"/>
            <a:chOff x="1752480" y="4343400"/>
            <a:chExt cx="5543640" cy="1971720"/>
          </a:xfrm>
        </p:grpSpPr>
        <p:graphicFrame>
          <p:nvGraphicFramePr>
            <p:cNvPr id="61" name=""/>
            <p:cNvGraphicFramePr/>
            <p:nvPr/>
          </p:nvGraphicFramePr>
          <p:xfrm>
            <a:off x="1752480" y="4343400"/>
            <a:ext cx="5543640" cy="1971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4343400"/>
                      <a:ext cx="5543640" cy="197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2846520" y="5029200"/>
              <a:ext cx="1440" cy="876240"/>
            </a:xfrm>
            <a:custGeom>
              <a:avLst/>
              <a:gdLst/>
              <a:ahLst/>
              <a:rect l="l" t="t" r="r" b="b"/>
              <a:pathLst>
                <a:path w="1" h="552">
                  <a:moveTo>
                    <a:pt x="1" y="55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08560" y="5029200"/>
              <a:ext cx="1800" cy="876240"/>
            </a:xfrm>
            <a:custGeom>
              <a:avLst/>
              <a:gdLst/>
              <a:ahLst/>
              <a:rect l="l" t="t" r="r" b="b"/>
              <a:pathLst>
                <a:path w="1" h="552">
                  <a:moveTo>
                    <a:pt x="1" y="55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C089-F931-40E2-8D07-53AFBCB047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E246D-DB2B-494E-A818-C2B0DDC816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95080"/>
            <a:ext cx="77724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distribution” of the ‘noise”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the probability that at any time t the voltage is less than or equal to a particular value “v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ies at some values are e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-A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)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0) = 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ual equation is: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½ +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arcsin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013360" y="2320920"/>
                <a:ext cx="19605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8" name=""/>
          <p:cNvGraphicFramePr/>
          <p:nvPr/>
        </p:nvGraphicFramePr>
        <p:xfrm>
          <a:off x="1800360" y="4414680"/>
          <a:ext cx="5543280" cy="19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4414680"/>
                    <a:ext cx="5543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7207200" y="5052960"/>
            <a:ext cx="16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wn for A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F5A-D791-48DB-B72F-5F452C2F61A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0D906-882F-4B1E-A8FA-A47FB1B88D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952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Distribution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68600"/>
            <a:ext cx="777240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ctual equation is: P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½ +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arcsin(v/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the noise spends more time near the extremes and less time near zero.  Think of a pendul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stops at the extremes and is moving slowly near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move fastest at the bottom and therefore spends less time t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other useful function is the derivative of P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Probability Density Function”, p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(note the lower case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392120" y="2128680"/>
          <a:ext cx="5543640" cy="19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2120" y="2128680"/>
                    <a:ext cx="55436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784920" y="2792520"/>
            <a:ext cx="16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wn for A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33B-CD8D-4032-BC7A-FDD963C313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BCB39-FC17-4518-9F61-9AD5E385EB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04:07:05Z</dcterms:created>
  <dc:creator>Jeffrey N. Denenberg</dc:creator>
  <dc:description/>
  <dc:language>en-US</dc:language>
  <cp:lastModifiedBy>Jeffrey N Denenberg</cp:lastModifiedBy>
  <cp:lastPrinted>2002-11-24T18:12:09Z</cp:lastPrinted>
  <dcterms:modified xsi:type="dcterms:W3CDTF">2002-11-24T18:18:55Z</dcterms:modified>
  <cp:revision>234</cp:revision>
  <dc:subject/>
  <dc:title>Noise: An Introduction</dc:title>
</cp:coreProperties>
</file>