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391 - Probability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dealing here with mass phenomena and their “average” behavior.  The physical system that creates the OBSERVABLE phenomena is usually assumed to be CONSISTENT and the observation {either over time (a sequence) or among a simultaneous population (a SET, an ENSEMBLE)} will have statistics that are also consistent.  We need a theory that describes and predicts these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 (frequency ratio, apostio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cal Definition (# of trials l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- Axio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oms and Reasoning (heavy m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y (thought experiment, aprio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pl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mple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is the collection or set of all possible outcomes of an experiment.  It is the universal set for this experi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e Sample Space:  Finite or countably infinite set.  (e.g. faces of a die, the positive integers, students in this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ous Sample Space: not countable.  (e.g. the real line, battery voltage in a ca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babilit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ach outcome in S we associate a non-negative number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P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uch tha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&lt;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1 and Sum[ P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]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i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 is over all elements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is collectively exhaustive and mutually 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u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(A) is greater than or equal to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(S)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(A + B) = P(A) + P(B) - P(A*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({}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ly Exclusive Event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(A + B) = P(A) + P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hree axioms of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rey N. Denenberg</dc:creator>
  <dc:description/>
  <dc:language>en-US</dc:language>
  <cp:lastModifiedBy>Jeffrey N. Denenberg</cp:lastModifiedBy>
  <cp:revision>0</cp:revision>
  <dc:subject/>
  <dc:title>EE391 - Probability and Noise</dc:title>
</cp:coreProperties>
</file>