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B891-5230-40F0-81C5-2C9AD4DF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A8E2-203C-4F46-BD4B-C92DD563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7DAC-0889-4B0B-AB46-14380357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DC4F-F902-4B53-A829-63CDA93E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660-4FA3-4068-8CE2-175F1CBB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255F-9062-45D1-8ACA-F7D65F7A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69E8-D9E5-4AFB-9ABC-C9E229CB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4FBA-6508-4CD9-8C91-EC13CCC8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D0EA-68B0-4E55-8F71-25FA6B99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57A9-F9A7-48B3-BBCD-C3DE44B4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2FE2-9B82-496A-B82E-FD092B26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0E7E-0060-4378-90BC-982C3474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EF0D-E3CF-43AB-BB59-F6B41C828F8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027F-A7C1-46E8-945D-9E3827337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ter Approximation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erworth, Chebyshev, and Elliptic Fil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byshev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|H(s)| for n=4, r=1 (Type 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715000" cy="4137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400800" y="2743200"/>
            <a:ext cx="2362320" cy="2340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3520" y="571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(s) = 0.2457/(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0.9528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.4539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0.7426s + 0.275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20574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es lie on an elli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C30E-971C-48DA-A843-43A05E17421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8FB26-52AB-47A1-9183-67F5D66DCB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liptic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the Jacobian elliptic function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-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es approximately on an elli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os on the 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arately controlled equiripple in the pass-band and stop-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per cutoff than Chebyshev (optimal transition ba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linear phase (Group delay distortion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14400" y="1523880"/>
            <a:ext cx="5213160" cy="2303640"/>
            <a:chOff x="914400" y="1523880"/>
            <a:chExt cx="5213160" cy="230364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rcRect l="0" t="16594" r="0" b="0"/>
            <a:stretch/>
          </p:blipFill>
          <p:spPr>
            <a:xfrm>
              <a:off x="1371600" y="1523880"/>
              <a:ext cx="449568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914400" y="1523880"/>
              <a:ext cx="96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|H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66880" y="3428640"/>
              <a:ext cx="2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0960" y="3428640"/>
              <a:ext cx="33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079960" y="1600200"/>
                <a:ext cx="28432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8C04-C218-4BCE-AB5A-35F0B468684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297F8-1EA9-4F33-B8E6-79F8F148C9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liptic Fun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(s) for n=4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324480" y="1752480"/>
            <a:ext cx="2327400" cy="2689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5715000" cy="4378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8600" y="5715000"/>
            <a:ext cx="868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(s) = (0.0032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0.0595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0.1554)/( 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0.5769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1.2227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0.4369s + 0.2195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C1D6-E48F-4636-841E-C0A19D3916A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122C1-F0F6-403D-A4BA-C71D2F0390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ssel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il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5181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utterworth and Chebyshev filters with sharp cutoffs (high order) carry a penalty that is evident from the positions of their poles in the s plane. Bringing the poles closer to the 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axis increases their Q, which degrades the filter's transient response. Overshoot or ringing at the response edges can res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ssel filter represents a trade-off in the opposite direction from the Butterworth. The Bessel's poles lie on a locus further from the 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axis. Transient response is improved, but at the expense of a less steep cutoff in the stop-b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15000" y="1981080"/>
            <a:ext cx="3200400" cy="317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0E81-6A9A-4A61-8D93-7F50B8E0DFA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E9E19-8713-4E80-BEDF-E59AB09834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al Filter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tool to establish a prototype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Lab is a great ch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doctord.webhop.net/courses/Topics/Matlab/index.ht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Matlab tutorial by Dr. Bouzid Aliane; Chapter 5 is on filter desig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your design for ringing/oversho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etrimental, increase the filter order and redesign to exceed the frequency response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poles near the 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xis to the left to reduce their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the resulting filter against your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ng poles to the left will reduce ringing/overshoot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degrade the transition reg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FD9C-3E56-4797-995F-6ACB52A559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3AC26-9C8D-43B6-961C-DD2143AAE5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ximation Polynomi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physically realizable circuit has a transfer function that is a rational polynomial i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ant to determine classes of rational polynomials that approximate the “Ideal” low-pass filter respon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igh-pass band-pass and band-stop filters can be derived from a low pass desig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well known approximations are discussed 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terworth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ven Butterworth,"On the Theory of Filter Amplifiers", Wireless Engineer (also called Experimental Wireless and the Radio Engineer), vol. 7, 1930, pp. 536-5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byshev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fnuty Lvovich Chebyshev (1821-1894) - Russi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yrillic alphabet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lled many 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Func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helm Cauer (1900-1945) - German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.S. patents 1,958,742 (1934), 1,989,545 (1935), 2,048,426 (193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ssel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edrich Wilhelm Bessel, 1784 - 18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81480" y="4648320"/>
            <a:ext cx="1692360" cy="39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B766-9F69-47F7-A457-4F3C86C45CB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8F3AA-B934-4A75-B729-0607232110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|H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approximation to the ideal low-pass filter response |I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ideal filter cutoff frequenc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t is normalized to one for conveni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00200" y="2438280"/>
            <a:ext cx="4495320" cy="1947600"/>
            <a:chOff x="1600200" y="2438280"/>
            <a:chExt cx="4495320" cy="1947600"/>
          </a:xfrm>
        </p:grpSpPr>
        <p:sp>
          <p:nvSpPr>
            <p:cNvPr id="49" name=""/>
            <p:cNvSpPr/>
            <p:nvPr/>
          </p:nvSpPr>
          <p:spPr>
            <a:xfrm flipV="1">
              <a:off x="2701080" y="2531880"/>
              <a:ext cx="0" cy="13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01080" y="3851280"/>
              <a:ext cx="275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00200" y="2438280"/>
              <a:ext cx="91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|I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94640" y="3945240"/>
              <a:ext cx="110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01080" y="3003480"/>
              <a:ext cx="1008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10160" y="3003480"/>
              <a:ext cx="0" cy="847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18360" y="3945240"/>
              <a:ext cx="2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33880" y="2814480"/>
              <a:ext cx="2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BDB4-1301-4AE7-9DAA-093806F240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04B35-A892-4729-8593-A8F07265C1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finitions -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H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written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F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“Characteristic Function” which attempts to approximate: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not be done with a finite order poly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flexibility for the degree of error in the passband or stop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752480" y="1676520"/>
                <a:ext cx="28432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1828800" y="3429000"/>
            <a:ext cx="3047760" cy="1378080"/>
            <a:chOff x="1828800" y="3429000"/>
            <a:chExt cx="3047760" cy="1378080"/>
          </a:xfrm>
        </p:grpSpPr>
        <p:sp>
          <p:nvSpPr>
            <p:cNvPr id="61" name=""/>
            <p:cNvSpPr/>
            <p:nvPr/>
          </p:nvSpPr>
          <p:spPr>
            <a:xfrm flipV="1">
              <a:off x="2641320" y="3543840"/>
              <a:ext cx="0" cy="80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41320" y="4350600"/>
              <a:ext cx="203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28800" y="3486600"/>
              <a:ext cx="67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37800" y="4408200"/>
              <a:ext cx="33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18480" y="4408200"/>
              <a:ext cx="20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70240" y="3715560"/>
              <a:ext cx="20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41320" y="4350600"/>
              <a:ext cx="74484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3454200" y="3659040"/>
              <a:ext cx="0" cy="6908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18480" y="3429000"/>
              <a:ext cx="33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846A-8B75-45ED-A608-105C665D6E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26BB4-43EB-4F06-BED3-5E04044361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lter Spec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H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stay within the shaded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is is an incomplete specification.  The phase response and transient response are also important and need to be appropriate for the filter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47920" y="1676520"/>
            <a:ext cx="4230720" cy="3245400"/>
            <a:chOff x="1447920" y="1676520"/>
            <a:chExt cx="4230720" cy="3245400"/>
          </a:xfrm>
        </p:grpSpPr>
        <p:sp>
          <p:nvSpPr>
            <p:cNvPr id="73" name=""/>
            <p:cNvSpPr/>
            <p:nvPr/>
          </p:nvSpPr>
          <p:spPr>
            <a:xfrm flipV="1">
              <a:off x="2482920" y="1738440"/>
              <a:ext cx="1440" cy="17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82920" y="3505320"/>
              <a:ext cx="3006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47920" y="167652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|H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69040" y="3635280"/>
              <a:ext cx="3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82920" y="2368440"/>
              <a:ext cx="110340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86320" y="2368440"/>
              <a:ext cx="1440" cy="1136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78240" y="3570120"/>
              <a:ext cx="29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41640" y="2198520"/>
              <a:ext cx="29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82920" y="2368440"/>
              <a:ext cx="11034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86320" y="2368440"/>
              <a:ext cx="199800" cy="1136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86120" y="3251160"/>
              <a:ext cx="1403280" cy="254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83080" y="3505320"/>
              <a:ext cx="1440" cy="1109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89360" y="3505320"/>
              <a:ext cx="1440" cy="1109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84360" y="3505320"/>
              <a:ext cx="1800" cy="1109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22600" y="3765600"/>
              <a:ext cx="89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ass b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64040" y="3765600"/>
              <a:ext cx="89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op b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57760" y="4614840"/>
              <a:ext cx="16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ansition Reg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651120" y="4484520"/>
              <a:ext cx="20664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03D2-D741-4261-B49E-AF5DFE30F6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110E6-381E-464E-A7E4-EE08BACE12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tterwo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oth transfer function (no rip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ally flat and Linear phase (in the pass-b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 cutoff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143000" y="1828800"/>
            <a:ext cx="5899320" cy="2044440"/>
            <a:chOff x="1143000" y="1828800"/>
            <a:chExt cx="5899320" cy="204444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1565280" y="1915920"/>
              <a:ext cx="5386680" cy="16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143000" y="1828800"/>
              <a:ext cx="96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|H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43200" y="3504960"/>
              <a:ext cx="2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05720" y="3429000"/>
              <a:ext cx="33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334120" y="1676520"/>
                <a:ext cx="28429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410080" y="2514600"/>
                <a:ext cx="21337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24EA-8F69-4C23-BD81-5B1DF96B7A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53949-99AD-40EE-AE61-D3057C4019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terworth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e locations in the s-plane a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1 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-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1/2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es are equally spaced on the unit circle a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2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s) only uses the n poles in the left half plane for sta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no z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105520" y="1066680"/>
                <a:ext cx="23749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3" name=""/>
          <p:cNvGrpSpPr/>
          <p:nvPr/>
        </p:nvGrpSpPr>
        <p:grpSpPr>
          <a:xfrm>
            <a:off x="1447920" y="2057400"/>
            <a:ext cx="5257800" cy="2971800"/>
            <a:chOff x="1447920" y="2057400"/>
            <a:chExt cx="5257800" cy="297180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1447920" y="2057400"/>
              <a:ext cx="321768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214960" y="3512880"/>
              <a:ext cx="14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3D1F-1A7E-4442-8987-BA917E6451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F031C-B095-40C4-82E7-3087421137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terworth Filter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H(s)| for n=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715000" cy="4229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400800" y="2133720"/>
            <a:ext cx="2286000" cy="2263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371600" y="57913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(s) = 1/(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.613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.414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.6131s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7B07-BBFB-4568-869A-643708D4142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E23FC-2A45-488C-B001-2832FF69C8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–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d equiripple in the pass-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per cutoff than Butterw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linear phase (Group delay distortion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352680" cy="2384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3047760" cy="21988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byshev – Typ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029200" y="1066680"/>
                <a:ext cx="27907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514600" y="3886200"/>
            <a:ext cx="2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3809880"/>
            <a:ext cx="3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2133720"/>
            <a:ext cx="9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H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6A38-FD93-4516-878D-CF339E85694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17F041-5E16-4E41-8246-4E040B522E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18:08:16Z</dcterms:created>
  <dc:creator>Jeffrey N Denenberg</dc:creator>
  <dc:description/>
  <dc:language>en-US</dc:language>
  <cp:lastModifiedBy>Jeffrey Denenberg</cp:lastModifiedBy>
  <dcterms:modified xsi:type="dcterms:W3CDTF">2005-06-13T12:56:45Z</dcterms:modified>
  <cp:revision>21</cp:revision>
  <dc:subject/>
  <dc:title>Filter Approximation Theory</dc:title>
</cp:coreProperties>
</file>